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396-DE68-416C-9F90-87DD9E7F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62B-B53C-4CA7-90B4-3A96BB8C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2C-BCC6-4A13-B0B3-99B2838A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4C3-7110-44CC-B709-A85AECB6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A8C-CEC7-48F1-B1D2-F2990AD2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826-27CC-479F-B18E-0014B7D7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B874-4395-41AA-AFEC-9C0EC034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CBF5-0EF5-45C4-93B7-AAF072E1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86C-5FC5-466C-A15E-0217B437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27D3-5A84-44F7-AC9C-94509FE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06A-5F21-436D-BA5F-5D44811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1C17-1989-420A-9945-4BFB459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F00A-E93D-4C00-8119-17B286A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974F-B36B-41C2-A7F5-D3FB913C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0A60-DD96-4137-A4F6-369999D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CE24-C0D5-4FB9-99B3-0258D8FF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B8BD-FB07-40FC-B8C8-92B1E055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114D-B96F-418C-820C-60853669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E17-51F3-42C7-992E-10535CAB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D46-AE6C-44CE-98A9-2F24041E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90E-C5F2-45C1-B0BA-372A59C8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EC9-F4EF-4478-9F24-AE674D2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5D9-E4EF-487D-9C68-9903047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8F1-9496-474D-ABB2-B49B1F2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E41E0-FBF0-4256-B953-DE5633C09C6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03D15-BDF8-4543-9F74-4FD8A62095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D4EEA-8D50-420E-B0A5-4E32476E7FA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9F52B-62E8-42E8-A244-31B63F76DE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vacizumab 15 mg/kg plus Cisplatin-Pemetrexed (CP) Triplet versus CP Doublet in Malignant Pleural Mesothelioma (MPM): Results of the IFCT-GFPC-0701 MAPS Randomized Phase 3 Tr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alcman G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5;Abstract 75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118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median overall survival (OS) for patients with malignant pleural mesothelioma (MPM) is about 9 months with </a:t>
            </a:r>
            <a:br>
              <a:rPr sz="1900"/>
            </a:b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first-generation treatment regimens and about 13 months with a pemetrexed (Pem)-platinum doublet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2008; 371:1685; </a:t>
            </a:r>
            <a:br>
              <a:rPr sz="1900"/>
            </a:b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2003;21:2636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the last decade, no improvement in treatment was achieved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Vascular endothelial growth factor (VEGF) is a potent mitogen for MPM cells, and bevacizumab (Bev) is a monoclonal antibody directed against VEGF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Determine whether the addition of Bev to Pem and cisplatin (Cis) will improve efficacy, safety and quality of life beyond what is achieved with chemotherapy alone for patients with MPM.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79400" y="1855800"/>
          <a:ext cx="2973600" cy="2687760"/>
        </p:xfrm>
        <a:graphic>
          <a:graphicData uri="http://schemas.openxmlformats.org/drawingml/2006/table">
            <a:tbl>
              <a:tblPr/>
              <a:tblGrid>
                <a:gridCol w="2973600"/>
              </a:tblGrid>
              <a:tr h="4618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44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iopsy-proven M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HO PS 0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cardiovascular  comorb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 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CNS metast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330880" y="1506600"/>
          <a:ext cx="3152880" cy="1352520"/>
        </p:xfrm>
        <a:graphic>
          <a:graphicData uri="http://schemas.openxmlformats.org/drawingml/2006/table">
            <a:tbl>
              <a:tblPr/>
              <a:tblGrid>
                <a:gridCol w="3152880"/>
              </a:tblGrid>
              <a:tr h="136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Pem + Cis (6 cyc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: 500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: 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Line 2"/>
          <p:cNvSpPr/>
          <p:nvPr/>
        </p:nvSpPr>
        <p:spPr>
          <a:xfrm>
            <a:off x="3753000" y="3044880"/>
            <a:ext cx="125064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5008680" y="2225520"/>
            <a:ext cx="322200" cy="655920"/>
            <a:chOff x="5008680" y="2225520"/>
            <a:chExt cx="322200" cy="655920"/>
          </a:xfrm>
        </p:grpSpPr>
        <p:sp>
          <p:nvSpPr>
            <p:cNvPr id="131" name="Line 14"/>
            <p:cNvSpPr/>
            <p:nvPr/>
          </p:nvSpPr>
          <p:spPr>
            <a:xfrm flipV="1">
              <a:off x="5008680" y="222552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5008680" y="22255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5008680" y="2566080"/>
            <a:ext cx="322200" cy="1279080"/>
            <a:chOff x="5008680" y="2566080"/>
            <a:chExt cx="322200" cy="1279080"/>
          </a:xfrm>
        </p:grpSpPr>
        <p:sp>
          <p:nvSpPr>
            <p:cNvPr id="134" name="Line 17"/>
            <p:cNvSpPr/>
            <p:nvPr/>
          </p:nvSpPr>
          <p:spPr>
            <a:xfrm>
              <a:off x="5008680" y="2566080"/>
              <a:ext cx="0" cy="12790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>
              <a:off x="5008680" y="384480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6" name=""/>
          <p:cNvGraphicFramePr/>
          <p:nvPr/>
        </p:nvGraphicFramePr>
        <p:xfrm>
          <a:off x="5330880" y="3071880"/>
          <a:ext cx="3152880" cy="1682640"/>
        </p:xfrm>
        <a:graphic>
          <a:graphicData uri="http://schemas.openxmlformats.org/drawingml/2006/table">
            <a:tbl>
              <a:tblPr/>
              <a:tblGrid>
                <a:gridCol w="3152880"/>
              </a:tblGrid>
              <a:tr h="16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Bev + Pem + Cis (6 cyc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: 15 mg/kg, 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: 500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: 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, 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Oval 4"/>
          <p:cNvSpPr/>
          <p:nvPr/>
        </p:nvSpPr>
        <p:spPr>
          <a:xfrm>
            <a:off x="3881520" y="254484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/III IFCT-GFPC-0701 (MAPS)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1"/>
          <p:cNvSpPr/>
          <p:nvPr/>
        </p:nvSpPr>
        <p:spPr>
          <a:xfrm>
            <a:off x="779400" y="137808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CT00651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914400" y="490860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in the Bev arm received Bev maintenance therapy until disease progression or tox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1"/>
          <p:cNvSpPr/>
          <p:nvPr/>
        </p:nvSpPr>
        <p:spPr>
          <a:xfrm>
            <a:off x="1136520" y="5216400"/>
            <a:ext cx="67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umber of administered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46080" y="1447920"/>
          <a:ext cx="7338960" cy="3543120"/>
        </p:xfrm>
        <a:graphic>
          <a:graphicData uri="http://schemas.openxmlformats.org/drawingml/2006/table">
            <a:tbl>
              <a:tblPr/>
              <a:tblGrid>
                <a:gridCol w="2627280"/>
                <a:gridCol w="1702080"/>
                <a:gridCol w="1663560"/>
                <a:gridCol w="1346040"/>
              </a:tblGrid>
              <a:tr h="755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,170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/Pem/Ci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,166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portion of theoretical Cis dose rece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portion of theoretical Pem dose rece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9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portion of theoretical Bev dose rece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portion of cycles with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elivery Based on the Number of Administered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1"/>
          <p:cNvSpPr/>
          <p:nvPr/>
        </p:nvSpPr>
        <p:spPr>
          <a:xfrm>
            <a:off x="863640" y="3882960"/>
            <a:ext cx="763272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= progression-free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follow-up: 39.4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Univariate analysis of data demonstrated that OS was generally in favor of the triplet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2160" y="1625760"/>
          <a:ext cx="7243920" cy="2108160"/>
        </p:xfrm>
        <a:graphic>
          <a:graphicData uri="http://schemas.openxmlformats.org/drawingml/2006/table">
            <a:tbl>
              <a:tblPr/>
              <a:tblGrid>
                <a:gridCol w="1623960"/>
                <a:gridCol w="1486080"/>
                <a:gridCol w="1600200"/>
                <a:gridCol w="1190520"/>
                <a:gridCol w="1343160"/>
              </a:tblGrid>
              <a:tr h="703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/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0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8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Zalcman_Graph1.png"/>
          <p:cNvPicPr/>
          <p:nvPr/>
        </p:nvPicPr>
        <p:blipFill>
          <a:blip r:embed="rId1"/>
          <a:stretch/>
        </p:blipFill>
        <p:spPr>
          <a:xfrm>
            <a:off x="606600" y="1757520"/>
            <a:ext cx="7839000" cy="33242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1"/>
          <p:cNvSpPr/>
          <p:nvPr/>
        </p:nvSpPr>
        <p:spPr>
          <a:xfrm>
            <a:off x="825480" y="519120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rm A: Pem/Cis; Arm B: Bev/Pem/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Life Based on the Lung Cancer Symptom Scale (LCSS) for Mesotheli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2176560" y="4386240"/>
            <a:ext cx="5483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average score decreased by 10 mm from bas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average score increased by 10 mm from bas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739800" y="1158840"/>
            <a:ext cx="22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EVA2 vs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P = 0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492360" y="1158840"/>
            <a:ext cx="225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EVA3 vs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P = 0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6243480" y="1158840"/>
            <a:ext cx="225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EVA4 vs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64847"/>
                </a:solidFill>
                <a:latin typeface="Arial"/>
              </a:rPr>
              <a:t>P = 0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eft Brace 3"/>
          <p:cNvSpPr/>
          <p:nvPr/>
        </p:nvSpPr>
        <p:spPr>
          <a:xfrm rot="5400000">
            <a:off x="1900800" y="1207080"/>
            <a:ext cx="160200" cy="984240"/>
          </a:xfrm>
          <a:custGeom>
            <a:avLst/>
            <a:gdLst>
              <a:gd name="textAreaLeft" fmla="*/ 102240 w 160200"/>
              <a:gd name="textAreaRight" fmla="*/ 160560 w 160200"/>
              <a:gd name="textAreaTop" fmla="*/ 3960 h 984240"/>
              <a:gd name="textAreaBottom" fmla="*/ 980280 h 98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eft Brace 12"/>
          <p:cNvSpPr/>
          <p:nvPr/>
        </p:nvSpPr>
        <p:spPr>
          <a:xfrm rot="5400000">
            <a:off x="4628160" y="1207080"/>
            <a:ext cx="160200" cy="984240"/>
          </a:xfrm>
          <a:custGeom>
            <a:avLst/>
            <a:gdLst>
              <a:gd name="textAreaLeft" fmla="*/ 102240 w 160200"/>
              <a:gd name="textAreaRight" fmla="*/ 160560 w 160200"/>
              <a:gd name="textAreaTop" fmla="*/ 3960 h 984240"/>
              <a:gd name="textAreaBottom" fmla="*/ 980280 h 98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eft Brace 13"/>
          <p:cNvSpPr/>
          <p:nvPr/>
        </p:nvSpPr>
        <p:spPr>
          <a:xfrm rot="5400000">
            <a:off x="7328520" y="1207080"/>
            <a:ext cx="160200" cy="984240"/>
          </a:xfrm>
          <a:custGeom>
            <a:avLst/>
            <a:gdLst>
              <a:gd name="textAreaLeft" fmla="*/ 102240 w 160200"/>
              <a:gd name="textAreaRight" fmla="*/ 160560 w 160200"/>
              <a:gd name="textAreaTop" fmla="*/ 3960 h 984240"/>
              <a:gd name="textAreaBottom" fmla="*/ 980280 h 98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87320" y="1434960"/>
          <a:ext cx="7696440" cy="3932280"/>
        </p:xfrm>
        <a:graphic>
          <a:graphicData uri="http://schemas.openxmlformats.org/drawingml/2006/table">
            <a:tbl>
              <a:tblPr/>
              <a:tblGrid>
                <a:gridCol w="2454480"/>
                <a:gridCol w="1309680"/>
                <a:gridCol w="1311120"/>
                <a:gridCol w="1309680"/>
                <a:gridCol w="131148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/Cis (n = 2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/Pem/Cis (n = 2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thenia/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terial/venous thromboem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addition of 15 mg/kg of Bev to Pem/Cis significantly increased both PFS (by 2 months) and OS (by 2.75 months) at a cost of a slight and manageable increase in toxicit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quality of life of patients was preserved in both arms, and Bev did not show a detrimental effect on quality of life despite higher toxicit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is study, the Pem/Cis arm had a longer OS than in historical series or previous trial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s is possibly due to differences in eligibility criteria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riplet regimen of Bev/Pem/Cis is a new treatment paradigm for patients with pleural mesothelioma who are eligible to receive Bev and are not amenable to “curative” surger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alcman 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Abstract 7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APS trial used a randomized design that was powered to detect a clinically meaningful difference in O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stratification design was appropriate. The backbone chemotherapy is the current standard therapy, with the administration of an adequate dose intensity. In addition, no crossover was allowed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rial reached its recruitment goals. The treatment arms were well balanced and included all histolog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verall, the results of the MAPS trial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re practice changing. This may be geographical and may bring economic considerations into accou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howed that the factors utilized for patient selection are critical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owak AK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5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RTP20</cp:lastModifiedBy>
  <cp:lastPrinted>2015-09-03T15:40:58Z</cp:lastPrinted>
  <dcterms:modified xsi:type="dcterms:W3CDTF">2015-09-03T15:40:59Z</dcterms:modified>
  <cp:revision>562</cp:revision>
  <dc:subject/>
  <dc:title>A Phase III Trial Comparing mFOLFOX6 to mFOLFOX6 plus Bevacizumab in Stage II or III Carcinoma of the Colon: Results of NSABP Protocol C-08</dc:title>
</cp:coreProperties>
</file>