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0B9-FC8E-460D-8B7E-7EDBC092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91B-B2FE-473A-A247-1C3104B9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9E8-12D5-4E43-A161-2FA768C2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54F-849E-46D0-B099-7B3726B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D8A-8A9A-4B8C-89B4-80AE677E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3C0-5A95-44E5-84FA-A84D94D1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2A3-07D7-400E-91A6-0D16599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44E-6552-4AB6-9D75-6BBE4716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6D1-AA24-4EA3-BEBB-D337E00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874-FDDB-4C3F-9463-6DD469B4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1B3-1474-4791-B0AA-78ED0385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C99-888E-4AC2-930D-1FA33769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000" cy="15253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040" cy="4239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8CB3037-1756-4614-8AB9-ED30955996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567720" y="228600"/>
            <a:ext cx="8226000" cy="448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i-PD-1 Antibodies for the Treatment of Non-Small Cell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ung Canc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z-Ares L et al. </a:t>
            </a:r>
            <a:r>
              <a:rPr b="0" i="1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LBA109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izvi NA et al. </a:t>
            </a:r>
            <a:r>
              <a:rPr b="0" i="1" lang="cs-CZ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ancet Oncol </a:t>
            </a:r>
            <a:r>
              <a:rPr b="0" lang="cs-CZ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16(3):257-65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pigel DR et al. </a:t>
            </a:r>
            <a:r>
              <a:rPr b="0" i="1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8009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rahmer J et al. </a:t>
            </a:r>
            <a:r>
              <a:rPr b="0" i="1" lang="cs-CZ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cs-CZ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3(2):123-35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Garon EB et al. </a:t>
            </a:r>
            <a:r>
              <a:rPr b="0" i="1" lang="cs-CZ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cs-CZ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2(21):2018-28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ivolumab is the first PD-1 inhibitor to significantly improve OS versus docetaxel in patients with previously treated advanced nonsquamous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7% reduction in risk of death (HR = 0.73,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= 0.0015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ivolumab significantly improved ORR versus docetaxe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D-L1 expression is predictive of benefit with nivolumab, starting at the lowest expression level (1%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afety profile of nivolumab was favorable versus docetaxel and consistent with prior stud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heckmate 057 is the second Phase III trial to demonstrate superior survival of nivolumab compared to docetaxel in 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LBA1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vity and Safety of Nivolumab, an Anti-PD-1 Immune Checkpoint Inhibitor, for Patients with Advanced, Refractory Squamous Non-Small-Cell Lung Cancer (CheckMate 063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Phase 2, Single-Arm T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izvi NA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16(3):257-6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Group 22"/>
          <p:cNvGraphicFramePr/>
          <p:nvPr/>
        </p:nvGraphicFramePr>
        <p:xfrm>
          <a:off x="843120" y="1719720"/>
          <a:ext cx="4160160" cy="1760040"/>
        </p:xfrm>
        <a:graphic>
          <a:graphicData uri="http://schemas.openxmlformats.org/drawingml/2006/table">
            <a:tbl>
              <a:tblPr/>
              <a:tblGrid>
                <a:gridCol w="4160520"/>
              </a:tblGrid>
              <a:tr h="4680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11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29168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Bef>
                          <a:spcPts val="36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ge IIIB/IV squamous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sease progression or recurrence after both a platinum-based doublet and at least 1 other systemic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Group 24"/>
          <p:cNvGraphicFramePr/>
          <p:nvPr/>
        </p:nvGraphicFramePr>
        <p:xfrm>
          <a:off x="5902200" y="2249280"/>
          <a:ext cx="2377080" cy="981000"/>
        </p:xfrm>
        <a:graphic>
          <a:graphicData uri="http://schemas.openxmlformats.org/drawingml/2006/table">
            <a:tbl>
              <a:tblPr/>
              <a:tblGrid>
                <a:gridCol w="237744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ivolumab,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mg/k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4" name="Line 2"/>
          <p:cNvSpPr/>
          <p:nvPr/>
        </p:nvSpPr>
        <p:spPr>
          <a:xfrm>
            <a:off x="5003640" y="2739600"/>
            <a:ext cx="898560" cy="360"/>
          </a:xfrm>
          <a:prstGeom prst="line">
            <a:avLst/>
          </a:prstGeom>
          <a:ln w="28575">
            <a:solidFill>
              <a:srgbClr val="4648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45" name="Rectangle 31"/>
          <p:cNvSpPr/>
          <p:nvPr/>
        </p:nvSpPr>
        <p:spPr>
          <a:xfrm>
            <a:off x="843120" y="3881160"/>
            <a:ext cx="7538400" cy="87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efficacy of nivolumab in patients with advanced, refractory squamous NSCL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bjective response rate (ORR) by independent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I CheckMate 063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12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3):257-6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1"/>
          <p:cNvSpPr/>
          <p:nvPr/>
        </p:nvSpPr>
        <p:spPr>
          <a:xfrm>
            <a:off x="1144440" y="2508840"/>
            <a:ext cx="7402320" cy="12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y independent review;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l partial respon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90 (77%) of responding patients had ongoing responses at the time of analy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duration of response: Not reach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Group 35"/>
          <p:cNvGraphicFramePr/>
          <p:nvPr/>
        </p:nvGraphicFramePr>
        <p:xfrm>
          <a:off x="1093680" y="1397520"/>
          <a:ext cx="7066800" cy="1015200"/>
        </p:xfrm>
        <a:graphic>
          <a:graphicData uri="http://schemas.openxmlformats.org/drawingml/2006/table">
            <a:tbl>
              <a:tblPr/>
              <a:tblGrid>
                <a:gridCol w="3474720"/>
                <a:gridCol w="3592080"/>
              </a:tblGrid>
              <a:tr h="131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onse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 (n = 11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7 (14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 (2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 to Nivolum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ftr" idx="13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3):257-6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Group 91"/>
          <p:cNvGraphicFramePr/>
          <p:nvPr/>
        </p:nvGraphicFramePr>
        <p:xfrm>
          <a:off x="1087560" y="3875400"/>
          <a:ext cx="7073280" cy="1580040"/>
        </p:xfrm>
        <a:graphic>
          <a:graphicData uri="http://schemas.openxmlformats.org/drawingml/2006/table">
            <a:tbl>
              <a:tblPr/>
              <a:tblGrid>
                <a:gridCol w="2404440"/>
                <a:gridCol w="1594080"/>
                <a:gridCol w="1537200"/>
                <a:gridCol w="1537200"/>
              </a:tblGrid>
              <a:tr h="37656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onse by PD-L1 ex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163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5% (n = 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1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5 (4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3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% (n = 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(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(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2163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Unevaluable (n =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Group 35"/>
          <p:cNvGraphicFramePr/>
          <p:nvPr/>
        </p:nvGraphicFramePr>
        <p:xfrm>
          <a:off x="1233360" y="1775520"/>
          <a:ext cx="6640200" cy="2250000"/>
        </p:xfrm>
        <a:graphic>
          <a:graphicData uri="http://schemas.openxmlformats.org/drawingml/2006/table">
            <a:tbl>
              <a:tblPr/>
              <a:tblGrid>
                <a:gridCol w="4543200"/>
                <a:gridCol w="2096640"/>
              </a:tblGrid>
              <a:tr h="420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rvi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1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rogression-free survival (PF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FS at 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FS at 1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 (25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overall surv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verall survival at 1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8 (40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iv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14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3):257-6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Group 91"/>
          <p:cNvGraphicFramePr/>
          <p:nvPr/>
        </p:nvGraphicFramePr>
        <p:xfrm>
          <a:off x="1031400" y="1585080"/>
          <a:ext cx="6727680" cy="2716920"/>
        </p:xfrm>
        <a:graphic>
          <a:graphicData uri="http://schemas.openxmlformats.org/drawingml/2006/table">
            <a:tbl>
              <a:tblPr/>
              <a:tblGrid>
                <a:gridCol w="2922120"/>
                <a:gridCol w="1937160"/>
                <a:gridCol w="1868040"/>
              </a:tblGrid>
              <a:tr h="34128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dverse ev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279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8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12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 (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12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yal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12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12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31"/>
          <p:cNvSpPr/>
          <p:nvPr/>
        </p:nvSpPr>
        <p:spPr>
          <a:xfrm>
            <a:off x="1031400" y="4498200"/>
            <a:ext cx="7159680" cy="82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 treatment-associated deaths caused by pneumonia and ischemic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troke occurred in patients with multiple comorbidities and progressive dis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5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3):257-6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heckMate 063 is the first Phase II study to report the activity of a PD-1 immune checkpoint inhibitor for 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t demonstrated that nivolumab has clinically meaningful activity in patients with previously treated advanced, refractory, squamous NSCL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safety profile was manageable, and treatment-related immune-mediated adverse events were generally infrequent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nd not sever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se data support the assessment of nivolumab in randomized, controlled, Phase III studies of first-line and second-line treatm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6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izvi N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3):257-6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d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ome concerns exist about the design of this study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sponses were assessed on the basis of Response Evaluation Criteria in Solid Tumors (RECIST) version 1.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mmune-related response criteria have been developed to assess responses in patients who receive immunotherap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se criteria could be a valuable instrument for assessing the clinical benefit of nivolumab for advanced squamous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 second concern is the role of nivolumab in brain metastas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izvi and colleagues enrolled only 4 patients with baseline brain metastases, and 2 patients with nontarget baseline CNS metastases experienced respon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mmune-related response criteria could also explore the responses in the C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7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de Mello R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3):234-5</a:t>
            </a:r>
            <a:r>
              <a:rPr b="0" lang="en-US" sz="2000" spc="-1" strike="noStrike">
                <a:solidFill>
                  <a:srgbClr val="28acce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Phase III Study (CheckMate 017) of Nivolumab (Anti-Programmed Death-1) vs Docetaxel in Previously Treated Advanced or Metastatic Squamous (SQ) Cell Non-Small Cell Lung Cancer (NSCLC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volumab versus Docetaxel in Advanced Squamous-Cell Non-Small-Cell Lung Cance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1"/>
              </a:spcBef>
            </a:pPr>
            <a:r>
              <a:rPr b="0" lang="en-US" sz="215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1 </a:t>
            </a:r>
            <a:r>
              <a:rPr b="0" lang="en-US" sz="21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pigel DR et al.</a:t>
            </a:r>
            <a:br>
              <a:rPr sz="2150"/>
            </a:br>
            <a:r>
              <a:rPr b="0" i="1" lang="en-US" sz="21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1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8009.</a:t>
            </a:r>
            <a:endParaRPr b="0" lang="en-US" sz="215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1"/>
              </a:spcBef>
            </a:pPr>
            <a:r>
              <a:rPr b="0" lang="en-US" sz="215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2 </a:t>
            </a:r>
            <a:r>
              <a:rPr b="0" lang="en-US" sz="21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rahmer J et al.</a:t>
            </a:r>
            <a:br>
              <a:rPr sz="2150"/>
            </a:br>
            <a:r>
              <a:rPr b="0" i="1" lang="en-US" sz="21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1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3(2):123-35.</a:t>
            </a:r>
            <a:endParaRPr b="0" lang="en-US" sz="215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ftr" idx="18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Brahmer 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3(2):123-35;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tients with squamous cell (SQ) NSCLC have a worse prognosis and limited therapeutic options than patients with nonsquamous cell NSCLC after front-line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-line therapy with docetaxel has modest clinical activity and is associated with significant toxicit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ivolumab is a fully human anti-PD-1 monoclonal antibody with demonstrated efficacy and manageable toxicity in patients with pretreated advanced or metastatic NSCLC across histologi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2014;58:3708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16:25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efficacy and safety of nivolumab versus docetaxel in patients with advanced SQ NSCLC after disease progression on platinum-based chemotherapy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II Randomized Trial (CheckMate 057) of Nivolumab versus Docetaxel in Advance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n-Squamous (Non-SQ) Cell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n-Small Cell Lung Cancer (NSCL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z-Ares L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LBA10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Group 33"/>
          <p:cNvGraphicFramePr/>
          <p:nvPr/>
        </p:nvGraphicFramePr>
        <p:xfrm>
          <a:off x="747000" y="1499040"/>
          <a:ext cx="2874600" cy="2852280"/>
        </p:xfrm>
        <a:graphic>
          <a:graphicData uri="http://schemas.openxmlformats.org/drawingml/2006/table">
            <a:tbl>
              <a:tblPr/>
              <a:tblGrid>
                <a:gridCol w="2874960"/>
              </a:tblGrid>
              <a:tr h="3632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80"/>
                        </a:spcBef>
                        <a:tabLst>
                          <a:tab algn="l" pos="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272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4890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8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tients with Stage IIIB/IV SQ 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8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prior platinum doublet-based chemotherap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8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etreatment tumor samples required for PD-L1 analysi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Group 38"/>
          <p:cNvGraphicFramePr/>
          <p:nvPr/>
        </p:nvGraphicFramePr>
        <p:xfrm>
          <a:off x="5460120" y="1644840"/>
          <a:ext cx="2883960" cy="117936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1179360"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ivolumab (n = 1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mg/kg (IV), q2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Rectangle 31"/>
          <p:cNvSpPr/>
          <p:nvPr/>
        </p:nvSpPr>
        <p:spPr>
          <a:xfrm>
            <a:off x="747000" y="4593960"/>
            <a:ext cx="7597440" cy="60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verall survival 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oundary for superiority for OS at the preplanned interim analysis: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&lt; 0.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"/>
          <p:cNvSpPr/>
          <p:nvPr/>
        </p:nvSpPr>
        <p:spPr>
          <a:xfrm>
            <a:off x="3609000" y="3005280"/>
            <a:ext cx="1523880" cy="360"/>
          </a:xfrm>
          <a:prstGeom prst="line">
            <a:avLst/>
          </a:prstGeom>
          <a:ln w="28575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137560" y="2186280"/>
            <a:ext cx="322560" cy="655560"/>
            <a:chOff x="5137560" y="2186280"/>
            <a:chExt cx="322560" cy="655560"/>
          </a:xfrm>
        </p:grpSpPr>
        <p:sp>
          <p:nvSpPr>
            <p:cNvPr id="176" name="Line 14"/>
            <p:cNvSpPr/>
            <p:nvPr/>
          </p:nvSpPr>
          <p:spPr>
            <a:xfrm flipV="1">
              <a:off x="5137560" y="2186280"/>
              <a:ext cx="360" cy="655560"/>
            </a:xfrm>
            <a:prstGeom prst="line">
              <a:avLst/>
            </a:prstGeom>
            <a:ln w="28575">
              <a:solidFill>
                <a:srgbClr val="4648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5137560" y="2186280"/>
              <a:ext cx="322560" cy="360"/>
            </a:xfrm>
            <a:prstGeom prst="line">
              <a:avLst/>
            </a:prstGeom>
            <a:ln w="28575">
              <a:solidFill>
                <a:srgbClr val="4648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78" name="Group 16"/>
          <p:cNvGrpSpPr/>
          <p:nvPr/>
        </p:nvGrpSpPr>
        <p:grpSpPr>
          <a:xfrm>
            <a:off x="5137560" y="2525760"/>
            <a:ext cx="322560" cy="1280160"/>
            <a:chOff x="5137560" y="2525760"/>
            <a:chExt cx="322560" cy="1280160"/>
          </a:xfrm>
        </p:grpSpPr>
        <p:sp>
          <p:nvSpPr>
            <p:cNvPr id="179" name="Line 17"/>
            <p:cNvSpPr/>
            <p:nvPr/>
          </p:nvSpPr>
          <p:spPr>
            <a:xfrm>
              <a:off x="5137560" y="2525760"/>
              <a:ext cx="360" cy="1279800"/>
            </a:xfrm>
            <a:prstGeom prst="line">
              <a:avLst/>
            </a:prstGeom>
            <a:ln w="28575">
              <a:solidFill>
                <a:srgbClr val="4648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5137560" y="3805560"/>
              <a:ext cx="322560" cy="360"/>
            </a:xfrm>
            <a:prstGeom prst="line">
              <a:avLst/>
            </a:prstGeom>
            <a:ln w="28575">
              <a:solidFill>
                <a:srgbClr val="4648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aphicFrame>
        <p:nvGraphicFramePr>
          <p:cNvPr id="181" name="Group 42"/>
          <p:cNvGraphicFramePr/>
          <p:nvPr/>
        </p:nvGraphicFramePr>
        <p:xfrm>
          <a:off x="5460120" y="3070440"/>
          <a:ext cx="2883960" cy="113184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113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ocetaxel (n = 1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5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(IV),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Oval 4"/>
          <p:cNvSpPr/>
          <p:nvPr/>
        </p:nvSpPr>
        <p:spPr>
          <a:xfrm>
            <a:off x="3985200" y="2505240"/>
            <a:ext cx="1004400" cy="1002960"/>
          </a:xfrm>
          <a:prstGeom prst="ellipse">
            <a:avLst/>
          </a:prstGeom>
          <a:solidFill>
            <a:srgbClr val="ff6600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II CheckMate 017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4222440" y="2157840"/>
            <a:ext cx="510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ftr" idx="19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Brahmer 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3(2):123-35;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Group 35"/>
          <p:cNvGraphicFramePr/>
          <p:nvPr/>
        </p:nvGraphicFramePr>
        <p:xfrm>
          <a:off x="992160" y="1359000"/>
          <a:ext cx="7243560" cy="2501640"/>
        </p:xfrm>
        <a:graphic>
          <a:graphicData uri="http://schemas.openxmlformats.org/drawingml/2006/table">
            <a:tbl>
              <a:tblPr/>
              <a:tblGrid>
                <a:gridCol w="2068200"/>
                <a:gridCol w="1417320"/>
                <a:gridCol w="1325520"/>
                <a:gridCol w="1179360"/>
                <a:gridCol w="1252440"/>
              </a:tblGrid>
              <a:tr h="6598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3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-year O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7 (4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3 (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-year PF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8 (2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iv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992160" y="4013280"/>
            <a:ext cx="471132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FS = progression-free survi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992160" y="4429080"/>
            <a:ext cx="7498440" cy="109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hazard ratios for death in the analysis of OS favored nivolumab across all prespecified subgroups, except for the subgroups of patients in the rest-of-world geographic region (Argentina, Australia, Chile, Mexico and Peru) and those who were ≥75 years of 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20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Brahmer 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3(2):123-35;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Group 35"/>
          <p:cNvGraphicFramePr/>
          <p:nvPr/>
        </p:nvGraphicFramePr>
        <p:xfrm>
          <a:off x="812880" y="1337760"/>
          <a:ext cx="7496280" cy="3006720"/>
        </p:xfrm>
        <a:graphic>
          <a:graphicData uri="http://schemas.openxmlformats.org/drawingml/2006/table">
            <a:tbl>
              <a:tblPr/>
              <a:tblGrid>
                <a:gridCol w="3108960"/>
                <a:gridCol w="1461960"/>
                <a:gridCol w="1463400"/>
                <a:gridCol w="1461960"/>
              </a:tblGrid>
              <a:tr h="3258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endParaRPr b="1" lang="en-US" sz="17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o. of pati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258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D-L1 expression leve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2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2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2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quantifiable at basel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3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S According to PD-L1 Express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812880" y="4581360"/>
            <a:ext cx="7854480" cy="103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azard ratio &lt; 1 favors nivolumab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cross the prespecified expression levels (1%, 5% and 10%), PD-L1 expression was neither prognostic nor predictive of any of the efficacy endpoint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21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Brahmer 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3(2):123-35;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Group 35"/>
          <p:cNvGraphicFramePr/>
          <p:nvPr/>
        </p:nvGraphicFramePr>
        <p:xfrm>
          <a:off x="762120" y="1486080"/>
          <a:ext cx="7594200" cy="3006720"/>
        </p:xfrm>
        <a:graphic>
          <a:graphicData uri="http://schemas.openxmlformats.org/drawingml/2006/table">
            <a:tbl>
              <a:tblPr/>
              <a:tblGrid>
                <a:gridCol w="3149280"/>
                <a:gridCol w="1481040"/>
                <a:gridCol w="1482480"/>
                <a:gridCol w="1481040"/>
              </a:tblGrid>
              <a:tr h="3286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endParaRPr b="1" lang="en-US" sz="17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o. of pati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286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D-L1 expression leve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28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28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28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quantifiable at basel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FS According to PD-L1 Express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762120" y="4718160"/>
            <a:ext cx="79563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azard ratio &lt; 1 favors nivolumab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OS and PFS rates in the PD-L1 subgroups favored nivolumab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22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Brahmer 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3(2):123-35;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1"/>
          <p:cNvSpPr/>
          <p:nvPr/>
        </p:nvSpPr>
        <p:spPr>
          <a:xfrm>
            <a:off x="992160" y="4528440"/>
            <a:ext cx="7675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time to response: 2.2 mo (nivolumab) vs 2.1 mo (docetax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duration of response: Not reached (nivolumab) vs 8.4 mo (docetax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Group 35"/>
          <p:cNvGraphicFramePr/>
          <p:nvPr/>
        </p:nvGraphicFramePr>
        <p:xfrm>
          <a:off x="992160" y="1257480"/>
          <a:ext cx="7414920" cy="3222360"/>
        </p:xfrm>
        <a:graphic>
          <a:graphicData uri="http://schemas.openxmlformats.org/drawingml/2006/table">
            <a:tbl>
              <a:tblPr/>
              <a:tblGrid>
                <a:gridCol w="3477960"/>
                <a:gridCol w="1968480"/>
                <a:gridCol w="1968480"/>
              </a:tblGrid>
              <a:tr h="7401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3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bjective response rate (ORR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7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 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6 (1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 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9 (2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7 (3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6 (4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8 (3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evalu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 (2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23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Brahmer 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3(2):123-35;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Group 35"/>
          <p:cNvGraphicFramePr/>
          <p:nvPr/>
        </p:nvGraphicFramePr>
        <p:xfrm>
          <a:off x="624600" y="1331640"/>
          <a:ext cx="7860960" cy="3784320"/>
        </p:xfrm>
        <a:graphic>
          <a:graphicData uri="http://schemas.openxmlformats.org/drawingml/2006/table">
            <a:tbl>
              <a:tblPr/>
              <a:tblGrid>
                <a:gridCol w="2851200"/>
                <a:gridCol w="1252440"/>
                <a:gridCol w="1252440"/>
                <a:gridCol w="1252440"/>
                <a:gridCol w="1252440"/>
              </a:tblGrid>
              <a:tr h="31536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vent</a:t>
                      </a:r>
                      <a:endParaRPr b="0" lang="en-US" sz="16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 (n = 131)</a:t>
                      </a:r>
                      <a:endParaRPr b="0" lang="en-US" sz="16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 (n = 129)</a:t>
                      </a:r>
                      <a:endParaRPr b="0" lang="en-US" sz="16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6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3/4</a:t>
                      </a:r>
                      <a:endParaRPr b="0" lang="en-US" sz="16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6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3/4</a:t>
                      </a:r>
                      <a:endParaRPr b="0" lang="en-US" sz="16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atigue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1 (16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2 (33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(8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ecreased appetite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 (11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5 (19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stheni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 (10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 (14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4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use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 (9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 (23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2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(8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6 (20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2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sh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4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 (6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2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nemi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2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8 (22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3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eripheral neuropathy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 (12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2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eutropeni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2 (33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8 (30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ebrile neutropeni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 (11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 (10%)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4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Brahmer 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3(2):123-35;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ivolumab is a PD-1 checkpoint inhibitor that demonstrated a clinically meaningful survival benefit, with an improved safety profile, compared to that seen with the current standard therapy in patients with advanced, previously treated SQ NSCL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benefit of nivolumab was observed regardless of prestudy PD-L1 expression level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S, ORR and PFS were significantly better with nivolumab than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with docetaxel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Further research is needed to identify relevant biomarkers that have sufficient sensitivity and specificity to predict which patients are most likely to benefit from nivolumab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25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Brahmer 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3(2):123-3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mbrolizumab for the Treatment of Non-Small-Cell Lung Canc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Garon EB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2(21):2018-2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Group 67"/>
          <p:cNvGraphicFramePr/>
          <p:nvPr/>
        </p:nvGraphicFramePr>
        <p:xfrm>
          <a:off x="920880" y="3858840"/>
          <a:ext cx="3485880" cy="547200"/>
        </p:xfrm>
        <a:graphic>
          <a:graphicData uri="http://schemas.openxmlformats.org/drawingml/2006/table">
            <a:tbl>
              <a:tblPr/>
              <a:tblGrid>
                <a:gridCol w="3485880"/>
              </a:tblGrid>
              <a:tr h="547200"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Training group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1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" name="Line 2"/>
          <p:cNvSpPr/>
          <p:nvPr/>
        </p:nvSpPr>
        <p:spPr>
          <a:xfrm>
            <a:off x="4622760" y="2344680"/>
            <a:ext cx="360" cy="266400"/>
          </a:xfrm>
          <a:prstGeom prst="line">
            <a:avLst/>
          </a:prstGeom>
          <a:ln w="28575">
            <a:solidFill>
              <a:srgbClr val="4648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6603840" y="3595320"/>
            <a:ext cx="360" cy="272880"/>
          </a:xfrm>
          <a:prstGeom prst="line">
            <a:avLst/>
          </a:prstGeom>
          <a:ln w="28575">
            <a:solidFill>
              <a:srgbClr val="4648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 KEYNOTE-001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Group 67"/>
          <p:cNvGraphicFramePr/>
          <p:nvPr/>
        </p:nvGraphicFramePr>
        <p:xfrm>
          <a:off x="4844880" y="3871440"/>
          <a:ext cx="3485880" cy="534240"/>
        </p:xfrm>
        <a:graphic>
          <a:graphicData uri="http://schemas.openxmlformats.org/drawingml/2006/table">
            <a:tbl>
              <a:tblPr/>
              <a:tblGrid>
                <a:gridCol w="3485880"/>
              </a:tblGrid>
              <a:tr h="534240"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Validation group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3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6" name="Line 2"/>
          <p:cNvSpPr/>
          <p:nvPr/>
        </p:nvSpPr>
        <p:spPr>
          <a:xfrm>
            <a:off x="2666880" y="3595320"/>
            <a:ext cx="360" cy="272880"/>
          </a:xfrm>
          <a:prstGeom prst="line">
            <a:avLst/>
          </a:prstGeom>
          <a:ln w="28575">
            <a:solidFill>
              <a:srgbClr val="4648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884160" y="4676040"/>
            <a:ext cx="77515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etermine the efficacy and safety of pembrolizumab in patients with advanced NSCLC, and define/validat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expression level of PD-L1 that is associated with clinical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26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aron EB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372(21):2018-2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Group 45"/>
          <p:cNvGraphicFramePr/>
          <p:nvPr/>
        </p:nvGraphicFramePr>
        <p:xfrm>
          <a:off x="920880" y="2611440"/>
          <a:ext cx="7397280" cy="941760"/>
        </p:xfrm>
        <a:graphic>
          <a:graphicData uri="http://schemas.openxmlformats.org/drawingml/2006/table">
            <a:tbl>
              <a:tblPr/>
              <a:tblGrid>
                <a:gridCol w="7397640"/>
              </a:tblGrid>
              <a:tr h="44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tients with locally advanced or metastatic PD-L1-posi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SCLC who received ≥1 dose of pembrolizumab at 2 mg/kg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q3wk) or 10 mg/kg, every 2 or 3 weeks </a:t>
                      </a:r>
                      <a:r>
                        <a:rPr b="1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4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Group 44"/>
          <p:cNvGraphicFramePr/>
          <p:nvPr/>
        </p:nvGraphicFramePr>
        <p:xfrm>
          <a:off x="920880" y="1268280"/>
          <a:ext cx="7384680" cy="1054800"/>
        </p:xfrm>
        <a:graphic>
          <a:graphicData uri="http://schemas.openxmlformats.org/drawingml/2006/table">
            <a:tbl>
              <a:tblPr/>
              <a:tblGrid>
                <a:gridCol w="7385040"/>
              </a:tblGrid>
              <a:tr h="39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1,14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ogressive locally advanced or metastatic carcinoma, melanoma and NSCLC that is PD-L1-po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1"/>
          <p:cNvSpPr/>
          <p:nvPr/>
        </p:nvSpPr>
        <p:spPr>
          <a:xfrm>
            <a:off x="870120" y="4110480"/>
            <a:ext cx="761328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RR = objective response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tients for whom a target lesion was not captured by post-baseline scans or for whom a target lesion was surgically removed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tients without baseline scans or not evalu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Group 35"/>
          <p:cNvGraphicFramePr/>
          <p:nvPr/>
        </p:nvGraphicFramePr>
        <p:xfrm>
          <a:off x="863640" y="1650960"/>
          <a:ext cx="7454520" cy="2343600"/>
        </p:xfrm>
        <a:graphic>
          <a:graphicData uri="http://schemas.openxmlformats.org/drawingml/2006/table">
            <a:tbl>
              <a:tblPr/>
              <a:tblGrid>
                <a:gridCol w="3174840"/>
                <a:gridCol w="1549080"/>
                <a:gridCol w="1447560"/>
                <a:gridCol w="1282680"/>
              </a:tblGrid>
              <a:tr h="6652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9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etre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9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ntre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0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evaluable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/not assessed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8%/1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uration of response (D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7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aron EB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372(21):2018-2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reatment options for patients with nonsquamous NSCLC who experience disease progression after platinum-based doublet chemotherapy (PT-DC) are limi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tudies with docetaxel as second-line therapy for nonsquamous NSCLC demonstrate a median overall survival (OS) of 8 to 10.4 months and an overall response rate of 9% to 14.5%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ivolumab, a human, anti-PD-1 antibody, has durable antitumor activity and a manageable safety profile across NSCLC histologi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16:25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safety and efficacy of nivolumab versus docetaxel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patients with advanced nonsquamous NSCLC after disease progression on PT-DC and tyrosine kinase inhibitor therapy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4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LBA1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Group 35"/>
          <p:cNvGraphicFramePr/>
          <p:nvPr/>
        </p:nvGraphicFramePr>
        <p:xfrm>
          <a:off x="992160" y="1346040"/>
          <a:ext cx="7287840" cy="4203360"/>
        </p:xfrm>
        <a:graphic>
          <a:graphicData uri="http://schemas.openxmlformats.org/drawingml/2006/table">
            <a:tbl>
              <a:tblPr/>
              <a:tblGrid>
                <a:gridCol w="4595760"/>
                <a:gridCol w="2692080"/>
              </a:tblGrid>
              <a:tr h="381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rameter (n = 49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ll patients (n = 4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6 (19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ose: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mg/kg, q3wk (n = 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3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mg/kg, q3wk (n = 2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5 (19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mg/kg, q3wk (n = 2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9 (19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istology: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quamous (n = 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 (23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nsquamous (n = 4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5 (18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denosquamous 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Unknown (n =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moking history: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ever (n = 1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 (10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ormer/current (n = 3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3 (22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R According to Dose Schedule, Histology and Smoking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28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aron EB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372(21):2018-2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1"/>
          <p:cNvSpPr/>
          <p:nvPr/>
        </p:nvSpPr>
        <p:spPr>
          <a:xfrm>
            <a:off x="723960" y="3753360"/>
            <a:ext cx="78418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FS = progression-free survival; OS = overall survival; PS = proportion score (% of cells with membranous PD-L1 stain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follow-up = 10.9 mon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FS and OS were shorter among patients with a PS of 1% to 49% or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&lt;1% than among those with PS ≥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DoR was similar regardless of 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Group 35"/>
          <p:cNvGraphicFramePr/>
          <p:nvPr/>
        </p:nvGraphicFramePr>
        <p:xfrm>
          <a:off x="723960" y="1329120"/>
          <a:ext cx="7669800" cy="2322360"/>
        </p:xfrm>
        <a:graphic>
          <a:graphicData uri="http://schemas.openxmlformats.org/drawingml/2006/table">
            <a:tbl>
              <a:tblPr/>
              <a:tblGrid>
                <a:gridCol w="2569680"/>
                <a:gridCol w="1684440"/>
                <a:gridCol w="1682640"/>
                <a:gridCol w="1732680"/>
              </a:tblGrid>
              <a:tr h="545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rvival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l patients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95)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etreated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94)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ntreated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01)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.7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.0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0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OS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.0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.3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6.2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S ≥50%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l patients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etreated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ntreated</a:t>
                      </a:r>
                      <a:endParaRPr b="0" lang="en-US" sz="17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3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1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.5 mo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OS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reached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reached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reached</a:t>
                      </a:r>
                      <a:endParaRPr b="0" lang="en-US" sz="17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iv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9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aron EB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372(21):2018-2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1"/>
          <p:cNvSpPr/>
          <p:nvPr/>
        </p:nvSpPr>
        <p:spPr>
          <a:xfrm>
            <a:off x="686520" y="4842360"/>
            <a:ext cx="7149600" cy="36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S = training set; VS = validation set; NR = not reach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Group 35"/>
          <p:cNvGraphicFramePr/>
          <p:nvPr/>
        </p:nvGraphicFramePr>
        <p:xfrm>
          <a:off x="686520" y="1658160"/>
          <a:ext cx="7936560" cy="3018600"/>
        </p:xfrm>
        <a:graphic>
          <a:graphicData uri="http://schemas.openxmlformats.org/drawingml/2006/table">
            <a:tbl>
              <a:tblPr/>
              <a:tblGrid>
                <a:gridCol w="1315800"/>
                <a:gridCol w="1172520"/>
                <a:gridCol w="1155600"/>
                <a:gridCol w="1015920"/>
                <a:gridCol w="1155600"/>
                <a:gridCol w="1054080"/>
                <a:gridCol w="1066680"/>
              </a:tblGrid>
              <a:tr h="37296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reatment outcome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S ≥50%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S 1%-49%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S &lt;1%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8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73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3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03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0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8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7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 (34.2%)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3 (45.2%)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9.3%)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7 (16.5%)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10%)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10.7%)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3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reatment outcome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1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78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9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12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6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S</a:t>
                      </a:r>
                      <a:br>
                        <a:rPr sz="1550"/>
                      </a:br>
                      <a:r>
                        <a:rPr b="1" lang="en-US" sz="155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0)</a:t>
                      </a:r>
                      <a:endParaRPr b="0" lang="en-US" sz="15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7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DoR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.3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.2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.5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4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.1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.1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.1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.0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OS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.7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.9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.6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7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5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.4 mo</a:t>
                      </a:r>
                      <a:endParaRPr b="0" lang="en-US" sz="15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eatment Outcomes According to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30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aron EB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372(21):2018-2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Group 35"/>
          <p:cNvGraphicFramePr/>
          <p:nvPr/>
        </p:nvGraphicFramePr>
        <p:xfrm>
          <a:off x="749160" y="1329840"/>
          <a:ext cx="7569000" cy="3682800"/>
        </p:xfrm>
        <a:graphic>
          <a:graphicData uri="http://schemas.openxmlformats.org/drawingml/2006/table">
            <a:tbl>
              <a:tblPr/>
              <a:tblGrid>
                <a:gridCol w="3659760"/>
                <a:gridCol w="1954440"/>
                <a:gridCol w="1954440"/>
              </a:tblGrid>
              <a:tr h="2955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vent  (n = 49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3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6 (19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0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ecreased appet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2 (10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1.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8 (9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0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rthral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5 (9.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0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0 (8.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0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7 (7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0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sth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4 (4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1.0)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1 (4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ys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1 (4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 (3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neumoniti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 (3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 (1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31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aron EB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372(21):2018-2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749160" y="5287680"/>
            <a:ext cx="714960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cludes 1 patient with Grade 5 interstitial lung dis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is study demonstrated the efficacy and safety of pembrolizumab for previously treated and previously untreated NSCL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prospective testing of PD-L1 expression is feasible and retrospectively identified patients with an enhanced likelihood of deriving a clinical benefit from treatment with pembrolizuma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D-L1 expression in at least 50% of tumor cells correlated with improved efficacy of pembrolizuma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32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aron EB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372(21):2018-2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II CHECKMATE 057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762120" y="4584240"/>
            <a:ext cx="7681680" cy="87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ary endpoints includ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bjective response rate (ORR), progression-free survival (PFS), 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Group 38"/>
          <p:cNvGraphicFramePr/>
          <p:nvPr/>
        </p:nvGraphicFramePr>
        <p:xfrm>
          <a:off x="5559480" y="1561680"/>
          <a:ext cx="2749680" cy="1006200"/>
        </p:xfrm>
        <a:graphic>
          <a:graphicData uri="http://schemas.openxmlformats.org/drawingml/2006/table">
            <a:tbl>
              <a:tblPr/>
              <a:tblGrid>
                <a:gridCol w="274968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ivol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mg/kg IV q2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2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Line 2"/>
          <p:cNvSpPr/>
          <p:nvPr/>
        </p:nvSpPr>
        <p:spPr>
          <a:xfrm>
            <a:off x="3733560" y="2916000"/>
            <a:ext cx="1498680" cy="360"/>
          </a:xfrm>
          <a:prstGeom prst="line">
            <a:avLst/>
          </a:prstGeom>
          <a:ln w="28575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236920" y="2096640"/>
            <a:ext cx="322200" cy="655920"/>
            <a:chOff x="5236920" y="2096640"/>
            <a:chExt cx="322200" cy="655920"/>
          </a:xfrm>
        </p:grpSpPr>
        <p:sp>
          <p:nvSpPr>
            <p:cNvPr id="93" name="Line 14"/>
            <p:cNvSpPr/>
            <p:nvPr/>
          </p:nvSpPr>
          <p:spPr>
            <a:xfrm flipV="1">
              <a:off x="5236920" y="2096640"/>
              <a:ext cx="360" cy="655920"/>
            </a:xfrm>
            <a:prstGeom prst="line">
              <a:avLst/>
            </a:prstGeom>
            <a:ln w="28575">
              <a:solidFill>
                <a:srgbClr val="4648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4" name="Line 15"/>
            <p:cNvSpPr/>
            <p:nvPr/>
          </p:nvSpPr>
          <p:spPr>
            <a:xfrm>
              <a:off x="5236920" y="2096640"/>
              <a:ext cx="322200" cy="360"/>
            </a:xfrm>
            <a:prstGeom prst="line">
              <a:avLst/>
            </a:prstGeom>
            <a:ln w="28575">
              <a:solidFill>
                <a:srgbClr val="4648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95" name="Group 16"/>
          <p:cNvGrpSpPr/>
          <p:nvPr/>
        </p:nvGrpSpPr>
        <p:grpSpPr>
          <a:xfrm>
            <a:off x="5236920" y="2436480"/>
            <a:ext cx="322200" cy="1279800"/>
            <a:chOff x="5236920" y="2436480"/>
            <a:chExt cx="322200" cy="1279800"/>
          </a:xfrm>
        </p:grpSpPr>
        <p:sp>
          <p:nvSpPr>
            <p:cNvPr id="96" name="Line 17"/>
            <p:cNvSpPr/>
            <p:nvPr/>
          </p:nvSpPr>
          <p:spPr>
            <a:xfrm>
              <a:off x="5236920" y="2436480"/>
              <a:ext cx="360" cy="1279440"/>
            </a:xfrm>
            <a:prstGeom prst="line">
              <a:avLst/>
            </a:prstGeom>
            <a:ln w="28575">
              <a:solidFill>
                <a:srgbClr val="4648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5236920" y="3715920"/>
              <a:ext cx="322200" cy="360"/>
            </a:xfrm>
            <a:prstGeom prst="line">
              <a:avLst/>
            </a:prstGeom>
            <a:ln w="28575">
              <a:solidFill>
                <a:srgbClr val="4648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aphicFrame>
        <p:nvGraphicFramePr>
          <p:cNvPr id="98" name="Group 42"/>
          <p:cNvGraphicFramePr/>
          <p:nvPr/>
        </p:nvGraphicFramePr>
        <p:xfrm>
          <a:off x="5559480" y="3203280"/>
          <a:ext cx="2749680" cy="1006200"/>
        </p:xfrm>
        <a:graphic>
          <a:graphicData uri="http://schemas.openxmlformats.org/drawingml/2006/table">
            <a:tbl>
              <a:tblPr/>
              <a:tblGrid>
                <a:gridCol w="274968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5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IV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2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Oval 4"/>
          <p:cNvSpPr/>
          <p:nvPr/>
        </p:nvSpPr>
        <p:spPr>
          <a:xfrm>
            <a:off x="4084560" y="2415960"/>
            <a:ext cx="1004400" cy="1002960"/>
          </a:xfrm>
          <a:prstGeom prst="ellipse">
            <a:avLst/>
          </a:prstGeom>
          <a:solidFill>
            <a:srgbClr val="ff6600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Group 33"/>
          <p:cNvGraphicFramePr/>
          <p:nvPr/>
        </p:nvGraphicFramePr>
        <p:xfrm>
          <a:off x="762120" y="1634040"/>
          <a:ext cx="3060360" cy="2676600"/>
        </p:xfrm>
        <a:graphic>
          <a:graphicData uri="http://schemas.openxmlformats.org/drawingml/2006/table">
            <a:tbl>
              <a:tblPr/>
              <a:tblGrid>
                <a:gridCol w="3060360"/>
              </a:tblGrid>
              <a:tr h="457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58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447560">
                <a:tc>
                  <a:txBody>
                    <a:bodyPr anchor="t">
                      <a:noAutofit/>
                    </a:bodyPr>
                    <a:p>
                      <a:pPr marL="169920" indent="-169920">
                        <a:lnSpc>
                          <a:spcPct val="95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ge IIIB-IV nonsquamous NSC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 indent="-169920">
                        <a:lnSpc>
                          <a:spcPct val="95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ogression on 1 prior platinum doub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 indent="-169920">
                        <a:lnSpc>
                          <a:spcPct val="95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etreatment tumor samples for PD-L1 analysis requir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ftr" idx="5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LBA1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azAres_Graph1.png"/>
          <p:cNvPicPr/>
          <p:nvPr/>
        </p:nvPicPr>
        <p:blipFill>
          <a:blip r:embed="rId1"/>
          <a:stretch/>
        </p:blipFill>
        <p:spPr>
          <a:xfrm>
            <a:off x="877320" y="1752480"/>
            <a:ext cx="7578360" cy="3304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ftr" idx="6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Paz 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LBA1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1"/>
          <p:cNvSpPr/>
          <p:nvPr/>
        </p:nvSpPr>
        <p:spPr>
          <a:xfrm rot="16200000">
            <a:off x="-738360" y="3079080"/>
            <a:ext cx="29037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S (%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Group 35"/>
          <p:cNvGraphicFramePr/>
          <p:nvPr/>
        </p:nvGraphicFramePr>
        <p:xfrm>
          <a:off x="3771360" y="1397520"/>
          <a:ext cx="4623120" cy="1127880"/>
        </p:xfrm>
        <a:graphic>
          <a:graphicData uri="http://schemas.openxmlformats.org/drawingml/2006/table">
            <a:tbl>
              <a:tblPr/>
              <a:tblGrid>
                <a:gridCol w="1693080"/>
                <a:gridCol w="1503720"/>
                <a:gridCol w="1425960"/>
              </a:tblGrid>
              <a:tr h="4402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9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9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3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OS, 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40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R = 0.73; </a:t>
                      </a:r>
                      <a:r>
                        <a:rPr b="0" i="1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= 0.0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9"/>
          <p:cNvSpPr/>
          <p:nvPr/>
        </p:nvSpPr>
        <p:spPr>
          <a:xfrm>
            <a:off x="2178000" y="3626280"/>
            <a:ext cx="225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500" spc="-1" strike="noStrike">
                <a:solidFill>
                  <a:srgbClr val="7fa341"/>
                </a:solidFill>
                <a:latin typeface="Arial"/>
                <a:ea typeface="ＭＳ Ｐゴシック"/>
              </a:rPr>
              <a:t>1-yr OS rate = 39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4428720" y="2918520"/>
            <a:ext cx="225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db7b2a"/>
                </a:solidFill>
                <a:latin typeface="Arial"/>
                <a:ea typeface="ＭＳ Ｐゴシック"/>
              </a:rPr>
              <a:t>1-yr OS rate = 51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7147080" y="3486960"/>
            <a:ext cx="1453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db7b2a"/>
                </a:solidFill>
                <a:latin typeface="Arial"/>
                <a:ea typeface="ＭＳ Ｐゴシック"/>
              </a:rPr>
              <a:t>Nivolumab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7330680" y="4366800"/>
            <a:ext cx="1526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7fa341"/>
                </a:solidFill>
                <a:latin typeface="Arial"/>
                <a:ea typeface="ＭＳ Ｐゴシック"/>
              </a:rPr>
              <a:t>Docetax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PazAres_Graph2.png"/>
          <p:cNvPicPr/>
          <p:nvPr/>
        </p:nvPicPr>
        <p:blipFill>
          <a:blip r:embed="rId1"/>
          <a:stretch/>
        </p:blipFill>
        <p:spPr>
          <a:xfrm>
            <a:off x="877320" y="1754280"/>
            <a:ext cx="7578360" cy="3304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7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Paz 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LBA1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6"/>
          <p:cNvSpPr/>
          <p:nvPr/>
        </p:nvSpPr>
        <p:spPr>
          <a:xfrm rot="16200000">
            <a:off x="-738360" y="3079080"/>
            <a:ext cx="29037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FS (%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Group 35"/>
          <p:cNvGraphicFramePr/>
          <p:nvPr/>
        </p:nvGraphicFramePr>
        <p:xfrm>
          <a:off x="3771360" y="1397520"/>
          <a:ext cx="4623120" cy="1127880"/>
        </p:xfrm>
        <a:graphic>
          <a:graphicData uri="http://schemas.openxmlformats.org/drawingml/2006/table">
            <a:tbl>
              <a:tblPr/>
              <a:tblGrid>
                <a:gridCol w="1693080"/>
                <a:gridCol w="1503720"/>
                <a:gridCol w="1425960"/>
              </a:tblGrid>
              <a:tr h="4402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9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9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3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PFS, 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40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R = 0.92; </a:t>
                      </a:r>
                      <a:r>
                        <a:rPr b="0" i="1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= 0.3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TextBox 9"/>
          <p:cNvSpPr/>
          <p:nvPr/>
        </p:nvSpPr>
        <p:spPr>
          <a:xfrm>
            <a:off x="2102040" y="4417560"/>
            <a:ext cx="225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500" spc="-1" strike="noStrike">
                <a:solidFill>
                  <a:srgbClr val="7fa341"/>
                </a:solidFill>
                <a:latin typeface="Arial"/>
                <a:ea typeface="ＭＳ Ｐゴシック"/>
              </a:rPr>
              <a:t>1-yr PFS rate = 8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428720" y="3822840"/>
            <a:ext cx="225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db7b2a"/>
                </a:solidFill>
                <a:latin typeface="Arial"/>
                <a:ea typeface="ＭＳ Ｐゴシック"/>
              </a:rPr>
              <a:t>1-yr PFS rate = 19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6445440" y="3971520"/>
            <a:ext cx="1453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db7b2a"/>
                </a:solidFill>
                <a:latin typeface="Arial"/>
                <a:ea typeface="ＭＳ Ｐゴシック"/>
              </a:rPr>
              <a:t>Nivolumab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843080" y="4269240"/>
            <a:ext cx="1310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7fa341"/>
                </a:solidFill>
                <a:latin typeface="Arial"/>
                <a:ea typeface="ＭＳ Ｐゴシック"/>
              </a:rPr>
              <a:t>Docetax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S and PFS by PD-L1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8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LBA1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Straight Connector 3"/>
          <p:cNvCxnSpPr/>
          <p:nvPr/>
        </p:nvCxnSpPr>
        <p:spPr>
          <a:xfrm flipV="1">
            <a:off x="4215600" y="1553400"/>
            <a:ext cx="473040" cy="140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124" name="Straight Connector 7"/>
          <p:cNvCxnSpPr/>
          <p:nvPr/>
        </p:nvCxnSpPr>
        <p:spPr>
          <a:xfrm>
            <a:off x="4215600" y="1962720"/>
            <a:ext cx="581040" cy="28605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125" name="Straight Connector 9"/>
          <p:cNvCxnSpPr/>
          <p:nvPr/>
        </p:nvCxnSpPr>
        <p:spPr>
          <a:xfrm flipV="1">
            <a:off x="4215600" y="1962720"/>
            <a:ext cx="581040" cy="28605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graphicFrame>
        <p:nvGraphicFramePr>
          <p:cNvPr id="126" name="Group 35"/>
          <p:cNvGraphicFramePr/>
          <p:nvPr/>
        </p:nvGraphicFramePr>
        <p:xfrm>
          <a:off x="711720" y="1341360"/>
          <a:ext cx="7771320" cy="4106520"/>
        </p:xfrm>
        <a:graphic>
          <a:graphicData uri="http://schemas.openxmlformats.org/drawingml/2006/table">
            <a:tbl>
              <a:tblPr/>
              <a:tblGrid>
                <a:gridCol w="2358360"/>
                <a:gridCol w="1238040"/>
                <a:gridCol w="1235160"/>
                <a:gridCol w="1549800"/>
                <a:gridCol w="1389600"/>
              </a:tblGrid>
              <a:tr h="4557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D-L1 expression leve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 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nstratified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nteraction</a:t>
                      </a:r>
                      <a:br>
                        <a:rPr sz="1300"/>
                      </a:b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S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1%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&lt;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3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3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9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06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≥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&lt;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5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6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43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0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55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≥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%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&lt;1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6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9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40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0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6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quantifiable at baselin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FS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≥1%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&lt;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1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3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6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3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91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70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br>
                        <a:rPr sz="1300"/>
                      </a:b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55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≥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&lt;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5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6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4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0.00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≥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%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&lt;1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6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9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2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0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9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t quantifiable at baseli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endParaRPr b="0" lang="en-US" sz="1300" spc="-1" strike="noStrike">
                        <a:solidFill>
                          <a:srgbClr val="464847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1"/>
          <p:cNvSpPr/>
          <p:nvPr/>
        </p:nvSpPr>
        <p:spPr>
          <a:xfrm>
            <a:off x="1017720" y="4772160"/>
            <a:ext cx="7130520" cy="62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dds ratio = 1.72,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value = 0.02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ngoing response: nivolumab 152 (52%), docetaxel 41 (14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29" name="Group 35"/>
          <p:cNvGraphicFramePr/>
          <p:nvPr/>
        </p:nvGraphicFramePr>
        <p:xfrm>
          <a:off x="1017720" y="1486080"/>
          <a:ext cx="7130520" cy="3130920"/>
        </p:xfrm>
        <a:graphic>
          <a:graphicData uri="http://schemas.openxmlformats.org/drawingml/2006/table">
            <a:tbl>
              <a:tblPr/>
              <a:tblGrid>
                <a:gridCol w="2840400"/>
                <a:gridCol w="2430720"/>
                <a:gridCol w="1859040"/>
              </a:tblGrid>
              <a:tr h="453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est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9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5 (1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3 (1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5 (1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5 (1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3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2 (4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time to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duration of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7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9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LBA1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1"/>
          <p:cNvSpPr/>
          <p:nvPr/>
        </p:nvSpPr>
        <p:spPr>
          <a:xfrm>
            <a:off x="934560" y="4877640"/>
            <a:ext cx="7637400" cy="54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reatment-related Grade 3 or 4 AEs leading to discontinuation: nivolumab 11 (4%), docetaxel 19 (7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Group 91"/>
          <p:cNvGraphicFramePr/>
          <p:nvPr/>
        </p:nvGraphicFramePr>
        <p:xfrm>
          <a:off x="934560" y="1528920"/>
          <a:ext cx="7256520" cy="3144240"/>
        </p:xfrm>
        <a:graphic>
          <a:graphicData uri="http://schemas.openxmlformats.org/drawingml/2006/table">
            <a:tbl>
              <a:tblPr/>
              <a:tblGrid>
                <a:gridCol w="2024280"/>
                <a:gridCol w="1307880"/>
                <a:gridCol w="1307880"/>
                <a:gridCol w="1307880"/>
                <a:gridCol w="1307880"/>
              </a:tblGrid>
              <a:tr h="392760">
                <a:tc rowSpan="2"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volumab (n = 28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 (n = 2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3/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3/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27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ypothyroid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 (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7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 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2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27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7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6 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27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lope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7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7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3 (3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2 (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36" name="PlaceHolder 2"/>
          <p:cNvSpPr>
            <a:spLocks noGrp="1"/>
          </p:cNvSpPr>
          <p:nvPr>
            <p:ph type="ftr" idx="10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LBA1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  <Words>3744</Words>
  <Paragraphs>6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9-22T13:10:01Z</cp:lastPrinted>
  <dcterms:modified xsi:type="dcterms:W3CDTF">2015-09-22T13:37:21Z</dcterms:modified>
  <cp:revision>759</cp:revision>
  <dc:subject/>
  <dc:title>A Phase III Trial Comparing mFOLFOX6 to mFOLFOX6 plus Bevacizumab in Stage II or III Carcinoma of the Colon: Results of NSABP Protocol C-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3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