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553-A053-41BE-8549-60425973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185-4F65-4069-B36A-0D4D566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FB0-60B1-4EDC-B9C8-12535968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BDF-C3CE-439F-B70D-0CAD0DBA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EE5-6204-4649-9EE2-9473A7FC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9925-E308-426B-805C-ABFA297B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5AF-E535-4EE4-B8D0-8FD3EDCF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CC77-A845-48EF-9CD9-AF3D01FF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5AC-BE07-48AB-AF29-27CD2F99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5C3-13D6-46D7-A43D-1652B06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6A8-CE27-4C43-BBD7-C0AF3C0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874-C313-4968-B91A-0A6827AF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5C2C-97BE-4353-93B3-CD17038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32D4-81CF-4C3A-87F1-4D73AEF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C34C-67D8-4EA2-8DA7-7FFBDD8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C0A1-F573-4877-8C12-FB085622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5126-580B-40C0-A9DF-94B79AB8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5325-8949-4BD0-BD9D-E7E5990F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73E-A41A-41EF-BD02-8AA229A3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BE7-E5DE-4D06-9E8C-0C6686E9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9D7-552D-4A03-8000-F56F454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3BD-81D2-4CBC-B098-6D47B1F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BDC-D5F7-4A53-AF9F-3FC6FCE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F88-7E74-4C9B-9D14-D692DE2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F2352-CA88-473D-968D-C282FEC30FA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87824-E478-4B35-A9AB-726E7479D5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BB7E7-9B53-4C99-ACF8-72DECC09A00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14EF-86AA-496E-B4B5-8A877D1A41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fficacy, Safety and Predictive Biomarker Results from a Randomized Phase II Study Comparing MPDL3280A vs Docetaxel in 2L/3L NSCLC (POPLAR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fety and Clinical Activity of MEDI4736, an Anti-Programmed Cell Death-Ligand 1 (PD-L1) Antibody, in Patients with Non-Small Cell Lung Cancer (NSCLC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baseline="30000">
                <a:solidFill>
                  <a:srgbClr val="464847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pira AI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baseline="30000">
                <a:solidFill>
                  <a:srgbClr val="464847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izvi NA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2440" y="1071720"/>
            <a:ext cx="8226360" cy="475776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a pattern of improved survival correlating with increasing PD-L1 express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highly sensitive and specific immunohistochemistry SP142 assay measures PD-L1 on both TCs and ICs and is a predictive diagnostic biomarker for atezolizumab in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ezolizumab was well tolerated, with a safety profile that is distinct from that observed with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Phase III OAK trial of atezolizumab versus docetaxel in locally advanced or metastatic NSCLC is ongoing (NCT0200822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Phase Ib trial of atezolizumab/chemotherapy showed manageable toxicity and a 67% preliminary ORR in unselected patients with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8030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ultiple Phase III trials of atezolizumab/chemotherapy ar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under wa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654120" y="1411200"/>
          <a:ext cx="3854520" cy="2565360"/>
        </p:xfrm>
        <a:graphic>
          <a:graphicData uri="http://schemas.openxmlformats.org/drawingml/2006/table">
            <a:tbl>
              <a:tblPr/>
              <a:tblGrid>
                <a:gridCol w="3854520"/>
              </a:tblGrid>
              <a:tr h="422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(n = 8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143080">
                <a:tc>
                  <a:txBody>
                    <a:bodyPr lIns="90000" rIns="90000" anchor="t">
                      <a:noAutofit/>
                    </a:bodyPr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B-IIIA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ection 6-12 wks before study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ble to receive cisplatin-based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systemic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095880" y="1474920"/>
          <a:ext cx="2424240" cy="1154160"/>
        </p:xfrm>
        <a:graphic>
          <a:graphicData uri="http://schemas.openxmlformats.org/drawingml/2006/table">
            <a:tbl>
              <a:tblPr/>
              <a:tblGrid>
                <a:gridCol w="2424240"/>
              </a:tblGrid>
              <a:tr h="115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tezoli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,200 mg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16 cyc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Line 2"/>
          <p:cNvSpPr/>
          <p:nvPr/>
        </p:nvSpPr>
        <p:spPr>
          <a:xfrm>
            <a:off x="4514760" y="2693880"/>
            <a:ext cx="1251000" cy="0"/>
          </a:xfrm>
          <a:prstGeom prst="line">
            <a:avLst/>
          </a:prstGeom>
          <a:ln w="284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770440" y="2047680"/>
            <a:ext cx="322200" cy="655560"/>
            <a:chOff x="5770440" y="2047680"/>
            <a:chExt cx="322200" cy="655560"/>
          </a:xfrm>
        </p:grpSpPr>
        <p:sp>
          <p:nvSpPr>
            <p:cNvPr id="187" name="Line 14"/>
            <p:cNvSpPr/>
            <p:nvPr/>
          </p:nvSpPr>
          <p:spPr>
            <a:xfrm flipV="1">
              <a:off x="5770440" y="2047680"/>
              <a:ext cx="0" cy="65556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5770440" y="2048040"/>
              <a:ext cx="322200" cy="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5770440" y="2247120"/>
            <a:ext cx="322200" cy="1279080"/>
            <a:chOff x="5770440" y="2247120"/>
            <a:chExt cx="322200" cy="1279080"/>
          </a:xfrm>
        </p:grpSpPr>
        <p:sp>
          <p:nvSpPr>
            <p:cNvPr id="190" name="Line 17"/>
            <p:cNvSpPr/>
            <p:nvPr/>
          </p:nvSpPr>
          <p:spPr>
            <a:xfrm>
              <a:off x="5770440" y="2247120"/>
              <a:ext cx="0" cy="127908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770440" y="3525840"/>
              <a:ext cx="322200" cy="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6095880" y="3021120"/>
          <a:ext cx="2424240" cy="955440"/>
        </p:xfrm>
        <a:graphic>
          <a:graphicData uri="http://schemas.openxmlformats.org/drawingml/2006/table">
            <a:tbl>
              <a:tblPr/>
              <a:tblGrid>
                <a:gridCol w="2424240"/>
              </a:tblGrid>
              <a:tr h="95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st supportive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Oval 4"/>
          <p:cNvSpPr/>
          <p:nvPr/>
        </p:nvSpPr>
        <p:spPr>
          <a:xfrm>
            <a:off x="4618080" y="219240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II Trial Design (NCT024867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ww.clinicaltrials.gov. Accessed August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649440" y="4067280"/>
            <a:ext cx="77166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tudy start: June 2015; estimated study completion: December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isease-free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, pharmocokinetics, immunogenicity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 and Clinical Activity of MEDI4736, an Anti-Programmed Cell Death-Ligand 1 (PD-L1) Antibody, in Patients with Non-Small Cell Lung Cancer (NSCL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Rizvi N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803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L1 is widely expressed on antigen-presenting cells an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ther immune cell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is upregulated on tumor cells in a broad range of human cancers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d has been associated with the inhibition of antitumor T-cell response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DI4736 is a selective, high affinity human IgG1 monoclonal antibody that blocks PD-L1 binding to PD-1 and CD80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DI4736 has demonstrated promising activity and an acceptable safety profile across multiple tumor typ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4; Abstracts 988PD and 1327P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valuate the clinical activity and safety of MEDI4736 in the cohort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 patients with advanced NSCLC over a longer follow-up period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2"/>
          <p:cNvSpPr/>
          <p:nvPr/>
        </p:nvSpPr>
        <p:spPr>
          <a:xfrm>
            <a:off x="3429000" y="2946240"/>
            <a:ext cx="447840" cy="0"/>
          </a:xfrm>
          <a:prstGeom prst="line">
            <a:avLst/>
          </a:prstGeom>
          <a:ln w="28440">
            <a:solidFill>
              <a:srgbClr val="4648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1"/>
          <p:cNvSpPr/>
          <p:nvPr/>
        </p:nvSpPr>
        <p:spPr>
          <a:xfrm>
            <a:off x="804960" y="4286160"/>
            <a:ext cx="74865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ther dose expansion cohorts besides NSCLC include squamous cell carcinoma of the head and neck, pancreatic adenocarcinoma, melanoma, gastroesophageal cancer, triple-negative breast cancer, hepatocellular carcinoma and 8 additional tumor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/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754200" y="1301760"/>
            <a:ext cx="15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CT016935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4351320" y="1797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Dose esca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6110280" y="122868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Dose expansion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10 mg/kg q2wk x 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5757840" y="2946240"/>
            <a:ext cx="447840" cy="0"/>
          </a:xfrm>
          <a:prstGeom prst="line">
            <a:avLst/>
          </a:prstGeom>
          <a:ln w="28440">
            <a:solidFill>
              <a:srgbClr val="4648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 rot="16200000">
            <a:off x="5101920" y="2820960"/>
            <a:ext cx="23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Dose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3900600" y="2392200"/>
            <a:ext cx="209376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MEDI47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0.1-10 mg/kg q2wk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15 mg/kg q3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x 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04960" y="1697040"/>
          <a:ext cx="2712960" cy="2419200"/>
        </p:xfrm>
        <a:graphic>
          <a:graphicData uri="http://schemas.openxmlformats.org/drawingml/2006/table">
            <a:tbl>
              <a:tblPr/>
              <a:tblGrid>
                <a:gridCol w="2712960"/>
              </a:tblGrid>
              <a:tr h="469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(n = 91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1274c"/>
                    </a:solidFill>
                  </a:tcPr>
                </a:tc>
              </a:tr>
              <a:tr h="1949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solid tum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exposure 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o anti-PD-1 or 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ti-PD-L1 antibod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508800" y="1851120"/>
          <a:ext cx="1930320" cy="2157480"/>
        </p:xfrm>
        <a:graphic>
          <a:graphicData uri="http://schemas.openxmlformats.org/drawingml/2006/table">
            <a:tbl>
              <a:tblPr/>
              <a:tblGrid>
                <a:gridCol w="1930320"/>
              </a:tblGrid>
              <a:tr h="2700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SCLC squamo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irst li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econd li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hird line and m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SCLC nonsquamo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irst li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econd li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7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hird line and m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98400" y="1689120"/>
          <a:ext cx="7683480" cy="2957400"/>
        </p:xfrm>
        <a:graphic>
          <a:graphicData uri="http://schemas.openxmlformats.org/drawingml/2006/table">
            <a:tbl>
              <a:tblPr/>
              <a:tblGrid>
                <a:gridCol w="2965680"/>
                <a:gridCol w="1563480"/>
                <a:gridCol w="1577880"/>
                <a:gridCol w="157644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n = 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n = 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uration of response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(w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+ to 54.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+ to 54.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9+ to 41.7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2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ngoing responders (n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/32 (6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/23 (7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/5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CLC Cohort: Response Rates by PD-L1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641520" y="46180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RR = objective response rate; DCR = disease contro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641520" y="499752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t ≥12 weeks of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798480" y="1482840"/>
          <a:ext cx="7581960" cy="3713040"/>
        </p:xfrm>
        <a:graphic>
          <a:graphicData uri="http://schemas.openxmlformats.org/drawingml/2006/table">
            <a:tbl>
              <a:tblPr/>
              <a:tblGrid>
                <a:gridCol w="1682640"/>
                <a:gridCol w="982800"/>
                <a:gridCol w="982800"/>
                <a:gridCol w="984240"/>
                <a:gridCol w="982440"/>
                <a:gridCol w="984240"/>
                <a:gridCol w="982800"/>
              </a:tblGrid>
              <a:tr h="3402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prior lines of therap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histolog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bacco u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ormer/curr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v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CLC Cohort: Tumor Response by Sub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Rizvi_Graph1.png"/>
          <p:cNvPicPr/>
          <p:nvPr/>
        </p:nvPicPr>
        <p:blipFill>
          <a:blip r:embed="rId1"/>
          <a:stretch/>
        </p:blipFill>
        <p:spPr>
          <a:xfrm>
            <a:off x="1082520" y="1434960"/>
            <a:ext cx="7313760" cy="40006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8"/>
          <p:cNvSpPr/>
          <p:nvPr/>
        </p:nvSpPr>
        <p:spPr>
          <a:xfrm rot="16200000">
            <a:off x="-356760" y="316656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OS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CLC Cohort: Overall Survival (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50960" y="3760920"/>
          <a:ext cx="4624560" cy="1127160"/>
        </p:xfrm>
        <a:graphic>
          <a:graphicData uri="http://schemas.openxmlformats.org/drawingml/2006/table">
            <a:tbl>
              <a:tblPr/>
              <a:tblGrid>
                <a:gridCol w="2489400"/>
                <a:gridCol w="1066680"/>
                <a:gridCol w="1068480"/>
              </a:tblGrid>
              <a:tr h="5180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9843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7ebe2c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# of Subjects (# of Eve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 (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9843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 (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7ebe2c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9843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7ebe2c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1"/>
          <p:cNvSpPr/>
          <p:nvPr/>
        </p:nvSpPr>
        <p:spPr>
          <a:xfrm>
            <a:off x="1600200" y="5383080"/>
            <a:ext cx="66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Time (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644400" y="1349280"/>
          <a:ext cx="7842240" cy="3167280"/>
        </p:xfrm>
        <a:graphic>
          <a:graphicData uri="http://schemas.openxmlformats.org/drawingml/2006/table">
            <a:tbl>
              <a:tblPr/>
              <a:tblGrid>
                <a:gridCol w="3792600"/>
                <a:gridCol w="2024280"/>
                <a:gridCol w="2025360"/>
              </a:tblGrid>
              <a:tr h="352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erthyroi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othyroi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culopapular 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cular 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44400" y="4630680"/>
            <a:ext cx="784224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ther Grade 3 or 4 AE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eukopenia, neutropenia, cardiac failure, decreased weight, myalgia (n = 1 each) and fatigue, hyponatremia and arthralgia (n = 2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DI4736 has a manageable toxicity profile in NSCLC with no drug-related colitis, Grade 3 to 4 pneumonitis or death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titumor activity in NSCLC was encouraging and dura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eliminary OS data are encouraging: OS appears to be better for patients with PD-L1+ tumors than for those with PD-L1- tum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DI4736 was associated with increased levels of peripheral Th1-associated cytokines and chemokines and an increase in CD8+ tumor infiltrating lymphocytes indicative of immune activation in patients with NSCLC (data not shown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experience supports the accelerated development of MEDI4736 in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going studies of MEDI4736 include use as monotherapy or in combination with tremelimumab (ARCTIC trial; NCT02352948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fficacy, Safety and Predictive Biomarker Results from a Randomized Phase II Study Comparing MPDL3280A vs Docetaxel in 2L/3L NSCLC (POP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pira AI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8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134040" y="1596960"/>
          <a:ext cx="2108160" cy="1055880"/>
        </p:xfrm>
        <a:graphic>
          <a:graphicData uri="http://schemas.openxmlformats.org/drawingml/2006/table">
            <a:tbl>
              <a:tblPr/>
              <a:tblGrid>
                <a:gridCol w="2108160"/>
              </a:tblGrid>
              <a:tr h="105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4736 (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or 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Line 2"/>
          <p:cNvSpPr/>
          <p:nvPr/>
        </p:nvSpPr>
        <p:spPr>
          <a:xfrm>
            <a:off x="4356000" y="2887560"/>
            <a:ext cx="1447920" cy="0"/>
          </a:xfrm>
          <a:prstGeom prst="line">
            <a:avLst/>
          </a:prstGeom>
          <a:ln w="284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3"/>
          <p:cNvGrpSpPr/>
          <p:nvPr/>
        </p:nvGrpSpPr>
        <p:grpSpPr>
          <a:xfrm>
            <a:off x="5808600" y="2126880"/>
            <a:ext cx="322200" cy="655560"/>
            <a:chOff x="5808600" y="2126880"/>
            <a:chExt cx="322200" cy="655560"/>
          </a:xfrm>
        </p:grpSpPr>
        <p:sp>
          <p:nvSpPr>
            <p:cNvPr id="238" name="Line 14"/>
            <p:cNvSpPr/>
            <p:nvPr/>
          </p:nvSpPr>
          <p:spPr>
            <a:xfrm flipV="1">
              <a:off x="5808600" y="2126880"/>
              <a:ext cx="0" cy="65556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>
              <a:off x="5808600" y="2127240"/>
              <a:ext cx="322200" cy="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"/>
          <p:cNvGrpSpPr/>
          <p:nvPr/>
        </p:nvGrpSpPr>
        <p:grpSpPr>
          <a:xfrm>
            <a:off x="5808600" y="2321640"/>
            <a:ext cx="322200" cy="1279080"/>
            <a:chOff x="5808600" y="2321640"/>
            <a:chExt cx="322200" cy="1279080"/>
          </a:xfrm>
        </p:grpSpPr>
        <p:sp>
          <p:nvSpPr>
            <p:cNvPr id="241" name="Line 17"/>
            <p:cNvSpPr/>
            <p:nvPr/>
          </p:nvSpPr>
          <p:spPr>
            <a:xfrm>
              <a:off x="5808600" y="2321640"/>
              <a:ext cx="0" cy="127908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>
              <a:off x="5808600" y="3600360"/>
              <a:ext cx="322200" cy="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3" name=""/>
          <p:cNvGraphicFramePr/>
          <p:nvPr/>
        </p:nvGraphicFramePr>
        <p:xfrm>
          <a:off x="6134040" y="3100320"/>
          <a:ext cx="2146320" cy="963720"/>
        </p:xfrm>
        <a:graphic>
          <a:graphicData uri="http://schemas.openxmlformats.org/drawingml/2006/table">
            <a:tbl>
              <a:tblPr/>
              <a:tblGrid>
                <a:gridCol w="2146320"/>
              </a:tblGrid>
              <a:tr h="96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or 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4" name="Oval 4"/>
          <p:cNvSpPr/>
          <p:nvPr/>
        </p:nvSpPr>
        <p:spPr>
          <a:xfrm>
            <a:off x="4632480" y="238608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II Adjuvant Trial Design (NCT022733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ww.clinicaltrials.gov. Accessed August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782640" y="4446720"/>
            <a:ext cx="80517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tudy start: October 2014; estimated study completion: January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isease-free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, safety and quality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82640" y="1468440"/>
          <a:ext cx="3683160" cy="2841480"/>
        </p:xfrm>
        <a:graphic>
          <a:graphicData uri="http://schemas.openxmlformats.org/drawingml/2006/table">
            <a:tbl>
              <a:tblPr/>
              <a:tblGrid>
                <a:gridCol w="3683160"/>
              </a:tblGrid>
              <a:tr h="4618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(n = 1,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379600">
                <a:tc>
                  <a:txBody>
                    <a:bodyPr lIns="90000" rIns="90000" anchor="t">
                      <a:noAutofit/>
                    </a:bodyPr>
                    <a:p>
                      <a:pPr marL="171360" indent="-17136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B-IIIA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ection of primary 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neoadjuvant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y have received prior standard postoperative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igh rates of somatic mutations in lung cancer may contribute to increased immunogenicity, and therapies targeting the PD-L1/PD-1 pathway will alter NSCLC treat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ezolizumab (MPDL3280A) is a humanized anti-PD-L1 antibody that inhibits the binding of PD-L1 to PD-1 and B7.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has demonstrated promising response rates in NSCLC that correlated with PD-L1 expression on tumor cells (TC) and/or tumor-infiltrating immune cells (IC)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3;Abstract 8008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Abstract 802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efficacy and safety of atezolizumab versus docetaxel in patients with locally advanced or metastatic NSCLC after the failure of a platinum-based regimen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981760" y="1366920"/>
          <a:ext cx="2425680" cy="1352520"/>
        </p:xfrm>
        <a:graphic>
          <a:graphicData uri="http://schemas.openxmlformats.org/drawingml/2006/table">
            <a:tbl>
              <a:tblPr/>
              <a:tblGrid>
                <a:gridCol w="2425680"/>
              </a:tblGrid>
              <a:tr h="1352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tezoli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,200 mg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Line 2"/>
          <p:cNvSpPr/>
          <p:nvPr/>
        </p:nvSpPr>
        <p:spPr>
          <a:xfrm>
            <a:off x="4292640" y="2854440"/>
            <a:ext cx="1359000" cy="0"/>
          </a:xfrm>
          <a:prstGeom prst="line">
            <a:avLst/>
          </a:prstGeom>
          <a:ln w="284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5656320" y="2034720"/>
            <a:ext cx="322200" cy="655560"/>
            <a:chOff x="5656320" y="2034720"/>
            <a:chExt cx="322200" cy="655560"/>
          </a:xfrm>
        </p:grpSpPr>
        <p:sp>
          <p:nvSpPr>
            <p:cNvPr id="132" name="Line 14"/>
            <p:cNvSpPr/>
            <p:nvPr/>
          </p:nvSpPr>
          <p:spPr>
            <a:xfrm flipV="1">
              <a:off x="5656320" y="2034720"/>
              <a:ext cx="0" cy="65556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5656320" y="2035080"/>
              <a:ext cx="322200" cy="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5656320" y="2375640"/>
            <a:ext cx="322200" cy="1279080"/>
            <a:chOff x="5656320" y="2375640"/>
            <a:chExt cx="322200" cy="1279080"/>
          </a:xfrm>
        </p:grpSpPr>
        <p:sp>
          <p:nvSpPr>
            <p:cNvPr id="135" name="Line 17"/>
            <p:cNvSpPr/>
            <p:nvPr/>
          </p:nvSpPr>
          <p:spPr>
            <a:xfrm>
              <a:off x="5656320" y="2375640"/>
              <a:ext cx="0" cy="127908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5656320" y="3654360"/>
              <a:ext cx="322200" cy="0"/>
            </a:xfrm>
            <a:prstGeom prst="line">
              <a:avLst/>
            </a:prstGeom>
            <a:ln w="28440">
              <a:solidFill>
                <a:srgbClr val="4648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5981760" y="3008160"/>
          <a:ext cx="2413080" cy="1298880"/>
        </p:xfrm>
        <a:graphic>
          <a:graphicData uri="http://schemas.openxmlformats.org/drawingml/2006/table">
            <a:tbl>
              <a:tblPr/>
              <a:tblGrid>
                <a:gridCol w="2413080"/>
              </a:tblGrid>
              <a:tr h="1298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Oval 4"/>
          <p:cNvSpPr/>
          <p:nvPr/>
        </p:nvSpPr>
        <p:spPr>
          <a:xfrm>
            <a:off x="4503600" y="235440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POPLAR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741240" y="4335480"/>
            <a:ext cx="7716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D-L1 IC expression (0 vs 1 vs 2 vs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ior chemotherapy regimens (1 vs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36560" y="1434960"/>
          <a:ext cx="3632400" cy="2805120"/>
        </p:xfrm>
        <a:graphic>
          <a:graphicData uri="http://schemas.openxmlformats.org/drawingml/2006/table">
            <a:tbl>
              <a:tblPr/>
              <a:tblGrid>
                <a:gridCol w="36324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8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408040">
                <a:tc>
                  <a:txBody>
                    <a:bodyPr lIns="90000" rIns="90000" anchor="t">
                      <a:noAutofit/>
                    </a:bodyPr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ocally advanced or metastatic NSCL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FPE tumor specim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progression during or after 1 prior platinum-containing regi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1"/>
          <p:cNvSpPr/>
          <p:nvPr/>
        </p:nvSpPr>
        <p:spPr>
          <a:xfrm>
            <a:off x="736560" y="2890800"/>
            <a:ext cx="784224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 was also analyzed based on PD-L1 expression subgroups using the following cri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C was scored as % of tumor cells and IC as % of tum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C3 or IC3 = TC ≥50% or IC ≥10% PD-L1-positiv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C2/3 or IC2/3 = TC or IC ≥5% PD-L1-positiv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C1/2/3 or IC1/2/3 = TC or IC ≥1% PD-L1-positiv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C0 and IC0 = TC and IC &lt;1% PD-L1-positiv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36560" y="1460520"/>
          <a:ext cx="7543800" cy="1282680"/>
        </p:xfrm>
        <a:graphic>
          <a:graphicData uri="http://schemas.openxmlformats.org/drawingml/2006/table">
            <a:tbl>
              <a:tblPr/>
              <a:tblGrid>
                <a:gridCol w="2057400"/>
                <a:gridCol w="1803600"/>
                <a:gridCol w="1689120"/>
                <a:gridCol w="965160"/>
                <a:gridCol w="1028520"/>
              </a:tblGrid>
              <a:tr h="8128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zoli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23960" y="1447920"/>
          <a:ext cx="7657920" cy="3852720"/>
        </p:xfrm>
        <a:graphic>
          <a:graphicData uri="http://schemas.openxmlformats.org/drawingml/2006/table">
            <a:tbl>
              <a:tblPr/>
              <a:tblGrid>
                <a:gridCol w="2247840"/>
                <a:gridCol w="1765440"/>
                <a:gridCol w="1473120"/>
                <a:gridCol w="965160"/>
                <a:gridCol w="120636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zoli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3 or I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2/3 or IC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1/2/3 or IC1/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0 and IC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Analysis of Median OS According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-L1 Expression Sub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812880" y="1676520"/>
          <a:ext cx="7531200" cy="3124080"/>
        </p:xfrm>
        <a:graphic>
          <a:graphicData uri="http://schemas.openxmlformats.org/drawingml/2006/table">
            <a:tbl>
              <a:tblPr/>
              <a:tblGrid>
                <a:gridCol w="2009520"/>
                <a:gridCol w="1812960"/>
                <a:gridCol w="1638360"/>
                <a:gridCol w="1282680"/>
                <a:gridCol w="787680"/>
              </a:tblGrid>
              <a:tr h="906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enrolled pat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zolizuma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etax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4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4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3 or IC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2/3 or IC2/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0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1/2/3 or IC1/2/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3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0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C0 and IC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016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Analysis of Progression-Free Survival (PFS) According to PD-L1 Expression Sub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831960" y="4998960"/>
            <a:ext cx="784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1.0 favors atezolizu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Spira_Graph1.png"/>
          <p:cNvPicPr/>
          <p:nvPr/>
        </p:nvPicPr>
        <p:blipFill>
          <a:blip r:embed="rId1"/>
          <a:stretch/>
        </p:blipFill>
        <p:spPr>
          <a:xfrm>
            <a:off x="1633680" y="1333440"/>
            <a:ext cx="5452920" cy="2720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ed Overall Response Rate (ORR) and Duration of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1028880" y="5330880"/>
            <a:ext cx="71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 baseline="30000">
                <a:solidFill>
                  <a:srgbClr val="464847"/>
                </a:solidFill>
                <a:latin typeface="Arial"/>
              </a:rPr>
              <a:t>a 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Responders without a PFS ev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 rot="16200000">
            <a:off x="143280" y="2148480"/>
            <a:ext cx="221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ORR (confirmed, RECIST v1.1)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6419880" y="1479600"/>
            <a:ext cx="23176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Atezolizumab (n = 14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Docetaxel (n = 14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28880" y="4114800"/>
          <a:ext cx="6806880" cy="1143000"/>
        </p:xfrm>
        <a:graphic>
          <a:graphicData uri="http://schemas.openxmlformats.org/drawingml/2006/table">
            <a:tbl>
              <a:tblPr/>
              <a:tblGrid>
                <a:gridCol w="3930480"/>
                <a:gridCol w="1536840"/>
                <a:gridCol w="1339560"/>
              </a:tblGrid>
              <a:tr h="5252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zolizumab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etaxel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uration of response (95% CI), 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ach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 (5.8-12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sponders with ongoing response</a:t>
                      </a:r>
                      <a:r>
                        <a:rPr b="0" lang="en-US" sz="15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n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 (7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 (5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3"/>
          <p:cNvSpPr/>
          <p:nvPr/>
        </p:nvSpPr>
        <p:spPr>
          <a:xfrm>
            <a:off x="6261120" y="1574640"/>
            <a:ext cx="158760" cy="158760"/>
          </a:xfrm>
          <a:prstGeom prst="rect">
            <a:avLst/>
          </a:prstGeom>
          <a:solidFill>
            <a:srgbClr val="7eb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6261120" y="1874880"/>
            <a:ext cx="158760" cy="158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200400" y="1306440"/>
            <a:ext cx="5295960" cy="326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1"/>
          <p:cNvSpPr/>
          <p:nvPr/>
        </p:nvSpPr>
        <p:spPr>
          <a:xfrm>
            <a:off x="825480" y="4797360"/>
            <a:ext cx="7842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AE profiles are consistent with previous studi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For atezolizumab, immune-related AEs included increased AST (4%), increased ALT (4%), pneumonitis (2%), colitis, hepatitis (1% eac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 ≥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pira A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773280" y="1268280"/>
            <a:ext cx="25858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ope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th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yalg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utrop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uropathy periph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brile neutrop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ipheral sensory neuropat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creased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thralg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sculoskeletal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ypothyroidi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3492360" y="3833640"/>
            <a:ext cx="201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</a:rPr>
              <a:t>Grade 1-2 A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</a:rPr>
              <a:t>Grade 3-5 A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7210440" y="3833640"/>
            <a:ext cx="14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</a:rPr>
              <a:t>Grade 1-2 A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</a:rPr>
              <a:t>Grade 3-5 A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3359160" y="4532400"/>
            <a:ext cx="2489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64847"/>
                </a:solidFill>
                <a:latin typeface="Arial"/>
              </a:rPr>
              <a:t>Doceta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5848200" y="4532400"/>
            <a:ext cx="2649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64847"/>
                </a:solidFill>
                <a:latin typeface="Arial"/>
              </a:rPr>
              <a:t>Atezoli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 rot="16200000">
            <a:off x="110160" y="3669480"/>
            <a:ext cx="172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64847"/>
                </a:solidFill>
                <a:latin typeface="Arial"/>
              </a:rPr>
              <a:t>AEs more frequent</a:t>
            </a:r>
            <a:br>
              <a:rPr sz="1300"/>
            </a:br>
            <a:r>
              <a:rPr b="1" lang="en-US" sz="1300" spc="-1" strike="noStrike">
                <a:solidFill>
                  <a:srgbClr val="464847"/>
                </a:solidFill>
                <a:latin typeface="Arial"/>
              </a:rPr>
              <a:t>with atezoli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 rot="16200000">
            <a:off x="-34200" y="1929600"/>
            <a:ext cx="20145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64847"/>
                </a:solidFill>
                <a:latin typeface="Arial"/>
              </a:rPr>
              <a:t>AEs more frequent</a:t>
            </a:r>
            <a:br>
              <a:rPr sz="1300"/>
            </a:br>
            <a:r>
              <a:rPr b="1" lang="en-US" sz="1300" spc="-1" strike="noStrike">
                <a:solidFill>
                  <a:srgbClr val="464847"/>
                </a:solidFill>
                <a:latin typeface="Arial"/>
              </a:rPr>
              <a:t>with doceta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4"/>
          <p:cNvSpPr/>
          <p:nvPr/>
        </p:nvSpPr>
        <p:spPr>
          <a:xfrm>
            <a:off x="1224000" y="1282680"/>
            <a:ext cx="0" cy="1725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5"/>
          <p:cNvSpPr/>
          <p:nvPr/>
        </p:nvSpPr>
        <p:spPr>
          <a:xfrm>
            <a:off x="1224000" y="3162240"/>
            <a:ext cx="0" cy="1571760"/>
          </a:xfrm>
          <a:prstGeom prst="line">
            <a:avLst/>
          </a:prstGeom>
          <a:ln w="28440">
            <a:solidFill>
              <a:srgbClr val="28ac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3430440" y="3906720"/>
            <a:ext cx="127080" cy="127080"/>
          </a:xfrm>
          <a:prstGeom prst="rect">
            <a:avLst/>
          </a:prstGeom>
          <a:solidFill>
            <a:srgbClr val="e77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3430440" y="4091040"/>
            <a:ext cx="127080" cy="127080"/>
          </a:xfrm>
          <a:prstGeom prst="rect">
            <a:avLst/>
          </a:prstGeom>
          <a:solidFill>
            <a:srgbClr val="e53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7130880" y="3906720"/>
            <a:ext cx="127080" cy="127080"/>
          </a:xfrm>
          <a:prstGeom prst="rect">
            <a:avLst/>
          </a:prstGeom>
          <a:solidFill>
            <a:srgbClr val="209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7130880" y="4091040"/>
            <a:ext cx="127080" cy="127080"/>
          </a:xfrm>
          <a:prstGeom prst="rect">
            <a:avLst/>
          </a:prstGeom>
          <a:solidFill>
            <a:srgbClr val="0e3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0-12-13T14:13:39Z</cp:lastPrinted>
  <dcterms:modified xsi:type="dcterms:W3CDTF">2015-09-04T12:20:13Z</dcterms:modified>
  <cp:revision>620</cp:revision>
  <dc:subject/>
  <dc:title>A Phase III Trial Comparing mFOLFOX6 to mFOLFOX6 plus Bevacizumab in Stage II or III Carcinoma of the Colon: Results of NSABP Protocol C-08</dc:title>
</cp:coreProperties>
</file>