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078A-09E3-40F5-9365-90DC66CDA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A032-94FA-4054-816E-0B36BBA31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637F18-9B7D-47A7-B8DD-DABD92426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7BD3-4BB3-4EB3-850D-0B236D9AE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EAF94C-B560-4754-8EE2-3E1F2DD6A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3C8063-8705-4FDD-AE66-66A5A4B66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2812F2-A1DE-4DE0-A952-F2B01B138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672B70-285B-41F3-8139-849134A5F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1AB657-623C-4942-95DF-0991D634D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046E4-FED0-416A-A04A-A311B1F6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27D278-51A0-433A-89E7-DA969EA7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235366-2B0B-41E1-928D-7255F13B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AC986F-2ADD-4EDD-97F9-A66BA6F87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621F6-4C29-4425-B1B4-0E400B2A3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F05D-4D12-49FE-A3F7-5041EEED4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63BFAF-473C-4E03-9D4B-14AA5706C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0C534-2EBB-4816-99B6-970D3B0DE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EAD882-E04D-4384-A975-9A4F040C3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D5838A-4D10-401C-A6D1-9111A4F2B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B51A33-C8DB-4D4B-A6F6-584A24763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1AFB1F-CBE3-4B49-9094-650A3EA17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E6B2E2-279C-4FF6-A4D0-764A34DE7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EF4F13-E214-47D9-8EAA-B98BFBF45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7653FD-5E89-497C-9277-5E8EFFA7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0E781-6BCF-4CD6-A3F4-22152D8CD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6D5966-0A21-446A-8003-4D4A994C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CA0C2B-981D-40C5-90E9-46C44B84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603F18-49B0-4793-9C79-26089937C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6AAEDA-01B6-4F31-BC10-457EF7AEE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7A3A39-166D-45BA-A2B9-708FEB71C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83C74-6DDC-4EA3-B25E-B8197661D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0456B-4AB1-4C4F-B953-9E6267761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3C0D1-822B-4540-A928-E43057F30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401DE-D0F8-4497-B25F-4F2197629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260BD-A296-4BFE-97A8-EDAB3559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9F76-546F-4F91-B9A3-0175CC31F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4F8C2-33CD-426E-B9A5-A87D6230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0C613-21C9-4E5E-AE60-F83ACBC1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B31A1-788E-4DC1-AF33-2D413C9CC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F5EBD-534F-4BF1-A862-533ABDC50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AABDD-30B6-44A5-AB64-5151220AA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72529-EF5B-4650-8F53-2E241DFDE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075B7-D332-493D-A973-492AAE660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A1F8A-D2C8-432E-84FC-3CE0B4116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EA81A-18B9-4567-839F-F18945AC3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C5D3C-A605-4F1F-8ED5-66CD2B123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2ED7-074A-4941-B8E1-38A6D4CAE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D7615-FB8E-4B9F-872C-D33FC9F2C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1CDD8-04FE-41BA-A5D4-F8F947E3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7BCCD-0F97-4B50-B86E-F59E67E4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1D54E-5D4D-4CF8-AEF8-F5AA12F0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16CA0-40B5-421C-90A8-6A8056F25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66415-FCF4-4727-BE76-E3E92D0A1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A4D0D-0418-49C1-99E4-36EEB1D91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04455-0F50-4EEC-A89E-4FA29A18B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6C778-D6A9-4A6F-8BA0-CE1BAE585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467EE-A6B5-4677-96B2-DB3090E8F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0BE1-4839-450D-A393-B5DB0782E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67288-AFBA-475C-BAEF-5CA8FC5CC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5C4A5-C42C-4C88-A4DF-1C8ED2640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DC483-3845-4E5A-8EC2-F85496D6B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471AC-A29B-4933-80F0-2B3A55A6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110EA-0D5D-426A-8941-7C9AE40F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C8E68-5E30-4AF3-BED6-C3832420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578F9-A7CD-4450-80C4-1A850B89C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22CBB-E635-47F0-A279-14792F3F0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A79A0-57EA-49D7-A178-668722312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6EEB-ABF6-4D6A-B502-BDA37F20F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C833-D5AF-43A6-8055-6BF476A80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88AC9-1E36-458B-9A32-49D66FA1A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2FAB3-E17F-4D82-9597-249B17078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857B4-2E79-4C38-B4A8-3CB255301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C4030-362F-413D-8033-215159C70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380E0-66BD-470C-8918-FC27F6416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B037F-1264-4B13-8B22-FA2B3C7C5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5C235-49C1-4BF3-9BFD-7BDE7D8A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D45E0-9197-4478-926C-B818942D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42A89-5510-4627-90BE-80101F85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052B-7569-4098-92BD-163DD5C2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30782-3677-43CD-A7E6-E659F03FB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95124-9FF2-464A-84E1-EF9CAFAAA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2AC5E-8866-450B-A3B6-C8B57EF47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6EF4-F2B6-4C17-BDBB-21013EDB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DE0A4-2E16-4A12-978C-8386C24D5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67739-2F4C-4038-BA74-3B9E9DEF0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1709A1-6225-42A4-8F0E-9B1FA4319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F6CDE-89DB-4452-B14F-FFA7F1918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C1B08-2943-4A06-9461-8F4A65D66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E81B-62D3-4BF9-BD82-C6ACB48C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FCB58-F710-4F9F-9E0D-E996C151F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C83CAE-DB7C-48E4-83E8-1840C931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99CE9-0530-4314-94CB-01088E0D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0F8A00-9476-4ED6-A3F1-7CD157508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416BD0-DA55-4745-97FE-7BAFF9ECB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164310-F5A7-4C97-82CC-EE0721D1A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6FBA90-D5A5-428B-9A7F-47ADD695E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8A6D2F-0469-4AF2-B05E-EE2C38E56E9A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58A097-139B-4526-B7E5-A19C83961A2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066053-752F-4797-A30C-AD95BAB73E8F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95201C-BB07-4A24-894E-A9D47C1862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7BBE92-8470-41CD-AD8E-E89E84D396E1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BED0D6-DCD7-4FB2-9475-CECDAE3DDF6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317595-0D91-437C-BA88-6BC37902E75A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5FE7CD-1183-4824-87B6-7BFFBDBCD4FE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E35BF0-824E-478C-8F48-112E55BF3E40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E7A8B8-27A8-4594-A5B1-7C89288C9AE6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EF4312-F7F5-4272-B02B-A02F69E5D9AF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772B00-CBFD-4BDF-8AE2-105BEC4ADF4F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2D40DB-1FB7-4ED6-9C42-E11EE98FAEB1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AA1B26-5D64-4DFF-8DF0-00DF4D7ED7A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090426-B21B-46DD-9F26-92E86FCDB8BD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B2F3FE-3F76-4C89-ADEA-B27A59415898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4"/>
          <p:cNvSpPr/>
          <p:nvPr/>
        </p:nvSpPr>
        <p:spPr>
          <a:xfrm>
            <a:off x="442800" y="714240"/>
            <a:ext cx="8226360" cy="39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365760" tIns="320040" bIns="4572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efitinib plus Chemotherapy versus Placebo plus Chemotherapy in EGFR-Mutation-Positive Non-Small-Cell Lung Cancer After Progression on First-Line Gefitinib (IMPRESS): A Phase 3 Randomised Trial</a:t>
            </a:r>
            <a:r>
              <a:rPr b="1" lang="en-US" sz="26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SPIRATION: First-Line Erlotinib (E) Until and Beyond RECIST Progression (PD) in Asian Patients (pts) with EGFR Mutation-Positive (mut+) NSCLC</a:t>
            </a:r>
            <a:r>
              <a:rPr b="1" lang="en-US" sz="2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5"/>
          <p:cNvSpPr/>
          <p:nvPr/>
        </p:nvSpPr>
        <p:spPr>
          <a:xfrm>
            <a:off x="455760" y="4707000"/>
            <a:ext cx="822636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baseline="30000">
                <a:solidFill>
                  <a:srgbClr val="464847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Soria JC et al.</a:t>
            </a:r>
            <a:br>
              <a:rPr sz="2000"/>
            </a:b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Lancet Oncol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2015;16(8):990-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baseline="30000">
                <a:solidFill>
                  <a:srgbClr val="464847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Park K et al.</a:t>
            </a:r>
            <a:br>
              <a:rPr sz="2000"/>
            </a:b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Proc ESMO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2014;Abstract 1223O</a:t>
            </a: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4"/>
          <p:cNvSpPr/>
          <p:nvPr/>
        </p:nvSpPr>
        <p:spPr>
          <a:xfrm>
            <a:off x="442800" y="714240"/>
            <a:ext cx="8226360" cy="39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365760" tIns="320040" bIns="4572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455760" y="4707000"/>
            <a:ext cx="822636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Park K et 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464847"/>
                </a:solidFill>
                <a:latin typeface="Arial"/>
              </a:rPr>
              <a:t>Proc ESMO </a:t>
            </a: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2014;Abstract 1223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3"/>
          <p:cNvSpPr/>
          <p:nvPr/>
        </p:nvSpPr>
        <p:spPr>
          <a:xfrm>
            <a:off x="442800" y="1650600"/>
            <a:ext cx="822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PIRATION: First-Line Erlotinib (E) Until and Beyond REC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gression (PD) in Asian Patients (pts) with EGFR Mutation-Positive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mut+) NSCL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96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22860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Erlotinib (E), a first-generation EGFR tyrosine kinase inhibitor, has proven efficacy as first-line therapy for patients with EGFR mutation-positive NSCLC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First-line E significantly increases progression-free survival </a:t>
            </a:r>
            <a:br>
              <a:rPr sz="2000"/>
            </a:b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when compared to chemotherapy in patients with EGFR mutation-positive NSCLC </a:t>
            </a:r>
            <a:r>
              <a:rPr b="0" lang="fr-FR" sz="2000" spc="-1" strike="noStrike">
                <a:solidFill>
                  <a:srgbClr val="464847"/>
                </a:solidFill>
                <a:latin typeface="Arial"/>
              </a:rPr>
              <a:t>(</a:t>
            </a:r>
            <a:r>
              <a:rPr b="0" i="1" lang="fr-FR" sz="2000" spc="-1" strike="noStrike">
                <a:solidFill>
                  <a:srgbClr val="464847"/>
                </a:solidFill>
                <a:latin typeface="Arial"/>
              </a:rPr>
              <a:t>Lancet Oncol </a:t>
            </a:r>
            <a:r>
              <a:rPr b="0" lang="fr-FR" sz="2000" spc="-1" strike="noStrike">
                <a:solidFill>
                  <a:srgbClr val="464847"/>
                </a:solidFill>
                <a:latin typeface="Arial"/>
              </a:rPr>
              <a:t>2012;13:239)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Discontinuation of E on disease progression may lead to rapid disease flare-up. Continued E beyond progressive disease (PD) may extend clinical benefit by slowing progression of </a:t>
            </a:r>
            <a:br>
              <a:rPr sz="2000"/>
            </a:b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 disease.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64847"/>
                </a:solidFill>
                <a:latin typeface="Arial"/>
              </a:rPr>
              <a:t>Current study objective: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Assess the efficacy and safety of first-line E until and beyond disease progression in patients with EGFR mutation-positive NSCLC. 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30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Park K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ESM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4;Abstract 1223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1" name=""/>
          <p:cNvGraphicFramePr/>
          <p:nvPr/>
        </p:nvGraphicFramePr>
        <p:xfrm>
          <a:off x="1001880" y="1889280"/>
          <a:ext cx="3929040" cy="1269720"/>
        </p:xfrm>
        <a:graphic>
          <a:graphicData uri="http://schemas.openxmlformats.org/drawingml/2006/table">
            <a:tbl>
              <a:tblPr/>
              <a:tblGrid>
                <a:gridCol w="3929040"/>
              </a:tblGrid>
              <a:tr h="39672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igibility (N = 20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873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tage IV EGFR mutation-positive NSCLC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32" name="Rectangle 31"/>
          <p:cNvSpPr/>
          <p:nvPr/>
        </p:nvSpPr>
        <p:spPr>
          <a:xfrm>
            <a:off x="849240" y="3360600"/>
            <a:ext cx="7505640" cy="2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E is administered until disease progression (RECIST) or unacceptable toxicity. At the investigator’s discretion, E may be continued beyond disease progre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64847"/>
                </a:solidFill>
                <a:latin typeface="Arial"/>
              </a:rPr>
              <a:t>Primary endpoint: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PFS1 (time to RECIST PD/dea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64847"/>
                </a:solidFill>
                <a:latin typeface="Arial"/>
              </a:rPr>
              <a:t>Secondary endpoints include: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 PFS2 (time to PD if E extended beyond PD) in all patients and in those with exon 19 deletion/L858R mutations, objective response rate (ORR), saf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going Phase II ASPIRATION Trial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5564160" y="2236680"/>
          <a:ext cx="2263680" cy="695520"/>
        </p:xfrm>
        <a:graphic>
          <a:graphicData uri="http://schemas.openxmlformats.org/drawingml/2006/table">
            <a:tbl>
              <a:tblPr/>
              <a:tblGrid>
                <a:gridCol w="2263680"/>
              </a:tblGrid>
              <a:tr h="69768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50 mg/d, 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35" name="Line 15"/>
          <p:cNvSpPr/>
          <p:nvPr/>
        </p:nvSpPr>
        <p:spPr>
          <a:xfrm>
            <a:off x="4930920" y="2584440"/>
            <a:ext cx="633240" cy="0"/>
          </a:xfrm>
          <a:prstGeom prst="line">
            <a:avLst/>
          </a:prstGeom>
          <a:ln w="28440">
            <a:solidFill>
              <a:srgbClr val="76787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Park K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ESM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4;Abstract 1223O (abstract only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9"/>
          <p:cNvSpPr/>
          <p:nvPr/>
        </p:nvSpPr>
        <p:spPr>
          <a:xfrm>
            <a:off x="1028880" y="1384200"/>
            <a:ext cx="18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NCT013100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31"/>
          <p:cNvSpPr/>
          <p:nvPr/>
        </p:nvSpPr>
        <p:spPr>
          <a:xfrm>
            <a:off x="674640" y="3556080"/>
            <a:ext cx="7958160" cy="17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ct val="95000"/>
              </a:lnSpc>
              <a:spcBef>
                <a:spcPts val="40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Median follow-up: 213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40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Median PFS2 (n = 81): 13.0 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40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Patients with exon 19 del/L858R mutations median PFS2 (n = 54): 13.1 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40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Difference between PFS1 and PFS2 in patients receiving post-PD </a:t>
            </a:r>
            <a:br>
              <a:rPr sz="1800"/>
            </a:b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E: 3.7 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40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Overall survival data are imm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9" name=""/>
          <p:cNvGraphicFramePr/>
          <p:nvPr/>
        </p:nvGraphicFramePr>
        <p:xfrm>
          <a:off x="662040" y="1371600"/>
          <a:ext cx="7821720" cy="2077920"/>
        </p:xfrm>
        <a:graphic>
          <a:graphicData uri="http://schemas.openxmlformats.org/drawingml/2006/table">
            <a:tbl>
              <a:tblPr/>
              <a:tblGrid>
                <a:gridCol w="5705280"/>
                <a:gridCol w="2116440"/>
              </a:tblGrid>
              <a:tr h="55260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ian PFS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152532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ll patients (n = 20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atients with exon 19 del/L858R mutations (n = 14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atients receiving post-PD E (n = 8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atients not receiving post-PD E (n = 6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0.8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1.0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9.3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.2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vival Outc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Park K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ESM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4;Abstract 1223O (abstract only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2" name=""/>
          <p:cNvGraphicFramePr/>
          <p:nvPr/>
        </p:nvGraphicFramePr>
        <p:xfrm>
          <a:off x="771480" y="1625760"/>
          <a:ext cx="7572600" cy="2307960"/>
        </p:xfrm>
        <a:graphic>
          <a:graphicData uri="http://schemas.openxmlformats.org/drawingml/2006/table">
            <a:tbl>
              <a:tblPr/>
              <a:tblGrid>
                <a:gridCol w="3706920"/>
                <a:gridCol w="1716120"/>
                <a:gridCol w="2149560"/>
              </a:tblGrid>
              <a:tr h="69516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pons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-PD E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8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post-PD E 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6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85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depth of 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-49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-38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0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time from baseline to BOR (n = 79, 6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5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9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87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time from BOR to PFS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40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05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ponse to 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Park K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ESM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4;Abstract 1223O (abstract only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31"/>
          <p:cNvSpPr/>
          <p:nvPr/>
        </p:nvSpPr>
        <p:spPr>
          <a:xfrm>
            <a:off x="758880" y="4029120"/>
            <a:ext cx="7711920" cy="11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BOR = best objective 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ORR (all patients): 65.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Disease control rate: 82.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2286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Grade ≥3 AEs occurred in 45.4% of patients.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Grade 5 AEs: 3.4%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erious AEs: 23.7%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 most common treatment-related Grade ≥3 AEs were skin disorders (15.9%) and GI disorders (2.9%).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These were more common (all grades) in patients receiving </a:t>
            </a:r>
            <a:br>
              <a:rPr sz="1800"/>
            </a:b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post-PD E than in those not receiving post-PD E. 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More patients without post-PD E (11%) had new lung lesions </a:t>
            </a:r>
            <a:br>
              <a:rPr sz="2000"/>
            </a:b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at PFS1 than did patients who received post-PD E (5%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erse Events (A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Park K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ESM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4;Abstract 1223O (abstract only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2286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 ASPIRATION data show that continuing E beyond RECIST PD is feasible, with a difference between PFS1 and PFS2 of 3.7 months in patients receiving post-PD E.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However, validation of the optimal patient subset to benefit from post-PD E requires further research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Park K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ESM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4;Abstract 1223O (abstract only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4"/>
          <p:cNvSpPr/>
          <p:nvPr/>
        </p:nvSpPr>
        <p:spPr>
          <a:xfrm>
            <a:off x="442800" y="419040"/>
            <a:ext cx="8226360" cy="42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365760" tIns="320040" bIns="4572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efitinib plus Chemotherapy versus Placebo plus Chemotherapy in EGFR-Mutation-Positive Non-Small-Cell Lung Cancer After Progression on First-Line Gefitinib (IMPRESS):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Phase 3 Randomised T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5"/>
          <p:cNvSpPr/>
          <p:nvPr/>
        </p:nvSpPr>
        <p:spPr>
          <a:xfrm>
            <a:off x="455760" y="4707000"/>
            <a:ext cx="822636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oria JC et 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464847"/>
                </a:solidFill>
                <a:latin typeface="Arial"/>
              </a:rPr>
              <a:t>Lancet</a:t>
            </a: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464847"/>
                </a:solidFill>
                <a:latin typeface="Arial"/>
              </a:rPr>
              <a:t>Oncol</a:t>
            </a: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 2015;16(8);990-8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oria JC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Lancet Onco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5;16(8):990-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2286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Most patients with EGFR mutation-positive NSCLC initially respond to first-line EGFR tyrosine kinase inhibitor (TKI) therapy but later develop TKI resistance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reatment options for after acquired resistance to therapy </a:t>
            </a:r>
            <a:br>
              <a:rPr sz="2000"/>
            </a:b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include continuation of the TKI with platinum-based doublet chemotherapy or discontinuation of the TKI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 continuation of EGFR TKI therapy may be beneficial because of potential tumor heterogeneity at the time of resistance (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Lung Cancer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2013;80:306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64847"/>
                </a:solidFill>
                <a:latin typeface="Arial"/>
              </a:rPr>
              <a:t>Current study objective: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Assess the efficacy and safety of continuing gefitinib in combination with chemotherapy versus chemotherapy alone for patients with acquired resistance to first-line gefitinib. 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5" name=""/>
          <p:cNvGraphicFramePr/>
          <p:nvPr/>
        </p:nvGraphicFramePr>
        <p:xfrm>
          <a:off x="770040" y="1449360"/>
          <a:ext cx="3281400" cy="2749680"/>
        </p:xfrm>
        <a:graphic>
          <a:graphicData uri="http://schemas.openxmlformats.org/drawingml/2006/table">
            <a:tbl>
              <a:tblPr/>
              <a:tblGrid>
                <a:gridCol w="3281400"/>
              </a:tblGrid>
              <a:tr h="39672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igibility (n = 26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2527200">
                <a:tc>
                  <a:txBody>
                    <a:bodyPr lIns="90000" rIns="90000" anchor="ctr">
                      <a:noAutofit/>
                    </a:bodyPr>
                    <a:p>
                      <a:pPr marL="179280" indent="-179280">
                        <a:lnSpc>
                          <a:spcPct val="95000"/>
                        </a:lnSpc>
                        <a:spcBef>
                          <a:spcPts val="1074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dvanced NSCL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lnSpc>
                          <a:spcPct val="95000"/>
                        </a:lnSpc>
                        <a:spcBef>
                          <a:spcPts val="1074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ctivating EGFR mu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lnSpc>
                          <a:spcPct val="95000"/>
                        </a:lnSpc>
                        <a:spcBef>
                          <a:spcPts val="1074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Disease progression after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first-line gefitini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lnSpc>
                          <a:spcPct val="95000"/>
                        </a:lnSpc>
                        <a:spcBef>
                          <a:spcPts val="1074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Chemotherapy naï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6" name=""/>
          <p:cNvGraphicFramePr/>
          <p:nvPr/>
        </p:nvGraphicFramePr>
        <p:xfrm>
          <a:off x="5737320" y="1515960"/>
          <a:ext cx="2708280" cy="1059120"/>
        </p:xfrm>
        <a:graphic>
          <a:graphicData uri="http://schemas.openxmlformats.org/drawingml/2006/table">
            <a:tbl>
              <a:tblPr/>
              <a:tblGrid>
                <a:gridCol w="2708280"/>
              </a:tblGrid>
              <a:tr h="1059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Gefitinib + cisplatin + pemetrexe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(n = 13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97" name="Line 2"/>
          <p:cNvSpPr/>
          <p:nvPr/>
        </p:nvSpPr>
        <p:spPr>
          <a:xfrm>
            <a:off x="4051440" y="2749680"/>
            <a:ext cx="1358640" cy="0"/>
          </a:xfrm>
          <a:prstGeom prst="line">
            <a:avLst/>
          </a:prstGeom>
          <a:ln w="28440">
            <a:solidFill>
              <a:srgbClr val="767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Group 13"/>
          <p:cNvGrpSpPr/>
          <p:nvPr/>
        </p:nvGrpSpPr>
        <p:grpSpPr>
          <a:xfrm>
            <a:off x="5415120" y="1929960"/>
            <a:ext cx="322200" cy="655560"/>
            <a:chOff x="5415120" y="1929960"/>
            <a:chExt cx="322200" cy="655560"/>
          </a:xfrm>
        </p:grpSpPr>
        <p:sp>
          <p:nvSpPr>
            <p:cNvPr id="499" name="Line 14"/>
            <p:cNvSpPr/>
            <p:nvPr/>
          </p:nvSpPr>
          <p:spPr>
            <a:xfrm flipV="1">
              <a:off x="5415120" y="1929960"/>
              <a:ext cx="0" cy="655560"/>
            </a:xfrm>
            <a:prstGeom prst="line">
              <a:avLst/>
            </a:prstGeom>
            <a:ln w="28440">
              <a:solidFill>
                <a:srgbClr val="76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Line 15"/>
            <p:cNvSpPr/>
            <p:nvPr/>
          </p:nvSpPr>
          <p:spPr>
            <a:xfrm>
              <a:off x="5415120" y="1930320"/>
              <a:ext cx="322200" cy="0"/>
            </a:xfrm>
            <a:prstGeom prst="line">
              <a:avLst/>
            </a:prstGeom>
            <a:ln w="28440">
              <a:solidFill>
                <a:srgbClr val="76787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Group 16"/>
          <p:cNvGrpSpPr/>
          <p:nvPr/>
        </p:nvGrpSpPr>
        <p:grpSpPr>
          <a:xfrm>
            <a:off x="5415120" y="2270880"/>
            <a:ext cx="322200" cy="1279080"/>
            <a:chOff x="5415120" y="2270880"/>
            <a:chExt cx="322200" cy="1279080"/>
          </a:xfrm>
        </p:grpSpPr>
        <p:sp>
          <p:nvSpPr>
            <p:cNvPr id="502" name="Line 17"/>
            <p:cNvSpPr/>
            <p:nvPr/>
          </p:nvSpPr>
          <p:spPr>
            <a:xfrm>
              <a:off x="5415120" y="2270880"/>
              <a:ext cx="0" cy="1279080"/>
            </a:xfrm>
            <a:prstGeom prst="line">
              <a:avLst/>
            </a:prstGeom>
            <a:ln w="28440">
              <a:solidFill>
                <a:srgbClr val="76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18"/>
            <p:cNvSpPr/>
            <p:nvPr/>
          </p:nvSpPr>
          <p:spPr>
            <a:xfrm>
              <a:off x="5415120" y="3549600"/>
              <a:ext cx="322200" cy="0"/>
            </a:xfrm>
            <a:prstGeom prst="line">
              <a:avLst/>
            </a:prstGeom>
            <a:ln w="28440">
              <a:solidFill>
                <a:srgbClr val="76787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04" name=""/>
          <p:cNvGraphicFramePr/>
          <p:nvPr/>
        </p:nvGraphicFramePr>
        <p:xfrm>
          <a:off x="5737320" y="2954160"/>
          <a:ext cx="2708280" cy="979560"/>
        </p:xfrm>
        <a:graphic>
          <a:graphicData uri="http://schemas.openxmlformats.org/drawingml/2006/table">
            <a:tbl>
              <a:tblPr/>
              <a:tblGrid>
                <a:gridCol w="2708280"/>
              </a:tblGrid>
              <a:tr h="979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lacebo + cisplatin + pemetrexe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(n = 13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05" name="Oval 4"/>
          <p:cNvSpPr/>
          <p:nvPr/>
        </p:nvSpPr>
        <p:spPr>
          <a:xfrm>
            <a:off x="4262400" y="2249640"/>
            <a:ext cx="1004760" cy="100332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ase III IMPRESS Trial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Rectangle 31"/>
          <p:cNvSpPr/>
          <p:nvPr/>
        </p:nvSpPr>
        <p:spPr>
          <a:xfrm>
            <a:off x="741240" y="4641840"/>
            <a:ext cx="771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64847"/>
                </a:solidFill>
                <a:latin typeface="Arial"/>
              </a:rPr>
              <a:t>Primary endpoint: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Progression-free survival (PF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64847"/>
                </a:solidFill>
                <a:latin typeface="Arial"/>
              </a:rPr>
              <a:t>Secondary endpoints include: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Overall survival (OS), objective response rate (ORR), disease control rate (DCR), safety and toler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oria JC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Lancet Onco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5;16(8):990-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9" name=""/>
          <p:cNvGraphicFramePr/>
          <p:nvPr/>
        </p:nvGraphicFramePr>
        <p:xfrm>
          <a:off x="800280" y="1574640"/>
          <a:ext cx="7556400" cy="3327480"/>
        </p:xfrm>
        <a:graphic>
          <a:graphicData uri="http://schemas.openxmlformats.org/drawingml/2006/table">
            <a:tbl>
              <a:tblPr/>
              <a:tblGrid>
                <a:gridCol w="3873240"/>
                <a:gridCol w="1841760"/>
                <a:gridCol w="1841400"/>
              </a:tblGrid>
              <a:tr h="97344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fitin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3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ceb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3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558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duration of chemothera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17 d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22 d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33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duration of gefitinib or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lacebo in combination with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cisplatin/pemetrex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52.5 d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61.5 d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761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number of chemotherapy cycles (rang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 (3-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 (2-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ration of Treat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oria JC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Lancet Onco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5;16(8):990-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2" name=""/>
          <p:cNvGraphicFramePr/>
          <p:nvPr/>
        </p:nvGraphicFramePr>
        <p:xfrm>
          <a:off x="787320" y="1841400"/>
          <a:ext cx="7556760" cy="2413080"/>
        </p:xfrm>
        <a:graphic>
          <a:graphicData uri="http://schemas.openxmlformats.org/drawingml/2006/table">
            <a:tbl>
              <a:tblPr/>
              <a:tblGrid>
                <a:gridCol w="1575000"/>
                <a:gridCol w="1587240"/>
                <a:gridCol w="1524240"/>
                <a:gridCol w="1562040"/>
                <a:gridCol w="1308240"/>
              </a:tblGrid>
              <a:tr h="91440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ponse 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fitin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3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ceb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3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dds rat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747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OR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09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DC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ponse in the Intent-to-Treat 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oria JC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Lancet Onco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5;16(8):990-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5" name=""/>
          <p:cNvGraphicFramePr/>
          <p:nvPr/>
        </p:nvGraphicFramePr>
        <p:xfrm>
          <a:off x="774720" y="1739880"/>
          <a:ext cx="7556400" cy="2400480"/>
        </p:xfrm>
        <a:graphic>
          <a:graphicData uri="http://schemas.openxmlformats.org/drawingml/2006/table">
            <a:tbl>
              <a:tblPr/>
              <a:tblGrid>
                <a:gridCol w="1574640"/>
                <a:gridCol w="1495440"/>
                <a:gridCol w="1495440"/>
                <a:gridCol w="1495440"/>
                <a:gridCol w="1495440"/>
              </a:tblGrid>
              <a:tr h="85104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tc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fitinib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3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cebo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3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zard rat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772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P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.4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.4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6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OS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4.8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7.2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vival Outc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1"/>
          <p:cNvSpPr/>
          <p:nvPr/>
        </p:nvSpPr>
        <p:spPr>
          <a:xfrm>
            <a:off x="749160" y="4284720"/>
            <a:ext cx="73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*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Data are immature and inconclusive and follow-up is ongo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oria JC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Lancet Onco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5;16(8):990-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9" name=""/>
          <p:cNvGraphicFramePr/>
          <p:nvPr/>
        </p:nvGraphicFramePr>
        <p:xfrm>
          <a:off x="838080" y="1523880"/>
          <a:ext cx="7506000" cy="3781440"/>
        </p:xfrm>
        <a:graphic>
          <a:graphicData uri="http://schemas.openxmlformats.org/drawingml/2006/table">
            <a:tbl>
              <a:tblPr/>
              <a:tblGrid>
                <a:gridCol w="2070360"/>
                <a:gridCol w="1358640"/>
                <a:gridCol w="1359000"/>
                <a:gridCol w="1359000"/>
                <a:gridCol w="1359000"/>
              </a:tblGrid>
              <a:tr h="378000">
                <a:tc rowSpan="2"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fitinib (n = 13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cebo (n = 13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e ≥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e ≥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79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aus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8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Vomi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77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nem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8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eutrop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77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Diarrh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9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Leukop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78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Increased 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7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Increased A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Adverse Ev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oria JC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Lancet Onco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5;16(8):990-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42440" y="1201320"/>
            <a:ext cx="8226360" cy="4521240"/>
          </a:xfrm>
          <a:prstGeom prst="rect">
            <a:avLst/>
          </a:prstGeom>
          <a:noFill/>
          <a:ln w="0">
            <a:noFill/>
          </a:ln>
        </p:spPr>
        <p:txBody>
          <a:bodyPr lIns="457200" tIns="228600" anchor="t">
            <a:normAutofit/>
          </a:bodyPr>
          <a:p>
            <a:pPr marL="343080" indent="-343080">
              <a:spcBef>
                <a:spcPts val="476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464847"/>
                </a:solidFill>
                <a:latin typeface="Arial"/>
              </a:rPr>
              <a:t>IMPRESS is the first randomized Phase III trial to compare the continuation of gefitinib in combination with chemotherapy to chemotherapy alone for patients with advanced EGFR mutation-positive NSCLC with acquired resistance to first-line gefitinib.</a:t>
            </a:r>
            <a:endParaRPr b="0" lang="en-US" sz="19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464847"/>
                </a:solidFill>
                <a:latin typeface="Arial"/>
              </a:rPr>
              <a:t>There was no statistically significant improvement in PFS, </a:t>
            </a:r>
            <a:br>
              <a:rPr sz="1900"/>
            </a:br>
            <a:r>
              <a:rPr b="0" lang="en-US" sz="1900" spc="-1" strike="noStrike">
                <a:solidFill>
                  <a:srgbClr val="464847"/>
                </a:solidFill>
                <a:latin typeface="Arial"/>
              </a:rPr>
              <a:t>ORR or DCR with the continuation of gefitinib in this patient population.</a:t>
            </a:r>
            <a:endParaRPr b="0" lang="en-US" sz="19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464847"/>
                </a:solidFill>
                <a:latin typeface="Arial"/>
              </a:rPr>
              <a:t>OS data are immature and inconclusive.</a:t>
            </a:r>
            <a:endParaRPr b="0" lang="en-US" sz="19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464847"/>
                </a:solidFill>
                <a:latin typeface="Arial"/>
              </a:rPr>
              <a:t>The safety profile for the gefitinib arm is in line with what is known.</a:t>
            </a:r>
            <a:endParaRPr b="0" lang="en-US" sz="19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464847"/>
                </a:solidFill>
                <a:latin typeface="Arial"/>
              </a:rPr>
              <a:t>Platinum-based doublet chemotherapy remains the standard in </a:t>
            </a:r>
            <a:br>
              <a:rPr sz="1900"/>
            </a:br>
            <a:r>
              <a:rPr b="0" lang="en-US" sz="1900" spc="-1" strike="noStrike">
                <a:solidFill>
                  <a:srgbClr val="464847"/>
                </a:solidFill>
                <a:latin typeface="Arial"/>
              </a:rPr>
              <a:t>this setting.</a:t>
            </a:r>
            <a:endParaRPr b="0" lang="en-US" sz="19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24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oria JC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Lancet Onco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5;16(8):990-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4T13:28:02Z</dcterms:created>
  <dc:creator>tamara dabney</dc:creator>
  <dc:description/>
  <dc:language>en-US</dc:language>
  <cp:lastModifiedBy>RTP20</cp:lastModifiedBy>
  <cp:lastPrinted>2015-09-18T12:30:23Z</cp:lastPrinted>
  <dcterms:modified xsi:type="dcterms:W3CDTF">2015-09-18T12:30:26Z</dcterms:modified>
  <cp:revision>570</cp:revision>
  <dc:subject/>
  <dc:title>A Phase III Trial Comparing mFOLFOX6 to mFOLFOX6 plus Bevacizumab in Stage II or III Carcinoma of the Colon: Results of NSABP Protocol C-08</dc:title>
</cp:coreProperties>
</file>