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D7E-DDD8-46D0-8BEB-0C686C5B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CC9-5A63-411D-A3AD-42D9941D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2CE-F686-4FAB-AA10-62ACF92F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8ED-4F69-42D9-83BE-BF1CAE95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AB0A-94A2-4791-B1C1-F31CF635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317D-9C6A-4A1B-9F33-69DFE7F0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26A2-9A01-4106-A9F0-E859F445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7629-08AC-4F32-80BD-EDC203C2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D733-C36B-402B-9144-5BCAE8FB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C630-3928-40B3-9801-55063492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31F-9C66-4C22-AF87-EA08A4AE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5FF8-E0AD-43EF-9D3E-96A60F46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3353-E9F3-4508-ACDF-5CEF18A4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F530-573C-49C3-A95D-6EFF2CFD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03D6-094F-4A4A-BBA0-BB1DD0D9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F7D0-C09C-4E00-A138-DE7E7960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0A46-3E57-424D-9F81-71998945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21CD-6111-4CC6-8B6A-27CDEBF8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C8C6-5C33-4FCE-9935-522190CF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5AA-3CC1-43BE-B741-28783279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09DD-974E-44C8-8A33-4D26C43B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E28-E27F-4B3A-9E39-532E6D2C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DDA-9FCB-4715-A2C4-E475F166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30B-4110-42F9-BA61-84A637B7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1D3BF-8F30-471B-91E6-D26E88113FB8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BA210-2C3B-4440-860E-736FEB6B411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ED5CD-DC15-4513-B496-52544944A900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71281-17E2-462C-8805-BE6E717EBFE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442800" y="714240"/>
            <a:ext cx="833292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mpact of Specific Epidermal Growth Factor Receptor (EGFR) Mutations and Clinical Characteristics on Outcomes After Treatment with EGFR Tyrosine Kinase Inhibitors versus Chemotherapy in EGFR-Mutant Lung Cancer: A Meta-Analys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Lee CK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J Clin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5;33(17):1958-6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1"/>
          <p:cNvSpPr/>
          <p:nvPr/>
        </p:nvSpPr>
        <p:spPr>
          <a:xfrm>
            <a:off x="831960" y="4703760"/>
            <a:ext cx="784224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R &lt; 1.0 favors EGFR TKI over chemothera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d to chemotherapy, EGFR TKI treatment demonstrated a 27% greater benefit in women than men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0.0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27000" y="1333440"/>
          <a:ext cx="7365960" cy="3292560"/>
        </p:xfrm>
        <a:graphic>
          <a:graphicData uri="http://schemas.openxmlformats.org/drawingml/2006/table">
            <a:tbl>
              <a:tblPr/>
              <a:tblGrid>
                <a:gridCol w="2855880"/>
                <a:gridCol w="2254320"/>
                <a:gridCol w="225576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 (fema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 (ma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ll 7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J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JTOG 3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PT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URT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UX-Lung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UX-Lung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N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Treatment on PFS According to 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e C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33(17):1958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e C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33(17):1958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urvival (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t the point of data analysis, several trials had preliminary OS data, and some patients are still undergoing active follow-up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data for OS remained immature for many of the studies analyzed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 OS data for the ENSURE trial were not available at time of analysi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With the available preliminary OS data from the remaining 6 trials, treatment with EGFR TKIs did not demonstrate a statistically significant reduction in the risk of death in comparison to chemo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R = 1.01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0.88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1"/>
          <p:cNvSpPr/>
          <p:nvPr/>
        </p:nvSpPr>
        <p:spPr>
          <a:xfrm>
            <a:off x="825480" y="4530600"/>
            <a:ext cx="768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re were no significant correlations between EGFR mutation type and age, performance status, sex, histology or smoking hi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14400" y="1676520"/>
          <a:ext cx="7365960" cy="2603520"/>
        </p:xfrm>
        <a:graphic>
          <a:graphicData uri="http://schemas.openxmlformats.org/drawingml/2006/table">
            <a:tbl>
              <a:tblPr/>
              <a:tblGrid>
                <a:gridCol w="1625760"/>
                <a:gridCol w="1434960"/>
                <a:gridCol w="1434960"/>
                <a:gridCol w="1435320"/>
                <a:gridCol w="1434960"/>
              </a:tblGrid>
              <a:tr h="4888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nical 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TKI (n = 3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therapy (n = 34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 19 de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0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858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 19 de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858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88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PFS Data from 4 Trials: NEJ002, WJTOG 3405, OPTIMAL and EURT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e C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33(17):1958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This meta-analysis demonstrates that exon 19 deletion and exon </a:t>
            </a:r>
            <a:br>
              <a:rPr sz="1900"/>
            </a:b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21 L858R substitution mutations have different prognostic and predictive roles and hence are important as a stratification factor in future clinical trials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Compared to chemotherapy, EGFR TKIs yielded a significantly greater prolongation of PFS in all patients with advanced NSCLC and EGFR mutations. 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The relative benefits of EGFR TKIs compared to chemotherapy were greatest in patients with exon 19 deletions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Also, a greater PFS benefit with EGFR TKIs compared to chemotherapy was seen in never smokers and women. 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These findings have important implications for clinical trial design and interpretation, economic analyses and future drug development for patients with EGFR mutation-positive, advanced NSCLC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e C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33(17):1958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e C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33(17):1958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everal studies have consistently demonstrated longer progression-free survival (PFS) with EGFR tyrosine kinase inhibitors (TKIs) versus chemotherapy in advanced EGFR-mutant NSCLC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13;31:3327;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NCI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13;105:595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oth common and uncommon EGFR mutation types are used to stratify patients in many trials of EGFR TKI 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dividual randomized trials were neither designed nor adequately powered to show treatment differences according to specific mutations or other clinicopathologic characteristic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xamine the impact of EGFR mutation type and different clinical characteristics on PFS in patients with advanced EGFR-mutant NSCLC who received first-line EGFR TKI therapy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e C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33(17):1958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 fontScale="99000"/>
          </a:bodyPr>
          <a:p>
            <a:pPr marL="339480" indent="-3394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Studies included 7 randomized trials that compared EGFR TKIs to platinum-based combination chemotherapy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were adults with good performance status and newly diagnosed advanced EGFR-mutant NSCLC (n = 1,649)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Several database engines were searched for articles published in English between January 1, 2004 and February 28, 2014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Extracted information from each eligible trial included clinical characteristics, type of chemotherapy and EGFR TKI and treatment outcomes according to clinical characteristic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Data were independently extracted by 2 authors and discrepancies resolved by a third author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Independently assessed PFS data were used rather than investigator-assessed PFS whenever both types of data were available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e C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33(17):1958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Methods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ubgroups with statistically significant heterogeneity in treatment effect were examined further using individual patient data from 4 trials: NEJ002, OPTIMAL, EURTAC and WJTOG 3405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omparisons between EGFR mutations with exon 19 deletions versus exon 21 L858R substitution, with respect to baseline characteristics, involved data from the 4 trial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Updated individual patient data from the NEJ002 and OPTIMAL trials were used for subgroup result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dividual patient data with longer follow-up than previously published for the EURTAC and WJTOG 3405 trials were us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1"/>
          <p:cNvSpPr/>
          <p:nvPr/>
        </p:nvSpPr>
        <p:spPr>
          <a:xfrm>
            <a:off x="825480" y="4556160"/>
            <a:ext cx="784224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28 patients were recruited, but PFS was only reported for 224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 = carboplatin; P = paclitaxel; Cis = cisplatin; D = docetaxel; Plat = platinum; G = gemcitabine; Pem = pemetrexed; mPFS = median P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1447920"/>
          <a:ext cx="7632720" cy="3085920"/>
        </p:xfrm>
        <a:graphic>
          <a:graphicData uri="http://schemas.openxmlformats.org/drawingml/2006/table">
            <a:tbl>
              <a:tblPr/>
              <a:tblGrid>
                <a:gridCol w="2830320"/>
                <a:gridCol w="698400"/>
                <a:gridCol w="2732400"/>
                <a:gridCol w="1371600"/>
              </a:tblGrid>
              <a:tr h="3855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 III trial (pub year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PFS (mo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85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J002 (2010, 201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4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Gefitinib vs C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8 vs 5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JTOG 3405 (2010, 201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Gefitinib vs Cis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6 vs 6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85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PTIMAL (2011, 201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lotinib vs C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1 vs 4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URTAC (201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lotinib vs PlatG or Plat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7 vs 5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85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UX-Lung 3 (201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4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fatinib vs CisPe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1 vs 6.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UX-Lung 6 (201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6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fatinib vs Cis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0 vs 5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85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NSURE (201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lotinib vs Cis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0 vs 5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e C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33(17):1958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e C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33(17):1958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Characteristics and Treatment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ll trials except NEJ002, LUX-Lung 3 and LUX-Lung 6 recruited only patients with the 2 common EGFR mutations, exon 19 deletions and exon 21 L858R substituti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reatment with EGFR TKIs compared to chemotherapy was statistically significantly associated with a 63% reduction in the risk of disease progression or death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azard ratio (HR) = 0.37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 &lt;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0.001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improvement in PFS with EGFR TKI therapy compared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o chemotherapy did not differ by ethnicity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= 0.37), age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= 0.27), tumor histology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= 0.59) or performance status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= 0.85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736560" y="1473120"/>
          <a:ext cx="7709040" cy="3848040"/>
        </p:xfrm>
        <a:graphic>
          <a:graphicData uri="http://schemas.openxmlformats.org/drawingml/2006/table">
            <a:tbl>
              <a:tblPr/>
              <a:tblGrid>
                <a:gridCol w="2527200"/>
                <a:gridCol w="2235240"/>
                <a:gridCol w="2946600"/>
              </a:tblGrid>
              <a:tr h="4129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l patients (n = 1,6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50 (5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99 (4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sub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on 19 dele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858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87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ith common EGFR mutations (n = 1,5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72 (5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86 (4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ver smo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/former smo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87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l patients (n = 1,6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,155 (7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94 (3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2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l patients (n = 1,6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,073 (6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6 (3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e C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33(17):1958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1"/>
          <p:cNvSpPr/>
          <p:nvPr/>
        </p:nvSpPr>
        <p:spPr>
          <a:xfrm>
            <a:off x="952560" y="4759200"/>
            <a:ext cx="784224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R &lt; 1.0 favors EGFR TKI over chemothera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d to chemotherapy, EGFR TKIs demonstrated 50% greater benefit in exon 19 deletions than L858R substitution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&lt; 0.00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39960" y="1333440"/>
          <a:ext cx="7111800" cy="3301920"/>
        </p:xfrm>
        <a:graphic>
          <a:graphicData uri="http://schemas.openxmlformats.org/drawingml/2006/table">
            <a:tbl>
              <a:tblPr/>
              <a:tblGrid>
                <a:gridCol w="1760400"/>
                <a:gridCol w="3173400"/>
                <a:gridCol w="2178000"/>
              </a:tblGrid>
              <a:tr h="3668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 (exon 19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 (L858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ll 7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J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JTOG 3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PT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URT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UX-Lung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UX-Lung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N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Treatment on PFS According to EGFR Mutation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e C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33(17):1958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1"/>
          <p:cNvSpPr/>
          <p:nvPr/>
        </p:nvSpPr>
        <p:spPr>
          <a:xfrm>
            <a:off x="914400" y="4707000"/>
            <a:ext cx="784224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R &lt; 1.0 favors EGFR TKI over chemothera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d to chemotherapy, EGFR TKIs demonstrated a 36% greater benefit in never smokers than current or former smokers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0.00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14400" y="1359000"/>
          <a:ext cx="7404120" cy="3292200"/>
        </p:xfrm>
        <a:graphic>
          <a:graphicData uri="http://schemas.openxmlformats.org/drawingml/2006/table">
            <a:tbl>
              <a:tblPr/>
              <a:tblGrid>
                <a:gridCol w="1582560"/>
                <a:gridCol w="1941840"/>
                <a:gridCol w="1939680"/>
                <a:gridCol w="194004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 (ne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 (current or form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ll 7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J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JTOG 3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PT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URT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4 (curr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9 (form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UX-Lung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4 (curr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0 (form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UX-Lung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6 (curr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9 (form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N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Treatment on PFS According to Smoking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e C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5;33(17):1958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tamara dabney</dc:creator>
  <dc:description/>
  <dc:language>en-US</dc:language>
  <cp:lastModifiedBy>RTP20</cp:lastModifiedBy>
  <cp:lastPrinted>2015-08-28T17:49:26Z</cp:lastPrinted>
  <dcterms:modified xsi:type="dcterms:W3CDTF">2015-09-17T12:18:11Z</dcterms:modified>
  <cp:revision>598</cp:revision>
  <dc:subject/>
  <dc:title>A Phase III Trial Comparing mFOLFOX6 to mFOLFOX6 plus Bevacizumab in Stage II or III Carcinoma of the Colon: Results of NSABP Protocol C-08</dc:title>
</cp:coreProperties>
</file>