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3A8-32CE-4832-8928-95535008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B10-6CAF-4D33-A30D-0BEA715D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0B16-F9BD-4DBA-80DE-D80BD2BE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880-33F2-477C-A732-8EE91D0F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ED80-9971-46CE-9985-50D13EA6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7FA8-A27D-48C0-89F2-8410390B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50B8-6711-4E0B-A38F-C7448047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1CD2-738A-40F5-8F01-5004553B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EEBA-569C-4217-839A-EC921BC2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9CCC-8221-4253-86A9-3075EBD0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63D4-7D4A-47D2-AF14-1C1BF1C4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06BA-AE99-49FF-9F97-F0B0598E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C99D-95C8-48DC-AA5A-6D30EFF5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67EA-1D2F-4B7A-B50F-4397B065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A024-4985-48F9-941B-8B8D0DD6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2929-E62B-48DC-B09A-02936DD9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D7CF-5732-4C2A-96C7-9CC930C7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00DC-E5AE-49BD-B9CE-1F506E9E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53E6F-51D6-42C0-9B9C-C4452AB4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3C4E9-3280-4FE6-9F2A-1794DEFC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70A62-7AA3-4065-A4B7-CCA0F239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5CF-57FA-4AC2-B400-82CBB777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79516-D326-407C-8DD6-478682EC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86421-A05C-40AC-85EE-EC76B351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4ECF3-1BA4-4EE8-97DA-21EC3194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EE456-79E0-4F95-A85D-7284C034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B92E6-04AB-4C4C-B42F-E9C53BDC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F5EEC-256C-4033-8B7A-F7A397C6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7B386-BA31-43AD-A0B7-02C56AA8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2DF58-0A10-488A-B10C-DAAABD9F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1DCE8-356E-40A4-9445-8D9360A3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897-EC82-4A08-AFAA-E62E42B7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08C-121E-4642-B93C-954A72D7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EF220-3239-4C7C-B0AD-11B01B37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A7AE1-369B-4852-9FA1-965AB550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65045-AF5D-4B60-A4B2-D5970578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C1A7E-55BD-4AF9-9FAE-A3A8938C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C4EE5-1DFC-4D4E-BD05-256CF8EE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479A6-2442-4E06-89E8-FC1B6339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6127E-C694-4C7D-A328-4DC1C45A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D958F-2951-4B46-8EB9-F38C70D9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C4C2B-35A0-45B2-979A-FBFB8DF9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D11-9C18-4792-9C7B-3CB0EC54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FEE72-1B9A-41FD-8F92-0DBF0B56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E739E-12C6-4D41-9C70-F3153433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6A029-186B-4B30-88D2-8F399834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3F4-EAA8-4EFC-A460-BC4DD8C8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F4A7-40E1-4BAA-A3D1-BD3FE78C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D3F0B4-19B2-4DE8-8E9E-D0FE2A9C0AA9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DC723-70F4-4B6C-A3A0-699828DE361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401B5-430F-4B2D-9CE8-DCAEFAAA09F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E129B-3024-4D4E-A829-06FB5C13B4D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C9A3C-2A53-4F5B-B4B1-6E7223F55CA8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5CB4F-A6BF-4349-BBE9-686A9BAA8FC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25C52-9F71-443F-B508-A23445C39BF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DAEF3-7359-4607-AAA6-50D98A12DC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ical Trials Combining an Anti-PD-1 or Anti-PD-L1 Antibody with Another Immunotherapeutic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ntonia SJ et al.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5;Abstract 30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lanchard D et al.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5;Abstract TPS81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tnaik A et al.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5;Abstract 8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izvi NA et al.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roc IASLC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5;Abstract ORAL02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hase III Study of MEDI4736 (M), an Anti-PD-L1 Antibody, as Monotherapy or in Combination with Tremelimumab (T), versus Standard of Care (SOC) in Patients (pts) with Advanced Non-Small Cell Lung Cancer (NSCLC) Who Have Received at Least Two Prior Systemic Treatment Regimens (ARC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Planchard D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5;Abstract TPS810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going Phase III ARCTIC Trial Design (NCT0235294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1"/>
          <p:cNvSpPr/>
          <p:nvPr/>
        </p:nvSpPr>
        <p:spPr>
          <a:xfrm>
            <a:off x="6199200" y="2960640"/>
            <a:ext cx="2203560" cy="276480"/>
          </a:xfrm>
          <a:prstGeom prst="rect">
            <a:avLst/>
          </a:prstGeom>
          <a:solidFill>
            <a:srgbClr val="7ca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4736 +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1"/>
          <p:cNvSpPr/>
          <p:nvPr/>
        </p:nvSpPr>
        <p:spPr>
          <a:xfrm>
            <a:off x="6199200" y="1927080"/>
            <a:ext cx="2203560" cy="276480"/>
          </a:xfrm>
          <a:prstGeom prst="rect">
            <a:avLst/>
          </a:prstGeom>
          <a:solidFill>
            <a:srgbClr val="7ca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47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1"/>
          <p:cNvSpPr/>
          <p:nvPr/>
        </p:nvSpPr>
        <p:spPr>
          <a:xfrm>
            <a:off x="6199200" y="1284120"/>
            <a:ext cx="2203560" cy="459000"/>
          </a:xfrm>
          <a:prstGeom prst="rect">
            <a:avLst/>
          </a:prstGeom>
          <a:solidFill>
            <a:srgbClr val="7ca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 (vinorelbine, gemcitabine, erlotini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lanchard 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TPS81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1"/>
          <p:cNvSpPr/>
          <p:nvPr/>
        </p:nvSpPr>
        <p:spPr>
          <a:xfrm>
            <a:off x="2063880" y="3125880"/>
            <a:ext cx="1225440" cy="15858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reening to further determine eligibility and assignment to substu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1"/>
          <p:cNvSpPr/>
          <p:nvPr/>
        </p:nvSpPr>
        <p:spPr>
          <a:xfrm>
            <a:off x="6199200" y="4613400"/>
            <a:ext cx="2203560" cy="276480"/>
          </a:xfrm>
          <a:prstGeom prst="rect">
            <a:avLst/>
          </a:prstGeom>
          <a:solidFill>
            <a:srgbClr val="7ca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1"/>
          <p:cNvSpPr/>
          <p:nvPr/>
        </p:nvSpPr>
        <p:spPr>
          <a:xfrm>
            <a:off x="6199200" y="4125960"/>
            <a:ext cx="2203560" cy="276480"/>
          </a:xfrm>
          <a:prstGeom prst="rect">
            <a:avLst/>
          </a:prstGeom>
          <a:solidFill>
            <a:srgbClr val="7ca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47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1"/>
          <p:cNvSpPr/>
          <p:nvPr/>
        </p:nvSpPr>
        <p:spPr>
          <a:xfrm>
            <a:off x="6199200" y="3446640"/>
            <a:ext cx="2203560" cy="459000"/>
          </a:xfrm>
          <a:prstGeom prst="rect">
            <a:avLst/>
          </a:prstGeom>
          <a:solidFill>
            <a:srgbClr val="7ca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 (vinorelbine, gemcitabine, erlotini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131"/>
          <p:cNvGrpSpPr/>
          <p:nvPr/>
        </p:nvGrpSpPr>
        <p:grpSpPr>
          <a:xfrm>
            <a:off x="669960" y="4154400"/>
            <a:ext cx="7812000" cy="1471680"/>
            <a:chOff x="669960" y="4154400"/>
            <a:chExt cx="7812000" cy="1471680"/>
          </a:xfrm>
        </p:grpSpPr>
        <p:sp>
          <p:nvSpPr>
            <p:cNvPr id="288" name="Straight Connector 8"/>
            <p:cNvSpPr/>
            <p:nvPr/>
          </p:nvSpPr>
          <p:spPr>
            <a:xfrm flipV="1">
              <a:off x="3684600" y="5364360"/>
              <a:ext cx="1440" cy="139680"/>
            </a:xfrm>
            <a:prstGeom prst="line">
              <a:avLst/>
            </a:prstGeom>
            <a:ln w="6480">
              <a:solidFill>
                <a:srgbClr val="404040"/>
              </a:solidFill>
              <a:prstDash val="sys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Straight Connector 39"/>
            <p:cNvSpPr/>
            <p:nvPr/>
          </p:nvSpPr>
          <p:spPr>
            <a:xfrm>
              <a:off x="1036440" y="4975200"/>
              <a:ext cx="7445520" cy="0"/>
            </a:xfrm>
            <a:prstGeom prst="line">
              <a:avLst/>
            </a:prstGeom>
            <a:ln w="255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Straight Connector 43"/>
            <p:cNvSpPr/>
            <p:nvPr/>
          </p:nvSpPr>
          <p:spPr>
            <a:xfrm flipV="1">
              <a:off x="1036440" y="4773600"/>
              <a:ext cx="0" cy="404640"/>
            </a:xfrm>
            <a:prstGeom prst="line">
              <a:avLst/>
            </a:prstGeom>
            <a:ln w="255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Straight Connector 45"/>
            <p:cNvSpPr/>
            <p:nvPr/>
          </p:nvSpPr>
          <p:spPr>
            <a:xfrm flipV="1">
              <a:off x="2077920" y="4773600"/>
              <a:ext cx="0" cy="404640"/>
            </a:xfrm>
            <a:prstGeom prst="line">
              <a:avLst/>
            </a:prstGeom>
            <a:ln w="255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Straight Connector 46"/>
            <p:cNvSpPr/>
            <p:nvPr/>
          </p:nvSpPr>
          <p:spPr>
            <a:xfrm flipV="1">
              <a:off x="3279600" y="4773600"/>
              <a:ext cx="0" cy="404640"/>
            </a:xfrm>
            <a:prstGeom prst="line">
              <a:avLst/>
            </a:prstGeom>
            <a:ln w="255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Straight Connector 47"/>
            <p:cNvSpPr/>
            <p:nvPr/>
          </p:nvSpPr>
          <p:spPr>
            <a:xfrm flipV="1">
              <a:off x="3807000" y="4773240"/>
              <a:ext cx="0" cy="277560"/>
            </a:xfrm>
            <a:prstGeom prst="line">
              <a:avLst/>
            </a:prstGeom>
            <a:ln w="255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traight Connector 48"/>
            <p:cNvSpPr/>
            <p:nvPr/>
          </p:nvSpPr>
          <p:spPr>
            <a:xfrm flipV="1">
              <a:off x="8481960" y="4773600"/>
              <a:ext cx="0" cy="201600"/>
            </a:xfrm>
            <a:prstGeom prst="line">
              <a:avLst/>
            </a:prstGeom>
            <a:ln w="255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60"/>
            <p:cNvSpPr/>
            <p:nvPr/>
          </p:nvSpPr>
          <p:spPr>
            <a:xfrm>
              <a:off x="1527120" y="4937040"/>
              <a:ext cx="60120" cy="75960"/>
            </a:xfrm>
            <a:prstGeom prst="ellipse">
              <a:avLst/>
            </a:prstGeom>
            <a:solidFill>
              <a:srgbClr val="d2c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61"/>
            <p:cNvGrpSpPr/>
            <p:nvPr/>
          </p:nvGrpSpPr>
          <p:grpSpPr>
            <a:xfrm>
              <a:off x="1445400" y="4899240"/>
              <a:ext cx="223920" cy="152280"/>
              <a:chOff x="1445400" y="4899240"/>
              <a:chExt cx="223920" cy="152280"/>
            </a:xfrm>
          </p:grpSpPr>
          <p:sp>
            <p:nvSpPr>
              <p:cNvPr id="297" name="Straight Connector 49"/>
              <p:cNvSpPr/>
              <p:nvPr/>
            </p:nvSpPr>
            <p:spPr>
              <a:xfrm flipV="1">
                <a:off x="1445400" y="4899240"/>
                <a:ext cx="167400" cy="152280"/>
              </a:xfrm>
              <a:prstGeom prst="line">
                <a:avLst/>
              </a:prstGeom>
              <a:ln w="190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Straight Connector 58"/>
              <p:cNvSpPr/>
              <p:nvPr/>
            </p:nvSpPr>
            <p:spPr>
              <a:xfrm flipV="1">
                <a:off x="1501920" y="4899240"/>
                <a:ext cx="167400" cy="152280"/>
              </a:xfrm>
              <a:prstGeom prst="line">
                <a:avLst/>
              </a:prstGeom>
              <a:ln w="190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Oval 64"/>
            <p:cNvSpPr/>
            <p:nvPr/>
          </p:nvSpPr>
          <p:spPr>
            <a:xfrm>
              <a:off x="2649600" y="4937040"/>
              <a:ext cx="60120" cy="75960"/>
            </a:xfrm>
            <a:prstGeom prst="ellipse">
              <a:avLst/>
            </a:prstGeom>
            <a:solidFill>
              <a:srgbClr val="d2c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65"/>
            <p:cNvGrpSpPr/>
            <p:nvPr/>
          </p:nvGrpSpPr>
          <p:grpSpPr>
            <a:xfrm>
              <a:off x="2567160" y="4899240"/>
              <a:ext cx="223920" cy="152280"/>
              <a:chOff x="2567160" y="4899240"/>
              <a:chExt cx="223920" cy="152280"/>
            </a:xfrm>
          </p:grpSpPr>
          <p:sp>
            <p:nvSpPr>
              <p:cNvPr id="301" name="Straight Connector 66"/>
              <p:cNvSpPr/>
              <p:nvPr/>
            </p:nvSpPr>
            <p:spPr>
              <a:xfrm flipV="1">
                <a:off x="2567160" y="4899240"/>
                <a:ext cx="166680" cy="152280"/>
              </a:xfrm>
              <a:prstGeom prst="line">
                <a:avLst/>
              </a:prstGeom>
              <a:ln w="190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Straight Connector 67"/>
              <p:cNvSpPr/>
              <p:nvPr/>
            </p:nvSpPr>
            <p:spPr>
              <a:xfrm flipV="1">
                <a:off x="2624400" y="4899240"/>
                <a:ext cx="166680" cy="152280"/>
              </a:xfrm>
              <a:prstGeom prst="line">
                <a:avLst/>
              </a:prstGeom>
              <a:ln w="190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TextBox 69"/>
            <p:cNvSpPr/>
            <p:nvPr/>
          </p:nvSpPr>
          <p:spPr>
            <a:xfrm>
              <a:off x="669960" y="5123880"/>
              <a:ext cx="62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 -4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70"/>
            <p:cNvSpPr/>
            <p:nvPr/>
          </p:nvSpPr>
          <p:spPr>
            <a:xfrm>
              <a:off x="1712160" y="5117760"/>
              <a:ext cx="62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 -2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71"/>
            <p:cNvSpPr/>
            <p:nvPr/>
          </p:nvSpPr>
          <p:spPr>
            <a:xfrm>
              <a:off x="2996280" y="5117760"/>
              <a:ext cx="55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 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72"/>
            <p:cNvSpPr/>
            <p:nvPr/>
          </p:nvSpPr>
          <p:spPr>
            <a:xfrm>
              <a:off x="7227000" y="5117760"/>
              <a:ext cx="58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 +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Straight Connector 75"/>
            <p:cNvSpPr/>
            <p:nvPr/>
          </p:nvSpPr>
          <p:spPr>
            <a:xfrm>
              <a:off x="3678120" y="5067360"/>
              <a:ext cx="4803840" cy="0"/>
            </a:xfrm>
            <a:prstGeom prst="line">
              <a:avLst/>
            </a:prstGeom>
            <a:ln w="255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Straight Connector 78"/>
            <p:cNvSpPr/>
            <p:nvPr/>
          </p:nvSpPr>
          <p:spPr>
            <a:xfrm flipV="1">
              <a:off x="3684600" y="5067360"/>
              <a:ext cx="0" cy="110880"/>
            </a:xfrm>
            <a:prstGeom prst="line">
              <a:avLst/>
            </a:prstGeom>
            <a:ln w="255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Straight Connector 80"/>
            <p:cNvSpPr/>
            <p:nvPr/>
          </p:nvSpPr>
          <p:spPr>
            <a:xfrm flipV="1">
              <a:off x="3807000" y="4154400"/>
              <a:ext cx="0" cy="573120"/>
            </a:xfrm>
            <a:prstGeom prst="line">
              <a:avLst/>
            </a:prstGeom>
            <a:ln w="25560">
              <a:solidFill>
                <a:srgbClr val="40404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Straight Connector 82"/>
            <p:cNvSpPr/>
            <p:nvPr/>
          </p:nvSpPr>
          <p:spPr>
            <a:xfrm flipV="1">
              <a:off x="8481960" y="4268520"/>
              <a:ext cx="0" cy="458640"/>
            </a:xfrm>
            <a:prstGeom prst="line">
              <a:avLst/>
            </a:prstGeom>
            <a:ln w="25560">
              <a:solidFill>
                <a:srgbClr val="40404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Straight Connector 87"/>
            <p:cNvSpPr/>
            <p:nvPr/>
          </p:nvSpPr>
          <p:spPr>
            <a:xfrm flipV="1">
              <a:off x="7553520" y="5067360"/>
              <a:ext cx="0" cy="110880"/>
            </a:xfrm>
            <a:prstGeom prst="line">
              <a:avLst/>
            </a:prstGeom>
            <a:ln w="255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88"/>
            <p:cNvSpPr/>
            <p:nvPr/>
          </p:nvSpPr>
          <p:spPr>
            <a:xfrm>
              <a:off x="6998040" y="5379840"/>
              <a:ext cx="1121040" cy="246240"/>
            </a:xfrm>
            <a:prstGeom prst="rect">
              <a:avLst/>
            </a:prstGeom>
            <a:noFill/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llow-up for P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traight Connector 89"/>
            <p:cNvSpPr/>
            <p:nvPr/>
          </p:nvSpPr>
          <p:spPr>
            <a:xfrm>
              <a:off x="3684600" y="5504040"/>
              <a:ext cx="3303360" cy="0"/>
            </a:xfrm>
            <a:prstGeom prst="line">
              <a:avLst/>
            </a:prstGeom>
            <a:ln w="6480">
              <a:solidFill>
                <a:srgbClr val="40404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132"/>
            <p:cNvSpPr/>
            <p:nvPr/>
          </p:nvSpPr>
          <p:spPr>
            <a:xfrm>
              <a:off x="3430440" y="5117760"/>
              <a:ext cx="51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Straight Connector 5"/>
          <p:cNvSpPr/>
          <p:nvPr/>
        </p:nvSpPr>
        <p:spPr>
          <a:xfrm>
            <a:off x="3505320" y="1765440"/>
            <a:ext cx="334800" cy="0"/>
          </a:xfrm>
          <a:prstGeom prst="line">
            <a:avLst/>
          </a:prstGeom>
          <a:ln w="25560">
            <a:solidFill>
              <a:srgbClr val="1737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93"/>
          <p:cNvSpPr/>
          <p:nvPr/>
        </p:nvSpPr>
        <p:spPr>
          <a:xfrm flipV="1">
            <a:off x="3505320" y="1750680"/>
            <a:ext cx="0" cy="2125800"/>
          </a:xfrm>
          <a:prstGeom prst="line">
            <a:avLst/>
          </a:prstGeom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96"/>
          <p:cNvSpPr/>
          <p:nvPr/>
        </p:nvSpPr>
        <p:spPr>
          <a:xfrm>
            <a:off x="3505320" y="3876840"/>
            <a:ext cx="334800" cy="0"/>
          </a:xfrm>
          <a:prstGeom prst="line">
            <a:avLst/>
          </a:prstGeom>
          <a:ln w="25560">
            <a:solidFill>
              <a:srgbClr val="1737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98"/>
          <p:cNvSpPr/>
          <p:nvPr/>
        </p:nvSpPr>
        <p:spPr>
          <a:xfrm>
            <a:off x="3129120" y="2629080"/>
            <a:ext cx="376200" cy="0"/>
          </a:xfrm>
          <a:prstGeom prst="line">
            <a:avLst/>
          </a:prstGeom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101"/>
          <p:cNvSpPr/>
          <p:nvPr/>
        </p:nvSpPr>
        <p:spPr>
          <a:xfrm>
            <a:off x="5711760" y="1447920"/>
            <a:ext cx="487440" cy="0"/>
          </a:xfrm>
          <a:prstGeom prst="line">
            <a:avLst/>
          </a:prstGeom>
          <a:ln w="25560">
            <a:solidFill>
              <a:srgbClr val="7dab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traight Connector 102"/>
          <p:cNvSpPr/>
          <p:nvPr/>
        </p:nvSpPr>
        <p:spPr>
          <a:xfrm flipV="1">
            <a:off x="5711760" y="1447920"/>
            <a:ext cx="0" cy="622080"/>
          </a:xfrm>
          <a:prstGeom prst="line">
            <a:avLst/>
          </a:prstGeom>
          <a:ln w="25560">
            <a:solidFill>
              <a:srgbClr val="7da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103"/>
          <p:cNvSpPr/>
          <p:nvPr/>
        </p:nvSpPr>
        <p:spPr>
          <a:xfrm>
            <a:off x="5711760" y="2070000"/>
            <a:ext cx="487440" cy="0"/>
          </a:xfrm>
          <a:prstGeom prst="line">
            <a:avLst/>
          </a:prstGeom>
          <a:ln w="25560">
            <a:solidFill>
              <a:srgbClr val="7dab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104"/>
          <p:cNvSpPr/>
          <p:nvPr/>
        </p:nvSpPr>
        <p:spPr>
          <a:xfrm flipV="1">
            <a:off x="4916520" y="1763280"/>
            <a:ext cx="795240" cy="1800"/>
          </a:xfrm>
          <a:prstGeom prst="line">
            <a:avLst/>
          </a:prstGeom>
          <a:ln w="25560">
            <a:solidFill>
              <a:srgbClr val="7da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1"/>
          <p:cNvSpPr/>
          <p:nvPr/>
        </p:nvSpPr>
        <p:spPr>
          <a:xfrm>
            <a:off x="1036800" y="2363760"/>
            <a:ext cx="2242800" cy="5202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creening for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D-L1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1"/>
          <p:cNvSpPr/>
          <p:nvPr/>
        </p:nvSpPr>
        <p:spPr>
          <a:xfrm>
            <a:off x="3840120" y="1525680"/>
            <a:ext cx="1109880" cy="459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study A PD-L1-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17"/>
          <p:cNvSpPr/>
          <p:nvPr/>
        </p:nvSpPr>
        <p:spPr>
          <a:xfrm>
            <a:off x="5126400" y="14749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18"/>
          <p:cNvSpPr/>
          <p:nvPr/>
        </p:nvSpPr>
        <p:spPr>
          <a:xfrm>
            <a:off x="4555800" y="242244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Rando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19"/>
          <p:cNvSpPr/>
          <p:nvPr/>
        </p:nvSpPr>
        <p:spPr>
          <a:xfrm>
            <a:off x="5711760" y="3686040"/>
            <a:ext cx="487440" cy="0"/>
          </a:xfrm>
          <a:prstGeom prst="line">
            <a:avLst/>
          </a:prstGeom>
          <a:ln w="25560">
            <a:solidFill>
              <a:srgbClr val="7dab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120"/>
          <p:cNvSpPr/>
          <p:nvPr/>
        </p:nvSpPr>
        <p:spPr>
          <a:xfrm flipV="1">
            <a:off x="5711760" y="3125520"/>
            <a:ext cx="0" cy="1630440"/>
          </a:xfrm>
          <a:prstGeom prst="line">
            <a:avLst/>
          </a:prstGeom>
          <a:ln w="25560">
            <a:solidFill>
              <a:srgbClr val="7da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21"/>
          <p:cNvSpPr/>
          <p:nvPr/>
        </p:nvSpPr>
        <p:spPr>
          <a:xfrm>
            <a:off x="5711760" y="4268880"/>
            <a:ext cx="487440" cy="0"/>
          </a:xfrm>
          <a:prstGeom prst="line">
            <a:avLst/>
          </a:prstGeom>
          <a:ln w="25560">
            <a:solidFill>
              <a:srgbClr val="7dab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122"/>
          <p:cNvSpPr/>
          <p:nvPr/>
        </p:nvSpPr>
        <p:spPr>
          <a:xfrm flipV="1">
            <a:off x="4916520" y="3855600"/>
            <a:ext cx="795240" cy="3240"/>
          </a:xfrm>
          <a:prstGeom prst="line">
            <a:avLst/>
          </a:prstGeom>
          <a:ln w="25560">
            <a:solidFill>
              <a:srgbClr val="7da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23"/>
          <p:cNvSpPr/>
          <p:nvPr/>
        </p:nvSpPr>
        <p:spPr>
          <a:xfrm>
            <a:off x="4998600" y="3568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2:2: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3840120" y="3621240"/>
            <a:ext cx="1109880" cy="459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study B PD-L1-n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124"/>
          <p:cNvSpPr/>
          <p:nvPr/>
        </p:nvSpPr>
        <p:spPr>
          <a:xfrm>
            <a:off x="5711760" y="3125880"/>
            <a:ext cx="487440" cy="0"/>
          </a:xfrm>
          <a:prstGeom prst="line">
            <a:avLst/>
          </a:prstGeom>
          <a:ln w="25560">
            <a:solidFill>
              <a:srgbClr val="7dab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125"/>
          <p:cNvSpPr/>
          <p:nvPr/>
        </p:nvSpPr>
        <p:spPr>
          <a:xfrm>
            <a:off x="5711760" y="4756320"/>
            <a:ext cx="487440" cy="0"/>
          </a:xfrm>
          <a:prstGeom prst="line">
            <a:avLst/>
          </a:prstGeom>
          <a:ln w="25560">
            <a:solidFill>
              <a:srgbClr val="7dab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"/>
          <p:cNvSpPr/>
          <p:nvPr/>
        </p:nvSpPr>
        <p:spPr>
          <a:xfrm>
            <a:off x="1036800" y="192708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arget accrual: 9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lanchard 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TPS8104; www.clinicaltrials.gov. Accessed August 20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gibility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42440" y="1170000"/>
            <a:ext cx="8226360" cy="456264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tage IIIB/IV NSCLC or recurrent or progressive disease after multimodal therapy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t least 2 prior lines of systemic treatment regimens for NSCLC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Disease recurrence or PD after a platinum-based chemotherapy regimen and at least 1 additional systemic therapy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onfirmed PD-L1 status by a specified IHC assay on a recent sample (≤3 mo), if technically feasible, </a:t>
            </a: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an archived tumor tissue block or newly cut unstained slides, if availabl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 prior anti-PD-1 or anti-PD-L1 antibody therapy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 known EGFR activating mutation or ALK rearrangement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 active/untreated brain metastases or spinal cord compression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lanchard 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TPS81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udy A: Dosing Regimen for Patients with PD-L1-Positive Tum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42440" y="1163160"/>
            <a:ext cx="8226360" cy="461484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SOC arm: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or as long as the patient is deriving clinical benefit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rlotinib: 150 mg/day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Gemcitabine: 1,000 mg/m</a:t>
            </a:r>
            <a:r>
              <a:rPr b="0" lang="en-US" sz="20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(IV) on d1, 8, 15 of a 28-day cycl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Vinorelbine: 30 mg/m</a:t>
            </a:r>
            <a:r>
              <a:rPr b="0" lang="en-US" sz="20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(IV) on d1, 8, 15, 22 of a 28-day cycl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MEDI4736 arm: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10 mg/kg (IV) q2wk for up to 12 month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lanchard 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TPS81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udy B: Dosing Regimen for Patients with PD-L1-Negative Tum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63160"/>
            <a:ext cx="8226360" cy="461484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MEDI4736/T arm: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EDI4736 at 20 mg/kg + T at 1 mg/kg q4wk (IV) for up to 12 weeks </a:t>
            </a:r>
            <a:r>
              <a:rPr b="0" lang="en-US" sz="20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single-agent MEDI4736 at 10 mg/kg (IV) q2wk starting at week 16, for 34 weeks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SOC arm: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s in substudy A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Single-agent MEDI4736 arm: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s in substudy A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Single-agent T arm: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10 mg/kg (IV) q4wk for 24 weeks </a:t>
            </a:r>
            <a:r>
              <a:rPr b="0" lang="en-US" sz="20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64847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q12wk for 24 week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Endpoints and D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42440" y="1163160"/>
            <a:ext cx="8226360" cy="461484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Coprimary endpoints: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verall and progression-free survival by blinded independent central review assessment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Secondary endpoints include: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bjective response rate, duration of response, safety/tolerability, pharmacokinetic profiling, immunogenicity determinations and quality of life assessment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Exploratory endpoints: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iomarkers, immune-related response criteria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Study start date: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January 2015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Estimated study completion date: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vember 2017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lanchard 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TPS8104; www.clinicaltrials.gov. Accessed August 20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ase 1 Study of Pembrolizumab (Pembro; MK-3475) plus Ipilimumab (IPI) as Second-Line Therapy for Advanced Non-Small Cell Lung Cancer (NSCLC): KEYNOTE-021 Cohort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Patnaik A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5;Abstract 80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naik 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D-1 and CTLA-4 are immunologic molecules with complementary actions in the anticancer immune respons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embro is a potent anti-PD-1 monoclonal antibody that has demonstrated robust antitumor activity and manageable toxicity in multiple tumor types, including treatment-naïve advanced NSCLC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NEJM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5;372:2015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PI is an anti-CTLA-4 monoclonal antibody that has shown significant efficacy in combination with the anti-PD-1 antibody nivolumab in NSCLC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4;Abstract 8023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ssess the preliminary efficacy and safety of pembro in combination with IPI in recurrent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1"/>
          <p:cNvSpPr/>
          <p:nvPr/>
        </p:nvSpPr>
        <p:spPr>
          <a:xfrm>
            <a:off x="922320" y="3265560"/>
            <a:ext cx="7716960" cy="22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Initial protoc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ose level 0: Pembro, 10 mg/kg q3wk + IPI, 1 mg/kg q3w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ose level 1: Pembro, 10 mg/kg q3wk + IPI, 3 mg/kg q3w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ose level -1: Pembro, 10 mg/kg q3wk + IPI, 0.3 mg/kg q3w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ose level -2: Pembro, 2 mg/kg q3wk + IPI, 1 mg/kg q3w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Based on emerging data with nivolumab + IPI (</a:t>
            </a:r>
            <a:r>
              <a:rPr b="1" i="1" lang="en-US" sz="18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2014; Abstract 8023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rotocol amended to use dose level -2 for subsequent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going Phase I KEYNOTE-021 Trial Desig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ohort D: 3 + 3 Dose-Finding Stud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naik 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969920" y="2602080"/>
          <a:ext cx="5610240" cy="338040"/>
        </p:xfrm>
        <a:graphic>
          <a:graphicData uri="http://schemas.openxmlformats.org/drawingml/2006/table">
            <a:tbl>
              <a:tblPr/>
              <a:tblGrid>
                <a:gridCol w="5610240"/>
              </a:tblGrid>
              <a:tr h="33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bro up to 2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7" name="Straight Connector 2"/>
          <p:cNvSpPr/>
          <p:nvPr/>
        </p:nvSpPr>
        <p:spPr>
          <a:xfrm flipV="1">
            <a:off x="2190600" y="2422080"/>
            <a:ext cx="0" cy="17964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4"/>
          <p:cNvSpPr/>
          <p:nvPr/>
        </p:nvSpPr>
        <p:spPr>
          <a:xfrm>
            <a:off x="2021040" y="2114640"/>
            <a:ext cx="33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12"/>
          <p:cNvSpPr/>
          <p:nvPr/>
        </p:nvSpPr>
        <p:spPr>
          <a:xfrm>
            <a:off x="2190600" y="1928880"/>
            <a:ext cx="0" cy="18396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14"/>
          <p:cNvSpPr/>
          <p:nvPr/>
        </p:nvSpPr>
        <p:spPr>
          <a:xfrm flipV="1">
            <a:off x="2597040" y="2422080"/>
            <a:ext cx="0" cy="17964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5"/>
          <p:cNvSpPr/>
          <p:nvPr/>
        </p:nvSpPr>
        <p:spPr>
          <a:xfrm>
            <a:off x="2427120" y="2114640"/>
            <a:ext cx="3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16"/>
          <p:cNvSpPr/>
          <p:nvPr/>
        </p:nvSpPr>
        <p:spPr>
          <a:xfrm>
            <a:off x="2597040" y="1928880"/>
            <a:ext cx="0" cy="18396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7"/>
          <p:cNvSpPr/>
          <p:nvPr/>
        </p:nvSpPr>
        <p:spPr>
          <a:xfrm flipV="1">
            <a:off x="2935440" y="2422080"/>
            <a:ext cx="0" cy="17964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8"/>
          <p:cNvSpPr/>
          <p:nvPr/>
        </p:nvSpPr>
        <p:spPr>
          <a:xfrm>
            <a:off x="2765520" y="2114640"/>
            <a:ext cx="33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9"/>
          <p:cNvSpPr/>
          <p:nvPr/>
        </p:nvSpPr>
        <p:spPr>
          <a:xfrm>
            <a:off x="2935440" y="1928880"/>
            <a:ext cx="0" cy="18396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20"/>
          <p:cNvSpPr/>
          <p:nvPr/>
        </p:nvSpPr>
        <p:spPr>
          <a:xfrm flipV="1">
            <a:off x="3273480" y="2422080"/>
            <a:ext cx="0" cy="17964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1"/>
          <p:cNvSpPr/>
          <p:nvPr/>
        </p:nvSpPr>
        <p:spPr>
          <a:xfrm>
            <a:off x="3105000" y="2114640"/>
            <a:ext cx="3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22"/>
          <p:cNvSpPr/>
          <p:nvPr/>
        </p:nvSpPr>
        <p:spPr>
          <a:xfrm>
            <a:off x="3273480" y="1928880"/>
            <a:ext cx="0" cy="18396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23"/>
          <p:cNvSpPr/>
          <p:nvPr/>
        </p:nvSpPr>
        <p:spPr>
          <a:xfrm flipV="1">
            <a:off x="3679920" y="2422080"/>
            <a:ext cx="0" cy="17964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4"/>
          <p:cNvSpPr/>
          <p:nvPr/>
        </p:nvSpPr>
        <p:spPr>
          <a:xfrm>
            <a:off x="3443400" y="2114640"/>
            <a:ext cx="40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26"/>
          <p:cNvSpPr/>
          <p:nvPr/>
        </p:nvSpPr>
        <p:spPr>
          <a:xfrm flipV="1">
            <a:off x="4019400" y="2422080"/>
            <a:ext cx="0" cy="17964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7"/>
          <p:cNvSpPr/>
          <p:nvPr/>
        </p:nvSpPr>
        <p:spPr>
          <a:xfrm>
            <a:off x="3827520" y="2114640"/>
            <a:ext cx="3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29"/>
          <p:cNvSpPr/>
          <p:nvPr/>
        </p:nvSpPr>
        <p:spPr>
          <a:xfrm flipV="1">
            <a:off x="4405320" y="2422080"/>
            <a:ext cx="0" cy="17964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30"/>
          <p:cNvSpPr/>
          <p:nvPr/>
        </p:nvSpPr>
        <p:spPr>
          <a:xfrm>
            <a:off x="4173480" y="2114640"/>
            <a:ext cx="43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32"/>
          <p:cNvSpPr/>
          <p:nvPr/>
        </p:nvSpPr>
        <p:spPr>
          <a:xfrm flipV="1">
            <a:off x="4745160" y="2422080"/>
            <a:ext cx="0" cy="17964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3"/>
          <p:cNvSpPr/>
          <p:nvPr/>
        </p:nvSpPr>
        <p:spPr>
          <a:xfrm>
            <a:off x="4529160" y="2114640"/>
            <a:ext cx="43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35"/>
          <p:cNvSpPr/>
          <p:nvPr/>
        </p:nvSpPr>
        <p:spPr>
          <a:xfrm flipV="1">
            <a:off x="5083200" y="2422080"/>
            <a:ext cx="0" cy="17964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36"/>
          <p:cNvSpPr/>
          <p:nvPr/>
        </p:nvSpPr>
        <p:spPr>
          <a:xfrm>
            <a:off x="4884840" y="2114640"/>
            <a:ext cx="42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38"/>
          <p:cNvSpPr/>
          <p:nvPr/>
        </p:nvSpPr>
        <p:spPr>
          <a:xfrm flipV="1">
            <a:off x="5489640" y="2422080"/>
            <a:ext cx="0" cy="17964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39"/>
          <p:cNvSpPr/>
          <p:nvPr/>
        </p:nvSpPr>
        <p:spPr>
          <a:xfrm>
            <a:off x="5249880" y="2114640"/>
            <a:ext cx="43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41"/>
          <p:cNvSpPr/>
          <p:nvPr/>
        </p:nvSpPr>
        <p:spPr>
          <a:xfrm flipV="1">
            <a:off x="5827680" y="2422080"/>
            <a:ext cx="0" cy="17964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42"/>
          <p:cNvSpPr/>
          <p:nvPr/>
        </p:nvSpPr>
        <p:spPr>
          <a:xfrm>
            <a:off x="5630760" y="211464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traight Connector 44"/>
          <p:cNvSpPr/>
          <p:nvPr/>
        </p:nvSpPr>
        <p:spPr>
          <a:xfrm flipV="1">
            <a:off x="6192720" y="2422080"/>
            <a:ext cx="0" cy="17964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45"/>
          <p:cNvSpPr/>
          <p:nvPr/>
        </p:nvSpPr>
        <p:spPr>
          <a:xfrm>
            <a:off x="5969160" y="2114640"/>
            <a:ext cx="43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47"/>
          <p:cNvSpPr/>
          <p:nvPr/>
        </p:nvSpPr>
        <p:spPr>
          <a:xfrm flipV="1">
            <a:off x="6556320" y="2422080"/>
            <a:ext cx="0" cy="17964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48"/>
          <p:cNvSpPr/>
          <p:nvPr/>
        </p:nvSpPr>
        <p:spPr>
          <a:xfrm>
            <a:off x="6332400" y="2114640"/>
            <a:ext cx="4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traight Connector 50"/>
          <p:cNvSpPr/>
          <p:nvPr/>
        </p:nvSpPr>
        <p:spPr>
          <a:xfrm flipV="1">
            <a:off x="6904080" y="2422080"/>
            <a:ext cx="0" cy="17964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51"/>
          <p:cNvSpPr/>
          <p:nvPr/>
        </p:nvSpPr>
        <p:spPr>
          <a:xfrm>
            <a:off x="6734160" y="2114640"/>
            <a:ext cx="33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traight Connector 53"/>
          <p:cNvSpPr/>
          <p:nvPr/>
        </p:nvSpPr>
        <p:spPr>
          <a:xfrm flipV="1">
            <a:off x="7300800" y="2422080"/>
            <a:ext cx="0" cy="17964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54"/>
          <p:cNvSpPr/>
          <p:nvPr/>
        </p:nvSpPr>
        <p:spPr>
          <a:xfrm>
            <a:off x="7021440" y="2114640"/>
            <a:ext cx="5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920960" y="1546200"/>
          <a:ext cx="1690560" cy="366840"/>
        </p:xfrm>
        <a:graphic>
          <a:graphicData uri="http://schemas.openxmlformats.org/drawingml/2006/table">
            <a:tbl>
              <a:tblPr/>
              <a:tblGrid>
                <a:gridCol w="16905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PI 4 do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2" name="TextBox 6"/>
          <p:cNvSpPr/>
          <p:nvPr/>
        </p:nvSpPr>
        <p:spPr>
          <a:xfrm>
            <a:off x="1379520" y="2092320"/>
            <a:ext cx="72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We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naik 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NOTE-021 Cohort D: Eligibility Criteria and End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Eligibility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Locally advanced or metastatic NSCLC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≥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1 prior lines of therapy, including ≥1 platinum doublet chemotherap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≥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1 measurable lesion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ny PD-L1, EGFR or ALK statu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prior anti-PD-1, anti-PD-L1 or anti-CTLA-4 therap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autoimmune disease or interstitial lung disease requiring steroid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Primary endpoint: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cidence of dose-limiting toxicities in the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rst 3 week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Secondary endpoints: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verall safety, tolerability and ORR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ase Ib Study of MEDI4736, a Programmed Cell Death Ligand-1 (PD-L1) Antibody, in Combination with Tremelimumab, a Cytotoxic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-Lymphocyte-Associated Protein-4 (CTLA-4) Antibody, in Patients (pts) with Advanced NSCL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Antonia SJ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5;Abstract 301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1"/>
          <p:cNvSpPr/>
          <p:nvPr/>
        </p:nvSpPr>
        <p:spPr>
          <a:xfrm>
            <a:off x="706320" y="4684680"/>
            <a:ext cx="78422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R = complete response; PR = partial response; SD = stable disease;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D = progressive disease; DCR = disease control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630360" y="1349280"/>
          <a:ext cx="7846920" cy="3245040"/>
        </p:xfrm>
        <a:graphic>
          <a:graphicData uri="http://schemas.openxmlformats.org/drawingml/2006/table">
            <a:tbl>
              <a:tblPr/>
              <a:tblGrid>
                <a:gridCol w="1758960"/>
                <a:gridCol w="2165040"/>
                <a:gridCol w="1960920"/>
                <a:gridCol w="1962000"/>
              </a:tblGrid>
              <a:tr h="10796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bro at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mg/kg, q3wk + IPI at 1 or 3 mg/k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bro at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mg/kg, q3wk + IPI at 1 mg/kg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5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 (3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 (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D ≥6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5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 (4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 (4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2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 (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2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 (10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 (7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 (8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naik 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601560" y="1330200"/>
          <a:ext cx="7720200" cy="2373480"/>
        </p:xfrm>
        <a:graphic>
          <a:graphicData uri="http://schemas.openxmlformats.org/drawingml/2006/table">
            <a:tbl>
              <a:tblPr/>
              <a:tblGrid>
                <a:gridCol w="2462400"/>
                <a:gridCol w="1314360"/>
                <a:gridCol w="1314360"/>
                <a:gridCol w="1314720"/>
                <a:gridCol w="1314360"/>
              </a:tblGrid>
              <a:tr h="6123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grades (n = 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e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e 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5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(6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 (3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ecreased appet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 (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(6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 (2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yal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 (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uri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 (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 (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-Related Adverse Events (TR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naik 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1"/>
          <p:cNvSpPr/>
          <p:nvPr/>
        </p:nvSpPr>
        <p:spPr>
          <a:xfrm>
            <a:off x="741240" y="3797280"/>
            <a:ext cx="7899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95000"/>
              </a:lnSpc>
              <a:spcAft>
                <a:spcPts val="400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re were no treatment-related Grade 4 AEs or dea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Aft>
                <a:spcPts val="400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re were 3 Grade 3 AEs: adrenal insufficiency, drug eruption and maculopapular r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Aft>
                <a:spcPts val="400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re were 2 discontinuations due to TRA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embro 2 mg/kg + IPI 1 mg/kg has a manageable toxicity profile in patients with previously treated NSCLC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dose-limiting toxicities; no treatment-related death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17% of patients experienced Grade 3 or 4 TRAE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re were 2 treatment-related discontinuation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regimen demonstrated preliminary evidence of robust, durable antitumor activity in an unselected patient population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1 CR; 39% ORR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ll responses were ongoing at time of data cutoff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 lower dose of IPI does not appear to affect efficac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combination will be further characterized in a currently enrolling dose-expansion cohort of 32 patient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naik 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a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results from the KEYNOTE-021 trial for patients in cohort D are promising, especially for those who received the lower doses of pembro and IPI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However, toxicity could be an issue with advanced lines of 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urther follow-up is needed to obtain reliable estimates of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long-term survival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selection of patients for anti-PD-L1 therapy or immune-directed therapies is crucial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Garassino M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"/>
          <p:cNvSpPr/>
          <p:nvPr/>
        </p:nvSpPr>
        <p:spPr>
          <a:xfrm>
            <a:off x="442800" y="431640"/>
            <a:ext cx="8226360" cy="42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fety and Efficacy of First-Line Nivolumab (Anti-Programmed Death-1 [PD-1]) and Ipilimumab in Non-Small Cell Lung Cancer (NSCL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Rizvi NA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IASLC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5;Abstract ORAL02.0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ivolumab and ipilimumab enhance T-cell antitumor activity through distinct but complementary mechanisms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reatment with the combination of nivolumab and ipilimumab results in deep and durable responses in previously treated, advanced melanoma and small cell lung cancer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NEJM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15;373:23;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5;Abstract 7503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reliminary data from the CheckMate 012 study of nivolumab and ipilimumab at different doses demonstrated activity in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D-L1-positive and PD-L1-negative advanced NSCLC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4;Abstract 8023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etermine the efficacy and safety of nivolumab/ipilimumab in the new cohorts of patients with chemotherapy-naïve, advanced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SCLC on the CheckMate 012 trial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1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izvi N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Abstract ORAL02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 CheckMate 012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izvi N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Abstract ORAL02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9"/>
          <p:cNvSpPr/>
          <p:nvPr/>
        </p:nvSpPr>
        <p:spPr>
          <a:xfrm>
            <a:off x="3505320" y="1765440"/>
            <a:ext cx="334800" cy="0"/>
          </a:xfrm>
          <a:prstGeom prst="line">
            <a:avLst/>
          </a:prstGeom>
          <a:ln w="25560">
            <a:solidFill>
              <a:srgbClr val="1737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2"/>
          <p:cNvSpPr/>
          <p:nvPr/>
        </p:nvSpPr>
        <p:spPr>
          <a:xfrm>
            <a:off x="1860480" y="2023920"/>
            <a:ext cx="0" cy="29556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"/>
          <p:cNvSpPr/>
          <p:nvPr/>
        </p:nvSpPr>
        <p:spPr>
          <a:xfrm>
            <a:off x="866880" y="4611600"/>
            <a:ext cx="767052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Nivo = nivolumab; Ipi = ipilimum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Primary endpoint: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Safety and toler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Secondary endpoints: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Objective response rate (ORR) and progression-free survival (PFS) rate at 24 wee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19"/>
          <p:cNvSpPr/>
          <p:nvPr/>
        </p:nvSpPr>
        <p:spPr>
          <a:xfrm>
            <a:off x="3878280" y="2023920"/>
            <a:ext cx="0" cy="29556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20"/>
          <p:cNvSpPr/>
          <p:nvPr/>
        </p:nvSpPr>
        <p:spPr>
          <a:xfrm>
            <a:off x="5754600" y="2023920"/>
            <a:ext cx="0" cy="29556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21"/>
          <p:cNvSpPr/>
          <p:nvPr/>
        </p:nvSpPr>
        <p:spPr>
          <a:xfrm>
            <a:off x="7608960" y="2023920"/>
            <a:ext cx="0" cy="29556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1"/>
          <p:cNvSpPr/>
          <p:nvPr/>
        </p:nvSpPr>
        <p:spPr>
          <a:xfrm>
            <a:off x="866880" y="1546200"/>
            <a:ext cx="7634160" cy="5202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ge IIIB/IV NSCLC (any histology); no prior chemotherapy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 advanced disease; ECOG PS 0 o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1"/>
          <p:cNvSpPr/>
          <p:nvPr/>
        </p:nvSpPr>
        <p:spPr>
          <a:xfrm>
            <a:off x="843120" y="2360520"/>
            <a:ext cx="2050920" cy="8240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vo 1 mg/kg IV q3wk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pi 1 mg/kg IV q3wk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1"/>
          <p:cNvSpPr/>
          <p:nvPr/>
        </p:nvSpPr>
        <p:spPr>
          <a:xfrm>
            <a:off x="2989440" y="2360520"/>
            <a:ext cx="1812600" cy="8240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M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vo 1 mg/kg IV q2wk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pi 1 mg/kg IV q6w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1"/>
          <p:cNvSpPr/>
          <p:nvPr/>
        </p:nvSpPr>
        <p:spPr>
          <a:xfrm>
            <a:off x="4896000" y="2360520"/>
            <a:ext cx="1755720" cy="824040"/>
          </a:xfrm>
          <a:prstGeom prst="rect">
            <a:avLst/>
          </a:prstGeom>
          <a:solidFill>
            <a:srgbClr val="7ca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M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vo 3 mg/kg IV q2wk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pi 1 mg/kg IV q12w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1"/>
          <p:cNvSpPr/>
          <p:nvPr/>
        </p:nvSpPr>
        <p:spPr>
          <a:xfrm>
            <a:off x="6745320" y="2360520"/>
            <a:ext cx="1755720" cy="824040"/>
          </a:xfrm>
          <a:prstGeom prst="rect">
            <a:avLst/>
          </a:prstGeom>
          <a:solidFill>
            <a:srgbClr val="7ca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M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vo 3 mg/kg IV q2wk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pi 1 mg/kg IV q6w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1"/>
          <p:cNvSpPr/>
          <p:nvPr/>
        </p:nvSpPr>
        <p:spPr>
          <a:xfrm>
            <a:off x="865080" y="3719520"/>
            <a:ext cx="2497320" cy="7333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18375d"/>
                </a:solidFill>
                <a:latin typeface="Arial"/>
              </a:rPr>
              <a:t>Nivo 3 mg/kg IV q2wk until disease progression or unacceptable tox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1"/>
          <p:cNvSpPr/>
          <p:nvPr/>
        </p:nvSpPr>
        <p:spPr>
          <a:xfrm>
            <a:off x="3505320" y="3719520"/>
            <a:ext cx="5032080" cy="738360"/>
          </a:xfrm>
          <a:prstGeom prst="rect">
            <a:avLst/>
          </a:prstGeom>
          <a:solidFill>
            <a:srgbClr val="7da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til disease progression or unacceptable tox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28"/>
          <p:cNvSpPr/>
          <p:nvPr/>
        </p:nvSpPr>
        <p:spPr>
          <a:xfrm>
            <a:off x="1860480" y="3222720"/>
            <a:ext cx="0" cy="49680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29"/>
          <p:cNvSpPr/>
          <p:nvPr/>
        </p:nvSpPr>
        <p:spPr>
          <a:xfrm>
            <a:off x="3898800" y="3222720"/>
            <a:ext cx="0" cy="223920"/>
          </a:xfrm>
          <a:prstGeom prst="line">
            <a:avLst/>
          </a:prstGeom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0"/>
          <p:cNvSpPr/>
          <p:nvPr/>
        </p:nvSpPr>
        <p:spPr>
          <a:xfrm>
            <a:off x="7613640" y="3222720"/>
            <a:ext cx="0" cy="223920"/>
          </a:xfrm>
          <a:prstGeom prst="line">
            <a:avLst/>
          </a:prstGeom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traight Connector 38"/>
          <p:cNvSpPr/>
          <p:nvPr/>
        </p:nvSpPr>
        <p:spPr>
          <a:xfrm>
            <a:off x="3898800" y="3446640"/>
            <a:ext cx="3710160" cy="0"/>
          </a:xfrm>
          <a:prstGeom prst="line">
            <a:avLst/>
          </a:prstGeom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40"/>
          <p:cNvSpPr/>
          <p:nvPr/>
        </p:nvSpPr>
        <p:spPr>
          <a:xfrm>
            <a:off x="5754600" y="3435480"/>
            <a:ext cx="0" cy="296640"/>
          </a:xfrm>
          <a:prstGeom prst="line">
            <a:avLst/>
          </a:prstGeom>
          <a:ln w="2556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ic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izvi N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Abstract ORAL02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723960" y="1576440"/>
          <a:ext cx="7759800" cy="2760480"/>
        </p:xfrm>
        <a:graphic>
          <a:graphicData uri="http://schemas.openxmlformats.org/drawingml/2006/table">
            <a:tbl>
              <a:tblPr/>
              <a:tblGrid>
                <a:gridCol w="2867040"/>
                <a:gridCol w="1224000"/>
                <a:gridCol w="1222200"/>
                <a:gridCol w="1224000"/>
                <a:gridCol w="1222560"/>
              </a:tblGrid>
              <a:tr h="9270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m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m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 (1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 (2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 (3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 (3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sease control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 (5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 (5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 (7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 (5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4-week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3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3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3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3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3f2ee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length of follow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8" name="TextBox 2"/>
          <p:cNvSpPr/>
          <p:nvPr/>
        </p:nvSpPr>
        <p:spPr>
          <a:xfrm>
            <a:off x="729720" y="4487760"/>
            <a:ext cx="7207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ll partial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C = not calc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overall survival was not reached in any of the treatment a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Rizvi_Graph2.png"/>
          <p:cNvPicPr/>
          <p:nvPr/>
        </p:nvPicPr>
        <p:blipFill>
          <a:blip r:embed="rId1"/>
          <a:stretch/>
        </p:blipFill>
        <p:spPr>
          <a:xfrm>
            <a:off x="974880" y="1569960"/>
            <a:ext cx="7565760" cy="35337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Change in Target Lesions from Base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6c3d5"/>
                </a:solidFill>
                <a:latin typeface="Arial"/>
              </a:rPr>
              <a:t>With permission from Rizvi NA et al. </a:t>
            </a:r>
            <a:r>
              <a:rPr b="0" i="1" lang="en-US" sz="2000" spc="-1" strike="noStrike">
                <a:solidFill>
                  <a:srgbClr val="86c3d5"/>
                </a:solidFill>
                <a:latin typeface="Arial"/>
              </a:rPr>
              <a:t>Proc IASLC </a:t>
            </a:r>
            <a:r>
              <a:rPr b="0" lang="en-US" sz="2000" spc="-1" strike="noStrike">
                <a:solidFill>
                  <a:srgbClr val="86c3d5"/>
                </a:solidFill>
                <a:latin typeface="Arial"/>
              </a:rPr>
              <a:t>2015;Abstract ORAL02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"/>
          <p:cNvSpPr/>
          <p:nvPr/>
        </p:nvSpPr>
        <p:spPr>
          <a:xfrm>
            <a:off x="1778040" y="1246320"/>
            <a:ext cx="21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e87c11"/>
                </a:solidFill>
                <a:latin typeface="Arial"/>
              </a:rPr>
              <a:t>Nivo 1 + Ipi 1 Q3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7"/>
          <p:cNvSpPr/>
          <p:nvPr/>
        </p:nvSpPr>
        <p:spPr>
          <a:xfrm>
            <a:off x="5502240" y="1201680"/>
            <a:ext cx="264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e87c11"/>
                </a:solidFill>
                <a:latin typeface="Arial"/>
              </a:rPr>
              <a:t>Nivo 1 Q2W + Ipi 1 Q6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8"/>
          <p:cNvSpPr/>
          <p:nvPr/>
        </p:nvSpPr>
        <p:spPr>
          <a:xfrm>
            <a:off x="1778040" y="3540240"/>
            <a:ext cx="25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7dab1b"/>
                </a:solidFill>
                <a:latin typeface="Arial"/>
              </a:rPr>
              <a:t>Nivo 3 Q2W + Ipi 1 Q12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9"/>
          <p:cNvSpPr/>
          <p:nvPr/>
        </p:nvSpPr>
        <p:spPr>
          <a:xfrm>
            <a:off x="5710320" y="3540240"/>
            <a:ext cx="264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7dab1b"/>
                </a:solidFill>
                <a:latin typeface="Arial"/>
              </a:rPr>
              <a:t>Nivo 3 Q2W + Ipi 1 Q6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0"/>
          <p:cNvSpPr/>
          <p:nvPr/>
        </p:nvSpPr>
        <p:spPr>
          <a:xfrm rot="16200000">
            <a:off x="-47520" y="3940200"/>
            <a:ext cx="153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Percent change from bas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1"/>
          <p:cNvSpPr/>
          <p:nvPr/>
        </p:nvSpPr>
        <p:spPr>
          <a:xfrm>
            <a:off x="1243080" y="5078520"/>
            <a:ext cx="310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464847"/>
                </a:solidFill>
                <a:latin typeface="Arial"/>
              </a:rPr>
              <a:t>Time since first dose (week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2"/>
          <p:cNvSpPr/>
          <p:nvPr/>
        </p:nvSpPr>
        <p:spPr>
          <a:xfrm>
            <a:off x="1243080" y="3174840"/>
            <a:ext cx="310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464847"/>
                </a:solidFill>
                <a:latin typeface="Arial"/>
              </a:rPr>
              <a:t>Time since first dose (week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3"/>
          <p:cNvSpPr/>
          <p:nvPr/>
        </p:nvSpPr>
        <p:spPr>
          <a:xfrm>
            <a:off x="5502240" y="5065560"/>
            <a:ext cx="3038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464847"/>
                </a:solidFill>
                <a:latin typeface="Arial"/>
              </a:rPr>
              <a:t>Time since first dose (week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4"/>
          <p:cNvSpPr/>
          <p:nvPr/>
        </p:nvSpPr>
        <p:spPr>
          <a:xfrm>
            <a:off x="5502240" y="3203640"/>
            <a:ext cx="284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464847"/>
                </a:solidFill>
                <a:latin typeface="Arial"/>
              </a:rPr>
              <a:t>Time since first dose (week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5"/>
          <p:cNvSpPr/>
          <p:nvPr/>
        </p:nvSpPr>
        <p:spPr>
          <a:xfrm rot="16200000">
            <a:off x="-47520" y="2070000"/>
            <a:ext cx="153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Percent change from bas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7"/>
          <p:cNvSpPr/>
          <p:nvPr/>
        </p:nvSpPr>
        <p:spPr>
          <a:xfrm rot="16200000">
            <a:off x="4117680" y="2070000"/>
            <a:ext cx="153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Percent change from bas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8"/>
          <p:cNvSpPr/>
          <p:nvPr/>
        </p:nvSpPr>
        <p:spPr>
          <a:xfrm rot="16200000">
            <a:off x="4117680" y="3940200"/>
            <a:ext cx="153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Percent change from bas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TextBox 2" descr=""/>
          <p:cNvPicPr/>
          <p:nvPr/>
        </p:nvPicPr>
        <p:blipFill>
          <a:blip r:embed="rId2"/>
          <a:stretch/>
        </p:blipFill>
        <p:spPr>
          <a:xfrm>
            <a:off x="1884240" y="5407200"/>
            <a:ext cx="557712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1" descr="Rizvi_Graph3.png"/>
          <p:cNvPicPr/>
          <p:nvPr/>
        </p:nvPicPr>
        <p:blipFill>
          <a:blip r:embed="rId1"/>
          <a:stretch/>
        </p:blipFill>
        <p:spPr>
          <a:xfrm>
            <a:off x="809640" y="1693800"/>
            <a:ext cx="7723080" cy="343692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Percent Change in Tumor Burden by Tumor PD-L1 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6c3d5"/>
                </a:solidFill>
                <a:latin typeface="Arial"/>
              </a:rPr>
              <a:t>With permission from Rizvi NA et al. </a:t>
            </a:r>
            <a:r>
              <a:rPr b="0" i="1" lang="en-US" sz="2000" spc="-1" strike="noStrike">
                <a:solidFill>
                  <a:srgbClr val="86c3d5"/>
                </a:solidFill>
                <a:latin typeface="Arial"/>
              </a:rPr>
              <a:t>Proc IASLC </a:t>
            </a:r>
            <a:r>
              <a:rPr b="0" lang="en-US" sz="2000" spc="-1" strike="noStrike">
                <a:solidFill>
                  <a:srgbClr val="86c3d5"/>
                </a:solidFill>
                <a:latin typeface="Arial"/>
              </a:rPr>
              <a:t>2015;Abstract ORAL02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683240" y="1387440"/>
          <a:ext cx="3776400" cy="1292400"/>
        </p:xfrm>
        <a:graphic>
          <a:graphicData uri="http://schemas.openxmlformats.org/drawingml/2006/table">
            <a:tbl>
              <a:tblPr/>
              <a:tblGrid>
                <a:gridCol w="2462040"/>
                <a:gridCol w="1314360"/>
              </a:tblGrid>
              <a:tr h="3236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 exp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22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≥</a:t>
                      </a: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 PD-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7 (6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 PD-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6 (3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22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5 (2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9" name="TextBox 8"/>
          <p:cNvSpPr/>
          <p:nvPr/>
        </p:nvSpPr>
        <p:spPr>
          <a:xfrm>
            <a:off x="4683240" y="2897280"/>
            <a:ext cx="31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4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Confirmed ongoing respon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9"/>
          <p:cNvSpPr/>
          <p:nvPr/>
        </p:nvSpPr>
        <p:spPr>
          <a:xfrm rot="16200000">
            <a:off x="-1063080" y="3258360"/>
            <a:ext cx="34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Percent change from bas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2"/>
          <p:cNvGrpSpPr/>
          <p:nvPr/>
        </p:nvGrpSpPr>
        <p:grpSpPr>
          <a:xfrm>
            <a:off x="4754520" y="1785960"/>
            <a:ext cx="182520" cy="825480"/>
            <a:chOff x="4754520" y="1785960"/>
            <a:chExt cx="182520" cy="825480"/>
          </a:xfrm>
        </p:grpSpPr>
        <p:sp>
          <p:nvSpPr>
            <p:cNvPr id="462" name="Rectangle 10"/>
            <p:cNvSpPr/>
            <p:nvPr/>
          </p:nvSpPr>
          <p:spPr>
            <a:xfrm>
              <a:off x="4754520" y="2428920"/>
              <a:ext cx="182520" cy="182520"/>
            </a:xfrm>
            <a:prstGeom prst="rect">
              <a:avLst/>
            </a:prstGeom>
            <a:solidFill>
              <a:srgbClr val="8da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4754520" y="2101680"/>
              <a:ext cx="182520" cy="1825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754520" y="1785960"/>
              <a:ext cx="182520" cy="182520"/>
            </a:xfrm>
            <a:prstGeom prst="rect">
              <a:avLst/>
            </a:pr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Antonia S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30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MEDI4736 is a human IgG1 monoclonal antibody that blocks PD-L1 binding to PD-1 and CD80 with high affinity and selectivity. 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Tremelimumab (T) is a selective human IgG2 monoclonal antibody inhibitor of CTLA-4. 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MEDI4736 and T have demonstrated acceptable safety profiles and clinical activity as single agents (</a:t>
            </a:r>
            <a:r>
              <a:rPr b="0" i="1" lang="en-US" sz="19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2015;Abstract 8032; </a:t>
            </a:r>
            <a:r>
              <a:rPr b="0" i="1" lang="en-US" sz="1900" spc="-1" strike="noStrike">
                <a:solidFill>
                  <a:srgbClr val="464847"/>
                </a:solidFill>
                <a:latin typeface="Arial"/>
              </a:rPr>
              <a:t>Immunotherapy</a:t>
            </a: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 2013;5:215). 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MEDI4736 and T block distinct interactions contributing to immunosuppression, and the combination may provide greater antitumor activity compared to either agent alone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Determine the efficacy and safety of MEDI4736 in combination with </a:t>
            </a:r>
            <a:br>
              <a:rPr sz="1700"/>
            </a:b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T in patients with advanced non-small cell lung cancer (NSCLC) after the failure of prior line(s) of therapy. 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icacy by Tumor PD-L1 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31"/>
          <p:cNvSpPr/>
          <p:nvPr/>
        </p:nvSpPr>
        <p:spPr>
          <a:xfrm>
            <a:off x="579600" y="3959280"/>
            <a:ext cx="7751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R = not re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duration of response was not reached in any of the treatment arms, regardless of PD-L1 ex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izvi N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Abstract ORAL02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615960" y="1760400"/>
          <a:ext cx="7923240" cy="2157480"/>
        </p:xfrm>
        <a:graphic>
          <a:graphicData uri="http://schemas.openxmlformats.org/drawingml/2006/table">
            <a:tbl>
              <a:tblPr/>
              <a:tblGrid>
                <a:gridCol w="1030320"/>
                <a:gridCol w="860400"/>
                <a:gridCol w="861840"/>
                <a:gridCol w="862200"/>
                <a:gridCol w="861840"/>
                <a:gridCol w="862200"/>
                <a:gridCol w="860400"/>
                <a:gridCol w="861840"/>
                <a:gridCol w="862200"/>
              </a:tblGrid>
              <a:tr h="512280">
                <a:tc rowSpan="2">
                  <a:txBody>
                    <a:bodyPr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4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 ≥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13680">
                      <a:solidFill>
                        <a:srgbClr val="404040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 &lt;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404040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m 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m B (n = 21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m 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1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m 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13680">
                      <a:solidFill>
                        <a:srgbClr val="404040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m 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404040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m 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m C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m D (n = 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51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 (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13680">
                      <a:solidFill>
                        <a:srgbClr val="404040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404040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1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 (wk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.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4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13680">
                      <a:solidFill>
                        <a:srgbClr val="404040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404040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.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31"/>
          <p:cNvSpPr/>
          <p:nvPr/>
        </p:nvSpPr>
        <p:spPr>
          <a:xfrm>
            <a:off x="628560" y="4503600"/>
            <a:ext cx="775188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G3/4 = Grade 3 o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ll treatment-related pulmonary events were pneumonit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treatment-related deaths occur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izvi N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Abstract ORAL02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603360" y="1390680"/>
          <a:ext cx="7923240" cy="3057480"/>
        </p:xfrm>
        <a:graphic>
          <a:graphicData uri="http://schemas.openxmlformats.org/drawingml/2006/table">
            <a:tbl>
              <a:tblPr/>
              <a:tblGrid>
                <a:gridCol w="1795320"/>
                <a:gridCol w="766800"/>
                <a:gridCol w="765000"/>
                <a:gridCol w="766800"/>
                <a:gridCol w="765360"/>
                <a:gridCol w="766800"/>
                <a:gridCol w="765000"/>
                <a:gridCol w="766800"/>
                <a:gridCol w="765360"/>
              </a:tblGrid>
              <a:tr h="571320">
                <a:tc rowSpan="2">
                  <a:txBody>
                    <a:bodyPr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(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m 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m 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m 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m 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9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3/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3/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3/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3/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57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ndocrin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Gastrointestin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7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epati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04040"/>
                          </a:solidFill>
                          <a:latin typeface="Arial"/>
                          <a:ea typeface="Wingdings"/>
                        </a:rPr>
                        <a:t>Pulmona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7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en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k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rst-line therapy with nivolumab/ipilimumab for patients with advanced NSCLC demonstrates a high level of clinical activity characterized by deep and durable responses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nfirmed ORR: 13% to 39%; median PFS: 4.9 to 10.6 month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ivolumab/ipilimumab is associated with a favorable safety profile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Low frequency of Grade 3 and 4 adverse events leading to    discontinuation, and no treatment-related death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linical activity was observed regardless of tumor PD-L1 expressi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ongoing Phase III CheckMate 227 trial is comparing nivolumab/ipilimumab to platinum-doublet chemotherapy for patients with chemotherapy-naïve Stage IV or recurrent NSCLC (NCT02477826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izvi N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Abstract ORAL02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going Phase Ib Dose Escalation Study Design (NCT0200094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31"/>
          <p:cNvSpPr/>
          <p:nvPr/>
        </p:nvSpPr>
        <p:spPr>
          <a:xfrm>
            <a:off x="646200" y="4068720"/>
            <a:ext cx="77166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Re-treatment is offered if progressive disease is noted during follow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s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aximum tolerated dose (MTD)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Secondary endpoints include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Respons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Antonia S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30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295880" y="1542960"/>
          <a:ext cx="4146480" cy="2019240"/>
        </p:xfrm>
        <a:graphic>
          <a:graphicData uri="http://schemas.openxmlformats.org/drawingml/2006/table">
            <a:tbl>
              <a:tblPr/>
              <a:tblGrid>
                <a:gridCol w="4146480"/>
              </a:tblGrid>
              <a:tr h="2019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464847"/>
                          </a:solidFill>
                          <a:uFillTx/>
                          <a:latin typeface="Arial"/>
                        </a:rPr>
                        <a:t>MEDI4736 (M) + T (x 1 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 (IV): 3, 10, 15 or 20 mg/kg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q4wk or 10 mg/kg q2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 (IV): 1, 3 or 10 mg/kg q4wk for 6 doses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q12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5" name="Line 2"/>
          <p:cNvSpPr/>
          <p:nvPr/>
        </p:nvSpPr>
        <p:spPr>
          <a:xfrm>
            <a:off x="3848040" y="2552760"/>
            <a:ext cx="44784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35040" y="1368360"/>
          <a:ext cx="3284640" cy="2514600"/>
        </p:xfrm>
        <a:graphic>
          <a:graphicData uri="http://schemas.openxmlformats.org/drawingml/2006/table">
            <a:tbl>
              <a:tblPr/>
              <a:tblGrid>
                <a:gridCol w="3284640"/>
              </a:tblGrid>
              <a:tr h="397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accrual (n = 388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117520">
                <a:tc>
                  <a:txBody>
                    <a:bodyPr anchor="t">
                      <a:noAutofit/>
                    </a:bodyPr>
                    <a:p>
                      <a:pPr marL="176040" indent="-176040"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dvanced NSCLC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mmunotherapy naïv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active or prior autoimmune disease </a:t>
                      </a:r>
                      <a:br>
                        <a:rPr sz="1900"/>
                      </a:b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within 2 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concurrent anticancer therap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646200" y="1352520"/>
          <a:ext cx="7835760" cy="2238480"/>
        </p:xfrm>
        <a:graphic>
          <a:graphicData uri="http://schemas.openxmlformats.org/drawingml/2006/table">
            <a:tbl>
              <a:tblPr/>
              <a:tblGrid>
                <a:gridCol w="2247840"/>
                <a:gridCol w="1396800"/>
                <a:gridCol w="1397160"/>
                <a:gridCol w="1397160"/>
                <a:gridCol w="1396800"/>
              </a:tblGrid>
              <a:tr h="585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hort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hort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hort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2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 (2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 (2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(2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CR at ≥16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 (4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 (5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 (4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(2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4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CR at ≥16 week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t RP3D (n = 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 (5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 (5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 Rates for Evaluable Patient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ed Cohorts* and RP3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Antonia S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30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1"/>
          <p:cNvSpPr/>
          <p:nvPr/>
        </p:nvSpPr>
        <p:spPr>
          <a:xfrm>
            <a:off x="719280" y="4071960"/>
            <a:ext cx="72324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Cohort-1 = MEDI4736 at 10-20 mg/kg q4wk/q2wk + T at 1 mg/kg; Cohort-2 = MEDI4736 at 10-20 mg/kg q4wk/q2wk + T at 3 mg/kg; Cohort-3 = MEDI4736 at 15 mg/kg q4wk + T at 10 mg/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1"/>
          <p:cNvSpPr/>
          <p:nvPr/>
        </p:nvSpPr>
        <p:spPr>
          <a:xfrm>
            <a:off x="825480" y="4946760"/>
            <a:ext cx="76834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The recommended Phase III dose (RP3D) was established at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4736 at 20 mg/kg, q4wk + T at 1 mg/kg, q4wk (M20 T1 q4w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1"/>
          <p:cNvSpPr/>
          <p:nvPr/>
        </p:nvSpPr>
        <p:spPr>
          <a:xfrm>
            <a:off x="719280" y="3684600"/>
            <a:ext cx="72324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ORR = objective response rate; DCR = disease control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636480" y="1352520"/>
          <a:ext cx="7875720" cy="3454560"/>
        </p:xfrm>
        <a:graphic>
          <a:graphicData uri="http://schemas.openxmlformats.org/drawingml/2006/table">
            <a:tbl>
              <a:tblPr/>
              <a:tblGrid>
                <a:gridCol w="2259000"/>
                <a:gridCol w="1405080"/>
                <a:gridCol w="1403280"/>
                <a:gridCol w="1405080"/>
                <a:gridCol w="1403280"/>
              </a:tblGrid>
              <a:tr h="585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-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hort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hort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hort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58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(4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2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CR at ≥16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 (3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 (4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(4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2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7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-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58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 (2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 (3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2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2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CR at ≥16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 (4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 (6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 (5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2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85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 (unknow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58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CR at ≥16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2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(4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 Rates for Evaluable Patients According to PD-L1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Antonia S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30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603360" y="1325520"/>
          <a:ext cx="7923240" cy="2952720"/>
        </p:xfrm>
        <a:graphic>
          <a:graphicData uri="http://schemas.openxmlformats.org/drawingml/2006/table">
            <a:tbl>
              <a:tblPr/>
              <a:tblGrid>
                <a:gridCol w="1795320"/>
                <a:gridCol w="766800"/>
                <a:gridCol w="765000"/>
                <a:gridCol w="766800"/>
                <a:gridCol w="765360"/>
                <a:gridCol w="766800"/>
                <a:gridCol w="765000"/>
                <a:gridCol w="766800"/>
                <a:gridCol w="765360"/>
              </a:tblGrid>
              <a:tr h="585000">
                <a:tc rowSpan="2">
                  <a:txBody>
                    <a:bodyPr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hort-1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hort-2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hort-3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l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ypothyroid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neumon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Antonia S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30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1"/>
          <p:cNvSpPr/>
          <p:nvPr/>
        </p:nvSpPr>
        <p:spPr>
          <a:xfrm>
            <a:off x="698400" y="4371840"/>
            <a:ext cx="79502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t RP3D, there was 1 treatment-related discontinuation due to sepsis,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nd no treatment-related death occur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reatment at RP3D resulted in the lowest frequency of steroid use (3/18 patients; 17%), and no patient required infliximab therap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9000"/>
            <a:ext cx="8226360" cy="457524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M20 T1 q4wk dose (RP3D) was selected for Phase III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rial development because this regimen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aximizes PD-L1 inhibition, which is likely driving overall activit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emonstrates a manageable safety profile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ncorporates a biologically active dose of T associated with clinical activity, particularly in PD-L1-negative tumor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verall, the AEs were manageable and generally reversibl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mong 18 patients who received RP3D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Grade 3 or 4 AEs were reported in 22%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ost frequently reported AEs were diarrhea, pruritus, rash and elevated AST/ALT (n = 2 each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17% required corticosteroids; 6% discontinued due to AE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Antonia S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30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9360"/>
            <a:ext cx="8226360" cy="475776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Combination doses containing 1 mg/kg of T demonstrated greater peripheral pharmacodynamic activity versus MEDI4736 alone (data not shown)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Overall, high levels of clinical activity were observed in patients with pretreated NSCLC, particularly those with PD-L1-negative tumors, compared to previous observations with MEDI4736 monotherapy: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T 1 mg/kg cohort: ORR = 38%; DCR at ≥16 weeks = 62%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All cohorts: ORR = 27%; DCR at ≥16 weeks = 48%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Antonia S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30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tamara dabney</dc:creator>
  <dc:description/>
  <dc:language>en-US</dc:language>
  <cp:lastModifiedBy>Microsoft Office User</cp:lastModifiedBy>
  <cp:lastPrinted>2015-09-16T17:07:09Z</cp:lastPrinted>
  <dcterms:modified xsi:type="dcterms:W3CDTF">2015-10-01T12:14:46Z</dcterms:modified>
  <cp:revision>696</cp:revision>
  <dc:subject/>
  <dc:title>A Phase III Trial Comparing mFOLFOX6 to mFOLFOX6 plus Bevacizumab in Stage II or III Carcinoma of the Colon: Results of NSABP Protocol C-08</dc:title>
</cp:coreProperties>
</file>