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B0D-830D-4BA1-B561-10FEB4B2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AE0-4391-4F4D-9224-E7CB2372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BDC-ACBF-4CC7-B492-56931EFF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65F-04B6-4655-976A-A5DD29DD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F25-C633-4128-B16E-FA3E87CB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A84F-90BD-4EFC-8B94-8CE9FAD6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A117-B397-4C78-8FF0-BAC24CC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4FF3-A2CC-4F86-9A2A-055EBE9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DC3B-6EE5-44B2-90D7-9D1DEF94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68D-F7FD-47BC-8ABE-89EF0B9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814-7FF0-4BD1-8967-72E6B90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CF83-F098-41AB-8F94-0638246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48DB-07AD-43BC-B65E-5EE9038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67E-169D-4FDE-B864-869934A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72B-85AD-47C8-BD49-DACCC00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B9F-B32F-424E-86F4-2832A13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0C1-86F8-46DE-8578-8CFA317B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6709-BB75-4399-BD9E-405CAA01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6FC-EBBB-4C15-B6C7-A57EAE8A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584-2003-4889-B42E-887BA25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F54-B88B-4A34-8FE7-FC2122B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31D-185A-412C-BA7F-B14D8A1F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029-DE1C-47DA-8356-F464069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94F-14A9-47B5-84E4-39799E7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9A767-CFA6-4BB4-A9E5-C879F066ED8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D13B7-E424-4467-A18C-8D8B781610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511AD-23C3-4AA7-814F-E2D62A3079C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8DECD-4711-45C4-85A7-79138288B3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19040" y="714240"/>
            <a:ext cx="83390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Overall Survival (OS) Results of the Phase III PROCLAIM Trial: Pemetrexed (Pem), Cisplatin (Cis) or Etoposide (Eto), Cis plus Thoracic Radiation Therapy (TRT) followed by Consolidation Cytotoxic Chemotherapy (CTX) in Locally Advanced Nonsquamous Non-Small Cell Lung Cancer (nsNSC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nan S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750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787320" y="1244520"/>
          <a:ext cx="7620120" cy="4297320"/>
        </p:xfrm>
        <a:graphic>
          <a:graphicData uri="http://schemas.openxmlformats.org/drawingml/2006/table">
            <a:tbl>
              <a:tblPr/>
              <a:tblGrid>
                <a:gridCol w="2603520"/>
                <a:gridCol w="1254240"/>
                <a:gridCol w="1254240"/>
                <a:gridCol w="1253880"/>
                <a:gridCol w="125424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 (n = 2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o/Cis (n = 2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normal neutrophil/granulocyte 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normal 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cositis/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normal platelet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hases: 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927000" y="1295280"/>
          <a:ext cx="7391520" cy="4214880"/>
        </p:xfrm>
        <a:graphic>
          <a:graphicData uri="http://schemas.openxmlformats.org/drawingml/2006/table">
            <a:tbl>
              <a:tblPr/>
              <a:tblGrid>
                <a:gridCol w="2525760"/>
                <a:gridCol w="1216080"/>
                <a:gridCol w="1216080"/>
                <a:gridCol w="1217520"/>
                <a:gridCol w="1216080"/>
              </a:tblGrid>
              <a:tr h="33840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 (n = 2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o/Cis (n = 2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yspha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normal neutrophil/granulocyte 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normal 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urrent Phase: Select A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OCLAIM trial did not demonstrate superiority in OS, in keeping with early stopping of enrollment for futility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OS: 26.8 mo (Pem/Cis) vs 25.0 mo (Eto/Cis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= 0.98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831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FS trended in favor of Pem/Cis, although it did not reach statistical significanc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PFS: 11.4 mo (Pem/Cis) vs 9.8 mo (Eto/Cis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= 0.86;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= 0.130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em/Cis arm had a significantly lower incidence of drug-related Grade 3 to 4 AEs (all phases), including neutropeni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/Cis combined with radiation therapy followed by consolidation Pem showed an acceptable safety prof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Cis/Pem/TRT </a:t>
            </a:r>
            <a:r>
              <a:rPr b="0" lang="en-US" sz="19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Pem demonstrated feasibility and was associated with an acceptable toxicity profile with fewer Grade 3 or 4 AEs: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Less febrile neutropenia but more mucositis and pneumonitis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However, the study is limited to nonsquamous NSCLC histology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study did not provide any molecular information and Cis/Pem/RT did not improve OS or PF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PROCLAIM trial raised several questions: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re 4 cycles of consolidation single-agent Pem necessary?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What was the interaction between consolidation Pem and pneumonitis?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Will the regimen be optimal in ALK+ subsets of NSCLC?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Is the routine use of this costly regimen justified given that it is not associated with OS or PFS benefits?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Standard therapy for inoperable Stage III NSCLC is concurrent chemoradiation therapy, and the role of consolidation chemotherapy is controversial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Ann Oncol 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013;Suppl 6:89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Pemetrexed (Pem) is a multitargeted antifolate with selective activity in nonsquamous NSCLC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J Thoracic Oncol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2011;6:64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Pem/platinum combinations can be administered at full systemic doses with concurrent thoracic radiation therapy (TRT)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Lung Cancer 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015;87:232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Determine if concurrent Pem/cisplatin (Cis) and TRT followed by consolidation Pem would result in a survival advantage in comparison to a commonly used chemoradiation regimen followed by a consolidation regimen of choice for patients with advanced nonsquamous NSCLC.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1793880" y="3198960"/>
            <a:ext cx="1228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3011400" y="2538000"/>
            <a:ext cx="189000" cy="560520"/>
            <a:chOff x="3011400" y="2538000"/>
            <a:chExt cx="189000" cy="560520"/>
          </a:xfrm>
        </p:grpSpPr>
        <p:sp>
          <p:nvSpPr>
            <p:cNvPr id="129" name="Line 14"/>
            <p:cNvSpPr/>
            <p:nvPr/>
          </p:nvSpPr>
          <p:spPr>
            <a:xfrm flipV="1">
              <a:off x="3011400" y="2538000"/>
              <a:ext cx="0" cy="5605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3011400" y="2538360"/>
              <a:ext cx="1890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3011400" y="2593080"/>
            <a:ext cx="189000" cy="1279080"/>
            <a:chOff x="3011400" y="2593080"/>
            <a:chExt cx="189000" cy="1279080"/>
          </a:xfrm>
        </p:grpSpPr>
        <p:sp>
          <p:nvSpPr>
            <p:cNvPr id="132" name="Line 17"/>
            <p:cNvSpPr/>
            <p:nvPr/>
          </p:nvSpPr>
          <p:spPr>
            <a:xfrm>
              <a:off x="3011400" y="2593080"/>
              <a:ext cx="0" cy="12790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3011400" y="3871800"/>
              <a:ext cx="1890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4"/>
          <p:cNvSpPr/>
          <p:nvPr/>
        </p:nvSpPr>
        <p:spPr>
          <a:xfrm>
            <a:off x="2171880" y="2819520"/>
            <a:ext cx="761760" cy="760320"/>
          </a:xfrm>
          <a:prstGeom prst="ellipse">
            <a:avLst/>
          </a:prstGeom>
          <a:solidFill>
            <a:srgbClr val="f98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58720" y="1971720"/>
          <a:ext cx="1549440" cy="2133720"/>
        </p:xfrm>
        <a:graphic>
          <a:graphicData uri="http://schemas.openxmlformats.org/drawingml/2006/table">
            <a:tbl>
              <a:tblPr/>
              <a:tblGrid>
                <a:gridCol w="154944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ly untreated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A-IIIB* nonsquamou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S 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31"/>
          <p:cNvSpPr/>
          <p:nvPr/>
        </p:nvSpPr>
        <p:spPr>
          <a:xfrm>
            <a:off x="3243240" y="1322280"/>
            <a:ext cx="20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Concurrent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ROCLAIM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814320" y="5222880"/>
            <a:ext cx="72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 survival (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64160" y="1766880"/>
          <a:ext cx="2090880" cy="749160"/>
        </p:xfrm>
        <a:graphic>
          <a:graphicData uri="http://schemas.openxmlformats.org/drawingml/2006/table">
            <a:tbl>
              <a:tblPr/>
              <a:tblGrid>
                <a:gridCol w="2090880"/>
              </a:tblGrid>
              <a:tr h="749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: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q3w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cycl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64160" y="2755800"/>
          <a:ext cx="2078280" cy="2930760"/>
        </p:xfrm>
        <a:graphic>
          <a:graphicData uri="http://schemas.openxmlformats.org/drawingml/2006/table">
            <a:tbl>
              <a:tblPr/>
              <a:tblGrid>
                <a:gridCol w="2078280"/>
              </a:tblGrid>
              <a:tr h="293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vestigator’s choic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to-Cis: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same dosing/schedule)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inorelbine-Cis: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in: 3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, d1, 8, q3wk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: 75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d1, q3wk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litaxel-Carboplatin: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: 20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, q3wk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ar: AUC = 6 IV, q3w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cyc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Line 18"/>
          <p:cNvSpPr/>
          <p:nvPr/>
        </p:nvSpPr>
        <p:spPr>
          <a:xfrm>
            <a:off x="5339520" y="3881520"/>
            <a:ext cx="1047960" cy="0"/>
          </a:xfrm>
          <a:prstGeom prst="line">
            <a:avLst/>
          </a:prstGeom>
          <a:ln w="2844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5339520" y="2116080"/>
            <a:ext cx="1047960" cy="0"/>
          </a:xfrm>
          <a:prstGeom prst="line">
            <a:avLst/>
          </a:prstGeom>
          <a:ln w="2844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63760" y="1736640"/>
          <a:ext cx="2248200" cy="1243080"/>
        </p:xfrm>
        <a:graphic>
          <a:graphicData uri="http://schemas.openxmlformats.org/drawingml/2006/table">
            <a:tbl>
              <a:tblPr/>
              <a:tblGrid>
                <a:gridCol w="2248200"/>
              </a:tblGrid>
              <a:tr h="1243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: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: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q3w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T: 66 Gy. 2 Gy/fx da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cycles (n = 30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43240" y="3098880"/>
          <a:ext cx="2268720" cy="1488960"/>
        </p:xfrm>
        <a:graphic>
          <a:graphicData uri="http://schemas.openxmlformats.org/drawingml/2006/table">
            <a:tbl>
              <a:tblPr/>
              <a:tblGrid>
                <a:gridCol w="2268720"/>
              </a:tblGrid>
              <a:tr h="1488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toposide (Eto):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1-5, q4w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: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/m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1, 8, q4w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T: 66 Gy. 2 Gy/fx da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cycles (n = 29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6" name="Line 18"/>
          <p:cNvSpPr/>
          <p:nvPr/>
        </p:nvSpPr>
        <p:spPr>
          <a:xfrm>
            <a:off x="3242520" y="1625760"/>
            <a:ext cx="203364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6323760" y="1613880"/>
            <a:ext cx="2235240" cy="111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5403960" y="1630440"/>
            <a:ext cx="88272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5315040" y="1131840"/>
            <a:ext cx="1098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Recovery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6261120" y="1322280"/>
            <a:ext cx="20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Consolidatio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2155680" y="2098800"/>
            <a:ext cx="109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Ar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2155680" y="3983040"/>
            <a:ext cx="109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Ar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5416560" y="2629080"/>
            <a:ext cx="1098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PR/CR/SD</a:t>
            </a:r>
            <a:br>
              <a:rPr sz="1400"/>
            </a:b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per</a:t>
            </a:r>
            <a:br>
              <a:rPr sz="1400"/>
            </a:b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REC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814320" y="4727520"/>
            <a:ext cx="526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Stratified for ECOG PS (0 vs 1), PET scan staging (yes vs no), gender and disease stage (IIIA vs III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Senan_Graph1.png"/>
          <p:cNvPicPr/>
          <p:nvPr/>
        </p:nvPicPr>
        <p:blipFill>
          <a:blip r:embed="rId1"/>
          <a:stretch/>
        </p:blipFill>
        <p:spPr>
          <a:xfrm>
            <a:off x="1009800" y="1490760"/>
            <a:ext cx="7430760" cy="377496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LAIM: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819520" y="1257480"/>
            <a:ext cx="5816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Median OS: 26.8 mo (Pem/Cis) vs 25.0 mo (Eto/Ci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HR = 0.98; </a:t>
            </a:r>
            <a:r>
              <a:rPr b="0" i="1" lang="en-US" sz="17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</a:t>
            </a:r>
            <a:r>
              <a:rPr b="0" lang="en-US" sz="17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= 0.83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Median follow-up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22.2 mo (Pem/Cis) vs 22.6 mo (Eto/Ci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384200" y="5303880"/>
            <a:ext cx="69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ime from randomization (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 rot="16200000">
            <a:off x="-1042200" y="2982240"/>
            <a:ext cx="34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urvival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146320" y="3701880"/>
            <a:ext cx="36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Pem-C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84480" y="4282920"/>
            <a:ext cx="36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Eto-C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225960" y="24256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2-yr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4381560" y="24256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3-yr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3632040" y="2865600"/>
            <a:ext cx="10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5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3632040" y="3441600"/>
            <a:ext cx="10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5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4863960" y="3203640"/>
            <a:ext cx="10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4826160" y="4025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3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Senan_Graph2.png"/>
          <p:cNvPicPr/>
          <p:nvPr/>
        </p:nvPicPr>
        <p:blipFill>
          <a:blip r:embed="rId1"/>
          <a:stretch/>
        </p:blipFill>
        <p:spPr>
          <a:xfrm>
            <a:off x="838080" y="1282680"/>
            <a:ext cx="7569360" cy="435132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: Subgroup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Senan_Graph3.png"/>
          <p:cNvPicPr/>
          <p:nvPr/>
        </p:nvPicPr>
        <p:blipFill>
          <a:blip r:embed="rId1"/>
          <a:stretch/>
        </p:blipFill>
        <p:spPr>
          <a:xfrm>
            <a:off x="927000" y="1440000"/>
            <a:ext cx="7577280" cy="38494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641680" y="170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Median PFS: 11.4 mo (Pem/Cis) vs 9.8 mo (Eto/C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HR = 0.86; </a:t>
            </a:r>
            <a:r>
              <a:rPr b="0" i="1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= 0.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1384200" y="5303880"/>
            <a:ext cx="69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ime from randomization (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 rot="16200000">
            <a:off x="-1042200" y="2982240"/>
            <a:ext cx="34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urvival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1866960" y="3689280"/>
            <a:ext cx="36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Pem-C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95d00"/>
                </a:solidFill>
                <a:latin typeface="Arial"/>
              </a:rPr>
              <a:t>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1905120" y="4270320"/>
            <a:ext cx="36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Eto-C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f9e45"/>
                </a:solidFill>
                <a:latin typeface="Arial"/>
              </a:rPr>
              <a:t>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1"/>
          <p:cNvSpPr/>
          <p:nvPr/>
        </p:nvSpPr>
        <p:spPr>
          <a:xfrm>
            <a:off x="844560" y="4705200"/>
            <a:ext cx="68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4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sease control rate: 80.7% (Pem/Cis) vs 70.7% (Eto/C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44560" y="1308240"/>
          <a:ext cx="7550280" cy="3340080"/>
        </p:xfrm>
        <a:graphic>
          <a:graphicData uri="http://schemas.openxmlformats.org/drawingml/2006/table">
            <a:tbl>
              <a:tblPr/>
              <a:tblGrid>
                <a:gridCol w="3333600"/>
                <a:gridCol w="1992600"/>
                <a:gridCol w="2224080"/>
              </a:tblGrid>
              <a:tr h="78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o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bjective response r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not ass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1"/>
          <p:cNvSpPr/>
          <p:nvPr/>
        </p:nvSpPr>
        <p:spPr>
          <a:xfrm>
            <a:off x="825480" y="4950000"/>
            <a:ext cx="7842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atients without progression: Pem/Cis (n = 99) vs Eto/Cis (n = 8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ll patients who received ≥1 systemic Tx: 33.2% (Pem/Cis) vs 36% (Eto/Ci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92160" y="1257480"/>
          <a:ext cx="7243920" cy="3620880"/>
        </p:xfrm>
        <a:graphic>
          <a:graphicData uri="http://schemas.openxmlformats.org/drawingml/2006/table">
            <a:tbl>
              <a:tblPr/>
              <a:tblGrid>
                <a:gridCol w="2975040"/>
                <a:gridCol w="2135160"/>
                <a:gridCol w="2133720"/>
              </a:tblGrid>
              <a:tr h="697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receiving ≥1 systemic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01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o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7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 (8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 (21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 (1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 (10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 (11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 (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 (9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 (7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 (7.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 (9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emcitab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 (6.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 (3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undergoing surg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ith curative i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 (4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 (3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Discontinuatio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941400" y="1562040"/>
          <a:ext cx="7243920" cy="3556080"/>
        </p:xfrm>
        <a:graphic>
          <a:graphicData uri="http://schemas.openxmlformats.org/drawingml/2006/table">
            <a:tbl>
              <a:tblPr/>
              <a:tblGrid>
                <a:gridCol w="2817720"/>
                <a:gridCol w="1474920"/>
                <a:gridCol w="1476360"/>
                <a:gridCol w="1474920"/>
              </a:tblGrid>
              <a:tr h="882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rela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o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ithin radiation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side thorax, outside of radiation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 rela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distant rela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rain 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First Sites of Disease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nan 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02T13:55:35Z</cp:lastPrinted>
  <dcterms:modified xsi:type="dcterms:W3CDTF">2015-09-04T15:51:02Z</dcterms:modified>
  <cp:revision>591</cp:revision>
  <dc:subject/>
  <dc:title>A Phase III Trial Comparing mFOLFOX6 to mFOLFOX6 plus Bevacizumab in Stage II or III Carcinoma of the Colon: Results of NSABP Protocol C-08</dc:title>
</cp:coreProperties>
</file>