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103-2FAE-452E-A532-54B386E9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D4B-8C73-4E96-805C-19F02891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E94-33B0-403B-BB90-D1060F9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DC0-1A85-4A1F-990D-3F5170E9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2C1-3F43-42BB-81D5-42ECEFB3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735-C62A-4EC0-9F86-CB82D1E3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A45-5421-40AC-9C7D-3B6A447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40F-B747-4231-9235-8BDDC11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1C9-8708-4C81-BFB9-87E9C26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23D-7167-4159-9382-B1976928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F66-C255-445B-B7BC-FC2929DA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F60-1AC3-485C-A1E4-D7D82CB5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AC0-AF5D-478F-B9F2-C29A3CC9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C170-ABAA-4F2D-ABFD-162FF34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AC09-B74B-47B9-A966-77AEF66B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A6E1-C2AB-4E00-8323-BF0F2FF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DCB9-2582-4D1D-96F6-F6660BB5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03DD-8776-47A2-BF0B-C8CC306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711-A94A-4465-8B7C-EFC58C7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C917-5FA3-4655-AB8E-C193DA2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6538-41C1-4F2A-AFC8-FA9FF9C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E777-C594-4C69-A1C2-41A0154D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AFDC-B761-4305-96B4-14237B5E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C8C9-0516-493A-8EFF-BAAC9568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1E81C35-6A7C-40F3-956D-7EF8FFEDAC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71A585D-80F8-42CE-AC98-044F7B9F13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42800" y="1155600"/>
            <a:ext cx="8226000" cy="35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Randomized, Double-Blind Phase 3 Trial of Adjuvant Erlotinib (E) versus Placebo Following Complete Tumor Resection with or without Adjuvant Chemotherapy in Patients (pts) with Stage IB-IIIA EGFR Positive (IHC/FISH) Non-Small Cell Lung Cancer: RADIANT Result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juvant Erlotinib (E) versus Placebo (P) in Non-Small Cell Lung Cancer (NSCLC) Patients (pts) with Tumors Carrying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Sensitizing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tations from the RADIANT Trial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Kelly K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hepherd FA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4;Abstract 7513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juvant Erlotinib (E) ver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(P) in Non-Smal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ung Cancer (NSCLC)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pts) with Tumors Carrying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Sensitizing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tations from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DIANT T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hepherd F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4;Abstract 751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ftr" idx="9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hepherd F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1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 significantly improves progression-free survival for patients with EGFR del19 or L858R mutation-positive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2;13:23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imited randomized data are available for patients with EGFR-mutant NSCLC in the adjuvant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results of the RADIANT trial to assess the role of erlotinib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 adjuvant therapy for patients with EGFR-expressing Stag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B-IIIA NSCLC failed to meet the primary endpoint of prolonged disease-free survival (DFS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esent the prospectively specified subgroup analysis on the efficacy of erlotinib in the EGFR mutation-positive subgroup of patients in the RADIANT trial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1"/>
          <p:cNvSpPr/>
          <p:nvPr/>
        </p:nvSpPr>
        <p:spPr>
          <a:xfrm>
            <a:off x="801720" y="4210200"/>
            <a:ext cx="775152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R = not reach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t significant due to hierarchical tes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Tx duration: Erlotinib (21.2 mo), placebo (21.9 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Group 35"/>
          <p:cNvGraphicFramePr/>
          <p:nvPr/>
        </p:nvGraphicFramePr>
        <p:xfrm>
          <a:off x="878040" y="1701720"/>
          <a:ext cx="7351200" cy="2448360"/>
        </p:xfrm>
        <a:graphic>
          <a:graphicData uri="http://schemas.openxmlformats.org/drawingml/2006/table">
            <a:tbl>
              <a:tblPr/>
              <a:tblGrid>
                <a:gridCol w="2817720"/>
                <a:gridCol w="1447560"/>
                <a:gridCol w="1422360"/>
                <a:gridCol w="1663560"/>
              </a:tblGrid>
              <a:tr h="453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5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R,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-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36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DFS (n = 102, 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el19 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L858R 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6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6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8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6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9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1, 0.039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8, 0.2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55, 0.0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OS (n = 102, 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09, 0.8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ease-Free and Overal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457200" y="6046920"/>
            <a:ext cx="85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hepherd F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1"/>
          <p:cNvSpPr/>
          <p:nvPr/>
        </p:nvSpPr>
        <p:spPr>
          <a:xfrm>
            <a:off x="825480" y="4083120"/>
            <a:ext cx="7441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From Wald t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R for interaction effect from multivariate Cox regression with effect for treatment, EGFR M+ status and the interaction of the tw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Group 35"/>
          <p:cNvGraphicFramePr/>
          <p:nvPr/>
        </p:nvGraphicFramePr>
        <p:xfrm>
          <a:off x="909360" y="1823760"/>
          <a:ext cx="7269120" cy="2104560"/>
        </p:xfrm>
        <a:graphic>
          <a:graphicData uri="http://schemas.openxmlformats.org/drawingml/2006/table">
            <a:tbl>
              <a:tblPr/>
              <a:tblGrid>
                <a:gridCol w="2133360"/>
                <a:gridCol w="1491480"/>
                <a:gridCol w="1821960"/>
                <a:gridCol w="1821960"/>
              </a:tblGrid>
              <a:tr h="45396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dian D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R,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+ (n = 102, 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6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8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1, 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WT (n = 458, 2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2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5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94, 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64847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7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, 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dictive Value of EGFR M+ Status for 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457200" y="6046920"/>
            <a:ext cx="85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hepherd F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erse Events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Group 91"/>
          <p:cNvGraphicFramePr/>
          <p:nvPr/>
        </p:nvGraphicFramePr>
        <p:xfrm>
          <a:off x="757080" y="1478160"/>
          <a:ext cx="7632360" cy="3500280"/>
        </p:xfrm>
        <a:graphic>
          <a:graphicData uri="http://schemas.openxmlformats.org/drawingml/2006/table">
            <a:tbl>
              <a:tblPr/>
              <a:tblGrid>
                <a:gridCol w="3883320"/>
                <a:gridCol w="1874520"/>
                <a:gridCol w="1874520"/>
              </a:tblGrid>
              <a:tr h="34632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5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Es leading to Tx 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rug-re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Es leading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ose interru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os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B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Grade ≥3 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Grade ≥3 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11" name="Footer Placeholder 4"/>
          <p:cNvSpPr/>
          <p:nvPr/>
        </p:nvSpPr>
        <p:spPr>
          <a:xfrm>
            <a:off x="457200" y="6046920"/>
            <a:ext cx="85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hepherd F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though not statistically significant, the data from this study  suggest that adjuvant erlotinib may prolong DFS in patients with completely resected EGFR M+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terpretation is limited due to imbalances in stage, use of prior adjuvant chemotherapy and tumor size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mall sample size and immature follow-up limit overall survival interpret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ossover to EGFR TKI therapy cannot be determined from th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ata collected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457200" y="6046920"/>
            <a:ext cx="85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hepherd F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CHEMIST: Adjuvant Lung Cancer Enrichment Marker Identification and Sequencing Trial for Patients with Nonsquamous NSCL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Content Placeholder 3"/>
          <p:cNvGraphicFramePr/>
          <p:nvPr/>
        </p:nvGraphicFramePr>
        <p:xfrm>
          <a:off x="703440" y="1471320"/>
          <a:ext cx="7702560" cy="3680640"/>
        </p:xfrm>
        <a:graphic>
          <a:graphicData uri="http://schemas.openxmlformats.org/drawingml/2006/table">
            <a:tbl>
              <a:tblPr/>
              <a:tblGrid>
                <a:gridCol w="1150560"/>
                <a:gridCol w="2793960"/>
                <a:gridCol w="1904760"/>
                <a:gridCol w="1852920"/>
              </a:tblGrid>
              <a:tr h="5605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ial catego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CHEMIST – Screen component (A15121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CHEMIST – ALK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ECOG-E451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CHEMIST – EGFR (AO811O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Tar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Registry/intervention with biopsy at recur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ALK-posi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EGFR muta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Preval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All com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~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~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Target accr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6,000 to 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3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2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Primary end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Central genotyping to facilitate accr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  <a:tabLst>
                          <a:tab algn="l" pos="0"/>
                        </a:tabLst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Feasibility of FFPE tissue collection for CCG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Overall survi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Overall survi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Trea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Crizotinib v placeb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500" spc="-1" strike="noStrike">
                          <a:solidFill>
                            <a:srgbClr val="404040"/>
                          </a:solidFill>
                          <a:latin typeface="Arial"/>
                          <a:ea typeface="ＭＳ Ｐゴシック"/>
                        </a:rPr>
                        <a:t>Erlotinib v placeb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7" name="Footer Placeholder 4"/>
          <p:cNvSpPr/>
          <p:nvPr/>
        </p:nvSpPr>
        <p:spPr>
          <a:xfrm>
            <a:off x="457200" y="6046920"/>
            <a:ext cx="85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ww.clinicaltrials.gov; NCT02194738;NCT02201992;NCT021932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42800" y="1065960"/>
            <a:ext cx="8226000" cy="364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Randomized, Double-Blind Phase 3 Trial of Adjuvant Erlotinib (E) versus Placebo (P) Following Complete Tumor Resection with or without Adjuvant Chemotherapy in Patients (pts) with Stage IB-IIIA EGFR Positive (IHC/FISH) Non-Small Cell Lung Cancer (NSCLC): RADIAN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Kelly K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4;Abstract 75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ftr" idx="7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Kelly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 has proven efficacy for advanced NSCLC in the second- and third-line settings in unselected patients and as first-line therapy in patients with EGFR mut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though adjuvant chemotherapy for early-stage NSCLC has improved survival rate, not all patients are candidates for cisplatin-based regimens due to toxicity concer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xploratory analyses of previous studies suggested that EGFR protein expression and EGFR high copy number or amplification may be predictive markers of benefit for EGFR tyrosine kinase inhibitor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J Clin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06;24:5034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safety and efficacy of adjuvant erlotinib in patients with Stage IB-IIIA EGFR-positive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Group 33"/>
          <p:cNvGraphicFramePr/>
          <p:nvPr/>
        </p:nvGraphicFramePr>
        <p:xfrm>
          <a:off x="770040" y="2033640"/>
          <a:ext cx="3147480" cy="1623600"/>
        </p:xfrm>
        <a:graphic>
          <a:graphicData uri="http://schemas.openxmlformats.org/drawingml/2006/table">
            <a:tbl>
              <a:tblPr/>
              <a:tblGrid>
                <a:gridCol w="3147840"/>
              </a:tblGrid>
              <a:tr h="392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97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2308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ge IB-IIIA NS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lete surgical res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Group 38"/>
          <p:cNvGraphicFramePr/>
          <p:nvPr/>
        </p:nvGraphicFramePr>
        <p:xfrm>
          <a:off x="5495760" y="1509120"/>
          <a:ext cx="2883960" cy="98100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0 mg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6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Line 2"/>
          <p:cNvSpPr/>
          <p:nvPr/>
        </p:nvSpPr>
        <p:spPr>
          <a:xfrm>
            <a:off x="3917880" y="2856600"/>
            <a:ext cx="1251000" cy="360"/>
          </a:xfrm>
          <a:prstGeom prst="line">
            <a:avLst/>
          </a:prstGeom>
          <a:ln w="28575">
            <a:solidFill>
              <a:srgbClr val="767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5173560" y="2037600"/>
            <a:ext cx="322200" cy="655560"/>
            <a:chOff x="5173560" y="2037600"/>
            <a:chExt cx="322200" cy="655560"/>
          </a:xfrm>
        </p:grpSpPr>
        <p:sp>
          <p:nvSpPr>
            <p:cNvPr id="134" name="Line 14"/>
            <p:cNvSpPr/>
            <p:nvPr/>
          </p:nvSpPr>
          <p:spPr>
            <a:xfrm flipV="1">
              <a:off x="5173560" y="2037600"/>
              <a:ext cx="360" cy="6555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5173560" y="2037600"/>
              <a:ext cx="322200" cy="3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36" name="Group 16"/>
          <p:cNvGrpSpPr/>
          <p:nvPr/>
        </p:nvGrpSpPr>
        <p:grpSpPr>
          <a:xfrm>
            <a:off x="5173560" y="2377440"/>
            <a:ext cx="322200" cy="1279800"/>
            <a:chOff x="5173560" y="2377440"/>
            <a:chExt cx="322200" cy="1279800"/>
          </a:xfrm>
        </p:grpSpPr>
        <p:sp>
          <p:nvSpPr>
            <p:cNvPr id="137" name="Line 17"/>
            <p:cNvSpPr/>
            <p:nvPr/>
          </p:nvSpPr>
          <p:spPr>
            <a:xfrm>
              <a:off x="5173560" y="2377440"/>
              <a:ext cx="360" cy="127944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5173560" y="3656880"/>
              <a:ext cx="322200" cy="3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aphicFrame>
        <p:nvGraphicFramePr>
          <p:cNvPr id="139" name="Group 42"/>
          <p:cNvGraphicFramePr/>
          <p:nvPr/>
        </p:nvGraphicFramePr>
        <p:xfrm>
          <a:off x="5495760" y="3137760"/>
          <a:ext cx="2883960" cy="98100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3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0" name="Oval 4"/>
          <p:cNvSpPr/>
          <p:nvPr/>
        </p:nvSpPr>
        <p:spPr>
          <a:xfrm>
            <a:off x="4021200" y="2356920"/>
            <a:ext cx="1004400" cy="1002960"/>
          </a:xfrm>
          <a:prstGeom prst="ellipse">
            <a:avLst/>
          </a:prstGeom>
          <a:solidFill>
            <a:srgbClr val="ff6600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I RADIANT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770040" y="4338360"/>
            <a:ext cx="753228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djuvant chemotherapy (4 cycles of platinum-based doublet) 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uration of treatme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isease-free survival (DF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Kelly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975240" y="1874880"/>
            <a:ext cx="7410960" cy="318816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1207080" y="1502640"/>
            <a:ext cx="314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l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283000" y="1502640"/>
            <a:ext cx="310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GFR M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 rot="16200000">
            <a:off x="-696240" y="3210480"/>
            <a:ext cx="2958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isease-free Survival Prob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1207080" y="5139000"/>
            <a:ext cx="3141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isease-free Survival (Month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3426120" y="2044440"/>
            <a:ext cx="73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3425400" y="2319480"/>
            <a:ext cx="734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1305720" y="3367080"/>
            <a:ext cx="236808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 (156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: 48.2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 (254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: 50.5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og-rank test: </a:t>
            </a:r>
            <a:r>
              <a:rPr b="0" i="1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32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R: 0.90 (95% CI: 0.741, 1.10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5326200" y="3020400"/>
            <a:ext cx="315756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 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(32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: 28.5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 (39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: 46.4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og-rank test: </a:t>
            </a:r>
            <a:r>
              <a:rPr b="0" i="1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0391 </a:t>
            </a:r>
            <a:br>
              <a:rPr sz="1200"/>
            </a:br>
            <a:r>
              <a:rPr b="0" lang="en-US" sz="1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(not statistically significant due to hierarchical testing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R: 0.61 (95% CI: 0.384, 0.98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 rot="16200000">
            <a:off x="3276000" y="3210480"/>
            <a:ext cx="2958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isease-free Survival Prob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5179680" y="5139000"/>
            <a:ext cx="3141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isease-free Survival (Month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" name="Straight Connector 3"/>
          <p:cNvCxnSpPr/>
          <p:nvPr/>
        </p:nvCxnSpPr>
        <p:spPr>
          <a:xfrm>
            <a:off x="3149280" y="2194560"/>
            <a:ext cx="264600" cy="360"/>
          </a:xfrm>
          <a:prstGeom prst="straightConnector1">
            <a:avLst/>
          </a:prstGeom>
          <a:ln w="28575">
            <a:solidFill>
              <a:srgbClr val="ff6600"/>
            </a:solidFill>
            <a:round/>
          </a:ln>
        </p:spPr>
      </p:cxnSp>
      <p:cxnSp>
        <p:nvCxnSpPr>
          <p:cNvPr id="159" name="Straight Connector 21"/>
          <p:cNvCxnSpPr/>
          <p:nvPr/>
        </p:nvCxnSpPr>
        <p:spPr>
          <a:xfrm>
            <a:off x="3149280" y="2468880"/>
            <a:ext cx="264600" cy="360"/>
          </a:xfrm>
          <a:prstGeom prst="straightConnector1">
            <a:avLst/>
          </a:prstGeom>
          <a:ln w="28575">
            <a:solidFill>
              <a:srgbClr val="80c12c"/>
            </a:solidFill>
            <a:round/>
          </a:ln>
        </p:spPr>
      </p:cxnSp>
      <p:sp>
        <p:nvSpPr>
          <p:cNvPr id="160" name="TextBox 22"/>
          <p:cNvSpPr/>
          <p:nvPr/>
        </p:nvSpPr>
        <p:spPr>
          <a:xfrm>
            <a:off x="7584120" y="2044440"/>
            <a:ext cx="73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23"/>
          <p:cNvSpPr/>
          <p:nvPr/>
        </p:nvSpPr>
        <p:spPr>
          <a:xfrm>
            <a:off x="7583400" y="2319480"/>
            <a:ext cx="734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Straight Connector 24"/>
          <p:cNvCxnSpPr/>
          <p:nvPr/>
        </p:nvCxnSpPr>
        <p:spPr>
          <a:xfrm>
            <a:off x="7307280" y="2194560"/>
            <a:ext cx="264600" cy="360"/>
          </a:xfrm>
          <a:prstGeom prst="straightConnector1">
            <a:avLst/>
          </a:prstGeom>
          <a:ln w="28575">
            <a:solidFill>
              <a:srgbClr val="ff6600"/>
            </a:solidFill>
            <a:round/>
          </a:ln>
        </p:spPr>
      </p:cxnSp>
      <p:cxnSp>
        <p:nvCxnSpPr>
          <p:cNvPr id="163" name="Straight Connector 25"/>
          <p:cNvCxnSpPr/>
          <p:nvPr/>
        </p:nvCxnSpPr>
        <p:spPr>
          <a:xfrm>
            <a:off x="7307280" y="2468880"/>
            <a:ext cx="264600" cy="360"/>
          </a:xfrm>
          <a:prstGeom prst="straightConnector1">
            <a:avLst/>
          </a:prstGeom>
          <a:ln w="28575">
            <a:solidFill>
              <a:srgbClr val="80c12c"/>
            </a:solidFill>
            <a:round/>
          </a:ln>
        </p:spPr>
      </p:cxnSp>
      <p:sp>
        <p:nvSpPr>
          <p:cNvPr id="164" name="Footer Placeholder 4"/>
          <p:cNvSpPr/>
          <p:nvPr/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Kelly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851760" y="1958400"/>
            <a:ext cx="7632360" cy="32835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al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457200" y="60440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Kelly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1118160" y="1502640"/>
            <a:ext cx="314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l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5333760" y="1502640"/>
            <a:ext cx="310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GFR M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 rot="16200000">
            <a:off x="-558360" y="3273840"/>
            <a:ext cx="2504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verall Survival Prob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1118160" y="5240520"/>
            <a:ext cx="3141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verall Survival (Month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3337200" y="2044440"/>
            <a:ext cx="73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3336480" y="2319480"/>
            <a:ext cx="734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1216800" y="3430800"/>
            <a:ext cx="236808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 (95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not reac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 (182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not reac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og-rank test: </a:t>
            </a:r>
            <a:r>
              <a:rPr b="0" i="1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3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R: 1.13 (95% CI: 0.881, 1.44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359680" y="3083760"/>
            <a:ext cx="236808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 (13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not reac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 (22 events)</a:t>
            </a:r>
            <a:br>
              <a:rPr sz="1200"/>
            </a:b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not reac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og-rank test: </a:t>
            </a:r>
            <a:r>
              <a:rPr b="0" i="1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815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R: 1.09 (95% CI: 0.545, 2.1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 rot="16200000">
            <a:off x="3553560" y="3273840"/>
            <a:ext cx="2504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verall Survival Prob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5230440" y="5240520"/>
            <a:ext cx="3141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verall Survival (Month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Straight Connector 20"/>
          <p:cNvCxnSpPr/>
          <p:nvPr/>
        </p:nvCxnSpPr>
        <p:spPr>
          <a:xfrm>
            <a:off x="3060360" y="2194560"/>
            <a:ext cx="264600" cy="360"/>
          </a:xfrm>
          <a:prstGeom prst="straightConnector1">
            <a:avLst/>
          </a:prstGeom>
          <a:ln w="28575">
            <a:solidFill>
              <a:srgbClr val="ff6600"/>
            </a:solidFill>
            <a:round/>
          </a:ln>
        </p:spPr>
      </p:cxnSp>
      <p:cxnSp>
        <p:nvCxnSpPr>
          <p:cNvPr id="180" name="Straight Connector 21"/>
          <p:cNvCxnSpPr/>
          <p:nvPr/>
        </p:nvCxnSpPr>
        <p:spPr>
          <a:xfrm>
            <a:off x="3060360" y="2468880"/>
            <a:ext cx="264600" cy="360"/>
          </a:xfrm>
          <a:prstGeom prst="straightConnector1">
            <a:avLst/>
          </a:prstGeom>
          <a:ln w="28575">
            <a:solidFill>
              <a:srgbClr val="80c12c"/>
            </a:solidFill>
            <a:round/>
          </a:ln>
        </p:spPr>
      </p:cxnSp>
      <p:sp>
        <p:nvSpPr>
          <p:cNvPr id="181" name="TextBox 22"/>
          <p:cNvSpPr/>
          <p:nvPr/>
        </p:nvSpPr>
        <p:spPr>
          <a:xfrm>
            <a:off x="7812720" y="2044440"/>
            <a:ext cx="73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rlotini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23"/>
          <p:cNvSpPr/>
          <p:nvPr/>
        </p:nvSpPr>
        <p:spPr>
          <a:xfrm>
            <a:off x="7812000" y="2319480"/>
            <a:ext cx="734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ceb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Connector 24"/>
          <p:cNvCxnSpPr/>
          <p:nvPr/>
        </p:nvCxnSpPr>
        <p:spPr>
          <a:xfrm>
            <a:off x="7535880" y="2194560"/>
            <a:ext cx="264600" cy="360"/>
          </a:xfrm>
          <a:prstGeom prst="straightConnector1">
            <a:avLst/>
          </a:prstGeom>
          <a:ln w="28575">
            <a:solidFill>
              <a:srgbClr val="ff6600"/>
            </a:solidFill>
            <a:round/>
          </a:ln>
        </p:spPr>
      </p:cxnSp>
      <p:cxnSp>
        <p:nvCxnSpPr>
          <p:cNvPr id="184" name="Straight Connector 25"/>
          <p:cNvCxnSpPr/>
          <p:nvPr/>
        </p:nvCxnSpPr>
        <p:spPr>
          <a:xfrm>
            <a:off x="7535880" y="2468880"/>
            <a:ext cx="264600" cy="360"/>
          </a:xfrm>
          <a:prstGeom prst="straightConnector1">
            <a:avLst/>
          </a:prstGeom>
          <a:ln w="28575">
            <a:solidFill>
              <a:srgbClr val="80c12c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1"/>
          <p:cNvSpPr/>
          <p:nvPr/>
        </p:nvSpPr>
        <p:spPr>
          <a:xfrm>
            <a:off x="820800" y="4551840"/>
            <a:ext cx="7751520" cy="1014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rug-related AEs leading to discontinuation: erlotinib (26.7%), placebo (2.3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drug-related AEs led to de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4308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93cddd"/>
              </a:solidFill>
              <a:latin typeface="Arial"/>
              <a:ea typeface="ＭＳ Ｐゴシック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Group 91"/>
          <p:cNvGraphicFramePr/>
          <p:nvPr/>
        </p:nvGraphicFramePr>
        <p:xfrm>
          <a:off x="807840" y="1465560"/>
          <a:ext cx="7548480" cy="2777760"/>
        </p:xfrm>
        <a:graphic>
          <a:graphicData uri="http://schemas.openxmlformats.org/drawingml/2006/table">
            <a:tbl>
              <a:tblPr/>
              <a:tblGrid>
                <a:gridCol w="2467800"/>
                <a:gridCol w="1270080"/>
                <a:gridCol w="1270080"/>
                <a:gridCol w="1270080"/>
                <a:gridCol w="1270080"/>
              </a:tblGrid>
              <a:tr h="346320">
                <a:tc rowSpan="2"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E ≥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n = 61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n = 34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≥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≥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r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89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Kelly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djuvant erlotinib did not prolong DFS in patients with early-stage resected EGFR-expressing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the subset of patients whose tumors had del19 and L858R mutations, DFS favored erlotini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t statistically significant due to hierarchical testing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safety profile of erlotinib was consistent with that observed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the advanced disease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dditional biomarker analyses are ongo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Kelly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cu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magnitude of gain in DFS is consistent in the RADIANT trial, SELECT trial and MSKCC experience previously repor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gain in DFS in patients with EGFR mutations is substantial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nd clinically meaningfu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otentially much more than adjuvant chemotherap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effect on OS has not yet been determined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data with adjuvant erlotinib in patients with an activating EGFR mutation are persuasive and compell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457200" y="6046920"/>
            <a:ext cx="85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Hanna N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4;Abstract 75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0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  <Words>1295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17T12:16:42Z</cp:lastPrinted>
  <dcterms:modified xsi:type="dcterms:W3CDTF">2015-09-17T15:51:26Z</dcterms:modified>
  <cp:revision>670</cp:revision>
  <dc:subject/>
  <dc:title>A Phase III Trial Comparing mFOLFOX6 to mFOLFOX6 plus Bevacizumab in Stage II or III Carcinoma of the Colon: Results of NSABP Protocol C-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