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104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992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0180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104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992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6F6-0996-4154-8E22-CCF6285B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B634-6636-4F0C-98A2-F3A858C0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08C-3D97-4B9E-9A51-B07E8F7C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BD7-81EC-470A-9438-6FF4CB3F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5F9-54D3-4BAB-A010-57812EA5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00B-50AB-4F8C-9272-D71635A2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4E57-D74A-4D42-B4C5-7E3C004A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7935-ED07-4544-A55B-15E2C72F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371-9461-43E4-8108-D4BF00FC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09A3-BB02-4D42-B942-139F46AC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5757-3F1C-48E7-A554-32343617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6104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992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0180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6104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992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9E12-6521-433F-BAD4-E1521527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6104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992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0180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6104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992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5C48-85CC-4D78-9C25-B637E6BB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D88D-29F4-4EEC-9CC0-19DD5355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463A-32C9-44DB-A624-DB749946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F29C-8476-4D47-9E8D-021BC804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906F-9B78-420E-901C-909DE94A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3554-994F-453B-9793-C5EE48C5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02B6-3E98-4D19-A525-50668BF5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E9F3-A14A-45BA-AB3D-99F4DEE6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8ACF-D430-4AEF-A70E-0C937EA0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D0C6-FCD2-405D-A2D1-3AA71BA6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2725-D547-413A-B680-6034F732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46104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1992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90180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46104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1992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7557-6366-4F00-9376-620081FD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000" cy="152532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66560"/>
            <a:ext cx="7772040" cy="42397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000" cy="4570200"/>
          </a:xfrm>
          <a:prstGeom prst="rect">
            <a:avLst/>
          </a:prstGeom>
          <a:ln w="9525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econd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Third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Fourth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464847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Fifth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F40B8D4-9EA0-4452-8834-8ED79D7FFE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000" cy="1525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66560"/>
            <a:ext cx="7772040" cy="4239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000" cy="4570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econd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Third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Fourth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464847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Fifth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DFC4085-8EF6-45FF-8C5A-ED2941DD807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42800" y="714240"/>
            <a:ext cx="8226000" cy="399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ZD9291 in EGFR Inhibitor–Resistant Non–Small-Cell Lung Cancer</a:t>
            </a:r>
            <a:r>
              <a:rPr b="1" lang="en-US" sz="30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ZD9291, a Mutant-Selective EGFR Inhibitor, as First-Line Treatment for EGFR Mutation-Positive Advanced Non-Small Cell Lung Cancer (NSCLC): Results from a Phase 1 Expansion Cohort</a:t>
            </a:r>
            <a:r>
              <a:rPr b="1" lang="en-US" sz="30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55760" y="4707000"/>
            <a:ext cx="8226000" cy="152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</a:pPr>
            <a:r>
              <a:rPr b="1" lang="en-US" sz="20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1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Jänne PA et al.</a:t>
            </a:r>
            <a:br>
              <a:rPr sz="2000"/>
            </a:br>
            <a:r>
              <a:rPr b="0" i="1" lang="cs-CZ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 Engl J Med </a:t>
            </a:r>
            <a:r>
              <a:rPr b="0" lang="cs-CZ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372(18):1689-99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</a:pPr>
            <a:r>
              <a:rPr b="0" lang="en-US" sz="20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2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Ramalingam SS et al.</a:t>
            </a:r>
            <a:br>
              <a:rPr sz="2000"/>
            </a:b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oc ASCO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Abstract 8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d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is study demonstrated promising efficacy with AZD9291 in patients who have experienced disease progression on first-generation EGFR TKI therap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wing to the selectivity of third-generation TKIs for the mutant forms of EGFR, treatment with these agents results in lower incidences of rash and diarrhea than have been observed with first-generation EGFR TKI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is study underscores the importance of repeating biopsies with molecular analysis at the time of disease progression in patients with EGFR-mutated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n the immediate future, before third-generation TKIs are approved, these patients should be considered for ongoing clinical trials with T790M-specific EGFR TKI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4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Govindan R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372(18):1760-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442800" y="714240"/>
            <a:ext cx="822600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ZD9291, a Mutant-Selective EGFR Inhibitor, as First-Line Treatment for EGFR Mutation-Positive Advanced Non-Small Cell Lung Cancer (NSCLC): Results from a Phas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ansion Coh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55760" y="4707000"/>
            <a:ext cx="82260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Ramalingam SS et 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Abstract 8000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ftr" idx="15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Ramalingam S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 2015;Abstract 800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EGFR T790M mutation is responsible for resistance to currently approved EGFR tyrosine kinase inhibitors (TKIs) in approximately 60% of case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lin Cancer Res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3;19:2240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ZD9291 is an irreversible EGFR TKI that is selective for sensitizing (EGFRm) and T790M resistance mutations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ZD9291 has demonstrated activity in T790M-positive NSCLC that has progressed on prior therapy with EGFR TKI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edian PFS: 13.5 months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nn Oncol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26(Suppl 1):160)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ssess the efficacy and safety of AZD9291 as first-line therapy for patients with EGFRm-positive advanced NSCLC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ftr" idx="16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Ramalingam S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 2015;Abstract 800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ase I/II Trial Design (NCT018026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7519320" y="1559160"/>
            <a:ext cx="322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7234920" y="2261520"/>
            <a:ext cx="322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1"/>
          <p:cNvSpPr/>
          <p:nvPr/>
        </p:nvSpPr>
        <p:spPr>
          <a:xfrm>
            <a:off x="990720" y="5035680"/>
            <a:ext cx="74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 = dose-escalation phase; b = cohort expansion ph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*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ior treatment for advanced NSCLC not permissible in this coh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1"/>
          <p:cNvGrpSpPr/>
          <p:nvPr/>
        </p:nvGrpSpPr>
        <p:grpSpPr>
          <a:xfrm>
            <a:off x="1619640" y="1315080"/>
            <a:ext cx="5867280" cy="3584880"/>
            <a:chOff x="1619640" y="1315080"/>
            <a:chExt cx="5867280" cy="3584880"/>
          </a:xfrm>
        </p:grpSpPr>
        <p:sp>
          <p:nvSpPr>
            <p:cNvPr id="234" name="Rectangle 31"/>
            <p:cNvSpPr/>
            <p:nvPr/>
          </p:nvSpPr>
          <p:spPr>
            <a:xfrm>
              <a:off x="1619640" y="1315080"/>
              <a:ext cx="5867280" cy="333000"/>
            </a:xfrm>
            <a:prstGeom prst="rect">
              <a:avLst/>
            </a:prstGeom>
            <a:solidFill>
              <a:srgbClr val="17375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Rolling six desig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5" name="Straight Connector 8"/>
            <p:cNvCxnSpPr/>
            <p:nvPr/>
          </p:nvCxnSpPr>
          <p:spPr>
            <a:xfrm>
              <a:off x="2578680" y="2071080"/>
              <a:ext cx="211680" cy="360"/>
            </a:xfrm>
            <a:prstGeom prst="straightConnector1">
              <a:avLst/>
            </a:prstGeom>
            <a:ln>
              <a:solidFill>
                <a:srgbClr val="404040"/>
              </a:solidFill>
              <a:round/>
              <a:tailEnd len="med" type="triangle" w="med"/>
            </a:ln>
          </p:spPr>
        </p:cxnSp>
        <p:cxnSp>
          <p:nvCxnSpPr>
            <p:cNvPr id="236" name="Straight Connector 9"/>
            <p:cNvCxnSpPr/>
            <p:nvPr/>
          </p:nvCxnSpPr>
          <p:spPr>
            <a:xfrm>
              <a:off x="3834000" y="2071080"/>
              <a:ext cx="212040" cy="360"/>
            </a:xfrm>
            <a:prstGeom prst="straightConnector1">
              <a:avLst/>
            </a:prstGeom>
            <a:ln>
              <a:solidFill>
                <a:srgbClr val="404040"/>
              </a:solidFill>
              <a:round/>
              <a:tailEnd len="med" type="triangle" w="med"/>
            </a:ln>
          </p:spPr>
        </p:cxnSp>
        <p:cxnSp>
          <p:nvCxnSpPr>
            <p:cNvPr id="237" name="Straight Connector 10"/>
            <p:cNvCxnSpPr/>
            <p:nvPr/>
          </p:nvCxnSpPr>
          <p:spPr>
            <a:xfrm>
              <a:off x="5046840" y="2071080"/>
              <a:ext cx="212040" cy="360"/>
            </a:xfrm>
            <a:prstGeom prst="straightConnector1">
              <a:avLst/>
            </a:prstGeom>
            <a:ln>
              <a:solidFill>
                <a:srgbClr val="404040"/>
              </a:solidFill>
              <a:round/>
              <a:tailEnd len="med" type="triangle" w="med"/>
            </a:ln>
          </p:spPr>
        </p:cxnSp>
        <p:cxnSp>
          <p:nvCxnSpPr>
            <p:cNvPr id="238" name="Straight Connector 11"/>
            <p:cNvCxnSpPr/>
            <p:nvPr/>
          </p:nvCxnSpPr>
          <p:spPr>
            <a:xfrm>
              <a:off x="6260040" y="2071080"/>
              <a:ext cx="212040" cy="360"/>
            </a:xfrm>
            <a:prstGeom prst="straightConnector1">
              <a:avLst/>
            </a:prstGeom>
            <a:ln>
              <a:solidFill>
                <a:srgbClr val="404040"/>
              </a:solidFill>
              <a:round/>
              <a:tailEnd len="med" type="triangle" w="med"/>
            </a:ln>
          </p:spPr>
        </p:cxnSp>
        <p:cxnSp>
          <p:nvCxnSpPr>
            <p:cNvPr id="239" name="Straight Connector 12"/>
            <p:cNvCxnSpPr/>
            <p:nvPr/>
          </p:nvCxnSpPr>
          <p:spPr>
            <a:xfrm>
              <a:off x="2127240" y="2279160"/>
              <a:ext cx="360" cy="298440"/>
            </a:xfrm>
            <a:prstGeom prst="straightConnector1">
              <a:avLst/>
            </a:prstGeom>
            <a:ln>
              <a:solidFill>
                <a:srgbClr val="404040"/>
              </a:solidFill>
              <a:round/>
              <a:tailEnd len="med" type="triangle" w="med"/>
            </a:ln>
          </p:spPr>
        </p:cxnSp>
        <p:cxnSp>
          <p:nvCxnSpPr>
            <p:cNvPr id="240" name="Straight Connector 13"/>
            <p:cNvCxnSpPr/>
            <p:nvPr/>
          </p:nvCxnSpPr>
          <p:spPr>
            <a:xfrm>
              <a:off x="3326040" y="2279160"/>
              <a:ext cx="360" cy="298440"/>
            </a:xfrm>
            <a:prstGeom prst="straightConnector1">
              <a:avLst/>
            </a:prstGeom>
            <a:ln>
              <a:solidFill>
                <a:srgbClr val="404040"/>
              </a:solidFill>
              <a:round/>
              <a:tailEnd len="med" type="triangle" w="med"/>
            </a:ln>
          </p:spPr>
        </p:cxnSp>
        <p:cxnSp>
          <p:nvCxnSpPr>
            <p:cNvPr id="241" name="Straight Connector 14"/>
            <p:cNvCxnSpPr/>
            <p:nvPr/>
          </p:nvCxnSpPr>
          <p:spPr>
            <a:xfrm>
              <a:off x="4539240" y="2279160"/>
              <a:ext cx="360" cy="298440"/>
            </a:xfrm>
            <a:prstGeom prst="straightConnector1">
              <a:avLst/>
            </a:prstGeom>
            <a:ln>
              <a:solidFill>
                <a:srgbClr val="404040"/>
              </a:solidFill>
              <a:round/>
              <a:tailEnd len="med" type="triangle" w="med"/>
            </a:ln>
          </p:spPr>
        </p:cxnSp>
        <p:cxnSp>
          <p:nvCxnSpPr>
            <p:cNvPr id="242" name="Straight Connector 15"/>
            <p:cNvCxnSpPr/>
            <p:nvPr/>
          </p:nvCxnSpPr>
          <p:spPr>
            <a:xfrm>
              <a:off x="5780520" y="2279160"/>
              <a:ext cx="360" cy="298440"/>
            </a:xfrm>
            <a:prstGeom prst="straightConnector1">
              <a:avLst/>
            </a:prstGeom>
            <a:ln>
              <a:solidFill>
                <a:srgbClr val="404040"/>
              </a:solidFill>
              <a:round/>
              <a:tailEnd len="med" type="triangle" w="med"/>
            </a:ln>
          </p:spPr>
        </p:cxnSp>
        <p:cxnSp>
          <p:nvCxnSpPr>
            <p:cNvPr id="243" name="Straight Connector 16"/>
            <p:cNvCxnSpPr/>
            <p:nvPr/>
          </p:nvCxnSpPr>
          <p:spPr>
            <a:xfrm>
              <a:off x="7007400" y="2279160"/>
              <a:ext cx="360" cy="298440"/>
            </a:xfrm>
            <a:prstGeom prst="straightConnector1">
              <a:avLst/>
            </a:prstGeom>
            <a:ln>
              <a:solidFill>
                <a:srgbClr val="404040"/>
              </a:solidFill>
              <a:round/>
              <a:tailEnd len="med" type="triangle" w="med"/>
            </a:ln>
          </p:spPr>
        </p:cxnSp>
        <p:sp>
          <p:nvSpPr>
            <p:cNvPr id="244" name="Rectangle 31"/>
            <p:cNvSpPr/>
            <p:nvPr/>
          </p:nvSpPr>
          <p:spPr>
            <a:xfrm>
              <a:off x="1619640" y="1802880"/>
              <a:ext cx="1015200" cy="470520"/>
            </a:xfrm>
            <a:prstGeom prst="rect">
              <a:avLst/>
            </a:prstGeom>
            <a:solidFill>
              <a:srgbClr val="17375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hort 1</a:t>
              </a:r>
              <a:br>
                <a:rPr sz="1250"/>
              </a:b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20 mg</a:t>
              </a:r>
              <a:endParaRPr b="0" lang="en-US" sz="125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31"/>
            <p:cNvSpPr/>
            <p:nvPr/>
          </p:nvSpPr>
          <p:spPr>
            <a:xfrm>
              <a:off x="2832840" y="1802880"/>
              <a:ext cx="1015200" cy="470520"/>
            </a:xfrm>
            <a:prstGeom prst="rect">
              <a:avLst/>
            </a:prstGeom>
            <a:solidFill>
              <a:srgbClr val="17375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hort 2</a:t>
              </a:r>
              <a:br>
                <a:rPr sz="1250"/>
              </a:b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40 mg</a:t>
              </a:r>
              <a:endParaRPr b="0" lang="en-US" sz="125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31"/>
            <p:cNvSpPr/>
            <p:nvPr/>
          </p:nvSpPr>
          <p:spPr>
            <a:xfrm>
              <a:off x="4045680" y="1802880"/>
              <a:ext cx="1015200" cy="470520"/>
            </a:xfrm>
            <a:prstGeom prst="rect">
              <a:avLst/>
            </a:prstGeom>
            <a:solidFill>
              <a:srgbClr val="17375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hort 3</a:t>
              </a:r>
              <a:br>
                <a:rPr sz="1250"/>
              </a:b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80 mg</a:t>
              </a:r>
              <a:endParaRPr b="0" lang="en-US" sz="125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31"/>
            <p:cNvSpPr/>
            <p:nvPr/>
          </p:nvSpPr>
          <p:spPr>
            <a:xfrm>
              <a:off x="5258880" y="1802880"/>
              <a:ext cx="1015200" cy="470520"/>
            </a:xfrm>
            <a:prstGeom prst="rect">
              <a:avLst/>
            </a:prstGeom>
            <a:solidFill>
              <a:srgbClr val="17375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hort 4</a:t>
              </a:r>
              <a:br>
                <a:rPr sz="1250"/>
              </a:b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60 mg</a:t>
              </a:r>
              <a:endParaRPr b="0" lang="en-US" sz="125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31"/>
            <p:cNvSpPr/>
            <p:nvPr/>
          </p:nvSpPr>
          <p:spPr>
            <a:xfrm>
              <a:off x="6471720" y="1802880"/>
              <a:ext cx="1015200" cy="470520"/>
            </a:xfrm>
            <a:prstGeom prst="rect">
              <a:avLst/>
            </a:prstGeom>
            <a:solidFill>
              <a:srgbClr val="17375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hort 5</a:t>
              </a:r>
              <a:br>
                <a:rPr sz="1250"/>
              </a:b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240 mg</a:t>
              </a:r>
              <a:endParaRPr b="0" lang="en-US" sz="125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31"/>
            <p:cNvSpPr/>
            <p:nvPr/>
          </p:nvSpPr>
          <p:spPr>
            <a:xfrm>
              <a:off x="1619640" y="2577240"/>
              <a:ext cx="1015200" cy="280080"/>
            </a:xfrm>
            <a:prstGeom prst="rect">
              <a:avLst/>
            </a:prstGeom>
            <a:solidFill>
              <a:srgbClr val="ff66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ositive</a:t>
              </a:r>
              <a:endParaRPr b="0" lang="en-US" sz="12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31"/>
            <p:cNvSpPr/>
            <p:nvPr/>
          </p:nvSpPr>
          <p:spPr>
            <a:xfrm>
              <a:off x="2832840" y="2577240"/>
              <a:ext cx="1015200" cy="280080"/>
            </a:xfrm>
            <a:prstGeom prst="rect">
              <a:avLst/>
            </a:prstGeom>
            <a:solidFill>
              <a:srgbClr val="ff66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ositive</a:t>
              </a:r>
              <a:endParaRPr b="0" lang="en-US" sz="12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31"/>
            <p:cNvSpPr/>
            <p:nvPr/>
          </p:nvSpPr>
          <p:spPr>
            <a:xfrm>
              <a:off x="2832840" y="2911680"/>
              <a:ext cx="1015200" cy="280080"/>
            </a:xfrm>
            <a:prstGeom prst="rect">
              <a:avLst/>
            </a:prstGeom>
            <a:solidFill>
              <a:srgbClr val="7cad0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Negative</a:t>
              </a:r>
              <a:endParaRPr b="0" lang="en-US" sz="12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1"/>
            <p:cNvSpPr/>
            <p:nvPr/>
          </p:nvSpPr>
          <p:spPr>
            <a:xfrm>
              <a:off x="4031640" y="2577240"/>
              <a:ext cx="1015200" cy="280080"/>
            </a:xfrm>
            <a:prstGeom prst="rect">
              <a:avLst/>
            </a:prstGeom>
            <a:solidFill>
              <a:srgbClr val="ff66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ositive</a:t>
              </a:r>
              <a:endParaRPr b="0" lang="en-US" sz="12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1"/>
            <p:cNvSpPr/>
            <p:nvPr/>
          </p:nvSpPr>
          <p:spPr>
            <a:xfrm>
              <a:off x="4031640" y="2911680"/>
              <a:ext cx="1015200" cy="280080"/>
            </a:xfrm>
            <a:prstGeom prst="rect">
              <a:avLst/>
            </a:prstGeom>
            <a:solidFill>
              <a:srgbClr val="7cad0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Negative</a:t>
              </a:r>
              <a:endParaRPr b="0" lang="en-US" sz="12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1"/>
            <p:cNvSpPr/>
            <p:nvPr/>
          </p:nvSpPr>
          <p:spPr>
            <a:xfrm>
              <a:off x="4031640" y="3228120"/>
              <a:ext cx="1015200" cy="660960"/>
            </a:xfrm>
            <a:prstGeom prst="rect">
              <a:avLst/>
            </a:prstGeom>
            <a:solidFill>
              <a:schemeClr val="tx1">
                <a:lumMod val="50000"/>
                <a:lumOff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</a:t>
              </a:r>
              <a:r>
                <a:rPr b="0" lang="en-US" sz="1250" spc="-1" strike="noStrike" baseline="30000">
                  <a:solidFill>
                    <a:srgbClr val="ffffff"/>
                  </a:solidFill>
                  <a:latin typeface="Arial"/>
                  <a:ea typeface="ＭＳ Ｐゴシック"/>
                </a:rPr>
                <a:t>st</a:t>
              </a: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line</a:t>
              </a:r>
              <a:br>
                <a:rPr sz="1250"/>
              </a:b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GFRm+*</a:t>
              </a:r>
              <a:endParaRPr b="0" lang="en-US" sz="125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80 mg</a:t>
              </a:r>
              <a:endParaRPr b="0" lang="en-US" sz="12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5258880" y="2577240"/>
              <a:ext cx="1015200" cy="280080"/>
            </a:xfrm>
            <a:prstGeom prst="rect">
              <a:avLst/>
            </a:prstGeom>
            <a:solidFill>
              <a:srgbClr val="ff66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ositive</a:t>
              </a:r>
              <a:endParaRPr b="0" lang="en-US" sz="12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1"/>
            <p:cNvSpPr/>
            <p:nvPr/>
          </p:nvSpPr>
          <p:spPr>
            <a:xfrm>
              <a:off x="5258880" y="2911680"/>
              <a:ext cx="1015200" cy="280080"/>
            </a:xfrm>
            <a:prstGeom prst="rect">
              <a:avLst/>
            </a:prstGeom>
            <a:solidFill>
              <a:srgbClr val="7cad0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Negative</a:t>
              </a:r>
              <a:endParaRPr b="0" lang="en-US" sz="12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1"/>
            <p:cNvSpPr/>
            <p:nvPr/>
          </p:nvSpPr>
          <p:spPr>
            <a:xfrm>
              <a:off x="5258880" y="3228120"/>
              <a:ext cx="1015200" cy="660960"/>
            </a:xfrm>
            <a:prstGeom prst="rect">
              <a:avLst/>
            </a:prstGeom>
            <a:solidFill>
              <a:srgbClr val="28acc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</a:t>
              </a:r>
              <a:r>
                <a:rPr b="0" lang="en-US" sz="1250" spc="-1" strike="noStrike" baseline="30000">
                  <a:solidFill>
                    <a:srgbClr val="ffffff"/>
                  </a:solidFill>
                  <a:latin typeface="Arial"/>
                  <a:ea typeface="ＭＳ Ｐゴシック"/>
                </a:rPr>
                <a:t>st</a:t>
              </a: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line</a:t>
              </a:r>
              <a:br>
                <a:rPr sz="1250"/>
              </a:b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GFRm+*</a:t>
              </a:r>
              <a:endParaRPr b="0" lang="en-US" sz="125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60 mg</a:t>
              </a:r>
              <a:endParaRPr b="0" lang="en-US" sz="12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1"/>
            <p:cNvSpPr/>
            <p:nvPr/>
          </p:nvSpPr>
          <p:spPr>
            <a:xfrm>
              <a:off x="6471720" y="2577240"/>
              <a:ext cx="1015200" cy="280080"/>
            </a:xfrm>
            <a:prstGeom prst="rect">
              <a:avLst/>
            </a:prstGeom>
            <a:solidFill>
              <a:srgbClr val="ff66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ositive</a:t>
              </a:r>
              <a:endParaRPr b="0" lang="en-US" sz="12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1"/>
            <p:cNvSpPr/>
            <p:nvPr/>
          </p:nvSpPr>
          <p:spPr>
            <a:xfrm>
              <a:off x="4031640" y="3971520"/>
              <a:ext cx="1015200" cy="280080"/>
            </a:xfrm>
            <a:prstGeom prst="rect">
              <a:avLst/>
            </a:prstGeom>
            <a:solidFill>
              <a:schemeClr val="tx1">
                <a:lumMod val="65000"/>
                <a:lumOff val="3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iopsy</a:t>
              </a:r>
              <a:endParaRPr b="0" lang="en-US" sz="12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1"/>
            <p:cNvSpPr/>
            <p:nvPr/>
          </p:nvSpPr>
          <p:spPr>
            <a:xfrm>
              <a:off x="5258880" y="3971520"/>
              <a:ext cx="1015200" cy="280080"/>
            </a:xfrm>
            <a:prstGeom prst="rect">
              <a:avLst/>
            </a:prstGeom>
            <a:solidFill>
              <a:schemeClr val="tx1">
                <a:lumMod val="65000"/>
                <a:lumOff val="3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iopsy</a:t>
              </a:r>
              <a:endParaRPr b="0" lang="en-US" sz="12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1"/>
            <p:cNvSpPr/>
            <p:nvPr/>
          </p:nvSpPr>
          <p:spPr>
            <a:xfrm>
              <a:off x="4031640" y="4303800"/>
              <a:ext cx="1015200" cy="280080"/>
            </a:xfrm>
            <a:prstGeom prst="rect">
              <a:avLst/>
            </a:prstGeom>
            <a:solidFill>
              <a:schemeClr val="accent5">
                <a:lumMod val="7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Tablet</a:t>
              </a:r>
              <a:endParaRPr b="0" lang="en-US" sz="12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1"/>
            <p:cNvSpPr/>
            <p:nvPr/>
          </p:nvSpPr>
          <p:spPr>
            <a:xfrm>
              <a:off x="4031640" y="4619880"/>
              <a:ext cx="1015200" cy="280080"/>
            </a:xfrm>
            <a:prstGeom prst="rect">
              <a:avLst/>
            </a:prstGeom>
            <a:solidFill>
              <a:schemeClr val="accent5">
                <a:lumMod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5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ytology</a:t>
              </a:r>
              <a:endParaRPr b="0" lang="en-US" sz="12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ight Brace 2"/>
          <p:cNvSpPr/>
          <p:nvPr/>
        </p:nvSpPr>
        <p:spPr>
          <a:xfrm>
            <a:off x="7569360" y="2577240"/>
            <a:ext cx="100440" cy="65016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>
                <a:lumMod val="75000"/>
                <a:lumOff val="25000"/>
              </a:srgbClr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accent1"/>
          </a:lnRef>
          <a:fillRef idx="0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64" name="Rectangle 31"/>
          <p:cNvSpPr/>
          <p:nvPr/>
        </p:nvSpPr>
        <p:spPr>
          <a:xfrm>
            <a:off x="7631640" y="2623320"/>
            <a:ext cx="1076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790M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oh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39"/>
          <p:cNvSpPr/>
          <p:nvPr/>
        </p:nvSpPr>
        <p:spPr>
          <a:xfrm>
            <a:off x="4031640" y="3228120"/>
            <a:ext cx="2242440" cy="743040"/>
          </a:xfrm>
          <a:prstGeom prst="rect">
            <a:avLst/>
          </a:prstGeom>
          <a:noFill/>
          <a:ln w="28575">
            <a:solidFill>
              <a:srgbClr val="ff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ftr" idx="17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Ramalingam S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 2015;Abstract 800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ligibility Criteria, Endpoints and Key Study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umber of patients on Phase I portion of study (N = 60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ocally advanced or metastatic NSCLC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o prior therapy for advanced disease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EGFRm-positive disease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o prior history of interstitial lung disease (ILD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o symptomatic brain metastase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ll 60 patients received orally administered AZD9291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80 mg (n = 30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160 mg (n = 30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imary endpoints: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afety, tolerability and efficacy of AZD9291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Data cutoff date for analysis: April 15, 2015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edian duration of follow-up: 9.6 month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" descr="Ramalingam_Graph1.png"/>
          <p:cNvPicPr/>
          <p:nvPr/>
        </p:nvPicPr>
        <p:blipFill>
          <a:blip r:embed="rId1"/>
          <a:stretch/>
        </p:blipFill>
        <p:spPr>
          <a:xfrm>
            <a:off x="520560" y="2156760"/>
            <a:ext cx="8057880" cy="2238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ponse Rate in First-Line Cohorts by D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8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With permission from Ramalingam S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 2015;Abstract 800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31"/>
          <p:cNvSpPr/>
          <p:nvPr/>
        </p:nvSpPr>
        <p:spPr>
          <a:xfrm>
            <a:off x="939960" y="1673280"/>
            <a:ext cx="5790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Best percentage change from baseline in target le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7613640" y="1660680"/>
            <a:ext cx="1028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80 m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160 m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7404120" y="1757520"/>
            <a:ext cx="218880" cy="218880"/>
          </a:xfrm>
          <a:prstGeom prst="rect">
            <a:avLst/>
          </a:prstGeom>
          <a:solidFill>
            <a:srgbClr val="2a96d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7404120" y="2100600"/>
            <a:ext cx="218880" cy="218880"/>
          </a:xfrm>
          <a:prstGeom prst="rect">
            <a:avLst/>
          </a:prstGeom>
          <a:solidFill>
            <a:srgbClr val="e4501a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31"/>
          <p:cNvSpPr/>
          <p:nvPr/>
        </p:nvSpPr>
        <p:spPr>
          <a:xfrm>
            <a:off x="787320" y="4416480"/>
            <a:ext cx="74480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464847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Disease control rate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80 mg (n = 30): 93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160 mg (n = 30): 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ll patients (n = 60): 9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Group 35"/>
          <p:cNvGraphicFramePr/>
          <p:nvPr/>
        </p:nvGraphicFramePr>
        <p:xfrm>
          <a:off x="838080" y="1460520"/>
          <a:ext cx="7461000" cy="2847240"/>
        </p:xfrm>
        <a:graphic>
          <a:graphicData uri="http://schemas.openxmlformats.org/drawingml/2006/table">
            <a:tbl>
              <a:tblPr/>
              <a:tblGrid>
                <a:gridCol w="2876040"/>
                <a:gridCol w="1528200"/>
                <a:gridCol w="1528200"/>
                <a:gridCol w="1528200"/>
              </a:tblGrid>
              <a:tr h="5968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80 mg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3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60 mg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3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6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41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Objective response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9 (63.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5 (83.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4 (73.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Complete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3.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1.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41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artial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9 (63.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4 (8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3 (71.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Stabl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 (3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 (16.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4 (23.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41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rogressiv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 (6.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 (3.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9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Ramalingam S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 2015;Abstract 800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1"/>
          <p:cNvSpPr/>
          <p:nvPr/>
        </p:nvSpPr>
        <p:spPr>
          <a:xfrm>
            <a:off x="800280" y="4340160"/>
            <a:ext cx="74480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E = not estim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64847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aximum duration of response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80 mg: 13.8 months (response ongo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160 mg: 9.7 months (response ongo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" name="Group 35"/>
          <p:cNvGraphicFramePr/>
          <p:nvPr/>
        </p:nvGraphicFramePr>
        <p:xfrm>
          <a:off x="851040" y="1523880"/>
          <a:ext cx="7461000" cy="2758680"/>
        </p:xfrm>
        <a:graphic>
          <a:graphicData uri="http://schemas.openxmlformats.org/drawingml/2006/table">
            <a:tbl>
              <a:tblPr/>
              <a:tblGrid>
                <a:gridCol w="2876040"/>
                <a:gridCol w="1528200"/>
                <a:gridCol w="1528200"/>
                <a:gridCol w="1528200"/>
              </a:tblGrid>
              <a:tr h="5968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atients remaining in response over 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80 mg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1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60 mg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4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29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9 (10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5 (10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4 (10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9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8 (9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3 (9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1 (9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29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7 (8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0 (8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7 (8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9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2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5 (7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3 (7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uration of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20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Ramalingam S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 2015;Abstract 800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31"/>
          <p:cNvSpPr/>
          <p:nvPr/>
        </p:nvSpPr>
        <p:spPr>
          <a:xfrm>
            <a:off x="787320" y="4911840"/>
            <a:ext cx="7448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Data are too immature to estimate median PFS: Only 15 events have occur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5" name="Group 35"/>
          <p:cNvGraphicFramePr/>
          <p:nvPr/>
        </p:nvGraphicFramePr>
        <p:xfrm>
          <a:off x="812880" y="1498680"/>
          <a:ext cx="7461000" cy="2847240"/>
        </p:xfrm>
        <a:graphic>
          <a:graphicData uri="http://schemas.openxmlformats.org/drawingml/2006/table">
            <a:tbl>
              <a:tblPr/>
              <a:tblGrid>
                <a:gridCol w="2876040"/>
                <a:gridCol w="1528200"/>
                <a:gridCol w="1528200"/>
                <a:gridCol w="1528200"/>
              </a:tblGrid>
              <a:tr h="55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FS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80 mg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3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60 mg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3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6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41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-month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41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-month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-month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41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2-month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gression-Free Survival (P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ftr" idx="21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Ramalingam S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 2015;Abstract 800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31"/>
          <p:cNvSpPr/>
          <p:nvPr/>
        </p:nvSpPr>
        <p:spPr>
          <a:xfrm>
            <a:off x="800280" y="4381560"/>
            <a:ext cx="7448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R = not reached; NE = not estim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Group 35"/>
          <p:cNvGraphicFramePr/>
          <p:nvPr/>
        </p:nvGraphicFramePr>
        <p:xfrm>
          <a:off x="992160" y="1308240"/>
          <a:ext cx="7243560" cy="4127760"/>
        </p:xfrm>
        <a:graphic>
          <a:graphicData uri="http://schemas.openxmlformats.org/drawingml/2006/table">
            <a:tbl>
              <a:tblPr/>
              <a:tblGrid>
                <a:gridCol w="2182680"/>
                <a:gridCol w="1360440"/>
                <a:gridCol w="1128600"/>
                <a:gridCol w="1338120"/>
                <a:gridCol w="1233360"/>
              </a:tblGrid>
              <a:tr h="344880">
                <a:tc rowSpan="2"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v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80 mg (n = 3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60 mg (n = 3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ny grad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rade ≥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ny grad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rade ≥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44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Rash (grouped term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3 (77%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7 (90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3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iarrhe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5 (50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5 (83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 (7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44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ry ski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1 (37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2 (40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Stomatiti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 (33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2 (40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3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44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aronych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 (27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3 (43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 (7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Fatig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 (23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 (27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44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ause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 (23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3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 (27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Hyperglycem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 (3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 (7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44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QT prolong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 (7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 (7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ILD-like even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 (10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Adver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ftr" idx="22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Ramalingam S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 2015;Abstract 800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442800" y="714240"/>
            <a:ext cx="8226000" cy="399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ZD9291 in EGFR Inhibitor–Resistant Non–Small-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ung Canc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55760" y="4707000"/>
            <a:ext cx="8226000" cy="152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Jänne PA et 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372(18):1689-99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n patients with treatment-naïve EGFRm-positive advanced NSCLC, AZD9291 demonstrates encouraging clinical activity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nd a manageable tolerability profil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atients with confirmed objective response: 44/60 (73%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ongest duration of response at time of data cutoff is ongoing at 13.8 month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atients who are still alive and progression free at 9 months: 81%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ongoing Phase III FLAURA study is evaluating AZD9291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(80 mg/d) versus standard EGFR TKIs as first-line therapy for patients with EGFRm-positive, locally advanced or metastatic NSCLC (NCT02296125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ftr" idx="23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Ramalingam S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 2015;Abstract 800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scussant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Understanding of the EGFR T790M mutation status of patients with NSCLC is complex, given the heterogeneous sites of disease and sampling effec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Data for third-generation EGFR TKIs in the first-line setting are immature, but the rates of PFS at 9 and 12 months are encouraging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24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Riely GJ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 2015;Discussa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ftr" idx="7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Jänne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372(18):1689-9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majority of patients with EGFR-mutant NSCLC treated with EGFR tyrosine kinase inhibitors (TKIs) will eventually develop resistanc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EGFR T790M resistance mutation accounts for approximately 60% of acquired resistance to EGFR TKI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ZD9291 is a selective, third-generation, irreversible EGFR TKI, effective in preclinical models against both EGFR TKI sensitizing and T790M resistance mutations, while maintaining a margin of selectivity against wild-type EGFR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ancer Discov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4;4:1046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ssess the safety and efficacy of AZD9291 in patients with advanced EGFR-mutant NSCLC who had developed resistance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o EGFR TKIs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Group 24"/>
          <p:cNvGraphicFramePr/>
          <p:nvPr/>
        </p:nvGraphicFramePr>
        <p:xfrm>
          <a:off x="6091560" y="2101320"/>
          <a:ext cx="1965600" cy="981000"/>
        </p:xfrm>
        <a:graphic>
          <a:graphicData uri="http://schemas.openxmlformats.org/drawingml/2006/table">
            <a:tbl>
              <a:tblPr/>
              <a:tblGrid>
                <a:gridCol w="1965960"/>
              </a:tblGrid>
              <a:tr h="981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AZD9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0-240 mg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once da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Line 2"/>
          <p:cNvSpPr/>
          <p:nvPr/>
        </p:nvSpPr>
        <p:spPr>
          <a:xfrm>
            <a:off x="5180040" y="2591640"/>
            <a:ext cx="898560" cy="360"/>
          </a:xfrm>
          <a:prstGeom prst="line">
            <a:avLst/>
          </a:prstGeom>
          <a:ln w="28575">
            <a:solidFill>
              <a:srgbClr val="76787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71" name="Rectangle 31"/>
          <p:cNvSpPr/>
          <p:nvPr/>
        </p:nvSpPr>
        <p:spPr>
          <a:xfrm>
            <a:off x="1102320" y="4279680"/>
            <a:ext cx="7177680" cy="739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study included dose escalation and dose expansion coho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imary endpoints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afety and effic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ase I Tria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ftr" idx="8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Jänne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372(18):1689-9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Group 22"/>
          <p:cNvGraphicFramePr/>
          <p:nvPr/>
        </p:nvGraphicFramePr>
        <p:xfrm>
          <a:off x="806760" y="1618560"/>
          <a:ext cx="4653720" cy="1915920"/>
        </p:xfrm>
        <a:graphic>
          <a:graphicData uri="http://schemas.openxmlformats.org/drawingml/2006/table">
            <a:tbl>
              <a:tblPr/>
              <a:tblGrid>
                <a:gridCol w="4654080"/>
              </a:tblGrid>
              <a:tr h="4680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ligibility (N = 253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11274c"/>
                    </a:solidFill>
                  </a:tcPr>
                </a:tc>
              </a:tr>
              <a:tr h="1447560">
                <a:tc>
                  <a:txBody>
                    <a:bodyPr anchor="t">
                      <a:noAutofit/>
                    </a:bodyPr>
                    <a:p>
                      <a:pPr marL="223920" indent="-22392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Locally advanced or metastatic 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920" indent="-22392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Known EGFR TKI</a:t>
                      </a: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sensitizing mutation or prior clinical benefit with an EGFR T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920" indent="-22392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Radiologically documented disease progression while on an EGFR T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1"/>
          <p:cNvSpPr/>
          <p:nvPr/>
        </p:nvSpPr>
        <p:spPr>
          <a:xfrm>
            <a:off x="825480" y="4166280"/>
            <a:ext cx="7594200" cy="1459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*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ior Tx not permissible in this cohor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f any evidence of clinical activity was observed in an escalation cohort, a 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dose-expansion cohort for that dose could be opened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22 patients were randomly assigned to 1 of 5 expansion cohorts: T790M+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(n = 138), T790M not detectable (n = 62), unknown (n = 22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ase I Trial Design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ftr" idx="9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Jänne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372(18):1689-9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31"/>
          <p:cNvSpPr/>
          <p:nvPr/>
        </p:nvSpPr>
        <p:spPr>
          <a:xfrm>
            <a:off x="741600" y="1437480"/>
            <a:ext cx="212832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hase I esca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ot preselected by T790M stat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1"/>
          <p:cNvSpPr/>
          <p:nvPr/>
        </p:nvSpPr>
        <p:spPr>
          <a:xfrm>
            <a:off x="741600" y="2284560"/>
            <a:ext cx="2471400" cy="179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hase I expan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Enrollment by local testing followed by central laboratory confirmation of T790M status or by central laboratory testing al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1"/>
          <p:cNvSpPr/>
          <p:nvPr/>
        </p:nvSpPr>
        <p:spPr>
          <a:xfrm>
            <a:off x="3111480" y="1528920"/>
            <a:ext cx="5283000" cy="333000"/>
          </a:xfrm>
          <a:prstGeom prst="rect">
            <a:avLst/>
          </a:prstGeom>
          <a:solidFill>
            <a:srgbClr val="17375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olling six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1" name="Straight Connector 2"/>
          <p:cNvCxnSpPr/>
          <p:nvPr/>
        </p:nvCxnSpPr>
        <p:spPr>
          <a:xfrm>
            <a:off x="3974760" y="2209680"/>
            <a:ext cx="191160" cy="360"/>
          </a:xfrm>
          <a:prstGeom prst="straightConnector1">
            <a:avLst/>
          </a:prstGeom>
          <a:ln>
            <a:solidFill>
              <a:srgbClr val="404040"/>
            </a:solidFill>
            <a:round/>
            <a:tailEnd len="med" type="triangle" w="med"/>
          </a:ln>
        </p:spPr>
      </p:cxnSp>
      <p:cxnSp>
        <p:nvCxnSpPr>
          <p:cNvPr id="182" name="Straight Connector 23"/>
          <p:cNvCxnSpPr/>
          <p:nvPr/>
        </p:nvCxnSpPr>
        <p:spPr>
          <a:xfrm>
            <a:off x="5105160" y="2209680"/>
            <a:ext cx="190800" cy="360"/>
          </a:xfrm>
          <a:prstGeom prst="straightConnector1">
            <a:avLst/>
          </a:prstGeom>
          <a:ln>
            <a:solidFill>
              <a:srgbClr val="404040"/>
            </a:solidFill>
            <a:round/>
            <a:tailEnd len="med" type="triangle" w="med"/>
          </a:ln>
        </p:spPr>
      </p:cxnSp>
      <p:cxnSp>
        <p:nvCxnSpPr>
          <p:cNvPr id="183" name="Straight Connector 24"/>
          <p:cNvCxnSpPr/>
          <p:nvPr/>
        </p:nvCxnSpPr>
        <p:spPr>
          <a:xfrm>
            <a:off x="6197400" y="2209680"/>
            <a:ext cx="190800" cy="360"/>
          </a:xfrm>
          <a:prstGeom prst="straightConnector1">
            <a:avLst/>
          </a:prstGeom>
          <a:ln>
            <a:solidFill>
              <a:srgbClr val="404040"/>
            </a:solidFill>
            <a:round/>
            <a:tailEnd len="med" type="triangle" w="med"/>
          </a:ln>
        </p:spPr>
      </p:cxnSp>
      <p:cxnSp>
        <p:nvCxnSpPr>
          <p:cNvPr id="184" name="Straight Connector 25"/>
          <p:cNvCxnSpPr/>
          <p:nvPr/>
        </p:nvCxnSpPr>
        <p:spPr>
          <a:xfrm>
            <a:off x="7289640" y="2209680"/>
            <a:ext cx="190800" cy="360"/>
          </a:xfrm>
          <a:prstGeom prst="straightConnector1">
            <a:avLst/>
          </a:prstGeom>
          <a:ln>
            <a:solidFill>
              <a:srgbClr val="404040"/>
            </a:solidFill>
            <a:round/>
            <a:tailEnd len="med" type="triangle" w="med"/>
          </a:ln>
        </p:spPr>
      </p:cxnSp>
      <p:cxnSp>
        <p:nvCxnSpPr>
          <p:cNvPr id="185" name="Straight Connector 26"/>
          <p:cNvCxnSpPr/>
          <p:nvPr/>
        </p:nvCxnSpPr>
        <p:spPr>
          <a:xfrm>
            <a:off x="3568680" y="2396880"/>
            <a:ext cx="360" cy="268920"/>
          </a:xfrm>
          <a:prstGeom prst="straightConnector1">
            <a:avLst/>
          </a:prstGeom>
          <a:ln>
            <a:solidFill>
              <a:srgbClr val="404040"/>
            </a:solidFill>
            <a:round/>
            <a:tailEnd len="med" type="triangle" w="med"/>
          </a:ln>
        </p:spPr>
      </p:cxnSp>
      <p:cxnSp>
        <p:nvCxnSpPr>
          <p:cNvPr id="186" name="Straight Connector 28"/>
          <p:cNvCxnSpPr/>
          <p:nvPr/>
        </p:nvCxnSpPr>
        <p:spPr>
          <a:xfrm>
            <a:off x="4647960" y="2396880"/>
            <a:ext cx="360" cy="268920"/>
          </a:xfrm>
          <a:prstGeom prst="straightConnector1">
            <a:avLst/>
          </a:prstGeom>
          <a:ln>
            <a:solidFill>
              <a:srgbClr val="404040"/>
            </a:solidFill>
            <a:round/>
            <a:tailEnd len="med" type="triangle" w="med"/>
          </a:ln>
        </p:spPr>
      </p:cxnSp>
      <p:cxnSp>
        <p:nvCxnSpPr>
          <p:cNvPr id="187" name="Straight Connector 29"/>
          <p:cNvCxnSpPr/>
          <p:nvPr/>
        </p:nvCxnSpPr>
        <p:spPr>
          <a:xfrm>
            <a:off x="5740200" y="2396880"/>
            <a:ext cx="360" cy="268920"/>
          </a:xfrm>
          <a:prstGeom prst="straightConnector1">
            <a:avLst/>
          </a:prstGeom>
          <a:ln>
            <a:solidFill>
              <a:srgbClr val="404040"/>
            </a:solidFill>
            <a:round/>
            <a:tailEnd len="med" type="triangle" w="med"/>
          </a:ln>
        </p:spPr>
      </p:cxnSp>
      <p:cxnSp>
        <p:nvCxnSpPr>
          <p:cNvPr id="188" name="Straight Connector 30"/>
          <p:cNvCxnSpPr/>
          <p:nvPr/>
        </p:nvCxnSpPr>
        <p:spPr>
          <a:xfrm>
            <a:off x="6858000" y="2396880"/>
            <a:ext cx="360" cy="268920"/>
          </a:xfrm>
          <a:prstGeom prst="straightConnector1">
            <a:avLst/>
          </a:prstGeom>
          <a:ln>
            <a:solidFill>
              <a:srgbClr val="404040"/>
            </a:solidFill>
            <a:round/>
            <a:tailEnd len="med" type="triangle" w="med"/>
          </a:ln>
        </p:spPr>
      </p:cxnSp>
      <p:cxnSp>
        <p:nvCxnSpPr>
          <p:cNvPr id="189" name="Straight Connector 31"/>
          <p:cNvCxnSpPr/>
          <p:nvPr/>
        </p:nvCxnSpPr>
        <p:spPr>
          <a:xfrm>
            <a:off x="7962840" y="2396880"/>
            <a:ext cx="360" cy="268920"/>
          </a:xfrm>
          <a:prstGeom prst="straightConnector1">
            <a:avLst/>
          </a:prstGeom>
          <a:ln>
            <a:solidFill>
              <a:srgbClr val="404040"/>
            </a:solidFill>
            <a:round/>
            <a:tailEnd len="med" type="triangle" w="med"/>
          </a:ln>
        </p:spPr>
      </p:cxnSp>
      <p:sp>
        <p:nvSpPr>
          <p:cNvPr id="190" name="Rectangle 31"/>
          <p:cNvSpPr/>
          <p:nvPr/>
        </p:nvSpPr>
        <p:spPr>
          <a:xfrm>
            <a:off x="3111480" y="1968120"/>
            <a:ext cx="914040" cy="470520"/>
          </a:xfrm>
          <a:prstGeom prst="rect">
            <a:avLst/>
          </a:prstGeom>
          <a:solidFill>
            <a:srgbClr val="17375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5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hort 1</a:t>
            </a:r>
            <a:br>
              <a:rPr sz="1250"/>
            </a:br>
            <a:r>
              <a:rPr b="0" lang="en-US" sz="125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 mg</a:t>
            </a:r>
            <a:endParaRPr b="0" lang="en-US" sz="125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31"/>
          <p:cNvSpPr/>
          <p:nvPr/>
        </p:nvSpPr>
        <p:spPr>
          <a:xfrm>
            <a:off x="4203720" y="1968120"/>
            <a:ext cx="914040" cy="470520"/>
          </a:xfrm>
          <a:prstGeom prst="rect">
            <a:avLst/>
          </a:prstGeom>
          <a:solidFill>
            <a:srgbClr val="17375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5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hort 2</a:t>
            </a:r>
            <a:br>
              <a:rPr sz="1250"/>
            </a:br>
            <a:r>
              <a:rPr b="0" lang="en-US" sz="125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0 mg</a:t>
            </a:r>
            <a:endParaRPr b="0" lang="en-US" sz="125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1"/>
          <p:cNvSpPr/>
          <p:nvPr/>
        </p:nvSpPr>
        <p:spPr>
          <a:xfrm>
            <a:off x="5295960" y="1968120"/>
            <a:ext cx="914040" cy="470520"/>
          </a:xfrm>
          <a:prstGeom prst="rect">
            <a:avLst/>
          </a:prstGeom>
          <a:solidFill>
            <a:srgbClr val="17375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5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hort 3</a:t>
            </a:r>
            <a:br>
              <a:rPr sz="1250"/>
            </a:br>
            <a:r>
              <a:rPr b="0" lang="en-US" sz="125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80 mg</a:t>
            </a:r>
            <a:endParaRPr b="0" lang="en-US" sz="125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31"/>
          <p:cNvSpPr/>
          <p:nvPr/>
        </p:nvSpPr>
        <p:spPr>
          <a:xfrm>
            <a:off x="6388200" y="1968120"/>
            <a:ext cx="914040" cy="470520"/>
          </a:xfrm>
          <a:prstGeom prst="rect">
            <a:avLst/>
          </a:prstGeom>
          <a:solidFill>
            <a:srgbClr val="17375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5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hort 4</a:t>
            </a:r>
            <a:br>
              <a:rPr sz="1250"/>
            </a:br>
            <a:r>
              <a:rPr b="0" lang="en-US" sz="125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60 mg</a:t>
            </a:r>
            <a:endParaRPr b="0" lang="en-US" sz="125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31"/>
          <p:cNvSpPr/>
          <p:nvPr/>
        </p:nvSpPr>
        <p:spPr>
          <a:xfrm>
            <a:off x="7480440" y="1968120"/>
            <a:ext cx="914040" cy="470520"/>
          </a:xfrm>
          <a:prstGeom prst="rect">
            <a:avLst/>
          </a:prstGeom>
          <a:solidFill>
            <a:srgbClr val="17375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5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hort 5</a:t>
            </a:r>
            <a:br>
              <a:rPr sz="1250"/>
            </a:br>
            <a:r>
              <a:rPr b="0" lang="en-US" sz="125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40 mg</a:t>
            </a:r>
            <a:endParaRPr b="0" lang="en-US" sz="125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3111480" y="2665440"/>
            <a:ext cx="914040" cy="280080"/>
          </a:xfrm>
          <a:prstGeom prst="rect">
            <a:avLst/>
          </a:prstGeom>
          <a:solidFill>
            <a:srgbClr val="ff66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5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790M+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4203720" y="2665440"/>
            <a:ext cx="914040" cy="280080"/>
          </a:xfrm>
          <a:prstGeom prst="rect">
            <a:avLst/>
          </a:prstGeom>
          <a:solidFill>
            <a:srgbClr val="ff66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5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790M+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1"/>
          <p:cNvSpPr/>
          <p:nvPr/>
        </p:nvSpPr>
        <p:spPr>
          <a:xfrm>
            <a:off x="4203720" y="2966760"/>
            <a:ext cx="914040" cy="280080"/>
          </a:xfrm>
          <a:prstGeom prst="rect">
            <a:avLst/>
          </a:prstGeom>
          <a:solidFill>
            <a:srgbClr val="7cad0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5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790M-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5283360" y="2665440"/>
            <a:ext cx="914040" cy="280080"/>
          </a:xfrm>
          <a:prstGeom prst="rect">
            <a:avLst/>
          </a:prstGeom>
          <a:solidFill>
            <a:srgbClr val="ff66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5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790M+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1"/>
          <p:cNvSpPr/>
          <p:nvPr/>
        </p:nvSpPr>
        <p:spPr>
          <a:xfrm>
            <a:off x="5283360" y="2966760"/>
            <a:ext cx="914040" cy="280080"/>
          </a:xfrm>
          <a:prstGeom prst="rect">
            <a:avLst/>
          </a:prstGeom>
          <a:solidFill>
            <a:srgbClr val="7cad0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5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790M-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1"/>
          <p:cNvSpPr/>
          <p:nvPr/>
        </p:nvSpPr>
        <p:spPr>
          <a:xfrm>
            <a:off x="5283360" y="3251160"/>
            <a:ext cx="914040" cy="47052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5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0" lang="en-US" sz="125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st</a:t>
            </a:r>
            <a:r>
              <a:rPr b="0" lang="en-US" sz="125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line</a:t>
            </a:r>
            <a:br>
              <a:rPr sz="1250"/>
            </a:br>
            <a:r>
              <a:rPr b="0" lang="en-US" sz="125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GFRm+*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1"/>
          <p:cNvSpPr/>
          <p:nvPr/>
        </p:nvSpPr>
        <p:spPr>
          <a:xfrm>
            <a:off x="6388200" y="2665440"/>
            <a:ext cx="914040" cy="280080"/>
          </a:xfrm>
          <a:prstGeom prst="rect">
            <a:avLst/>
          </a:prstGeom>
          <a:solidFill>
            <a:srgbClr val="ff66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5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790M+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1"/>
          <p:cNvSpPr/>
          <p:nvPr/>
        </p:nvSpPr>
        <p:spPr>
          <a:xfrm>
            <a:off x="6388200" y="2966760"/>
            <a:ext cx="914040" cy="280080"/>
          </a:xfrm>
          <a:prstGeom prst="rect">
            <a:avLst/>
          </a:prstGeom>
          <a:solidFill>
            <a:srgbClr val="7cad0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5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790M-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1"/>
          <p:cNvSpPr/>
          <p:nvPr/>
        </p:nvSpPr>
        <p:spPr>
          <a:xfrm>
            <a:off x="6388200" y="3251160"/>
            <a:ext cx="914040" cy="47052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5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0" lang="en-US" sz="125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st</a:t>
            </a:r>
            <a:r>
              <a:rPr b="0" lang="en-US" sz="125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line</a:t>
            </a:r>
            <a:br>
              <a:rPr sz="1250"/>
            </a:br>
            <a:r>
              <a:rPr b="0" lang="en-US" sz="125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GFRm+*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7480440" y="2665440"/>
            <a:ext cx="914040" cy="280080"/>
          </a:xfrm>
          <a:prstGeom prst="rect">
            <a:avLst/>
          </a:prstGeom>
          <a:solidFill>
            <a:srgbClr val="ff66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5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790M+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1"/>
          <p:cNvSpPr/>
          <p:nvPr/>
        </p:nvSpPr>
        <p:spPr>
          <a:xfrm>
            <a:off x="726120" y="4745160"/>
            <a:ext cx="7751520" cy="625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Evaluable for 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response rate was similar at each of the dose levels of AZD929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Group 35"/>
          <p:cNvGraphicFramePr/>
          <p:nvPr/>
        </p:nvGraphicFramePr>
        <p:xfrm>
          <a:off x="696240" y="1419480"/>
          <a:ext cx="7751520" cy="3222000"/>
        </p:xfrm>
        <a:graphic>
          <a:graphicData uri="http://schemas.openxmlformats.org/drawingml/2006/table">
            <a:tbl>
              <a:tblPr/>
              <a:tblGrid>
                <a:gridCol w="4513680"/>
                <a:gridCol w="3237840"/>
              </a:tblGrid>
              <a:tr h="316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ll pati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 = 239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59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Objective response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isease control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16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GFR T790M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458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 = 127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458"/>
                    </a:solidFill>
                  </a:tcPr>
                </a:tc>
              </a:tr>
              <a:tr h="356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Objective response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9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isease control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0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GFR T790M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45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 = 61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458"/>
                    </a:solidFill>
                  </a:tcPr>
                </a:tc>
              </a:tr>
              <a:tr h="360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Objective response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isease control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jectiv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0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Jänne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372(18):1689-9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Group 35"/>
          <p:cNvGraphicFramePr/>
          <p:nvPr/>
        </p:nvGraphicFramePr>
        <p:xfrm>
          <a:off x="941400" y="1803240"/>
          <a:ext cx="7243560" cy="2422080"/>
        </p:xfrm>
        <a:graphic>
          <a:graphicData uri="http://schemas.openxmlformats.org/drawingml/2006/table">
            <a:tbl>
              <a:tblPr/>
              <a:tblGrid>
                <a:gridCol w="4217760"/>
                <a:gridCol w="3025440"/>
              </a:tblGrid>
              <a:tr h="420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GFR T790M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 = 1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Response duration ≥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01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GFR T790M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45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 = 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458"/>
                    </a:solidFill>
                  </a:tcPr>
                </a:tc>
              </a:tr>
              <a:tr h="401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Response duration ≥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1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.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uration of Response and Progression-Free Survival (P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ftr" idx="11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Jänne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372(18):1689-9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31"/>
          <p:cNvSpPr/>
          <p:nvPr/>
        </p:nvSpPr>
        <p:spPr>
          <a:xfrm>
            <a:off x="866520" y="4353120"/>
            <a:ext cx="7751520" cy="89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mong the 105 patients in the expansion cohorts who had a confirmed response, 85% had a response duration of ≥6 month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median PFS was 8.2 mon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Adver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Group 91"/>
          <p:cNvGraphicFramePr/>
          <p:nvPr/>
        </p:nvGraphicFramePr>
        <p:xfrm>
          <a:off x="724680" y="1455840"/>
          <a:ext cx="7662960" cy="2485080"/>
        </p:xfrm>
        <a:graphic>
          <a:graphicData uri="http://schemas.openxmlformats.org/drawingml/2006/table">
            <a:tbl>
              <a:tblPr/>
              <a:tblGrid>
                <a:gridCol w="1359360"/>
                <a:gridCol w="1050480"/>
                <a:gridCol w="1088280"/>
                <a:gridCol w="1012320"/>
                <a:gridCol w="1025280"/>
                <a:gridCol w="999720"/>
                <a:gridCol w="1126440"/>
              </a:tblGrid>
              <a:tr h="394560">
                <a:tc>
                  <a:txBody>
                    <a:bodyPr tIns="45360" bIns="4536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E 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any grade)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0 mg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0 mg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5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80 mg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9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60 mg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63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40 mg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53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794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iarrhe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456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Rash, acn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456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ause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456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Dry ski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456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ruritu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15" name="Rectangle 31"/>
          <p:cNvSpPr/>
          <p:nvPr/>
        </p:nvSpPr>
        <p:spPr>
          <a:xfrm>
            <a:off x="753480" y="4069080"/>
            <a:ext cx="7751520" cy="109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o dose-limiting toxic effects were observed at any dose leve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 maximum dose that is associated with an acceptable level of adverse events has not been defi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ny Grade ≥3 AE: 32% of pati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ftr" idx="12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Jänne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372(18):1689-9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ZD9291 demonstrated promising efficacy in patients whose disease progressed on EGFR TKI therap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ZD9291 was associated with a higher objective response rate and longer PFS for patients with T790M-mediated drug resistance than for those with non-T790M-mediated resistanc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ZD9291 was not associated with dose-limiting toxicities, and a maximum tolerated dose was not defin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dose of 80 mg once daily is being evaluated further as a single agent in patients with detectable EGFR T790M  (NCT02094261 and NCT02151981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3"/>
          </p:nvPr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Jänne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372(18):1689-9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9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9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0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0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  <Words>2003</Words>
  <Paragraphs>36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tamara dabney</dc:creator>
  <dc:description/>
  <dc:language>en-US</dc:language>
  <cp:lastModifiedBy>RTP20</cp:lastModifiedBy>
  <cp:lastPrinted>2010-12-13T14:13:39Z</cp:lastPrinted>
  <dcterms:modified xsi:type="dcterms:W3CDTF">2015-09-18T12:01:52Z</dcterms:modified>
  <cp:revision>574</cp:revision>
  <dc:subject/>
  <dc:title>A Phase III Trial Comparing mFOLFOX6 to mFOLFOX6 plus Bevacizumab in Stage II or III Carcinoma of the Colon: Results of NSABP Protocol C-0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On-screen Show (4:3)</vt:lpwstr>
  </property>
  <property fmtid="{D5CDD505-2E9C-101B-9397-08002B2CF9AE}" pid="4" name="Slides">
    <vt:r8>21</vt:r8>
  </property>
</Properties>
</file>