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857-D932-4FF8-8043-DBE00051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9F3-294F-4AA3-81C7-276EF3B9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5E8-5BA4-4182-9FF9-C3E43913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7C7-EA4C-46BF-AE7D-773C444D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878C-CE16-4082-86B3-63CA8808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C9D4-B517-4A6A-82F9-41B38021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D6C8-CF73-4B47-9F0B-7556C4BF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3350-071E-40D2-93CC-4B435E03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98D4-0789-490F-A121-1C9BFA94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AEA5-74EB-49C1-8069-12DC941A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CFD-8A21-43FF-9DBF-9A73E8C4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8FAA-07AA-466A-9C55-49EE4977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4199-46E1-4667-9CF3-03AA7183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C5FA-ABD2-4CB6-A865-82811932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A0DD-0E51-4B99-A9B8-1275B99E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130A-4F23-4BE7-AB2E-9CC71753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7653-5411-4053-AC0D-10CC56C7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4D6B-67E6-4ED1-8688-7B1DE8F3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CC7-A67B-4EB2-AFBE-05758126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EDC-8891-48BD-9148-F48AFDA8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D1A-97FD-40B0-9C9C-7389F38D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A082-EC5D-4099-83CA-B559EF6A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9C76-9B22-4202-9CB2-88647741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A42-A5CD-435C-9310-873BDFD3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8E52B-0DF6-440D-B940-8B4A22FA7967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9E8CB-4311-4D56-B986-A37885047A1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D74F0-CC44-46CA-819A-F20ECE8227F3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33357-AB4B-4B5C-B9DF-258329989ED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442800" y="714240"/>
            <a:ext cx="856152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atinib versus Cisplatin-Based Chemotherapy for EGFR Mutation-Positive Lung Adenocarcinoma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LUX-Lung 3 and LUX-Lung 6): Analysis of Overall Survival Data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wo Randomised, Phase 3 T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Yang JC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Lancet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5;16(2):141-5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Yang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16(2):141-5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2440" y="1096920"/>
            <a:ext cx="8226360" cy="457056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 meta-analysis of 13 randomized studies evaluated first-line EGFR tyrosine kinase inhibitors (TKIs) versus chemotherapy or placebo for patients with EGFR-mutant lung cancer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verall survival (OS) did not differ despite the large progression-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ree survival (PFS) advantage among patients receiving EGFR TKIs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J Natl Cancer Inst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2013;105:595)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rst-line afatinib, an active second-generation TKI, was compared to standard chemotherapy in 2 Phase III trial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13;31:3327;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ancet Oncol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4;15:213)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Both studies showed improved PFS and responses with afatinib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ssess the effect of afatinib on OS for patients with EGFR mutation-positive lung adenocarcinoma through the analysis of data from the LUX-Lung 3 and LUX-Lung 6 Phase III trials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70040" y="1434960"/>
          <a:ext cx="3147840" cy="2870280"/>
        </p:xfrm>
        <a:graphic>
          <a:graphicData uri="http://schemas.openxmlformats.org/drawingml/2006/table">
            <a:tbl>
              <a:tblPr/>
              <a:tblGrid>
                <a:gridCol w="3147840"/>
              </a:tblGrid>
              <a:tr h="4500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709)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420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eviously untreated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IIB or IV lung adenocarcinom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-mutant dise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0-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ife expectancy ≥3 m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LVEF &lt;5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495760" y="1481040"/>
          <a:ext cx="2884680" cy="1352520"/>
        </p:xfrm>
        <a:graphic>
          <a:graphicData uri="http://schemas.openxmlformats.org/drawingml/2006/table">
            <a:tbl>
              <a:tblPr/>
              <a:tblGrid>
                <a:gridCol w="2884680"/>
              </a:tblGrid>
              <a:tr h="1352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464847"/>
                          </a:solidFill>
                          <a:uFillTx/>
                          <a:latin typeface="Arial"/>
                        </a:rPr>
                        <a:t>Afatinib (n = 4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UX-Lung 3 (n = 2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UX-Lung 6 (n = 2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9" name="Rectangle 31"/>
          <p:cNvSpPr/>
          <p:nvPr/>
        </p:nvSpPr>
        <p:spPr>
          <a:xfrm>
            <a:off x="770040" y="4551480"/>
            <a:ext cx="72993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LUX-Lung 3 (n = 345); LUX-Lung 6 (n = 3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LUX-Lung 3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fatinib monotherapy versus cisplatin/pemetre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LUX-Lung 6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fatinib monotherapy versus gemcitabine/cispla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"/>
          <p:cNvSpPr/>
          <p:nvPr/>
        </p:nvSpPr>
        <p:spPr>
          <a:xfrm>
            <a:off x="3917880" y="2968560"/>
            <a:ext cx="125100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5173560" y="2149200"/>
            <a:ext cx="322200" cy="655560"/>
            <a:chOff x="5173560" y="2149200"/>
            <a:chExt cx="322200" cy="655560"/>
          </a:xfrm>
        </p:grpSpPr>
        <p:sp>
          <p:nvSpPr>
            <p:cNvPr id="132" name="Line 14"/>
            <p:cNvSpPr/>
            <p:nvPr/>
          </p:nvSpPr>
          <p:spPr>
            <a:xfrm flipV="1">
              <a:off x="5173560" y="2149200"/>
              <a:ext cx="0" cy="6555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5173560" y="214956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5173560" y="2489040"/>
            <a:ext cx="322200" cy="1279440"/>
            <a:chOff x="5173560" y="2489040"/>
            <a:chExt cx="322200" cy="1279440"/>
          </a:xfrm>
        </p:grpSpPr>
        <p:sp>
          <p:nvSpPr>
            <p:cNvPr id="135" name="Line 17"/>
            <p:cNvSpPr/>
            <p:nvPr/>
          </p:nvSpPr>
          <p:spPr>
            <a:xfrm>
              <a:off x="5173560" y="2489040"/>
              <a:ext cx="0" cy="127944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5173560" y="376848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7" name=""/>
          <p:cNvGraphicFramePr/>
          <p:nvPr/>
        </p:nvGraphicFramePr>
        <p:xfrm>
          <a:off x="5495760" y="3122640"/>
          <a:ext cx="2884680" cy="1298520"/>
        </p:xfrm>
        <a:graphic>
          <a:graphicData uri="http://schemas.openxmlformats.org/drawingml/2006/table">
            <a:tbl>
              <a:tblPr/>
              <a:tblGrid>
                <a:gridCol w="2884680"/>
              </a:tblGrid>
              <a:tr h="1298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464847"/>
                          </a:solidFill>
                          <a:uFillTx/>
                          <a:latin typeface="Arial"/>
                        </a:rPr>
                        <a:t>Chemotherapy (n = 2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UX-Lung 3 (n = 1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UX-Lung 6 (n = 1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Oval 4"/>
          <p:cNvSpPr/>
          <p:nvPr/>
        </p:nvSpPr>
        <p:spPr>
          <a:xfrm>
            <a:off x="4021200" y="2468520"/>
            <a:ext cx="100476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of the Phase III LUX-Lung 3 and LUX-Lung 6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Yang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16(2):141-5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4258440" y="21207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966960" y="1434960"/>
          <a:ext cx="7243560" cy="3984840"/>
        </p:xfrm>
        <a:graphic>
          <a:graphicData uri="http://schemas.openxmlformats.org/drawingml/2006/table">
            <a:tbl>
              <a:tblPr/>
              <a:tblGrid>
                <a:gridCol w="1871640"/>
                <a:gridCol w="1342800"/>
                <a:gridCol w="1343160"/>
                <a:gridCol w="1342800"/>
                <a:gridCol w="1343160"/>
              </a:tblGrid>
              <a:tr h="41040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X-Lung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X-Lung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bined analysis of both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 (n = 4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 (n = 2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4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in the Overall Population of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Yang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16(2):141-5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979560" y="1486080"/>
          <a:ext cx="7243560" cy="3931920"/>
        </p:xfrm>
        <a:graphic>
          <a:graphicData uri="http://schemas.openxmlformats.org/drawingml/2006/table">
            <a:tbl>
              <a:tblPr/>
              <a:tblGrid>
                <a:gridCol w="1871640"/>
                <a:gridCol w="1342800"/>
                <a:gridCol w="1343160"/>
                <a:gridCol w="1343160"/>
                <a:gridCol w="1342800"/>
              </a:tblGrid>
              <a:tr h="366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X-Lung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X-Lung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0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1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bined analysis of both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 (n = 4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 (n = 2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4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for Patients with Common EGFR Mutations (Exon 19 Deletion and L858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Yang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16(2):141-5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992160" y="1447920"/>
          <a:ext cx="7243920" cy="3948120"/>
        </p:xfrm>
        <a:graphic>
          <a:graphicData uri="http://schemas.openxmlformats.org/drawingml/2006/table">
            <a:tbl>
              <a:tblPr/>
              <a:tblGrid>
                <a:gridCol w="1871640"/>
                <a:gridCol w="1343160"/>
                <a:gridCol w="1342800"/>
                <a:gridCol w="1343160"/>
                <a:gridCol w="1343160"/>
              </a:tblGrid>
              <a:tr h="37440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X-Lung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X-Lung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1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bined analysis of both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 (n = 23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 (n = 1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1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for Patients with the Exon 19 Dele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FR M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Yang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16(2):141-5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992160" y="1447920"/>
          <a:ext cx="7243920" cy="3957480"/>
        </p:xfrm>
        <a:graphic>
          <a:graphicData uri="http://schemas.openxmlformats.org/drawingml/2006/table">
            <a:tbl>
              <a:tblPr/>
              <a:tblGrid>
                <a:gridCol w="1871640"/>
                <a:gridCol w="1343160"/>
                <a:gridCol w="1342800"/>
                <a:gridCol w="1343160"/>
                <a:gridCol w="1343160"/>
              </a:tblGrid>
              <a:tr h="38376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X-Lung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X-Lung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0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4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bined analysis of both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 (n = 1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 (n = 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for Patients with the L858R EGFR M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Yang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16(2):141-5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915840" y="1434960"/>
          <a:ext cx="7243920" cy="3932280"/>
        </p:xfrm>
        <a:graphic>
          <a:graphicData uri="http://schemas.openxmlformats.org/drawingml/2006/table">
            <a:tbl>
              <a:tblPr/>
              <a:tblGrid>
                <a:gridCol w="2221200"/>
                <a:gridCol w="1255680"/>
                <a:gridCol w="1255680"/>
                <a:gridCol w="1255680"/>
                <a:gridCol w="1255680"/>
              </a:tblGrid>
              <a:tr h="366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X-Lung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X-Lung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ash or ac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ronych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euk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omatitis/mucos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Grade ≥3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Yang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16(2):141-51; 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31:3327-34; Wu YL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4;15:213-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76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ndings from the LUX-Lung 3 and LUX-Lung 6 trials showed no OS benefit with afatinib for the entire population of patients or the subgroup with L858R-positive diseas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76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owever, afatinib did result in significant OS improvements compared to platinum doublet chemotherapy for patients with EGFR del(19) disease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76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o date, these are the only 2 studies suggesting an OS advantage for patients with EGFR del(19) disease treated with a first-line EGFR TKI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76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findings suggest that patients with lung adenocarcinoma harboring EGFR del(19) and L858R mutations should be stratified and analyzed separately in future clinical trial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Yang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16(2):141-5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tamara dabney</dc:creator>
  <dc:description/>
  <dc:language>en-US</dc:language>
  <cp:lastModifiedBy>Microsoft Office User</cp:lastModifiedBy>
  <cp:lastPrinted>2010-12-13T14:13:39Z</cp:lastPrinted>
  <dcterms:modified xsi:type="dcterms:W3CDTF">2015-10-01T13:15:03Z</dcterms:modified>
  <cp:revision>535</cp:revision>
  <dc:subject/>
  <dc:title>A Phase III Trial Comparing mFOLFOX6 to mFOLFOX6 plus Bevacizumab in Stage II or III Carcinoma of the Colon: Results of NSABP Protocol C-08</dc:title>
</cp:coreProperties>
</file>