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101-1328-4FD8-8806-B641C364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9D5-4156-4F04-9D7F-4C343181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BA8-F9D3-49B2-9272-660EF565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2AF-7207-46A3-A0F1-765C1842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06D-7460-44C3-89F1-C8B6FC99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7E7B-F6B3-4563-B16E-B6266856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F1D2-B815-4728-9EA6-2FBAAC2E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0B0-24CF-47DE-B868-8D060D1D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128E-B478-4E8B-93CE-826F9A97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73A9-8600-4459-8BEA-A88A5B8F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982-89A4-4F4B-8E27-CAA5EE00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DF29-D58A-4E0F-9218-D243131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8F88-15B1-420C-A260-9950FF4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CC94-59E7-4F91-B53D-19004946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A7E0-CCF3-44D7-AE87-A3584694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9CF5-270C-4D9C-880B-496DE076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063E-7C40-4636-93F5-A4855836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9E99-F3AB-4A17-887E-627015D9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C80-AC51-4018-8079-3FC95648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FF0-05F4-48AD-94BF-55B232A4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275-CEDE-404F-BBE2-E9D16D80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7EF-1A96-4892-BE76-CCBF2D6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892-775E-4D6D-BA5D-4D29705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A94-82E5-47E5-8EC4-65987A2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7B0CA-E534-4915-BEC5-5AFED7581B1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5B6C1-C74A-43AF-AEDF-FB0B5B3200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78697-060A-4FF0-8445-B798BCD0A50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E9753-48EC-4C4B-A7B3-E1B97DB16F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al Inhibition of EGFR with Afatinib and Cetuximab in Kinase Inhibitor-Resistant EGFR-Mutant Lung Cancer with and without T790M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Janjigian YY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Cancer Discov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4;4(9):1036-4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ancer Discov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4(9):1036-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GFR-mutant lung cancers responsive to reversible EGFR inhibitors such as erlotinib acquire resistance to these ag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This resistance is mediated by second-site EGFR T790M mutations in more than 50% of case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PNAS USA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2008;105:2070)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fatinib is an ErbB family blocker that irreversibly blocks signaling from the ErbB family of recepto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tudies in mouse models with L858R/T790M erlotinib-resistant tumors showed that afatinib/cetuximab overcomes T790M-mediated resistanc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 Clin Invest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09;119:3000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the maximum tolerated dose (MTD), safety and efficacy of combined EGFR blockade with afatinib/cetuximab in EGFR-mutant NSCLC with acquired resistance to erlotinib or gefitini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313160" y="1409760"/>
          <a:ext cx="4108680" cy="1166760"/>
        </p:xfrm>
        <a:graphic>
          <a:graphicData uri="http://schemas.openxmlformats.org/drawingml/2006/table">
            <a:tbl>
              <a:tblPr/>
              <a:tblGrid>
                <a:gridCol w="4108680"/>
              </a:tblGrid>
              <a:tr h="1166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Afatinib +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fatinib: 40 mg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etuximab: 500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, q2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Line 2"/>
          <p:cNvSpPr/>
          <p:nvPr/>
        </p:nvSpPr>
        <p:spPr>
          <a:xfrm>
            <a:off x="3865680" y="1994040"/>
            <a:ext cx="44748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b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ancer Discov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4(9):1036-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313160" y="2746440"/>
            <a:ext cx="410868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TD established of afatinib (40 mg/d, PO) + cetuximab (500 mg/m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, IV every 2 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Includes 4 patients treated at the first-dose level of afatinib at 40 mg/d + cetuximab at 250 mg/m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, q2wk and 126 patients at M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n additional 41 patients received 40 mg/d of afatinib + 500 mg/m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every 2 weeks of cetuximab after disease progression on afatinib monotherapy. Data for these patients are not included in this pub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66720" y="1413000"/>
          <a:ext cx="3297240" cy="3470040"/>
        </p:xfrm>
        <a:graphic>
          <a:graphicData uri="http://schemas.openxmlformats.org/drawingml/2006/table">
            <a:tbl>
              <a:tblPr/>
              <a:tblGrid>
                <a:gridCol w="3297240"/>
              </a:tblGrid>
              <a:tr h="409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30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1274c"/>
                    </a:solidFill>
                  </a:tcPr>
                </a:tc>
              </a:tr>
              <a:tr h="3060720">
                <a:tc>
                  <a:txBody>
                    <a:bodyPr lIns="90000" rIns="90000" anchor="t">
                      <a:noAutofit/>
                    </a:bodyPr>
                    <a:p>
                      <a:pPr marL="173160" indent="-17316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/IV NSC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-po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sease progression on erlotinib or gefitinib within 30 d of study entry without intervening systemic 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EGFR-targeting anti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25320" y="1319040"/>
          <a:ext cx="7869240" cy="3881520"/>
        </p:xfrm>
        <a:graphic>
          <a:graphicData uri="http://schemas.openxmlformats.org/drawingml/2006/table">
            <a:tbl>
              <a:tblPr/>
              <a:tblGrid>
                <a:gridCol w="3095640"/>
                <a:gridCol w="1590840"/>
                <a:gridCol w="1592280"/>
                <a:gridCol w="1590480"/>
              </a:tblGrid>
              <a:tr h="6696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+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9 y (31-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8 y (31-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 y (40-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ior lines of therapy: 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                      ≥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statu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l19-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8 (6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 (6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 (6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858R-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 (3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3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wild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lin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ancer Discov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4(9):1036-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1"/>
          <p:cNvSpPr/>
          <p:nvPr/>
        </p:nvSpPr>
        <p:spPr>
          <a:xfrm>
            <a:off x="787320" y="4138560"/>
            <a:ext cx="792000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All patients received the MTD of afatinib and cetuxim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†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All were PRs; no CRs were observ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ORR = overall response rate; UORR = unconfirmed ORR; SD = stable disease; PD = progressive disease; CR = complete response; PR = partial respo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No significant difference between ORR for T790M+ vs T790M- (</a:t>
            </a:r>
            <a:r>
              <a:rPr b="0" i="1" lang="en-US" sz="17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 = 0.34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50800" y="1270080"/>
          <a:ext cx="8031240" cy="2784240"/>
        </p:xfrm>
        <a:graphic>
          <a:graphicData uri="http://schemas.openxmlformats.org/drawingml/2006/table">
            <a:tbl>
              <a:tblPr/>
              <a:tblGrid>
                <a:gridCol w="2252880"/>
                <a:gridCol w="1152360"/>
                <a:gridCol w="1157400"/>
                <a:gridCol w="1155600"/>
                <a:gridCol w="1157400"/>
                <a:gridCol w="1155600"/>
              </a:tblGrid>
              <a:tr h="612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858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9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 (29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 (3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 (25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 (29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 (3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OR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 (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6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9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 (4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 (4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 (38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 (3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 (49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R/PR &lt;35 d 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P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 &lt;35 d 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P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 (2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 (1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 (20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 (1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 (25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(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 (1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 (29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 (18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 (10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(0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ancer Discov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4(9):1036-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ancer Discov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4(9):1036-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a trend toward improved ORR with respect to the duration of treatment with prior EGFR TKIs, although comparisons between groups were not statistically significant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&lt;11 months: 26%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≥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1-&lt;22 months: 28%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≥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2-&lt;33 months: 29%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33+ months: 38%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ORR for afatinib/cetuximab was 80%, 31% and 21% in patients who achieved CR, PR or SD, respectively, on a prior EGFR TKI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1"/>
          <p:cNvSpPr/>
          <p:nvPr/>
        </p:nvSpPr>
        <p:spPr>
          <a:xfrm>
            <a:off x="611280" y="3267000"/>
            <a:ext cx="79372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 summary of censoring for PFS showed that 23 patients (18.3%) were alive and without PD according to the available imaging results at the time of database l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 was similar for patients with and without the T790M mutation (4.6 vs 4.8 months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64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3% of patients treated at the MTD were continued on study treatment for clinical benefit after radiographic PD for a median period of 3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55480" y="1270080"/>
          <a:ext cx="8013960" cy="1922400"/>
        </p:xfrm>
        <a:graphic>
          <a:graphicData uri="http://schemas.openxmlformats.org/drawingml/2006/table">
            <a:tbl>
              <a:tblPr/>
              <a:tblGrid>
                <a:gridCol w="3751560"/>
                <a:gridCol w="1420560"/>
                <a:gridCol w="1420920"/>
                <a:gridCol w="1420920"/>
              </a:tblGrid>
              <a:tr h="703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uration of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 (n = 1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rogression-free surv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ancer Discov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4(9):1036-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28560" y="1332000"/>
          <a:ext cx="7878960" cy="3884400"/>
        </p:xfrm>
        <a:graphic>
          <a:graphicData uri="http://schemas.openxmlformats.org/drawingml/2006/table">
            <a:tbl>
              <a:tblPr/>
              <a:tblGrid>
                <a:gridCol w="3229200"/>
                <a:gridCol w="1549440"/>
                <a:gridCol w="1550880"/>
                <a:gridCol w="1549440"/>
              </a:tblGrid>
              <a:tr h="3632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(n = 1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Xe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ad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omagnes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ancer Discov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4(9):1036-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031400"/>
            <a:ext cx="8226360" cy="478332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fatinib/cetuximab demonstrated robust clinical activity and a manageable safety profile in EGFR-mutant lung cancers with acquired resistance to gefitinib or erlotinib, both with and without T790M mutations, warranting further investig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s the activity of afatinib/cetuximab was shown in a heavily pretreated cohort of patients, its evaluation is also of particular interest in an earlier-line sett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 ongoing trial is evaluating this combination in patients with TKI-naïve, EGFR-mutant NSCLC (NCT02438722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other randomized trial will evaluate afatinib/cetuximab in patients with acquired resistance after only 1 prior line of standard platinum-based doublet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lecular correlative studies are ongoing to determine which tumors are most sensitive to dual inhibition of EGFR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ancer Discov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4(9):1036-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Microsoft Office User</cp:lastModifiedBy>
  <cp:lastPrinted>2010-12-13T14:13:39Z</cp:lastPrinted>
  <dcterms:modified xsi:type="dcterms:W3CDTF">2015-10-01T12:52:38Z</dcterms:modified>
  <cp:revision>575</cp:revision>
  <dc:subject/>
  <dc:title>A Phase III Trial Comparing mFOLFOX6 to mFOLFOX6 plus Bevacizumab in Stage II or III Carcinoma of the Colon: Results of NSABP Protocol C-08</dc:title>
</cp:coreProperties>
</file>