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104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992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0180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104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992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0F18-8E9C-4D88-A6B7-9BFFBAF4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B3D6-0BD5-4114-BD3C-AAF97552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A741-EC0A-4F3C-BA50-50B52C9C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7061-C4A9-41D1-920D-A5B98D42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3811-64B9-457D-B270-66D502D5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0FF8-11F4-4D1A-A119-055150CB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506-0D7D-4A63-A2E7-84F07246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896-745A-49DA-8FB9-08A4712B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225A-DE99-4062-830D-52D3F939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D1B6-7F53-4AA5-8800-EA0A9BDD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1FD-E12F-460E-B25C-115F144A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6104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992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0180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6104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992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C3C5-8C9C-45EB-9712-FDD65D21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000" cy="152532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66560"/>
            <a:ext cx="7772040" cy="42397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000" cy="4570200"/>
          </a:xfrm>
          <a:prstGeom prst="rect">
            <a:avLst/>
          </a:prstGeom>
          <a:ln w="9525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econd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Third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Fourth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464847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Fifth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FF3C9E3-2437-48B6-9432-527534E44D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442800" y="939960"/>
            <a:ext cx="8226000" cy="376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mbrolizumab (MK-3475) in Patients with Extensive-Stage Small Cell Lung Cancer: Preliminary Safety and Efficacy Results from KEYNOTE-028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ase I/II Study (CheckMate 032) of Nivolumab with or without Ipilimumab for Treatment of Recurrent Small Cell Lung Cancer (SCLC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55760" y="4707000"/>
            <a:ext cx="8226000" cy="152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20"/>
              </a:spcBef>
            </a:pPr>
            <a:r>
              <a:rPr b="1" lang="en-US" sz="21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1 </a:t>
            </a:r>
            <a:r>
              <a:rPr b="0" lang="en-US" sz="21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tt PA et al.</a:t>
            </a:r>
            <a:br>
              <a:rPr sz="2100"/>
            </a:br>
            <a:r>
              <a:rPr b="0" i="1" lang="en-US" sz="21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oc ASCO </a:t>
            </a:r>
            <a:r>
              <a:rPr b="0" lang="en-US" sz="21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Abstract 7502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0"/>
              </a:spcBef>
            </a:pPr>
            <a:r>
              <a:rPr b="1" lang="en-US" sz="21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2 </a:t>
            </a:r>
            <a:r>
              <a:rPr b="0" lang="en-US" sz="21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ntonia SJ et al.</a:t>
            </a:r>
            <a:br>
              <a:rPr sz="2100"/>
            </a:br>
            <a:r>
              <a:rPr b="0" i="1" lang="en-US" sz="21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oc ASCO </a:t>
            </a:r>
            <a:r>
              <a:rPr b="0" lang="en-US" sz="21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Abstract 7503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omising antitumor activity observed with pembrolizumab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(35% ORR) in this pretreated, PD-L1-positive SCLC population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Responses appear durable, with 6 of 7 ongoing at data cutoff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afety and toxicity profile was consistent with previous experience for pembrolizumab in other tumor types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ngoing trials of pembrolizumab for extensive-stage SCLC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CT02359019: A Phase II study of pembrolizumab maintenance therapy after combination chemotherap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CT02402920: A Phase I study of pembrolizumab with radiation therapy and combination chemotherapy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11"/>
          </p:nvPr>
        </p:nvSpPr>
        <p:spPr>
          <a:xfrm>
            <a:off x="609480" y="619920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Ott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75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442800" y="714240"/>
            <a:ext cx="8226000" cy="399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ase I/II Study (CheckMate 032)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 Nivolumab with or without Ipilimumab for Treatment of Recurrent Small Cell Lung Cancer (SCLC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55760" y="4707000"/>
            <a:ext cx="8226000" cy="152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ntonia SJ et 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Abstract 7503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atients with SCLC respond well to initial platinum-based chemotherapy but rapidly develop progression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ivolumab has a demonstrated survival benefit and manageable safety profile in advanced NSCLC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pilimumab is a fully human IgG monoclonal antibody that has promising activity in NSCLC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r Adv Med Oncol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2;4:43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ombined blockade of PD-1 and CTLA-4 immune checkpoint pathways has antitumor activity with a manageable safety profile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 Engl J Med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2013;369:122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ssess the safety and efficacy of nivolumab with or without ipilimumab in patients with recurrent SCLC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2"/>
          </p:nvPr>
        </p:nvSpPr>
        <p:spPr>
          <a:xfrm>
            <a:off x="609480" y="619920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Antonia S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75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Group 38"/>
          <p:cNvGraphicFramePr/>
          <p:nvPr/>
        </p:nvGraphicFramePr>
        <p:xfrm>
          <a:off x="4665960" y="1335240"/>
          <a:ext cx="3715560" cy="729720"/>
        </p:xfrm>
        <a:graphic>
          <a:graphicData uri="http://schemas.openxmlformats.org/drawingml/2006/table">
            <a:tbl>
              <a:tblPr/>
              <a:tblGrid>
                <a:gridCol w="3715920"/>
              </a:tblGrid>
              <a:tr h="72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Nivolumab (nivo) (3 mg/kg) IV q2wk* (n = 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Footer Placeholder 4"/>
          <p:cNvSpPr/>
          <p:nvPr/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93cddd"/>
              </a:solidFill>
              <a:latin typeface="Arial"/>
              <a:ea typeface="ＭＳ Ｐゴシック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ase I/II CheckMate 032 Tri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1"/>
          <p:cNvSpPr/>
          <p:nvPr/>
        </p:nvSpPr>
        <p:spPr>
          <a:xfrm>
            <a:off x="597600" y="4298760"/>
            <a:ext cx="37965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imary endpoint: 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overall response rate (OR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econdary endpoint: 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af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3910680" y="5053320"/>
            <a:ext cx="4623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*</a:t>
            </a:r>
            <a:r>
              <a:rPr b="0" lang="en-US" sz="1800" spc="-1" strike="noStrike" baseline="30000">
                <a:solidFill>
                  <a:srgbClr val="595959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Followed by nivo 3 mg/kg, IV, q2w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 baseline="30000">
                <a:solidFill>
                  <a:srgbClr val="595959"/>
                </a:solidFill>
                <a:latin typeface="Arial"/>
                <a:ea typeface="ＭＳ Ｐゴシック"/>
              </a:rPr>
              <a:t>† 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ata from this cohort to be presented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3107880" y="2664360"/>
            <a:ext cx="1566000" cy="360"/>
          </a:xfrm>
          <a:prstGeom prst="line">
            <a:avLst/>
          </a:prstGeom>
          <a:ln w="28575">
            <a:solidFill>
              <a:srgbClr val="76787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graphicFrame>
        <p:nvGraphicFramePr>
          <p:cNvPr id="150" name="Group 38"/>
          <p:cNvGraphicFramePr/>
          <p:nvPr/>
        </p:nvGraphicFramePr>
        <p:xfrm>
          <a:off x="4665960" y="2319120"/>
          <a:ext cx="3741120" cy="729720"/>
        </p:xfrm>
        <a:graphic>
          <a:graphicData uri="http://schemas.openxmlformats.org/drawingml/2006/table">
            <a:tbl>
              <a:tblPr/>
              <a:tblGrid>
                <a:gridCol w="3741120"/>
              </a:tblGrid>
              <a:tr h="72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Nivo (1 mg/kg) + ipilimumab (ipi)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(1 mg/kg) IV, q3wk, x 4* (n 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Group 38"/>
          <p:cNvGraphicFramePr/>
          <p:nvPr/>
        </p:nvGraphicFramePr>
        <p:xfrm>
          <a:off x="4665960" y="3264840"/>
          <a:ext cx="3753720" cy="729720"/>
        </p:xfrm>
        <a:graphic>
          <a:graphicData uri="http://schemas.openxmlformats.org/drawingml/2006/table">
            <a:tbl>
              <a:tblPr/>
              <a:tblGrid>
                <a:gridCol w="3754080"/>
              </a:tblGrid>
              <a:tr h="72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Nivo (1 mg/kg) + ipi (3 mg/kg) IV q3wk, x 4* (n = 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Group 38"/>
          <p:cNvGraphicFramePr/>
          <p:nvPr/>
        </p:nvGraphicFramePr>
        <p:xfrm>
          <a:off x="4665960" y="4210560"/>
          <a:ext cx="3855240" cy="729720"/>
        </p:xfrm>
        <a:graphic>
          <a:graphicData uri="http://schemas.openxmlformats.org/drawingml/2006/table">
            <a:tbl>
              <a:tblPr/>
              <a:tblGrid>
                <a:gridCol w="3855600"/>
              </a:tblGrid>
              <a:tr h="72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Nivo (3 mg/kg) + ipi (1 mg/kg) IV q3wk, x 4* (n = 38)</a:t>
                      </a:r>
                      <a:r>
                        <a:rPr b="0" lang="en-US" sz="1800" spc="-1" strike="noStrike" baseline="30000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†</a:t>
                      </a: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53" name="Group 13"/>
          <p:cNvGrpSpPr/>
          <p:nvPr/>
        </p:nvGrpSpPr>
        <p:grpSpPr>
          <a:xfrm>
            <a:off x="4343400" y="1804320"/>
            <a:ext cx="322560" cy="655560"/>
            <a:chOff x="4343400" y="1804320"/>
            <a:chExt cx="322560" cy="655560"/>
          </a:xfrm>
        </p:grpSpPr>
        <p:sp>
          <p:nvSpPr>
            <p:cNvPr id="154" name="Line 14"/>
            <p:cNvSpPr/>
            <p:nvPr/>
          </p:nvSpPr>
          <p:spPr>
            <a:xfrm flipV="1">
              <a:off x="4343400" y="1804320"/>
              <a:ext cx="360" cy="655560"/>
            </a:xfrm>
            <a:prstGeom prst="line">
              <a:avLst/>
            </a:prstGeom>
            <a:ln w="28575">
              <a:solidFill>
                <a:srgbClr val="76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55" name="Line 15"/>
            <p:cNvSpPr/>
            <p:nvPr/>
          </p:nvSpPr>
          <p:spPr>
            <a:xfrm>
              <a:off x="4343400" y="1804320"/>
              <a:ext cx="322560" cy="360"/>
            </a:xfrm>
            <a:prstGeom prst="line">
              <a:avLst/>
            </a:prstGeom>
            <a:ln w="28575">
              <a:solidFill>
                <a:srgbClr val="76787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156" name="Group 16"/>
          <p:cNvGrpSpPr/>
          <p:nvPr/>
        </p:nvGrpSpPr>
        <p:grpSpPr>
          <a:xfrm>
            <a:off x="4343400" y="3342240"/>
            <a:ext cx="322560" cy="1279800"/>
            <a:chOff x="4343400" y="3342240"/>
            <a:chExt cx="322560" cy="1279800"/>
          </a:xfrm>
        </p:grpSpPr>
        <p:sp>
          <p:nvSpPr>
            <p:cNvPr id="157" name="Line 17"/>
            <p:cNvSpPr/>
            <p:nvPr/>
          </p:nvSpPr>
          <p:spPr>
            <a:xfrm>
              <a:off x="4343400" y="3342240"/>
              <a:ext cx="360" cy="1279440"/>
            </a:xfrm>
            <a:prstGeom prst="line">
              <a:avLst/>
            </a:prstGeom>
            <a:ln w="28575">
              <a:solidFill>
                <a:srgbClr val="76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58" name="Line 18"/>
            <p:cNvSpPr/>
            <p:nvPr/>
          </p:nvSpPr>
          <p:spPr>
            <a:xfrm>
              <a:off x="4343400" y="4621680"/>
              <a:ext cx="322560" cy="360"/>
            </a:xfrm>
            <a:prstGeom prst="line">
              <a:avLst/>
            </a:prstGeom>
            <a:ln w="28575">
              <a:solidFill>
                <a:srgbClr val="76787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159" name="Group 16"/>
          <p:cNvGrpSpPr/>
          <p:nvPr/>
        </p:nvGrpSpPr>
        <p:grpSpPr>
          <a:xfrm>
            <a:off x="4343400" y="2459880"/>
            <a:ext cx="322560" cy="1279440"/>
            <a:chOff x="4343400" y="2459880"/>
            <a:chExt cx="322560" cy="1279440"/>
          </a:xfrm>
        </p:grpSpPr>
        <p:sp>
          <p:nvSpPr>
            <p:cNvPr id="160" name="Line 17"/>
            <p:cNvSpPr/>
            <p:nvPr/>
          </p:nvSpPr>
          <p:spPr>
            <a:xfrm>
              <a:off x="4343400" y="2459880"/>
              <a:ext cx="360" cy="1279440"/>
            </a:xfrm>
            <a:prstGeom prst="line">
              <a:avLst/>
            </a:prstGeom>
            <a:ln w="28575">
              <a:solidFill>
                <a:srgbClr val="76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61" name="Line 18"/>
            <p:cNvSpPr/>
            <p:nvPr/>
          </p:nvSpPr>
          <p:spPr>
            <a:xfrm>
              <a:off x="4343400" y="3657600"/>
              <a:ext cx="322560" cy="360"/>
            </a:xfrm>
            <a:prstGeom prst="line">
              <a:avLst/>
            </a:prstGeom>
            <a:ln w="28575">
              <a:solidFill>
                <a:srgbClr val="76787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162" name="PlaceHolder 2"/>
          <p:cNvSpPr>
            <a:spLocks noGrp="1"/>
          </p:cNvSpPr>
          <p:nvPr>
            <p:ph type="ftr" idx="13"/>
          </p:nvPr>
        </p:nvSpPr>
        <p:spPr>
          <a:xfrm>
            <a:off x="609480" y="619920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Antonia S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75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3457800" y="2162880"/>
            <a:ext cx="1004400" cy="10029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Group 33"/>
          <p:cNvGraphicFramePr/>
          <p:nvPr/>
        </p:nvGraphicFramePr>
        <p:xfrm>
          <a:off x="609480" y="1589040"/>
          <a:ext cx="2739600" cy="1952280"/>
        </p:xfrm>
        <a:graphic>
          <a:graphicData uri="http://schemas.openxmlformats.org/drawingml/2006/table">
            <a:tbl>
              <a:tblPr/>
              <a:tblGrid>
                <a:gridCol w="2739600"/>
              </a:tblGrid>
              <a:tr h="3931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ligibility (n = 12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494720">
                <a:tc>
                  <a:txBody>
                    <a:bodyPr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595959"/>
                        </a:buClr>
                        <a:buFont typeface="Arial"/>
                        <a:buChar char="•"/>
                      </a:pPr>
                      <a:r>
                        <a:rPr b="0" lang="en-US" sz="20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SC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595959"/>
                        </a:buClr>
                        <a:buFont typeface="Arial"/>
                        <a:buChar char="•"/>
                      </a:pPr>
                      <a:r>
                        <a:rPr b="0" lang="en-US" sz="20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Failed ≥1 prior Tx, including a platinum-based regi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1"/>
          <p:cNvSpPr/>
          <p:nvPr/>
        </p:nvSpPr>
        <p:spPr>
          <a:xfrm>
            <a:off x="723960" y="3161160"/>
            <a:ext cx="74901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f 17 patients with stable disease (nivo + ipi), 7 had confirmed PR after database lock, resulting in an updated ORR of 32.6%; no additional responses occurred in the nivo ar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4308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93cddd"/>
              </a:solidFill>
              <a:latin typeface="Arial"/>
              <a:ea typeface="ＭＳ Ｐゴシック"/>
            </a:endParaRPr>
          </a:p>
        </p:txBody>
      </p:sp>
      <p:graphicFrame>
        <p:nvGraphicFramePr>
          <p:cNvPr id="167" name="Group 35"/>
          <p:cNvGraphicFramePr/>
          <p:nvPr/>
        </p:nvGraphicFramePr>
        <p:xfrm>
          <a:off x="773640" y="1447920"/>
          <a:ext cx="7671600" cy="1472400"/>
        </p:xfrm>
        <a:graphic>
          <a:graphicData uri="http://schemas.openxmlformats.org/drawingml/2006/table">
            <a:tbl>
              <a:tblPr/>
              <a:tblGrid>
                <a:gridCol w="2891880"/>
                <a:gridCol w="2186640"/>
                <a:gridCol w="2593080"/>
              </a:tblGrid>
              <a:tr h="4662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Overall respo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ivo  (n = 4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ivo + ipi (n = 46)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988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Complete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artial response (P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 (1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 (1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2.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 (1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Group 35"/>
          <p:cNvGraphicFramePr/>
          <p:nvPr/>
        </p:nvGraphicFramePr>
        <p:xfrm>
          <a:off x="773640" y="4160520"/>
          <a:ext cx="7671600" cy="1047240"/>
        </p:xfrm>
        <a:graphic>
          <a:graphicData uri="http://schemas.openxmlformats.org/drawingml/2006/table">
            <a:tbl>
              <a:tblPr/>
              <a:tblGrid>
                <a:gridCol w="3683880"/>
                <a:gridCol w="1803240"/>
                <a:gridCol w="2184120"/>
              </a:tblGrid>
              <a:tr h="2865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esponse by PD-L1 expre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ivo  (n = 2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ivo + ipi (n = 18)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51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5 (6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2 (6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≥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 (3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70" name="PlaceHolder 2"/>
          <p:cNvSpPr>
            <a:spLocks noGrp="1"/>
          </p:cNvSpPr>
          <p:nvPr>
            <p:ph type="ftr" idx="14"/>
          </p:nvPr>
        </p:nvSpPr>
        <p:spPr>
          <a:xfrm>
            <a:off x="609480" y="619920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Antonia S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75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31"/>
          <p:cNvSpPr/>
          <p:nvPr/>
        </p:nvSpPr>
        <p:spPr>
          <a:xfrm>
            <a:off x="723960" y="5285520"/>
            <a:ext cx="7490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ombined data for nivo 1 + ipi 1 and nivo 1 + ipi 3 cohort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1"/>
          <p:cNvSpPr/>
          <p:nvPr/>
        </p:nvSpPr>
        <p:spPr>
          <a:xfrm>
            <a:off x="680760" y="4398120"/>
            <a:ext cx="77515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imbic encephalitis (Grade 2): nivo (n = 1), nivo 1 + ipi 3 (n = 1), resolved with immunosuppressive treat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Grade 4 limbic encephalitis in 1 patient did not resolve with immunosuppressive treat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34308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93cddd"/>
              </a:solidFill>
              <a:latin typeface="Arial"/>
              <a:ea typeface="ＭＳ Ｐゴシック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dverse Events (A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Group 91"/>
          <p:cNvGraphicFramePr/>
          <p:nvPr/>
        </p:nvGraphicFramePr>
        <p:xfrm>
          <a:off x="680760" y="1287720"/>
          <a:ext cx="7264080" cy="2777760"/>
        </p:xfrm>
        <a:graphic>
          <a:graphicData uri="http://schemas.openxmlformats.org/drawingml/2006/table">
            <a:tbl>
              <a:tblPr/>
              <a:tblGrid>
                <a:gridCol w="1960560"/>
                <a:gridCol w="1434960"/>
                <a:gridCol w="1206360"/>
                <a:gridCol w="1439280"/>
                <a:gridCol w="1222200"/>
              </a:tblGrid>
              <a:tr h="346320">
                <a:tc rowSpan="2">
                  <a:txBody>
                    <a:bodyPr tIns="45360" bIns="4536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E ≥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ivo 3 (n = 4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ivo 1 + ipi 3 (n = 4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ny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rade ≥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ny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rade ≥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463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 (1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1 (2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 (8.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63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ruri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 (7.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 (1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2.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3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Hypothyroid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2.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 (1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63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Hyperthyroid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2.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 (1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3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ST incr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 (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 (4.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63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neumon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 (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2.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2.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76" name="PlaceHolder 2"/>
          <p:cNvSpPr>
            <a:spLocks noGrp="1"/>
          </p:cNvSpPr>
          <p:nvPr>
            <p:ph type="ftr" idx="15"/>
          </p:nvPr>
        </p:nvSpPr>
        <p:spPr>
          <a:xfrm>
            <a:off x="609480" y="619920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Antonia S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75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safety profiles of nivolumab monotherapy and nivolumab/ipilimumab are consistent with other tumor types and were managed with established safety guidelin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ivolumab monotherapy and nivolumab/ipilimumab show activity and durable responses in patients with progressive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CLC after at least 1 prior therap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ctivity was observed in patients with platinum-sensitive and resistant/refractory disease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linical responses occurred in patients regardless of PD-L1 expressio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ivolumab monotherapy and nivolumab/ipilimumab will be further explored in future SCLC trial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16"/>
          </p:nvPr>
        </p:nvSpPr>
        <p:spPr>
          <a:xfrm>
            <a:off x="609480" y="619920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Antonia S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75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scus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mmunotherapy shows activity in relapsed disease with impressive responsive rates (historical response for platinum-refractory disease, &lt;10%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role of the PD-L1 biomarker remains uncertain and may not be feasibl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Would probably not use at this time to enroll patients on studie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Randomized studies are clearly indicat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ritical to include samples for correlative studies (ie, IHC, mutational and T-cell analysis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Biology will drive new combinations in this smoking-associated disease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17"/>
          </p:nvPr>
        </p:nvSpPr>
        <p:spPr>
          <a:xfrm>
            <a:off x="609480" y="619920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Herbst RS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Discussant Abstracts 7502, 75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442800" y="714240"/>
            <a:ext cx="8226000" cy="399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mbrolizumab (MK-3475) in Patients with Extensive-Stage Small Cell Lung Cancer: Preliminary Safety and Efficacy Results from KEYNOTE-02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55760" y="4707000"/>
            <a:ext cx="8226000" cy="152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tt PA et 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Abstract 7502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391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195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reatment options for patients with small cell lung cancer (SCLC) that has progressed on platinum-based chemotherapy are limited. </a:t>
            </a:r>
            <a:endParaRPr b="0" lang="en-US" sz="195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91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195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embrolizumab, an anti-PD-1 monoclonal antibody that blocks the interaction between PD-1 and its ligands PD-L1 and PD-L2, has shown antitumor activity in multiple advanced cancer types, including non-small cell lung cancer (NSCLC).</a:t>
            </a:r>
            <a:endParaRPr b="0" lang="en-US" sz="195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91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195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KEYNOTE-001 study demonstrated an overall response rate of about 20% with pembrolizumab in patients with previously treated and treatment-naïve NSCLC (</a:t>
            </a:r>
            <a:r>
              <a:rPr b="0" i="1" lang="en-US" sz="195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195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372:2018).</a:t>
            </a:r>
            <a:endParaRPr b="0" lang="en-US" sz="195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91"/>
              </a:spcBef>
              <a:buClr>
                <a:srgbClr val="464847"/>
              </a:buClr>
              <a:buFont typeface="Lucida Grande"/>
              <a:buChar char="&gt;"/>
            </a:pPr>
            <a:r>
              <a:rPr b="1" lang="en-US" sz="195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urrent study objective: </a:t>
            </a:r>
            <a:endParaRPr b="0" lang="en-US" sz="195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ssess the safety and efficacy of pembrolizumab in patients with PD-L1-positive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CLC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4"/>
          </p:nvPr>
        </p:nvSpPr>
        <p:spPr>
          <a:xfrm>
            <a:off x="609480" y="619920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Ott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75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Group 33"/>
          <p:cNvGraphicFramePr/>
          <p:nvPr/>
        </p:nvGraphicFramePr>
        <p:xfrm>
          <a:off x="998640" y="1825560"/>
          <a:ext cx="3147480" cy="2117880"/>
        </p:xfrm>
        <a:graphic>
          <a:graphicData uri="http://schemas.openxmlformats.org/drawingml/2006/table">
            <a:tbl>
              <a:tblPr/>
              <a:tblGrid>
                <a:gridCol w="3147840"/>
              </a:tblGrid>
              <a:tr h="4572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ligibility (n = 157*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447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SC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≥</a:t>
                      </a: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measurable le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Failure of or inability to receive standard T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D-L1-pos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Group 38"/>
          <p:cNvGraphicFramePr/>
          <p:nvPr/>
        </p:nvGraphicFramePr>
        <p:xfrm>
          <a:off x="5232240" y="2580480"/>
          <a:ext cx="2883960" cy="981000"/>
        </p:xfrm>
        <a:graphic>
          <a:graphicData uri="http://schemas.openxmlformats.org/drawingml/2006/table">
            <a:tbl>
              <a:tblPr/>
              <a:tblGrid>
                <a:gridCol w="2884320"/>
              </a:tblGrid>
              <a:tr h="981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embrolizuma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 mg/kg IV, q2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0" name="Footer Placeholder 4"/>
          <p:cNvSpPr/>
          <p:nvPr/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93cddd"/>
              </a:solidFill>
              <a:latin typeface="Arial"/>
              <a:ea typeface="ＭＳ Ｐゴシック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going Phase Ib KEYNOTE-028 Tri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1"/>
          <p:cNvSpPr/>
          <p:nvPr/>
        </p:nvSpPr>
        <p:spPr>
          <a:xfrm>
            <a:off x="1058760" y="4667040"/>
            <a:ext cx="7243560" cy="98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imary endpoints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RR, saf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econdary endpoints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Progression-free survival, overall survival, duration of 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5"/>
          </p:nvPr>
        </p:nvSpPr>
        <p:spPr>
          <a:xfrm>
            <a:off x="609480" y="619920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Ott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75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1010160" y="1387440"/>
            <a:ext cx="1662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CT020548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1031760" y="4208760"/>
            <a:ext cx="516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atients screened for PD-L1 in the SCLC coh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4146480" y="3083400"/>
            <a:ext cx="1085760" cy="360"/>
          </a:xfrm>
          <a:prstGeom prst="line">
            <a:avLst/>
          </a:prstGeom>
          <a:ln w="28575">
            <a:solidFill>
              <a:srgbClr val="76787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93cddd"/>
              </a:solidFill>
              <a:latin typeface="Arial"/>
              <a:ea typeface="ＭＳ Ｐゴシック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D-L1 Screening: SCLC Co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ftr" idx="6"/>
          </p:nvPr>
        </p:nvSpPr>
        <p:spPr>
          <a:xfrm>
            <a:off x="609480" y="619920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Ott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75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182240" y="5108400"/>
            <a:ext cx="689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D-L1 positivity: Membranous PD-L1 expression in ≥1% of cells in tumor nests or positive bands in stro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642600" y="1671120"/>
            <a:ext cx="3510000" cy="608040"/>
          </a:xfrm>
          <a:prstGeom prst="rect">
            <a:avLst/>
          </a:prstGeom>
          <a:solidFill>
            <a:schemeClr val="bg1"/>
          </a:solidFill>
          <a:ln w="19050">
            <a:solidFill>
              <a:srgbClr val="000000">
                <a:lumMod val="65000"/>
                <a:lumOff val="3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onevaluab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nsufficient sample (n = 10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635040" y="2901240"/>
            <a:ext cx="3517560" cy="1904040"/>
          </a:xfrm>
          <a:prstGeom prst="rect">
            <a:avLst/>
          </a:prstGeom>
          <a:solidFill>
            <a:schemeClr val="bg1"/>
          </a:solidFill>
          <a:ln w="19050">
            <a:solidFill>
              <a:srgbClr val="000000">
                <a:lumMod val="65000"/>
                <a:lumOff val="3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Reasons for exclus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ECOG PS ineligible (n = 6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ctive CNS metastases (n = 3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o measurable disease (n = 1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Declined study participation </a:t>
            </a:r>
            <a:br>
              <a:rPr sz="1700"/>
            </a:b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(n = 6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ther (n = 6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5975280" y="1734120"/>
            <a:ext cx="360" cy="501480"/>
          </a:xfrm>
          <a:prstGeom prst="line">
            <a:avLst/>
          </a:prstGeom>
          <a:ln w="28575">
            <a:solidFill>
              <a:srgbClr val="76787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4" name="Line 15"/>
          <p:cNvSpPr/>
          <p:nvPr/>
        </p:nvSpPr>
        <p:spPr>
          <a:xfrm>
            <a:off x="5975280" y="2634480"/>
            <a:ext cx="360" cy="501120"/>
          </a:xfrm>
          <a:prstGeom prst="line">
            <a:avLst/>
          </a:prstGeom>
          <a:ln w="28575">
            <a:solidFill>
              <a:srgbClr val="76787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5975280" y="3568680"/>
            <a:ext cx="360" cy="501120"/>
          </a:xfrm>
          <a:prstGeom prst="line">
            <a:avLst/>
          </a:prstGeom>
          <a:ln w="28575">
            <a:solidFill>
              <a:srgbClr val="76787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6" name="Line 15"/>
          <p:cNvSpPr/>
          <p:nvPr/>
        </p:nvSpPr>
        <p:spPr>
          <a:xfrm flipH="1">
            <a:off x="4152600" y="3866760"/>
            <a:ext cx="1822680" cy="360"/>
          </a:xfrm>
          <a:prstGeom prst="line">
            <a:avLst/>
          </a:prstGeom>
          <a:ln w="28575">
            <a:solidFill>
              <a:srgbClr val="76787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7" name="Line 15"/>
          <p:cNvSpPr/>
          <p:nvPr/>
        </p:nvSpPr>
        <p:spPr>
          <a:xfrm flipH="1">
            <a:off x="4152600" y="2000520"/>
            <a:ext cx="1822680" cy="360"/>
          </a:xfrm>
          <a:prstGeom prst="line">
            <a:avLst/>
          </a:prstGeom>
          <a:ln w="28575">
            <a:solidFill>
              <a:srgbClr val="76787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4478040" y="1335240"/>
            <a:ext cx="2958840" cy="576360"/>
          </a:xfrm>
          <a:prstGeom prst="rect">
            <a:avLst/>
          </a:prstGeom>
          <a:solidFill>
            <a:srgbClr val="80ab06"/>
          </a:solidFill>
          <a:ln w="190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ients screened for PD-L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 = 15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4478040" y="2241360"/>
            <a:ext cx="2958840" cy="576360"/>
          </a:xfrm>
          <a:prstGeom prst="rect">
            <a:avLst/>
          </a:prstGeom>
          <a:solidFill>
            <a:srgbClr val="80ab06"/>
          </a:solidFill>
          <a:ln w="190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mples evaluable for PD-L1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n = 14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4478040" y="3155760"/>
            <a:ext cx="2958840" cy="576360"/>
          </a:xfrm>
          <a:prstGeom prst="rect">
            <a:avLst/>
          </a:prstGeom>
          <a:solidFill>
            <a:srgbClr val="ff6600"/>
          </a:solidFill>
          <a:ln w="190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D-L1-positive tum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 = 4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478040" y="4044600"/>
            <a:ext cx="2958840" cy="819720"/>
          </a:xfrm>
          <a:prstGeom prst="rect">
            <a:avLst/>
          </a:prstGeom>
          <a:solidFill>
            <a:srgbClr val="80ab06"/>
          </a:solidFill>
          <a:ln w="190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ients treated a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 March 13, 201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 =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7602120" y="3149280"/>
            <a:ext cx="906480" cy="576360"/>
          </a:xfrm>
          <a:prstGeom prst="rect">
            <a:avLst/>
          </a:prstGeom>
          <a:solidFill>
            <a:srgbClr val="ff6600"/>
          </a:solidFill>
          <a:ln w="190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8.6% PD-L1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1"/>
          <p:cNvSpPr/>
          <p:nvPr/>
        </p:nvSpPr>
        <p:spPr>
          <a:xfrm>
            <a:off x="1168560" y="4303440"/>
            <a:ext cx="69512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o assessment, 3 (15%), includes patients who died or discontinued due to disease progres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4308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93cddd"/>
              </a:solidFill>
              <a:latin typeface="Arial"/>
              <a:ea typeface="ＭＳ Ｐゴシック"/>
            </a:endParaRPr>
          </a:p>
        </p:txBody>
      </p:sp>
      <p:graphicFrame>
        <p:nvGraphicFramePr>
          <p:cNvPr id="115" name="Group 35"/>
          <p:cNvGraphicFramePr/>
          <p:nvPr/>
        </p:nvGraphicFramePr>
        <p:xfrm>
          <a:off x="1181160" y="1798200"/>
          <a:ext cx="6705360" cy="2258280"/>
        </p:xfrm>
        <a:graphic>
          <a:graphicData uri="http://schemas.openxmlformats.org/drawingml/2006/table">
            <a:tbl>
              <a:tblPr/>
              <a:tblGrid>
                <a:gridCol w="3334680"/>
                <a:gridCol w="3370320"/>
              </a:tblGrid>
              <a:tr h="453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est respo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9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Complete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artia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 (35%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 (3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1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Stabl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rogressiv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 (4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7"/>
          </p:nvPr>
        </p:nvSpPr>
        <p:spPr>
          <a:xfrm>
            <a:off x="609480" y="619920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Ott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75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93cddd"/>
              </a:solidFill>
              <a:latin typeface="Arial"/>
              <a:ea typeface="ＭＳ Ｐゴシック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ange from Baseline in Tumor Si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8"/>
          </p:nvPr>
        </p:nvSpPr>
        <p:spPr>
          <a:xfrm>
            <a:off x="609480" y="619920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With permission from Ott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75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821520" y="1285920"/>
            <a:ext cx="302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hange from baseline </a:t>
            </a:r>
            <a:br>
              <a:rPr sz="1700"/>
            </a:br>
            <a:r>
              <a:rPr b="1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n tumor siz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4633920" y="1285920"/>
            <a:ext cx="39384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ongitudinal change from </a:t>
            </a:r>
            <a:br>
              <a:rPr sz="1700"/>
            </a:br>
            <a:r>
              <a:rPr b="1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baseline in tumor siz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973800" y="4750920"/>
            <a:ext cx="73216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ncludes patients with ≥1 evaluable postbaseline tumor assessment (n = 16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edian time to response: 8.6 wee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6 of 7 responses ongoing at time of data cutof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" descr="Ott_Graph1.png"/>
          <p:cNvPicPr/>
          <p:nvPr/>
        </p:nvPicPr>
        <p:blipFill>
          <a:blip r:embed="rId1"/>
          <a:stretch/>
        </p:blipFill>
        <p:spPr>
          <a:xfrm>
            <a:off x="609480" y="2000160"/>
            <a:ext cx="3223080" cy="2540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Ott_Graph2.png"/>
          <p:cNvPicPr/>
          <p:nvPr/>
        </p:nvPicPr>
        <p:blipFill>
          <a:blip r:embed="rId2"/>
          <a:stretch/>
        </p:blipFill>
        <p:spPr>
          <a:xfrm>
            <a:off x="4003920" y="2000160"/>
            <a:ext cx="4568040" cy="23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Ott_Graph3.png"/>
          <p:cNvPicPr/>
          <p:nvPr/>
        </p:nvPicPr>
        <p:blipFill>
          <a:blip r:embed="rId1"/>
          <a:stretch/>
        </p:blipFill>
        <p:spPr>
          <a:xfrm>
            <a:off x="1473120" y="1393200"/>
            <a:ext cx="6044760" cy="3814200"/>
          </a:xfrm>
          <a:prstGeom prst="rect">
            <a:avLst/>
          </a:prstGeom>
          <a:ln w="0">
            <a:noFill/>
          </a:ln>
        </p:spPr>
      </p:pic>
      <p:sp>
        <p:nvSpPr>
          <p:cNvPr id="127" name="Footer Placeholder 4"/>
          <p:cNvSpPr/>
          <p:nvPr/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93cddd"/>
              </a:solidFill>
              <a:latin typeface="Arial"/>
              <a:ea typeface="ＭＳ Ｐゴシック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eatment Exposure and Response Duration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9"/>
          </p:nvPr>
        </p:nvSpPr>
        <p:spPr>
          <a:xfrm>
            <a:off x="609480" y="619920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With permission from Ott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75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1447920" y="5262840"/>
            <a:ext cx="6203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ncludes patients with ≥1 postbaseline tumor assessment (n = 17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1"/>
          <p:cNvSpPr/>
          <p:nvPr/>
        </p:nvSpPr>
        <p:spPr>
          <a:xfrm>
            <a:off x="1434960" y="4264200"/>
            <a:ext cx="6324120" cy="1339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Grade 3 to 5 AEs: any 2 (10%), asthenia 1 (5%), blood bilirubin increase 1 (5%), colitis 1 (5%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utoimmune thyroiditis (Grade 2): 1 (5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1 treatment-related death (colit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4308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93cddd"/>
              </a:solidFill>
              <a:latin typeface="Arial"/>
              <a:ea typeface="ＭＳ Ｐゴシック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Adverse Events (A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Group 91"/>
          <p:cNvGraphicFramePr/>
          <p:nvPr/>
        </p:nvGraphicFramePr>
        <p:xfrm>
          <a:off x="1523880" y="1478160"/>
          <a:ext cx="6006600" cy="2534400"/>
        </p:xfrm>
        <a:graphic>
          <a:graphicData uri="http://schemas.openxmlformats.org/drawingml/2006/table">
            <a:tbl>
              <a:tblPr/>
              <a:tblGrid>
                <a:gridCol w="3139560"/>
                <a:gridCol w="2867400"/>
              </a:tblGrid>
              <a:tr h="491040">
                <a:tc>
                  <a:txBody>
                    <a:bodyPr tIns="45360" bIns="4536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Es in ≥2 pati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086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4 (7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6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rthral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 (1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086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sth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 (1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6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 (1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086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R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 (1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5" name="PlaceHolder 2"/>
          <p:cNvSpPr>
            <a:spLocks noGrp="1"/>
          </p:cNvSpPr>
          <p:nvPr>
            <p:ph type="ftr" idx="10"/>
          </p:nvPr>
        </p:nvSpPr>
        <p:spPr>
          <a:xfrm>
            <a:off x="609480" y="619920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Ott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75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9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9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3</TotalTime>
  <Application>LibreOffice/7.4.7.2$Linux_X86_64 LibreOffice_project/40$Build-2</Application>
  <AppVersion>15.0000</AppVersion>
  <Words>1472</Words>
  <Paragraphs>2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tamara dabney</dc:creator>
  <dc:description/>
  <dc:language>en-US</dc:language>
  <cp:lastModifiedBy>RTP20</cp:lastModifiedBy>
  <cp:lastPrinted>2015-09-18T11:54:56Z</cp:lastPrinted>
  <dcterms:modified xsi:type="dcterms:W3CDTF">2015-09-18T11:55:55Z</dcterms:modified>
  <cp:revision>713</cp:revision>
  <dc:subject/>
  <dc:title>A Phase III Trial Comparing mFOLFOX6 to mFOLFOX6 plus Bevacizumab in Stage II or III Carcinoma of the Colon: Results of NSABP Protocol C-0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7</vt:r8>
  </property>
  <property fmtid="{D5CDD505-2E9C-101B-9397-08002B2CF9AE}" pid="3" name="PresentationFormat">
    <vt:lpwstr>On-screen Show (4:3)</vt:lpwstr>
  </property>
  <property fmtid="{D5CDD505-2E9C-101B-9397-08002B2CF9AE}" pid="4" name="Slides">
    <vt:r8>17</vt:r8>
  </property>
</Properties>
</file>