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E21-B97F-4982-907B-2ECA1D8D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750-2E57-4A76-9AF0-5C90C80E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467-DA06-41A9-AD9A-13BFFD40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F53-6F5B-4D24-8CAD-AB3BB6F5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452-05BD-416A-8CA9-27F1CABD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7A7C-FCB2-4403-8689-4F293D83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C640-E184-4745-B7F1-0F59CACF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BDF6-6A46-4CE9-9669-34369818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B653-DF2D-4B62-9397-4D7C883F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101D-25B8-40D0-8AB5-4D353070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C39-0C9B-4497-B77C-C9EB12DC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987-F6A9-4449-BB5B-6E333204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2669-D81E-4A52-94F7-1B7117AB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20C3-C2BF-4B91-8D74-A3123347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4663-AFE6-4FEF-849D-0473B10D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A5B5-509A-40DC-B583-D2DB6D38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3EA4-D6E9-496F-AEBF-354C48B6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0FCD-5C4D-439B-8343-B76EACFF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D89-776D-48C6-942E-534111FE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E9E-630C-4AC6-AAD7-E6069246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D22-DC24-4D1C-871B-EEDD3F04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426-459B-4233-BFB3-65B1A9E6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2F2-DB20-4DA0-8DD1-EDBE46B8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682-C3FB-4E22-8D90-F9F20134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1C351-FCD1-45BE-BF45-CD89BBC72B9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18646-30F0-4DFA-A481-159BC287DE6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0BBD7-53AD-446D-9D70-38F9AE742E8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61A78-A917-487D-8D23-8F0ECA250B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ritinib in Advanced Anaplastic Lymphoma Kinase (ALK)-Rearranged (ALK+) Non-Small Cell Lung Cancer (NSCLC): Results of the ASCEND-1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Kim DW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4;Abstract 80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eritinib has clear and striking activity, especially in patients with crizotinib-naïve ALK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 higher ORR vs patients with crizotinib-treated diseas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 longer 12-month PFS vs patients with crizotinib-treated diseas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are toxicity challenges associated with ceritini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oxicity is greater than with crizotinib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se reduction rate: 59%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se discontinuation rate due to adverse events: 9.4%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ncologists need to know to dose reduce early, as a dose of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50 mg/d may be more than that needed by the pati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est H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im DW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K is a receptor tyrosine kinase activated in 3% to 7% of NSCLC by chromosomal rearrangement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0;363:169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K-positive NSCLC is sensitive to crizotinib, but patients invariably develop progressive disease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eritinib is a novel ALK inhibitor (ALKi) that is more potent than crizotinib in enzymatic and cell-based assays and crizotinib-resistant animal model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ssess the safety and efficacy of ceritinib in patients with advanced NSCLC with and without prior exposure to ALKi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914400" y="3259080"/>
          <a:ext cx="7416720" cy="8463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24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7f7f7f"/>
                      </a:solidFill>
                    </a:lnL>
                    <a:lnR w="9360">
                      <a:solidFill>
                        <a:srgbClr val="7f7f7f"/>
                      </a:solidFill>
                    </a:lnR>
                    <a:lnT w="9360">
                      <a:solidFill>
                        <a:srgbClr val="7f7f7f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9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 with locally advanced or metastatic ALK-positive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7f7f7f"/>
                      </a:solidFill>
                    </a:lnL>
                    <a:lnR w="9360">
                      <a:solidFill>
                        <a:srgbClr val="7f7f7f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93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920880" y="4381560"/>
          <a:ext cx="3485880" cy="752400"/>
        </p:xfrm>
        <a:graphic>
          <a:graphicData uri="http://schemas.openxmlformats.org/drawingml/2006/table">
            <a:tbl>
              <a:tblPr/>
              <a:tblGrid>
                <a:gridCol w="3485880"/>
              </a:tblGrid>
              <a:tr h="752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ALKi treated* (n = 16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eritinib at 750 mg/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7f7f7f"/>
                      </a:solidFill>
                    </a:lnL>
                    <a:lnR w="9360">
                      <a:solidFill>
                        <a:srgbClr val="7f7f7f"/>
                      </a:solidFill>
                    </a:lnR>
                    <a:lnT w="9360">
                      <a:solidFill>
                        <a:srgbClr val="7f7f7f"/>
                      </a:solidFill>
                    </a:lnT>
                    <a:lnB w="93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Line 2"/>
          <p:cNvSpPr/>
          <p:nvPr/>
        </p:nvSpPr>
        <p:spPr>
          <a:xfrm>
            <a:off x="4622760" y="2900520"/>
            <a:ext cx="0" cy="26640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"/>
          <p:cNvSpPr/>
          <p:nvPr/>
        </p:nvSpPr>
        <p:spPr>
          <a:xfrm>
            <a:off x="6603840" y="4118040"/>
            <a:ext cx="0" cy="27288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CEND-1: Phase I 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im DW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8003; 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 Engl </a:t>
            </a:r>
            <a:br>
              <a:rPr sz="2000"/>
            </a:b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370(13):1189-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84480" y="1535040"/>
          <a:ext cx="4825800" cy="1365480"/>
        </p:xfrm>
        <a:graphic>
          <a:graphicData uri="http://schemas.openxmlformats.org/drawingml/2006/table">
            <a:tbl>
              <a:tblPr/>
              <a:tblGrid>
                <a:gridCol w="4825800"/>
              </a:tblGrid>
              <a:tr h="393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ansion phase (n = 2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9360">
                      <a:solidFill>
                        <a:srgbClr val="7f7f7f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972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eritinib at MTD (750 mg/d)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stablished in dose-escalation 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 with ALK-positive tum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7f7f7f"/>
                      </a:solidFill>
                    </a:lnL>
                    <a:lnR w="9360">
                      <a:solidFill>
                        <a:srgbClr val="7f7f7f"/>
                      </a:solidFill>
                    </a:lnR>
                    <a:lnT w="9360">
                      <a:solidFill>
                        <a:srgbClr val="7f7f7f"/>
                      </a:solidFill>
                    </a:lnT>
                    <a:lnB w="93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44880" y="4394160"/>
          <a:ext cx="3486240" cy="752400"/>
        </p:xfrm>
        <a:graphic>
          <a:graphicData uri="http://schemas.openxmlformats.org/drawingml/2006/table">
            <a:tbl>
              <a:tblPr/>
              <a:tblGrid>
                <a:gridCol w="3486240"/>
              </a:tblGrid>
              <a:tr h="752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ALKi naïve (n = 8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eritinib at 750 mg/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7f7f7f"/>
                      </a:solidFill>
                    </a:lnL>
                    <a:lnR w="9360">
                      <a:solidFill>
                        <a:srgbClr val="7f7f7f"/>
                      </a:solidFill>
                    </a:lnR>
                    <a:lnT w="9360">
                      <a:solidFill>
                        <a:srgbClr val="7f7f7f"/>
                      </a:solidFill>
                    </a:lnT>
                    <a:lnB w="93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Line 2"/>
          <p:cNvSpPr/>
          <p:nvPr/>
        </p:nvSpPr>
        <p:spPr>
          <a:xfrm>
            <a:off x="2666880" y="4118040"/>
            <a:ext cx="0" cy="27288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941400" y="523548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ll received crizotinib and 5 received alec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1"/>
          <p:cNvSpPr/>
          <p:nvPr/>
        </p:nvSpPr>
        <p:spPr>
          <a:xfrm>
            <a:off x="763560" y="463248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postbaseline assessment performed or the postbaseline assessment had ORR that was not CR, PR, SD or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49160" y="1562040"/>
          <a:ext cx="7696440" cy="2933640"/>
        </p:xfrm>
        <a:graphic>
          <a:graphicData uri="http://schemas.openxmlformats.org/drawingml/2006/table">
            <a:tbl>
              <a:tblPr/>
              <a:tblGrid>
                <a:gridCol w="3149640"/>
                <a:gridCol w="1587600"/>
                <a:gridCol w="1384200"/>
                <a:gridCol w="1575000"/>
              </a:tblGrid>
              <a:tr h="695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i tre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i naïv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4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verall response rate (OR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9 (54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5 (66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4 (58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mplete response (C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1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1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1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tial response (P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7 (53.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4 (65.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1 (57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 (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 (19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 (22.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1 (20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 (P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 (9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 (6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 (10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5 (14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Rate Among Patients with ALK-Positive NSCLC Treated at MT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im DW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1"/>
          <p:cNvSpPr/>
          <p:nvPr/>
        </p:nvSpPr>
        <p:spPr>
          <a:xfrm>
            <a:off x="934920" y="44895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E = not estim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944720"/>
          <a:ext cx="7162560" cy="2414520"/>
        </p:xfrm>
        <a:graphic>
          <a:graphicData uri="http://schemas.openxmlformats.org/drawingml/2006/table">
            <a:tbl>
              <a:tblPr/>
              <a:tblGrid>
                <a:gridCol w="2095200"/>
                <a:gridCol w="1976400"/>
                <a:gridCol w="1546560"/>
                <a:gridCol w="1544400"/>
              </a:tblGrid>
              <a:tr h="11206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i tre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i naïv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3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6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-month 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of Response (DoR) in ALK-Positive NSCLC with Confirmed CR or 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im DW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52560" y="2031840"/>
          <a:ext cx="7302600" cy="2248200"/>
        </p:xfrm>
        <a:graphic>
          <a:graphicData uri="http://schemas.openxmlformats.org/drawingml/2006/table">
            <a:tbl>
              <a:tblPr/>
              <a:tblGrid>
                <a:gridCol w="2336760"/>
                <a:gridCol w="1655640"/>
                <a:gridCol w="1654200"/>
                <a:gridCol w="1656000"/>
              </a:tblGrid>
              <a:tr h="104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i tre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i naïv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4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2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9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Survival (PFS) in Patients with ALK-Positive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im DW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39960" y="1562040"/>
          <a:ext cx="7188120" cy="3365640"/>
        </p:xfrm>
        <a:graphic>
          <a:graphicData uri="http://schemas.openxmlformats.org/drawingml/2006/table">
            <a:tbl>
              <a:tblPr/>
              <a:tblGrid>
                <a:gridCol w="2400120"/>
                <a:gridCol w="1595520"/>
                <a:gridCol w="1596960"/>
                <a:gridCol w="1595520"/>
              </a:tblGrid>
              <a:tr h="86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i tre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i naïv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9 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 (69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 (5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9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-month 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3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t Analysis: Treatment Outcome Among Patients with Brain Metastases at Bas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im DW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762120" y="1422360"/>
          <a:ext cx="7607160" cy="3365640"/>
        </p:xfrm>
        <a:graphic>
          <a:graphicData uri="http://schemas.openxmlformats.org/drawingml/2006/table">
            <a:tbl>
              <a:tblPr/>
              <a:tblGrid>
                <a:gridCol w="3657600"/>
                <a:gridCol w="2082600"/>
                <a:gridCol w="1866960"/>
              </a:tblGrid>
              <a:tr h="4856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(n = 255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glucose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lipase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im DW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712800" y="478800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d 9 patients with non-NSCLC tum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762120" y="5195880"/>
            <a:ext cx="60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59% of patients had at least 1 do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eritinib elicited a high rate of durable responses and prolonged PFS in patients with ALKi-treated and ALKi-naï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 ALKi-naïve NSCLC, the median DoR and PFS have not been reached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all patients, the most common adverse events were nausea, vomiting and diarrhea. Most were Grade 1 or 2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the subset of patients with baseline brain metastases, ceritinib demonstrated a high rate of durable responses and prolonged PFS in both ALKi-treated and ALKi-naï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ral Phase II and III trials of ceritinib in crizotinib-pretreated and crizotinib-naïve NSCLC are ongo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im DW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5-09-02T15:47:08Z</cp:lastPrinted>
  <dcterms:modified xsi:type="dcterms:W3CDTF">2015-09-02T15:47:09Z</dcterms:modified>
  <cp:revision>560</cp:revision>
  <dc:subject/>
  <dc:title>A Phase III Trial Comparing mFOLFOX6 to mFOLFOX6 plus Bevacizumab in Stage II or III Carcinoma of the Colon: Results of NSABP Protocol C-08</dc:title>
</cp:coreProperties>
</file>