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8D9-41BC-4822-9240-FF225901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ADB-474B-4B4D-A33C-4B0BA391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73F-B0D7-4BC1-A224-EB9B344C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FF3-D3FD-4CDC-9999-DA69FA25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F69-EDE5-43D1-9D5C-DBFAFFED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3D9-D6F0-4B8E-9F03-FEB80B86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2B8-60CB-402D-B13C-D495D2A1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3C7-7FC3-4A31-9719-522F8419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C4F-E2AF-4D89-A3E2-6C31436B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D06-DC64-4B93-9379-B246F705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FF5-C4EC-42F4-B194-05FAAFEE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9FF-AEBA-49DE-A9DC-7338437F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FC4D-7B8E-4658-A057-88D14F7D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0F92-82D5-4C55-B0F4-74E7CBDF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E695-F22E-4DB2-B7F9-360E9483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CAAB-DCF7-4906-91D9-04F3856A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3306-4DAF-41C3-8A67-B54D142B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5862-4B52-4F74-A3AF-7A13199E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5EF6-3764-4297-B3B4-46EEE2A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C6D6-ADD1-447F-A663-EB0247DA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ED8F-EEA4-47CB-A33C-3E55D28F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79D6-807E-4F07-833F-E047A8EF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EDD1-ED37-4BE8-9460-96AAFD98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23EC-84C2-4582-AFEB-6B3A0DBB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60C3-BCD6-4363-98E8-44003E98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6D03-198C-434E-8347-E9DA361A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DBAA-1040-47D0-B848-86CF6B61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CD49-1365-42D8-96B4-05910170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D6BF-D861-478F-91EE-FA0F17CA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398F-8407-436B-8B44-3AA17D11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C338-A1CB-4125-941B-8BA0C93A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21BE-8957-4660-8E29-67D1EAA3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9409-D675-4191-AAA4-4034934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586C3-E670-45CB-BD08-9D796209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EE267-8234-4CD8-92D1-CA851C02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46104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9920" y="132084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0180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46104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9920" y="3476880"/>
            <a:ext cx="24368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B2EA-C8A4-4B87-BAA0-11187887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0440" y="347688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180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440" y="1320840"/>
            <a:ext cx="36936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1800" y="3476880"/>
            <a:ext cx="75690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000" cy="152532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040" cy="4239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000" cy="4570200"/>
          </a:xfrm>
          <a:prstGeom prst="rect">
            <a:avLst/>
          </a:prstGeom>
          <a:ln w="9525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Third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our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if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AD66F43-0F91-44D8-8283-8557B431050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000" cy="4570200"/>
          </a:xfrm>
          <a:prstGeom prst="rect">
            <a:avLst/>
          </a:prstGeom>
          <a:ln w="9525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Third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our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if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CC0B1A8-EE6C-44FD-80D0-BAC80CB03EE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000" cy="4570200"/>
          </a:xfrm>
          <a:prstGeom prst="rect">
            <a:avLst/>
          </a:prstGeom>
          <a:ln w="9525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1800" y="1320840"/>
            <a:ext cx="7569000" cy="41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64847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Third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our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64847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ヒラギノ角ゴ Pro W3"/>
              </a:rPr>
              <a:t>Fifth level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2777F00-516A-48BE-8E85-DF72D12E4CF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42800" y="714240"/>
            <a:ext cx="822600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5760" y="4707000"/>
            <a:ext cx="8226000" cy="152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anger CJ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lin Lung Cancer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2015;16(2):112-2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998280" y="495360"/>
            <a:ext cx="76834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ekl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Paclitaxel in Combination with Carboplatin as First-Line Therapy in Patients with Advanced Non-Small-Cell Lung Cancer: Analysis of Safety and Efficacy in Patients w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nal Impair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688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afe and effective treatment options are needed for patients with NSCLC and renal impairm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ab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aclitaxel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-P), a novel albumin-bound formulation of paclitaxel, was approved as first-line therapy for locally advanced or metastatic NSCLC, with carboplatin, for patients who are not candidates for curative surgery or radiation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 Phase III trial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f 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-P with carboplatin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-P/C) versus solvent-bound paclitaxel with carboplatin (sb-P/C) demonstrated a significant improvement in overall response rate (ORR) but not progression-free or overall survival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2012;30:2055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64847"/>
              </a:buClr>
              <a:buFont typeface="Arial"/>
              <a:buChar char="–"/>
            </a:pPr>
            <a:r>
              <a:rPr b="0" lang="en-US" sz="17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ssess the efficacy and safety outcomes with </a:t>
            </a:r>
            <a:r>
              <a:rPr b="0" i="1" lang="en-US" sz="17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ab</a:t>
            </a:r>
            <a:r>
              <a:rPr b="0" lang="en-US" sz="17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-P/C versus </a:t>
            </a:r>
            <a:br>
              <a:rPr sz="1750"/>
            </a:br>
            <a:r>
              <a:rPr b="0" lang="en-US" sz="175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b-P/C by renal function in patients with NSCLC enrolled on this trial. </a:t>
            </a:r>
            <a:endParaRPr b="0" lang="en-US" sz="175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ger CJ et al.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Clin Lung Cancer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2):112-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1"/>
          <p:cNvSpPr/>
          <p:nvPr/>
        </p:nvSpPr>
        <p:spPr>
          <a:xfrm>
            <a:off x="939960" y="3858480"/>
            <a:ext cx="7503840" cy="96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imary endpoint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R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econdary endpoints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rogression-free survival (PFS) and overall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urvival (OS)</a:t>
            </a:r>
            <a:r>
              <a:rPr b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II Tri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Group 38"/>
          <p:cNvGraphicFramePr/>
          <p:nvPr/>
        </p:nvGraphicFramePr>
        <p:xfrm>
          <a:off x="5864760" y="1836720"/>
          <a:ext cx="2362680" cy="695160"/>
        </p:xfrm>
        <a:graphic>
          <a:graphicData uri="http://schemas.openxmlformats.org/drawingml/2006/table">
            <a:tbl>
              <a:tblPr/>
              <a:tblGrid>
                <a:gridCol w="2363040"/>
              </a:tblGrid>
              <a:tr h="69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ab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-P/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n = 5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Group 42"/>
          <p:cNvGraphicFramePr/>
          <p:nvPr/>
        </p:nvGraphicFramePr>
        <p:xfrm>
          <a:off x="5963760" y="2855880"/>
          <a:ext cx="2263680" cy="695160"/>
        </p:xfrm>
        <a:graphic>
          <a:graphicData uri="http://schemas.openxmlformats.org/drawingml/2006/table">
            <a:tbl>
              <a:tblPr/>
              <a:tblGrid>
                <a:gridCol w="2264040"/>
              </a:tblGrid>
              <a:tr h="69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b-P/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n = 5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Line 2"/>
          <p:cNvSpPr/>
          <p:nvPr/>
        </p:nvSpPr>
        <p:spPr>
          <a:xfrm>
            <a:off x="4037040" y="2701800"/>
            <a:ext cx="1433520" cy="360"/>
          </a:xfrm>
          <a:prstGeom prst="line">
            <a:avLst/>
          </a:prstGeom>
          <a:ln w="28575">
            <a:solidFill>
              <a:srgbClr val="7678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pSp>
        <p:nvGrpSpPr>
          <p:cNvPr id="176" name="Group 13"/>
          <p:cNvGrpSpPr/>
          <p:nvPr/>
        </p:nvGrpSpPr>
        <p:grpSpPr>
          <a:xfrm>
            <a:off x="5470560" y="2212920"/>
            <a:ext cx="322200" cy="655560"/>
            <a:chOff x="5470560" y="2212920"/>
            <a:chExt cx="322200" cy="655560"/>
          </a:xfrm>
        </p:grpSpPr>
        <p:sp>
          <p:nvSpPr>
            <p:cNvPr id="177" name="Line 14"/>
            <p:cNvSpPr/>
            <p:nvPr/>
          </p:nvSpPr>
          <p:spPr>
            <a:xfrm flipV="1">
              <a:off x="5470560" y="2212920"/>
              <a:ext cx="360" cy="65556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5470560" y="2212920"/>
              <a:ext cx="322200" cy="36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79" name="Group 16"/>
          <p:cNvGrpSpPr/>
          <p:nvPr/>
        </p:nvGrpSpPr>
        <p:grpSpPr>
          <a:xfrm>
            <a:off x="5470560" y="2552400"/>
            <a:ext cx="322200" cy="678240"/>
            <a:chOff x="5470560" y="2552400"/>
            <a:chExt cx="322200" cy="678240"/>
          </a:xfrm>
        </p:grpSpPr>
        <p:sp>
          <p:nvSpPr>
            <p:cNvPr id="180" name="Line 17"/>
            <p:cNvSpPr/>
            <p:nvPr/>
          </p:nvSpPr>
          <p:spPr>
            <a:xfrm>
              <a:off x="5470560" y="2552400"/>
              <a:ext cx="360" cy="67788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>
              <a:off x="5470560" y="3230280"/>
              <a:ext cx="322200" cy="360"/>
            </a:xfrm>
            <a:prstGeom prst="line">
              <a:avLst/>
            </a:prstGeom>
            <a:ln w="28575">
              <a:solidFill>
                <a:srgbClr val="76787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82" name="Oval 4"/>
          <p:cNvSpPr/>
          <p:nvPr/>
        </p:nvSpPr>
        <p:spPr>
          <a:xfrm>
            <a:off x="4318200" y="2189160"/>
            <a:ext cx="1004400" cy="1002960"/>
          </a:xfrm>
          <a:prstGeom prst="ellipse">
            <a:avLst/>
          </a:prstGeom>
          <a:solidFill>
            <a:srgbClr val="ff6600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ger CJ et al.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Clin Lung Cancer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2):112-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Group 61"/>
          <p:cNvGraphicFramePr/>
          <p:nvPr/>
        </p:nvGraphicFramePr>
        <p:xfrm>
          <a:off x="896760" y="1737360"/>
          <a:ext cx="3192120" cy="1718280"/>
        </p:xfrm>
        <a:graphic>
          <a:graphicData uri="http://schemas.openxmlformats.org/drawingml/2006/table">
            <a:tbl>
              <a:tblPr/>
              <a:tblGrid>
                <a:gridCol w="3192120"/>
              </a:tblGrid>
              <a:tr h="50616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gibility (N = 1,03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172880">
                <a:tc>
                  <a:txBody>
                    <a:bodyPr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8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tage IIIB-IV untreated, unresectable 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8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o baseline creatinine</a:t>
                      </a:r>
                      <a:br>
                        <a:rPr sz="1900"/>
                      </a:b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&gt;1.5 mg/d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767878"/>
                      </a:solidFill>
                    </a:lnL>
                    <a:lnR w="28080">
                      <a:solidFill>
                        <a:srgbClr val="767878"/>
                      </a:solidFill>
                    </a:lnR>
                    <a:lnT w="28080">
                      <a:solidFill>
                        <a:srgbClr val="767878"/>
                      </a:solidFill>
                    </a:lnT>
                    <a:lnB w="280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1"/>
          <p:cNvSpPr/>
          <p:nvPr/>
        </p:nvSpPr>
        <p:spPr>
          <a:xfrm>
            <a:off x="820800" y="4371480"/>
            <a:ext cx="784044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rCl = creatinine clearance; RRR = response rat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oderate renal impairment; 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ild renal impairment; 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ＭＳ Ｐゴシック"/>
              </a:rPr>
              <a:t>‡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rmal renal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Group 35"/>
          <p:cNvGraphicFramePr/>
          <p:nvPr/>
        </p:nvGraphicFramePr>
        <p:xfrm>
          <a:off x="723960" y="1612800"/>
          <a:ext cx="7632360" cy="2613600"/>
        </p:xfrm>
        <a:graphic>
          <a:graphicData uri="http://schemas.openxmlformats.org/drawingml/2006/table">
            <a:tbl>
              <a:tblPr/>
              <a:tblGrid>
                <a:gridCol w="1117440"/>
                <a:gridCol w="993600"/>
                <a:gridCol w="1035720"/>
                <a:gridCol w="1127520"/>
                <a:gridCol w="1114560"/>
                <a:gridCol w="1114560"/>
                <a:gridCol w="1127520"/>
              </a:tblGrid>
              <a:tr h="5860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rCl ≤50 mL/min*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rCl &gt;50 to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≤80 mL/min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rCl &gt;80 mL/min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‡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8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endParaRPr b="1" lang="en-US" sz="17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b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b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b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9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b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0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b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8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b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9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11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61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RR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-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662 (0.3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324 (0.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287 (0.0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ger CJ et al.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Clin Lung Cancer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2):112-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Group 35"/>
          <p:cNvGraphicFramePr/>
          <p:nvPr/>
        </p:nvGraphicFramePr>
        <p:xfrm>
          <a:off x="622440" y="1511280"/>
          <a:ext cx="7899120" cy="3828960"/>
        </p:xfrm>
        <a:graphic>
          <a:graphicData uri="http://schemas.openxmlformats.org/drawingml/2006/table">
            <a:tbl>
              <a:tblPr/>
              <a:tblGrid>
                <a:gridCol w="1409400"/>
                <a:gridCol w="1054080"/>
                <a:gridCol w="1028520"/>
                <a:gridCol w="1015920"/>
                <a:gridCol w="116640"/>
                <a:gridCol w="1051560"/>
                <a:gridCol w="1066680"/>
                <a:gridCol w="1155600"/>
              </a:tblGrid>
              <a:tr h="4870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endParaRPr b="1" lang="en-US" sz="17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rCl ≤50 mL/mi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rCl &gt;50 to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≤80 mL/mi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rCl &gt;80 mL/mi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b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b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b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9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b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0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b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8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b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9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70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.7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.8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.7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.6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.4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HR (</a:t>
                      </a:r>
                      <a:r>
                        <a:rPr b="0" i="1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-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valu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607 (0.23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78 (0.07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.012 (0.99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Median 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.7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9.3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.8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2.4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1.9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1.5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HR (</a:t>
                      </a:r>
                      <a:r>
                        <a:rPr b="0" i="1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p-</a:t>
                      </a: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valu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824 (0.57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853 (0.19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.995 (0.95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rviv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ger CJ et al.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Clin Lung Cancer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2):112-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Group 35"/>
          <p:cNvGraphicFramePr/>
          <p:nvPr/>
        </p:nvGraphicFramePr>
        <p:xfrm>
          <a:off x="723960" y="1422360"/>
          <a:ext cx="7657560" cy="3142440"/>
        </p:xfrm>
        <a:graphic>
          <a:graphicData uri="http://schemas.openxmlformats.org/drawingml/2006/table">
            <a:tbl>
              <a:tblPr/>
              <a:tblGrid>
                <a:gridCol w="1384200"/>
                <a:gridCol w="1011960"/>
                <a:gridCol w="943200"/>
                <a:gridCol w="1060920"/>
                <a:gridCol w="1072440"/>
                <a:gridCol w="1057680"/>
                <a:gridCol w="1126440"/>
              </a:tblGrid>
              <a:tr h="61848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Es ≥5%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f pati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rCl ≤50 mL/mi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rCl &gt;50 to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≤80 mL/mi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rCl &gt;80 mL/mi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endParaRPr b="1" lang="en-US" sz="17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b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b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b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9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b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0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b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8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b-P/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84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70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Anem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3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Neutrope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7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6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70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Thromb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0"/>
                        </a:spcBef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S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ＭＳ Ｐゴシック"/>
                        </a:rPr>
                        <a:t>1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64847"/>
                      </a:solidFill>
                    </a:lnL>
                    <a:lnR w="12240">
                      <a:solidFill>
                        <a:srgbClr val="464847"/>
                      </a:solidFill>
                    </a:lnR>
                    <a:lnT w="12240">
                      <a:solidFill>
                        <a:srgbClr val="464847"/>
                      </a:solidFill>
                    </a:lnT>
                    <a:lnB w="1224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Grade 3 or 4 Adverse Events (A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707760" y="4635360"/>
            <a:ext cx="77731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rombo = thrombocytopenia; SN = sensory neuropa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cidence of Grade ≥3 neutropenia was significantly lower with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nab-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/C versus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b-P/C for patients with mild and moderate renal impairm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ger CJ et al.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Clin Lung Cancer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2):112-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proportion of patients who experienced Grade ≥3 sensory neuropathy was lower with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-P/C versus sb-P/C across all levels of renal function: moderate impairment (0% vs 19%; </a:t>
            </a:r>
            <a:br>
              <a:rPr sz="2000"/>
            </a:b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= 0.051), mild impairment (5% vs 13%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= 0.004) and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rmal renal function (2% vs 10%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&lt; 0.00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reatinine elevation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–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nsignificantly lower rates of Grade 1 elevation with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-P/C versus sb-P/C for patients with moderate renal impairment (0%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vs 7%;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= 0.161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–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imilarly low rates of Grade 1 elevation between arms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mong patients with mild renal impairment and those with normal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enal function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–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 Grade ≥3 elevations reported in either arm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E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ger CJ et al.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Clin Lung Cancer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2):112-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42800" y="1173240"/>
            <a:ext cx="8226000" cy="457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tIns="2286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is exploratory subset analysis demonstrated that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-P/C was effective and well tolerated in patients with advanced NSCLC with or without renal impairment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 all 3 efficacy parameters of ORR, PFS and OS, the RRR and the HR improved nonsignificantly with increasing degree of renal impairment, in favor of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-P/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-P/C resulted in lower rates of Grade ≥3 neutropenia and sensory neuropathy but higher rates of Grade ≥3 thrombocytopenia and anemia in comparison to sb-P/C among patients with renal impairm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The results of this analysis suggest that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-P/C is an option for this patient population for whom available treatments may be limit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046920"/>
            <a:ext cx="822924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Langer CJ et al.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Clin Lung Cancer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2015;16(2):112-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0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</TotalTime>
  <Application>LibreOffice/7.4.7.2$Linux_X86_64 LibreOffice_project/40$Build-2</Application>
  <AppVersion>15.0000</AppVersion>
  <Words>987</Words>
  <Paragraphs>1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tamara dabney</dc:creator>
  <dc:description/>
  <dc:language>en-US</dc:language>
  <cp:lastModifiedBy>Fernando G Rendina</cp:lastModifiedBy>
  <cp:lastPrinted>2015-08-28T18:13:23Z</cp:lastPrinted>
  <dcterms:modified xsi:type="dcterms:W3CDTF">2015-08-28T18:13:24Z</dcterms:modified>
  <cp:revision>756</cp:revision>
  <dc:subject/>
  <dc:title>A Phase III Trial Comparing mFOLFOX6 to mFOLFOX6 plus Bevacizumab in Stage II or III Carcinoma of the Colon: Results of NSABP Protocol C-0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