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5E3-543E-4A1A-9B96-7741F8BB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622-060F-4A78-94E5-F27B553C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698B-E34F-4050-A25F-8DB6B06C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837E-6799-4162-A64E-D90D5AC1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7D5B-2F3F-40AC-B3BF-5CCE1AEC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FEFE-1F21-4B33-B922-298B7FD2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85F2-5B65-4E55-8F37-4A948A39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CF9B-22A2-4D81-9361-3C26CAA0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8831-1ED0-491B-A99D-DF6D0283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F604-E79A-4E32-8ADA-871046D7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8DA9-527A-454B-A39C-06C074AF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8088-DC11-4797-92CB-2BD332B3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2696-C523-4FFA-A4EB-759F330B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4F05-7987-43B1-B9DB-C2107D54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6782-E2C8-4A29-A13A-0ED67DA1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2D5F-D711-4612-8447-08D1BD8E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7EE7-F258-413F-8F52-867AD6E9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58B2-93AD-4243-9766-9AF7B2FE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20B8-C767-4915-838F-369F7F40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4B2-6CD6-4208-B7AE-DAC41B55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6B19-FF67-46E7-909E-9E2D0F17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B6F-0D0D-4668-BD82-69C38C0D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B09-DC40-49B7-9027-978A7E7B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FCD-4E94-4026-A10F-85F300A1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7DE10-73DD-48FD-B9E3-1B03DF4BAA49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EB465-1A6C-445E-B38A-9E520D3CAFD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5C9A6-F9BC-4557-907A-6D55113050BF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E4D21-0BD3-48ED-916A-5B43C39ACF1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ase II Study of Cabozantinib for Patients with Advanced RET-Rearranged Lung Canc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Drilon AE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5;Abstract 800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abozantinib is active in patients with RET-rearranged lung adenocarcinoma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tage 1 is completed: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RR = 38%; median PFS = 7 months; median OS = 10 months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tage 2 is currently accruing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lthough treatment-related adverse events were frequent, they were mostly Grade 1 or 2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t a starting dose of 60 mg/d (PO), most patients required a dose reduction, and clinical benefit can be maintained despite dose reduction (data not shown)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Phase II trial met its primary endpoin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ufficient total responses (minimum of 5 at any stage surpassed) to meet the primary endpoint; a larger, confirmatory trial is warranted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Drilon A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ant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RET is involved in various types of diseases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While cabozantinib appears to be effective in select patients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with NSCLC, the standard dose of 60 mg/d had to be reduced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s most patients could not tolerate the standard dose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terestingly, there are other potent multikinase inhibitors that can be evaluated in this setting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study begs the question of whether other RET inhibitors should be evaluated in patients with RET-rearranged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Adjei A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Drilon A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RET rearrangements are found in 1% to 2% of non-small cell lung cancer (NSCLC) and are drivers of growth in vitro and in vivo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 2012;30:4352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Patients with NSCLC harboring RET rearrangements tend to be  younger in age and are never smoker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 2012;30:4352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Cabozantinib is an orally bioavailable, small-molecule, multi-tyrosine kinase inhibitor with demonstrated activity against RET in medullary thyroid cancer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Proc ASCO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2013;Abstract 6000)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In a Phase II trial, cabozantinib showed minimal activity in unselected metastatic NSCLC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Proc ASCO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2012;Abstract 7514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ssess the efficacy and safety of cabozantinib in patients with advanced RET-rearranged 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41240" y="1582560"/>
          <a:ext cx="3148200" cy="2695680"/>
        </p:xfrm>
        <a:graphic>
          <a:graphicData uri="http://schemas.openxmlformats.org/drawingml/2006/table">
            <a:tbl>
              <a:tblPr/>
              <a:tblGrid>
                <a:gridCol w="3148200"/>
              </a:tblGrid>
              <a:tr h="4035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1274c"/>
                    </a:solidFill>
                  </a:tcPr>
                </a:tc>
              </a:tr>
              <a:tr h="2292120">
                <a:tc>
                  <a:txBody>
                    <a:bodyPr lIns="90000" rIns="90000" anchor="t">
                      <a:noAutofit/>
                    </a:bodyPr>
                    <a:p>
                      <a:pPr marL="165240" indent="-165240"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tients with Stage IV NSCL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ET-rearranged dise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KPS ≥8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dequate hematologic,  renal and hepatic func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334040" y="1360440"/>
          <a:ext cx="3968640" cy="1243080"/>
        </p:xfrm>
        <a:graphic>
          <a:graphicData uri="http://schemas.openxmlformats.org/drawingml/2006/table">
            <a:tbl>
              <a:tblPr/>
              <a:tblGrid>
                <a:gridCol w="3968640"/>
              </a:tblGrid>
              <a:tr h="12463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464847"/>
                          </a:solidFill>
                          <a:uFillTx/>
                          <a:latin typeface="Arial"/>
                        </a:rPr>
                        <a:t>Stag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abozantinib: 60 mg daily (PO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-day cycle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9" name="Line 2"/>
          <p:cNvSpPr/>
          <p:nvPr/>
        </p:nvSpPr>
        <p:spPr>
          <a:xfrm>
            <a:off x="3886200" y="2257560"/>
            <a:ext cx="447840" cy="0"/>
          </a:xfrm>
          <a:prstGeom prst="line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741240" y="4578480"/>
            <a:ext cx="771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bjective response rate (O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Secondary endpoints include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rogression-free survival, overall survival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going Phase II Simon 2-Stage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334040" y="3619440"/>
          <a:ext cx="3968640" cy="658800"/>
        </p:xfrm>
        <a:graphic>
          <a:graphicData uri="http://schemas.openxmlformats.org/drawingml/2006/table">
            <a:tbl>
              <a:tblPr/>
              <a:tblGrid>
                <a:gridCol w="3968640"/>
              </a:tblGrid>
              <a:tr h="6588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464847"/>
                          </a:solidFill>
                          <a:uFillTx/>
                          <a:latin typeface="Arial"/>
                        </a:rPr>
                        <a:t>Stag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 additional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Line 2"/>
          <p:cNvSpPr/>
          <p:nvPr/>
        </p:nvSpPr>
        <p:spPr>
          <a:xfrm>
            <a:off x="6330960" y="3300480"/>
            <a:ext cx="0" cy="293760"/>
          </a:xfrm>
          <a:prstGeom prst="line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1"/>
          <p:cNvSpPr/>
          <p:nvPr/>
        </p:nvSpPr>
        <p:spPr>
          <a:xfrm>
            <a:off x="690480" y="1187280"/>
            <a:ext cx="15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NCT016395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4924440" y="2927520"/>
            <a:ext cx="2690640" cy="368280"/>
          </a:xfrm>
          <a:prstGeom prst="rect">
            <a:avLst/>
          </a:prstGeom>
          <a:noFill/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f ≥1 response obser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"/>
          <p:cNvSpPr/>
          <p:nvPr/>
        </p:nvSpPr>
        <p:spPr>
          <a:xfrm>
            <a:off x="6330960" y="2610000"/>
            <a:ext cx="0" cy="293400"/>
          </a:xfrm>
          <a:prstGeom prst="line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Drilon A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rilon_Graph1.png"/>
          <p:cNvPicPr/>
          <p:nvPr/>
        </p:nvPicPr>
        <p:blipFill>
          <a:blip r:embed="rId1"/>
          <a:stretch/>
        </p:blipFill>
        <p:spPr>
          <a:xfrm>
            <a:off x="495360" y="1392120"/>
            <a:ext cx="8089920" cy="37386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1: Response to Cabozantini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1"/>
          <p:cNvSpPr/>
          <p:nvPr/>
        </p:nvSpPr>
        <p:spPr>
          <a:xfrm>
            <a:off x="1054080" y="5361120"/>
            <a:ext cx="784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PR = partial response; SD = stable disease; ORR = overall response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Drilon A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6324480" y="4619520"/>
            <a:ext cx="203400" cy="203400"/>
          </a:xfrm>
          <a:prstGeom prst="rect">
            <a:avLst/>
          </a:prstGeom>
          <a:solidFill>
            <a:srgbClr val="7eb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6324480" y="4937040"/>
            <a:ext cx="203400" cy="203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1"/>
          <p:cNvSpPr/>
          <p:nvPr/>
        </p:nvSpPr>
        <p:spPr>
          <a:xfrm>
            <a:off x="6496200" y="4519440"/>
            <a:ext cx="175896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Confirmed P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104840" y="2646360"/>
          <a:ext cx="2654280" cy="2430360"/>
        </p:xfrm>
        <a:graphic>
          <a:graphicData uri="http://schemas.openxmlformats.org/drawingml/2006/table">
            <a:tbl>
              <a:tblPr/>
              <a:tblGrid>
                <a:gridCol w="1536840"/>
                <a:gridCol w="1117440"/>
              </a:tblGrid>
              <a:tr h="3160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st Respon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17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4% (7/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nfirmed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unconfirm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8% (6/16)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 (1/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16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6% (9/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336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R 38% (95% CI 15%-65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R</a:t>
                      </a:r>
                      <a:r>
                        <a:rPr b="0" lang="en-US" sz="1300" spc="-1" strike="noStrike" baseline="-25000">
                          <a:solidFill>
                            <a:srgbClr val="464847"/>
                          </a:solidFill>
                          <a:latin typeface="Arial"/>
                        </a:rPr>
                        <a:t>12wks</a:t>
                      </a: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36% (95% CI 13%-65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5 PRs of 14 evaluable at 12 wk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Drilon_Graph2.png"/>
          <p:cNvPicPr/>
          <p:nvPr/>
        </p:nvPicPr>
        <p:blipFill>
          <a:blip r:embed="rId1"/>
          <a:stretch/>
        </p:blipFill>
        <p:spPr>
          <a:xfrm>
            <a:off x="1263600" y="1595520"/>
            <a:ext cx="6800760" cy="3646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4183200" y="1386000"/>
            <a:ext cx="3690720" cy="23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1: Duration of Cabozantinib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Drilon A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1"/>
          <p:cNvSpPr/>
          <p:nvPr/>
        </p:nvSpPr>
        <p:spPr>
          <a:xfrm>
            <a:off x="4183200" y="1386000"/>
            <a:ext cx="35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Median duration of response</a:t>
            </a:r>
            <a:br>
              <a:rPr sz="1800"/>
            </a:b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8 months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(range 5.5-26 month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4292640" y="2155680"/>
            <a:ext cx="203040" cy="203400"/>
          </a:xfrm>
          <a:prstGeom prst="rect">
            <a:avLst/>
          </a:prstGeom>
          <a:solidFill>
            <a:srgbClr val="7eb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292640" y="2473200"/>
            <a:ext cx="203040" cy="203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1"/>
          <p:cNvSpPr/>
          <p:nvPr/>
        </p:nvSpPr>
        <p:spPr>
          <a:xfrm>
            <a:off x="4464000" y="2055960"/>
            <a:ext cx="175896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Confirmed P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1"/>
          <p:cNvSpPr/>
          <p:nvPr/>
        </p:nvSpPr>
        <p:spPr>
          <a:xfrm>
            <a:off x="4495680" y="2778120"/>
            <a:ext cx="349884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Disease progression (RECI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464847"/>
                </a:solidFill>
                <a:latin typeface="Arial"/>
              </a:rPr>
              <a:t>Treatment allowed post-radiologic progression if with continued clinical benef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1263600" y="5256360"/>
            <a:ext cx="68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4260960" y="2778120"/>
            <a:ext cx="349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Drilon_Graph3.png"/>
          <p:cNvPicPr/>
          <p:nvPr/>
        </p:nvPicPr>
        <p:blipFill>
          <a:blip r:embed="rId1"/>
          <a:stretch/>
        </p:blipFill>
        <p:spPr>
          <a:xfrm>
            <a:off x="1541520" y="1393920"/>
            <a:ext cx="6686640" cy="3978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1: Progression-Free Survival (PF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Drilon A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1"/>
          <p:cNvSpPr/>
          <p:nvPr/>
        </p:nvSpPr>
        <p:spPr>
          <a:xfrm>
            <a:off x="4164120" y="2163600"/>
            <a:ext cx="339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Median PFS 7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(95% CI 5-NA months, n = 1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1"/>
          <p:cNvSpPr/>
          <p:nvPr/>
        </p:nvSpPr>
        <p:spPr>
          <a:xfrm>
            <a:off x="1928880" y="5313240"/>
            <a:ext cx="629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1"/>
          <p:cNvSpPr/>
          <p:nvPr/>
        </p:nvSpPr>
        <p:spPr>
          <a:xfrm rot="16200000">
            <a:off x="-521640" y="3117240"/>
            <a:ext cx="378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Percent Surv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0" descr="Drilon_Graph4.png"/>
          <p:cNvPicPr/>
          <p:nvPr/>
        </p:nvPicPr>
        <p:blipFill>
          <a:blip r:embed="rId1"/>
          <a:stretch/>
        </p:blipFill>
        <p:spPr>
          <a:xfrm>
            <a:off x="1541520" y="1508040"/>
            <a:ext cx="6686640" cy="3818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1: Overall Survival (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Drilon A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1"/>
          <p:cNvSpPr/>
          <p:nvPr/>
        </p:nvSpPr>
        <p:spPr>
          <a:xfrm>
            <a:off x="4164120" y="2163600"/>
            <a:ext cx="40640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Median OS 10 months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(95% CI 8-NA months, n = 1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  –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Median follow-up of 24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1928880" y="5313240"/>
            <a:ext cx="629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1"/>
          <p:cNvSpPr/>
          <p:nvPr/>
        </p:nvSpPr>
        <p:spPr>
          <a:xfrm rot="16200000">
            <a:off x="-521640" y="3117240"/>
            <a:ext cx="378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Percent Surv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1: Molecular Features and Response to Cabozantini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Drilon A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" descr="Drilon_Graph5.png"/>
          <p:cNvPicPr/>
          <p:nvPr/>
        </p:nvPicPr>
        <p:blipFill>
          <a:blip r:embed="rId1"/>
          <a:stretch/>
        </p:blipFill>
        <p:spPr>
          <a:xfrm>
            <a:off x="952560" y="1380960"/>
            <a:ext cx="7531200" cy="41659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1"/>
          <p:cNvSpPr/>
          <p:nvPr/>
        </p:nvSpPr>
        <p:spPr>
          <a:xfrm>
            <a:off x="1739880" y="4287960"/>
            <a:ext cx="40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umors profiled via 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952560" y="1384200"/>
          <a:ext cx="7200720" cy="4023000"/>
        </p:xfrm>
        <a:graphic>
          <a:graphicData uri="http://schemas.openxmlformats.org/drawingml/2006/table">
            <a:tbl>
              <a:tblPr/>
              <a:tblGrid>
                <a:gridCol w="3378240"/>
                <a:gridCol w="1274760"/>
                <a:gridCol w="1272960"/>
                <a:gridCol w="1274760"/>
              </a:tblGrid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1 (n = 1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ncreased A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 (9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 (9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ncreased 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 (7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 (69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arrh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 (6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 (6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tig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 (6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 (5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al mucosi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 (4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lmar-plantar erythrodysesthe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 (4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 (3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ncreased lip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 (4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 (3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 (1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ecreased platelet cou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 (4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 (2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 (19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ypophosphatem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 (2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 (19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yperten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 (19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 (1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oteinu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 (19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 (19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Treatment-Related Adverse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Drilon A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8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tamara dabney</dc:creator>
  <dc:description/>
  <dc:language>en-US</dc:language>
  <cp:lastModifiedBy>RTP20</cp:lastModifiedBy>
  <cp:lastPrinted>2010-12-13T14:13:39Z</cp:lastPrinted>
  <dcterms:modified xsi:type="dcterms:W3CDTF">2015-09-09T17:55:09Z</dcterms:modified>
  <cp:revision>572</cp:revision>
  <dc:subject/>
  <dc:title>A Phase III Trial Comparing mFOLFOX6 to mFOLFOX6 plus Bevacizumab in Stage II or III Carcinoma of the Colon: Results of NSABP Protocol C-08</dc:title>
</cp:coreProperties>
</file>