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433-FE4C-41B6-B996-8501D935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8EA-710D-42A7-94D3-C9827DBF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81A-465B-4588-A38C-C3FDF516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898-CEC6-4004-BBE8-A0E1119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2E3-DAF3-40D3-8926-6D4AA88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523-0AE2-4667-A6BB-B56D0D2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3BC-FCA8-4135-8B65-C1BDE2D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88D-8E04-4702-A8D6-5B6FB75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4FB-1DE8-4655-8268-3D40FC8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097-B484-41CC-9021-DB0A1AD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A24-72F3-424D-851F-3FEBFD11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099-3534-402B-B9DE-AB4CBB2E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121B64-7899-47F6-881F-17EC20D4D8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im Results of a Phase II Study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the BRAF Inhibitor (BRAFi) Dabrafenib (D) in Combination with the MEK Inhibitor Trametinib (T) in Patients (pts) with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A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600E Mutated (mut) Metastatic Non-Small Cell Lung Cancer (NSCL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nchard D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abrafenib (D) is a potent and selective inhibitor of BRA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kinase activity. 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patients with BRAF V600E mutation-positive NSCLC,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ngle-agent D elicited an overall response rate (ORR) of 32%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ESM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Abstract LBA38_PR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combination of D and trametinib (DT) demonstrated significant improvements in efficacy compared to BRAF inhibitor monotherapy in BRAF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V600 mutation-positive metastatic melanoma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86(9992):444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port the results on the interim safety and efficacy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T for patients with BRAF V600E mutation-posit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Group 38"/>
          <p:cNvGraphicFramePr/>
          <p:nvPr/>
        </p:nvGraphicFramePr>
        <p:xfrm>
          <a:off x="5771160" y="1996560"/>
          <a:ext cx="2077200" cy="1371600"/>
        </p:xfrm>
        <a:graphic>
          <a:graphicData uri="http://schemas.openxmlformats.org/drawingml/2006/table">
            <a:tbl>
              <a:tblPr/>
              <a:tblGrid>
                <a:gridCol w="207720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150 mg B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2 mg q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going Phase II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1207800" y="3988080"/>
            <a:ext cx="7243560" cy="158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33 patients evaluable for safety, 24 evaluable for efficacy at tim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f interim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by investigator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-stage study; a minimum response rate (≥6 out of first 20 patients) was required to continue into the second s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546440" y="2765880"/>
            <a:ext cx="1130040" cy="360"/>
          </a:xfrm>
          <a:prstGeom prst="line">
            <a:avLst/>
          </a:prstGeom>
          <a:ln w="28575">
            <a:solidFill>
              <a:srgbClr val="5959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1209600" y="1297080"/>
            <a:ext cx="166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CT013366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5"/>
          </p:nvPr>
        </p:nvSpPr>
        <p:spPr>
          <a:xfrm>
            <a:off x="609480" y="59785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6 (abstract only); www.clinicaltrials.go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Group 33"/>
          <p:cNvGraphicFramePr/>
          <p:nvPr/>
        </p:nvGraphicFramePr>
        <p:xfrm>
          <a:off x="1278000" y="1756800"/>
          <a:ext cx="3700080" cy="1934280"/>
        </p:xfrm>
        <a:graphic>
          <a:graphicData uri="http://schemas.openxmlformats.org/drawingml/2006/table">
            <a:tbl>
              <a:tblPr/>
              <a:tblGrid>
                <a:gridCol w="3700440"/>
              </a:tblGrid>
              <a:tr h="457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stimated enrollment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24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32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BRAF V600E mutation-positive Stage IV N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iled ≥1 line of chemothera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1"/>
          <p:cNvSpPr/>
          <p:nvPr/>
        </p:nvSpPr>
        <p:spPr>
          <a:xfrm>
            <a:off x="1297080" y="4010760"/>
            <a:ext cx="6818040" cy="973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dependent review response rates were consistent with investigator-assessed respo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96" name="Group 35"/>
          <p:cNvGraphicFramePr/>
          <p:nvPr/>
        </p:nvGraphicFramePr>
        <p:xfrm>
          <a:off x="1322280" y="1841400"/>
          <a:ext cx="6233760" cy="1861560"/>
        </p:xfrm>
        <a:graphic>
          <a:graphicData uri="http://schemas.openxmlformats.org/drawingml/2006/table">
            <a:tbl>
              <a:tblPr/>
              <a:tblGrid>
                <a:gridCol w="4062240"/>
                <a:gridCol w="2171520"/>
              </a:tblGrid>
              <a:tr h="453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6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6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control rate at &gt;1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 (8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6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6 (abstract onl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most common (&gt;20%) AEs were pyrexia, diarrhea, nausea, vomiting, decreased appetite, asthenia, cough, peripheral edema and rash, mostly Grade 1 or 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Grade 3 AEs occurred in 39% of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ost frequent: hyponatremia (6%), neutropenia (6%) and dehydration (6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 patient (3%) experienced a Grade 4 AE (hyponatremia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 patient (3%) experienced a fatal serious AE of pleural effu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taneous squamous cell carcinoma and keratoacanthoma occurred in 2 patients (6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Es leading to a dose reduction: 9 patients (27%)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7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6 (abstract onl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76086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10000"/>
              </a:lnSpc>
              <a:spcBef>
                <a:spcPts val="108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combination of DT shows early antitumor activity with an ORR of 63% and a manageable safety profile in patients with BRAF V600E mutation-positive advanced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8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study met the criteria for progression to the second stag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609480" y="619920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lanchard 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6 (abstract onl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  <Words>306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10T19:16:05Z</cp:lastPrinted>
  <dcterms:modified xsi:type="dcterms:W3CDTF">2015-09-10T19:16:06Z</dcterms:modified>
  <cp:revision>656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