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870F09-3C14-46AD-9721-FD7924B9A1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ftr" idx="2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 type="sldNum" idx="2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5C7EEA-1F59-495E-A243-2FA567BB6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FC5B1F-FFD0-4470-AA50-43D1025A8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2589AA-A4FF-4479-B4A7-A36DC44A1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B59584-CE58-42D6-AB36-03F8CAC28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2A84-DA1C-45CA-8394-A4B18BF1B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3C57-8F16-4516-A480-C3D9800E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AFE72-8234-48F9-81E9-3CF85E35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08BAB-0B8F-48A0-B3B2-6217E77D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3A6CD-424D-4BA8-9221-B3CBB1EA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468FA-87A3-4414-81AA-B96453AB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24F4F-6184-450F-8094-1246BD74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A44D3-674E-42D2-8557-9225BEA2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B5004-3D6D-4A91-AE3C-AC195BCD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996B3-D865-4F4B-9619-A18C1C73C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9D004-5DD2-4044-AD7D-C0F8E73B4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0897-E498-415C-B35B-283CF498C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407F-7C2D-4ADF-94A4-150B2055B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D158-7854-4100-B292-3CEAE301B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7CB1-0FEF-470C-8A97-4DB2DE6C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E854-C4B9-4B0F-B098-82E65188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0593-8DDC-4B53-98C4-50A5580F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804F-C013-43CE-8D3D-F6672846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6915-11C8-4440-B86C-29FB23D0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02BF-0ACE-4451-B144-6496236A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5753-E6D7-4D6E-BF23-2754B496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F541-1F70-44E6-8FCE-EF52E992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E75D-0F4B-4929-AF8D-7893EE0E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E7E4-2DA7-44A3-8B43-E03A3673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0ADD-EDE2-4C32-A372-79CE327A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3EF4-5493-4B43-97AD-240AFFF15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B4575-C2C9-4FDA-AE61-E6E0EBCE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B93F1-85E2-4DBB-BECB-8FFBB2EA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8E7A8-FEB8-47A0-A182-AB51B042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589BF-8B7B-41BA-804B-810BEDF0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23002-3718-4BEB-899A-0A6C0D22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F941-283E-47DF-AE13-1ED31AA7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D1C75-16DC-46C0-8D0C-9EF66C09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F3656-D5CC-47B0-BEE4-520112FD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B8D5C-1449-4820-94DC-74FD5A07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E8726-6E66-4EDD-A651-5E8372E2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5C1C3-AD22-417F-8DBB-893CDAE5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91002-A188-4419-B200-DBAB476A3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A4886-33CB-422E-84B0-D049FDB5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620D-D2C3-47AB-AD74-D2233932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7993F-B5BB-4A3A-BB64-6DBC17B7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90EC-C5A3-4973-B4AB-C02DA873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9D550-6496-42FE-AFD7-DA6D08FB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A84DF-9063-4131-976F-3EEBC4FF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1DC8A-62C8-4709-9DA6-7D8F949B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B54F8-AD7C-4C11-9BCE-E00EC7CC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DC8E3-0517-4E54-ACFD-047CB2A6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DA97F-6FEA-4A6A-840B-F747DBB9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6D0FE-7B93-4BE6-94EE-4AFAD64B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A23AE-FD3E-4380-B5FE-A149BCF3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793B2-C217-4D59-915B-5D13C004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D37B1-0539-42F9-A7E0-030FF124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171F-1CE6-46CC-B647-2729F9EE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C6FC0-8322-44F9-8CAC-C6103173F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16D2-0565-41F6-99F6-15BF443A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3110C-7D8A-4ACC-992E-3FCFBED04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473FB-6030-4732-B02D-5B2DD8AD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72B92-1623-488F-9BD8-783C8191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9AE66-3449-4608-B522-F45889BC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51D92-17CA-4DA2-9355-978FD6A8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9F979-99E8-4B90-B16E-F348810B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05B8D-35E0-4D26-9CFC-95727F03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E95F-5742-4EAF-863B-5032CD92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215B7-47F6-4AB2-B96E-56533C23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B7616-0048-487F-8CD2-82ECE5F5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95F58-2056-4F52-908A-3E12C535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CE515-9889-46CA-9B07-4D789F19A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010AE-DF6D-4843-BA4E-2B153B3F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702A-B26B-44A2-93F5-5EE5F5C5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CE560-405B-4BF9-9DBB-1F8CCE1F8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A9CA5-5BED-463B-8C4B-8EDA9371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EB4C6-FDF5-4429-9762-EA9EAA58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1B99AB-AEAA-48BB-B7E2-F4A2A20F700D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ACA4AB-11B0-4EC9-B52F-D1AE49F769A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1E3EC3-9686-4E7D-A2F2-42DC14819B18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C9B4E9-BE58-4AFF-9215-482656F1D4B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0C83FD-CF2D-4678-9A27-D4980A9F15CA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7878F7-81FA-4605-B6D7-798F9B341AF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4EA73B-DE88-47FD-B8F5-5471EA230544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58EA40-4149-4C47-BDD9-6AB211E7ED6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CB3449-BFB5-43A2-8405-FDBF8E889A4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2FEBD6-4E3B-4218-9C52-100F8CF44A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021769-2D36-4D90-8B9C-718EE97628E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A37671-BF2C-4A9D-BE6D-FFDF3D7396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rizotinib versus Chemotherapy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n Advanced ALK-Positive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ung Canc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haw AT et al.</a:t>
            </a:r>
            <a:br>
              <a:rPr sz="2200"/>
            </a:b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N Engl J Med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3;368(25):2385-9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-Reported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914400" y="1461960"/>
          <a:ext cx="7346880" cy="1814760"/>
        </p:xfrm>
        <a:graphic>
          <a:graphicData uri="http://schemas.openxmlformats.org/drawingml/2006/table">
            <a:tbl>
              <a:tblPr/>
              <a:tblGrid>
                <a:gridCol w="4406760"/>
                <a:gridCol w="1470240"/>
                <a:gridCol w="1469880"/>
              </a:tblGrid>
              <a:tr h="586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ith respect to a composite endpoint of cough, dyspnea or chest p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izotinib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 = 16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m or Do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 = 15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09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Median time to deterio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5.6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.4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0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&lt;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17" name="Rectangle 31"/>
          <p:cNvSpPr/>
          <p:nvPr/>
        </p:nvSpPr>
        <p:spPr>
          <a:xfrm>
            <a:off x="914400" y="3355920"/>
            <a:ext cx="7674120" cy="20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Aft>
                <a:spcPts val="601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or patients who received crizotinib versus chemotherap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95200">
              <a:lnSpc>
                <a:spcPct val="90000"/>
              </a:lnSpc>
              <a:spcAft>
                <a:spcPts val="601"/>
              </a:spcAft>
              <a:buClr>
                <a:srgbClr val="464847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ignificantly greater overall reduction from baseline in the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ymptoms of alopecia, cough, dyspnea, fatigue, chest pain,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rm/shoulder pain and pain in other parts of the body (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&lt; 0.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95200">
              <a:lnSpc>
                <a:spcPct val="90000"/>
              </a:lnSpc>
              <a:spcAft>
                <a:spcPts val="601"/>
              </a:spcAft>
              <a:buClr>
                <a:srgbClr val="464847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ignificantly greater delay in the worsening of symp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95200">
              <a:lnSpc>
                <a:spcPct val="90000"/>
              </a:lnSpc>
              <a:spcAft>
                <a:spcPts val="601"/>
              </a:spcAft>
              <a:buClr>
                <a:srgbClr val="464847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Significantly greater overall improvement from baseline in global quality of life (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&lt; 0.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Arial"/>
              </a:rPr>
              <a:t>N Engl J Med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Arial"/>
              </a:rPr>
              <a:t> 2013;368(25):2385-9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442800" y="1172880"/>
            <a:ext cx="8244000" cy="446076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is study demonstrated that crizotinib is superior to standard chemotherapy for patients with advanced, previously treated ALK-positive NSCLC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It prolonged PFS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It increased response rates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It improved the quality of life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apparent lack of a survival benefit at interim analysis probably reflects the confounding effects of crossover, effects that have been observed in other randomized trials of molecular-targeted agents for patients with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Arial"/>
              </a:rPr>
              <a:t>N Engl J Med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Arial"/>
              </a:rPr>
              <a:t> 2013;368(25):2385-9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150560"/>
            <a:ext cx="8013600" cy="429732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 fontScale="97000"/>
          </a:bodyPr>
          <a:p>
            <a:pPr marL="332640" indent="-332640">
              <a:spcBef>
                <a:spcPts val="1199"/>
              </a:spcBef>
              <a:spcAft>
                <a:spcPts val="79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hromosomal rearrangements of the anaplastic lymphoma kinase (ALK) gene are found in about 3% of patients with newly diagnosed non-small cell lung cancer (NSCLC) in the United States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JCO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12;30:878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spcAft>
                <a:spcPts val="79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rizotinib, an orally available ALK inhibitor, demonstrated rapid and durable responses in patients with ALK-positive NSCLC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Lancet Oncol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012;13:1011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spcAft>
                <a:spcPts val="79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20720" indent="-277200">
              <a:spcAft>
                <a:spcPts val="799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Compare the efficacy and safety of crizotinib to standard chemotherapy with pemetrexed (Pem) or docetaxel (Doc) as second-line therapy for patients with advanced ALK-positive NSCLC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N Engl J Med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368(25):2385-9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31"/>
          <p:cNvSpPr/>
          <p:nvPr/>
        </p:nvSpPr>
        <p:spPr>
          <a:xfrm>
            <a:off x="901800" y="3327480"/>
            <a:ext cx="7645320" cy="23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Primary endpoint: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Progression-free survival (PFS) by independent radiologic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Secondary endpoints include: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Overall survival (OS), objective response rate (ORR), patient-reported outcomes and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LK rearrangement was detected by FISH analysis in a centr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atients with progressive disease on Pem or Doc were offered crizotinib on the PROFILE 1005 stu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ILE 1007: Phase III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4784760" y="2265480"/>
          <a:ext cx="3657600" cy="102384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em or Doc q3wk (n = 1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em, 500 mg/m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IV (n = 1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oc, 75 mg/m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IV (n = 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1" name="Line 2"/>
          <p:cNvSpPr/>
          <p:nvPr/>
        </p:nvSpPr>
        <p:spPr>
          <a:xfrm>
            <a:off x="3206880" y="2168640"/>
            <a:ext cx="125100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18"/>
          <p:cNvGrpSpPr/>
          <p:nvPr/>
        </p:nvGrpSpPr>
        <p:grpSpPr>
          <a:xfrm>
            <a:off x="4462560" y="1679400"/>
            <a:ext cx="322200" cy="655920"/>
            <a:chOff x="4462560" y="1679400"/>
            <a:chExt cx="322200" cy="655920"/>
          </a:xfrm>
        </p:grpSpPr>
        <p:sp>
          <p:nvSpPr>
            <p:cNvPr id="383" name="Line 14"/>
            <p:cNvSpPr/>
            <p:nvPr/>
          </p:nvSpPr>
          <p:spPr>
            <a:xfrm flipV="1">
              <a:off x="4462560" y="1679400"/>
              <a:ext cx="0" cy="65592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5"/>
            <p:cNvSpPr/>
            <p:nvPr/>
          </p:nvSpPr>
          <p:spPr>
            <a:xfrm>
              <a:off x="4462560" y="1679400"/>
              <a:ext cx="3222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19"/>
          <p:cNvGrpSpPr/>
          <p:nvPr/>
        </p:nvGrpSpPr>
        <p:grpSpPr>
          <a:xfrm>
            <a:off x="4461840" y="2018520"/>
            <a:ext cx="322200" cy="678600"/>
            <a:chOff x="4461840" y="2018520"/>
            <a:chExt cx="322200" cy="678600"/>
          </a:xfrm>
        </p:grpSpPr>
        <p:sp>
          <p:nvSpPr>
            <p:cNvPr id="386" name="Line 17"/>
            <p:cNvSpPr/>
            <p:nvPr/>
          </p:nvSpPr>
          <p:spPr>
            <a:xfrm>
              <a:off x="4462560" y="2018520"/>
              <a:ext cx="0" cy="67788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8"/>
            <p:cNvSpPr/>
            <p:nvPr/>
          </p:nvSpPr>
          <p:spPr>
            <a:xfrm>
              <a:off x="4461840" y="2697120"/>
              <a:ext cx="3222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N Engl J Med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368(25):2385-9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784760" y="1371600"/>
          <a:ext cx="3657600" cy="69516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697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rizotinib (n = 1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50 mg BID (P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0" name="Oval 4"/>
          <p:cNvSpPr/>
          <p:nvPr/>
        </p:nvSpPr>
        <p:spPr>
          <a:xfrm>
            <a:off x="3597120" y="1784520"/>
            <a:ext cx="731880" cy="73152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914400" y="1371600"/>
          <a:ext cx="2546280" cy="1917720"/>
        </p:xfrm>
        <a:graphic>
          <a:graphicData uri="http://schemas.openxmlformats.org/drawingml/2006/table">
            <a:tbl>
              <a:tblPr/>
              <a:tblGrid>
                <a:gridCol w="2546280"/>
              </a:tblGrid>
              <a:tr h="4460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(N = 34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1471680">
                <a:tc>
                  <a:txBody>
                    <a:bodyPr lIns="90000" rIns="90000" anchor="ctr">
                      <a:noAutofit/>
                    </a:bodyPr>
                    <a:p>
                      <a:pPr marL="177840" indent="-177840">
                        <a:spcBef>
                          <a:spcPts val="60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age IIIB or IV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LK-positive NSCL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60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 prior platinum-based regim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914400" y="1422360"/>
          <a:ext cx="7365960" cy="3024360"/>
        </p:xfrm>
        <a:graphic>
          <a:graphicData uri="http://schemas.openxmlformats.org/drawingml/2006/table">
            <a:tbl>
              <a:tblPr/>
              <a:tblGrid>
                <a:gridCol w="3143160"/>
                <a:gridCol w="2109960"/>
                <a:gridCol w="2112840"/>
              </a:tblGrid>
              <a:tr h="7509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zotin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 or D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692280">
                <a:tc>
                  <a:txBody>
                    <a:bodyPr lIns="90000" rIns="900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PFS by independent re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.7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0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7040">
                <a:tc>
                  <a:txBody>
                    <a:bodyPr lIns="90000" rIns="900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040">
                <a:tc>
                  <a:txBody>
                    <a:bodyPr lIns="90000" rIns="900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5% 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37-0.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040">
                <a:tc>
                  <a:txBody>
                    <a:bodyPr lIns="90000" rIns="900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FS (ITT Popul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N Engl J Med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3;368(25):2385-9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31"/>
          <p:cNvSpPr/>
          <p:nvPr/>
        </p:nvSpPr>
        <p:spPr>
          <a:xfrm>
            <a:off x="914400" y="4559400"/>
            <a:ext cx="73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he study met its primary endpoint by demonstrating the superiority of crizotinib over Pem or Do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group Analyses of PFS: As-Treated Population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914400" y="1422360"/>
          <a:ext cx="7365960" cy="3276720"/>
        </p:xfrm>
        <a:graphic>
          <a:graphicData uri="http://schemas.openxmlformats.org/drawingml/2006/table">
            <a:tbl>
              <a:tblPr/>
              <a:tblGrid>
                <a:gridCol w="2441520"/>
                <a:gridCol w="1641600"/>
                <a:gridCol w="1641240"/>
                <a:gridCol w="1641600"/>
              </a:tblGrid>
              <a:tr h="7192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zotin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852480">
                <a:tc>
                  <a:txBody>
                    <a:bodyPr lIns="90000" rIns="900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PFS by independent re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2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.7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6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90000" rIns="900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valu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&lt;0.0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852480">
                <a:tc>
                  <a:txBody>
                    <a:bodyPr lIns="90000" rIns="900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valu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&lt;0.0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9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Arial"/>
              </a:rPr>
              <a:t>N Engl J Med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Arial"/>
              </a:rPr>
              <a:t> 2013;368(25):2385-9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1"/>
          <p:cNvSpPr/>
          <p:nvPr/>
        </p:nvSpPr>
        <p:spPr>
          <a:xfrm>
            <a:off x="914400" y="4811760"/>
            <a:ext cx="73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Excluded 4 patients who did not receive study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im Analysis of 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Arial"/>
              </a:rPr>
              <a:t>N Engl J Med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Arial"/>
              </a:rPr>
              <a:t> 2013;368(25):2385-9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914400" y="1473120"/>
          <a:ext cx="7365960" cy="2933640"/>
        </p:xfrm>
        <a:graphic>
          <a:graphicData uri="http://schemas.openxmlformats.org/drawingml/2006/table">
            <a:tbl>
              <a:tblPr/>
              <a:tblGrid>
                <a:gridCol w="3143160"/>
                <a:gridCol w="2109960"/>
                <a:gridCol w="2112840"/>
              </a:tblGrid>
              <a:tr h="6606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zotin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 or D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691920">
                <a:tc>
                  <a:txBody>
                    <a:bodyPr lIns="90000" rIns="900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eliminary estimate of median O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0.3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2.8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7040">
                <a:tc>
                  <a:txBody>
                    <a:bodyPr lIns="90000" rIns="900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040">
                <a:tc>
                  <a:txBody>
                    <a:bodyPr lIns="90000" rIns="900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5% 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8-1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040">
                <a:tc>
                  <a:txBody>
                    <a:bodyPr lIns="90000" rIns="900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03" name="Rectangle 31"/>
          <p:cNvSpPr/>
          <p:nvPr/>
        </p:nvSpPr>
        <p:spPr>
          <a:xfrm>
            <a:off x="914400" y="4508640"/>
            <a:ext cx="748512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76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t time of data cutoff, 96 deaths had occurred in the ITT population, representing 40% of the total events required for final ana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291960">
              <a:lnSpc>
                <a:spcPct val="90000"/>
              </a:lnSpc>
              <a:spcBef>
                <a:spcPts val="476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112 (64%) patients on the Pem or Doc arm crossed over to receive crizotinib outside the stu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se 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914400" y="1374840"/>
          <a:ext cx="7378560" cy="2631960"/>
        </p:xfrm>
        <a:graphic>
          <a:graphicData uri="http://schemas.openxmlformats.org/drawingml/2006/table">
            <a:tbl>
              <a:tblPr/>
              <a:tblGrid>
                <a:gridCol w="2631960"/>
                <a:gridCol w="1581120"/>
                <a:gridCol w="1582920"/>
                <a:gridCol w="1582560"/>
              </a:tblGrid>
              <a:tr h="640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T population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zotin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 or D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98520">
                <a:tc>
                  <a:txBody>
                    <a:bodyPr lIns="90000" rIns="900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O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6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&lt;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Complete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8160">
                <a:tc>
                  <a:txBody>
                    <a:bodyPr lIns="90000" rIns="900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artial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6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table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ot re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7800">
                <a:tc>
                  <a:txBody>
                    <a:bodyPr lIns="90000" rIns="900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ogressive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ot re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6" name="Rectangle 31"/>
          <p:cNvSpPr/>
          <p:nvPr/>
        </p:nvSpPr>
        <p:spPr>
          <a:xfrm>
            <a:off x="914400" y="4110120"/>
            <a:ext cx="7597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Median duration of response and time to respon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rizotinib: 32.1 weeks and 6.3 weeks, resp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em or Doc: 22.4 weeks and 12.6 weeks, resp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In the as-treated population, ORR was 66% (crizotinib)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vs 29% (Pem) vs 7% (Do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Arial"/>
              </a:rPr>
              <a:t>N Engl J Med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Arial"/>
              </a:rPr>
              <a:t>2013;368(25):2385-9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 Status at Data Cuto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Arial"/>
              </a:rPr>
              <a:t>N Engl J Med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Arial"/>
              </a:rPr>
              <a:t> 2013;368(25):2385-9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914400" y="1432080"/>
          <a:ext cx="7378560" cy="3292200"/>
        </p:xfrm>
        <a:graphic>
          <a:graphicData uri="http://schemas.openxmlformats.org/drawingml/2006/table">
            <a:tbl>
              <a:tblPr/>
              <a:tblGrid>
                <a:gridCol w="3284640"/>
                <a:gridCol w="2138400"/>
                <a:gridCol w="1955520"/>
              </a:tblGrid>
              <a:tr h="640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izotinib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 = 1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m or Do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 = 1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Still receiving study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85 (4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28 (1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Discontinued treatment with crossover to crizotin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12 (6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Discontinued treatment without crossover to crizotin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4 (2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Died during therapy 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before follow-up 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3 (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Total number of dea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49 (2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47 (2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dverse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  <a:ea typeface="Arial"/>
              </a:rPr>
              <a:t>N Engl J Med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  <a:ea typeface="Arial"/>
              </a:rPr>
              <a:t> 2013;368(25):2385-9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733320" y="1305000"/>
          <a:ext cx="7677360" cy="3816360"/>
        </p:xfrm>
        <a:graphic>
          <a:graphicData uri="http://schemas.openxmlformats.org/drawingml/2006/table">
            <a:tbl>
              <a:tblPr/>
              <a:tblGrid>
                <a:gridCol w="2441520"/>
                <a:gridCol w="1162080"/>
                <a:gridCol w="1376640"/>
                <a:gridCol w="1245960"/>
                <a:gridCol w="1451160"/>
              </a:tblGrid>
              <a:tr h="273240">
                <a:tc rowSpan="2">
                  <a:txBody>
                    <a:bodyPr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izotinib (n = 172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m or Doc (n = 171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ll gra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ade 3 or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ll gra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ade 3 or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10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Visual diso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Diarrh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10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Naus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Consti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4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2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529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Elevated aminotransferase lev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Fatig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10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Dizzi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2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Dyspn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10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Alope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14" name="Rectangle 31"/>
          <p:cNvSpPr/>
          <p:nvPr/>
        </p:nvSpPr>
        <p:spPr>
          <a:xfrm>
            <a:off x="914400" y="5103720"/>
            <a:ext cx="718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Grade 3 or 4 neutropenia/febrile neutropenia: 13%/1% (crizotinib) versus 19%/9% (Pem or Do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9T18:05:39Z</dcterms:created>
  <dc:creator>Research To Practice</dc:creator>
  <dc:description/>
  <cp:keywords/>
  <dc:language>en-US</dc:language>
  <cp:lastModifiedBy>Silvana Izquierdo</cp:lastModifiedBy>
  <cp:lastPrinted>2013-07-12T17:41:18Z</cp:lastPrinted>
  <dcterms:modified xsi:type="dcterms:W3CDTF">2013-07-22T18:56:04Z</dcterms:modified>
  <cp:revision>637</cp:revision>
  <dc:subject/>
  <dc:title>Research To Practice</dc:title>
</cp:coreProperties>
</file>