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7DDA-E7D4-4318-ACAB-308294366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536C-C144-42FF-A2C5-38EEA167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A792C-6859-4A79-AE89-9A62740E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FDDE8-7986-478E-ACF0-DC9B9EFC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03E9E-B13F-4D79-BD19-76FA6724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D497D-F9CC-4089-96F4-116B3F77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F404D-9725-4E9B-BD84-2D8F8764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60FBC-C290-4396-8C8F-116829EC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889A4-B9EC-4EE9-91B2-B6C55BC9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A2E96-1BCE-4DC9-ADA9-D010D5EF6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155C0-BA1C-4E59-BF99-87FE6165C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B3CD-9C49-4B86-BA0D-D6CEC7AF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9673-01AA-49E3-AF5D-02895BB40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0F15-D35B-4E78-8A64-200EA07D5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FBA8-EF9C-4CEE-8FD5-724872FB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3184-EDE5-4BEC-BA9A-B552B1A3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A6FC-ABF1-4BA2-AA0B-43BC8E74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56A1-F12F-4BE8-A7D4-4D555C6B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49D7-C8E9-4069-9E72-AA7991D2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39D8-50B1-4C96-BB6E-83CB133B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1400-79DE-4468-8F17-7CFE38B9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13C8-57AA-4F08-8C85-EF9AFDE9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4A60-C82C-4BDB-980A-5ED95038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D39F-FFB6-47F8-82B8-ED3BC24F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2712-C5E5-49AD-8008-566A811DB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903E-63BA-4F93-980B-E1098F0CE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69876-06F5-4CFA-A639-3B439FF62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AC755-144C-4320-B62F-A1DB3578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4939E-8252-4799-8135-37E3A0B0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A05C6-4479-4897-AF37-216BD48E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56238-D987-4121-82BC-3674F1EC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82AE-4191-46A6-82CC-392F1114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C1207-F7F8-4130-B40B-14CF050F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04707-D5E7-4B9B-A6B6-2C637AC1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FACF1-34B4-4C94-8A02-894B7A10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23B14-4551-47F1-A301-B16CCA2C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33C95-A1B2-4DA5-90A7-CC1BC935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516EE-CC5B-4C07-B24E-87AE7FC8E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03D7D-BB9E-4647-8F1E-0B54DB174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032F-5EC4-4426-A979-D613B70E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C5A55-E1B1-4240-A735-6747035B5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61C9-DE5B-4FD6-9A8D-0DF2065C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AEBBF-AF15-4F8C-86DD-81A0E48B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35ADD-879A-47A2-AB6D-0A9545BF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9786F-5B45-47B6-AEFA-582FEB96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919AF-CF73-4DF0-81CE-FA8A2CD5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F2310-5157-4BDA-91FC-5F8DFC54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19756-5EE2-4247-9055-40A63A16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C2085-30FE-4D16-B6AA-7B88FB91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C02DF-E604-4C1C-BA92-55316D29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73A58-7B24-4C82-AB78-4DA2537C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A510B-5D2E-4084-BBD7-165AF9BEE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6839-F061-4FAC-BD90-929D5AF8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D07E9-7E79-4979-833C-6863EC568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3CC3-FEA4-42D8-91AD-BC1988C3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60866-D303-419D-93EF-A09D67806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4E7EC-103C-42EB-AEF7-65CDB5BF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1411A-D1D4-4E96-B877-9A473054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D6767-0595-4E14-AD50-236E1A71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1F83B-6704-4F37-B5DA-24B51F48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1C452-D8F9-4380-9A5F-5BE39570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D05F4-6112-4A2B-8228-1FCF0593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E2C6-DF4A-4E31-9C7E-3665D142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4FE99-F8C6-47B0-901F-23F3B472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CD816-9ABE-46BF-A3C1-D974A9E1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9052B-1F05-41D2-8E4E-D9243C83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23995-0EC0-47AE-94A6-2A2CFC3A0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729CC-940D-4171-B325-3F5B0E4FA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08A8-1308-47DC-9B40-5A9EE631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AB61B-42EF-4036-B9DF-67E1564B2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BD2C9-368B-4750-9B63-676FC51A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094F7-9F34-4F90-AA4C-E27A3A2F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1FDA81-85A7-48B2-AFCD-4D20EC629F07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C710BB-D59C-4463-B19B-AEB3511B9B1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84C8A8-2499-4141-BD71-C2B0DA77574C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49A5AF-76CF-4A4C-A1AC-58CEDC76726A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B1962A-867B-48A0-8502-EE25E2FCAD58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7D43A9-A5D8-4308-8762-0BBFA8A886E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31B1B6-02F3-4797-9299-F1D49D339706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6AF30C-489A-42DB-A6E3-4EFD2FC93F2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D178E3-BC18-4CD3-B9E5-746524F5AE64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705785-E90D-4CAF-9F54-EAA805F486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D640DA-99C8-46E1-A14A-E04E17935E6E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91D323-C167-4024-B68B-6B6565DC31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pilimumab in Combination with Paclitaxel and Carboplatin as First-Line Treatment in Stage IIIB/IV Non-Small-Cell Lung Cancer: Results from a Randomized, Double-Blind, Multicenter Phase II St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Lynch TJ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333333"/>
                </a:solidFill>
                <a:latin typeface="Arial"/>
              </a:rPr>
              <a:t>J Clin Oncol 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2012;30(17):2046-5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4568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274320" tIns="2286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0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In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patients with previously untreated NSCLC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, ipilimumab with paclitaxel and carboplatin as a phased, but not as a concurrent, regimen significantly improved irPFS and mWHO-PF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0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re was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no apparent impact of ipilimumab on toxicities seen with carboplatin/paclitaxel alon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0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se results provide justification for additional investigation of ipilimumab in combination with chemotherapy for patients with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0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Results in patients with squamous NSCLC warrant further exploration in a larger clinical trial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ynch TJ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30(17):2046-5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182880" tIns="91440" bIns="182880" anchor="t">
            <a:normAutofit fontScale="99000"/>
          </a:bodyPr>
          <a:p>
            <a:pPr marL="342360" indent="-339120">
              <a:spcBef>
                <a:spcPts val="3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CTLA-4 — a negative regulator of T-cell activation — is a therapeutic target of interest in many cancer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2360" indent="-339120">
              <a:spcBef>
                <a:spcPts val="3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Ipilimumab is a fully human monoclonal antibody that specifically blocks CTLA-4 binding to its ligands, resulting in augmentation of T-cell activation and proliferation and causing tumor infiltration by T cells and tumor regression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2360" indent="-339120">
              <a:spcBef>
                <a:spcPts val="3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In recent Phase III trials, ipilimumab demonstrated statistically significant improvements in overall survival (OS) in patients with previously treated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NEJM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 2010;363:711) and untreated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NEJM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 2011;364:2517) melanoma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2360" indent="-339120">
              <a:spcBef>
                <a:spcPts val="3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35480" indent="-282960">
              <a:spcBef>
                <a:spcPts val="30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Determine the efficacy and safety of ipilimumab combined or in sequence with paclitaxel and carboplatin as first-line therapy for advanced NSCLC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ynch TJ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30(17):2046-5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825480" y="1703520"/>
          <a:ext cx="2565360" cy="1585800"/>
        </p:xfrm>
        <a:graphic>
          <a:graphicData uri="http://schemas.openxmlformats.org/drawingml/2006/table">
            <a:tbl>
              <a:tblPr/>
              <a:tblGrid>
                <a:gridCol w="2565360"/>
              </a:tblGrid>
              <a:tr h="43632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ligibility (N = 20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1149480">
                <a:tc>
                  <a:txBody>
                    <a:bodyPr lIns="90000" rIns="90000" anchor="ctr">
                      <a:noAutofit/>
                    </a:bodyPr>
                    <a:p>
                      <a:pPr marL="285840" indent="-285840">
                        <a:spcBef>
                          <a:spcPts val="499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Stage IIIB/IV or recurrent NSCL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Bef>
                          <a:spcPts val="499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Previously untre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2" name="Rectangle 31"/>
          <p:cNvSpPr/>
          <p:nvPr/>
        </p:nvSpPr>
        <p:spPr>
          <a:xfrm>
            <a:off x="825480" y="3846600"/>
            <a:ext cx="7705800" cy="17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Concurrent regimen: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4 doses of ipilimumab (10 mg/kg) + paclitaxel (Pac) + carboplatin (Cb) </a:t>
            </a:r>
            <a:r>
              <a:rPr b="0" lang="en-US" sz="1800" spc="-1" strike="noStrike">
                <a:solidFill>
                  <a:srgbClr val="464847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2 doses of placebo + Pac + 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Phased regimen: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2 doses of placebo + Pac + Cb </a:t>
            </a:r>
            <a:r>
              <a:rPr b="0" lang="en-US" sz="1800" spc="-1" strike="noStrike">
                <a:solidFill>
                  <a:srgbClr val="464847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4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doses of ipilimumab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(10 mg/kg)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+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ac + 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Control regimen: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≤6 doses of placebo + Pac + 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Primary endpoint: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Immune-related progression-free survival (irPF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II CA184-041 Study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5140440" y="1290600"/>
          <a:ext cx="3124080" cy="695520"/>
        </p:xfrm>
        <a:graphic>
          <a:graphicData uri="http://schemas.openxmlformats.org/drawingml/2006/table">
            <a:tbl>
              <a:tblPr/>
              <a:tblGrid>
                <a:gridCol w="3124080"/>
              </a:tblGrid>
              <a:tr h="6955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oncurrent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ipilimumab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7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5127480" y="2182680"/>
          <a:ext cx="3140280" cy="695520"/>
        </p:xfrm>
        <a:graphic>
          <a:graphicData uri="http://schemas.openxmlformats.org/drawingml/2006/table">
            <a:tbl>
              <a:tblPr/>
              <a:tblGrid>
                <a:gridCol w="3140280"/>
              </a:tblGrid>
              <a:tr h="695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hased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ipilimumab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6" name="Line 2"/>
          <p:cNvSpPr/>
          <p:nvPr/>
        </p:nvSpPr>
        <p:spPr>
          <a:xfrm>
            <a:off x="3390840" y="2536920"/>
            <a:ext cx="1444680" cy="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3"/>
          <p:cNvGrpSpPr/>
          <p:nvPr/>
        </p:nvGrpSpPr>
        <p:grpSpPr>
          <a:xfrm>
            <a:off x="4818240" y="1653840"/>
            <a:ext cx="322200" cy="655560"/>
            <a:chOff x="4818240" y="1653840"/>
            <a:chExt cx="322200" cy="655560"/>
          </a:xfrm>
        </p:grpSpPr>
        <p:sp>
          <p:nvSpPr>
            <p:cNvPr id="378" name="Line 14"/>
            <p:cNvSpPr/>
            <p:nvPr/>
          </p:nvSpPr>
          <p:spPr>
            <a:xfrm flipV="1">
              <a:off x="4818240" y="1653840"/>
              <a:ext cx="0" cy="65556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5"/>
            <p:cNvSpPr/>
            <p:nvPr/>
          </p:nvSpPr>
          <p:spPr>
            <a:xfrm>
              <a:off x="4818240" y="1654200"/>
              <a:ext cx="32220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16"/>
          <p:cNvGrpSpPr/>
          <p:nvPr/>
        </p:nvGrpSpPr>
        <p:grpSpPr>
          <a:xfrm>
            <a:off x="4818240" y="1854360"/>
            <a:ext cx="322200" cy="677880"/>
            <a:chOff x="4818240" y="1854360"/>
            <a:chExt cx="322200" cy="677880"/>
          </a:xfrm>
        </p:grpSpPr>
        <p:sp>
          <p:nvSpPr>
            <p:cNvPr id="381" name="Line 17"/>
            <p:cNvSpPr/>
            <p:nvPr/>
          </p:nvSpPr>
          <p:spPr>
            <a:xfrm>
              <a:off x="4818240" y="1854360"/>
              <a:ext cx="0" cy="67788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8"/>
            <p:cNvSpPr/>
            <p:nvPr/>
          </p:nvSpPr>
          <p:spPr>
            <a:xfrm>
              <a:off x="4818240" y="2531880"/>
              <a:ext cx="32220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Oval 4"/>
          <p:cNvSpPr/>
          <p:nvPr/>
        </p:nvSpPr>
        <p:spPr>
          <a:xfrm>
            <a:off x="3649680" y="2062080"/>
            <a:ext cx="917640" cy="916200"/>
          </a:xfrm>
          <a:prstGeom prst="ellipse">
            <a:avLst/>
          </a:prstGeom>
          <a:solidFill>
            <a:srgbClr val="db9f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ynch TJ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30(17):2046-5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Group 16"/>
          <p:cNvGrpSpPr/>
          <p:nvPr/>
        </p:nvGrpSpPr>
        <p:grpSpPr>
          <a:xfrm>
            <a:off x="4818240" y="2443320"/>
            <a:ext cx="322200" cy="959760"/>
            <a:chOff x="4818240" y="2443320"/>
            <a:chExt cx="322200" cy="959760"/>
          </a:xfrm>
        </p:grpSpPr>
        <p:sp>
          <p:nvSpPr>
            <p:cNvPr id="386" name="Line 17"/>
            <p:cNvSpPr/>
            <p:nvPr/>
          </p:nvSpPr>
          <p:spPr>
            <a:xfrm>
              <a:off x="4818240" y="2443320"/>
              <a:ext cx="0" cy="95976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8"/>
            <p:cNvSpPr/>
            <p:nvPr/>
          </p:nvSpPr>
          <p:spPr>
            <a:xfrm>
              <a:off x="4818240" y="3403080"/>
              <a:ext cx="32220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88" name=""/>
          <p:cNvGraphicFramePr/>
          <p:nvPr/>
        </p:nvGraphicFramePr>
        <p:xfrm>
          <a:off x="5127480" y="3084480"/>
          <a:ext cx="3140280" cy="695520"/>
        </p:xfrm>
        <a:graphic>
          <a:graphicData uri="http://schemas.openxmlformats.org/drawingml/2006/table">
            <a:tbl>
              <a:tblPr/>
              <a:tblGrid>
                <a:gridCol w="3140280"/>
              </a:tblGrid>
              <a:tr h="697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ontr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6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9" name="TextBox 1"/>
          <p:cNvSpPr/>
          <p:nvPr/>
        </p:nvSpPr>
        <p:spPr>
          <a:xfrm>
            <a:off x="3649680" y="308448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(1:1: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0" name=""/>
          <p:cNvGraphicFramePr/>
          <p:nvPr/>
        </p:nvGraphicFramePr>
        <p:xfrm>
          <a:off x="812880" y="1447920"/>
          <a:ext cx="7518240" cy="3467160"/>
        </p:xfrm>
        <a:graphic>
          <a:graphicData uri="http://schemas.openxmlformats.org/drawingml/2006/table">
            <a:tbl>
              <a:tblPr/>
              <a:tblGrid>
                <a:gridCol w="2489040"/>
                <a:gridCol w="1447920"/>
                <a:gridCol w="1460520"/>
                <a:gridCol w="990720"/>
                <a:gridCol w="1130040"/>
              </a:tblGrid>
              <a:tr h="69516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6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523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ir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6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7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7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mWHO-PF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2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1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69552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6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urrent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7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536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ir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6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5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8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mWHO-PF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2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1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ession-Free Survi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ynch TJ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30(17):2046-5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31"/>
          <p:cNvSpPr/>
          <p:nvPr/>
        </p:nvSpPr>
        <p:spPr>
          <a:xfrm>
            <a:off x="812880" y="4994280"/>
            <a:ext cx="765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er modified WHO (mWHO) criteria: Time from randomization to mWHO progression or 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4" name=""/>
          <p:cNvGraphicFramePr/>
          <p:nvPr/>
        </p:nvGraphicFramePr>
        <p:xfrm>
          <a:off x="825480" y="1434960"/>
          <a:ext cx="7556400" cy="3148200"/>
        </p:xfrm>
        <a:graphic>
          <a:graphicData uri="http://schemas.openxmlformats.org/drawingml/2006/table">
            <a:tbl>
              <a:tblPr/>
              <a:tblGrid>
                <a:gridCol w="3200400"/>
                <a:gridCol w="1952640"/>
                <a:gridCol w="2403360"/>
              </a:tblGrid>
              <a:tr h="69552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d versus contro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rPFS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WHO-PFS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96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quamous histolo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nsquamous histolo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982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urrent versus contro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500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quamous histolo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8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nsquamous histolo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et Analyses of irPFS and mWHO-P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31"/>
          <p:cNvSpPr/>
          <p:nvPr/>
        </p:nvSpPr>
        <p:spPr>
          <a:xfrm>
            <a:off x="825480" y="4711680"/>
            <a:ext cx="76834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Of all baseline characteristics, only histology predicted clinical 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HR &lt;1.0 favors improvement in irPFS or mWHO-P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ynch TJ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30(17):2046-5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"/>
          <p:cNvSpPr/>
          <p:nvPr/>
        </p:nvSpPr>
        <p:spPr>
          <a:xfrm>
            <a:off x="825480" y="2146320"/>
            <a:ext cx="7556400" cy="482760"/>
          </a:xfrm>
          <a:prstGeom prst="rect">
            <a:avLst/>
          </a:prstGeom>
          <a:noFill/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9" name=""/>
          <p:cNvGraphicFramePr/>
          <p:nvPr/>
        </p:nvGraphicFramePr>
        <p:xfrm>
          <a:off x="828720" y="1433520"/>
          <a:ext cx="7537320" cy="3952800"/>
        </p:xfrm>
        <a:graphic>
          <a:graphicData uri="http://schemas.openxmlformats.org/drawingml/2006/table">
            <a:tbl>
              <a:tblPr/>
              <a:tblGrid>
                <a:gridCol w="1868400"/>
                <a:gridCol w="1555920"/>
                <a:gridCol w="1584360"/>
                <a:gridCol w="1238040"/>
                <a:gridCol w="1290600"/>
              </a:tblGrid>
              <a:tr h="69516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6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25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.3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2.2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-year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-year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52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6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urrent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7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2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.3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.7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7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-year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-year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all Survi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ynch TJ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30(17):2046-5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900000" y="1492200"/>
          <a:ext cx="7239240" cy="3267000"/>
        </p:xfrm>
        <a:graphic>
          <a:graphicData uri="http://schemas.openxmlformats.org/drawingml/2006/table">
            <a:tbl>
              <a:tblPr/>
              <a:tblGrid>
                <a:gridCol w="3797280"/>
                <a:gridCol w="3441960"/>
              </a:tblGrid>
              <a:tr h="6224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d versus contro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522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quamous histolo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nsquamous histolo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52416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urrent versus contro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525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quamous histolo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3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nsquamous histolo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et Analyses of 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31"/>
          <p:cNvSpPr/>
          <p:nvPr/>
        </p:nvSpPr>
        <p:spPr>
          <a:xfrm>
            <a:off x="922320" y="4991040"/>
            <a:ext cx="779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HR &lt;1.0 favors improvement in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ynch TJ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30(17):2046-5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887400" y="2127240"/>
            <a:ext cx="7251840" cy="482760"/>
          </a:xfrm>
          <a:prstGeom prst="rect">
            <a:avLst/>
          </a:prstGeom>
          <a:noFill/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825480" y="1434960"/>
          <a:ext cx="7493040" cy="3164040"/>
        </p:xfrm>
        <a:graphic>
          <a:graphicData uri="http://schemas.openxmlformats.org/drawingml/2006/table">
            <a:tbl>
              <a:tblPr/>
              <a:tblGrid>
                <a:gridCol w="2068560"/>
                <a:gridCol w="1808280"/>
                <a:gridCol w="1807920"/>
                <a:gridCol w="1808280"/>
              </a:tblGrid>
              <a:tr h="69552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6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urrent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7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09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irBO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12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irP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WHO-BO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11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2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irDC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11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WHO-DC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mor Response and Disease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31"/>
          <p:cNvSpPr/>
          <p:nvPr/>
        </p:nvSpPr>
        <p:spPr>
          <a:xfrm>
            <a:off x="896760" y="4686480"/>
            <a:ext cx="779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irCR and mWHO-CR: 0% for all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BORR = best overall response rate; PR = partial response; DCR = disease control rate; CR = complete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ynch TJ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30(17):2046-5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825480" y="1473120"/>
          <a:ext cx="7493040" cy="3367080"/>
        </p:xfrm>
        <a:graphic>
          <a:graphicData uri="http://schemas.openxmlformats.org/drawingml/2006/table">
            <a:tbl>
              <a:tblPr/>
              <a:tblGrid>
                <a:gridCol w="2400480"/>
                <a:gridCol w="1663560"/>
                <a:gridCol w="1727280"/>
                <a:gridCol w="1701720"/>
              </a:tblGrid>
              <a:tr h="69768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grade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6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urr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6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79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n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82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lope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2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Thrombocytop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80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eutrop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2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Pruri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8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iarrh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R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412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ynch TJ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30(17):2046-5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dverse Events (A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31"/>
          <p:cNvSpPr/>
          <p:nvPr/>
        </p:nvSpPr>
        <p:spPr>
          <a:xfrm>
            <a:off x="955800" y="4962600"/>
            <a:ext cx="637524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7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Incidence of ≥15% in any a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Grade 3 and 4 AEs were infrequ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3:28:02Z</dcterms:created>
  <dc:creator>Research To Practice</dc:creator>
  <dc:description/>
  <cp:keywords/>
  <dc:language>en-US</dc:language>
  <cp:lastModifiedBy>Silvana Izquierdo</cp:lastModifiedBy>
  <cp:lastPrinted>2013-03-06T20:38:39Z</cp:lastPrinted>
  <dcterms:modified xsi:type="dcterms:W3CDTF">2013-07-22T19:08:44Z</dcterms:modified>
  <cp:revision>705</cp:revision>
  <dc:subject/>
  <dc:title>Research To Practice</dc:title>
</cp:coreProperties>
</file>