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53E-A1E1-4F86-A5DA-29925342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ECA-5DAA-4A6A-87B9-E3CD7721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2ADD1-FB84-4577-B45A-A4E32AA1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D125F-2DF8-4CC2-B924-129F8826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2CC8C-2C0C-4AEF-AAD9-57155E59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1C3F2-0A5E-42F6-9B88-9CC4B5C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0110A-E071-4E59-B4E2-CBF6B2D9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EDEB7-9F79-4FD0-87C4-7AF54C53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3B9A7-A4ED-45A1-8D68-F5503134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AC709-7C29-41BB-9D50-6AD32470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57B0A-F044-4289-8B4A-F7E31D0F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210-D365-4914-9AD0-72BC9DD8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827-1067-43D8-9FB9-0509CC76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AE79-591A-46B2-85A3-41BC5C84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7DD4-418E-492C-A399-46468F5C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A827-6BAB-471B-B950-E9FE0003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7060-CB14-44BE-89B3-4D8DEFD8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5DD5-D817-49AF-B3A4-77E7989F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8941-4CCE-498D-BF5D-52EFCF87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FB2E-04D4-4A40-99C5-D4CB583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AB5-8F21-44F4-8097-92FF6AD8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F259-122F-493A-A69B-0E1C0609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2422-0343-4E92-8A60-04799C51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91E2-C076-4736-8ED1-9F430C38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CB12-3299-46EB-A226-E4E22FDC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E6C3-271A-455A-9CE8-FA99A924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4708-426F-4040-B988-BC52DCB8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9A86-A7A2-4391-9439-8AC4E3A8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9777-371C-4E0B-B9EA-CDEFFD33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45E7-BEA2-434B-AEFC-3FA2E874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12F6-99FC-42AB-B29D-D4319330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1EB-5C29-4C57-AAFA-876F80B9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6B0F-84A6-4F06-B33C-2BB0A307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84BF-B466-42BB-8EFF-5CE03FAB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0920-9A77-4610-ADFD-ABDA11C5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CAEE-D7F4-43D0-8E67-037D40A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0A6C-DF57-4110-8261-72811252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CA8C-382D-4D7C-B9D7-62259AE5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C816-863E-471B-AF6E-E140752C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547-CF0D-4A26-8C1E-15A7DC7A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1A61E-4872-4BD7-A6B9-97551DF6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6F2-1930-4FBD-9162-154CA26E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A5617-AC89-46B6-9D34-5401586A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B737-113C-4186-901B-75A9EBEA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63DA3-6914-442D-BAA0-BC8CBC62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630B-8309-4323-810C-79409CEB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07170-3C4A-4FDC-8DC4-EC4B0E00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2E7B-C4BE-4E2F-B3CC-3B5F2018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7524-A167-4E63-8672-7FC8DA73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44561-32A2-4AD8-A6B9-413BA336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74EE-8445-423E-99E2-B9A4C84F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86EE-3F6B-4D96-95C5-1AAEBFA7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359-87D8-4BA9-9081-32BDC449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41E00-13D9-4E89-A03F-2E70E717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58B-1F7D-4932-A146-3F54128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43126-AB05-459F-B5E3-B11F7E76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67D8B-D17C-456F-A6F6-8A06AF9B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4FE12-3C96-4A5A-AE1B-F77B142B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0AE33-A19F-4B3B-A56A-DCF405C0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3997A-599B-4C64-B935-275F854D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F0CF-3A7A-4075-B46C-9470CB48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8730-4AF5-42E7-8DE2-0EB4E2B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60E-5CC4-44AA-BA96-3BFB433B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CCD6-F31E-47D9-AAA6-4204C3E5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A8CA-2E57-4F7F-8ED6-B8A37E20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F8DE5-DCBE-42E1-8C5C-7A0C93C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5C74-0696-4212-A502-4A16A307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D0D40-3E4D-4FC8-AAAB-C3248B01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B67-F5CD-425A-98D4-42CD95F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265BC-5E8E-45F3-859E-6202FA9F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9C33E-6D10-4156-BB81-697992CD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2553F-BB54-430E-AB6C-84D84F69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8ADA8-13F8-4518-81B0-7F52FF0F4ABC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72B67-1454-487A-9C39-6657421126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14800-6F92-483E-9C45-283269AF4EA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B022C-7272-4E15-92D3-9EA94F80D3C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3AA34-D574-44D8-B035-BA58581A6B3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02A8B-0E31-4577-824D-A41A2E18052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20728-A5EA-4214-819E-17FDCFCF462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BC937-5043-46A6-B5E0-5212CA0262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CF096-0F8A-4D73-87A8-BF74B958385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2A28C-EE08-4EEC-8519-2B169BE9D4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B7C5E-C096-4C8A-B795-FB75D297A09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3B31B-62A8-4741-9874-02178EE224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42800" y="496800"/>
            <a:ext cx="822636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iomarkers France: Preliminary Results of Routine EGFR, HER2, KRAS, BRAF, PI3KCA Mutations Detection and EML4-ALK Gene Fusion Assessment on the First 10,000 Non-Small Cell Lung Cancer (NSCLC) Pati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Barlesi F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977760" y="1536840"/>
          <a:ext cx="7302600" cy="2873160"/>
        </p:xfrm>
        <a:graphic>
          <a:graphicData uri="http://schemas.openxmlformats.org/drawingml/2006/table">
            <a:tbl>
              <a:tblPr/>
              <a:tblGrid>
                <a:gridCol w="1778040"/>
                <a:gridCol w="1381320"/>
                <a:gridCol w="1380960"/>
                <a:gridCol w="1381320"/>
                <a:gridCol w="1380960"/>
              </a:tblGrid>
              <a:tr h="6570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S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6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F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3K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2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4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3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First-Line Therapy by Biomarker and Preliminary Overall Survival Data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1"/>
          <p:cNvSpPr/>
          <p:nvPr/>
        </p:nvSpPr>
        <p:spPr>
          <a:xfrm>
            <a:off x="977760" y="4683240"/>
            <a:ext cx="73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reliminary median overall survival data for 70% of the patient population was 11.4 months (95% CI: 10.5-not reac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umor profiling in NSCLC is feasib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Biomarker France study is a national effort to provide data on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ajor patient characteristic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issue collection issu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ate of identified target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mpact of biomarkers on treatment decisions and outcome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umor profiling identified a known target in 46% of samples and contributed to the management of 57% of patient cas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includes the largest cohort of unselected Caucasian patients with NSCLC with an expectation of 19,000 patients for inclusion in the final data analysi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4716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is an impressive “mammoth-scale” national effort including almost 10,000 patient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dual goals of personalizing therapy and centrally collecting data about patients’ tumors, treatments and outcomes will be invaluable for research in years to com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local standard genotyping assays used in the study emulate the real worl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Newly emerging “drugable” genotypes such as ROS1 and RET rearrangements should be added to this effort in real tim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cause genotyping needs to go hand in hand with clinical trials, it is important to increase the availability of such trials for patients when the disease genotype is identifi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equist LV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lnSpc>
                <a:spcPts val="2299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ASCO clinical practice guidelines recommend that patients with Stage IV NSCLC be screened for the oncogenic drivers EGFR and ALK to determine whether they are candidates for targeted therapi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ased on the routine screening for alterations in these genes, personalized medicine is now a reality in advanced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so, patients may be enrolled in “bio-guided” clinical trials based on tumor profiling for other emerging biomarkers such as mutations in KRAS, BRAF or PI3 kinas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ssess 4 tumor biomarkers (HER2, KRAS, BRAF, PI3KCA), in addition to EGFR and ALK, from the first 10,000 samples from a database with epidemiological, clinical and therapeutic data for patients with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tarting in April 2012, data on the analyses of the biomarkers (HER2, KRAS, BRAF, PI3KCA) were prospectively collect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outine biomarker screening of patients/samples was performed on 28 platform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iomarker results were sent to the prescribing physicia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llected data were logged into the Biomarkers France database (IFCT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Database access was granted to the prescribing physician in order to complete patients’ data, including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9 demographic characteristics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3 therapeutic factors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1"/>
          <p:cNvSpPr/>
          <p:nvPr/>
        </p:nvSpPr>
        <p:spPr>
          <a:xfrm>
            <a:off x="1003320" y="4633920"/>
            <a:ext cx="750420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D =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objective: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rovision of data on patient/tumor characteristics, targeted therapies and impact of treatment choice on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nalysis — Flow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092240" y="3565440"/>
          <a:ext cx="1638360" cy="955800"/>
        </p:xfrm>
        <a:graphic>
          <a:graphicData uri="http://schemas.openxmlformats.org/drawingml/2006/table">
            <a:tbl>
              <a:tblPr/>
              <a:tblGrid>
                <a:gridCol w="1638360"/>
              </a:tblGrid>
              <a:tr h="95580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ampl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,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7" name="Line 2"/>
          <p:cNvSpPr/>
          <p:nvPr/>
        </p:nvSpPr>
        <p:spPr>
          <a:xfrm>
            <a:off x="4543560" y="2260440"/>
            <a:ext cx="0" cy="18288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2844720" y="2443320"/>
            <a:ext cx="3730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670040" y="2631960"/>
          <a:ext cx="2482920" cy="552600"/>
        </p:xfrm>
        <a:graphic>
          <a:graphicData uri="http://schemas.openxmlformats.org/drawingml/2006/table">
            <a:tbl>
              <a:tblPr/>
              <a:tblGrid>
                <a:gridCol w="2482920"/>
              </a:tblGrid>
              <a:tr h="55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alyzed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330880" y="2630520"/>
          <a:ext cx="2482920" cy="554040"/>
        </p:xfrm>
        <a:graphic>
          <a:graphicData uri="http://schemas.openxmlformats.org/drawingml/2006/table">
            <a:tbl>
              <a:tblPr/>
              <a:tblGrid>
                <a:gridCol w="2482920"/>
              </a:tblGrid>
              <a:tr h="55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xcluded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1" name="Line 2"/>
          <p:cNvSpPr/>
          <p:nvPr/>
        </p:nvSpPr>
        <p:spPr>
          <a:xfrm>
            <a:off x="2857680" y="244620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"/>
          <p:cNvSpPr/>
          <p:nvPr/>
        </p:nvSpPr>
        <p:spPr>
          <a:xfrm>
            <a:off x="6575400" y="2448000"/>
            <a:ext cx="0" cy="1825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"/>
          <p:cNvSpPr/>
          <p:nvPr/>
        </p:nvSpPr>
        <p:spPr>
          <a:xfrm>
            <a:off x="1778040" y="336240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"/>
          <p:cNvSpPr/>
          <p:nvPr/>
        </p:nvSpPr>
        <p:spPr>
          <a:xfrm>
            <a:off x="2844720" y="318780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4"/>
          <p:cNvSpPr/>
          <p:nvPr/>
        </p:nvSpPr>
        <p:spPr>
          <a:xfrm>
            <a:off x="1778040" y="3375000"/>
            <a:ext cx="220968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003320" y="1405080"/>
          <a:ext cx="7251840" cy="855360"/>
        </p:xfrm>
        <a:graphic>
          <a:graphicData uri="http://schemas.openxmlformats.org/drawingml/2006/table">
            <a:tbl>
              <a:tblPr/>
              <a:tblGrid>
                <a:gridCol w="7251840"/>
              </a:tblGrid>
              <a:tr h="855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alysis of collected data from patients with NSCLC (Jan 20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 = 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978280" y="3575160"/>
          <a:ext cx="1565280" cy="94608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94608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tien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9,4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9" name="Line 2"/>
          <p:cNvSpPr/>
          <p:nvPr/>
        </p:nvSpPr>
        <p:spPr>
          <a:xfrm>
            <a:off x="3975120" y="337500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905360" y="3552840"/>
          <a:ext cx="1469880" cy="968400"/>
        </p:xfrm>
        <a:graphic>
          <a:graphicData uri="http://schemas.openxmlformats.org/drawingml/2006/table">
            <a:tbl>
              <a:tblPr/>
              <a:tblGrid>
                <a:gridCol w="1469880"/>
              </a:tblGrid>
              <a:tr h="96840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ther cancer typ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1" name="Line 2"/>
          <p:cNvSpPr/>
          <p:nvPr/>
        </p:nvSpPr>
        <p:spPr>
          <a:xfrm>
            <a:off x="5705640" y="334980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"/>
          <p:cNvSpPr/>
          <p:nvPr/>
        </p:nvSpPr>
        <p:spPr>
          <a:xfrm>
            <a:off x="6581880" y="317484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4"/>
          <p:cNvSpPr/>
          <p:nvPr/>
        </p:nvSpPr>
        <p:spPr>
          <a:xfrm>
            <a:off x="5705640" y="3349800"/>
            <a:ext cx="18507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581880" y="3562200"/>
          <a:ext cx="1508040" cy="968400"/>
        </p:xfrm>
        <a:graphic>
          <a:graphicData uri="http://schemas.openxmlformats.org/drawingml/2006/table">
            <a:tbl>
              <a:tblPr/>
              <a:tblGrid>
                <a:gridCol w="1508040"/>
              </a:tblGrid>
              <a:tr h="968400"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 patient I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5" name="Line 2"/>
          <p:cNvSpPr/>
          <p:nvPr/>
        </p:nvSpPr>
        <p:spPr>
          <a:xfrm>
            <a:off x="7547040" y="3362400"/>
            <a:ext cx="0" cy="18396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927000" y="1492200"/>
          <a:ext cx="7378920" cy="3463920"/>
        </p:xfrm>
        <a:graphic>
          <a:graphicData uri="http://schemas.openxmlformats.org/drawingml/2006/table">
            <a:tbl>
              <a:tblPr/>
              <a:tblGrid>
                <a:gridCol w="4567320"/>
                <a:gridCol w="2811600"/>
              </a:tblGrid>
              <a:tr h="4762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,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.5 years (21.4-97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thnicity: Asian/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2%/9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urrent/former/never smo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8.1%/44.2%/1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COG PS: 0-1/≥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2.7%/2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evious history of cancer: Patient/fam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2%/1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sease stage: I-II/IIIB/IV/relap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.6%/71.8%/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Demographic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"/>
          <p:cNvSpPr/>
          <p:nvPr/>
        </p:nvSpPr>
        <p:spPr>
          <a:xfrm>
            <a:off x="871560" y="5076720"/>
            <a:ext cx="74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ccording to available data as completed by physician at the time of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927000" y="1474920"/>
          <a:ext cx="7378920" cy="3233520"/>
        </p:xfrm>
        <a:graphic>
          <a:graphicData uri="http://schemas.openxmlformats.org/drawingml/2006/table">
            <a:tbl>
              <a:tblPr/>
              <a:tblGrid>
                <a:gridCol w="4953240"/>
                <a:gridCol w="2425680"/>
              </a:tblGrid>
              <a:tr h="500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,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52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ample collection: Bronchoscopy/surg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ansthoracic biopsy/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.5%/24.1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%/2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umber of samples analyzed/patient*: 1/2/≥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5.5%/4.3%/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CLC histology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enocarcinoma/large 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6.1%/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ther sub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1"/>
          <p:cNvSpPr/>
          <p:nvPr/>
        </p:nvSpPr>
        <p:spPr>
          <a:xfrm>
            <a:off x="927000" y="4886280"/>
            <a:ext cx="775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of delay between sample collection and analysis: 8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edian duration between start of analysis and results: 11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927000" y="1461960"/>
          <a:ext cx="7353360" cy="3218040"/>
        </p:xfrm>
        <a:graphic>
          <a:graphicData uri="http://schemas.openxmlformats.org/drawingml/2006/table">
            <a:tbl>
              <a:tblPr/>
              <a:tblGrid>
                <a:gridCol w="5015160"/>
                <a:gridCol w="2338200"/>
              </a:tblGrid>
              <a:tr h="357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a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,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5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KRAS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-activating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7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resistance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K rearran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I3K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RAF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57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ER2 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Unknown/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3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rker Assessment from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1"/>
          <p:cNvSpPr/>
          <p:nvPr/>
        </p:nvSpPr>
        <p:spPr>
          <a:xfrm>
            <a:off x="927000" y="4788000"/>
            <a:ext cx="7404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Double mutations (n = 79): PI3K/KRAS (n = 33); PI3K/EGFR (n = 16); KRAS/ALK </a:t>
            </a:r>
            <a:br>
              <a:rPr sz="1500"/>
            </a:b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(n = 10); KRAS/BRAF (n = 6); KRAS/EGFR (n = 5); ALK/EGFR (n = 3); BRAF/EGFR (n = 2); BRAF/ALK (n = 1); PI3K/ALK (n = 1); PI3K/BRAF (n = 1); HER2/BRAF (n = 1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927000" y="1476360"/>
          <a:ext cx="7353360" cy="3591000"/>
        </p:xfrm>
        <a:graphic>
          <a:graphicData uri="http://schemas.openxmlformats.org/drawingml/2006/table">
            <a:tbl>
              <a:tblPr/>
              <a:tblGrid>
                <a:gridCol w="5181840"/>
                <a:gridCol w="2171520"/>
              </a:tblGrid>
              <a:tr h="3985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9,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olecular profiling did not guide Tx: Del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olecular profiling did not guide Tx: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olecular profiling guided choice of 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hemotherap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linical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tyrosine kinase inhibitor (TK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9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est supportive care (BS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of “Bio-Guided” First-Line Treatment for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1"/>
          <p:cNvSpPr/>
          <p:nvPr/>
        </p:nvSpPr>
        <p:spPr>
          <a:xfrm>
            <a:off x="977760" y="5189400"/>
            <a:ext cx="73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d pemetrexed (36.9%), vinorelbine (6.7%) and a taxane (1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927000" y="1444680"/>
          <a:ext cx="7353360" cy="2768400"/>
        </p:xfrm>
        <a:graphic>
          <a:graphicData uri="http://schemas.openxmlformats.org/drawingml/2006/table">
            <a:tbl>
              <a:tblPr/>
              <a:tblGrid>
                <a:gridCol w="5181840"/>
                <a:gridCol w="2171520"/>
              </a:tblGrid>
              <a:tr h="4492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,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tion did not guide Tx: Delay/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/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GFR mutation guided Tx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636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K translocation did not guide Tx: Delay/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.5%/2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K translocation guided Tx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of First-Line Therapy Based on Bioma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arlesi F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1"/>
          <p:cNvSpPr/>
          <p:nvPr/>
        </p:nvSpPr>
        <p:spPr>
          <a:xfrm>
            <a:off x="977760" y="4313160"/>
            <a:ext cx="73533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Bef>
                <a:spcPts val="601"/>
              </a:spcBef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d: EGFR TKI (55.9%), pemetrexed (13.8%), BSC (11.3%), taxane (5.1%), vinorelbine (2.6%), trial (4.6%), other (6.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601"/>
              </a:spcBef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d: EGFR TKI (0%), pemetrexed (69.8%), BSC (16.3%), taxane (4.7%), vinorelbine (2.3%), trial (4.6%), other (2.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8:50:18Z</dcterms:modified>
  <cp:revision>722</cp:revision>
  <dc:subject/>
  <dc:title>Research To Practice</dc:title>
</cp:coreProperties>
</file>