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0AC-B8FD-4AEE-B812-B748C29A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AC4-AC98-42FE-940C-C046B91E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E526D-0522-4324-8D1D-73FB3B2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46A5-DFDD-43FC-B734-4748164F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F1910-71BF-4A06-B624-B8C673CB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4F65-111E-4B25-BC22-7D95B72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8B36-7083-47F0-ADF4-3048836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B75D-5B2B-488F-8B20-A33B34D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C2AE-E64B-421F-A76C-846022CC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57562-38A0-42F9-962A-0BD916C8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6F28-7F4E-4386-B2CB-48316D9F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56A-8C18-41D4-AA81-26339774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9F4-059B-4E71-9025-0F78C81D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E525-4BC5-4431-9F00-F91C8A94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F689-8446-45DC-BF7B-D6A06ABE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743A-452D-47F7-A862-27363F2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B579-EFED-4AF9-8D90-4772C53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4931-5C2E-46E5-835A-DA6252A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CA8F-27D9-44F9-B1E7-428BB459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F87F-86EA-4311-8172-189220C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771-9150-4F87-A7EA-1C1978E1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6DB3-E88D-4082-A010-27F090D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ED78-4D31-4FC1-ABB9-06F5580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265-174E-4408-92DB-DA399306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49C5-D647-4D66-8E5D-1585C8D4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B9BF-57BF-4F20-8080-E43361B3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670C-9E17-425D-95DA-F05B703D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B8C5-E4FF-444A-9D60-B913521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AD94-F5CF-49DA-BBB4-36B73C1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9220-F305-4A5A-ACF3-FE5D8C6D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3E36-C3A6-46C6-81F0-161AF74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D30-CF6F-4CBC-8033-6CC82B4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F5A3-BF8C-41C5-A7BE-EAFF223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8705-0941-4FFF-AC40-B91550C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6433-3011-465D-A815-2883B8F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D46D-37EA-4EDF-AF06-3F08A273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6119-FEE2-429B-A707-61A7D96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BBD9-A1F6-4CC4-94CE-5E717A8A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6043-6630-4C04-8B56-BFFB893D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90A-AA37-4C89-A617-C8C11FA3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CA2B-BACD-41C9-968B-0B5F2AC4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D1A-D72F-40CD-9D1F-BFC28437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E03B-DFFE-4792-BB0B-25299FFC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AC88-7D7C-463F-94B9-0E6C8AEE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51F3-F86D-44B8-91C6-6276A506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5044-7E9B-44D2-A40D-B0B8A5E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38BA-B1EA-41F0-9B60-9936B7B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E135-2388-48BD-BA2B-67A6BB5C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654E-2C72-474D-92CE-B4ACFE9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1C8B-E09C-4971-ACEE-C5CE8F5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F5FF-C752-473B-A0A8-F6BB466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494C9-5FF9-4351-9323-066DC76F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291-0C5E-4D50-B5A6-55DAC34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985D-99E9-46B3-AC98-8FAD38D0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2B0-FB68-4DED-AD4F-1C681EF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067B-8730-48A8-BB59-CA0CFE7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B4D0-7B8B-4B21-B334-0F6EBC1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F9F6-7BF2-47DF-9B9F-75ACD918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7DA8-3637-4B5A-88BD-D3830D1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BA5F-898F-4838-BAF5-7551AD95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505A9-D18B-48F9-971D-F2293BEA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2979-ABC7-4A75-81D7-A52FD58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316-A47C-41B8-A79B-E45C649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6A57-46BF-4E12-85E9-59068088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A889-18CB-4634-B938-28B050C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4AC3-4D3A-46A4-936E-783CAB5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5B63-662F-45D1-9CC1-B4913813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3B46-9371-400B-8DE8-EEBB63D3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55D-E0EF-42CF-BC33-AB739CB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9B4C-941D-4D54-BBE1-9B99EC0E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79971-0D76-4720-9622-D8C8CFA2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5899-F5D2-43C4-8ECF-19D613C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751C-F8C5-4D3E-A75B-C7BEDE1F02E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94DD5-41DA-4792-ABE2-43BD983348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95E80-347B-4C28-9E66-CAD69CC5EEA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53235-7584-4C90-8487-7F2838EEAC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3602E-7567-4993-AE72-E5712D24A78D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63573-C5A5-45FD-9826-2FE07BFE790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4BDFC-B547-4CA2-ABD2-0AE9A215DA8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97C82-447F-4557-8B08-6B3E8316F5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18F0F-BFC0-4096-8693-2E0B1AC25B4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8419F-2E81-46A7-9CEA-81A244587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E7586-130D-4CBF-B9B8-523BE4FCFAF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3E668-0D2B-4BAE-9CBE-79725BD8F8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ndomized Phase II Study of Dacomitinib (PF-00299804), an Irreversible Pan-Human Epidermal Growth Factor Receptor Inhibitor,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rsus Erlotinib in Patients with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vanced Non-Small-Cell Lung Canc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Ramalingam SS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30(27):3337-4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18288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Agents such as erlotinib and gefitinib that target a single member of the human epidermal growth factor receptor (HER) family inhibit signaling through competitive, reversible binding at the EGFR tyrosine kinase domai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contrast, dacomitinib is a pan-HER inhibitor that binds irreversibly to the ATP domain of HER1, HER2 and HER4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Phase I/II trials, dacomitinib showed antitumor activity in patients with progressive NSCLC after treatment with an EGFR inhibitor and ≥1 chemotherapy regimen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J Thorac Oncol 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2010;5:S371)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dacomitinib to erlotinib as second- or third-line therapy for advanced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51040" y="1698480"/>
          <a:ext cx="3517920" cy="2367000"/>
        </p:xfrm>
        <a:graphic>
          <a:graphicData uri="http://schemas.openxmlformats.org/drawingml/2006/table">
            <a:tbl>
              <a:tblPr/>
              <a:tblGrid>
                <a:gridCol w="3517920"/>
              </a:tblGrid>
              <a:tr h="422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8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ically confirmed advanced 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on after 1-2 prior chemotherapy regime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vailable tumor tiss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9720"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EGFR inhibit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749160" y="4221000"/>
            <a:ext cx="78091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rogression-free survival (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ratification by smoking status, race and histologic subtype prior to rand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176880" y="1690560"/>
          <a:ext cx="2162160" cy="1025640"/>
        </p:xfrm>
        <a:graphic>
          <a:graphicData uri="http://schemas.openxmlformats.org/drawingml/2006/table">
            <a:tbl>
              <a:tblPr/>
              <a:tblGrid>
                <a:gridCol w="2162160"/>
              </a:tblGrid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0 mg/d 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2"/>
          <p:cNvSpPr/>
          <p:nvPr/>
        </p:nvSpPr>
        <p:spPr>
          <a:xfrm>
            <a:off x="4368960" y="2932200"/>
            <a:ext cx="1503360" cy="468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5854680" y="2053800"/>
            <a:ext cx="322200" cy="655560"/>
            <a:chOff x="5854680" y="2053800"/>
            <a:chExt cx="322200" cy="655560"/>
          </a:xfrm>
        </p:grpSpPr>
        <p:sp>
          <p:nvSpPr>
            <p:cNvPr id="377" name="Line 14"/>
            <p:cNvSpPr/>
            <p:nvPr/>
          </p:nvSpPr>
          <p:spPr>
            <a:xfrm flipV="1">
              <a:off x="5854680" y="205380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>
              <a:off x="5854680" y="20541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17"/>
          <p:cNvSpPr/>
          <p:nvPr/>
        </p:nvSpPr>
        <p:spPr>
          <a:xfrm>
            <a:off x="5854680" y="2253600"/>
            <a:ext cx="0" cy="67788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4724280" y="2546280"/>
            <a:ext cx="782640" cy="78264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6"/>
          <p:cNvGrpSpPr/>
          <p:nvPr/>
        </p:nvGrpSpPr>
        <p:grpSpPr>
          <a:xfrm>
            <a:off x="5854680" y="2844000"/>
            <a:ext cx="322200" cy="960120"/>
            <a:chOff x="5854680" y="2844000"/>
            <a:chExt cx="322200" cy="960120"/>
          </a:xfrm>
        </p:grpSpPr>
        <p:sp>
          <p:nvSpPr>
            <p:cNvPr id="382" name="Line 17"/>
            <p:cNvSpPr/>
            <p:nvPr/>
          </p:nvSpPr>
          <p:spPr>
            <a:xfrm>
              <a:off x="5854680" y="2844000"/>
              <a:ext cx="0" cy="96012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8"/>
            <p:cNvSpPr/>
            <p:nvPr/>
          </p:nvSpPr>
          <p:spPr>
            <a:xfrm>
              <a:off x="5854680" y="380376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4" name=""/>
          <p:cNvGraphicFramePr/>
          <p:nvPr/>
        </p:nvGraphicFramePr>
        <p:xfrm>
          <a:off x="6164280" y="3130560"/>
          <a:ext cx="2173320" cy="1049400"/>
        </p:xfrm>
        <a:graphic>
          <a:graphicData uri="http://schemas.openxmlformats.org/drawingml/2006/table">
            <a:tbl>
              <a:tblPr/>
              <a:tblGrid>
                <a:gridCol w="2173320"/>
              </a:tblGrid>
              <a:tr h="1049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acom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 mg/d 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4622760" y="212724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(1: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812880" y="1676520"/>
          <a:ext cx="7607160" cy="1226880"/>
        </p:xfrm>
        <a:graphic>
          <a:graphicData uri="http://schemas.openxmlformats.org/drawingml/2006/table">
            <a:tbl>
              <a:tblPr/>
              <a:tblGrid>
                <a:gridCol w="2235240"/>
                <a:gridCol w="1619280"/>
                <a:gridCol w="1536480"/>
                <a:gridCol w="1057320"/>
                <a:gridCol w="115884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omitinib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22860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8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42800" y="2930400"/>
            <a:ext cx="822636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182880" tIns="13716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verall improvement in PFS was observed in several clinical and molecular subsets, including the following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KRAS wild type/EGFR any status (n = 121), HR = 0.55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= 0.00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KRAS wild type/EGFR wild type (n = 90), HR = 0.61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= 0.04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EGFR mutant (n = 30), HR = 0.46 (</a:t>
            </a:r>
            <a:r>
              <a:rPr b="0" i="1" lang="en-US" sz="1900" spc="-1" strike="noStrike">
                <a:solidFill>
                  <a:srgbClr val="464847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 = 0.09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825480" y="1655640"/>
          <a:ext cx="7556400" cy="2768760"/>
        </p:xfrm>
        <a:graphic>
          <a:graphicData uri="http://schemas.openxmlformats.org/drawingml/2006/table">
            <a:tbl>
              <a:tblPr/>
              <a:tblGrid>
                <a:gridCol w="1854360"/>
                <a:gridCol w="1676160"/>
                <a:gridCol w="1676520"/>
                <a:gridCol w="1168560"/>
                <a:gridCol w="118080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omi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0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. of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4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2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1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 and Respons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825480" y="4589640"/>
            <a:ext cx="77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RR = objective response rate; CBR = clinical benefit rate (ORR + stable disease at ≥24 weeks); DoR = duration of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901800" y="1498680"/>
          <a:ext cx="7429320" cy="3821040"/>
        </p:xfrm>
        <a:graphic>
          <a:graphicData uri="http://schemas.openxmlformats.org/drawingml/2006/table">
            <a:tbl>
              <a:tblPr/>
              <a:tblGrid>
                <a:gridCol w="2527200"/>
                <a:gridCol w="1244520"/>
                <a:gridCol w="1181160"/>
                <a:gridCol w="1193760"/>
                <a:gridCol w="128268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omitinib (n = 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(n = 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0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rmatitis acnei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3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onych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xfoliative 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nd-foot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acomitinib demonstrated significant improvements in PF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versus erlotinib with acceptable toxicity for patients with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nefit in progression-free survival was observed in most clinical and molecular subset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K-ras wild-type/EGFR any status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K-ras wild-type/EGFR wild-type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GFR-mutant NSCL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ailure to demonstrate improvement in OS may be due to lack of power and/or imbalance in poststudy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going Phase III ARCHER study is under way to confirm these finding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amalingam SS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2;30(27):3337-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11T14:12:37Z</cp:lastPrinted>
  <dcterms:modified xsi:type="dcterms:W3CDTF">2013-07-22T18:56:25Z</dcterms:modified>
  <cp:revision>721</cp:revision>
  <dc:subject/>
  <dc:title>Research To Practice</dc:title>
</cp:coreProperties>
</file>