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F36-960E-4365-8197-E3C9200D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673-90A9-4241-A6E5-248270F1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B02D-13A2-4A9C-9FF2-E349E3F0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023-BB0B-4435-BFD3-4A6DFA05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DB20-C558-407D-A2CB-65E73A44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010B-D965-4461-B329-3901F76F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FB2D-ED99-4A03-AFDC-623C32BC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ED57-3947-45E5-9B6F-BF0082AC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3FBF-3870-41FA-BDCF-0EDFE1B2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F277-6AED-4022-B3D5-6B0871DD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CFA5-A149-4DAF-8AB9-D105453B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25A-9AAD-40AD-B654-96D4F0E9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E2A0-9C41-465A-B25D-6C0F68AD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3A2A-FA8A-42ED-8D0C-BCED1AB4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8896-2357-4DB8-B324-B68647F2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8F43-6F35-41EB-B141-4E2B742C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D0E4-7BA8-41A2-BDAD-D944A512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5C6-F848-4154-A4F4-B33E31BD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11D19-1E94-40DF-A13B-F18CC894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94B5E-B448-41E0-82E4-A1B2A15B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2588D-FFA8-444C-9CEC-2EBBAA99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59E-E665-4EDC-9F2A-D9D4CD99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B8829-131E-4BA0-BF68-FDA86AE9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3C59A-ED12-4AF5-8E22-09EF6467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79979-E611-4F54-9E4D-CD8E1BAB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E60D6-E5BE-4BA8-8511-D6F51C69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C4DE4-85F4-4343-91B0-F2B5099D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AB87F-5A00-4730-989A-CC9F1BEA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CA4C2-E59F-4C52-89A5-52734C09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ECC5A-56C9-4025-9A1A-69F5AA89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96BCF-9097-4EFE-B96F-1ABEFB07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EDA-9050-4A47-A7C2-790076FE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6E3-4504-496C-98DC-2FB13D76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15260-A19C-448B-9B77-8BA24CF0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F944A-994E-42AA-81DF-E07C2A9C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4FE07-3D81-4CDE-8E9C-3CB317F6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F3F88-6AF9-41A8-B85F-F7126949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A27D7-EC23-4859-BBF4-6AB9168F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C3E29-14A4-4BA2-A6A8-0BBFB208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0353C-D796-4E93-ADB1-29EED764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F5EEA-16D2-4F1F-90E5-9AB20831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087F7-33EB-4971-B19D-B7D809A3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EB6-DE50-493D-89EF-A02A66EA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13428-9D17-41F3-BC4E-7EBB3EA7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DA1D6-86B0-495B-ADF1-6C9923EA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B4721-2742-457C-9C13-46BB1CAC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38C-A4A1-4A30-AC92-C10DD50C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3B6-DC50-4E58-9AC8-54FBBF6F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262B7-7B96-46EB-B404-E13EF422E321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EE71C-2ADF-41C2-9D92-BAAC2C78FF4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DB2B8-F3AE-4EE4-8070-EB73DC724B7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4996C-FB88-4703-957D-692553B9FD9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E801D-C90D-4740-BA52-BB2CA68D37E8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880DF-7A3E-4222-9E9D-6CF280CD27A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5453B-9C81-4235-B0CE-3420404E758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53C97-0B25-462F-B036-C4F4DBA0E9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ase III Study of Afatinib or Cisplatin plus Pemetrexed in Patients with Metastatic Lung Adenocarcinoma with EGFR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quist LV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J Clin Oncol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[Epub ahead of print]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ung cancer harboring EGFR mutations is highly sensitive to EGFR tyrosine kinase inhibitor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Lancet Oncol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2;13:239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fatinib is a selective, oral, irreversible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inhibitor of the ErbB family with demonstrated efficacy in lung adenocarcinoma with EGFR mutations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Lancet Oncol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2;13:539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isplatin/pemetrexed (CP) is effective and well tolerated as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rst-line therapy for advanced lung adenocarcinoma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nvestigate the efficacy and safety of afatinib compared to CP in EGFR mutation-positive advanced lung adenocarcinoma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914400" y="1689120"/>
          <a:ext cx="3460680" cy="1844640"/>
        </p:xfrm>
        <a:graphic>
          <a:graphicData uri="http://schemas.openxmlformats.org/drawingml/2006/table">
            <a:tbl>
              <a:tblPr/>
              <a:tblGrid>
                <a:gridCol w="3460680"/>
              </a:tblGrid>
              <a:tr h="3808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3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IIB or IV lung adenocarcin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mutation by central l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Treatment naï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0" name="Rectangle 31"/>
          <p:cNvSpPr/>
          <p:nvPr/>
        </p:nvSpPr>
        <p:spPr>
          <a:xfrm>
            <a:off x="914400" y="4100400"/>
            <a:ext cx="77724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scalated to 50 mg/d if limited toxicity in cycle 1; 10-mg decrements if 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 Grade 3 or prolonged Grade 2 tox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Progression-free survival (PFS) by independent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were stratified by EGFR mutation type and race (Asian or n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X-Lung 3: Phase I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864400" y="1430280"/>
          <a:ext cx="2560320" cy="779400"/>
        </p:xfrm>
        <a:graphic>
          <a:graphicData uri="http://schemas.openxmlformats.org/drawingml/2006/table">
            <a:tbl>
              <a:tblPr/>
              <a:tblGrid>
                <a:gridCol w="2560320"/>
              </a:tblGrid>
              <a:tr h="779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fatinib (n = 2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40 mg/d PO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864400" y="2403360"/>
          <a:ext cx="2555640" cy="1354320"/>
        </p:xfrm>
        <a:graphic>
          <a:graphicData uri="http://schemas.openxmlformats.org/drawingml/2006/table">
            <a:tbl>
              <a:tblPr/>
              <a:tblGrid>
                <a:gridCol w="2555640"/>
              </a:tblGrid>
              <a:tr h="135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P (n = 1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, 75 mg/m</a:t>
                      </a:r>
                      <a:r>
                        <a:rPr b="0" lang="en-US" sz="1800" spc="-1" strike="noStrike" baseline="30000">
                          <a:solidFill>
                            <a:srgbClr val="333333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(I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, 500 mg/m</a:t>
                      </a:r>
                      <a:r>
                        <a:rPr b="0" lang="en-US" sz="1800" spc="-1" strike="noStrike" baseline="30000">
                          <a:solidFill>
                            <a:srgbClr val="333333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(I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Q3wk up to 6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4" name="Line 2"/>
          <p:cNvSpPr/>
          <p:nvPr/>
        </p:nvSpPr>
        <p:spPr>
          <a:xfrm>
            <a:off x="4381560" y="2460600"/>
            <a:ext cx="115560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3"/>
          <p:cNvGrpSpPr/>
          <p:nvPr/>
        </p:nvGrpSpPr>
        <p:grpSpPr>
          <a:xfrm>
            <a:off x="5541840" y="1819080"/>
            <a:ext cx="322200" cy="655560"/>
            <a:chOff x="5541840" y="1819080"/>
            <a:chExt cx="322200" cy="655560"/>
          </a:xfrm>
        </p:grpSpPr>
        <p:sp>
          <p:nvSpPr>
            <p:cNvPr id="256" name="Line 14"/>
            <p:cNvSpPr/>
            <p:nvPr/>
          </p:nvSpPr>
          <p:spPr>
            <a:xfrm flipV="1">
              <a:off x="5541840" y="1819080"/>
              <a:ext cx="0" cy="6555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>
              <a:off x="5541840" y="181944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6"/>
          <p:cNvGrpSpPr/>
          <p:nvPr/>
        </p:nvGrpSpPr>
        <p:grpSpPr>
          <a:xfrm>
            <a:off x="5541840" y="2159640"/>
            <a:ext cx="322200" cy="914040"/>
            <a:chOff x="5541840" y="2159640"/>
            <a:chExt cx="322200" cy="914040"/>
          </a:xfrm>
        </p:grpSpPr>
        <p:sp>
          <p:nvSpPr>
            <p:cNvPr id="259" name="Line 17"/>
            <p:cNvSpPr/>
            <p:nvPr/>
          </p:nvSpPr>
          <p:spPr>
            <a:xfrm>
              <a:off x="5541840" y="2159640"/>
              <a:ext cx="0" cy="91404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5541840" y="307332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"/>
          <p:cNvSpPr/>
          <p:nvPr/>
        </p:nvSpPr>
        <p:spPr>
          <a:xfrm>
            <a:off x="4616280" y="2076480"/>
            <a:ext cx="731880" cy="7318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4535640" y="2889360"/>
            <a:ext cx="88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977760" y="1965240"/>
          <a:ext cx="7264440" cy="2316240"/>
        </p:xfrm>
        <a:graphic>
          <a:graphicData uri="http://schemas.openxmlformats.org/drawingml/2006/table">
            <a:tbl>
              <a:tblPr/>
              <a:tblGrid>
                <a:gridCol w="2337120"/>
                <a:gridCol w="1231560"/>
                <a:gridCol w="1231920"/>
                <a:gridCol w="1231920"/>
                <a:gridCol w="1231920"/>
              </a:tblGrid>
              <a:tr h="7574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30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1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mutations (Del 19/L858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30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6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Endpoint: PFS by Independent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977760" y="1257480"/>
          <a:ext cx="7239240" cy="3168360"/>
        </p:xfrm>
        <a:graphic>
          <a:graphicData uri="http://schemas.openxmlformats.org/drawingml/2006/table">
            <a:tbl>
              <a:tblPr/>
              <a:tblGrid>
                <a:gridCol w="3441960"/>
                <a:gridCol w="2031840"/>
                <a:gridCol w="1765440"/>
              </a:tblGrid>
              <a:tr h="389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89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l patients (n = 3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3-0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-Asian (n = 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sian (n = 2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9-1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8-0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1360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mutation 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el 19/L858R (n = 30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el 19 (n = 1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858R (n = 13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4-0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8-0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6-1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S: Subgroup Analysis by Independent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1"/>
          <p:cNvSpPr/>
          <p:nvPr/>
        </p:nvSpPr>
        <p:spPr>
          <a:xfrm>
            <a:off x="977760" y="4473720"/>
            <a:ext cx="7332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Hazard ratio &lt;1 favors afatini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FS favored afatinib independent of gender, age and ECOG performance status at base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685800" y="1844640"/>
          <a:ext cx="7670880" cy="1763640"/>
        </p:xfrm>
        <a:graphic>
          <a:graphicData uri="http://schemas.openxmlformats.org/drawingml/2006/table">
            <a:tbl>
              <a:tblPr/>
              <a:tblGrid>
                <a:gridCol w="2938320"/>
                <a:gridCol w="1616040"/>
                <a:gridCol w="1617840"/>
                <a:gridCol w="1498680"/>
              </a:tblGrid>
              <a:tr h="6976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32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sease control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 Response Rate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685800" y="3648240"/>
            <a:ext cx="73328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NR = not re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duration of response: 11.5 mo (afatinib) vs 5.5 mo (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duration of disease control: 13.6 mo (afatinib) vs 8.1 mo (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977760" y="1257480"/>
          <a:ext cx="7264440" cy="4197240"/>
        </p:xfrm>
        <a:graphic>
          <a:graphicData uri="http://schemas.openxmlformats.org/drawingml/2006/table">
            <a:tbl>
              <a:tblPr/>
              <a:tblGrid>
                <a:gridCol w="2337120"/>
                <a:gridCol w="1231560"/>
                <a:gridCol w="1231920"/>
                <a:gridCol w="1231920"/>
                <a:gridCol w="1231920"/>
              </a:tblGrid>
              <a:tr h="3952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 (n = 2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 (n = 1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gr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≥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gr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≥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5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ash/ac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9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6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omatitis/mucos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2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ecreased appet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5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UX-Lung 3 is the largest prospective, randomized trial in advanced EGFR mutation-positive NSCLC and the first study to compare first-line EGFR-targeted tyrosine kinase inhibitor therapy with CP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study showed significant PFS and tumor response benefits with first-line afatinib compared to CP for patients with lung adenocarcinoma who have EGFR mutations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tient-reported outcomes favored afatinib, with better control of cough, dyspnea and pain (data not shown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fatinib was associated with manageable AEs, and discontinuation due to drug-related AEs was low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[Epub ahead of prin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9:16:52Z</dcterms:created>
  <dc:creator>Research To Practice</dc:creator>
  <dc:description/>
  <cp:keywords/>
  <dc:language>en-US</dc:language>
  <cp:lastModifiedBy>Aura Herrmann</cp:lastModifiedBy>
  <cp:lastPrinted>2013-07-03T17:17:38Z</cp:lastPrinted>
  <dcterms:modified xsi:type="dcterms:W3CDTF">2013-07-22T20:58:23Z</dcterms:modified>
  <cp:revision>655</cp:revision>
  <dc:subject/>
  <dc:title>Research To Practice</dc:title>
</cp:coreProperties>
</file>