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58F-1802-49E7-97AA-56774791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7A9-9568-4919-89F4-A4744B6F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0C0AB-1BFB-4319-A860-C1B3B9D4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04E0F-2976-4BA6-9323-AEFF14A4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AE065-1C00-4C14-9BD3-249614E2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54769-D7E6-4711-A285-83A4AC90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A194A-ED26-4903-A1E9-14A41918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F6857-D578-4FD3-8A9A-824DDE2C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90C5E-911E-4170-9D3A-2BF89779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3BA50-5BDA-4AA4-9155-50340701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9F7A0-3067-427E-B7D1-B53A1C17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464E-D009-47AC-899F-C8B6B90D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77E-2F62-4A8D-892B-3BE39B98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B6A4-2930-4EEB-9158-875E6CF8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8305-E932-47E3-8235-27E899DA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3BA5-BE17-4D27-8775-4F4AEAC0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9D52-1CF3-4ADF-86F1-D329BDA2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23E0-A237-4C4A-BC6C-70BED0BB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E256-C4A2-4567-8E08-B8E66FAC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7C9B-9744-4349-BF26-667AF0A3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EA4-9CD8-4349-89A8-56EEC30F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88DA-F345-4C93-875F-0B108B91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5A6A-C269-4D2D-88EC-C0872A5D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144A-13BF-4EAD-94A1-6990E47E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F555-B39D-4065-998F-8DF806BC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AC73-C129-4E81-AD99-2AE0F9FE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2A7A3-4B5C-42CA-88ED-12734536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49D3A-14EF-4E21-93B5-31CAFCB7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1450-7D59-415B-B39C-43F9BE7C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78C7C-9BD6-4A6D-886F-5ED841D4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FAA65-ED87-498D-BD90-C60889F4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179-D3CD-48AD-8EBC-E405E1A6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D50C1-00A9-43B5-BE72-8B67738D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D004C-9F66-4055-95DE-26AD6F38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00D0-56FC-410A-9EE4-D815292E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5A5D2-2D91-407F-8D89-0D0E554F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E8151-CF56-414A-8073-BB75FFA6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DB5A-2893-4CBE-9299-65EF59A9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BE2D0-9E2A-4FD6-8FCB-C16E9FD2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0ED-D9FF-4873-B9C6-D0195418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E94C2-08BA-4F3A-9E6B-7D7EFE98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D9B-6A08-4A67-A0CA-887D4551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CBD26-9A7C-457C-A85A-4B4025C5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FB555-B0D6-41FC-AD11-E328D13E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C94B5-86AF-4B01-9F92-6CC6D7C7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23B9D-D87B-4BD4-88E6-06057F72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25C4D-E4CA-436D-AAF9-3A426552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005AC-3BB1-42AC-8744-51B7FFF1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A3B0C-46D9-4C4F-85C8-DB7183F7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8F1BE-4209-47FE-B7D2-FF593429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165FE-A8C5-41E3-9C39-80521602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8EF47-EC50-4295-99C8-10E9AAAD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149-2762-4C70-950E-6839B7CC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B1DFB-CCAB-43D3-AFD6-D7CC4504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82D-B02B-4BCA-8DBB-6CC46B6A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D2395-F81B-4F1B-BA51-BDEBF14B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E5989-8DF9-4F74-B331-5FD3BBC6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55C2C-CD81-4860-87FF-A26B7CE4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6AC62-2F5D-489E-8EB1-31651BC9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E2203-F5E5-456F-97B9-8E1718FD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7831D-B18C-443E-96D8-DAF9D3D8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D7F49-C2F9-49AD-8689-C661AFA6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2D1-96BF-4C72-9959-2695E50C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ACA79-FCBF-4FC9-BACC-33FA1BDE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DA726-3AA9-4C8C-B42E-EF970425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DA069-D958-4490-852A-0D913696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C4E04-B450-4431-91E7-B3B9127F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0B651-E0A5-4419-A5BE-939F2521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D9E1-A716-4094-B750-91F76176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D50FC-2324-4B35-B951-1A09B315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EC15E-ED1D-4EAA-A2C7-373970C8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C3CB2-EC0D-45B6-AEEC-EE32B644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5B369-E1E5-445A-97BE-247FC5BB0B1D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49442-2B1D-459E-8174-1CBC38BBF4A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4B781-F311-4151-82D4-F850E659D86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ACAA1-0A13-42D1-82F2-00D9685D55A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8906B-CAFA-484A-89C0-1406F81AE80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600C7-1732-469C-A235-31C90E7E7CA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1D3B2-E3CD-41AC-8682-6A2331730E18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FCB4E-9D91-4338-BFC3-8D292C532DF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EFA9C-C621-43B9-B13C-EC7BE8C2ECD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3D9D9-38CA-4782-9C24-D63F97DF38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056EF-6FDE-4772-80E2-2954029134C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77DFE-64E8-4179-9142-AEF06B345B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70120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metrexed-Based Chemotherapy in Patients with Advanced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K-Positive Non-Small Cell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ung C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haw AT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An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24(1):59-6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Anaplastic lymphoma kinase (ALK) gene rearrangements define one of the newest molecular subsets of non-small cell lung cancer (NSCLC) and are detected in 3% to 5% of patients with NSCLC.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Patients with ALK-positive (ALK+), advanced NSCLC are responsive (overall response rate: 56%, median progression-free survival [PFS]: 10 months) to the dual ALK/MET tyrosine kinase inhibitor (TKI) crizotinib (</a:t>
            </a:r>
            <a:r>
              <a:rPr b="0" i="1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NEJM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 2010;363:1693).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Crizotinib has become a standard treatment for ALK+, advanced NSCLC. 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Arial"/>
              </a:rPr>
              <a:t>At some point, the disease will progress and patients will receive a standard chemotherapuetic agent.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Two retrospective studies suggested that ALK+ NSCLC may be responsive to pemetrexed (Pem) (</a:t>
            </a:r>
            <a:r>
              <a:rPr b="0" i="1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J Thorac Oncol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2011;6:1474; </a:t>
            </a:r>
            <a:br>
              <a:rPr sz="1700"/>
            </a:br>
            <a:r>
              <a:rPr b="0" i="1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J Thorac Oncol 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2011;6:774).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  <a:ea typeface="Arial"/>
              </a:rPr>
              <a:t>Current study objective: </a:t>
            </a:r>
            <a:endParaRPr b="0" lang="en-US" sz="17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Arial"/>
              </a:rPr>
              <a:t>Determine whether advanced ALK+ NSCLC is sensitive to Pem in a multicenter retrospective study. 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1):59-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9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274320" tIns="13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ients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with ALK+ NSCLC were enrolled from 5 international cancer centers (n =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121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ients with ALK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-negative (ALK-) NSCLC were enrolled from Massachusetts General Hospital (n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= 266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l patients had biopsy-proven EGFR mutation-negative, advanced NSCLC and had received a Pem-based regime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ALK status was determined using the standard break-apart FISH assay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 2009;27:424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ALK- cases were tested for mutations in EGFR, K-ras and other cancer-related genes using SNaPsho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FS was measured from day 1 of Pem until either radiologic/clinical disease progression or death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1):59-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876240" y="1384200"/>
          <a:ext cx="7556400" cy="4129200"/>
        </p:xfrm>
        <a:graphic>
          <a:graphicData uri="http://schemas.openxmlformats.org/drawingml/2006/table">
            <a:tbl>
              <a:tblPr/>
              <a:tblGrid>
                <a:gridCol w="3733920"/>
                <a:gridCol w="1371600"/>
                <a:gridCol w="1434960"/>
                <a:gridCol w="1015920"/>
              </a:tblGrid>
              <a:tr h="3747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comb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/WT/W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-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85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latinum/Pem, any line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70, 112, 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8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latinum/Pem, first line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56, 104, 4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5 m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8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platinum/Pem or single-agent Pem, any line (n = 51, 75, 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ingle-agent Pem, second/third line (n = 31, 39, 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6994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: ALK+ versus ALK- NSCL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1):59-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876240" y="2705040"/>
            <a:ext cx="7556400" cy="939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914400" y="1486080"/>
          <a:ext cx="7416720" cy="3047760"/>
        </p:xfrm>
        <a:graphic>
          <a:graphicData uri="http://schemas.openxmlformats.org/drawingml/2006/table">
            <a:tbl>
              <a:tblPr/>
              <a:tblGrid>
                <a:gridCol w="3797280"/>
                <a:gridCol w="1181160"/>
                <a:gridCol w="1257120"/>
                <a:gridCol w="1181160"/>
              </a:tblGrid>
              <a:tr h="560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comb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/W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6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latinum/Pem, any line (n = 64, 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latinum/Pem, first line (n = 53, 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79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platinum/Pem or SA Pem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 line (n = 44, 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A Pem, any line (n = 30, 2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 for Patients with Never/Light Smoking History: ALK+ vs AL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EGFR WT (WT/W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1):59-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1"/>
          <p:cNvSpPr/>
          <p:nvPr/>
        </p:nvSpPr>
        <p:spPr>
          <a:xfrm>
            <a:off x="914400" y="4649760"/>
            <a:ext cx="75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elative to other never/light smokers, patients with ALK+ NSCLC do not have a prolonged PFS when treated with Pem-based chemothera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multicenter study is the largest retrospective analysis of patients with advanced ALK+ and ALK- NSCLC treated with Pem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ients do not have a longer PFS on Pem-based chemotherapy, except perhaps in the setting of first-line platinum/Pem combination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difference in PFS between patients with ALK+ and ALK- disease treated with nonplatinum/Pem combinations or single-agent Pem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t is unlikely that Pem-based chemotherapy will be equivalent in efficacy to crizotinib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wo ongoing Phase III trials will compare crizotinib to Pem-based chemotherapy in the first-line and second-line setting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An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24(1):59-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00:25:42Z</dcterms:created>
  <dc:creator>Research To Practice</dc:creator>
  <dc:description/>
  <cp:keywords/>
  <dc:language>en-US</dc:language>
  <cp:lastModifiedBy>Silvana Izquierdo</cp:lastModifiedBy>
  <cp:lastPrinted>2013-05-10T00:29:30Z</cp:lastPrinted>
  <dcterms:modified xsi:type="dcterms:W3CDTF">2013-07-22T18:55:05Z</dcterms:modified>
  <cp:revision>645</cp:revision>
  <dc:subject/>
  <dc:title>Research To Practice</dc:title>
</cp:coreProperties>
</file>