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C1A-43FC-4358-B4C6-007539A3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F98-75A8-4E3E-BFEB-99B75AC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AA6-3273-45FB-B8D0-B9BF3511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55F-4BF9-4669-A6E6-9D354436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6A7D-27C7-4F2F-B399-111FC698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44DD-C30E-4C5B-96DD-6645302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F326-14B6-44D9-BA51-B97DF28B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F00-0721-411F-82C9-311AE68E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1388-2341-46A9-83D6-35FDCD2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4A51-827D-4B6F-80DB-585F95F9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10C5-22DE-487D-B5BB-360A953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17B-F2DB-4379-8141-95836947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F6C9-8D33-464C-B3CE-34DD723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6AB5-ED66-40B0-97E5-7D218C2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A89E-870C-484C-BE78-B56F6BBB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ED8F-B186-4D6B-A7BE-5E17491A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70CC-E79F-4E08-B7F7-13F06848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7F5-A251-4C5C-9D0F-D1929940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4D14-5F5F-437E-8931-A3B863FC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CF08-8A4F-4BFD-8FBC-C7264B71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31EA-15FE-4906-8950-EC64D06D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971-F39B-4C92-969A-3378FBB7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CDBC-D6ED-4521-8A21-FB0CA45D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7867-BE67-4841-946E-D595882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5DAE-F0A2-4A5F-9AF4-DE84655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6A7C-9641-433D-9062-DA9A5AC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9D7C-7A36-4B18-8C9D-1278497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E001-013C-441B-A35B-7E1BDA1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25ED-5DB8-4A30-808A-00674D67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78E8-F186-4CF1-B79F-0B3441A4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B42B-7D8B-47E6-B9F0-EBC361D6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FC3-D442-49DB-896C-C7510BE6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F1E-CAE4-4D95-A7DA-EF990442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B5F2-CCF2-4513-A874-4376332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C75B-4FA3-4ACC-BBA0-B780F594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6394-9EA7-440C-8373-8422BABB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A4FA-5A4E-49A4-AC61-6A46A247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1066-AA3A-4DE6-A901-65AC6A9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D269-B8EB-42C7-A306-E0A237F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148F-A5DA-4AE9-9EE0-CA086F4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15EE-D7E1-4A6E-AD00-60E59ED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EAAE-C688-49B5-8110-253C81E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7B6-0151-48AB-94F0-AA2675C0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9A46-C3AC-49EE-9AE6-67B5B46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053D-E650-4A64-A092-365EFECD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380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5160" y="117288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4244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380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5160" y="356004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4E79-94D9-43E6-8E02-7FAA0CF9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56004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3C3-DBDF-45EE-A1EA-A03947D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17288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440" y="356004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270-D2FF-411F-BF5D-F9B62BC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BD479-A8C6-41A5-9F5E-47AC476E895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47608-0FF1-48F7-8F55-0F20144129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072EF-0146-41B1-8913-46F68281770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7493F-403A-4AD1-8285-1FA12CDB19D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icture 8"/>
          <p:cNvSpPr/>
          <p:nvPr/>
        </p:nvSpPr>
        <p:spPr>
          <a:xfrm>
            <a:off x="449280" y="1170000"/>
            <a:ext cx="822636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E835C-CB31-418B-9DF2-E727AFCE2D0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333DE-43DE-48F7-AF0F-740EB59629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iRNHL_TitlePageBarv1si"/>
          <p:cNvPicPr/>
          <p:nvPr/>
        </p:nvPicPr>
        <p:blipFill>
          <a:blip r:embed="rId2"/>
          <a:stretch/>
        </p:blipFill>
        <p:spPr>
          <a:xfrm>
            <a:off x="442800" y="4707000"/>
            <a:ext cx="8226360" cy="1525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YiRNHL_Intro_v1si"/>
          <p:cNvPicPr/>
          <p:nvPr/>
        </p:nvPicPr>
        <p:blipFill>
          <a:blip r:embed="rId2"/>
          <a:stretch/>
        </p:blipFill>
        <p:spPr>
          <a:xfrm>
            <a:off x="449280" y="1170000"/>
            <a:ext cx="8226360" cy="4570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2286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46484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82FAE-45ED-4B49-A6BA-9AEC34006DE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7C995-DDD4-44CA-8A11-67D0DE7856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9120" y="111240"/>
            <a:ext cx="84330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65760" tIns="320040" bIns="457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Randomized Phase III Comparison of Standard-Dose (60 Gy) versus High-Dose (74 Gy) Conformal Radiotherapy with Concurrent and Consolidation Carboplatin/Paclitaxel +/- Cetuximab in Patients with Stage IIIA/IIIB Non-Small Cell Lung Cancer (NSCL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5760" y="4707000"/>
            <a:ext cx="8226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Bradley JD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64847"/>
                </a:solidFill>
                <a:latin typeface="Arial"/>
              </a:rPr>
              <a:t>Proc ASCO </a:t>
            </a:r>
            <a:r>
              <a:rPr b="0" lang="en-US" sz="2200" spc="-1" strike="noStrike">
                <a:solidFill>
                  <a:srgbClr val="464847"/>
                </a:solidFill>
                <a:latin typeface="Arial"/>
              </a:rPr>
              <a:t>2013;Abstract 75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 the era of PET staging, a median overall survival of 28.7 months can be expected with concurrent chemotherapy with RT at a standard dose (60 Gy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Unreported treatment-related deaths from cardiac and pulmonary events are likely to be the major causes of the inferior survival observed in the high-dose arms (74 Gy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is study indicates that stricter heart and lung constraints should be built into future studies and institutional protocol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tricter RT quality assurance programs may be necessary in multicenter trial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Finally, radiation dose escalation with conventional fractionation and concurrent chemotherapy is not the way forward. Rather, treatment intensification should be pursued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a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Faivre-Finn C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Discu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182880" anchor="t">
            <a:normAutofit/>
          </a:bodyPr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Historically, standard treatment for Stage III NSCLC has included radiation therapy (RT) limited to a dose between 60 and 63 Gy due to toxicity associated with higher dose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onventional thinking, multiple retrospective reviews and a secondary analysis of RTOG trials supported the notion that a higher dose of RT may increase local-regional control and prolong survival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rospective Phase I and II trials from the RTOG, NCCTG, CALGB and North Carolina have demonstrated that 74 Gy was both safe and effectiv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5960" indent="-342720">
              <a:spcBef>
                <a:spcPts val="201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Current study objective: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ompare the efficacy and safety of high-dose versus standard-dose conformal RT with concurrent and consolidation chemotherapy with or without cetuximab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I RTOG-0617 Tri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81200" y="1270080"/>
          <a:ext cx="7483320" cy="1471680"/>
        </p:xfrm>
        <a:graphic>
          <a:graphicData uri="http://schemas.openxmlformats.org/drawingml/2006/table">
            <a:tbl>
              <a:tblPr/>
              <a:tblGrid>
                <a:gridCol w="7483320"/>
              </a:tblGrid>
              <a:tr h="3967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(N = 5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0749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Bef>
                          <a:spcPts val="3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ewly diagnosed, unresectable Stage IIIA/B NSCL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3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2/N3 disease and undetectable NSCLC primary t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Bef>
                          <a:spcPts val="300"/>
                        </a:spcBef>
                        <a:buClr>
                          <a:srgbClr val="46484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 supraclavicular or contralateral hilar aden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47560" y="3646440"/>
          <a:ext cx="1704960" cy="134640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1346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60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6 w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332080" y="3648240"/>
          <a:ext cx="1639800" cy="1344600"/>
        </p:xfrm>
        <a:graphic>
          <a:graphicData uri="http://schemas.openxmlformats.org/drawingml/2006/table">
            <a:tbl>
              <a:tblPr/>
              <a:tblGrid>
                <a:gridCol w="1639800"/>
              </a:tblGrid>
              <a:tr h="1344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74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7.5 w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057560" y="3659040"/>
          <a:ext cx="2229120" cy="1320840"/>
        </p:xfrm>
        <a:graphic>
          <a:graphicData uri="http://schemas.openxmlformats.org/drawingml/2006/table">
            <a:tbl>
              <a:tblPr/>
              <a:tblGrid>
                <a:gridCol w="2229120"/>
              </a:tblGrid>
              <a:tr h="1320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60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6 w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 + C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373800" y="3646440"/>
          <a:ext cx="2192400" cy="1333440"/>
        </p:xfrm>
        <a:graphic>
          <a:graphicData uri="http://schemas.openxmlformats.org/drawingml/2006/table">
            <a:tbl>
              <a:tblPr/>
              <a:tblGrid>
                <a:gridCol w="2192400"/>
              </a:tblGrid>
              <a:tr h="1333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Arm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RT: 74 Gy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5x/wk, 7.5 w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Concurrent CT + C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67878"/>
                      </a:solidFill>
                    </a:lnL>
                    <a:lnR w="13680">
                      <a:solidFill>
                        <a:srgbClr val="767878"/>
                      </a:solidFill>
                    </a:lnR>
                    <a:lnT w="13680">
                      <a:solidFill>
                        <a:srgbClr val="767878"/>
                      </a:solidFill>
                    </a:lnT>
                    <a:lnB w="13680">
                      <a:solidFill>
                        <a:srgbClr val="76787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Rectangle 31"/>
          <p:cNvSpPr/>
          <p:nvPr/>
        </p:nvSpPr>
        <p:spPr>
          <a:xfrm>
            <a:off x="987480" y="5048280"/>
            <a:ext cx="7391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CT = chemotherapy with carboplatin + paclitaxel; Cet = cetuxim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rimary endpoint: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444680" y="3409920"/>
            <a:ext cx="6060960" cy="0"/>
          </a:xfrm>
          <a:prstGeom prst="line">
            <a:avLst/>
          </a:prstGeom>
          <a:ln w="28440">
            <a:solidFill>
              <a:srgbClr val="76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"/>
          <p:cNvSpPr/>
          <p:nvPr/>
        </p:nvSpPr>
        <p:spPr>
          <a:xfrm>
            <a:off x="144468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"/>
          <p:cNvSpPr/>
          <p:nvPr/>
        </p:nvSpPr>
        <p:spPr>
          <a:xfrm>
            <a:off x="322884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542772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"/>
          <p:cNvSpPr/>
          <p:nvPr/>
        </p:nvSpPr>
        <p:spPr>
          <a:xfrm>
            <a:off x="7491240" y="3409920"/>
            <a:ext cx="0" cy="184320"/>
          </a:xfrm>
          <a:prstGeom prst="line">
            <a:avLst/>
          </a:prstGeom>
          <a:ln w="28440">
            <a:solidFill>
              <a:srgbClr val="76787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057560" y="2673360"/>
            <a:ext cx="828720" cy="828720"/>
          </a:xfrm>
          <a:prstGeom prst="ellipse">
            <a:avLst/>
          </a:prstGeom>
          <a:solidFill>
            <a:srgbClr val="db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 2-by-2 factorial design with radiation dose as one factor and cetuximab as the other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 1-sided log-rank test with overall significance level of 0.0125 and 80% power at final analysis at 339 event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re will be 3 interim analyses at 85, 170 and 255 event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t first interim analysis, the 2 high-dose arms (B and D) were closed to accrual due to futility (June 2011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The trial continued accrual to the standard-dose arms (A and C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Accrual to the study was completed in November 2011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  <a:ea typeface="Arial"/>
              </a:rPr>
              <a:t>No data are currently available for treatment with or without cetuximab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IJournal_Bradley_Curve1.png"/>
          <p:cNvPicPr/>
          <p:nvPr/>
        </p:nvPicPr>
        <p:blipFill>
          <a:blip r:embed="rId1"/>
          <a:srcRect l="10651" t="23656" r="16747" b="26438"/>
          <a:stretch/>
        </p:blipFill>
        <p:spPr>
          <a:xfrm>
            <a:off x="1136520" y="1116000"/>
            <a:ext cx="6426360" cy="44164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 rot="16200000">
            <a:off x="-913680" y="3123720"/>
            <a:ext cx="40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Survival Rat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873080" y="5338800"/>
            <a:ext cx="54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 Since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7042320" y="1549440"/>
            <a:ext cx="104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8-month surviva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7042320" y="26589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66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7042320" y="31035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9a332"/>
                </a:solidFill>
                <a:latin typeface="Arial"/>
              </a:rPr>
              <a:t>53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2301840" y="4013280"/>
            <a:ext cx="26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ndard (60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igh dose (74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2289240" y="4630680"/>
            <a:ext cx="40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R = 1.56 (1.19, 2.06)    p = 0.0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203720" y="3610080"/>
          <a:ext cx="2989080" cy="1001520"/>
        </p:xfrm>
        <a:graphic>
          <a:graphicData uri="http://schemas.openxmlformats.org/drawingml/2006/table">
            <a:tbl>
              <a:tblPr/>
              <a:tblGrid>
                <a:gridCol w="839880"/>
                <a:gridCol w="703080"/>
                <a:gridCol w="1446120"/>
              </a:tblGrid>
              <a:tr h="438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D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Median Survival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8.7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9.5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Straight Connector 15"/>
          <p:cNvSpPr/>
          <p:nvPr/>
        </p:nvSpPr>
        <p:spPr>
          <a:xfrm>
            <a:off x="2011320" y="4175280"/>
            <a:ext cx="29052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6"/>
          <p:cNvSpPr/>
          <p:nvPr/>
        </p:nvSpPr>
        <p:spPr>
          <a:xfrm>
            <a:off x="2011320" y="4425840"/>
            <a:ext cx="290520" cy="0"/>
          </a:xfrm>
          <a:prstGeom prst="line">
            <a:avLst/>
          </a:prstGeom>
          <a:ln w="38160">
            <a:solidFill>
              <a:srgbClr val="69a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IJournal_Bradley_Curve2.png"/>
          <p:cNvPicPr/>
          <p:nvPr/>
        </p:nvPicPr>
        <p:blipFill>
          <a:blip r:embed="rId1"/>
          <a:srcRect l="12669" t="24938" r="16566" b="25191"/>
          <a:stretch/>
        </p:blipFill>
        <p:spPr>
          <a:xfrm>
            <a:off x="1320840" y="1219320"/>
            <a:ext cx="6267240" cy="44164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on-Free Survival (P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 rot="16200000">
            <a:off x="-913680" y="3123720"/>
            <a:ext cx="40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PFS Rat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1873080" y="5338800"/>
            <a:ext cx="55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 Since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129440" y="2681280"/>
            <a:ext cx="104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8-month surviva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3"/>
          <p:cNvSpPr/>
          <p:nvPr/>
        </p:nvSpPr>
        <p:spPr>
          <a:xfrm>
            <a:off x="7142040" y="36100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36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7142040" y="39178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9a332"/>
                </a:solidFill>
                <a:latin typeface="Arial"/>
              </a:rPr>
              <a:t>26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2301840" y="4013280"/>
            <a:ext cx="26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ndard (60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igh dose (74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289240" y="4630680"/>
            <a:ext cx="40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R = 1.3 (1.04, 1.63)    p = 0.01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127400" y="3610080"/>
          <a:ext cx="1492200" cy="933480"/>
        </p:xfrm>
        <a:graphic>
          <a:graphicData uri="http://schemas.openxmlformats.org/drawingml/2006/table">
            <a:tbl>
              <a:tblPr/>
              <a:tblGrid>
                <a:gridCol w="776520"/>
                <a:gridCol w="715680"/>
              </a:tblGrid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Straight Connector 28"/>
          <p:cNvSpPr/>
          <p:nvPr/>
        </p:nvSpPr>
        <p:spPr>
          <a:xfrm>
            <a:off x="2011320" y="4175280"/>
            <a:ext cx="29052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29"/>
          <p:cNvSpPr/>
          <p:nvPr/>
        </p:nvSpPr>
        <p:spPr>
          <a:xfrm>
            <a:off x="2011320" y="4425840"/>
            <a:ext cx="290520" cy="0"/>
          </a:xfrm>
          <a:prstGeom prst="line">
            <a:avLst/>
          </a:prstGeom>
          <a:ln w="38160">
            <a:solidFill>
              <a:srgbClr val="69a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IJournal_Bradley_Curve3.png"/>
          <p:cNvPicPr/>
          <p:nvPr/>
        </p:nvPicPr>
        <p:blipFill>
          <a:blip r:embed="rId1"/>
          <a:srcRect l="11017" t="25489" r="16566" b="27538"/>
          <a:stretch/>
        </p:blipFill>
        <p:spPr>
          <a:xfrm>
            <a:off x="1170000" y="1255680"/>
            <a:ext cx="6418080" cy="4162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With permission from 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 rot="16200000">
            <a:off x="-913680" y="3123720"/>
            <a:ext cx="40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Local Progression Rat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1886040" y="5338800"/>
            <a:ext cx="53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64847"/>
                </a:solidFill>
                <a:latin typeface="Arial"/>
              </a:rPr>
              <a:t>Months Since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7180200" y="2346480"/>
            <a:ext cx="131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8-month local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progression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1"/>
          <p:cNvSpPr/>
          <p:nvPr/>
        </p:nvSpPr>
        <p:spPr>
          <a:xfrm>
            <a:off x="7236000" y="389412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25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7218360" y="356868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69a332"/>
                </a:solidFill>
                <a:latin typeface="Arial"/>
              </a:rPr>
              <a:t>34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2389320" y="191448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ndard (60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igh dose (74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2401920" y="2525760"/>
            <a:ext cx="40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HR = 1.37 (0.99, 1.89)    p = 0.03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216320" y="1509840"/>
          <a:ext cx="1492200" cy="933480"/>
        </p:xfrm>
        <a:graphic>
          <a:graphicData uri="http://schemas.openxmlformats.org/drawingml/2006/table">
            <a:tbl>
              <a:tblPr/>
              <a:tblGrid>
                <a:gridCol w="776520"/>
                <a:gridCol w="715680"/>
              </a:tblGrid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F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Straight Connector 26"/>
          <p:cNvSpPr/>
          <p:nvPr/>
        </p:nvSpPr>
        <p:spPr>
          <a:xfrm>
            <a:off x="2100240" y="2075040"/>
            <a:ext cx="28908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27"/>
          <p:cNvSpPr/>
          <p:nvPr/>
        </p:nvSpPr>
        <p:spPr>
          <a:xfrm>
            <a:off x="2100240" y="2325600"/>
            <a:ext cx="289080" cy="0"/>
          </a:xfrm>
          <a:prstGeom prst="line">
            <a:avLst/>
          </a:prstGeom>
          <a:ln w="38160">
            <a:solidFill>
              <a:srgbClr val="69a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27000" y="1468440"/>
          <a:ext cx="7404120" cy="3459240"/>
        </p:xfrm>
        <a:graphic>
          <a:graphicData uri="http://schemas.openxmlformats.org/drawingml/2006/table">
            <a:tbl>
              <a:tblPr/>
              <a:tblGrid>
                <a:gridCol w="2522520"/>
                <a:gridCol w="1220760"/>
                <a:gridCol w="1220760"/>
                <a:gridCol w="1219320"/>
                <a:gridCol w="1220760"/>
              </a:tblGrid>
              <a:tr h="43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 Gy (n = 2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non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sophagitis/dyspha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ot reported (N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 Gy (n = 2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5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nonhemato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6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1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Worst 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3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4f2ee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Esophagitis/dyspha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79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2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464847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64847"/>
                      </a:solidFill>
                    </a:lnL>
                    <a:lnR w="5760">
                      <a:solidFill>
                        <a:srgbClr val="464847"/>
                      </a:solidFill>
                    </a:lnR>
                    <a:lnT w="5760">
                      <a:solidFill>
                        <a:srgbClr val="464847"/>
                      </a:solidFill>
                    </a:lnT>
                    <a:lnB w="5760">
                      <a:solidFill>
                        <a:srgbClr val="4648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dverse Events (A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866880" y="4986360"/>
            <a:ext cx="768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Included: Pulmonary AE (n = 1) and sudden death (n =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464847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Included: Pulmonary, hemorrhagic AEs (n = 2 each), thrombosis (n =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42440" y="117288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457200" t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tients on the high-dose arms had a 56% greater risk of death than patients on the standard-dose arms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a higher rate of local esophagitis in the high-dose arms (20.9% vs 7%)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rates of local failure were higher on the high-dose arms. This does not account for the overall survival differenc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ere was a 37% increased risk of developing local failure in the high-dose arm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re was no clear reason for the poorer survival on the high-dose arms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Possible reasons include unreported toxicities, increased heart dose, extended therapy, Grade 5 events or a combination of these factors.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457200" y="60469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Bradley JD et al. </a:t>
            </a:r>
            <a:r>
              <a:rPr b="0" i="1" lang="en-US" sz="2000" spc="-1" strike="noStrike">
                <a:solidFill>
                  <a:srgbClr val="93cddd"/>
                </a:solidFill>
                <a:latin typeface="Arial"/>
              </a:rPr>
              <a:t>Proc ASCO </a:t>
            </a:r>
            <a:r>
              <a:rPr b="0" lang="en-US" sz="2000" spc="-1" strike="noStrike">
                <a:solidFill>
                  <a:srgbClr val="93cddd"/>
                </a:solidFill>
                <a:latin typeface="Arial"/>
              </a:rPr>
              <a:t>2013;Abstract 7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28:02Z</dcterms:created>
  <dc:creator>Research To Practice</dc:creator>
  <dc:description/>
  <cp:keywords/>
  <dc:language>en-US</dc:language>
  <cp:lastModifiedBy>Aura Herrmann</cp:lastModifiedBy>
  <cp:lastPrinted>2013-03-06T20:38:39Z</cp:lastPrinted>
  <dcterms:modified xsi:type="dcterms:W3CDTF">2013-07-22T21:04:08Z</dcterms:modified>
  <cp:revision>730</cp:revision>
  <dc:subject/>
  <dc:title>Research To Practice</dc:title>
</cp:coreProperties>
</file>