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C90-CC82-497A-85BA-AF9D22A3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989-EE87-4E3D-9473-B0DC48A2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E82-D78C-4B8D-B740-F6E8B515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7C6-C466-4E51-87A4-418827A8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355-63BA-4DB5-B12D-895FF322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CB84-CD43-458C-BDC3-88374237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46F5-8873-457D-BE73-CCA502D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BB0D-966D-4FA1-AA2C-25E6377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523-CEA6-476C-B3A8-C74C443E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28A-2AF0-4241-AAC7-D19FECE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337-2267-4974-8A3E-3EC973A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F90-A093-460E-9961-197FCD3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2F46-9524-41B4-B7B5-ADA6FB6E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5A0B-331A-4B8D-BE96-69ECB76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6D81-B92F-4A4C-9DB6-E919FE1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B323-C822-405E-8869-71E621E0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B3D0-BC6D-4758-9D94-0B33E957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49A-8244-4C97-AA51-C39023A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F842-28CD-4007-BD80-541A8714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A872-9F80-440C-BE28-8C624111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5DDF-30B5-40CE-A5AB-89D7289D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24F-F6BE-41C5-9E30-D96DBBA1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DAE1-3368-4FBC-9C08-410AD2A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8FE2-01FC-4ADB-9877-FF81681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BD40-93A6-43B9-B3DF-7023957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82DE-7FD4-41AA-A0BF-182F2B6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C7D2-D2BD-48EB-B8C9-DE45819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B0A3-799B-477E-8726-4846200A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28D4-2917-4045-AC26-2AC2D6AA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24A5-1258-40F3-89AD-1C487EA3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8880-AD33-461C-AE79-ED5F23F8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11B-3AE3-4C54-BA77-63BE87A8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B19-6423-4E5B-9AE7-0D10BF4C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2B51-0D94-42BE-BCDF-6A912695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443E-E348-437A-9614-0DED82F4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5010-4F72-486C-9C7E-2EB4594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7AC5-9605-4823-9DF9-206A1548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4C0C-588D-4CCC-A051-831DFF8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A56E-ADB8-4074-8877-706014CC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4E6E-3EF0-4D18-8870-ABDF81C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4DD8-B3F2-4509-84D2-ABD2DB5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6B6D-5B37-4449-996D-DB11209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357-063B-41FD-9C4E-BCDD0C3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D68B-118B-4D52-AD02-558586FE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21A2-4273-4F87-941D-B7533BD8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9874-6332-49B6-A3F5-41430194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86B-52E2-4C85-B537-D26E367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69E-973D-424E-A9CA-8545A9CD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2CF9E-040C-4C28-8BF0-5EB7CF05F7B3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AD38D-4B85-46D0-AA06-FE69032BB3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8B068-8E57-43DB-8D08-D2875C40412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2205C-B2D1-429E-8D2F-D6A116E7674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1FA38-86E8-4793-94EB-98A090103D2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5F303-530A-4C4C-96E5-DF882D77CC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74D96-3F94-422B-8A85-EFCC5ABED2B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CE06B-656C-446E-B19C-C9ABFCAC2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444600"/>
            <a:ext cx="835848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NOUNCE: Randomized, Open-Label, Phase 3 Study of Pemetrexed (Pem) + Carboplatin (Cb) Followed by Maintenance Pemetrexed vs Paclitaxel (Pac) + Carboplatin + Bevacizumab (Bev) Followed by Maintenance Bevacizumab in Patients with Advanced Non-Squamous Non-Small-Cell Lung Cancer (NS-NSCLC)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hase 3 Study of Pemetrexed (Pem)+Carboplatin (Cb)+Bevacizumab (Bev) Followed by Maintenance Pem+Bev versus Paclitaxel (Pac)+Cb+Bev Followed by Maintenance Bev in Stage IIIB or IV Nonsquamous Non-Small Cell Lung Cancer (NS-NSCLC): Overall and Age Group Result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baseline="30000">
                <a:solidFill>
                  <a:srgbClr val="464847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inner R et al.</a:t>
            </a:r>
            <a:br>
              <a:rPr sz="2200"/>
            </a:b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LBA8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baseline="30000">
                <a:solidFill>
                  <a:srgbClr val="464847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cinski MA et al.</a:t>
            </a:r>
            <a:br>
              <a:rPr sz="2200"/>
            </a:b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795240" y="1523880"/>
          <a:ext cx="7497720" cy="3586320"/>
        </p:xfrm>
        <a:graphic>
          <a:graphicData uri="http://schemas.openxmlformats.org/drawingml/2006/table">
            <a:tbl>
              <a:tblPr/>
              <a:tblGrid>
                <a:gridCol w="2433600"/>
                <a:gridCol w="1881360"/>
                <a:gridCol w="1787400"/>
                <a:gridCol w="1395360"/>
              </a:tblGrid>
              <a:tr h="398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(n = 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(n = 1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hemorrhagic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ensory neuropath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774720" y="508968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0535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imary objective of the study was not me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10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 + Cb was not superior to Pac + Cb + Bev in terms of G4PF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FS and OS results were similar between patient groups treated with Pem + Cb and those who received Pac + Cb + Bev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ere no unexpected toxic effec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oxicity profiles for both regimens were differe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10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Both regimens demonstrated tolerability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t is uncertain whether the primary endpoint of G4PFS is optimal, especially when some of the Grade 4 toxicities were not clinically relevan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4% of patients treated with Pem experienced Grade 3/4 thrombocytopenia, but only 1% had hemorrhag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49% of patients who received Pac experienced Grade 3/4 neutropenia, but only 2% developed febrile neutropenia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ost important, PFS and OS benefits were similar between treatment a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owever, this is a small trial of only 350 patients that is not sufficiently powered to detect differences in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does not provide definitive answers about whether these 2 regimens are equally effectiv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ase 3 Study of Pemetrexed (Pem)+Carboplatin (Cb)+Bevacizumab (Bev) Followed by Maintenance Pem+Bev versus Paclitaxel (Pac)+Cb+Bev Followed by Maintenance Bev in Stage IIIB or IV Nonsquamous Non-Small Cell Lung Cancer (NS-NSCLC): Overall and Age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ocinski MA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c + Cb + Bev followed by maintenance Bev significantly improved overall survival (OS) compared to Pac + Cb alone in the Phase II/III ECOG-E4599 trial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t hoc analysis of a subgroup of elderly patients &gt;70 years demonstrated more toxicity without OS benefit with the addition of Bev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ointBreak trial did not meet its primary endpoint and demonstrated that OS with Pem + Cb + Bev followed by Pem + Bev was not superior to Pac + Cb + Bev followed by Bev maintenance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IASLC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Abstract LBPL1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the PointBreak study treatment regimens for patients with advanced NSCLC according to age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698400" y="1576440"/>
          <a:ext cx="2908440" cy="343692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377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93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999160">
                <a:tc>
                  <a:txBody>
                    <a:bodyPr lIns="90000" rIns="90000" anchor="t">
                      <a:noAutofit/>
                    </a:bodyPr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ge IIIB-IV NS-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prior systemic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erapy for NS-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treated brain metast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≥Grade 1 P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uncontrolled pleural effus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ointBreak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"/>
          <p:cNvSpPr/>
          <p:nvPr/>
        </p:nvSpPr>
        <p:spPr>
          <a:xfrm>
            <a:off x="3600360" y="3108240"/>
            <a:ext cx="1235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4818240" y="2619000"/>
            <a:ext cx="158400" cy="655560"/>
            <a:chOff x="4818240" y="2619000"/>
            <a:chExt cx="158400" cy="655560"/>
          </a:xfrm>
        </p:grpSpPr>
        <p:sp>
          <p:nvSpPr>
            <p:cNvPr id="312" name="Line 14"/>
            <p:cNvSpPr/>
            <p:nvPr/>
          </p:nvSpPr>
          <p:spPr>
            <a:xfrm flipV="1">
              <a:off x="4818240" y="261900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4818240" y="2619360"/>
              <a:ext cx="1584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6"/>
          <p:cNvGrpSpPr/>
          <p:nvPr/>
        </p:nvGrpSpPr>
        <p:grpSpPr>
          <a:xfrm>
            <a:off x="4818240" y="2959200"/>
            <a:ext cx="158400" cy="677880"/>
            <a:chOff x="4818240" y="2959200"/>
            <a:chExt cx="158400" cy="677880"/>
          </a:xfrm>
        </p:grpSpPr>
        <p:sp>
          <p:nvSpPr>
            <p:cNvPr id="315" name="Line 17"/>
            <p:cNvSpPr/>
            <p:nvPr/>
          </p:nvSpPr>
          <p:spPr>
            <a:xfrm>
              <a:off x="4818240" y="295920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818240" y="3636720"/>
              <a:ext cx="15840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Oval 4"/>
          <p:cNvSpPr/>
          <p:nvPr/>
        </p:nvSpPr>
        <p:spPr>
          <a:xfrm>
            <a:off x="3703680" y="2595600"/>
            <a:ext cx="1004760" cy="100332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058160" y="2243160"/>
          <a:ext cx="1336680" cy="6951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7058160" y="3251160"/>
          <a:ext cx="1349280" cy="695520"/>
        </p:xfrm>
        <a:graphic>
          <a:graphicData uri="http://schemas.openxmlformats.org/drawingml/2006/table">
            <a:tbl>
              <a:tblPr/>
              <a:tblGrid>
                <a:gridCol w="13492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2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0" name="Line 15"/>
          <p:cNvSpPr/>
          <p:nvPr/>
        </p:nvSpPr>
        <p:spPr>
          <a:xfrm>
            <a:off x="6781680" y="261144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770520" y="363708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4911840" y="15764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900840" y="157320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3720960" y="4021200"/>
            <a:ext cx="4800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c, 2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976640" y="2243160"/>
          <a:ext cx="1868760" cy="695160"/>
        </p:xfrm>
        <a:graphic>
          <a:graphicData uri="http://schemas.openxmlformats.org/drawingml/2006/table">
            <a:tbl>
              <a:tblPr/>
              <a:tblGrid>
                <a:gridCol w="18687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72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976640" y="3262320"/>
          <a:ext cx="1893960" cy="695160"/>
        </p:xfrm>
        <a:graphic>
          <a:graphicData uri="http://schemas.openxmlformats.org/drawingml/2006/table">
            <a:tbl>
              <a:tblPr/>
              <a:tblGrid>
                <a:gridCol w="18939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67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31"/>
          <p:cNvSpPr/>
          <p:nvPr/>
        </p:nvSpPr>
        <p:spPr>
          <a:xfrm>
            <a:off x="698400" y="5141880"/>
            <a:ext cx="79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812880" y="1359000"/>
          <a:ext cx="7442280" cy="3962160"/>
        </p:xfrm>
        <a:graphic>
          <a:graphicData uri="http://schemas.openxmlformats.org/drawingml/2006/table">
            <a:tbl>
              <a:tblPr/>
              <a:tblGrid>
                <a:gridCol w="2793960"/>
                <a:gridCol w="1346040"/>
                <a:gridCol w="1193760"/>
                <a:gridCol w="990720"/>
                <a:gridCol w="1117800"/>
              </a:tblGrid>
              <a:tr h="774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35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TT (n = 472,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 years (n = 354, 3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5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2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0 years (n = 118,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6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4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 years (n = 420, 4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5 years (n = 52, 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3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9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: ITT Population and Age Sub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12880" y="1308240"/>
          <a:ext cx="7442280" cy="3846240"/>
        </p:xfrm>
        <a:graphic>
          <a:graphicData uri="http://schemas.openxmlformats.org/drawingml/2006/table">
            <a:tbl>
              <a:tblPr/>
              <a:tblGrid>
                <a:gridCol w="2793960"/>
                <a:gridCol w="1346040"/>
                <a:gridCol w="1193760"/>
                <a:gridCol w="990720"/>
                <a:gridCol w="1117800"/>
              </a:tblGrid>
              <a:tr h="752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1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TT (n = 472, 4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 years (n = 354, 3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3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0 years (n = 118,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5 years (n = 420, 4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6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18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&gt;75 years (n = 52, 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0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: ITT Population and Age Sub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812880" y="5203800"/>
            <a:ext cx="76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FS = progression-free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795240" y="1257480"/>
          <a:ext cx="7510680" cy="3997080"/>
        </p:xfrm>
        <a:graphic>
          <a:graphicData uri="http://schemas.openxmlformats.org/drawingml/2006/table">
            <a:tbl>
              <a:tblPr/>
              <a:tblGrid>
                <a:gridCol w="2392560"/>
                <a:gridCol w="927000"/>
                <a:gridCol w="838080"/>
                <a:gridCol w="838440"/>
                <a:gridCol w="838080"/>
                <a:gridCol w="804960"/>
                <a:gridCol w="871560"/>
              </a:tblGrid>
              <a:tr h="36324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/4 A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≤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70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75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em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5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ebrile neutrope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uropathy/sen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morrhag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hromboembolic ev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ope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.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9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028880" y="5292720"/>
            <a:ext cx="74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GI/pulmo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imary endpoint of superior OS was not met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TT population: HR, 1.00;</a:t>
            </a: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= 0.949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secondary endpoint of median PFS was 6.0 months (Pem + Cb + Bev) vs 5.6 months (Pac + Cb + Bev) (HR, 0.83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= 0.01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FS was statistically prolonged with Pem + Cb + Bev for the younger subgroups (≤70 or ≤75 years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no difference in PFS for the older populations (&gt;70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r &gt;75 years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oth regimens demonstrated tolerability in all age subgroup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lderly patients (defined by age &gt;70 or &gt;75 years) did not appear to experience a greater incidence of AEs compared to the overall study populati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ocinski MA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442800" y="203040"/>
            <a:ext cx="822636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NOUNCE: Randomized, Open-Label, Phase 3 Study of Pemetrexed (Pem) + Carboplatin (Cb) Followed by Maintenance Pemetrexed vs Paclitaxel (Pac) + Carboplatin + Bevacizumab (Bev) Followed by Maintenance Bevacizumab in Patients with Advanced Non-Squamous Non-Small-Cell Lung Cancer (NS-NSC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Zinner 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LBA8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PointBreak trial was a pragmatic and ambitious study of more than 900 patients that addressed 2 questions about benefits during induction therapy with/without maintenance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Overall, there was an improvement in PFS but not OS with Pem + Cb + Bev compared to Pac + Cb + Bev. 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study demonstrated a clear difference in toxicity profile between the 2 regimen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In contrast to the trial hypothesis, treatment with Pem + Cb + Bev followed by Pem + Bev maintenance led to similar outcomes to those seen with Pac + Cb + Bev followed by Bev maintenance therapy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464847"/>
                </a:solidFill>
                <a:latin typeface="Arial"/>
              </a:rPr>
              <a:t>The trial demonstrated that fit elderly patients with advanced nonsquamous NSCLC are eligible for both treatment regimens.</a:t>
            </a:r>
            <a:endParaRPr b="0" lang="en-US" sz="19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Paz-Ares L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em/Cb and Pac/Cb are effective regimens in advanc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6;355:2542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Cancer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5;104:244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hase III trials showed that single-agent Pem improves overall survival when administered as maintenance or second-line therapy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9;374:1432;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04;22:1589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74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Pem + Cb followed by Pem maintenance to that of Pac + Cb + Bev followed by Bev maintenance for patients with advanc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698400" y="1258920"/>
          <a:ext cx="2908440" cy="326232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31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3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83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 with Stage IV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-NSC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 naï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 0/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treated CNS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tast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uncontrolled ple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ffus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Rectangle 31"/>
          <p:cNvSpPr/>
          <p:nvPr/>
        </p:nvSpPr>
        <p:spPr>
          <a:xfrm>
            <a:off x="698400" y="4557600"/>
            <a:ext cx="78091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PFS without Grade 4 adverse events (G4P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stratified by PS (0 vs 1), sex (M vs F) and disease stage (M1a vs M1b) prior to random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PRONOUNCE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3600360" y="2790720"/>
            <a:ext cx="12351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818240" y="2301480"/>
            <a:ext cx="284040" cy="655560"/>
            <a:chOff x="4818240" y="2301480"/>
            <a:chExt cx="284040" cy="655560"/>
          </a:xfrm>
        </p:grpSpPr>
        <p:sp>
          <p:nvSpPr>
            <p:cNvPr id="256" name="Line 14"/>
            <p:cNvSpPr/>
            <p:nvPr/>
          </p:nvSpPr>
          <p:spPr>
            <a:xfrm flipV="1">
              <a:off x="4818240" y="2301480"/>
              <a:ext cx="0" cy="65556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4818240" y="2301840"/>
              <a:ext cx="28404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4818240" y="2641680"/>
            <a:ext cx="284040" cy="677880"/>
            <a:chOff x="4818240" y="2641680"/>
            <a:chExt cx="284040" cy="677880"/>
          </a:xfrm>
        </p:grpSpPr>
        <p:sp>
          <p:nvSpPr>
            <p:cNvPr id="259" name="Line 17"/>
            <p:cNvSpPr/>
            <p:nvPr/>
          </p:nvSpPr>
          <p:spPr>
            <a:xfrm>
              <a:off x="4818240" y="2641680"/>
              <a:ext cx="0" cy="67788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4818240" y="3319200"/>
              <a:ext cx="284040" cy="0"/>
            </a:xfrm>
            <a:prstGeom prst="line">
              <a:avLst/>
            </a:prstGeom>
            <a:ln w="28440">
              <a:solidFill>
                <a:srgbClr val="7678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4"/>
          <p:cNvSpPr/>
          <p:nvPr/>
        </p:nvSpPr>
        <p:spPr>
          <a:xfrm>
            <a:off x="3703680" y="2278080"/>
            <a:ext cx="1004760" cy="100332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058160" y="1925640"/>
          <a:ext cx="1247760" cy="69516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058160" y="2933640"/>
          <a:ext cx="1247760" cy="695520"/>
        </p:xfrm>
        <a:graphic>
          <a:graphicData uri="http://schemas.openxmlformats.org/drawingml/2006/table">
            <a:tbl>
              <a:tblPr/>
              <a:tblGrid>
                <a:gridCol w="124776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4" name="Line 15"/>
          <p:cNvSpPr/>
          <p:nvPr/>
        </p:nvSpPr>
        <p:spPr>
          <a:xfrm>
            <a:off x="6781680" y="229392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6770520" y="3319560"/>
            <a:ext cx="28440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4911840" y="125892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Induc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, 4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5"/>
          <p:cNvSpPr/>
          <p:nvPr/>
        </p:nvSpPr>
        <p:spPr>
          <a:xfrm>
            <a:off x="6900840" y="125568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ainten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q21d until P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1"/>
          <p:cNvSpPr/>
          <p:nvPr/>
        </p:nvSpPr>
        <p:spPr>
          <a:xfrm>
            <a:off x="3720960" y="3703680"/>
            <a:ext cx="4800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em, 5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c, 200 mg/m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; Cb, AUC 6; Bev, 15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114880" y="1925640"/>
          <a:ext cx="1781280" cy="695160"/>
        </p:xfrm>
        <a:graphic>
          <a:graphicData uri="http://schemas.openxmlformats.org/drawingml/2006/table">
            <a:tbl>
              <a:tblPr/>
              <a:tblGrid>
                <a:gridCol w="17812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82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102280" y="2944800"/>
          <a:ext cx="1793880" cy="695160"/>
        </p:xfrm>
        <a:graphic>
          <a:graphicData uri="http://schemas.openxmlformats.org/drawingml/2006/table">
            <a:tbl>
              <a:tblPr/>
              <a:tblGrid>
                <a:gridCol w="1793880"/>
              </a:tblGrid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79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927000" y="1486080"/>
          <a:ext cx="7086600" cy="3035160"/>
        </p:xfrm>
        <a:graphic>
          <a:graphicData uri="http://schemas.openxmlformats.org/drawingml/2006/table">
            <a:tbl>
              <a:tblPr/>
              <a:tblGrid>
                <a:gridCol w="2835360"/>
                <a:gridCol w="2125800"/>
                <a:gridCol w="2125440"/>
              </a:tblGrid>
              <a:tr h="876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1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G4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9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Endpoint: G4PFS (ITT Population*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812880" y="475776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ne patient was randomly assigned to Pac + Cb + Bev but received Pem + Cb and was analyzed per ITT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iJournal_Lung_Socinski-ZinnerGraph1.png"/>
          <p:cNvPicPr/>
          <p:nvPr/>
        </p:nvPicPr>
        <p:blipFill>
          <a:blip r:embed="rId1"/>
          <a:srcRect l="6527" t="3287" r="3523" b="233"/>
          <a:stretch/>
        </p:blipFill>
        <p:spPr>
          <a:xfrm>
            <a:off x="341280" y="1473120"/>
            <a:ext cx="8371080" cy="37893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is of G4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457200" y="6046920"/>
            <a:ext cx="836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1892160" y="5052960"/>
            <a:ext cx="31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em+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5110200" y="5068800"/>
            <a:ext cx="316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ac+Cb+Bev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 (95% 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12880" y="1486080"/>
          <a:ext cx="7442280" cy="2920680"/>
        </p:xfrm>
        <a:graphic>
          <a:graphicData uri="http://schemas.openxmlformats.org/drawingml/2006/table">
            <a:tbl>
              <a:tblPr/>
              <a:tblGrid>
                <a:gridCol w="1904760"/>
                <a:gridCol w="1549440"/>
                <a:gridCol w="1879560"/>
                <a:gridCol w="990720"/>
                <a:gridCol w="1117800"/>
              </a:tblGrid>
              <a:tr h="8427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690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7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-y O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693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-y O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 (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Analysis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046920"/>
            <a:ext cx="836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5052960"/>
            <a:ext cx="31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em+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5110200" y="5068800"/>
            <a:ext cx="316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s Pac+Cb+Bev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 (95% 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iJournal_Lung_Socinski-ZinnerGraph2.png"/>
          <p:cNvPicPr/>
          <p:nvPr/>
        </p:nvPicPr>
        <p:blipFill>
          <a:blip r:embed="rId1"/>
          <a:srcRect l="7639" t="0" r="5000" b="0"/>
          <a:stretch/>
        </p:blipFill>
        <p:spPr>
          <a:xfrm>
            <a:off x="558720" y="1498680"/>
            <a:ext cx="79884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812880" y="1473120"/>
          <a:ext cx="7442280" cy="3111480"/>
        </p:xfrm>
        <a:graphic>
          <a:graphicData uri="http://schemas.openxmlformats.org/drawingml/2006/table">
            <a:tbl>
              <a:tblPr/>
              <a:tblGrid>
                <a:gridCol w="1879560"/>
                <a:gridCol w="1600200"/>
                <a:gridCol w="1854000"/>
                <a:gridCol w="990720"/>
                <a:gridCol w="1117800"/>
              </a:tblGrid>
              <a:tr h="9669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 + Cb + B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1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5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5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16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96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Zinner 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LBA8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812880" y="4782960"/>
            <a:ext cx="74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CR = disease control rate; NR = not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7-22T16:57:06Z</cp:lastPrinted>
  <dcterms:modified xsi:type="dcterms:W3CDTF">2013-07-22T18:49:50Z</dcterms:modified>
  <cp:revision>708</cp:revision>
  <dc:subject/>
  <dc:title>Research To Practice</dc:title>
</cp:coreProperties>
</file>