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B6AC-DDCE-4A14-B730-57C6D612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6EB4-3506-476F-A354-D0B17E7C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8A20D-3F29-4F6F-BAF0-39E2E454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D860B-C001-4EFE-8671-D1C279F3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4854F-DF80-4CDE-BEFB-6F348C59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2DA80-551A-4F38-8E3A-2A69E3A4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B701D-1602-45F5-B41F-A83C275E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0DDD0-34B3-48C4-B6CF-ED7DE4C9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73E72-E238-4672-B144-CCDF8B28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834E0-C195-4EBC-8D12-3990B5F0E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AED35-2440-4E64-824A-28A63B17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42B9-3025-48EE-8394-4FF7ABCF8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6352-2BC1-40E9-942C-457236E9B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1F9C-B20F-40D8-BEB2-A5682AA8B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8BA5-989A-4166-A8A6-F6C42F2E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2A71-4F80-4D47-BDCE-D228C72B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E571-2CBF-4C93-9096-71DEEB91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954D-9359-4541-A3CD-88ED00B0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3229-8955-40CF-8543-149EA775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9AEB-D0C7-4973-B4C8-0251CA35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0315-5E9D-43F7-B391-C9262B97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CA48-AA29-4787-B5F2-CD884E52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D9A3-ED13-48E4-A13F-C077D6A2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31B5-38E4-4432-9FA2-54B3F845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F26A-F8A7-4B26-94A8-5AE20986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26F8-024D-4806-989A-8BF4111E7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BCB35-297A-4492-A723-B295EA19E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8BACE-DBA0-4329-9982-FC402A1D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8CE84-46E8-4528-8673-DB568247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767EC-D086-4EF7-8441-AC7FC2FB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68F1C-93E6-4A4D-A86F-57778029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D9C5-0067-4FBB-96B0-8A072BBB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569C7-6C85-4E22-BA52-B8DE79F0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0FDFF-90A6-47F8-9CFE-D06911F2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6AB1C-04A4-4227-8F7A-FB9B5A40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E0585-F7C6-4E62-A358-A0EA3815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AC410-AA4D-4BC7-9248-B04B84C9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E9D4A-A211-4C4E-96C3-CB118C6D6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35A06-D1B9-4A4E-B6E6-B458BD372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5476-6C5F-49DD-A617-E5364208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92C59-36D0-49F8-9F00-09E74A3D0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41A5-6DD2-4871-AC17-CA0DB0C6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58330-3818-4BFF-8F90-F23F3543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60692-F9AC-4767-B0F2-5C25BC4C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C5A61-2D05-4F1F-973B-0A4EE8ED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AC295-7186-435E-95EE-8C746E7A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33D7E-C2B0-449C-B5A7-E33128E8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CBEE7-405E-428F-9E62-9C2E8F56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82CB4-66C5-49AD-8B23-DB657FCD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97317-1E34-48BE-B0FE-150C8480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87EE2-094C-4815-BEB1-D74C189D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78ECD-EB25-48FB-8E51-4811CACB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B57A-62CD-4B01-AD4E-164923BF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3E9F5-8326-44EF-966B-FC701FA76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1343-6980-4C39-BEFE-0119DCA9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135A3-DA3B-44AB-961D-0A0C33D3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A6E76-1DF5-486A-9259-123F8088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06A99-5903-482E-9759-69E1F928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F569B-5E0A-42C1-A0D3-A2D1F798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1043F-DF1D-40E5-A50C-2576E4C1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C7B77-DA0A-4FFB-B157-2224A9F2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DE9E5-A450-4863-9096-6D103A88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F8D8-E514-4551-8FF5-3F9AD3EB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3CC7A-71F8-4E25-801F-3F2906BB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A7E62-C670-4F0F-84C4-AE2479A6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3D79F-D4C8-44E9-B2B9-02494FF7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FFA86-B3AA-4203-9798-1E897EE8C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3C389-6E65-41C0-A960-78C76D11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48B9-FCF3-491D-87BD-054E351D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B7B98-9FE6-481F-8612-340F07E4B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C25B7-E824-47CC-A96D-B67B2254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F7ACC-94CF-4285-864A-CD2D10D6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CFF4A5-A6E2-45DE-9945-4AD84EDF312D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6379AF-FCD8-4300-9811-CBA814DA6E9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CDF3D4-3832-4C20-92D1-3E2F6F0A6D22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A30CFB-1AEE-4B69-87F4-FC82E15EA94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6178BD-0BAC-4FB3-9715-B5096E564634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00915A-7079-4AF2-B477-F7BAD35F59AA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6E290A-ED7F-499A-9E4A-9ADDC18EDB36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79222A-1676-477B-9B66-DA64E446238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539DD0-2536-4415-BC17-E302AEBE331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1A11B5-6974-4B30-8194-1C6BC70876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21B627-C4DE-4806-8F99-0BC49229752B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A4FE62-6F7C-44EB-92F8-6358FE3FE5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MOUNT: Final Overall Survival Results of the Phase III Study of Maintenance Pemetrexed versus Placebo Immediately After Induction Treatment with Pemetrexed plus Cisplatin for Advanced Nonsquamous Non-Small-Cell Lung 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Paz-Ares LG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J Clin Oncol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3;[Epub ahead of print]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9688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Most patients have Stage IIIB or IV non-small cell lung cancer (NSCLC) when diagnosed, and platinum-based doublets are recommended as first-line therapy for those with a PS of 0 or 1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JCO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09;27:6251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emetrexed (Pem) has demonstrated efficacy in advanced nonsquamous NSCLC (NS-NSCLC) in combination with cisplatin (Cis) and as maintenance therapy after non-Pem/platinum doublets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JCO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08;26:3543; 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Lancet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09;374:1432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Phase III PARAMOUNT trial showed that Pem continuation maintenance therapy significantly reduced the risk of disease progression compared to placebo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Lancet Oncol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12;13:247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Report the results of the final overall survival (OS) analysis of the PARAMOUNT trial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z-Ares LG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698400" y="1865160"/>
          <a:ext cx="2908440" cy="1387800"/>
        </p:xfrm>
        <a:graphic>
          <a:graphicData uri="http://schemas.openxmlformats.org/drawingml/2006/table">
            <a:tbl>
              <a:tblPr/>
              <a:tblGrid>
                <a:gridCol w="2908440"/>
              </a:tblGrid>
              <a:tr h="3970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(N = 93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990720">
                <a:tc>
                  <a:txBody>
                    <a:bodyPr lIns="90000" rIns="90000" anchor="t">
                      <a:noAutofit/>
                    </a:bodyPr>
                    <a:p>
                      <a:pPr marL="177840" indent="-177840">
                        <a:spcBef>
                          <a:spcPts val="60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eviously untreated Stage IIIB/IV NS-NSCL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60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COG PS 0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2" name="Rectangle 31"/>
          <p:cNvSpPr/>
          <p:nvPr/>
        </p:nvSpPr>
        <p:spPr>
          <a:xfrm>
            <a:off x="698400" y="4786200"/>
            <a:ext cx="79884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95000"/>
              </a:lnSpc>
              <a:spcBef>
                <a:spcPts val="201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Primary endpoint: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Progression-free survival (PF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5000"/>
              </a:lnSpc>
              <a:spcBef>
                <a:spcPts val="201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Final OS analysis occurred after ≥390 de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II PARAMOUNT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6735600" y="1900080"/>
          <a:ext cx="1704960" cy="695520"/>
        </p:xfrm>
        <a:graphic>
          <a:graphicData uri="http://schemas.openxmlformats.org/drawingml/2006/table">
            <a:tbl>
              <a:tblPr/>
              <a:tblGrid>
                <a:gridCol w="1704960"/>
              </a:tblGrid>
              <a:tr h="695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em + BS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35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6735600" y="2682720"/>
          <a:ext cx="1704960" cy="695520"/>
        </p:xfrm>
        <a:graphic>
          <a:graphicData uri="http://schemas.openxmlformats.org/drawingml/2006/table">
            <a:tbl>
              <a:tblPr/>
              <a:tblGrid>
                <a:gridCol w="1704960"/>
              </a:tblGrid>
              <a:tr h="695520">
                <a:tc>
                  <a:txBody>
                    <a:bodyPr lIns="0" r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lacebo + BS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18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6" name="Line 2"/>
          <p:cNvSpPr/>
          <p:nvPr/>
        </p:nvSpPr>
        <p:spPr>
          <a:xfrm>
            <a:off x="5097600" y="2714760"/>
            <a:ext cx="140796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20"/>
          <p:cNvGrpSpPr/>
          <p:nvPr/>
        </p:nvGrpSpPr>
        <p:grpSpPr>
          <a:xfrm>
            <a:off x="6487560" y="2276280"/>
            <a:ext cx="229320" cy="814680"/>
            <a:chOff x="6487560" y="2276280"/>
            <a:chExt cx="229320" cy="814680"/>
          </a:xfrm>
        </p:grpSpPr>
        <p:sp>
          <p:nvSpPr>
            <p:cNvPr id="378" name="Line 14"/>
            <p:cNvSpPr/>
            <p:nvPr/>
          </p:nvSpPr>
          <p:spPr>
            <a:xfrm flipV="1">
              <a:off x="6488280" y="2276280"/>
              <a:ext cx="0" cy="655560"/>
            </a:xfrm>
            <a:prstGeom prst="line">
              <a:avLst/>
            </a:prstGeom>
            <a:ln w="28440">
              <a:solidFill>
                <a:srgbClr val="7679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5"/>
            <p:cNvSpPr/>
            <p:nvPr/>
          </p:nvSpPr>
          <p:spPr>
            <a:xfrm>
              <a:off x="6488280" y="2276640"/>
              <a:ext cx="228600" cy="0"/>
            </a:xfrm>
            <a:prstGeom prst="line">
              <a:avLst/>
            </a:prstGeom>
            <a:ln w="28440">
              <a:solidFill>
                <a:srgbClr val="7679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7"/>
            <p:cNvSpPr/>
            <p:nvPr/>
          </p:nvSpPr>
          <p:spPr>
            <a:xfrm>
              <a:off x="6488280" y="2412360"/>
              <a:ext cx="0" cy="677880"/>
            </a:xfrm>
            <a:prstGeom prst="line">
              <a:avLst/>
            </a:prstGeom>
            <a:ln w="28440">
              <a:solidFill>
                <a:srgbClr val="7679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8"/>
            <p:cNvSpPr/>
            <p:nvPr/>
          </p:nvSpPr>
          <p:spPr>
            <a:xfrm>
              <a:off x="6487560" y="3090960"/>
              <a:ext cx="228600" cy="0"/>
            </a:xfrm>
            <a:prstGeom prst="line">
              <a:avLst/>
            </a:prstGeom>
            <a:ln w="28440">
              <a:solidFill>
                <a:srgbClr val="7679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Oval 4"/>
          <p:cNvSpPr/>
          <p:nvPr/>
        </p:nvSpPr>
        <p:spPr>
          <a:xfrm>
            <a:off x="5554800" y="2328840"/>
            <a:ext cx="752400" cy="7524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3911760" y="2367000"/>
          <a:ext cx="1247760" cy="695160"/>
        </p:xfrm>
        <a:graphic>
          <a:graphicData uri="http://schemas.openxmlformats.org/drawingml/2006/table">
            <a:tbl>
              <a:tblPr/>
              <a:tblGrid>
                <a:gridCol w="1247760"/>
              </a:tblGrid>
              <a:tr h="695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em/C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93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4" name="Line 15"/>
          <p:cNvSpPr/>
          <p:nvPr/>
        </p:nvSpPr>
        <p:spPr>
          <a:xfrm>
            <a:off x="3618000" y="2719440"/>
            <a:ext cx="284040" cy="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4"/>
          <p:cNvSpPr/>
          <p:nvPr/>
        </p:nvSpPr>
        <p:spPr>
          <a:xfrm>
            <a:off x="3502080" y="1744560"/>
            <a:ext cx="206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464847"/>
                </a:solidFill>
                <a:uFillTx/>
                <a:latin typeface="Arial"/>
              </a:rPr>
              <a:t>Induction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464847"/>
                </a:solidFill>
                <a:uFillTx/>
                <a:latin typeface="Arial"/>
              </a:rPr>
              <a:t>q21d, 4 cy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25"/>
          <p:cNvSpPr/>
          <p:nvPr/>
        </p:nvSpPr>
        <p:spPr>
          <a:xfrm>
            <a:off x="6746760" y="1231920"/>
            <a:ext cx="168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464847"/>
                </a:solidFill>
                <a:uFillTx/>
                <a:latin typeface="Arial"/>
              </a:rPr>
              <a:t>Maintena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464847"/>
                </a:solidFill>
                <a:uFillTx/>
                <a:latin typeface="Arial"/>
              </a:rPr>
              <a:t>q21d until P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z-Ares LG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4"/>
          <p:cNvSpPr/>
          <p:nvPr/>
        </p:nvSpPr>
        <p:spPr>
          <a:xfrm>
            <a:off x="5268960" y="1744560"/>
            <a:ext cx="132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CR/PR/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(n = 53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31"/>
          <p:cNvSpPr/>
          <p:nvPr/>
        </p:nvSpPr>
        <p:spPr>
          <a:xfrm>
            <a:off x="698400" y="3605040"/>
            <a:ext cx="77313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Pem, 500 mg/m</a:t>
            </a:r>
            <a:r>
              <a:rPr b="0" lang="en-US" sz="1700" spc="-1" strike="noStrike" baseline="30000">
                <a:solidFill>
                  <a:srgbClr val="464847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; Cis, 75 mg/m</a:t>
            </a:r>
            <a:r>
              <a:rPr b="0" lang="en-US" sz="1700" spc="-1" strike="noStrike" baseline="30000">
                <a:solidFill>
                  <a:srgbClr val="464847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64847"/>
                </a:solidFill>
                <a:latin typeface="Arial"/>
              </a:rPr>
              <a:t>Folic acid and vitamin B12 received on both ar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0" name=""/>
          <p:cNvGraphicFramePr/>
          <p:nvPr/>
        </p:nvGraphicFramePr>
        <p:xfrm>
          <a:off x="888840" y="1486080"/>
          <a:ext cx="7429680" cy="3528720"/>
        </p:xfrm>
        <a:graphic>
          <a:graphicData uri="http://schemas.openxmlformats.org/drawingml/2006/table">
            <a:tbl>
              <a:tblPr/>
              <a:tblGrid>
                <a:gridCol w="1841760"/>
                <a:gridCol w="1396800"/>
                <a:gridCol w="1397160"/>
                <a:gridCol w="1396800"/>
                <a:gridCol w="1397160"/>
              </a:tblGrid>
              <a:tr h="672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m random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35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ceb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8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zard ratio (H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552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.9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.0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4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ne-year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0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554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wo-year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m in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35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cebo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8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55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6.9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.0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 Analysis of OS from Random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z-Ares LG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31"/>
          <p:cNvSpPr/>
          <p:nvPr/>
        </p:nvSpPr>
        <p:spPr>
          <a:xfrm>
            <a:off x="1003320" y="5160960"/>
            <a:ext cx="59054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NR = not re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31"/>
          <p:cNvSpPr/>
          <p:nvPr/>
        </p:nvSpPr>
        <p:spPr>
          <a:xfrm>
            <a:off x="914400" y="4699080"/>
            <a:ext cx="759924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Hazard ratio &lt;1.0 favors P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urvival results were internally consistent, with benefit observed across all sub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914400" y="1434960"/>
          <a:ext cx="7391520" cy="3200400"/>
        </p:xfrm>
        <a:graphic>
          <a:graphicData uri="http://schemas.openxmlformats.org/drawingml/2006/table">
            <a:tbl>
              <a:tblPr/>
              <a:tblGrid>
                <a:gridCol w="4410000"/>
                <a:gridCol w="2981520"/>
              </a:tblGrid>
              <a:tr h="4003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 versus placeb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9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zard rati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99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age IV (n = 490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age IIIB (n = 4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00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nsmoker (n = 11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moker (n = 4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9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erandomization PS 1 (n = 36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erandomization PS 0 (n = 1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 According to Sub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z-Ares LG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888840" y="1409760"/>
          <a:ext cx="7429680" cy="2755800"/>
        </p:xfrm>
        <a:graphic>
          <a:graphicData uri="http://schemas.openxmlformats.org/drawingml/2006/table">
            <a:tbl>
              <a:tblPr/>
              <a:tblGrid>
                <a:gridCol w="1841760"/>
                <a:gridCol w="1396800"/>
                <a:gridCol w="1397160"/>
                <a:gridCol w="1396800"/>
                <a:gridCol w="1397160"/>
              </a:tblGrid>
              <a:tr h="766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/P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5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ceb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628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.5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.2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1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86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1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631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.7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.1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5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vival Outcomes for Patients Who Achieved CR/PR and SD with Induction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z-Ares LG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1"/>
          <p:cNvSpPr/>
          <p:nvPr/>
        </p:nvSpPr>
        <p:spPr>
          <a:xfrm>
            <a:off x="914400" y="4253040"/>
            <a:ext cx="74930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he study was not adequately powered to differentiate between treatments for these 2 subgroups (CR/PR or S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No significant interaction in terms of response by trea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464847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CR/PR vs SD; 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p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 = 0.7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914400" y="1612800"/>
          <a:ext cx="7493040" cy="3292560"/>
        </p:xfrm>
        <a:graphic>
          <a:graphicData uri="http://schemas.openxmlformats.org/drawingml/2006/table">
            <a:tbl>
              <a:tblPr/>
              <a:tblGrid>
                <a:gridCol w="2367000"/>
                <a:gridCol w="1336680"/>
                <a:gridCol w="1263600"/>
                <a:gridCol w="1263600"/>
                <a:gridCol w="1262160"/>
              </a:tblGrid>
              <a:tr h="3661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erse 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 (n = 35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cebo (n = 18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3/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3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atig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7.5%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7%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.6%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1%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aus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.4%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2%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.7%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4%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4%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%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Vom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.5%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1%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ucositis/stomat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5%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1%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uropathy/sens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utr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0%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8%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%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Events with Incidence of ≥2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31"/>
          <p:cNvSpPr/>
          <p:nvPr/>
        </p:nvSpPr>
        <p:spPr>
          <a:xfrm>
            <a:off x="914400" y="5014800"/>
            <a:ext cx="749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ignificant difference (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≤ 0.05) between 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z-Ares LG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lnSpc>
                <a:spcPts val="2599"/>
              </a:lnSpc>
              <a:spcBef>
                <a:spcPts val="601"/>
              </a:spcBef>
              <a:spcAft>
                <a:spcPts val="10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emetrexed continuation maintenance therapy is well tolerated and offers a superior overall survival in comparison to placebo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601"/>
              </a:spcBef>
              <a:spcAft>
                <a:spcPts val="10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survival results were not likely confounded by poststudy therapy as the use of postdiscontinuation therapy was similar in both study arms (data not shown)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601"/>
              </a:spcBef>
              <a:spcAft>
                <a:spcPts val="10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PARAMOUNT study further demonstrates that pemetrexed continuation maintenance therapy is an efficacious treatment strategy for patients with advanced nonsquamous NSCLC with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 good performance status and without progressive disease during pemetrexed-cisplatin induction therapy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z-Ares LG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8T20:29:36Z</dcterms:created>
  <dc:creator>Research To Practice</dc:creator>
  <dc:description/>
  <cp:keywords/>
  <dc:language>en-US</dc:language>
  <cp:lastModifiedBy>Silvana Izquierdo</cp:lastModifiedBy>
  <cp:lastPrinted>2013-04-25T19:06:00Z</cp:lastPrinted>
  <dcterms:modified xsi:type="dcterms:W3CDTF">2013-07-22T19:02:04Z</dcterms:modified>
  <cp:revision>716</cp:revision>
  <dc:subject/>
  <dc:title>Research To Practice</dc:title>
</cp:coreProperties>
</file>