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947-BAB0-47E9-AEC7-0828C3F4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611-60DF-448D-BE8D-CCED3486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BBA-4685-4A7D-956B-8A612E06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5F7-6636-4466-B2D5-08CAD0FD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B8C2-A9BD-4476-934B-49006FB3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783-8A3E-4A9D-92AC-44AEC2A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CE5B-44CB-4F69-825D-531F5C7E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1FF1-7207-4553-B817-2A4EE58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2B61-9C59-46F0-9C8D-B6053D0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18E-D6EC-42EE-B027-5D1BB40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219-694C-42A0-ABDF-588A063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1C6-7DA0-484E-A9A6-65AC7E1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D27E-C41B-428F-B76C-5CF3D0A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2022-29F6-442A-AC69-457E9EC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07A-72BF-4ABC-988E-457E4F46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B219-65D6-44D9-98D6-A7692D75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67C-E001-4756-9B8E-3B247369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36-960B-40D9-BADD-8CF5F96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F4BE-1C7B-4F67-B062-6C3BD611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1349-BB81-4BCF-807F-840312D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7973-6691-4554-935B-65F69C44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935-D294-4EA2-8392-F6B4D29F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87C7-DA22-4EC4-AE07-51408319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14D6-4E5A-4033-B967-DD767383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12C8-BBE8-4847-9354-3C7A5A7C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C2BE-D40D-49D7-93F1-394CA6A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810E-FB91-44AE-9453-23C3E0D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A0B5-1EA0-49A4-AE43-F39648E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1595-50EA-461B-8AE2-FCE02DDA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4935-A11E-43E6-967F-809CE2A1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AD7D-80F2-4903-BEF0-3C1F2D54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E1F-31CE-43E6-8408-DBB82CF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94A-1A10-47F5-B777-9BB42FD8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244E-36D8-410F-8995-9AB0AABD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B9F3-D0C5-4E42-81EC-612C463B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6F84-9313-4DF6-B8C3-7838E6D6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E0B1-7886-44DA-B8DA-B0808B4E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BDA2-FA61-43F6-A3DF-F8B553FB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B0E2-688C-47C5-862B-19AE019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BA7C-9AA8-49CB-A83F-1F88758E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EADF-B9BB-4B16-A056-452C503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3C82-6C96-4881-895B-0AA35477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5E5-4516-4A71-B0A0-8569886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7BDE-43F1-48FD-9010-A719B048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7DE5-0008-4887-B8FD-66EF689E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F10C-ECA2-4F9D-87DA-D0B69A52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57-87D4-4D54-8CC7-69109C7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A2C-31CA-40CF-BC50-351FE557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B7169-68CA-4C78-8A2A-32DE91E0B30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5F831-A777-4ED0-AD98-71B6121E90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A26D0-A451-4AA1-A4C7-828346E1D33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F6B3F-8AA1-4A86-8D2D-18C8C321C2B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BB729-74ED-4F42-8C79-E0F2DFC1518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6189A-C77A-43F4-B08B-85C5BE993B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A7A99-8168-4A29-9D55-DE4AB448345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FA0DF-2037-45DE-BCBE-18C2947AFB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domized Phase III Trial of Single-Agent Pemetrexed versus Carboplatin and Pemetrexed in Patients with Advanced Non-Small-Cell Lung Cancer and Eastern Cooperative Oncology Group Performance Status of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ukin M et 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[Epub ahead of print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688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is currently no standard treatment for patients with advanced NSCLC and a performance status (PS) of 2, and clinical practice ranges from best supportive care to combination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sults from several Phase III trials have suggested that patients with advanced NSCLC with a PS of 2 may have a superior outcome with platinum-based combinations versus single-agent chemotherap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5;23:190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27:5808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s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of single-agent pemetrexed to that of combination chemotherapy with pemetrexed/carboplatin as first-line therapy for patients with advanced NSCLC and a PS of 2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38080" y="1574640"/>
          <a:ext cx="3036960" cy="2374920"/>
        </p:xfrm>
        <a:graphic>
          <a:graphicData uri="http://schemas.openxmlformats.org/drawingml/2006/table">
            <a:tbl>
              <a:tblPr/>
              <a:tblGrid>
                <a:gridCol w="3036960"/>
              </a:tblGrid>
              <a:tr h="395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97964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-IV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histology, amended to nonsquamous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CNS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31"/>
          <p:cNvSpPr/>
          <p:nvPr/>
        </p:nvSpPr>
        <p:spPr>
          <a:xfrm>
            <a:off x="876240" y="4191120"/>
            <a:ext cx="76201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 Overall survival (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Secondary endpoints included: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rogression-free survival (PFS), overall response rate (ORR) and safe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60840" y="1523880"/>
          <a:ext cx="2921040" cy="914400"/>
        </p:xfrm>
        <a:graphic>
          <a:graphicData uri="http://schemas.openxmlformats.org/drawingml/2006/table">
            <a:tbl>
              <a:tblPr/>
              <a:tblGrid>
                <a:gridCol w="2921040"/>
              </a:tblGrid>
              <a:tr h="91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emetrex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00 mg/m</a:t>
                      </a:r>
                      <a:r>
                        <a:rPr b="0" lang="pl-PL" sz="1800" spc="-1" strike="noStrike" baseline="30000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(n = 1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460840" y="2917800"/>
          <a:ext cx="2921040" cy="1189080"/>
        </p:xfrm>
        <a:graphic>
          <a:graphicData uri="http://schemas.openxmlformats.org/drawingml/2006/table">
            <a:tbl>
              <a:tblPr/>
              <a:tblGrid>
                <a:gridCol w="29210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emetrexed 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0 mg/m</a:t>
                      </a:r>
                      <a:r>
                        <a:rPr b="0" lang="pl-PL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(IV) q3wk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+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UC 5 (IV) q3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(n =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3" name="Line 2"/>
          <p:cNvSpPr/>
          <p:nvPr/>
        </p:nvSpPr>
        <p:spPr>
          <a:xfrm>
            <a:off x="3875040" y="284148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3"/>
          <p:cNvGrpSpPr/>
          <p:nvPr/>
        </p:nvGrpSpPr>
        <p:grpSpPr>
          <a:xfrm>
            <a:off x="5130720" y="1984320"/>
            <a:ext cx="322200" cy="1036080"/>
            <a:chOff x="5130720" y="1984320"/>
            <a:chExt cx="322200" cy="1036080"/>
          </a:xfrm>
        </p:grpSpPr>
        <p:sp>
          <p:nvSpPr>
            <p:cNvPr id="255" name="Line 14"/>
            <p:cNvSpPr/>
            <p:nvPr/>
          </p:nvSpPr>
          <p:spPr>
            <a:xfrm flipV="1">
              <a:off x="5130720" y="236484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>
              <a:off x="5130720" y="19843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6"/>
          <p:cNvGrpSpPr/>
          <p:nvPr/>
        </p:nvGrpSpPr>
        <p:grpSpPr>
          <a:xfrm>
            <a:off x="5130720" y="1984320"/>
            <a:ext cx="322200" cy="1563840"/>
            <a:chOff x="5130720" y="1984320"/>
            <a:chExt cx="322200" cy="1563840"/>
          </a:xfrm>
        </p:grpSpPr>
        <p:sp>
          <p:nvSpPr>
            <p:cNvPr id="258" name="Line 17"/>
            <p:cNvSpPr/>
            <p:nvPr/>
          </p:nvSpPr>
          <p:spPr>
            <a:xfrm>
              <a:off x="5130720" y="1984320"/>
              <a:ext cx="0" cy="156384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8"/>
            <p:cNvSpPr/>
            <p:nvPr/>
          </p:nvSpPr>
          <p:spPr>
            <a:xfrm>
              <a:off x="5130720" y="35481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Oval 4"/>
          <p:cNvSpPr/>
          <p:nvPr/>
        </p:nvSpPr>
        <p:spPr>
          <a:xfrm>
            <a:off x="4110120" y="2473200"/>
            <a:ext cx="731880" cy="7318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5452920" y="2463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x ≤4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14400" y="1341360"/>
          <a:ext cx="7345440" cy="3583080"/>
        </p:xfrm>
        <a:graphic>
          <a:graphicData uri="http://schemas.openxmlformats.org/drawingml/2006/table">
            <a:tbl>
              <a:tblPr/>
              <a:tblGrid>
                <a:gridCol w="2084400"/>
                <a:gridCol w="1343160"/>
                <a:gridCol w="1469880"/>
                <a:gridCol w="1179360"/>
                <a:gridCol w="1268640"/>
              </a:tblGrid>
              <a:tr h="615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4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-month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-month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: A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914400" y="5018040"/>
            <a:ext cx="734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 = pemetrexed; PC = pemetrexed + carboplatin; HR = hazard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follow-up: 27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1"/>
          <p:cNvSpPr/>
          <p:nvPr/>
        </p:nvSpPr>
        <p:spPr>
          <a:xfrm>
            <a:off x="914400" y="4292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R favors superiority of combination regimen;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ploratory analysis, no significant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4400" y="1501920"/>
          <a:ext cx="7345440" cy="2684160"/>
        </p:xfrm>
        <a:graphic>
          <a:graphicData uri="http://schemas.openxmlformats.org/drawingml/2006/table">
            <a:tbl>
              <a:tblPr/>
              <a:tblGrid>
                <a:gridCol w="3208320"/>
                <a:gridCol w="1379520"/>
                <a:gridCol w="1378080"/>
                <a:gridCol w="1379520"/>
              </a:tblGrid>
              <a:tr h="914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ding squamous cell/unknown histology (n = 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P vs P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PF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O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no. of comorbidities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5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Analysis by Histology and Number of Comorbid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i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41240" y="1498680"/>
          <a:ext cx="7683480" cy="3706560"/>
        </p:xfrm>
        <a:graphic>
          <a:graphicData uri="http://schemas.openxmlformats.org/drawingml/2006/table">
            <a:tbl>
              <a:tblPr/>
              <a:tblGrid>
                <a:gridCol w="2452680"/>
                <a:gridCol w="1452600"/>
                <a:gridCol w="1452600"/>
                <a:gridCol w="1163520"/>
                <a:gridCol w="1162080"/>
              </a:tblGrid>
              <a:tr h="438120">
                <a:tc>
                  <a:txBody>
                    <a:bodyPr tIns="43560" bIns="435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(n = 3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(n = 3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280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derly patients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3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6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6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316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ounger pat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9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tIns="43560" bIns="435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280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ver smok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.2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.4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316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tIns="43560" bIns="435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10920">
                <a:tc>
                  <a:txBody>
                    <a:bodyPr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ctive/former smok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6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.8 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tIns="43560" bIns="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5" name="Rectangle 31"/>
          <p:cNvSpPr/>
          <p:nvPr/>
        </p:nvSpPr>
        <p:spPr>
          <a:xfrm>
            <a:off x="914400" y="52624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≥70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1"/>
          <p:cNvSpPr/>
          <p:nvPr/>
        </p:nvSpPr>
        <p:spPr>
          <a:xfrm>
            <a:off x="914400" y="34974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i="1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= 0.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1501920"/>
          <a:ext cx="7345440" cy="1868400"/>
        </p:xfrm>
        <a:graphic>
          <a:graphicData uri="http://schemas.openxmlformats.org/drawingml/2006/table">
            <a:tbl>
              <a:tblPr/>
              <a:tblGrid>
                <a:gridCol w="3384720"/>
                <a:gridCol w="1981080"/>
                <a:gridCol w="1979640"/>
              </a:tblGrid>
              <a:tr h="587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0440">
                <a:tc>
                  <a:txBody>
                    <a:bodyPr lIns="27432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valuable patient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67; 79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27432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l patients in randomiza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102;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901800" y="1282680"/>
          <a:ext cx="7340400" cy="3371760"/>
        </p:xfrm>
        <a:graphic>
          <a:graphicData uri="http://schemas.openxmlformats.org/drawingml/2006/table">
            <a:tbl>
              <a:tblPr/>
              <a:tblGrid>
                <a:gridCol w="2520720"/>
                <a:gridCol w="1517760"/>
                <a:gridCol w="1758960"/>
                <a:gridCol w="1542960"/>
              </a:tblGrid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(n = 1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 (n = 1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/em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ys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/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1"/>
          <p:cNvSpPr/>
          <p:nvPr/>
        </p:nvSpPr>
        <p:spPr>
          <a:xfrm>
            <a:off x="812880" y="4708440"/>
            <a:ext cx="72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rade 5 AE rates were 0% vs 3.9% (P vs PC arms) and included renal failure, sepsis, pneumonia and thrombo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bination chemotherapy with pemetrexed/carboplatin significantly improves survival compared to single-agent pemetrexed for patients with advanced NSCLC and ECOG PS 2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though comorbidity data were not uniformly collected in this study, no major difference was observed in outcome based on the presence or number of comorbidit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fore, it is suggested that future trials for patients with ECOG PS 2 use a formal comorbidity analysis as a stratification factor to further elucidate this issu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ukin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5Z</dcterms:created>
  <dc:creator>Research To Practice</dc:creator>
  <dc:description/>
  <cp:keywords/>
  <dc:language>en-US</dc:language>
  <cp:lastModifiedBy>Silvana Izquierdo</cp:lastModifiedBy>
  <cp:lastPrinted>2013-06-11T14:02:20Z</cp:lastPrinted>
  <dcterms:modified xsi:type="dcterms:W3CDTF">2013-07-22T19:10:41Z</dcterms:modified>
  <cp:revision>684</cp:revision>
  <dc:subject/>
  <dc:title>Research To Practice</dc:title>
</cp:coreProperties>
</file>