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F1A-D011-4C5A-8DCB-D09C37BD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540-ABB6-4B35-9E5C-5F9CDDFF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CAFEE-7578-430C-A15A-B3177DDA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39486-0CBC-4F36-B629-41C9D7BE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D3F8B-B230-40A1-8EB2-996CD353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A0D2-9256-4011-B938-CC431A6F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4834D-847B-4EA2-ADF7-D78FAD89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4873E-7887-4F1C-BFCC-64DC7B67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31073-AC01-471A-BB91-3C121139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978B5-FEA7-4A8B-9FDC-782A7208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B3272-1585-468D-AE80-E74DA761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A2C-81ED-4AEA-B3C1-824F9F07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67C-240A-4FC6-A483-922BC7C6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B18A-61A0-4837-934B-53AC2471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B5FB-391B-49C4-99BD-C3BB8EDF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878F-889E-47F1-A730-A50BB1C7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3A63-7CE9-45CC-AE48-E06A7223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692F-9A5A-4C2E-B1D1-A2FFBB1F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471C-56D9-4692-9847-F6CB27A0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545B-F615-47FA-9D86-700AA46D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6FC-33AC-4BC3-A916-2A5298D1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AB21-7440-4A8B-870A-C226A175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E11A-DF9E-40B7-9230-604E477A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EBC9-BE12-40B0-892D-762F601B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21F7-3B76-4071-90FF-838AB901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CFF2-0319-4193-B20E-81B826C5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D919-6E08-4A64-8488-7EB052F5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54DA-3107-444F-B4E8-ADFFE68D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CB11-816A-4BFD-828D-315735B7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A01E2-AF39-4002-B633-FD652288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58D9-BA33-419C-93DF-68A23008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9DF-6BF9-40F5-9237-79F87BAA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6139-39D0-4E5D-A22C-EDAB5F55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F339-02BC-4439-8EB4-2748F26B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3B98-8937-451A-A358-1167134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24B67-D5BA-44DE-B172-749C9BA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04910-F874-4A28-A550-30A57A79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B243-3177-4AE8-A732-41405B9E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2C0D-A35D-4BCB-9868-E13D89F1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3FF-C368-47CB-9EFA-221996DE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E7396-D55A-4397-87CC-8B35AD69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690-5D55-4270-8A48-7A36D304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03F4C-08DC-4A63-B616-B5202587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8ACE-9559-4FB3-B05D-E5FB3E2A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DE5F-F0A1-44B8-8604-8E85412E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D03EA-3E2B-48A8-8A23-8E788D01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720D3-3FDC-417E-90F7-369EF17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6049E-D9CD-44AC-B170-E72BAD23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79A78-FAD0-4A89-A5CB-1F2D4DA5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05E40-01DD-418E-9260-D60DBD8C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68EB-FC27-49BE-A78C-DB44A105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47CB1-F1EE-4D4C-AF5D-5FC4D2A7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94C-76B3-4606-BAA4-DB281A59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0FE47-28CE-4C15-A358-9A6B3E4A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BCF-5B67-49E9-8B0E-F72B491D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A735-B158-427A-9E0A-1CC4F407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DFCC9-6745-45D9-A8A5-DA331C46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3A2DB-94FF-4618-9EAD-E462486A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F29D-C976-437C-B0AA-0295780C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E16ED-816B-4D80-84B7-4F75E1C7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01DCF-0E55-4F6B-A132-87748873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1FED-F703-4907-AF85-BEDFE1CC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016-BA2E-450E-AC45-87598338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C2659-E69A-4CA7-A520-604D4430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4D074-B7E0-4C48-8118-188779A6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5C596-F172-4FA0-9529-1B63A2AD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10B3D-4044-4348-B2D2-5A0FC1A7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BB5C9-83A4-48A6-9010-430D347C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19A-DBC2-458D-A8B4-346E0195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06F87-E2B0-4EDF-B220-C68D9611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72F5B-107B-4019-94CB-4BC43AED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33C63-29B0-4E2E-96A2-A6D5483E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74E8C-F20A-4D76-BBEF-E8A440DE7496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3EE4A-58A1-430E-84DA-3135FEF3D0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E2C2D-FCD3-4F20-998C-3FDAA539C26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4CAF3-4B1F-4F15-9E48-F64629AF123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2E87D-BB66-4B67-A424-B3371157B22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03365-A57F-4879-9E7E-8BEE361FC12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B3178-D258-4F50-8FB2-07692002212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234C3-0CCF-4DCD-B790-EB20CB874B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FA57D-D0FE-43BE-A8A0-CD16365C1A2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F6599-DBF7-4876-80C2-ACECBD88C7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02453-C90C-46C0-ADC2-BDC4923BE58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75724-95C3-4387-A363-79E1110261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nical Activity and Safety of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i-PD-1 (BMS-936558, MDX-1106) in Patients with Advanced Non-Small-Cell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Brahmer JR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Abstract 75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creased expression of programmed death-1 (PD-1) and its ligand (PD-L1) on tumor-infiltrating lymphocytes has been associated with impaired immune function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Cell Mol Immun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0;7:38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DX-1106 (BMS-936558) is a fully human monoclonal antibody that inhibits PD-1 and its ligands, PD-L1 and PD-L2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reliminary studies demonstrated that MDX-1106 blocks the PD-1 checkpoint, is well tolerated and is associated with antitumor activit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0;28:316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etermine the clinical activity and safety of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DX-1106 in the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Phase I study subgroup of patients with heavily pretreated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advanced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0"/>
          <p:cNvSpPr/>
          <p:nvPr/>
        </p:nvSpPr>
        <p:spPr>
          <a:xfrm>
            <a:off x="4173480" y="3147840"/>
            <a:ext cx="179064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9"/>
          <p:cNvSpPr/>
          <p:nvPr/>
        </p:nvSpPr>
        <p:spPr>
          <a:xfrm>
            <a:off x="4173480" y="2316240"/>
            <a:ext cx="1790640" cy="6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4173480" y="1441440"/>
            <a:ext cx="179064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1"/>
          <p:cNvSpPr/>
          <p:nvPr/>
        </p:nvSpPr>
        <p:spPr>
          <a:xfrm>
            <a:off x="914400" y="4417920"/>
            <a:ext cx="777240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Eligibility: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Advanced melanoma, renal cell carcinoma, NSCLC, colorectal cancer or castration-resistant prostate cancer with progressive disease after 1 to 5 systemic thera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Doses of MDX-1106 tested for NSCLC: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1, 3 and 10 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1200240" y="1241280"/>
            <a:ext cx="68007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4272120" y="2406600"/>
            <a:ext cx="1407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Unacceptable toxi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3"/>
          <p:cNvSpPr/>
          <p:nvPr/>
        </p:nvSpPr>
        <p:spPr>
          <a:xfrm>
            <a:off x="1204920" y="2536920"/>
            <a:ext cx="2533680" cy="11268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152" h="72">
                <a:moveTo>
                  <a:pt x="0" y="24"/>
                </a:moveTo>
                <a:lnTo>
                  <a:pt x="1092" y="24"/>
                </a:lnTo>
                <a:lnTo>
                  <a:pt x="1092" y="32"/>
                </a:lnTo>
                <a:lnTo>
                  <a:pt x="0" y="32"/>
                </a:lnTo>
                <a:lnTo>
                  <a:pt x="0" y="24"/>
                </a:lnTo>
                <a:close/>
                <a:moveTo>
                  <a:pt x="0" y="40"/>
                </a:moveTo>
                <a:lnTo>
                  <a:pt x="1092" y="40"/>
                </a:lnTo>
                <a:lnTo>
                  <a:pt x="1092" y="48"/>
                </a:lnTo>
                <a:lnTo>
                  <a:pt x="0" y="48"/>
                </a:lnTo>
                <a:lnTo>
                  <a:pt x="0" y="40"/>
                </a:lnTo>
                <a:close/>
                <a:moveTo>
                  <a:pt x="1080" y="0"/>
                </a:moveTo>
                <a:lnTo>
                  <a:pt x="1152" y="36"/>
                </a:lnTo>
                <a:lnTo>
                  <a:pt x="1080" y="72"/>
                </a:lnTo>
                <a:lnTo>
                  <a:pt x="1080" y="0"/>
                </a:lnTo>
                <a:close/>
              </a:path>
            </a:pathLst>
          </a:custGeom>
          <a:solidFill>
            <a:srgbClr val="464847"/>
          </a:solidFill>
          <a:ln w="3816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 flipH="1">
            <a:off x="1192320" y="2368440"/>
            <a:ext cx="33120" cy="225360"/>
          </a:xfrm>
          <a:prstGeom prst="rect">
            <a:avLst/>
          </a:prstGeom>
          <a:solidFill>
            <a:srgbClr val="464847"/>
          </a:solidFill>
          <a:ln w="1908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9"/>
          <p:cNvSpPr/>
          <p:nvPr/>
        </p:nvSpPr>
        <p:spPr>
          <a:xfrm>
            <a:off x="819000" y="279720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985680" y="2733840"/>
            <a:ext cx="332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ay 1*    15*     29*     43*    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0"/>
          <p:cNvSpPr/>
          <p:nvPr/>
        </p:nvSpPr>
        <p:spPr>
          <a:xfrm>
            <a:off x="6353280" y="2247840"/>
            <a:ext cx="14396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llow-up every 8 wk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x 6 (48 w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5"/>
          <p:cNvSpPr/>
          <p:nvPr/>
        </p:nvSpPr>
        <p:spPr>
          <a:xfrm>
            <a:off x="1204920" y="1305000"/>
            <a:ext cx="2590920" cy="50004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1422" h="336">
                <a:moveTo>
                  <a:pt x="0" y="0"/>
                </a:moveTo>
                <a:lnTo>
                  <a:pt x="1067" y="0"/>
                </a:lnTo>
                <a:lnTo>
                  <a:pt x="1422" y="168"/>
                </a:lnTo>
                <a:lnTo>
                  <a:pt x="1067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solidFill>
            <a:srgbClr val="16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6"/>
          <p:cNvSpPr/>
          <p:nvPr/>
        </p:nvSpPr>
        <p:spPr>
          <a:xfrm>
            <a:off x="1204920" y="1301760"/>
            <a:ext cx="2590920" cy="5032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432" h="342">
                <a:moveTo>
                  <a:pt x="0" y="0"/>
                </a:moveTo>
                <a:lnTo>
                  <a:pt x="1071" y="0"/>
                </a:lnTo>
                <a:lnTo>
                  <a:pt x="1432" y="171"/>
                </a:lnTo>
                <a:lnTo>
                  <a:pt x="1071" y="342"/>
                </a:lnTo>
                <a:lnTo>
                  <a:pt x="0" y="342"/>
                </a:lnTo>
                <a:lnTo>
                  <a:pt x="0" y="0"/>
                </a:lnTo>
                <a:close/>
                <a:moveTo>
                  <a:pt x="6" y="339"/>
                </a:moveTo>
                <a:lnTo>
                  <a:pt x="3" y="336"/>
                </a:lnTo>
                <a:lnTo>
                  <a:pt x="1070" y="336"/>
                </a:lnTo>
                <a:lnTo>
                  <a:pt x="1069" y="336"/>
                </a:lnTo>
                <a:lnTo>
                  <a:pt x="1424" y="168"/>
                </a:lnTo>
                <a:lnTo>
                  <a:pt x="1424" y="174"/>
                </a:lnTo>
                <a:lnTo>
                  <a:pt x="1069" y="6"/>
                </a:lnTo>
                <a:lnTo>
                  <a:pt x="1070" y="6"/>
                </a:lnTo>
                <a:lnTo>
                  <a:pt x="3" y="6"/>
                </a:lnTo>
                <a:lnTo>
                  <a:pt x="6" y="3"/>
                </a:lnTo>
                <a:lnTo>
                  <a:pt x="6" y="339"/>
                </a:lnTo>
                <a:close/>
              </a:path>
            </a:pathLst>
          </a:custGeom>
          <a:solidFill>
            <a:srgbClr val="16375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8"/>
          <p:cNvSpPr/>
          <p:nvPr/>
        </p:nvSpPr>
        <p:spPr>
          <a:xfrm>
            <a:off x="1320120" y="1390680"/>
            <a:ext cx="20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-wk treat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0"/>
          <p:cNvSpPr/>
          <p:nvPr/>
        </p:nvSpPr>
        <p:spPr>
          <a:xfrm>
            <a:off x="3213360" y="3017880"/>
            <a:ext cx="76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SCA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5"/>
          <p:cNvSpPr/>
          <p:nvPr/>
        </p:nvSpPr>
        <p:spPr>
          <a:xfrm>
            <a:off x="4516560" y="319392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8"/>
          <p:cNvSpPr/>
          <p:nvPr/>
        </p:nvSpPr>
        <p:spPr>
          <a:xfrm>
            <a:off x="4272120" y="3218040"/>
            <a:ext cx="14698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CR/PR/SD </a:t>
            </a:r>
            <a:br>
              <a:rPr sz="1700"/>
            </a:b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or PD but clinically s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1"/>
          <p:cNvSpPr/>
          <p:nvPr/>
        </p:nvSpPr>
        <p:spPr>
          <a:xfrm>
            <a:off x="4272120" y="1531800"/>
            <a:ext cx="1717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Rapid PD or clin. deterio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3"/>
          <p:cNvSpPr/>
          <p:nvPr/>
        </p:nvSpPr>
        <p:spPr>
          <a:xfrm>
            <a:off x="6353280" y="3214800"/>
            <a:ext cx="221940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reat to confirmed CR, worsening PD, unacceptable toxicity or 12 cycles (96 w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1"/>
          <p:cNvSpPr/>
          <p:nvPr/>
        </p:nvSpPr>
        <p:spPr>
          <a:xfrm>
            <a:off x="6356880" y="1592280"/>
            <a:ext cx="9165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ff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2"/>
          <p:cNvSpPr/>
          <p:nvPr/>
        </p:nvSpPr>
        <p:spPr>
          <a:xfrm>
            <a:off x="5977080" y="3519360"/>
            <a:ext cx="280800" cy="57240"/>
          </a:xfrm>
          <a:custGeom>
            <a:avLst/>
            <a:gdLst>
              <a:gd name="textAreaLeft" fmla="*/ 0 w 280800"/>
              <a:gd name="textAreaRight" fmla="*/ 281160 w 280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40" h="48">
                <a:moveTo>
                  <a:pt x="0" y="21"/>
                </a:moveTo>
                <a:lnTo>
                  <a:pt x="200" y="21"/>
                </a:lnTo>
                <a:lnTo>
                  <a:pt x="200" y="27"/>
                </a:lnTo>
                <a:lnTo>
                  <a:pt x="0" y="27"/>
                </a:lnTo>
                <a:lnTo>
                  <a:pt x="0" y="21"/>
                </a:lnTo>
                <a:close/>
                <a:moveTo>
                  <a:pt x="192" y="0"/>
                </a:moveTo>
                <a:lnTo>
                  <a:pt x="240" y="24"/>
                </a:lnTo>
                <a:lnTo>
                  <a:pt x="192" y="48"/>
                </a:lnTo>
                <a:lnTo>
                  <a:pt x="192" y="0"/>
                </a:lnTo>
                <a:close/>
              </a:path>
            </a:pathLst>
          </a:custGeom>
          <a:solidFill>
            <a:srgbClr val="464847"/>
          </a:solidFill>
          <a:ln w="3816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63"/>
          <p:cNvSpPr/>
          <p:nvPr/>
        </p:nvSpPr>
        <p:spPr>
          <a:xfrm>
            <a:off x="5977080" y="2619360"/>
            <a:ext cx="280800" cy="55440"/>
          </a:xfrm>
          <a:custGeom>
            <a:avLst/>
            <a:gdLst>
              <a:gd name="textAreaLeft" fmla="*/ 0 w 280800"/>
              <a:gd name="textAreaRight" fmla="*/ 281160 w 2808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40" h="48">
                <a:moveTo>
                  <a:pt x="0" y="21"/>
                </a:moveTo>
                <a:lnTo>
                  <a:pt x="200" y="21"/>
                </a:lnTo>
                <a:lnTo>
                  <a:pt x="200" y="27"/>
                </a:lnTo>
                <a:lnTo>
                  <a:pt x="0" y="27"/>
                </a:lnTo>
                <a:lnTo>
                  <a:pt x="0" y="21"/>
                </a:lnTo>
                <a:close/>
                <a:moveTo>
                  <a:pt x="192" y="0"/>
                </a:moveTo>
                <a:lnTo>
                  <a:pt x="240" y="24"/>
                </a:lnTo>
                <a:lnTo>
                  <a:pt x="192" y="48"/>
                </a:lnTo>
                <a:lnTo>
                  <a:pt x="192" y="0"/>
                </a:lnTo>
                <a:close/>
              </a:path>
            </a:pathLst>
          </a:custGeom>
          <a:solidFill>
            <a:srgbClr val="464847"/>
          </a:solidFill>
          <a:ln w="3816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64"/>
          <p:cNvSpPr/>
          <p:nvPr/>
        </p:nvSpPr>
        <p:spPr>
          <a:xfrm>
            <a:off x="5977080" y="1701720"/>
            <a:ext cx="280800" cy="57240"/>
          </a:xfrm>
          <a:custGeom>
            <a:avLst/>
            <a:gdLst>
              <a:gd name="textAreaLeft" fmla="*/ 0 w 280800"/>
              <a:gd name="textAreaRight" fmla="*/ 281160 w 280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40" h="48">
                <a:moveTo>
                  <a:pt x="0" y="21"/>
                </a:moveTo>
                <a:lnTo>
                  <a:pt x="200" y="21"/>
                </a:lnTo>
                <a:lnTo>
                  <a:pt x="200" y="27"/>
                </a:lnTo>
                <a:lnTo>
                  <a:pt x="0" y="27"/>
                </a:lnTo>
                <a:lnTo>
                  <a:pt x="0" y="21"/>
                </a:lnTo>
                <a:close/>
                <a:moveTo>
                  <a:pt x="192" y="0"/>
                </a:moveTo>
                <a:lnTo>
                  <a:pt x="240" y="24"/>
                </a:lnTo>
                <a:lnTo>
                  <a:pt x="192" y="48"/>
                </a:lnTo>
                <a:lnTo>
                  <a:pt x="192" y="0"/>
                </a:lnTo>
                <a:close/>
              </a:path>
            </a:pathLst>
          </a:custGeom>
          <a:solidFill>
            <a:srgbClr val="464847"/>
          </a:solidFill>
          <a:ln w="3816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65"/>
          <p:cNvSpPr/>
          <p:nvPr/>
        </p:nvSpPr>
        <p:spPr>
          <a:xfrm>
            <a:off x="3757680" y="1682640"/>
            <a:ext cx="412560" cy="941400"/>
          </a:xfrm>
          <a:custGeom>
            <a:avLst/>
            <a:gdLst>
              <a:gd name="textAreaLeft" fmla="*/ 0 w 412560"/>
              <a:gd name="textAreaRight" fmla="*/ 412920 w 41256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352" h="803">
                <a:moveTo>
                  <a:pt x="0" y="793"/>
                </a:moveTo>
                <a:lnTo>
                  <a:pt x="313" y="51"/>
                </a:lnTo>
                <a:lnTo>
                  <a:pt x="320" y="54"/>
                </a:lnTo>
                <a:lnTo>
                  <a:pt x="8" y="796"/>
                </a:lnTo>
                <a:lnTo>
                  <a:pt x="0" y="793"/>
                </a:lnTo>
                <a:close/>
                <a:moveTo>
                  <a:pt x="15" y="800"/>
                </a:moveTo>
                <a:lnTo>
                  <a:pt x="328" y="57"/>
                </a:lnTo>
                <a:lnTo>
                  <a:pt x="335" y="60"/>
                </a:lnTo>
                <a:lnTo>
                  <a:pt x="22" y="803"/>
                </a:lnTo>
                <a:lnTo>
                  <a:pt x="15" y="800"/>
                </a:lnTo>
                <a:close/>
                <a:moveTo>
                  <a:pt x="286" y="52"/>
                </a:moveTo>
                <a:lnTo>
                  <a:pt x="347" y="0"/>
                </a:lnTo>
                <a:lnTo>
                  <a:pt x="352" y="81"/>
                </a:lnTo>
                <a:lnTo>
                  <a:pt x="286" y="52"/>
                </a:lnTo>
                <a:close/>
              </a:path>
            </a:pathLst>
          </a:custGeom>
          <a:solidFill>
            <a:srgbClr val="464847"/>
          </a:solidFill>
          <a:ln w="0">
            <a:solidFill>
              <a:srgbClr val="46484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66"/>
          <p:cNvSpPr/>
          <p:nvPr/>
        </p:nvSpPr>
        <p:spPr>
          <a:xfrm>
            <a:off x="3759120" y="2598840"/>
            <a:ext cx="414360" cy="822240"/>
          </a:xfrm>
          <a:custGeom>
            <a:avLst/>
            <a:gdLst>
              <a:gd name="textAreaLeft" fmla="*/ 0 w 414360"/>
              <a:gd name="textAreaRight" fmla="*/ 414720 w 41436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353" h="701">
                <a:moveTo>
                  <a:pt x="21" y="0"/>
                </a:moveTo>
                <a:lnTo>
                  <a:pt x="337" y="642"/>
                </a:lnTo>
                <a:lnTo>
                  <a:pt x="329" y="645"/>
                </a:lnTo>
                <a:lnTo>
                  <a:pt x="14" y="3"/>
                </a:lnTo>
                <a:lnTo>
                  <a:pt x="21" y="0"/>
                </a:lnTo>
                <a:close/>
                <a:moveTo>
                  <a:pt x="7" y="7"/>
                </a:moveTo>
                <a:lnTo>
                  <a:pt x="322" y="649"/>
                </a:lnTo>
                <a:lnTo>
                  <a:pt x="315" y="653"/>
                </a:lnTo>
                <a:lnTo>
                  <a:pt x="0" y="11"/>
                </a:lnTo>
                <a:lnTo>
                  <a:pt x="7" y="7"/>
                </a:lnTo>
                <a:close/>
                <a:moveTo>
                  <a:pt x="353" y="621"/>
                </a:moveTo>
                <a:lnTo>
                  <a:pt x="352" y="701"/>
                </a:lnTo>
                <a:lnTo>
                  <a:pt x="288" y="652"/>
                </a:lnTo>
                <a:lnTo>
                  <a:pt x="353" y="621"/>
                </a:lnTo>
                <a:close/>
              </a:path>
            </a:pathLst>
          </a:custGeom>
          <a:solidFill>
            <a:srgbClr val="464847"/>
          </a:solidFill>
          <a:ln w="0">
            <a:solidFill>
              <a:srgbClr val="46484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67"/>
          <p:cNvSpPr/>
          <p:nvPr/>
        </p:nvSpPr>
        <p:spPr>
          <a:xfrm>
            <a:off x="3770280" y="2562120"/>
            <a:ext cx="395280" cy="84240"/>
          </a:xfrm>
          <a:custGeom>
            <a:avLst/>
            <a:gdLst>
              <a:gd name="textAreaLeft" fmla="*/ 0 w 395280"/>
              <a:gd name="textAreaRight" fmla="*/ 395640 w 3952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36" h="72">
                <a:moveTo>
                  <a:pt x="0" y="24"/>
                </a:moveTo>
                <a:lnTo>
                  <a:pt x="276" y="24"/>
                </a:lnTo>
                <a:lnTo>
                  <a:pt x="276" y="32"/>
                </a:lnTo>
                <a:lnTo>
                  <a:pt x="0" y="32"/>
                </a:lnTo>
                <a:lnTo>
                  <a:pt x="0" y="24"/>
                </a:lnTo>
                <a:close/>
                <a:moveTo>
                  <a:pt x="0" y="40"/>
                </a:moveTo>
                <a:lnTo>
                  <a:pt x="276" y="40"/>
                </a:lnTo>
                <a:lnTo>
                  <a:pt x="276" y="48"/>
                </a:lnTo>
                <a:lnTo>
                  <a:pt x="0" y="48"/>
                </a:lnTo>
                <a:lnTo>
                  <a:pt x="0" y="40"/>
                </a:lnTo>
                <a:close/>
                <a:moveTo>
                  <a:pt x="264" y="0"/>
                </a:moveTo>
                <a:lnTo>
                  <a:pt x="336" y="36"/>
                </a:lnTo>
                <a:lnTo>
                  <a:pt x="264" y="72"/>
                </a:lnTo>
                <a:lnTo>
                  <a:pt x="264" y="0"/>
                </a:lnTo>
                <a:close/>
              </a:path>
            </a:pathLst>
          </a:custGeom>
          <a:solidFill>
            <a:srgbClr val="464847"/>
          </a:solidFill>
          <a:ln w="0">
            <a:solidFill>
              <a:srgbClr val="46484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7"/>
          <p:cNvSpPr/>
          <p:nvPr/>
        </p:nvSpPr>
        <p:spPr>
          <a:xfrm>
            <a:off x="914400" y="3903840"/>
            <a:ext cx="36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se administered IV q2w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5"/>
          <p:cNvSpPr/>
          <p:nvPr/>
        </p:nvSpPr>
        <p:spPr>
          <a:xfrm flipH="1">
            <a:off x="1928880" y="2336760"/>
            <a:ext cx="33120" cy="225360"/>
          </a:xfrm>
          <a:prstGeom prst="rect">
            <a:avLst/>
          </a:prstGeom>
          <a:solidFill>
            <a:srgbClr val="464847"/>
          </a:solidFill>
          <a:ln w="1908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5"/>
          <p:cNvSpPr/>
          <p:nvPr/>
        </p:nvSpPr>
        <p:spPr>
          <a:xfrm flipH="1">
            <a:off x="2499480" y="2336760"/>
            <a:ext cx="33480" cy="225360"/>
          </a:xfrm>
          <a:prstGeom prst="rect">
            <a:avLst/>
          </a:prstGeom>
          <a:solidFill>
            <a:srgbClr val="464847"/>
          </a:solidFill>
          <a:ln w="1908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5"/>
          <p:cNvSpPr/>
          <p:nvPr/>
        </p:nvSpPr>
        <p:spPr>
          <a:xfrm flipH="1">
            <a:off x="3083760" y="2336760"/>
            <a:ext cx="33480" cy="225360"/>
          </a:xfrm>
          <a:prstGeom prst="rect">
            <a:avLst/>
          </a:prstGeom>
          <a:solidFill>
            <a:srgbClr val="464847"/>
          </a:solidFill>
          <a:ln w="19080">
            <a:solidFill>
              <a:srgbClr val="4648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749160" y="1727280"/>
          <a:ext cx="7645680" cy="2719440"/>
        </p:xfrm>
        <a:graphic>
          <a:graphicData uri="http://schemas.openxmlformats.org/drawingml/2006/table">
            <a:tbl>
              <a:tblPr/>
              <a:tblGrid>
                <a:gridCol w="1676520"/>
                <a:gridCol w="977760"/>
                <a:gridCol w="1714680"/>
                <a:gridCol w="1434960"/>
                <a:gridCol w="18417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e 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e of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R (m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 ≥24 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R at 24 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-10 (n = 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9+ to 30.8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(n =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 (n = 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9+ to 30.8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 (n = 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7 to 14.8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Activity in Patients with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914400" y="4545000"/>
            <a:ext cx="748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RR = overall response rate; DoR = duration of response; SD = stable disease; PFSR = progression-free survival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60240" y="1371600"/>
          <a:ext cx="7759800" cy="3714840"/>
        </p:xfrm>
        <a:graphic>
          <a:graphicData uri="http://schemas.openxmlformats.org/drawingml/2006/table">
            <a:tbl>
              <a:tblPr/>
              <a:tblGrid>
                <a:gridCol w="3670560"/>
                <a:gridCol w="1104840"/>
                <a:gridCol w="1066680"/>
                <a:gridCol w="1193760"/>
                <a:gridCol w="723960"/>
              </a:tblGrid>
              <a:tr h="412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(n = 5, 6, 7,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n = 12, 13, 31, 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 ≥24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(n = 5, 6, 7,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n = 12, 13, 31, 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R at 24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(n = 5, 6, 7, 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n = 12, 13, 31, 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Activity of Varying MDX-1106 Doses by NSCLC His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Topalian S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66(26):2443-5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"/>
          <p:cNvSpPr/>
          <p:nvPr/>
        </p:nvSpPr>
        <p:spPr>
          <a:xfrm>
            <a:off x="1175760" y="5207040"/>
            <a:ext cx="12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ll d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IJournal_Brahmer_Curve1.png"/>
          <p:cNvPicPr/>
          <p:nvPr/>
        </p:nvPicPr>
        <p:blipFill>
          <a:blip r:embed="rId1"/>
          <a:stretch/>
        </p:blipFill>
        <p:spPr>
          <a:xfrm>
            <a:off x="952560" y="1405080"/>
            <a:ext cx="7467480" cy="3913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Target Lesions at 3 mg/kg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457200" y="6046920"/>
            <a:ext cx="836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5257800" y="1442880"/>
            <a:ext cx="30862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irst occurrence of new le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atient of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qua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on-squa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1359000" y="5318280"/>
            <a:ext cx="673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64847"/>
                </a:solidFill>
                <a:latin typeface="Arial"/>
              </a:rPr>
              <a:t>Weeks Since Treatment Initi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 rot="16200000">
            <a:off x="-1389960" y="3143880"/>
            <a:ext cx="435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64847"/>
                </a:solidFill>
                <a:latin typeface="Arial"/>
              </a:rPr>
              <a:t>Change in Target Lesions From Baseline (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0" descr="IJournal_Brahmer_Curve2.png"/>
          <p:cNvPicPr/>
          <p:nvPr/>
        </p:nvPicPr>
        <p:blipFill>
          <a:blip r:embed="rId1"/>
          <a:stretch/>
        </p:blipFill>
        <p:spPr>
          <a:xfrm>
            <a:off x="927000" y="1405080"/>
            <a:ext cx="7493040" cy="39337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Target Lesions at 10 mg/kg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457200" y="6046920"/>
            <a:ext cx="83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6"/>
          <p:cNvSpPr/>
          <p:nvPr/>
        </p:nvSpPr>
        <p:spPr>
          <a:xfrm>
            <a:off x="1359000" y="5318280"/>
            <a:ext cx="673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64847"/>
                </a:solidFill>
                <a:latin typeface="Arial"/>
              </a:rPr>
              <a:t>Weeks Since Treatment Initi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 rot="16200000">
            <a:off x="-1389960" y="3143880"/>
            <a:ext cx="435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464847"/>
                </a:solidFill>
                <a:latin typeface="Arial"/>
              </a:rPr>
              <a:t>Change in Target Lesions From Baseline (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5257800" y="1773360"/>
            <a:ext cx="308628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irst occurrence of new le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atient of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qua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on-squa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1003320" y="1486080"/>
          <a:ext cx="7175520" cy="3292200"/>
        </p:xfrm>
        <a:graphic>
          <a:graphicData uri="http://schemas.openxmlformats.org/drawingml/2006/table">
            <a:tbl>
              <a:tblPr/>
              <a:tblGrid>
                <a:gridCol w="2260440"/>
                <a:gridCol w="2502000"/>
                <a:gridCol w="241308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ny 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ppet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em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nts (AEs)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 in NSCLC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(N = 12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1"/>
          <p:cNvSpPr/>
          <p:nvPr/>
        </p:nvSpPr>
        <p:spPr>
          <a:xfrm>
            <a:off x="914400" y="4848120"/>
            <a:ext cx="74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ost common Grade 3/4 AEs were fatigue, pneumonitis and elevated AST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(2 patients ea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DX-1106 can be safely administered in an outpatient setting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o patients with heavily pretreat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urable clinical benefit was seen in squamous and nonsquamous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findings support the importance of the PD-1 pathway in NSCLC therapy across different histologi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reliminary data correlating PD-L1 expression in pretreatment tumor biopsies with clinical outcomes will be further explor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Phase III trial of MDX-1106 versus docetaxel in previously treated advanced or metastatic nonsquamous NSCLC is ongoing (NCT0167386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hmer J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75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28Z</dcterms:created>
  <dc:creator>Research To Practice</dc:creator>
  <dc:description/>
  <cp:keywords/>
  <dc:language>en-US</dc:language>
  <cp:lastModifiedBy>Silvana Izquierdo</cp:lastModifiedBy>
  <cp:lastPrinted>2013-04-30T18:50:39Z</cp:lastPrinted>
  <dcterms:modified xsi:type="dcterms:W3CDTF">2013-07-22T19:09:41Z</dcterms:modified>
  <cp:revision>721</cp:revision>
  <dc:subject/>
  <dc:title>Research To Practice</dc:title>
</cp:coreProperties>
</file>