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A24-FDEB-407E-90F4-3DDE7847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341-69A2-486A-A883-0EA25A4B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1E2AF-D56F-4D17-8501-9CBC4EFD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E8051-0ACD-4411-869F-454D15F0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88122-4120-4DB1-9491-537EBA84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825CF-AC79-4B37-8AAF-7C651FC1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07B4B-DF9F-4C53-A978-022C7382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BACA-B081-46E1-AEF7-998FA0FE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827C2-ECE1-459B-ACFE-D1BCE3CE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ED2C-75E7-47CC-9400-961CAC52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FE569-539A-4C89-87C6-8D73EF1D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479-C691-466F-9000-911FBC44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AB9-D427-44DE-96AE-6BD696C9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BED1-5FDC-4743-9B18-C1F356A9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20D6-4165-4F7B-96F7-7F289574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2C12-CF65-4273-B21E-9C07A40F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B603-C073-40B8-9F68-30573245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878E-7871-4CA0-895F-BCCDBCCE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B0C0-2869-4419-B9FD-C928EB93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A179-2081-4F8D-B4C4-FBA543DE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92D-1C67-49D9-BF20-2C63BA21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E75B-A252-4C15-80D9-7CB34642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E981-6A18-49F4-8F2F-66E7C777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0D51-DF2E-4232-A7A5-C0D7B5EB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95DF-F59B-4B7E-B32B-D06C7EFB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A430-2591-4416-92E2-A8D4B76E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23AD9-E9B8-4991-B25F-9D5A2881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3091-2AA3-4607-A4F4-A1EE5C0F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F80E9-957C-4424-BC6F-947D5BC7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2CB3-FFA9-4DB5-B675-1E03B073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E7827-9191-479A-8E38-69FE6399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654-9120-47F1-8539-659B11D6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DC01-F05A-4933-A2AB-2519CAFE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4610-7AD4-4F35-9840-4302865C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B6B9-C3C8-4EC7-BD90-9A77DF7D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9AAC2-9AB6-4B53-82B8-76B04391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E04B1-2768-4381-A000-9377A7D1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F632-DF48-4385-88DA-28BBE838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C281-FFE3-4EA3-99E8-881F4D56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290-D2CE-4AA8-9F88-0B7B09B5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15C32-5601-4FB5-AA9F-CC9110BD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307-ADD7-42EE-96A2-0092B3A8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B6C57-9FD3-4120-B847-8302E8D0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486F-92DF-4E37-A61E-A9C4FF90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82EF3-205C-4C71-96F2-0B771022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A1FE8-67E9-47CD-AAC1-1CB41852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BEA50-BB14-4825-931E-C3F18130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A82F-DA2E-4BB1-885F-9C7E29DD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713EA-C0DE-475D-A0E8-8624CF66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10D1C-BF7A-4495-9B04-2292683E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351F-A611-4673-8528-7B8B0647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D73F1-AFE6-40DF-8B5F-FF6D8854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052-CF10-4A7E-9D56-DC995594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C11B9-0E06-430B-AA1E-0EA2B7F4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524-334C-47E8-9539-EDA046B8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E57F9-EDC2-4A10-9DB1-46E04121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CAB6C-DDEB-49C5-95A0-CF6875C2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1F0B7-B537-4678-A837-00F88F4D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E9AFF-9C68-4147-A055-0CBAF694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C3E0A-D479-4B4F-B5C3-B248CD5C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1A68E-D2CE-4249-A94D-C24B0840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0D27E-EC59-49D1-BAA0-5C3B20EF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B8A-C552-47AE-9EA1-F382CE69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E07BD-35F3-43AF-B300-6708D6B6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00849-EB8F-4DAE-81A3-F54153B4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22129-451A-45FF-BE86-AC43F568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15E40-E7E3-4719-8538-D55BB1D9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B52D1-93CD-43FE-B894-21744FA5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091-8852-42E9-80BA-84E787A4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67743-3F9A-4D26-967F-CEF5D753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62E56-5150-428D-8207-9DDE1D55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67C3C-197B-4580-9DEB-D4D6D62C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A7874-64C9-4ECE-A6F3-2F0508E62F2E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3AC58-2F08-466D-B673-1F04F364B80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8893D-D2F1-4FCE-BF33-9C3DEB985DD9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1BBD3-D228-47F6-948A-7B8E443566E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F56F0-8AB9-4C02-9E94-E7C36273FEA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63D08-6C2C-422E-AC38-A3E12F858AD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1B1A6-D9F6-4431-AB74-01C990BE3260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482C7-5072-40EC-BAB2-6F656639507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724BD-CF48-43B9-AD68-DF2FB01547E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036B8-F7B4-4EE1-8C0A-2DEB4CA47F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49566-F867-41E8-8674-501CDCFCCE4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B1D52-A1DB-42FB-A5C1-BCE3AC283A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pping the Hallmark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ung Adenocarcinoma with Massively Parallel Seque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Imielinski M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Cell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 2012;150(6):1107-2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274320" tIns="13716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represents a significant advance toward the complete characterization of the genomic alterations in lung adenocarci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data are a testament to the power of unbiased, large-scale next-generation sequencing technology to expand our understanding of tumor biolog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novel mutated genes identified in this study warrant further investigation to determine their biologic, prognostic and/or therapeutic significance in lung adenocarci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novel mutated genes have the potential to lead to clinical translation and improved outcomes for patients with lung adenocarci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ral trials demonstrated superior efficacy of targeted kinase inhibitors compared to standard chemotherapy in lung adenocarcinoma harboring EGFR mutations or ALK fusion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ctivating mutations, such as K-ras and BRAF, or translocations in RET and ROS1 are being pursued as clinical targets in lung adenocarci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ung adenocarcinomas often express loss-of-function (LOF) mutations and deletions in several tumor suppressor genes, but such alterations are difficult to exploit therapeuticall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s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Verify previously identified genes with frequent somatic alterations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dentify novel mutated genes that may contribute to the pathogenesis of lung adenocarcinoma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ext-generation sequencing was used to sequence DNA samples from lung adenocarcinomas (n = 183)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hemotherapy-naïve, primary resection specimens (n = 182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ostchemotherapy, metastatic tumor specimen from a never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moker (n = 1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rmal tissues were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matched to tumor sampl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l tumor/normal pairs with a combination of whole-exome sequencing (WES) or whole-genome sequencing (WGS) were examined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WES (n = 159); WES and WGS (n = 23); WGS (n = 1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mplementary SNP array analysis was used to detect genome-wide somatic copy number alteration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812880" y="1409760"/>
          <a:ext cx="7581960" cy="3378240"/>
        </p:xfrm>
        <a:graphic>
          <a:graphicData uri="http://schemas.openxmlformats.org/drawingml/2006/table">
            <a:tbl>
              <a:tblPr/>
              <a:tblGrid>
                <a:gridCol w="4884480"/>
                <a:gridCol w="2697480"/>
              </a:tblGrid>
              <a:tr h="482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82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age at surgery (r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6 (36-87)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2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ver smo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ight smokers (≤10 pack-ye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2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eavy smokers (&gt;10 pack-ye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 smoking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Features of Study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31"/>
          <p:cNvSpPr/>
          <p:nvPr/>
        </p:nvSpPr>
        <p:spPr>
          <a:xfrm>
            <a:off x="825480" y="4917960"/>
            <a:ext cx="765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he cohort included: Stage I (n = 90), Stage II (n = 36), Stage III (n = 22), Stage IV (n = 10) and unknown stage of lung adenocarcinoma (n = 2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omatic substitutions and indels (small insertions and deletions) were identifi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77,736 events were identified within the exon regions of genes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of 8.1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utations/megabase of DNA (Mb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an of 11.9 mutations/Mb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mutations were comprised of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issense (43,813), silent (14,801), nonsense (3,504), splice site (1,460), deletions (2,310), insertions (839) and other mutations predominantly residing in the 5’ and 3’ untranslated regions (11,009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any of the indels are predicted to have a functional consequence on protein sequenc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Comparison of Paired Tumor/Normal Sequenc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73152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as a significantly higher exonic mutation rate in tumors from smokers compared to those of never smoke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an: 12.9/Mb (smokers) vs 2.9/Mb (never smokers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all 183 examined cases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 most frequent somatic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utation signatures were C </a:t>
            </a:r>
            <a:r>
              <a:rPr b="0" lang="en-US" sz="18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 T base substitution in the CpG dinucleotide setting (CpG </a:t>
            </a:r>
            <a:r>
              <a:rPr b="0" lang="en-US" sz="18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 T) and C </a:t>
            </a:r>
            <a:r>
              <a:rPr b="0" lang="en-US" sz="18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 A base substitution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The least frequent mutation type was A </a:t>
            </a:r>
            <a:r>
              <a:rPr b="0" lang="en-US" sz="18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 C base substitution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Differentiation of smokers and nonsmokers was evident from comparison of mutation count from the CpG </a:t>
            </a:r>
            <a:r>
              <a:rPr b="0" lang="en-US" sz="20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 T and C </a:t>
            </a:r>
            <a:r>
              <a:rPr b="0" lang="en-US" sz="20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 A signatur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atic Genetic Signatures of Smoke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us Nonsmo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the study cohort, there were gains in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ERT (42%), MYC (31%), EGFR (22%) and NKX2-1 (18%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ere frequent losses in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P53 (18%), CDKN2A (24%), SMAD4, KEAP1 and SMARCA4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GFR mutations were significantly anticorrelated with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K-ras mutations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3.3 x 10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omatic mutation rate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5.9 x 10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GFR mutations were significantly correlated with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ever/light smoking status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2.0 x 10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-6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mputed never/light smoking status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1.5 x 10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utations in U2AF1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= 0.00011) and TP53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= 0.0014) were associated with significantly reduced progression-free survival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393840" y="201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Correlations Among 25 Significantly Mutated Genes and Clinicopathologic and Genomic Fea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1500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U2AF1, an RNA binding protein, was one of the most significantly mutated gen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= 2.0 x 10</a:t>
            </a:r>
            <a:r>
              <a:rPr b="0" lang="en-US" sz="2000" spc="-1" strike="noStrike" baseline="30000">
                <a:solidFill>
                  <a:srgbClr val="464847"/>
                </a:solidFill>
                <a:latin typeface="Arial"/>
              </a:rPr>
              <a:t>-6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BM10, an RNA binding protein, was frequently mutated in 12/183 (7%) cas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RID1A, which encodes a key protein in the SWI/SNF chromatin-remodeling complex, was mutated in 8% of cas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393480" y="2016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mination of Candidate Lung Adenocarcinoma 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27432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gene with the highest rate of rearrangements for its size was CDKN2A (4.3/sequenced Mb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vel discoveries included 2 exon deletions in EGFR. Similar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deletions were previously shown to be oncogenic in glioblastoma multiform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did not identify any in-frame rearrangements involving kinase fusion targets in lung adenocarcinoma ALK, RET1 and ROS1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n out-of-frame ROS1-CD74 translocation was identified in a single patie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Imielinski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Cel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150(6):1107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393480" y="2016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ation of Novel and Recurrent Structural Variants in Lung Adenocarcin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6-11T14:06:43Z</cp:lastPrinted>
  <dcterms:modified xsi:type="dcterms:W3CDTF">2013-07-22T19:06:47Z</dcterms:modified>
  <cp:revision>748</cp:revision>
  <dc:subject/>
  <dc:title>Research To Practice</dc:title>
</cp:coreProperties>
</file>