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71B-CA48-424B-965F-03E217A8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B39-F0A4-4089-9196-70FE5BA2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403-7B5E-4EC4-A5CC-67AD465E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236-6882-4478-B716-A94C9A7B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63D5-1DCF-4082-9307-DBCE2AF6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F8F9-1340-48DC-84B1-E78C4B5F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648C-6718-46FF-98AE-DDA588B3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8CE5-E1F9-4EAC-AD27-D890BC9D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363D-1866-4664-BFC8-966D25D0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45C5-DC6B-466D-94C0-6E8947AB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D772-CA50-4181-B912-53BA59AA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674-1142-4351-BCB5-51C0A3BF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6CCB-F695-45D1-9996-B69997DF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0005-B8BD-4A9C-8972-2FEEF5A6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4C17-AF77-4E20-BFF6-DD703A7B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A715-EE8C-4529-9551-5FDF0F9A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04C6-6A36-45B2-8C0A-C38E8BDC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53E-45B1-4D30-A9A5-5881EB70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BF1F2-5444-434F-9943-A1C6294A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1400-325D-465A-A8A5-B24CC458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AC73-2596-4BEA-9FEB-72612A62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69C-76BB-4559-AA17-A6E4E587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2293-EC49-4264-BE90-DEA81721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644A-9E67-4DFB-AD5C-29E8F8A1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3459-9E10-46CD-8BD8-14A3B97C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4F538-B3DD-471A-B38B-7EF492BC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14C3-BF06-4498-B45F-AB0B8333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5EAF-922D-4FDA-8693-91D02884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382B-EEED-48BA-9420-3E804B7E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DC0E1-0CCD-4F9E-962C-DD45633E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D6291-E8EC-4342-8671-ECBC5BA7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BFE-F293-461B-9CE7-8DF50BC5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55D-E4CB-43B4-B0A8-90B04F8A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54832-0AA7-47DA-82C3-E9C8C85D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91593-F260-4137-B3E0-D4A5DC5E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B29D-F047-4E48-9E0C-8EE814B5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27D7F-ED02-4578-9E28-99C5B5E9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354C-A91B-4E50-AE8E-57F61EB8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D61CC-73AB-43B4-BFDF-51E15AAD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3D844-BD9B-4B23-84E2-30A346EF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F532-4513-4677-BC5F-FA8516E5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8AA13-DD86-4EED-BA0D-7113C9FE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48F-FDE6-49EB-BC6A-A0F26E83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C9288-AB87-400F-9E6F-62A685A8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2B7B-8769-434F-AD17-85F9D053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F2BC3-E462-4A7B-AFE9-CC9E83FB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821-DE63-40C0-B68B-F7BFB691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A72-AE6A-412A-B6EB-85BE20FE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F0934-859C-4EA8-9C7D-833C2BFFEB13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01B3A-67E1-496C-8C42-CC73D7DFD9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F810F-78B9-4A7D-B166-EB23C2B5E63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5F3FF-2067-451A-B1AE-F0341E593C2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62DAA-2A3D-4FD7-BCEA-6FAC96F5D4D0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F29F0-89F1-461C-98C1-C3DD9879076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C9764-978A-4992-B626-7527FD81B39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CE66D-6A69-4515-AC0C-B0A298F329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0"/>
            <a:ext cx="870120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rlotinib versus Standard Chemotherapy as First-Line Treatment for European Patients with Advanced EGFR Mutation-Positive Non-Small-Cell Lung Cancer (EURTAC): A Multicentre, Open-Label, Randomised Phase 3 Tri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osell R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333333"/>
                </a:solidFill>
                <a:latin typeface="Arial"/>
              </a:rPr>
              <a:t>Lancet Oncol 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2012;13(3):239-4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274320" tIns="13716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 Phase III trials demonstrated that first-line erlotinib or gefitinib significantly improved progression-free survival (PFS) compared to chemotherapy in Asian patients with advanced NSCLC harboring EGFR mutatio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IPASS study of gefitinib (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NEJM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2009;361:947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WJTOG3405 study of gefitinib (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Lancet Oncol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2010;11:121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NEJ002 study of gefitinib (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NEJM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2010;362:2380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OPTIMAL study of erlotinib (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</a:rPr>
              <a:t>Lancet Oncol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2011;12:735)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ssess the efficacy and safety of first-line erlotinib compared to standard chemotherapy for European patients with advanced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GFR mutation-positive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2"/>
          <p:cNvSpPr/>
          <p:nvPr/>
        </p:nvSpPr>
        <p:spPr>
          <a:xfrm>
            <a:off x="3930480" y="2079720"/>
            <a:ext cx="12510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14400" y="1371600"/>
          <a:ext cx="3079800" cy="4076640"/>
        </p:xfrm>
        <a:graphic>
          <a:graphicData uri="http://schemas.openxmlformats.org/drawingml/2006/table">
            <a:tbl>
              <a:tblPr/>
              <a:tblGrid>
                <a:gridCol w="3079800"/>
              </a:tblGrid>
              <a:tr h="46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06840"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istologically confirmed NSCLC — Stage IIIB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ith pleural effusion or Stage I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GFR exon 19 delet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r exon 21 L858R mu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hemotherapy-naïv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or metastatic NSCLC (neo/adjuvant Tx ≥6 mo allow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1" name="Rectangle 31"/>
          <p:cNvSpPr/>
          <p:nvPr/>
        </p:nvSpPr>
        <p:spPr>
          <a:xfrm>
            <a:off x="4546440" y="3192480"/>
            <a:ext cx="40896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P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emotherapy (CT) consisted of four 3-week cycles of cisplatin with carboplatin or gemcitabine with doceta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rossover was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TAC: Phase I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5508720" y="1371600"/>
          <a:ext cx="2884320" cy="695160"/>
        </p:xfrm>
        <a:graphic>
          <a:graphicData uri="http://schemas.openxmlformats.org/drawingml/2006/table">
            <a:tbl>
              <a:tblPr/>
              <a:tblGrid>
                <a:gridCol w="288432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rlotinib (150 mg/d P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n = 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5508720" y="2208240"/>
          <a:ext cx="2884320" cy="695160"/>
        </p:xfrm>
        <a:graphic>
          <a:graphicData uri="http://schemas.openxmlformats.org/drawingml/2006/table">
            <a:tbl>
              <a:tblPr/>
              <a:tblGrid>
                <a:gridCol w="288432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tandard 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n = 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6666"/>
                      </a:solidFill>
                    </a:lnL>
                    <a:lnR w="9360">
                      <a:solidFill>
                        <a:srgbClr val="666666"/>
                      </a:solidFill>
                    </a:lnR>
                    <a:lnT w="9360">
                      <a:solidFill>
                        <a:srgbClr val="666666"/>
                      </a:solidFill>
                    </a:lnT>
                    <a:lnB w="93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55" name="Group 13"/>
          <p:cNvGrpSpPr/>
          <p:nvPr/>
        </p:nvGrpSpPr>
        <p:grpSpPr>
          <a:xfrm>
            <a:off x="5186520" y="1742760"/>
            <a:ext cx="322200" cy="655560"/>
            <a:chOff x="5186520" y="1742760"/>
            <a:chExt cx="322200" cy="655560"/>
          </a:xfrm>
        </p:grpSpPr>
        <p:sp>
          <p:nvSpPr>
            <p:cNvPr id="256" name="Line 14"/>
            <p:cNvSpPr/>
            <p:nvPr/>
          </p:nvSpPr>
          <p:spPr>
            <a:xfrm flipV="1">
              <a:off x="5186520" y="174276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5186520" y="174312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6"/>
          <p:cNvGrpSpPr/>
          <p:nvPr/>
        </p:nvGrpSpPr>
        <p:grpSpPr>
          <a:xfrm>
            <a:off x="5186520" y="1879560"/>
            <a:ext cx="322200" cy="677880"/>
            <a:chOff x="5186520" y="1879560"/>
            <a:chExt cx="322200" cy="677880"/>
          </a:xfrm>
        </p:grpSpPr>
        <p:sp>
          <p:nvSpPr>
            <p:cNvPr id="259" name="Line 17"/>
            <p:cNvSpPr/>
            <p:nvPr/>
          </p:nvSpPr>
          <p:spPr>
            <a:xfrm>
              <a:off x="5186520" y="187956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5186520" y="2557080"/>
              <a:ext cx="3222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4184640" y="1708200"/>
            <a:ext cx="731880" cy="7318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1"/>
          <p:cNvSpPr/>
          <p:nvPr/>
        </p:nvSpPr>
        <p:spPr>
          <a:xfrm>
            <a:off x="914400" y="4668840"/>
            <a:ext cx="76453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* Data cutoff August 2, 2010; </a:t>
            </a:r>
            <a:r>
              <a:rPr b="0" lang="en-US" sz="1800" spc="-1" strike="noStrike" baseline="30000">
                <a:solidFill>
                  <a:srgbClr val="333333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nal data cutoff January 26, 2011;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NA = not ass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fter review of interim analysis data, enrollment was stop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914400" y="1397160"/>
          <a:ext cx="7315200" cy="3225600"/>
        </p:xfrm>
        <a:graphic>
          <a:graphicData uri="http://schemas.openxmlformats.org/drawingml/2006/table">
            <a:tbl>
              <a:tblPr/>
              <a:tblGrid>
                <a:gridCol w="3314880"/>
                <a:gridCol w="2171520"/>
                <a:gridCol w="1828800"/>
              </a:tblGrid>
              <a:tr h="403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planned interim analysi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lotinib (n = 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T (n = 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9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azard ratio (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-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.42 (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&lt; 0.0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al analysis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9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5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azard ratio (</a:t>
                      </a: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-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0.37 (</a:t>
                      </a:r>
                      <a:r>
                        <a:rPr b="0" i="1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p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&lt; 0.0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-year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-year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0% (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Endpoint: P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914400" y="1498680"/>
          <a:ext cx="7353360" cy="3176640"/>
        </p:xfrm>
        <a:graphic>
          <a:graphicData uri="http://schemas.openxmlformats.org/drawingml/2006/table">
            <a:tbl>
              <a:tblPr/>
              <a:tblGrid>
                <a:gridCol w="2989440"/>
                <a:gridCol w="1455480"/>
                <a:gridCol w="1471680"/>
                <a:gridCol w="1436760"/>
              </a:tblGrid>
              <a:tr h="66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&lt;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5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 response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Responses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934920" y="4775040"/>
            <a:ext cx="73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ntention-to-treat population; NR = not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914400" y="1562040"/>
          <a:ext cx="7332840" cy="2868840"/>
        </p:xfrm>
        <a:graphic>
          <a:graphicData uri="http://schemas.openxmlformats.org/drawingml/2006/table">
            <a:tbl>
              <a:tblPr/>
              <a:tblGrid>
                <a:gridCol w="3594240"/>
                <a:gridCol w="1868400"/>
                <a:gridCol w="187020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57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verall surv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9.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9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De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914400" y="4888080"/>
            <a:ext cx="73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requency of crossover from CT to the erlotinib arm: 66 patients (76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914400" y="1422360"/>
          <a:ext cx="7289640" cy="3565440"/>
        </p:xfrm>
        <a:graphic>
          <a:graphicData uri="http://schemas.openxmlformats.org/drawingml/2006/table">
            <a:tbl>
              <a:tblPr/>
              <a:tblGrid>
                <a:gridCol w="2739960"/>
                <a:gridCol w="1515960"/>
                <a:gridCol w="1517760"/>
                <a:gridCol w="151596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 (n = 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 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6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r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666666"/>
                      </a:solidFill>
                    </a:lnL>
                    <a:lnR w="4320">
                      <a:solidFill>
                        <a:srgbClr val="666666"/>
                      </a:solidFill>
                    </a:lnR>
                    <a:lnT w="4320">
                      <a:solidFill>
                        <a:srgbClr val="666666"/>
                      </a:solidFill>
                    </a:lnT>
                    <a:lnB w="432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Grade 3 and 4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777420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Patients who received erlotinib in the EURTAC trial had longer PFS, a higher response rate and milder side effects compared to those who received standard chemo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Data from the EURTAC and OPTIMAL trials suggest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 benefit in PFS with first-line erlotinib in a European population and confirm the improvements attained with EGFR-targeted agents in Asian pati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33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se data strengthen the rationale for routine baseline tissue-based assessment of EGFR mutations in patients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th NSCLC and for the treatment of patients with mutation-positive NSCLC with EGFR tyrosine kinase inhibito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Rosell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Lancet Oncol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 2012;13(3):239-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9:16:41Z</dcterms:created>
  <dc:creator>Research To Practice</dc:creator>
  <dc:description/>
  <cp:keywords/>
  <dc:language>en-US</dc:language>
  <cp:lastModifiedBy>Aura Herrmann</cp:lastModifiedBy>
  <cp:lastPrinted>2013-03-06T20:38:39Z</cp:lastPrinted>
  <dcterms:modified xsi:type="dcterms:W3CDTF">2013-07-22T21:02:21Z</dcterms:modified>
  <cp:revision>649</cp:revision>
  <dc:subject/>
  <dc:title>Research To Practice</dc:title>
</cp:coreProperties>
</file>