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45C-34ED-4943-A082-DDE97CF4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CA3-1E16-4BAD-A930-26B70DE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0302-80F5-4499-A69E-862837AC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41ED-B95E-4E7B-BC4A-88027B70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2D10-FC5D-408E-A69B-35EDB8C8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7E40-C69F-4433-BCBC-91554F6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2745B-1CE4-4D51-B78E-463F95C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429E-4DC5-4F09-9C6A-B3BC34C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6DEA-ED7F-4C0D-9820-7E1EB09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CB05-903F-4693-9BF1-C5DC9296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A8042-39BD-45C8-A4AF-8B681CA5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0F5-6922-4852-A815-7EE53DB1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734-0D8D-4AC5-8A5A-A4FE2C6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CFA-7C22-411A-B823-E2BF8F88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2DD-15A9-41B2-B402-753890E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970-0D4D-47A6-B9C4-A92BC0B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606A-AC3F-4AA1-9029-38B66AC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3248-C269-4260-A123-CA37064A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8BF-8362-481F-80DB-7A5E45A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3E95-5F0D-40DF-85A3-4AAB870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95E-AF5B-4BE7-B7B3-46BC0898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BAB8-497E-4934-BEF6-84FCF5D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F9BC-C687-40B5-8454-2FF8342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3706-21F2-475F-84C7-539F97A7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9BF-1ACB-40F7-AFC2-48F9EA7F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5D90-019D-4E1E-BDD3-21FF15D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236A-8352-46C8-8191-76BBD1B6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13C7-AAF9-4D80-9E26-2BD1711A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8091-3F01-4E5D-98C6-E8D118F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2F50-CFB6-4218-89B1-D511BF2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DBEE-BCE9-42E6-9BAB-0CBBFAC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294-FF79-40A8-BBC5-10975DA0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75E5-4508-49FF-BFDA-76B53ABF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AE2D-E567-492A-B654-B9FE1D2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9674-1750-4A44-99F0-96A7A6F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2F0A-2302-4000-A014-62803C7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B804-763C-4862-BCB2-28AE34DE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ED18-4034-40EB-898E-DA20E2AA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C6FD-3108-4DA2-80C0-6A40988A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2CF-8B56-4622-B8F7-14BC1F6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B0D6-F897-46A4-885C-E1FA0A4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935-C1C3-4E44-BE6E-C24A6CF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484F-F977-45A8-864C-80191A3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3267-A1A6-49E9-9771-8C9380E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BDF4-541C-4DDA-B4CE-69CA107F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52EC9-8F37-42F4-A425-90E91CE6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242F-D61A-4CB6-AC74-60CDA766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F5FA-4E53-4967-8802-C6D3104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C21D-FA49-482C-8EB8-25EDDF7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902B5-E761-47F3-B3C9-48BA896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AEC5-F2D5-4334-B058-CA54337F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FF3B-78E3-4153-A0ED-F97FF07C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086-7872-4950-AEF2-42A3CC82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DCF2-7392-42E0-8522-47C30A64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3FE-0356-419C-87D2-A6D7893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F5433-76A3-487F-B3AA-264A850A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48BF-19FE-4C22-B92A-BE840F5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7860-4DA5-4629-96AB-1C13486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201F-5985-49B2-A8A7-DCCF8BD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AE8D6-04FB-4AFC-B7EF-6F0ECF5D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6174-E8CA-46DD-ADAB-A9B8CF6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FD7B-42D4-41A7-B67B-1DA81A5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CE3-40EB-4D7C-AF0C-B97F524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3733-740A-4AA1-8B82-91E2E68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BD09D-FD47-4042-B2AF-29DB705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F2E4-D57C-415C-AFEB-2C5C92CF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DF58-173A-4329-886A-697F3A66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B232-B37F-4B1F-A8E8-B8395BF1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0F6-4BA3-4A38-9F0E-FE5E25C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244DF-C282-4F2A-87F0-69212090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CC49-16FA-4195-B15D-2B6C4D0A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BAA6-884D-4C39-94C9-A392904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B940D-10DB-4251-8590-6E55BEBCE2D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F8571-4A77-4369-A384-636CD68AD9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AB405-A73D-48F2-9A14-2CE8F958AED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5F1CE-A3BD-4DB3-B2E7-37EAF2D9C3D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102DF-6149-4904-9276-32CB5C27F79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986C4-22F5-4E27-890E-DD3435A0A35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74A37-8A7B-4374-8026-BB313D5C9F4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F7B83-80F0-4C91-9826-B530565732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B9C02-EFB0-413F-9DA1-25A37F3C9C2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0CED8-0BEC-438B-87BC-B097A6725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8408C-BC66-4691-A993-E58BF52B29C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EABC8-73A5-43DE-BD10-C159D5AE31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umetinib plus Docetaxel for KRAS-Mutant Advanced Non-Small-Cell Lung Cancer: A Randomised, Multicentre, Placebo-Controlled, Phase 2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Jänne P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14(1):38-4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9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RAS is the most frequent mutated oncogene i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SCLC, with mutations detected in approximately 20% of tumors in Caucasian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re are no approved therapies available for KRAS-mutant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Selumetinib is a selective inhibitor of MEK1/2 kinases, downstream of KRAS, with preclinical evidence of synergistic activity with docetaxel in KRAS-mutant canc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Assess the efficacy and safety of selumetinib in combination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with docetaxel as second-line therapy for patients with KRAS-mutant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914400" y="5249880"/>
            <a:ext cx="75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survival (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559480" y="1460520"/>
          <a:ext cx="2759040" cy="63972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lumetinib +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559480" y="2798640"/>
          <a:ext cx="2759040" cy="639720"/>
        </p:xfrm>
        <a:graphic>
          <a:graphicData uri="http://schemas.openxmlformats.org/drawingml/2006/table">
            <a:tbl>
              <a:tblPr/>
              <a:tblGrid>
                <a:gridCol w="27590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+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3981600" y="2435400"/>
            <a:ext cx="125064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5237280" y="1779480"/>
            <a:ext cx="322200" cy="655920"/>
            <a:chOff x="5237280" y="1779480"/>
            <a:chExt cx="322200" cy="655920"/>
          </a:xfrm>
        </p:grpSpPr>
        <p:sp>
          <p:nvSpPr>
            <p:cNvPr id="377" name="Line 14"/>
            <p:cNvSpPr/>
            <p:nvPr/>
          </p:nvSpPr>
          <p:spPr>
            <a:xfrm flipV="1">
              <a:off x="5237280" y="177948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>
              <a:off x="5237280" y="17794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5237280" y="2443320"/>
            <a:ext cx="322200" cy="679320"/>
            <a:chOff x="5237280" y="2443320"/>
            <a:chExt cx="322200" cy="679320"/>
          </a:xfrm>
        </p:grpSpPr>
        <p:sp>
          <p:nvSpPr>
            <p:cNvPr id="380" name="Line 17"/>
            <p:cNvSpPr/>
            <p:nvPr/>
          </p:nvSpPr>
          <p:spPr>
            <a:xfrm>
              <a:off x="5237280" y="2443320"/>
              <a:ext cx="0" cy="6793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8"/>
            <p:cNvSpPr/>
            <p:nvPr/>
          </p:nvSpPr>
          <p:spPr>
            <a:xfrm>
              <a:off x="5237280" y="31222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4229280" y="3597120"/>
            <a:ext cx="43941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lumetinib/placebo: 75 mg BID (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djustment/reductions: 75 mg/d,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50 mg BID and 50 mg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cetaxel: 75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; d1 q3wk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6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4292640" y="205092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1473120"/>
          <a:ext cx="3170160" cy="2803680"/>
        </p:xfrm>
        <a:graphic>
          <a:graphicData uri="http://schemas.openxmlformats.org/drawingml/2006/table">
            <a:tbl>
              <a:tblPr/>
              <a:tblGrid>
                <a:gridCol w="31701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43900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/cytologically confirmed locally advanced or metastatic KRAS-mutant NSCLC (Stage IIIB-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ure of first-line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treatment with a MEK inhibitor or doceta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6" name="Rectangle 31"/>
          <p:cNvSpPr/>
          <p:nvPr/>
        </p:nvSpPr>
        <p:spPr>
          <a:xfrm>
            <a:off x="5587920" y="227016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crossover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1"/>
          <p:cNvSpPr/>
          <p:nvPr/>
        </p:nvSpPr>
        <p:spPr>
          <a:xfrm>
            <a:off x="914400" y="3606840"/>
            <a:ext cx="77724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EL = selumetinib; Doc = docetaxel; PLA =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treatment was 117 days (SEL), 68 days (P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 was similar regardless of confirmation of KRAS mut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601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R: 0.81;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14400" y="1447920"/>
          <a:ext cx="7327800" cy="2081160"/>
        </p:xfrm>
        <a:graphic>
          <a:graphicData uri="http://schemas.openxmlformats.org/drawingml/2006/table">
            <a:tbl>
              <a:tblPr/>
              <a:tblGrid>
                <a:gridCol w="1641600"/>
                <a:gridCol w="1406520"/>
                <a:gridCol w="1371600"/>
                <a:gridCol w="1549440"/>
                <a:gridCol w="135864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nd 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1"/>
          <p:cNvSpPr/>
          <p:nvPr/>
        </p:nvSpPr>
        <p:spPr>
          <a:xfrm>
            <a:off x="914400" y="4565520"/>
            <a:ext cx="7485120" cy="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&lt; 0.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response with SEL was 6.0 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14400" y="1498680"/>
          <a:ext cx="7315200" cy="3068640"/>
        </p:xfrm>
        <a:graphic>
          <a:graphicData uri="http://schemas.openxmlformats.org/drawingml/2006/table">
            <a:tbl>
              <a:tblPr/>
              <a:tblGrid>
                <a:gridCol w="3689280"/>
                <a:gridCol w="1812960"/>
                <a:gridCol w="1812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at ≥6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2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evalu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14400" y="1739880"/>
          <a:ext cx="7327800" cy="2524320"/>
        </p:xfrm>
        <a:graphic>
          <a:graphicData uri="http://schemas.openxmlformats.org/drawingml/2006/table">
            <a:tbl>
              <a:tblPr/>
              <a:tblGrid>
                <a:gridCol w="3035160"/>
                <a:gridCol w="1416240"/>
                <a:gridCol w="1378080"/>
                <a:gridCol w="149832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 marL="63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ee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6.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fference betwee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7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ee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9.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fference betwee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Tumor Size from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914400" y="4376880"/>
            <a:ext cx="73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-study use of anticancer therapy was similar between groups: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4% (SEL) and 55% (P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4400" y="1434960"/>
          <a:ext cx="7467480" cy="4023000"/>
        </p:xfrm>
        <a:graphic>
          <a:graphicData uri="http://schemas.openxmlformats.org/drawingml/2006/table">
            <a:tbl>
              <a:tblPr/>
              <a:tblGrid>
                <a:gridCol w="2641680"/>
                <a:gridCol w="1270080"/>
                <a:gridCol w="1180800"/>
                <a:gridCol w="1206720"/>
                <a:gridCol w="116820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/Doc (n = 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/Doc (n = 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ow neutrophil 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ts val="2999"/>
              </a:lnSpc>
              <a:spcBef>
                <a:spcPts val="18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patients with previously treated KRAS-mutant NSCLC, the combination of selumetinib with docetaxel demonstrated promising efficacy, albeit with a higher number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adverse events than with docetaxel therapy alone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1800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findings warrant further clinical investigation of combination therapy with selumetinib and docetaxel i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RAS-mutant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änne P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14(1):38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2Z</dcterms:created>
  <dc:creator>Research To Practice</dc:creator>
  <dc:description/>
  <cp:keywords/>
  <dc:language>en-US</dc:language>
  <cp:lastModifiedBy>Silvana Izquierdo</cp:lastModifiedBy>
  <cp:lastPrinted>2013-06-11T14:17:33Z</cp:lastPrinted>
  <dcterms:modified xsi:type="dcterms:W3CDTF">2013-07-22T19:08:30Z</dcterms:modified>
  <cp:revision>631</cp:revision>
  <dc:subject/>
  <dc:title>Research To Practice</dc:title>
</cp:coreProperties>
</file>