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0257-81D2-4513-A824-520181F1F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3532-C2A4-4715-BBD4-4C5C3BA39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323F-028F-4556-AB30-458226051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B97C-E01D-4769-BFEB-B769EA925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9CC2F-3DED-43C0-8647-CA4CE4D5F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00A6F-6741-4ADC-B16D-B6EC51C1D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3DA13-6791-43C7-AFB8-9D46A660A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85287-9E47-44FD-9220-732728689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C4624-7A72-4158-8ECA-555DA413E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B7ED0-40E1-4DBB-BA67-50F41AD7D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4A825-C6AA-4D56-9D67-6A6BB37CB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157B-283C-4040-9B4A-CAA09698E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8AF2E-5F4B-40EB-9F70-FA2FDDF18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97034-2988-4B59-A037-6712A33EF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0B2FA-1393-4400-BD83-CF16D53A1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BA244-36E5-47FA-90E5-173DAF7AD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2DB4B-CA31-429C-947C-A0EE2A6D8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6CCD-0936-41CD-8BAE-CB8136E62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34F448-F270-4C88-8788-8DFBAEA43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E67950-95B6-4434-B14D-D63E037FD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400E1E-0FC6-4C49-B4EA-BDF4FFD5E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33BB-2AC1-460A-974E-792EE7A35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C0D4CD-8554-40F9-BC50-F143D5F31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272F66-F867-4F0D-934F-ADDA49953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7274EC-26A6-4E04-9E76-10AB86350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57C197-AC8D-4D0A-983F-ACA69EB5A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698FD9-B278-4DD1-AF5C-B5D329028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9DC99C-1CC1-4054-95D2-80F1B1252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75269F-73E3-45A7-B053-F6D2E4305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009A6F-DC00-4EAB-A733-DFE123A68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957C3F-E342-48CC-B6BC-A27A42BCB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0BD5-ACEE-419A-9955-97E6EC383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B93E-17A5-4184-9EA4-F3282939A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893F75-9106-49B1-BF40-1BCEB3270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E01DD5-CB03-4D2A-8CC6-22678883E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B91A34-A135-416F-AE00-988A6BCF3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B995F9-F502-40A0-9480-003081D66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6257C0-A764-40A6-813C-0F4FABD4F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EC3D3A-9D85-480E-A6C1-5123C57B0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3EE783-44F6-4D11-B96E-2EA3645E1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C48A31-0256-40BF-8638-07592CEAF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A44ADA-E303-4A2C-B57C-45AFBE59C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5A84-7FBB-4C15-8AD8-F329FF8C0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FDA98C-2F7D-4E65-B8E2-4EF3F9687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51011F-0948-4F38-8428-F425C9937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08DCB6-4073-4202-9A3C-6B4AF5CCF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EB8A-C98A-4E78-9DCA-598F4915B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AB32-46F2-4E2B-9E97-B928D722B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83F89A-572F-444B-B10B-EDE6D034EBFC}" type="datetime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ED5FF5-111C-40C0-AC6E-A79FFA9FB49C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50CB65-0E4D-4470-BFB5-2BA018199844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864238-115E-4F29-90E5-D812C08D49C2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YiRNHL_TitlePageBarv1si"/>
          <p:cNvPicPr/>
          <p:nvPr/>
        </p:nvPicPr>
        <p:blipFill>
          <a:blip r:embed="rId2"/>
          <a:stretch/>
        </p:blipFill>
        <p:spPr>
          <a:xfrm>
            <a:off x="442800" y="4707000"/>
            <a:ext cx="8226360" cy="15256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8" descr="YiRNHL_Intro_v1si"/>
          <p:cNvPicPr/>
          <p:nvPr/>
        </p:nvPicPr>
        <p:blipFill>
          <a:blip r:embed="rId2"/>
          <a:stretch/>
        </p:blipFill>
        <p:spPr>
          <a:xfrm>
            <a:off x="449280" y="1170000"/>
            <a:ext cx="8226360" cy="457056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7D8561-AD73-414B-8027-7C8AB9600851}" type="datetime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393E73-AAE0-4288-B9DE-32674DEB9DD7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YiRNHL_TitlePageBarv1si"/>
          <p:cNvPicPr/>
          <p:nvPr/>
        </p:nvPicPr>
        <p:blipFill>
          <a:blip r:embed="rId2"/>
          <a:stretch/>
        </p:blipFill>
        <p:spPr>
          <a:xfrm>
            <a:off x="442800" y="4707000"/>
            <a:ext cx="8226360" cy="152568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8" descr="YiRNHL_Intro_v1si"/>
          <p:cNvPicPr/>
          <p:nvPr/>
        </p:nvPicPr>
        <p:blipFill>
          <a:blip r:embed="rId2"/>
          <a:stretch/>
        </p:blipFill>
        <p:spPr>
          <a:xfrm>
            <a:off x="449280" y="1170000"/>
            <a:ext cx="8226360" cy="457056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1E9FDF-DBD1-4426-84EC-C20201FEBF45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463512-6D27-420F-A900-9056AC3B737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442800" y="714240"/>
            <a:ext cx="8226360" cy="399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365760" tIns="320040" bIns="45720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nical Activity of Crizotinib in Advanced Non-Small Cell Lung Cancer (NSCLC) Harboring ROS1 Gene Rearran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5"/>
          <p:cNvSpPr/>
          <p:nvPr/>
        </p:nvSpPr>
        <p:spPr>
          <a:xfrm>
            <a:off x="455760" y="4707000"/>
            <a:ext cx="822636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haw AT et 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200" spc="-1" strike="noStrike">
                <a:solidFill>
                  <a:srgbClr val="464847"/>
                </a:solidFill>
                <a:latin typeface="Arial"/>
              </a:rPr>
              <a:t>Proc ASCO </a:t>
            </a: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2012;Abstract 7508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tIns="137160" anchor="t">
            <a:normAutofit/>
          </a:bodyPr>
          <a:p>
            <a:pPr marL="343080" indent="-343080">
              <a:spcBef>
                <a:spcPts val="476"/>
              </a:spcBef>
              <a:buClr>
                <a:srgbClr val="333333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Chromosomal rearrangements in the ROS1 receptor tyrosine kinase gene define a new molecular subset of NSCLC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3333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ROS1 rearrangement is present in about 1% of NSCLC cases and enriched in young never/light smokers with lung adenocarcinoma (</a:t>
            </a:r>
            <a:r>
              <a:rPr b="0" i="1" lang="en-US" sz="2000" spc="-1" strike="noStrike">
                <a:solidFill>
                  <a:srgbClr val="333333"/>
                </a:solidFill>
                <a:latin typeface="Arial"/>
              </a:rPr>
              <a:t>JCO</a:t>
            </a: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 2012;30:863)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3333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Crizotinib is a small molecule tyrosine kinase inhibitor of cMET, ALK and ROS1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3333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Crizotinib demonstrated activity in preclinical studies of ROS1- rearranged NSCLC cell lines and 1 patient with ROS1- rearranged advanced NSCLC (</a:t>
            </a:r>
            <a:r>
              <a:rPr b="0" i="1" lang="en-US" sz="2000" spc="-1" strike="noStrike">
                <a:solidFill>
                  <a:srgbClr val="333333"/>
                </a:solidFill>
                <a:latin typeface="Arial"/>
              </a:rPr>
              <a:t>JCO</a:t>
            </a: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 2012;30:863)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3333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Current study objective: 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Examine the efficacy and safety of crizotinib in patients with advanced ROS1-rearranged NSCLC. 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8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Shaw AT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ASCO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2;Abstract 7508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hase I Study Metho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42800" y="1163520"/>
            <a:ext cx="8244000" cy="4570560"/>
          </a:xfrm>
          <a:prstGeom prst="rect">
            <a:avLst/>
          </a:prstGeom>
          <a:noFill/>
          <a:ln w="0">
            <a:noFill/>
          </a:ln>
        </p:spPr>
        <p:txBody>
          <a:bodyPr lIns="457200" tIns="137160"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333333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  <a:ea typeface="Arial"/>
              </a:rPr>
              <a:t>Part 1: Dose-escalation phase (cohorts 1 to 6: 50 to 300 mg BID)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333333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  <a:ea typeface="Arial"/>
              </a:rPr>
              <a:t>Part 2: Dose</a:t>
            </a: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-expansion phase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333333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Enriched patient population with ROS1 rearrangements (n = 15)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1199"/>
              </a:spcAft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Dosed at 250 mg BID (n = 15)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1199"/>
              </a:spcAft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Continuing treatment (n = 12)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1199"/>
              </a:spcAft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Discontinued treatment due to disease progression (n = 3)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333333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ROS1 rearrangement was determined with the </a:t>
            </a:r>
            <a:r>
              <a:rPr b="0" lang="ja-JP" sz="2000" spc="-1" strike="noStrike">
                <a:solidFill>
                  <a:srgbClr val="333333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break-apart</a:t>
            </a:r>
            <a:r>
              <a:rPr b="0" lang="ja-JP" sz="20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 FISH assay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51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Shaw AT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ASCO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2;Abstract 7508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2" name=""/>
          <p:cNvGraphicFramePr/>
          <p:nvPr/>
        </p:nvGraphicFramePr>
        <p:xfrm>
          <a:off x="914400" y="1498680"/>
          <a:ext cx="7378560" cy="3865320"/>
        </p:xfrm>
        <a:graphic>
          <a:graphicData uri="http://schemas.openxmlformats.org/drawingml/2006/table">
            <a:tbl>
              <a:tblPr/>
              <a:tblGrid>
                <a:gridCol w="4832280"/>
                <a:gridCol w="2546280"/>
              </a:tblGrid>
              <a:tr h="446040"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aracterist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 = 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44604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  <a:ea typeface="Arial"/>
                        </a:rPr>
                        <a:t>Median age (rang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  <a:ea typeface="Arial"/>
                        </a:rPr>
                        <a:t>54 (31-72) yea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604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  <a:ea typeface="Arial"/>
                        </a:rPr>
                        <a:t>Fema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  <a:ea typeface="Arial"/>
                        </a:rPr>
                        <a:t>4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44604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  <a:ea typeface="Arial"/>
                        </a:rPr>
                        <a:t>Never/former smok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  <a:ea typeface="Arial"/>
                        </a:rPr>
                        <a:t>93%/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604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  <a:ea typeface="Arial"/>
                        </a:rPr>
                        <a:t>Adenocarcino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64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  <a:ea typeface="Arial"/>
                        </a:rPr>
                        <a:t>ECOG performance status (0/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  <a:ea typeface="Arial"/>
                        </a:rPr>
                        <a:t>67%/3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11887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  <a:ea typeface="Arial"/>
                        </a:rPr>
                        <a:t>Prior Tx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  <a:ea typeface="Arial"/>
                        </a:rPr>
                        <a:t>    None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  <a:ea typeface="Arial"/>
                        </a:rPr>
                        <a:t>    ≥1 regimen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  <a:ea typeface="Arial"/>
                        </a:rPr>
                        <a:t>    Unknow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  <a:ea typeface="Arial"/>
                        </a:rPr>
                        <a:t>13%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  <a:ea typeface="Arial"/>
                        </a:rPr>
                        <a:t>80%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  <a:ea typeface="Arial"/>
                        </a:rPr>
                        <a:t>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seline Demographic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Shaw AT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ASCO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2;Abstract 7508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5" name=""/>
          <p:cNvGraphicFramePr/>
          <p:nvPr/>
        </p:nvGraphicFramePr>
        <p:xfrm>
          <a:off x="914400" y="1473120"/>
          <a:ext cx="7332840" cy="3106800"/>
        </p:xfrm>
        <a:graphic>
          <a:graphicData uri="http://schemas.openxmlformats.org/drawingml/2006/table">
            <a:tbl>
              <a:tblPr/>
              <a:tblGrid>
                <a:gridCol w="4622760"/>
                <a:gridCol w="2710080"/>
              </a:tblGrid>
              <a:tr h="6404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st respon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valuable for respon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1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411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Overall response 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57.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148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Complete respon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7.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411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Partial respon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1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Stable dise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28.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411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Progressive dise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4.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04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Disease control rate at 8 wee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7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f"/>
                    </a:solidFill>
                  </a:tcPr>
                </a:tc>
              </a:tr>
            </a:tbl>
          </a:graphicData>
        </a:graphic>
      </p:graphicFrame>
      <p:sp>
        <p:nvSpPr>
          <p:cNvPr id="256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Shaw AT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ASCO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2;Abstract 7508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titumor Activity of Crizotinib in Patients with ROS1-Positive NSCL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Rectangle 31"/>
          <p:cNvSpPr/>
          <p:nvPr/>
        </p:nvSpPr>
        <p:spPr>
          <a:xfrm>
            <a:off x="914400" y="4749840"/>
            <a:ext cx="733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Median duration of treatment: 25.7 wee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9" name=""/>
          <p:cNvGraphicFramePr/>
          <p:nvPr/>
        </p:nvGraphicFramePr>
        <p:xfrm>
          <a:off x="914400" y="1447920"/>
          <a:ext cx="7175520" cy="3698640"/>
        </p:xfrm>
        <a:graphic>
          <a:graphicData uri="http://schemas.openxmlformats.org/drawingml/2006/table">
            <a:tbl>
              <a:tblPr/>
              <a:tblGrid>
                <a:gridCol w="2779560"/>
                <a:gridCol w="1465560"/>
                <a:gridCol w="1465200"/>
                <a:gridCol w="1465200"/>
              </a:tblGrid>
              <a:tr h="369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 = 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e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e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e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Visual impair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8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AST increas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Diarrhe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2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Hypophosphatem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Peripheral ede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ALT increas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Dysgeus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Nause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Neutrope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Adverse Events (AEs) with ≥10% Occurr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Shaw AT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ASCO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2;Abstract 7508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31"/>
          <p:cNvSpPr/>
          <p:nvPr/>
        </p:nvSpPr>
        <p:spPr>
          <a:xfrm>
            <a:off x="914400" y="5200560"/>
            <a:ext cx="733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No treatment-related Grade 4 or 5 AEs were observ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tIns="137160" anchor="t">
            <a:normAutofit/>
          </a:bodyPr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333333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ROS1 rearrangement defines a distinct subset of NSCLC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333333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Crizotinib demonstrates marked antitumor activity in patients with advanced ROS1-positive NSCLC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333333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hese data validate ROS1 as a therapeutic target in NSCLC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333333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uture directions include: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spcAft>
                <a:spcPts val="601"/>
              </a:spcAft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The continuation of enrollment of patients with ROS1-positive NSCLC in the MTD/RP2D expansion cohort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spcAft>
                <a:spcPts val="601"/>
              </a:spcAft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The evaluation of the role of crizotinib in other ROS1-rearranged cancers, including GBM and cholangiocarcinoma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spcAft>
                <a:spcPts val="601"/>
              </a:spcAft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The determination of mechanisms of resistance to crizotinib in ROS1-positive NSCLC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Shaw AT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ASCO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2;Abstract 7508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4T13:28:02Z</dcterms:created>
  <dc:creator>Research To Practice</dc:creator>
  <dc:description/>
  <cp:keywords/>
  <dc:language>en-US</dc:language>
  <cp:lastModifiedBy>Silvana Izquierdo</cp:lastModifiedBy>
  <cp:lastPrinted>2013-07-22T17:17:17Z</cp:lastPrinted>
  <dcterms:modified xsi:type="dcterms:W3CDTF">2013-07-22T18:55:26Z</dcterms:modified>
  <cp:revision>650</cp:revision>
  <dc:subject/>
  <dc:title>Research To Practice</dc:title>
</cp:coreProperties>
</file>