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5E690-0445-429C-9999-E8D774A343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03F04-4386-4EFA-8F89-A9B2D427A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757A2-7251-4424-ADD2-95DD211B1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F9ED7-5BDE-4388-A9AA-CC2308D42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0B9-C9FD-4B8B-B7E0-8F4E724F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D2B-5AFE-466C-BDBD-211F0E3D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B93-7E82-4182-A3A6-86C19A7F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452-1FD1-4687-BA57-3A9B23D8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F5E3-7626-426C-BCC4-641FAAB7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3832-5F1D-492E-A510-00957309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64FF-8DF1-4CC3-9A30-9CD83338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E9F8-8527-47D7-80AD-2DBE5F12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D581-9162-42C6-BB09-5FA0A0EA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2C26-E3B6-4490-A21F-28A777AA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2633-75AD-4F2B-A7DB-6553F7D8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4A8-F9C6-4439-83D0-04CCAFE0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5A02-C1F8-41C9-8717-E9EC0ECC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7E39-15CE-4414-BD44-4E39B84F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A727-12A0-4626-85CC-BAD52387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0874-D58B-4F93-B7AB-16634358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5564-19D6-4420-9F7E-71EBE7E9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A3B-CA3D-43C3-BACF-300009BC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F8E41-21C1-4B43-9B06-9172AD1A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21654-3A97-4C3F-9F88-43636C91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12DC5-2B5B-4AB1-840A-69EF64CA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2B2-CC5D-4EB0-B5ED-FE82C38D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7B119-9E67-48F8-9A37-8E00A10F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ED576-B281-45E2-8674-34A6059A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1AFCC-5D33-4241-8188-419BB225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53F13-5093-41C9-A5FC-F04AF04B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F58F8-FC81-4AF2-86FE-504ADD7D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EE0AA-1EFD-4B89-88A6-BA6A0621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AF389-26EC-4C5B-A38E-EAF3F697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D35A5-0F63-4925-908D-F9170E69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3B73D-E6F7-4DD1-9ACF-225A0A52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403-3610-40FD-A1B5-9AD7DA8D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66E-6B74-4F45-ACC7-4E5FAB93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B2616-7763-45A3-8BA7-65722F1E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D07B9-E936-462F-9B10-DCA40380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C0CF1-30F5-489A-8F03-F914180A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0969D-8748-449D-85C6-AE88A47C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85752-F3A2-44BD-865A-8451A196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7EFFB-737C-4A2F-88B5-38FD59A3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D5876-3FCB-4F5D-ABB1-950064CE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D8120-CE12-4A42-97F4-56250FF9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1CF36-DE93-406C-8211-729E54BE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8DC-F34C-402E-A827-D8DC675D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9EEC1-F9B3-468D-A945-FA700A13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B7F25-EEB8-4274-B1D0-F1429E48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42A34-C184-4DD8-8C91-F63A6E93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5BF-9504-4B59-A568-DF739144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3B5-C049-4A2F-AF06-F545CBD2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8DA19-1827-4EE1-8773-B24884B6FD6E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36417-5E24-42F8-B403-86A64E100AE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725D1-14D6-44EA-8229-BFF2437B992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3F042-EA67-436E-BE3A-2352A37FDC8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232AC-AB54-4306-829F-1E6C7FA63301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26004-A0D1-4D0B-AA35-167DB0FF66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9B5F9-E4F2-47CD-ACFC-61C66CBC1C9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ACCBA-A25A-4C2E-B0AC-5FD38E0CD1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442800" y="714240"/>
            <a:ext cx="822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nical Activity, Safety and Biomarkers of MPDL3280A, an Engineered PD-L1 Antibody in Patients with Locally Advanced or Metastatic Non-Small Cell Lung Cancer (NSCLC)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pigel DR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800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son of Efficacy between PD-1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-L1 Inhib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ighl NB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, 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961920" y="1596960"/>
          <a:ext cx="7239240" cy="2405160"/>
        </p:xfrm>
        <a:graphic>
          <a:graphicData uri="http://schemas.openxmlformats.org/drawingml/2006/table">
            <a:tbl>
              <a:tblPr/>
              <a:tblGrid>
                <a:gridCol w="1306440"/>
                <a:gridCol w="3951360"/>
                <a:gridCol w="1981440"/>
              </a:tblGrid>
              <a:tr h="48096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80960">
                <a:tc>
                  <a:txBody>
                    <a:bodyPr anchor="ctr">
                      <a:noAutofit/>
                    </a:bodyPr>
                    <a:p>
                      <a:pPr marL="16668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-1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ivolumab (n = 1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320">
                <a:tc>
                  <a:txBody>
                    <a:bodyPr anchor="ctr">
                      <a:noAutofit/>
                    </a:bodyPr>
                    <a:p>
                      <a:pPr marL="16668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-1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ambrolizumab (n =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80960">
                <a:tc>
                  <a:txBody>
                    <a:bodyPr anchor="ctr">
                      <a:noAutofit/>
                    </a:bodyPr>
                    <a:p>
                      <a:pPr marL="16668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-L1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BMS-936559 (n = 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960">
                <a:tc>
                  <a:txBody>
                    <a:bodyPr anchor="ctr">
                      <a:noAutofit/>
                    </a:bodyPr>
                    <a:p>
                      <a:pPr marL="166680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D-L1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PDL3280A (n = 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01" name="TextBox 10"/>
          <p:cNvSpPr/>
          <p:nvPr/>
        </p:nvSpPr>
        <p:spPr>
          <a:xfrm>
            <a:off x="936720" y="4527720"/>
            <a:ext cx="726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Brahmer JR et al. </a:t>
            </a:r>
            <a:r>
              <a:rPr b="0" i="1" lang="en-US" sz="1600" spc="-1" strike="noStrike">
                <a:solidFill>
                  <a:srgbClr val="464847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2013;Abstract 8030; 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atnaik A et al. </a:t>
            </a:r>
            <a:r>
              <a:rPr b="0" i="1" lang="en-US" sz="16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2013;Abstract 2512; 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Brahmer JR et al. </a:t>
            </a:r>
            <a:r>
              <a:rPr b="0" i="1" lang="en-US" sz="1600" spc="-1" strike="noStrike">
                <a:solidFill>
                  <a:srgbClr val="464847"/>
                </a:solidFill>
                <a:latin typeface="Arial"/>
              </a:rPr>
              <a:t>NEJM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2012;366(26):2455-65; </a:t>
            </a:r>
            <a:br>
              <a:rPr sz="1600"/>
            </a:b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4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pigel DR et al. </a:t>
            </a:r>
            <a:r>
              <a:rPr b="0" i="1" lang="en-US" sz="1600" spc="-1" strike="noStrike">
                <a:solidFill>
                  <a:srgbClr val="464847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2013;Abstract 8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son of Toxicity between PD-1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-L1 Inhib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ighl NB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, 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66640" y="1268280"/>
          <a:ext cx="8006040" cy="3402000"/>
        </p:xfrm>
        <a:graphic>
          <a:graphicData uri="http://schemas.openxmlformats.org/drawingml/2006/table">
            <a:tbl>
              <a:tblPr/>
              <a:tblGrid>
                <a:gridCol w="1592280"/>
                <a:gridCol w="1549440"/>
                <a:gridCol w="1384200"/>
                <a:gridCol w="1663920"/>
                <a:gridCol w="1816200"/>
              </a:tblGrid>
              <a:tr h="39528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 inhibi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1 inhibi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PDL3280A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52 NSC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MS-936559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207 (a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volumab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29 NSC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mbrolizumab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32 M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elated AEs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Grade 3,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1%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1%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~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9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Treatment- related de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% (pneumonia, Gr 2 pneumonit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952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neumon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 (2/9 fat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Grade 3 or 4 immune-related A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%</a:t>
                      </a:r>
                      <a:br>
                        <a:rPr sz="1600"/>
                      </a:br>
                      <a:r>
                        <a:rPr b="0" lang="en-US" sz="14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(hyperglycem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305" name="Rectangle 1"/>
          <p:cNvSpPr/>
          <p:nvPr/>
        </p:nvSpPr>
        <p:spPr>
          <a:xfrm>
            <a:off x="566640" y="3452760"/>
            <a:ext cx="8018640" cy="398520"/>
          </a:xfrm>
          <a:prstGeom prst="rect">
            <a:avLst/>
          </a:prstGeom>
          <a:noFill/>
          <a:ln w="38160">
            <a:solidFill>
              <a:srgbClr val="fd8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0"/>
          <p:cNvSpPr/>
          <p:nvPr/>
        </p:nvSpPr>
        <p:spPr>
          <a:xfrm>
            <a:off x="814320" y="4708440"/>
            <a:ext cx="7758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400"/>
              </a:spcBef>
              <a:buClr>
                <a:srgbClr val="464847"/>
              </a:buClr>
              <a:buSzPct val="1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Fatigue, decreased appetite, diarrhea common with both classes of dru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Spigel et al. </a:t>
            </a:r>
            <a:r>
              <a:rPr b="0" i="1" lang="en-US" sz="15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2013;Abstract 8008; Brahmer et al. </a:t>
            </a:r>
            <a:r>
              <a:rPr b="0" i="1" lang="en-US" sz="1500" spc="-1" strike="noStrike">
                <a:solidFill>
                  <a:srgbClr val="464847"/>
                </a:solidFill>
                <a:latin typeface="Arial"/>
              </a:rPr>
              <a:t>NEJM</a:t>
            </a: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 2012;366(26):2455-65; Brahmer et al. </a:t>
            </a:r>
            <a:r>
              <a:rPr b="0" i="1" lang="en-US" sz="1500" spc="-1" strike="noStrike">
                <a:solidFill>
                  <a:srgbClr val="464847"/>
                </a:solidFill>
                <a:latin typeface="Arial"/>
              </a:rPr>
              <a:t>Proc ASCO</a:t>
            </a: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 2013;Abstract 8030; Ribas et al. </a:t>
            </a:r>
            <a:r>
              <a:rPr b="0" i="1" lang="en-US" sz="1500" spc="-1" strike="noStrike">
                <a:solidFill>
                  <a:srgbClr val="464847"/>
                </a:solidFill>
                <a:latin typeface="Arial"/>
              </a:rPr>
              <a:t>Proc ASCO</a:t>
            </a:r>
            <a:r>
              <a:rPr b="0" lang="en-US" sz="1500" spc="-1" strike="noStrike">
                <a:solidFill>
                  <a:srgbClr val="464847"/>
                </a:solidFill>
                <a:latin typeface="Arial"/>
              </a:rPr>
              <a:t> 2013;Abstract 9009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ighl NB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, 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442800" y="1173240"/>
            <a:ext cx="8226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2286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PDL3280A shows clear evidence of activity in NSCL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oo early to determine if PD-L1 inhibitors are less toxic than PD-1 inhibitors; efficacy appears to be simi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Selection by PD-L1 expression likely enhances response rate,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ut some activity is observed in PD-L1-negative NSCL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mportant unanswered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How is PD-L1 positivity defi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A companion diagnostic test for each drug cannot be suppo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What other markers could be useful in the fu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442800" y="1173240"/>
            <a:ext cx="8226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2286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ancer cells can evade immune surveillance by expressing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D-L1, a protein broadly expressed in NSCL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PDL3280A  is a monoclonal antibody engineered to block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D-L1 from binding to its receptors PD-1 and B7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locking the interaction between PD-L1 and PD-1 restores </a:t>
            </a:r>
            <a:br>
              <a:rPr sz="2000"/>
            </a:b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-cell activity and causes tumor regression in preclinical mod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Binding of MPDL3280A to PD-L1 leaves the PD-1/PD-L2 interaction intact and may enhance efficacy and saf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Investigate the efficacy and safety of MPDL3280A in patients with advanced NSCL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793800" y="1531800"/>
          <a:ext cx="4476600" cy="1195560"/>
        </p:xfrm>
        <a:graphic>
          <a:graphicData uri="http://schemas.openxmlformats.org/drawingml/2006/table">
            <a:tbl>
              <a:tblPr/>
              <a:tblGrid>
                <a:gridCol w="4476600"/>
              </a:tblGrid>
              <a:tr h="4413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5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 marL="222120" indent="-22212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ocally advanced or metastatic NSC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2120" indent="-222120">
                        <a:spcBef>
                          <a:spcPts val="451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asurable disease by RECIST v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7" name="Rectangle 31"/>
          <p:cNvSpPr/>
          <p:nvPr/>
        </p:nvSpPr>
        <p:spPr>
          <a:xfrm>
            <a:off x="787320" y="3024360"/>
            <a:ext cx="789948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Standard 3+3 at doses ≥0.3 mg/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tandard Phase I DLT criteria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ultimodality biomarkers including PD-L1 evalu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Arial"/>
              </a:rPr>
              <a:t>Primary objectives:</a:t>
            </a: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 Include safety, tolerability, maximium tolerated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ose (MT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a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824440" y="1622520"/>
          <a:ext cx="2541600" cy="1068120"/>
        </p:xfrm>
        <a:graphic>
          <a:graphicData uri="http://schemas.openxmlformats.org/drawingml/2006/table">
            <a:tbl>
              <a:tblPr/>
              <a:tblGrid>
                <a:gridCol w="2541600"/>
              </a:tblGrid>
              <a:tr h="1068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PDL3280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01 mg/kg-20 mg/kg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q3wk x 16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5270400" y="2168640"/>
            <a:ext cx="509760" cy="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700200" y="1344600"/>
          <a:ext cx="7805520" cy="2960640"/>
        </p:xfrm>
        <a:graphic>
          <a:graphicData uri="http://schemas.openxmlformats.org/drawingml/2006/table">
            <a:tbl>
              <a:tblPr/>
              <a:tblGrid>
                <a:gridCol w="3166920"/>
                <a:gridCol w="1130400"/>
                <a:gridCol w="1482480"/>
                <a:gridCol w="2025720"/>
              </a:tblGrid>
              <a:tr h="44280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R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 ≥24 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 at 24 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0242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SCLC (n = 41)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(n = 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(n = 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 by PD-L1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-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-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0270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SCLC (n = 41)</a:t>
                      </a:r>
                      <a:r>
                        <a:rPr b="0" lang="en-US" sz="18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nsquamous (n = 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 (n = 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eeece1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a Efficacy Summary in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855720" y="4338720"/>
            <a:ext cx="7813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Investigator assessed; 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One pt had undetermined histology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ORR = objective response rate; SD = stable disease; PFS = progression-free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Responses ongoing in all respon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IJC_Lung_SpigelGraph1.png"/>
          <p:cNvPicPr/>
          <p:nvPr/>
        </p:nvPicPr>
        <p:blipFill>
          <a:blip r:embed="rId1"/>
          <a:srcRect l="5689" t="12290" r="12484" b="10603"/>
          <a:stretch/>
        </p:blipFill>
        <p:spPr>
          <a:xfrm>
            <a:off x="1344600" y="1293840"/>
            <a:ext cx="6635880" cy="41911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PDL3280A Phase 1a: Tumor Burde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6451560" y="1305000"/>
            <a:ext cx="22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1 mg/kg (n =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10 mg/kg (n = 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15 mg/kg (n = 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20 mg/kg (n = 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6203880" y="43290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ew le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Discontinue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1936800" y="5307120"/>
            <a:ext cx="6043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</a:rPr>
              <a:t>Time on Study (Day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 rot="16200000">
            <a:off x="-939600" y="3051000"/>
            <a:ext cx="44132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64847"/>
                </a:solidFill>
                <a:latin typeface="Arial"/>
              </a:rPr>
              <a:t>Change in Sum of Longest Diameters</a:t>
            </a:r>
            <a:br>
              <a:rPr sz="1700"/>
            </a:br>
            <a:r>
              <a:rPr b="1" lang="en-US" sz="1700" spc="-1" strike="noStrike">
                <a:solidFill>
                  <a:srgbClr val="464847"/>
                </a:solidFill>
                <a:latin typeface="Arial"/>
              </a:rPr>
              <a:t>(SLD) From Baseline, 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2043000" y="459432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* ≥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3503520" y="129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4"/>
          <p:cNvSpPr/>
          <p:nvPr/>
        </p:nvSpPr>
        <p:spPr>
          <a:xfrm>
            <a:off x="6039000" y="1477800"/>
            <a:ext cx="412560" cy="0"/>
          </a:xfrm>
          <a:prstGeom prst="line">
            <a:avLst/>
          </a:prstGeom>
          <a:ln w="38160">
            <a:solidFill>
              <a:srgbClr val="fd8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3"/>
          <p:cNvSpPr/>
          <p:nvPr/>
        </p:nvSpPr>
        <p:spPr>
          <a:xfrm>
            <a:off x="6039000" y="1778040"/>
            <a:ext cx="412560" cy="0"/>
          </a:xfrm>
          <a:prstGeom prst="line">
            <a:avLst/>
          </a:prstGeom>
          <a:ln w="38160">
            <a:solidFill>
              <a:srgbClr val="6ba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4"/>
          <p:cNvSpPr/>
          <p:nvPr/>
        </p:nvSpPr>
        <p:spPr>
          <a:xfrm>
            <a:off x="6039000" y="2066760"/>
            <a:ext cx="412560" cy="0"/>
          </a:xfrm>
          <a:prstGeom prst="line">
            <a:avLst/>
          </a:prstGeom>
          <a:ln w="38160">
            <a:solidFill>
              <a:srgbClr val="1a2d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5"/>
          <p:cNvSpPr/>
          <p:nvPr/>
        </p:nvSpPr>
        <p:spPr>
          <a:xfrm>
            <a:off x="6039000" y="2332080"/>
            <a:ext cx="41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Activity of MPDL3280A in a Patient with Lung Adenocarcin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rcRect l="4705" t="7920" r="1517" b="2731"/>
          <a:stretch/>
        </p:blipFill>
        <p:spPr>
          <a:xfrm>
            <a:off x="1177920" y="1674720"/>
            <a:ext cx="6904080" cy="33703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4"/>
          <p:cNvSpPr/>
          <p:nvPr/>
        </p:nvSpPr>
        <p:spPr>
          <a:xfrm>
            <a:off x="730080" y="5146560"/>
            <a:ext cx="76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62 yr old male, PD-L1 positive, who received multiple prior lines of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177920" y="1336680"/>
            <a:ext cx="21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3510000" y="1336680"/>
            <a:ext cx="21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ost C4 (Week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5802480" y="1336680"/>
            <a:ext cx="227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ost C12 (Week 3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977760" y="1471680"/>
          <a:ext cx="7199280" cy="2195280"/>
        </p:xfrm>
        <a:graphic>
          <a:graphicData uri="http://schemas.openxmlformats.org/drawingml/2006/table">
            <a:tbl>
              <a:tblPr/>
              <a:tblGrid>
                <a:gridCol w="4714920"/>
                <a:gridCol w="2484360"/>
              </a:tblGrid>
              <a:tr h="36612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 and 4 A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 Grade 3 or 4 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ti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ericardial eff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yspn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Hyperglyc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Grade 3 and 4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977760" y="3747960"/>
            <a:ext cx="71992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10000"/>
              </a:lnSpc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MTD or dose-limiting toxi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Majority of AEs were Grade 1 or 2, required no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Grade 3 to 5 pneumon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mmune-related Grade 3 to 4 hyperglycemia in 1 pt (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reatment-related Grade 3 or 4 AEs occurred in 12% of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No treatment-related de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Spigel DR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8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442800" y="1173240"/>
            <a:ext cx="8226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228600" bIns="46800" anchor="t">
            <a:noAutofit/>
          </a:bodyPr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MPDL3280A was generally well tolerated in patients with NSCL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 dose-limiting toxicities and no Grade 3 to 5 pneumonit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Activity was observed in patients with heavily treated NSCL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Responses are ongoing in respon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Efficacy was observed in patients with squamous and </a:t>
            </a:r>
            <a:br>
              <a:rPr sz="1800"/>
            </a:br>
            <a:r>
              <a:rPr b="0" lang="en-US" sz="1800" spc="-1" strike="noStrike">
                <a:solidFill>
                  <a:srgbClr val="464847"/>
                </a:solidFill>
                <a:latin typeface="Arial"/>
                <a:ea typeface="ＭＳ Ｐゴシック"/>
              </a:rPr>
              <a:t>nonsquamous hist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umor PD-L1 expression appears to be associated with clinical benefit from MPDL3280A monothera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Expansion phase is ongoing in various tumor types, including NSCL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Registration trials of MPDL3280A are planned for patients with NSCL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Ongoing Trials of PD-1 Immune Checkpoint Inhibitors in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Leighl NB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, 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6"/>
          <p:cNvSpPr/>
          <p:nvPr/>
        </p:nvSpPr>
        <p:spPr>
          <a:xfrm>
            <a:off x="866880" y="5067360"/>
            <a:ext cx="74912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D = progressive disease; exp = expa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Adapted from Brahmer J. ASCO 20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38360" y="1300320"/>
          <a:ext cx="7619760" cy="3738240"/>
        </p:xfrm>
        <a:graphic>
          <a:graphicData uri="http://schemas.openxmlformats.org/drawingml/2006/table">
            <a:tbl>
              <a:tblPr/>
              <a:tblGrid>
                <a:gridCol w="809280"/>
                <a:gridCol w="1683000"/>
                <a:gridCol w="2890800"/>
                <a:gridCol w="1219320"/>
                <a:gridCol w="1017360"/>
              </a:tblGrid>
              <a:tr h="5785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y a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 IHC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mor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s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065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line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ivolumab vs docetaxel to P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 = 264; primary endpoints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ORR, 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rchival or fre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line adenocarcin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ivolumab vs docetaxel to P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 = 574; primary endpoint 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rchival or fre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578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6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+-line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squam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ivolum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rchival or fre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 e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- or 3</a:t>
                      </a:r>
                      <a:r>
                        <a:rPr b="0" lang="en-US" sz="1600" spc="-1" strike="noStrike" baseline="30000">
                          <a:solidFill>
                            <a:srgbClr val="464847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+-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Lambrolizumab (x 2 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re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dvanc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PDL3280A (x 1 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re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I e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dvanc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47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re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</a:tbl>
          </a:graphicData>
        </a:graphic>
      </p:graphicFrame>
      <p:sp>
        <p:nvSpPr>
          <p:cNvPr id="297" name="Rectangle 8"/>
          <p:cNvSpPr/>
          <p:nvPr/>
        </p:nvSpPr>
        <p:spPr>
          <a:xfrm>
            <a:off x="6124680" y="1330200"/>
            <a:ext cx="1233360" cy="3737160"/>
          </a:xfrm>
          <a:prstGeom prst="rect">
            <a:avLst/>
          </a:prstGeom>
          <a:noFill/>
          <a:ln w="38160">
            <a:solidFill>
              <a:srgbClr val="fd8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Silvana Izquierdo</cp:lastModifiedBy>
  <cp:lastPrinted>2013-03-06T20:38:39Z</cp:lastPrinted>
  <dcterms:modified xsi:type="dcterms:W3CDTF">2013-07-22T18:51:54Z</dcterms:modified>
  <cp:revision>683</cp:revision>
  <dc:subject/>
  <dc:title>Research To Practice</dc:title>
</cp:coreProperties>
</file>