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0F3-EFCC-4880-802E-7091106B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CA2-B162-4B8C-844F-30763FD8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15910-777F-458B-A71A-693C7193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F2E28-2B7E-47F8-B11B-36FB47A7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B1CE9-686E-4D78-8524-FE4C2625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FB42D-F8D9-4A50-BE5D-BD3CDEAD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36684-7A95-428F-A1A7-47FF04B3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53D2-E3CD-4788-826D-B5DBD30F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A6439-5D9A-49B0-BB52-4A129C2D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4B68-4DF8-440D-B722-08F3A7DC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9B8F8-D7C5-43BF-8AA5-095BF915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CA5-5304-4EE8-905E-9DF5B4DB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CC1-A55A-4278-A9D1-A1AB8764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A596-2B72-4F98-B2A8-33AEE318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AE8F-7476-432F-9C5F-DD95728E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5D84-E64D-40F9-BAF6-E8A34936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2B77-2309-4A19-9595-137CB8F7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5DA2-B5A6-45AA-80FA-BA46CFED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5955-D095-4FF5-A678-B6CF8EE9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F694-2DF8-42AC-ABD3-C9E3199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925-BFAE-49B8-8966-6465331E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C3A5-2DB3-452A-99DC-B5DECACA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3F1A-3C0F-4985-BB78-E35C7CD8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CB09-2DC9-44CE-BABC-795908D0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D06A-65D5-4F70-9390-5047D3A7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5A55-8021-4D9E-B42F-792D1790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946B-1F80-4ED4-B106-31922A57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F41C-A2AA-42DA-B636-4C5B4D12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63E6-4AB2-4C3B-BF0D-6BD7A314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F451-CC40-4E52-8845-8E989373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0170-BE6F-4A99-9790-2CB96D2C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B67-1746-437D-A694-525BA5E4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54BD0-0D76-4ACB-95AE-B4E4B992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7D40-EACD-4B1C-962A-D40E3EE5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900A-3299-4913-B64A-D89029ED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8252-CDF8-4A19-93FB-E19CD4EE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FAA6-4949-4D2F-897E-4A0A5816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C53E-C7C5-4284-94E1-B6A235A1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5360-142C-4315-B19B-4DE4F29E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855-7E77-4D6B-91D7-F32DF08C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C1E0-B361-45A5-BC50-B1612A19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6C0-A0BF-4982-9435-7A299621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9BF9-0F8D-451D-9F1D-4D3611CA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60A96-BAE3-47E0-AB20-716B6848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EC249-B1D6-4C98-AB86-614BD597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D5CC5-ED08-4592-B5FE-2E360D69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FFC8-8BBE-4BC5-8A7A-21CFA06D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123B1-1834-4BA5-BC14-49759854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F07D1-76FB-45F1-A772-8FC8E22E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C9D2-C005-460E-8E00-A93D6E2A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FB0C-ED02-41D7-834C-E07A5E85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5021F-E2A7-470D-B6FB-7642FE9C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B92-A0CA-4165-BEF7-57E40137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B359-EC85-47E0-ADFC-569E4EAE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69D-FA9A-4922-8CA3-E95F3F7A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5346F-B751-4D07-9035-38D7D73C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15769-6B28-4680-B9D9-05A1B9D8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9A10-8E86-41CD-860B-860E1B19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312D5-AB74-4CC8-BB0E-F9D6988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E7C7D-82EF-4F09-8916-8FAEF75D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0918F-E5CF-4685-BCB5-BEBA4D1B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836E3-EE48-40E0-A91A-37A0BD15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386-2C64-4B96-89EB-818E80B2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0F3D0-C0FF-4A22-88B9-7C898F89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6381-C687-45E1-8705-7D604D3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8FC6F-4A93-47F2-8678-4EBA4436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5B946-64AF-40C9-A844-4E3886A4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E56E2-8B89-435B-91C4-A7F6A59E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F40-186E-4430-AEA3-EB85A6E4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446A6-67EE-4E90-9E74-A06C73F7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E4A4-32F3-4865-A382-D2B4F2AB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5A4B-76B4-48B4-9378-A967E2FC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AAA45-1222-47FD-93C1-C5D933B6FCB3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E8950-297A-43F2-80E6-DAC0425D40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255C3-610B-428D-A196-11D071AA278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7B68F-3E3B-4219-985F-C0BE273D2B2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38736-7393-419B-A2E9-44A276CF428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83C72-12CA-4518-8F14-3B1D1B1DD9A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BF427-FD6F-4486-9F73-46B62E3A720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3A25F-B836-4AFB-99B2-BB2B9BA404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008D7-65F1-4656-9771-15C623C0E26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EF9A9-BACB-4F47-BEF3-8BADF2A624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EC09E-FB61-4B1D-A66C-C7685FA1DBE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35FF1-6317-4FBC-8D1D-EBC43C958F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Randomized, Open-Label, Phase III, Superiority Study of Pemetrexed (Pem) + Carboplatin (Cb) + Bevacizumab (Bev) Followed by Maintenance Pem + Bev versus Paclitaxel (Pac)+Cb+Bev Followed by Maintenance Bev in Patients with Stage IIIB or IV Non-Squamous Non-Small Cell Lung Cancer (NS-NSCL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Patel JD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IASLC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Abstract LBPL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hase III ECOG-E4599 trial demonstrated that Pac + Cb + Bev followed by maintenance Bev significantly improved survival compared to Pac + Cb alone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355:254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a single-arm Phase II study, Pem + Cb + Bev followed by Pem + Bev produced an overall survival (OS) of 14.1 months and a progression-free survival (PFS) of 7.8 month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9;27:3284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Pem + Cb + Bev followed by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em + Bev to that of Pac + Cb + Bev followed by Bev for patients with advanced NS-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31"/>
          <p:cNvSpPr/>
          <p:nvPr/>
        </p:nvSpPr>
        <p:spPr>
          <a:xfrm>
            <a:off x="914400" y="45277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ere stratified by PS (0 vs 1), sex (M vs F), disease stage (IIIB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vs IV) and measurable vs nonmeasurable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PointBreak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"/>
          <p:cNvSpPr/>
          <p:nvPr/>
        </p:nvSpPr>
        <p:spPr>
          <a:xfrm>
            <a:off x="3537000" y="2867040"/>
            <a:ext cx="12351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"/>
          <p:cNvGrpSpPr/>
          <p:nvPr/>
        </p:nvGrpSpPr>
        <p:grpSpPr>
          <a:xfrm>
            <a:off x="4767120" y="2377800"/>
            <a:ext cx="249480" cy="1017720"/>
            <a:chOff x="4767120" y="2377800"/>
            <a:chExt cx="249480" cy="1017720"/>
          </a:xfrm>
        </p:grpSpPr>
        <p:grpSp>
          <p:nvGrpSpPr>
            <p:cNvPr id="375" name="Group 3"/>
            <p:cNvGrpSpPr/>
            <p:nvPr/>
          </p:nvGrpSpPr>
          <p:grpSpPr>
            <a:xfrm>
              <a:off x="4767120" y="2377800"/>
              <a:ext cx="249480" cy="655560"/>
              <a:chOff x="4767120" y="2377800"/>
              <a:chExt cx="249480" cy="655560"/>
            </a:xfrm>
          </p:grpSpPr>
          <p:sp>
            <p:nvSpPr>
              <p:cNvPr id="376" name="Line 14"/>
              <p:cNvSpPr/>
              <p:nvPr/>
            </p:nvSpPr>
            <p:spPr>
              <a:xfrm flipV="1">
                <a:off x="4767120" y="2377800"/>
                <a:ext cx="0" cy="655560"/>
              </a:xfrm>
              <a:prstGeom prst="line">
                <a:avLst/>
              </a:prstGeom>
              <a:ln w="28440">
                <a:solidFill>
                  <a:srgbClr val="7678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5"/>
              <p:cNvSpPr/>
              <p:nvPr/>
            </p:nvSpPr>
            <p:spPr>
              <a:xfrm>
                <a:off x="4767120" y="2378160"/>
                <a:ext cx="249480" cy="0"/>
              </a:xfrm>
              <a:prstGeom prst="line">
                <a:avLst/>
              </a:prstGeom>
              <a:ln w="28440">
                <a:solidFill>
                  <a:srgbClr val="76787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6"/>
            <p:cNvGrpSpPr/>
            <p:nvPr/>
          </p:nvGrpSpPr>
          <p:grpSpPr>
            <a:xfrm>
              <a:off x="4767120" y="2717640"/>
              <a:ext cx="249480" cy="677880"/>
              <a:chOff x="4767120" y="2717640"/>
              <a:chExt cx="249480" cy="677880"/>
            </a:xfrm>
          </p:grpSpPr>
          <p:sp>
            <p:nvSpPr>
              <p:cNvPr id="379" name="Line 17"/>
              <p:cNvSpPr/>
              <p:nvPr/>
            </p:nvSpPr>
            <p:spPr>
              <a:xfrm>
                <a:off x="4767120" y="2717640"/>
                <a:ext cx="0" cy="677880"/>
              </a:xfrm>
              <a:prstGeom prst="line">
                <a:avLst/>
              </a:prstGeom>
              <a:ln w="28440">
                <a:solidFill>
                  <a:srgbClr val="7678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8"/>
              <p:cNvSpPr/>
              <p:nvPr/>
            </p:nvSpPr>
            <p:spPr>
              <a:xfrm>
                <a:off x="4767120" y="3395160"/>
                <a:ext cx="249480" cy="0"/>
              </a:xfrm>
              <a:prstGeom prst="line">
                <a:avLst/>
              </a:prstGeom>
              <a:ln w="28440">
                <a:solidFill>
                  <a:srgbClr val="76787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Oval 4"/>
          <p:cNvSpPr/>
          <p:nvPr/>
        </p:nvSpPr>
        <p:spPr>
          <a:xfrm>
            <a:off x="3919680" y="2494080"/>
            <a:ext cx="731520" cy="73188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7101000" y="2001960"/>
          <a:ext cx="1336680" cy="695160"/>
        </p:xfrm>
        <a:graphic>
          <a:graphicData uri="http://schemas.openxmlformats.org/drawingml/2006/table">
            <a:tbl>
              <a:tblPr/>
              <a:tblGrid>
                <a:gridCol w="13366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B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9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101000" y="3009960"/>
          <a:ext cx="1336680" cy="695160"/>
        </p:xfrm>
        <a:graphic>
          <a:graphicData uri="http://schemas.openxmlformats.org/drawingml/2006/table">
            <a:tbl>
              <a:tblPr/>
              <a:tblGrid>
                <a:gridCol w="13366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9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5" name="Line 15"/>
          <p:cNvSpPr/>
          <p:nvPr/>
        </p:nvSpPr>
        <p:spPr>
          <a:xfrm>
            <a:off x="6819840" y="237024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5"/>
          <p:cNvSpPr/>
          <p:nvPr/>
        </p:nvSpPr>
        <p:spPr>
          <a:xfrm>
            <a:off x="6808680" y="339552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924440" y="133524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Induc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, 4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5"/>
          <p:cNvSpPr/>
          <p:nvPr/>
        </p:nvSpPr>
        <p:spPr>
          <a:xfrm>
            <a:off x="6926400" y="1332000"/>
            <a:ext cx="168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Mainten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 until P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4008600" y="3865680"/>
            <a:ext cx="45385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Pem, 500 mg/m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; Cb, AUC 6; Bev, 15 mg/k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Pac, 200 mg/m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; Cb, AUC 6; Bev, 15 mg/k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5014800" y="2001960"/>
          <a:ext cx="1884600" cy="695160"/>
        </p:xfrm>
        <a:graphic>
          <a:graphicData uri="http://schemas.openxmlformats.org/drawingml/2006/table">
            <a:tbl>
              <a:tblPr/>
              <a:tblGrid>
                <a:gridCol w="188460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Cb + B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72)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5014800" y="3021120"/>
          <a:ext cx="1884600" cy="695160"/>
        </p:xfrm>
        <a:graphic>
          <a:graphicData uri="http://schemas.openxmlformats.org/drawingml/2006/table">
            <a:tbl>
              <a:tblPr/>
              <a:tblGrid>
                <a:gridCol w="188460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c + Cb + B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67)</a:t>
                      </a:r>
                      <a:r>
                        <a:rPr b="0" lang="en-US" sz="17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914400" y="1625760"/>
          <a:ext cx="2908440" cy="247644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3841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9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09232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-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ior systemic therap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Stable treated brain metast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76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 Grade ≥1 peripheral neur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914400" y="1512720"/>
          <a:ext cx="7429680" cy="2738520"/>
        </p:xfrm>
        <a:graphic>
          <a:graphicData uri="http://schemas.openxmlformats.org/drawingml/2006/table">
            <a:tbl>
              <a:tblPr/>
              <a:tblGrid>
                <a:gridCol w="1625760"/>
                <a:gridCol w="1841400"/>
                <a:gridCol w="1816200"/>
                <a:gridCol w="1073160"/>
                <a:gridCol w="1073160"/>
              </a:tblGrid>
              <a:tr h="924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4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85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tion Phase: OS (ITT Popu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914400" y="1486080"/>
          <a:ext cx="7429680" cy="2838240"/>
        </p:xfrm>
        <a:graphic>
          <a:graphicData uri="http://schemas.openxmlformats.org/drawingml/2006/table">
            <a:tbl>
              <a:tblPr/>
              <a:tblGrid>
                <a:gridCol w="2514600"/>
                <a:gridCol w="1397160"/>
                <a:gridCol w="1396800"/>
                <a:gridCol w="1028880"/>
                <a:gridCol w="1092240"/>
              </a:tblGrid>
              <a:tr h="914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0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T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0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verall 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FS (No G4 toxicity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tion Phase: Additional Efficacy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1"/>
          <p:cNvSpPr/>
          <p:nvPr/>
        </p:nvSpPr>
        <p:spPr>
          <a:xfrm>
            <a:off x="914400" y="4503600"/>
            <a:ext cx="74296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TPD = time to progressive disease; NR = not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PFS without Grade 4 toxicity (prespecified exploratory analy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1"/>
          <p:cNvSpPr/>
          <p:nvPr/>
        </p:nvSpPr>
        <p:spPr>
          <a:xfrm>
            <a:off x="914400" y="5002200"/>
            <a:ext cx="74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azard ratio &lt;1.0 favors Pem + Cb + B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914400" y="1486080"/>
          <a:ext cx="7353360" cy="3395520"/>
        </p:xfrm>
        <a:graphic>
          <a:graphicData uri="http://schemas.openxmlformats.org/drawingml/2006/table">
            <a:tbl>
              <a:tblPr/>
              <a:tblGrid>
                <a:gridCol w="3463920"/>
                <a:gridCol w="1920960"/>
                <a:gridCol w="1968480"/>
              </a:tblGrid>
              <a:tr h="64044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 (Pem + Cb + Bev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s Pac + Cb + B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 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V (n = 8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≤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 years (n = 6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70 years (n = 2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3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enocarcinoma (n = 7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arge cell (n = 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tion Phase: Analyses of OS and PF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Sub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914400" y="2082960"/>
          <a:ext cx="7353360" cy="2114280"/>
        </p:xfrm>
        <a:graphic>
          <a:graphicData uri="http://schemas.openxmlformats.org/drawingml/2006/table">
            <a:tbl>
              <a:tblPr/>
              <a:tblGrid>
                <a:gridCol w="2451240"/>
                <a:gridCol w="2450880"/>
                <a:gridCol w="2451240"/>
              </a:tblGrid>
              <a:tr h="704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04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Phase: Prespecified Exploratory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914400" y="1320840"/>
          <a:ext cx="7226280" cy="4032360"/>
        </p:xfrm>
        <a:graphic>
          <a:graphicData uri="http://schemas.openxmlformats.org/drawingml/2006/table">
            <a:tbl>
              <a:tblPr/>
              <a:tblGrid>
                <a:gridCol w="3048120"/>
                <a:gridCol w="2082600"/>
                <a:gridCol w="2095560"/>
              </a:tblGrid>
              <a:tr h="603360">
                <a:tc rowSpan="2">
                  <a:txBody>
                    <a:bodyPr lIns="90000" rIns="90000" tIns="27360" bIns="27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 + Bev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4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n = 4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 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 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430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30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30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morrhage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8% (0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% (0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30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embolic A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ropathy/sensor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430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Grade 2 complete alope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31"/>
          <p:cNvSpPr/>
          <p:nvPr/>
        </p:nvSpPr>
        <p:spPr>
          <a:xfrm>
            <a:off x="914400" y="533088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gnificant difference between arms for Grade 3/4 AEs; 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GI/pulmo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id not meet its primary endpoint of superior O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efficacy data for Pac + Cb + Bev are similar to previous result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355:254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 + Cb + Bev followed by Pem + Bev had a superior median PFS compared to Pac + Cb + Bev followed by Bev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6.0 mo vs 5.6 mo (HR, 0.83;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= 0.012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especified exploratory noncomparative analyses for the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maintenance population receiving Pem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+ Cb + Bev compared to the Pac + Cb + Bev arm yielded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S: 17.7 mo vs 15.7 mo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: 8.6 mo vs 6.9 mo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oxicity profiles differed between the 2 treatment regimens, and both demonstrated tolerability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tel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IASLC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LBPL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38Z</dcterms:created>
  <dc:creator>Research To Practice</dc:creator>
  <dc:description/>
  <cp:keywords/>
  <dc:language>en-US</dc:language>
  <cp:lastModifiedBy>Silvana Izquierdo</cp:lastModifiedBy>
  <cp:lastPrinted>2013-06-11T14:13:41Z</cp:lastPrinted>
  <dcterms:modified xsi:type="dcterms:W3CDTF">2013-07-22T19:05:48Z</dcterms:modified>
  <cp:revision>690</cp:revision>
  <dc:subject/>
  <dc:title>Research To Practice</dc:title>
</cp:coreProperties>
</file>