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F9E-4A7C-4D39-96AB-3A41AEAF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766-879B-4630-80A9-2F0C282E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8073-91C6-4FC0-96F5-711B5EEA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6293-CE91-48B1-BE24-CFD072C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EC74-BAF4-4CD3-A8CE-487F5D3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7D43-7E0A-4E08-8165-DA3A809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E6EE-EFC3-4E09-825E-6B1DEBA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2B49-4E2D-42EC-9E0F-BBCBA64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47C9-6E57-4BFE-B304-0FEBC44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D85E-4BAC-4A7A-9577-9DA503CD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2DD8-3D9D-4ADA-894C-75F1348A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F34-71F4-4CBF-AB53-A9FCC464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D15-19D8-48E6-A733-521AF71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E7A2-87AB-428F-ACF3-3E82B16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DBF-B6FF-4002-B1C3-9774274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9A3B-B580-441D-A230-648C9A0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485-3616-45BC-996B-671F93DB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3CF4-01EF-4A44-B6C3-F8A605A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0C0-6062-40D7-BC5B-21A65B1E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25C0-B22F-4685-8ED7-63B8240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2E7-8967-42AC-9599-23FE5A0A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9FE-4AC7-42D1-B73C-75ACDA7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C43F-0ED6-4AB5-BB69-97782DA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2727-1A91-447C-A79A-83ED56F6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63FF-404F-400B-8EA3-0267BBBA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6EB-248F-45C2-8A8B-EDE3A8F4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99CE-67F5-436E-87BA-8C5F7702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BEE0-0753-4DA4-9AB3-7EA1C78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0C00-2C02-456D-83A8-DBD11A40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DFC4-BDE7-4ABA-A37F-1C166E1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6046-69FE-46F9-BBD0-F838D83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2FF-129A-4E02-A3FD-32EDF576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7410-EEA2-44AF-9551-FE0BD4F8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D670-2F0E-43B5-933C-C5372E2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C203-8385-42C9-9E74-0DFB031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DF23-2BBD-4CF2-B367-33A6D2B5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D01B-8A4D-45DC-A5EE-943BD90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163A-5F19-42C6-A8B6-D6D4DF37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96EA-B712-4DB9-B284-5A5F9947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246-287A-421F-8C7F-5FA9AE6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2F3A-F8C4-421F-B2D2-AEC5E834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5A-0539-4686-957E-C6B2EEBE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3213-99C7-4F1D-B8AA-10EEAE3D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6112-A0FA-4F65-83AC-5CB05C30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E52E-8FEE-4FBB-BB1A-5A8E0C5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0D21-9E7F-4785-8B1F-05A285C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6B6F-2D45-48EB-B8E1-D656D43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6D72-3429-476F-B45E-BABF37A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1358-4BC5-45F5-A324-803F84C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C861E-F5C8-4BEB-AC6C-BFFD2C9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E68A-79C8-46EC-BF4E-7E6B8588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95F4-07ED-4D46-AF7E-7B86569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6AE-A403-4281-997D-5C6C9D3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FB90-0A57-4A06-A498-5786CF91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6DB-250D-46DE-A2EB-8464EE6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62DA-9727-4ED5-938E-1110FBC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B010-D958-49C7-BED1-42CAE3D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38BF-0FB7-41F5-89EA-80883011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618D-484B-41A5-857E-E0992CDA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EC2D-1197-4A17-9A90-B45D43B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504F-C78E-446A-A525-752FA4A2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0D602-EE0F-4002-9B1E-3806D70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963-749D-4B1C-ADD8-E8DB107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B008-0311-48B7-8340-66463F9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34EC-C7DC-408B-B459-CB81834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231C-5674-4A96-A384-19CF858A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0BE3C-B7C1-4460-ADDE-E9F20489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4721-AA54-42A8-91DD-DBFBEE89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5C2-7556-470F-8C4F-3733248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34FE-506C-4F3D-BE3A-54BD47E8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9EFA-C9E5-4973-8863-E640F655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359D6-5537-4BB9-8C81-1BF25038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D0143-1FF4-447A-BC80-48D2C567A57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A223C-A115-4089-A8D1-A22D4092CF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39D82-45E0-471F-872D-9566B1B4933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6C3D1-5F54-4396-8140-8AAB5D9EA80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D37A1-6339-476A-8302-6041C641C01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11346-D312-4F95-91CD-56933105F8F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50E5B-71E7-4275-9325-DD8E3094945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03136-B573-44CB-9EE7-9A1E73D7EC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27242-EFDE-4D3F-B4F8-DC4B506A10A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9BC40-EF81-4168-803E-E6266A847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18F60-0B54-4BF1-AE70-7E9DAEAF6C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655D1-59DC-4A4F-B17C-C901FA3A8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overy of Recurrent KIF5B-RET Fusions and Other Targetable Alterations from Clinical NSCLC Specim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apelletti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non-small cell lung cancer (NSCLC), drivers of oncogenic alterations include EGFR, KRAS, BRAF, PIK3CA, MET and fusion oncogenes such as ALK, ROS1 and R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EGFR and ALK are validated clinical targets in NSCLC, clinically effective agents targeting these genes have proved to be more effective and better tolerated than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fore, a method of identifying a broad range of genomic alterations, including mutations, copy number gains and rearrangements, in clinical samples is needed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entify and validate new genomic alterations in formalin-fixed, paraffin-embedded (FFPE) NSCLC tumor samples as potential drug target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15"/>
          <p:cNvSpPr/>
          <p:nvPr/>
        </p:nvSpPr>
        <p:spPr>
          <a:xfrm>
            <a:off x="4395960" y="3294000"/>
            <a:ext cx="0" cy="37476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6983280" y="2308320"/>
            <a:ext cx="0" cy="35856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000840" y="1360440"/>
          <a:ext cx="1908000" cy="1023840"/>
        </p:xfrm>
        <a:graphic>
          <a:graphicData uri="http://schemas.openxmlformats.org/drawingml/2006/table">
            <a:tbl>
              <a:tblPr/>
              <a:tblGrid>
                <a:gridCol w="19080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xt-gen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quenc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18"/>
          <p:cNvSpPr/>
          <p:nvPr/>
        </p:nvSpPr>
        <p:spPr>
          <a:xfrm>
            <a:off x="2851200" y="1793880"/>
            <a:ext cx="42552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98720" y="1357200"/>
          <a:ext cx="1752480" cy="9684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97128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FFPE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276720" y="1357200"/>
          <a:ext cx="2298600" cy="1024200"/>
        </p:xfrm>
        <a:graphic>
          <a:graphicData uri="http://schemas.openxmlformats.org/drawingml/2006/table">
            <a:tbl>
              <a:tblPr/>
              <a:tblGrid>
                <a:gridCol w="22986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NA extractio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brary construc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brid cap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392120" y="2676600"/>
          <a:ext cx="6324840" cy="69516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,574 coding exons of 145 cancer-related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 introns from 14 frequently rearranged genes in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2851200" y="3679920"/>
          <a:ext cx="3112920" cy="1722240"/>
        </p:xfrm>
        <a:graphic>
          <a:graphicData uri="http://schemas.openxmlformats.org/drawingml/2006/table">
            <a:tbl>
              <a:tblPr/>
              <a:tblGrid>
                <a:gridCol w="3112920"/>
              </a:tblGrid>
              <a:tr h="17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464847"/>
                          </a:solidFill>
                          <a:uFillTx/>
                          <a:latin typeface="Arial"/>
                        </a:rPr>
                        <a:t>Data analysis for</a:t>
                      </a: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int mu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nsertions/dele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py number alt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arrang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18"/>
          <p:cNvSpPr/>
          <p:nvPr/>
        </p:nvSpPr>
        <p:spPr>
          <a:xfrm>
            <a:off x="5575320" y="1784520"/>
            <a:ext cx="42552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438960" y="3882960"/>
          <a:ext cx="1752480" cy="118908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clinical and clinical valida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3" name="Line 18"/>
          <p:cNvSpPr/>
          <p:nvPr/>
        </p:nvSpPr>
        <p:spPr>
          <a:xfrm>
            <a:off x="5963400" y="4487760"/>
            <a:ext cx="474840" cy="0"/>
          </a:xfrm>
          <a:prstGeom prst="line">
            <a:avLst/>
          </a:prstGeom>
          <a:ln w="2556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914400" y="540216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umors from 643 additional patients were genotyped for KIF5B-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957240" y="1477800"/>
          <a:ext cx="7327800" cy="2684520"/>
        </p:xfrm>
        <a:graphic>
          <a:graphicData uri="http://schemas.openxmlformats.org/drawingml/2006/table">
            <a:tbl>
              <a:tblPr/>
              <a:tblGrid>
                <a:gridCol w="1219320"/>
                <a:gridCol w="2781360"/>
                <a:gridCol w="3327120"/>
              </a:tblGrid>
              <a:tr h="482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of mutate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tential therapeutic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0188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K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esistant to EGF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kinase inhibitors, trials of PI3K and MEK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rlotinib, 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Sorafenib, sun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 marL="554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DK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albociclib (PD-03329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s Mutated in 24 FFPE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912960" y="4222800"/>
            <a:ext cx="777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ther mutated genes included: STK11, JAK2, BRAF, CDKN2A, CTNNB1, MDM2, PIK3CA, ATM, TSC1, CCNE1, MLH1, NF1, RB1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d MSH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50 alterations identified in 21 genes with at least 1 in 83% (20/24) of tum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93cddd"/>
                </a:solidFill>
                <a:latin typeface="Arial"/>
              </a:rPr>
              <a:t>Lipson D et al. </a:t>
            </a:r>
            <a:r>
              <a:rPr b="0" i="1" lang="da-DK" sz="2000" spc="-1" strike="noStrike">
                <a:solidFill>
                  <a:srgbClr val="93cddd"/>
                </a:solidFill>
                <a:latin typeface="Arial"/>
              </a:rPr>
              <a:t>Nat Med </a:t>
            </a:r>
            <a:r>
              <a:rPr b="0" lang="da-DK" sz="2000" spc="-1" strike="noStrike">
                <a:solidFill>
                  <a:srgbClr val="93cddd"/>
                </a:solidFill>
                <a:latin typeface="Arial"/>
              </a:rPr>
              <a:t>2012;18(3):382;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880920" y="1523880"/>
          <a:ext cx="7444080" cy="3694320"/>
        </p:xfrm>
        <a:graphic>
          <a:graphicData uri="http://schemas.openxmlformats.org/drawingml/2006/table">
            <a:tbl>
              <a:tblPr/>
              <a:tblGrid>
                <a:gridCol w="3152880"/>
                <a:gridCol w="1924200"/>
                <a:gridCol w="2367000"/>
              </a:tblGrid>
              <a:tr h="459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ed g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 (n =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casian (n = 1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ML4-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K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D74-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KIF5B-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Genomic Alterations in Never/Former Light Smoker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IF5B-RET is oncogenic in vitro and in vivo and requires kinase activity to func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preclinical studies, the wild-type form of KIF5B-RET is sensitive to several RET inhibitors, including sunitinib, sorafenib,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regorafenib, ponatinib, HG7-85-1 and cabozantinib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natinib and HG7-85-1 exhibited the greatest potenc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mutated KIF5B-RET was sensitive only to sunitinib, ponatinib and HG7-85-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SH analysis can be used to detect RET rearrange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KIF5B-RET 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176480"/>
            <a:ext cx="8229600" cy="456696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aluate responders and nonresponders with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nitinib,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sorafenib, cabozantinib and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andetanib, keeping in mind that sensitivity may not be solely due to RET inhibition, especially with pan-RET inhibitor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rform a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ospective clinical trial for patients, including those with known KIF5B-RET rearrangem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 to Validate KIF5B-RET as a Therapeutic Target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6769080" y="2911320"/>
            <a:ext cx="0" cy="444600"/>
          </a:xfrm>
          <a:prstGeom prst="line">
            <a:avLst/>
          </a:prstGeom>
          <a:ln w="28440">
            <a:solidFill>
              <a:srgbClr val="4648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"/>
          <p:cNvSpPr/>
          <p:nvPr/>
        </p:nvSpPr>
        <p:spPr>
          <a:xfrm>
            <a:off x="4025880" y="2549520"/>
            <a:ext cx="1266840" cy="0"/>
          </a:xfrm>
          <a:prstGeom prst="line">
            <a:avLst/>
          </a:prstGeom>
          <a:ln w="28440">
            <a:solidFill>
              <a:srgbClr val="46484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995400" y="1998720"/>
          <a:ext cx="3187800" cy="2492280"/>
        </p:xfrm>
        <a:graphic>
          <a:graphicData uri="http://schemas.openxmlformats.org/drawingml/2006/table">
            <a:tbl>
              <a:tblPr/>
              <a:tblGrid>
                <a:gridCol w="3187800"/>
              </a:tblGrid>
              <a:tr h="4500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accrual 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42280">
                <a:tc>
                  <a:txBody>
                    <a:bodyPr lIns="90000" rIns="90000" anchor="t">
                      <a:noAutofit/>
                    </a:bodyPr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, KRAS, ALK 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179640">
                        <a:spcBef>
                          <a:spcPts val="7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ver smoker or known RET rearran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1" name="Rectangle 31"/>
          <p:cNvSpPr/>
          <p:nvPr/>
        </p:nvSpPr>
        <p:spPr>
          <a:xfrm>
            <a:off x="888840" y="4632480"/>
            <a:ext cx="765684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respon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 the determination of activity in subsets of patients with RET re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ed Phase II Trial of Sunitinib for Never Smoker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292720" y="2043000"/>
          <a:ext cx="2924280" cy="1090800"/>
        </p:xfrm>
        <a:graphic>
          <a:graphicData uri="http://schemas.openxmlformats.org/drawingml/2006/table">
            <a:tbl>
              <a:tblPr/>
              <a:tblGrid>
                <a:gridCol w="2924280"/>
              </a:tblGrid>
              <a:tr h="109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un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/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4 weeks on, 2 weeks o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292720" y="3398760"/>
          <a:ext cx="2924280" cy="997200"/>
        </p:xfrm>
        <a:graphic>
          <a:graphicData uri="http://schemas.openxmlformats.org/drawingml/2006/table">
            <a:tbl>
              <a:tblPr/>
              <a:tblGrid>
                <a:gridCol w="2924280"/>
              </a:tblGrid>
              <a:tr h="99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comparison of responders versus nonrespo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Rectangle 31"/>
          <p:cNvSpPr/>
          <p:nvPr/>
        </p:nvSpPr>
        <p:spPr>
          <a:xfrm>
            <a:off x="957240" y="12603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Trial Identifier: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CT01829217 (not yet recru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728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w-generation sequencing can identify known and newly discovered drug-sensitive genomic alterations in NSCLC on paraffin-embedded tissue blocks, including mutations, copy number gains and rearrangem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KIF5B-RET fusion was found in 2.3% of Asians and 0.5%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Caucasians and warrants a prospective clinical tria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aluating RET inhibitors in this subset of NSCLC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pellett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6:07Z</dcterms:modified>
  <cp:revision>721</cp:revision>
  <dc:subject/>
  <dc:title>Research To Practice</dc:title>
</cp:coreProperties>
</file>