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AAD-0DC0-45B7-A06D-050A1ABA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B96-DFA2-4867-84F5-3EC0D1E5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50717-077D-453A-A2CF-9033207F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1A26-182D-45C4-8F5C-E057F8D6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41D5-F8D4-4F4B-86E0-05C519F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C435-DCCC-4BB7-9956-27DBC93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C23F5-C2C3-40A4-B83B-4617A01F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6AFDD-B0D4-4C61-93B4-67D843C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E425-5F79-4EDB-8BAC-D03B7B10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EBA3-2554-4CF6-B5A4-4DE357F3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1821A-2C3D-4F06-97CE-927079D1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928-39A8-4C65-B804-33121C13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EEA-32CD-4C84-BD51-211B9B53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EF0A-31A3-490D-B9B3-C9D0EC35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96C-4C2A-415D-BDB0-39091E90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2528-EFB0-4212-8D4A-AAD87A33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A568-BACD-42BF-B8BF-5E69A757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CB29-D00A-47EC-B0D1-73623543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A33C-A3FF-4559-B0DF-E31E5F7A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08BF-D1A4-4EF5-A353-B0FAF731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475-5C36-4459-9141-8B4017A9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D91-7D60-4494-9299-A4FCA81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07E5-CF85-48B8-970F-2F8BE84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B310-5960-424F-941B-FFA64A4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D1B3-07EB-4B30-A9E2-C90A0267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DC69-BE3B-49F8-98D4-887843D0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747C-AD88-4B30-A5E8-6CB28BDB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BF45-0D0C-4F06-B180-EFDC2D55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22E0-8E41-4ED2-AD66-D2F3D0A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F8FE-E1D0-4B12-A19F-AF86AB37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9F57-DAF1-4AC9-950B-A4D44FE8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519-EA8F-4084-8AFA-1C342AAC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AD4A-671F-4354-B504-61625E1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9AF3-6E9D-4372-A9CC-1CF1ECD0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02FA-6092-4DF5-8CFD-357FF44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C021-B658-4045-BEE1-84B52DA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C3FC-CD34-4575-A87B-E133EF4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C205-731E-432D-B9EF-CCF8EAD8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9DC4-1199-4C0F-95F0-FF3CDDC9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15A-37E5-4661-BC28-7474F5C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A8D8-F045-449A-9351-43958FDF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56E-326D-4D80-A6E6-476D30E7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DF43-EBE6-4452-88CA-70B9BEBD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2FBC-E1F5-4B19-AB33-E00D436A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0580-3EA5-4AD7-9232-AA4E840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8844-63A7-4027-8820-80A4193C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DD475-D2B3-4189-A381-C4C4F3D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BB52-9336-4B2A-889D-2CFAF55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4E60-BFBC-4551-952D-E70A9EF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BE1D-F993-4F23-B46D-9EBC059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8DDB-423C-4208-B75A-98DB145C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2A1A-892C-4260-9D64-19FA259B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BF6-4F51-4661-BECD-5E69E2B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4291-6A60-455F-B428-C5D612F9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53D-0F6A-49C2-8EFC-8E959DC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A25B-6C8A-4E35-B567-48AE316D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328E-62CB-4A66-92B4-B68990FE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D0054-A84E-4508-9ABD-D2B0BC3B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9BCCE-894E-4E50-A323-5B3CBCA0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23653-CB9D-43C7-AD3E-4C1929F9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F877-805C-4A1C-8A4C-9FB7E52A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D3F70-DF8D-4FB1-9D90-DE36D9A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DED-A8FF-4410-A802-3559664C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8A3E6-AC4D-40CB-BECF-29E12A21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33A0-4ACA-45F3-A2F5-4834558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70CA8-B6E3-4869-8F33-2B98EE35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711F-2064-4790-AB38-E88EBAC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F212E-44B2-41E1-9FD4-F46213E3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E8F-6A83-435A-A184-F6BB7A9A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4A05E-2206-4F51-B2DA-7B81E0AD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69567-1E27-460C-8F8B-98E1CEA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B313-DD26-4FD0-92FD-F739BA4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5B08F-7B15-4B71-AF72-78BBE79BDE8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AB239-F19C-45F1-BA06-DBDE663863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A8298-DACC-4E25-A70D-AB1B9E48018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57D32-7365-497F-96C9-CF93AD7EC00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05F55-3B24-4A48-A84C-591F625EE8D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8DD0E-3DDC-4D1B-93F4-7194852814D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76D7D-BAC3-4447-BA57-E709DF1BB06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2C425-8AC0-47C6-B9BF-CC42496477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38D7E-00E8-47EF-A803-AC7E717C4DD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56872-1A3D-4A09-8563-132D84CCA3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A5AF4-8365-47A2-AF46-916C4E84994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71CA5-2C32-421D-B0A0-A7DE667D2D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domized Phase 2 Trial on Refinement of Early-Stage NSCLC Adjuvant Chemotherapy with Cisplatin and Pemetrexed versus Cisplatin and Vinorelbine: The TREAT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Kreuter M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An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24(4):986-9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vidence from meta-analyses shows a survival benefit for patients with NSCLC with adjuvant cisplatin-based chemotherap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0;375:126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high toxic effects have been associated with platinum-based adjuvant protocols, especially when combined with vinca alkaloid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7:71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veral Phase II/III trials of cisplatin/pemetrexed (CPx) in advanced NSCLC showed comparable efficacy to platinum-based combinations with a good safety profil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8;26:354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clinical feasibility between adjuvant CPx and cisplatin/vinorelbine (CVb) in early-stage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1"/>
          <p:cNvSpPr/>
          <p:nvPr/>
        </p:nvSpPr>
        <p:spPr>
          <a:xfrm>
            <a:off x="876240" y="3573360"/>
            <a:ext cx="75042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Arial"/>
              </a:rPr>
              <a:t>Primary endpoint</a:t>
            </a: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Clinical feasibility rate defined as (a) no premature withdrawal or death and (b) no dose-limiting toxicities (DLT)(Grade 4 neutropenia/thrombocytopenia &gt;7 d, Grade 3/4 febrile neutropenia, any thrombocytopenia with bleeding, treatment-related Grade 3/4 hematologic toxic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: 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495760" y="1847880"/>
          <a:ext cx="2743200" cy="63972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 cycles of CP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495760" y="2590920"/>
          <a:ext cx="2743200" cy="63972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 cycles of C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3917880" y="260676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3"/>
          <p:cNvGrpSpPr/>
          <p:nvPr/>
        </p:nvGrpSpPr>
        <p:grpSpPr>
          <a:xfrm>
            <a:off x="5173560" y="2180880"/>
            <a:ext cx="322200" cy="655560"/>
            <a:chOff x="5173560" y="2180880"/>
            <a:chExt cx="322200" cy="655560"/>
          </a:xfrm>
        </p:grpSpPr>
        <p:sp>
          <p:nvSpPr>
            <p:cNvPr id="378" name="Line 14"/>
            <p:cNvSpPr/>
            <p:nvPr/>
          </p:nvSpPr>
          <p:spPr>
            <a:xfrm flipV="1">
              <a:off x="5173560" y="218088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5173560" y="218124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5173560" y="2266920"/>
            <a:ext cx="322200" cy="677880"/>
            <a:chOff x="5173560" y="2266920"/>
            <a:chExt cx="322200" cy="677880"/>
          </a:xfrm>
        </p:grpSpPr>
        <p:sp>
          <p:nvSpPr>
            <p:cNvPr id="381" name="Line 17"/>
            <p:cNvSpPr/>
            <p:nvPr/>
          </p:nvSpPr>
          <p:spPr>
            <a:xfrm>
              <a:off x="5173560" y="226692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5173560" y="294444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4"/>
          <p:cNvSpPr/>
          <p:nvPr/>
        </p:nvSpPr>
        <p:spPr>
          <a:xfrm>
            <a:off x="4248000" y="223524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14400" y="2152800"/>
          <a:ext cx="3154320" cy="107784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1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SCLC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tag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, IIA, II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 T3N1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fter R0 re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1"/>
          <p:cNvSpPr/>
          <p:nvPr/>
        </p:nvSpPr>
        <p:spPr>
          <a:xfrm>
            <a:off x="914400" y="3924360"/>
            <a:ext cx="77518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an follow-up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until the primary endpoint analysis: 3.95 months (CPx), 3.87 months (CVb); NR = not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Preliminary efficacy analysis revealed no treatment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No significant difference in OS and PFS between a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14400" y="1752480"/>
          <a:ext cx="7378560" cy="2079720"/>
        </p:xfrm>
        <a:graphic>
          <a:graphicData uri="http://schemas.openxmlformats.org/drawingml/2006/table">
            <a:tbl>
              <a:tblPr/>
              <a:tblGrid>
                <a:gridCol w="2679840"/>
                <a:gridCol w="1523880"/>
                <a:gridCol w="1612800"/>
                <a:gridCol w="1562040"/>
              </a:tblGrid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 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 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easibilit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5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ithdrawal of con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Feasibility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914400" y="1486080"/>
          <a:ext cx="7378560" cy="2981160"/>
        </p:xfrm>
        <a:graphic>
          <a:graphicData uri="http://schemas.openxmlformats.org/drawingml/2006/table">
            <a:tbl>
              <a:tblPr/>
              <a:tblGrid>
                <a:gridCol w="3911760"/>
                <a:gridCol w="1765080"/>
                <a:gridCol w="1701720"/>
              </a:tblGrid>
              <a:tr h="496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 (n =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 (n =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4 neutropenia &gt;7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4 thrombocytopenia &gt;7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3/4 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cytopenia with blee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rade 3/4 nonhematologic tox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: Reasons for DLT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736560" y="1727280"/>
          <a:ext cx="7683480" cy="3073320"/>
        </p:xfrm>
        <a:graphic>
          <a:graphicData uri="http://schemas.openxmlformats.org/drawingml/2006/table">
            <a:tbl>
              <a:tblPr/>
              <a:tblGrid>
                <a:gridCol w="2819520"/>
                <a:gridCol w="1930320"/>
                <a:gridCol w="1714680"/>
                <a:gridCol w="1218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Px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Vb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0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ose delivery, % 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isplatin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5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x or Vb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an duration of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1.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.9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number of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Delivery and Duration of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914400" y="1676520"/>
          <a:ext cx="7378560" cy="1500120"/>
        </p:xfrm>
        <a:graphic>
          <a:graphicData uri="http://schemas.openxmlformats.org/drawingml/2006/table">
            <a:tbl>
              <a:tblPr/>
              <a:tblGrid>
                <a:gridCol w="3009960"/>
                <a:gridCol w="1460520"/>
                <a:gridCol w="1365120"/>
                <a:gridCol w="1542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9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arlier therapy 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ime to treatment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f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"/>
          <p:cNvSpPr/>
          <p:nvPr/>
        </p:nvSpPr>
        <p:spPr>
          <a:xfrm>
            <a:off x="914400" y="3306600"/>
            <a:ext cx="733284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asons for earlier termination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Unacceptable toxicity per protocol or as perceived by patient: CPx = 10, CVb =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cal decision by investigator: CPx = 4, CVb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6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Withdrawal of consent: CPx = 0, CVb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914400" y="1422360"/>
          <a:ext cx="7378560" cy="4022640"/>
        </p:xfrm>
        <a:graphic>
          <a:graphicData uri="http://schemas.openxmlformats.org/drawingml/2006/table">
            <a:tbl>
              <a:tblPr/>
              <a:tblGrid>
                <a:gridCol w="3193920"/>
                <a:gridCol w="2092320"/>
                <a:gridCol w="20923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x, % (n = 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b, % (n = 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ematologic A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nem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nhematologic A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/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romboembolic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n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 and 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djuvant chemotherapy with CPx is safe and feasible with les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oxicity and superior dose delivery compared to CV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erms of efficacy, however, the limitations of the size of a Phase II trial and a large number of patients with Stage IB or SCLC should be taken into accou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onger follow-up to observe possible outcome differences is ongo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Kreuter M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4):986-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4Z</dcterms:created>
  <dc:creator>Research To Practice</dc:creator>
  <dc:description/>
  <cp:keywords/>
  <dc:language>en-US</dc:language>
  <cp:lastModifiedBy>Silvana Izquierdo</cp:lastModifiedBy>
  <cp:lastPrinted>2013-06-11T14:03:38Z</cp:lastPrinted>
  <dcterms:modified xsi:type="dcterms:W3CDTF">2013-07-22T19:11:16Z</dcterms:modified>
  <cp:revision>610</cp:revision>
  <dc:subject/>
  <dc:title>Research To Practice</dc:title>
</cp:coreProperties>
</file>