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B25-737F-4005-A01D-1BE8D5D9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292-72F3-4CFC-AC36-04F99D2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565C-FB14-4A50-9AA0-1B73F28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8168-56D8-4A8F-B47F-D24B28C5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3DBD-7656-4516-B78D-803C3F2B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6A38-6261-4CF1-82D1-C893203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039E-CDC0-4EA1-ACE7-B225CC31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D9BDD-A07C-446D-9400-742A27A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0C24-326E-44C8-BBDD-2ED7924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F8D3-D05A-44B9-9A1F-52B6CD26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C195-A3DB-4438-8009-20AD691F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5B8-872C-4409-9CE2-3CB9F48B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F74-1D49-40FD-8604-33B8168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741E-21C1-4990-BD6E-2011B1EC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C28-1D83-43ED-B1B5-52E5F5B9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0694-96B9-4202-9122-9E5072F3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CFD4-C69F-481A-8F6F-950581C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B8B-7AB0-49E2-B0DB-27B242C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4A84-12CF-460E-98A7-8EEED4B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4364-6691-4640-825F-A094754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F44-E5AE-47EB-8BB6-3A9A67A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49FB-7731-4A49-B430-1A841DF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B9E-5C44-40B9-A6E0-6B0853F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4FC9-4EAD-4BA5-A051-B26C32B2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AE0-82AE-44FB-BEA3-1EF1D8F3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11D0-F2C4-4C7F-8EB9-CD4BD2B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F59F-6534-4840-A055-3B426F5E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C3FD-365F-4AD3-9D20-0D28548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62AB-1B87-4B7D-933A-6EFAA3E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767A-B5FF-4C66-945A-D88551E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70A2-8C7F-47EF-BB5C-B05F5EA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890-12E7-464D-8F1A-77EBCDD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B896-36F2-4619-B26C-7A43D7D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0D09-28F1-4592-88B3-DBF6744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76CC-0925-402E-9F07-2168B95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F7FF-D00B-4FEE-B8CC-BC48B9D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F2FB-DE62-4083-B55D-E1FE9DC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98E1-8C2B-4D90-BBF3-67714053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D8F9-B028-40F9-A023-C7FB2B1B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B89-A745-45D1-BF2C-DB4301D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E994-0CD1-4CFF-A6D2-B03D8999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BAC-F8F8-4AA3-9456-6A3CE1CF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47B8-508B-4291-B4EE-9994C6B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960B-10CE-4B25-A705-DDE82161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6D7A-CEC1-455C-97C6-56ABB8EE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0E01-79FE-4084-B386-0AD46B8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9637-53FD-4E90-86ED-878D0369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D638-5613-4E7D-A830-071186B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EF1F-F76B-47B4-AC9F-408BD91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0887-8189-4227-99A3-8FD92DD4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D422-3341-4C3B-B921-82E0641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2183-B2F7-426B-890D-140FE35D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146-6385-45C1-B835-036DF17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53D1-7312-4A58-A29F-B22616D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C4E-0284-4165-BD19-EE53D83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9E35-5C46-40C7-A4CD-5864476D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BD45B-6494-4F7D-A9F6-BA701E34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ED08-CA4A-42F5-9832-637ACAE3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EC43-4798-47EB-A67B-6AEE2A5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890F-E7AE-4051-861D-0261CBA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9E58-8859-4FB5-954D-0C7FE8E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38C08-A65F-4A88-8701-C88D3A5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BC2-3C03-4DB6-8828-49BF599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34CAC-531E-40F1-AD93-003B39C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C26E-A496-41B3-9CB1-8E66696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1C47-6ACF-432C-A6D4-E1C582F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E894-FF54-4B4F-B254-7C46A73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68185-9EAF-4E54-A0AD-D03BB688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FAA-8D34-4FCE-9628-5776532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556F-A8F5-4D2D-855B-9A4CC4A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CBD4-9787-465B-9F95-B8833C5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2973-E493-4E0F-AD02-DAC9E6C7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2F875-28B9-4333-A38F-FD39BE99B79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3DB06-BCD0-4A90-9FC3-5D68BA36C3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085A3-D1F1-4F9A-B76B-F2C6B4DF8DC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3C9E9-67C7-42EE-A039-0758017E196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2B0C0-25AC-482D-97AC-92DCB9E9EAA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B3A0C-A266-44D6-BABD-F233A6277D6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21538-EBFE-44BC-A569-CBC4CD09C30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174D8-1C90-4241-922B-97F5303FFC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3CC84-B082-420C-AF69-00CBAB76678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1AE93-33D6-4730-B108-64C7A5C7A8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911A4-2F3B-47F8-AC9A-C59D73FBAE1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8D3B0-BF6C-4BB8-BACA-EB96D47D14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SE: Randomized Proteomic Stratified Phase III Study of Second-Line Erlotinib versus Chemotherapy in Patients with Inoperable Non-Small Cell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Lazzari C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187280"/>
            <a:ext cx="8226360" cy="457056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is trial, all patients were classified as having good or poor VeriStrat status, depending on the biomarker signature in plasma sampl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verall, there were no significant differences in overall survival except for patients classified as having poor VeriStrat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r these patients, CT was a better treatment than ERL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estingly, 2 patients with EGFR mutations were classified as having poor VeriStrat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 the VeriStrat signature is a prognostic tool and may be another useful biomarker for predicting response to therapy in the second-line setting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going VeriStrat trials in the second-line setting for squamous cell carcinoma include the Phase III EMPHASIS study (NCT0165246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37160" anchor="t">
            <a:norm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reatment of NSCLC after progression on platinum-based regimens includes chemotherapy or EGFR inhibit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rlotinib, an EGFR inhibitor, improves progression-free survival for patients with EGFR-activating mutation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test for optimizing treatment for patients with advanced NSCLC with wild-type or unknown EGFR status or those with squamous cell histology is of clinical valu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 multivariate protein-based serum classification test has been shown to have prognostic and predictive value in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spectively evaluate the predictive utility of VeriStrat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classification on survival outcome with erlotinib versus chemotherapy as second-line therapy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88840" y="1380960"/>
          <a:ext cx="7315200" cy="11178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2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 marL="285840" indent="-23040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ically/cytologically confirmed Stage IIIB-IV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3040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prior platinum-based therapy; no prior 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1"/>
          <p:cNvSpPr/>
          <p:nvPr/>
        </p:nvSpPr>
        <p:spPr>
          <a:xfrm>
            <a:off x="944640" y="5110200"/>
            <a:ext cx="41940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rossover permitted at 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ive Phase III PROS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44640" y="4070520"/>
          <a:ext cx="2884320" cy="366480"/>
        </p:xfrm>
        <a:graphic>
          <a:graphicData uri="http://schemas.openxmlformats.org/drawingml/2006/table">
            <a:tbl>
              <a:tblPr/>
              <a:tblGrid>
                <a:gridCol w="2884320"/>
              </a:tblGrid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(n = 129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2"/>
          <p:cNvSpPr/>
          <p:nvPr/>
        </p:nvSpPr>
        <p:spPr>
          <a:xfrm>
            <a:off x="4543560" y="25020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3416400" y="269568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47920" y="2873520"/>
          <a:ext cx="2844720" cy="365040"/>
        </p:xfrm>
        <a:graphic>
          <a:graphicData uri="http://schemas.openxmlformats.org/drawingml/2006/table">
            <a:tbl>
              <a:tblPr/>
              <a:tblGrid>
                <a:gridCol w="2844720"/>
              </a:tblGrid>
              <a:tr h="36504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* —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321160" y="4108320"/>
          <a:ext cx="3173400" cy="366840"/>
        </p:xfrm>
        <a:graphic>
          <a:graphicData uri="http://schemas.openxmlformats.org/drawingml/2006/table">
            <a:tbl>
              <a:tblPr/>
              <a:tblGrid>
                <a:gridCol w="3173400"/>
              </a:tblGrid>
              <a:tr h="36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rlotinib (150 mg/d) 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809960" y="2860560"/>
          <a:ext cx="2683080" cy="365400"/>
        </p:xfrm>
        <a:graphic>
          <a:graphicData uri="http://schemas.openxmlformats.org/drawingml/2006/table">
            <a:tbl>
              <a:tblPr/>
              <a:tblGrid>
                <a:gridCol w="2683080"/>
              </a:tblGrid>
              <a:tr h="365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* — 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3416400" y="268776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5635800" y="26892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4543560" y="3425760"/>
            <a:ext cx="0" cy="14760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5635800" y="325116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"/>
          <p:cNvSpPr/>
          <p:nvPr/>
        </p:nvSpPr>
        <p:spPr>
          <a:xfrm>
            <a:off x="3416400" y="325116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3416400" y="342576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5295960" y="4489560"/>
            <a:ext cx="319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ients and investigators are blinded to VeriStra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896760" y="4438800"/>
            <a:ext cx="316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emetrexed (500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)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r docetaxel (75 mg/m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3416400" y="388764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"/>
          <p:cNvSpPr/>
          <p:nvPr/>
        </p:nvSpPr>
        <p:spPr>
          <a:xfrm>
            <a:off x="3416400" y="38797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"/>
          <p:cNvSpPr/>
          <p:nvPr/>
        </p:nvSpPr>
        <p:spPr>
          <a:xfrm>
            <a:off x="5635800" y="388152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"/>
          <p:cNvSpPr/>
          <p:nvPr/>
        </p:nvSpPr>
        <p:spPr>
          <a:xfrm>
            <a:off x="4176720" y="3527280"/>
            <a:ext cx="731880" cy="73188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84240" y="1473120"/>
          <a:ext cx="7340760" cy="3821040"/>
        </p:xfrm>
        <a:graphic>
          <a:graphicData uri="http://schemas.openxmlformats.org/drawingml/2006/table">
            <a:tbl>
              <a:tblPr/>
              <a:tblGrid>
                <a:gridCol w="3289320"/>
                <a:gridCol w="2025720"/>
                <a:gridCol w="2025720"/>
              </a:tblGrid>
              <a:tr h="693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6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— Good (Poor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8%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%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4%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Yes (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7%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8% (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tion-positive (Wild ty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 (9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 (9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haracteristics by Trea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84240" y="1442880"/>
          <a:ext cx="7340760" cy="3975120"/>
        </p:xfrm>
        <a:graphic>
          <a:graphicData uri="http://schemas.openxmlformats.org/drawingml/2006/table">
            <a:tbl>
              <a:tblPr/>
              <a:tblGrid>
                <a:gridCol w="3111480"/>
                <a:gridCol w="1536840"/>
                <a:gridCol w="1422360"/>
                <a:gridCol w="1270080"/>
              </a:tblGrid>
              <a:tr h="744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-1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6%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9% (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 (Female)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Yes (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3%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1% 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4%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7%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utation-positive (Wild ty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 (9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 (9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haracteristics by VeriStrat Classif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917640" y="1481040"/>
          <a:ext cx="7429320" cy="3040200"/>
        </p:xfrm>
        <a:graphic>
          <a:graphicData uri="http://schemas.openxmlformats.org/drawingml/2006/table">
            <a:tbl>
              <a:tblPr/>
              <a:tblGrid>
                <a:gridCol w="2692440"/>
                <a:gridCol w="1384200"/>
                <a:gridCol w="1270080"/>
                <a:gridCol w="1054080"/>
                <a:gridCol w="1028520"/>
              </a:tblGrid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VeriStrat status —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9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VeriStrat status — 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7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98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 by Treatment and VeriStra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1"/>
          <p:cNvSpPr/>
          <p:nvPr/>
        </p:nvSpPr>
        <p:spPr>
          <a:xfrm>
            <a:off x="917640" y="4627440"/>
            <a:ext cx="756108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T = chemotherapy; ERL = erlotinib; HR = hazar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verall, patients classified as having good VeriStrat status have better outcomes than those classified as having poor VeriStrat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1"/>
          <p:cNvSpPr/>
          <p:nvPr/>
        </p:nvSpPr>
        <p:spPr>
          <a:xfrm>
            <a:off x="870120" y="4452840"/>
            <a:ext cx="7588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COG PS and VeriStrat classification are prognostic for outcome independent of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Strat is predictive of significant differential treatment benefit between CT and ERL when adjusted for potential confounding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015920" y="1476360"/>
          <a:ext cx="7267680" cy="2879640"/>
        </p:xfrm>
        <a:graphic>
          <a:graphicData uri="http://schemas.openxmlformats.org/drawingml/2006/table">
            <a:tbl>
              <a:tblPr/>
              <a:tblGrid>
                <a:gridCol w="4303800"/>
                <a:gridCol w="1376280"/>
                <a:gridCol w="1587600"/>
              </a:tblGrid>
              <a:tr h="423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ar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(2 vs 0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 (yes vs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y (squamous vs nonsquamo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status (poor vs goo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ment (ERL vs 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VeriStrat treatment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Strat Treatment-Adjusted Interaction Analysis for 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927000" y="1523880"/>
          <a:ext cx="7328160" cy="2756160"/>
        </p:xfrm>
        <a:graphic>
          <a:graphicData uri="http://schemas.openxmlformats.org/drawingml/2006/table">
            <a:tbl>
              <a:tblPr/>
              <a:tblGrid>
                <a:gridCol w="3899160"/>
                <a:gridCol w="1714320"/>
                <a:gridCol w="1714680"/>
              </a:tblGrid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iStrat treatment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l treated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 analysi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228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EGFR wild type or unknown EG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nalysis: Interaction between Treatm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VeriStra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927000" y="4516560"/>
            <a:ext cx="732816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xcludes 14 patients with NSCLC harboring EGFR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76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VeriStrat classification is useful in guiding treatment decision-making for patients with EGFR wild type or unknown EGFR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1728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OSE trial is the first completed prospective biomarker-stratified validation study in oncology to test for interactions between treatment and biomarke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emonstrated that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of patients who are classified as having poor VeriStrat status (30% to 35%) is better with chemotherapy than with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lo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urvival of patients who are classified as having good VeriStrat status (65% to 70%) is similar between chemotherapy an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erlotini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erum proteomic VeriStrat classification is clinically useful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 guide second-line treatment decisions for patients with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SCLC with EGFR wild type or unknown EGFR statu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azzari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49:12Z</dcterms:modified>
  <cp:revision>686</cp:revision>
  <dc:subject/>
  <dc:title>Research To Practice</dc:title>
</cp:coreProperties>
</file>