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FAE-3509-4636-985F-3F661426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0E2-744D-4671-9235-5F89B49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4A-0347-4366-9399-258AFF93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2EB-CFAE-4E3A-B53F-0643D708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622A-8336-419D-BB64-81D33193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02D6-F0EB-4DD2-8993-A29D52B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C70-11B9-40A1-B874-B5C52038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3B4F-CF11-4341-8935-262C8E2D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AA3-5E2E-412F-9897-06858A5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70C-300B-488B-AF89-C0F6D6A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010-2A36-4420-83A9-63A3FED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95A-E38E-407A-8CC3-CFD065F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6682-6AB3-4957-8A46-438FB5B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3258-9F32-4538-B936-40D947D0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48E8-EF01-4637-BCC6-B1927BAF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0CFE-9560-4161-B1B8-C300ECD2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472-C381-449E-A257-453CFBD1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7B4-6C34-439F-85A7-EBCB8BA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BBEE-E808-4CA0-A03D-E9820E38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1599-A99E-4FBF-9236-CF041B94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271-A0FE-4600-889B-B592242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011-8CAA-4F24-9DBC-8C697F8B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4205-FEB1-433E-82B7-B70C1896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7BF5-594F-4934-AA61-9E05D708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70D4-A391-4D96-8AD3-02F8504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12B5-0FCD-4FE4-9545-9BEC36C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33D4-1012-46E0-9AE4-D6B267A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9D9B-6A01-4FF7-87CF-B4D578C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7E35-43EF-4238-A85B-E98B87E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EB6B-7A10-4F95-AE7A-1BE92AA2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C403-57DE-4741-A937-B1F2324C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86A-C540-43D8-B3A9-FE3B055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E28-D603-4FB3-A702-D1C07D04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FBA9-F002-442D-9C47-1C306BDA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8633-B708-43A6-BDD5-49E933C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99F3-E251-4025-9EA4-C0C2AD4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9E95-C523-44FE-9FDD-48362CE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1716-6641-4456-83F8-4881163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8D25-20E3-4A22-91E4-EF64565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2B66-F4D4-49A6-9742-E947C61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C8CB-413E-4ECB-9123-6A84B76B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1A30-7C07-497E-8C5D-1AEF53E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34C-786E-4FC2-AD3D-2C1A06A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B150-AD30-4F09-8583-9A51C1C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31A9-35E4-48B5-A1B6-93091732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DD96-2545-4CAB-9A3D-C2B070FA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3F8-1587-4B5B-9158-5622506E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188-5DB7-4CE3-BFFC-7D413990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8CE16-887C-4D5C-99D4-166397498C1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A3300-E43C-47BB-B42A-BBDCC66F3F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0595B-1566-42DE-955B-9C8B98C03FE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39EC8-324F-476F-8049-BC6FA92DE35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3619B-AF7C-4EBE-A832-9A2ABDA2DB6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AC9B7-BB3A-4141-9D6F-2921134CCE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B5907-04AA-4989-8ED0-B42108B7A9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CFBD8-64B9-4096-B608-9C1CC72AD8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mor Response and Toxicity of Neoadjuvant Erlotinib in Patients with Early-Stage Non-Small-Cell 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chaake EE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30(22):2731-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Pathologic examination after neoadjuvant erlotinib showed &gt;50% necrosis in 23% of the overall population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5% had more than 95% necrosi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38% pathologic response in the enriched population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10% pathologic response in the unselected popula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A metabolic response was observed in 27% of the patients, while a radiologic response was observed in 5% of the patient populat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Neoadjuvant erlotinib was associated with low toxicity (primarily Grade 1 or 2 rash and diarrhea)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Arial"/>
              </a:rPr>
              <a:t>12% of patients prematurely discontinued erlotinib due to toxicity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  <a:ea typeface="Arial"/>
              </a:rPr>
              <a:t>Neoadjuvant erlotinib demonstrated sufficient activity to deserve further testing in future studies in an enriched population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5092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ve-year survival rates vary from 36% to 73% after resection of early-stage NSCLC with curative int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overall survival effect of adjuvant chemotherapy is modest (4% to 8% at 5 years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 similar magnitude of benefit may be expected in the neoadjuvant setting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ossibilities to improve survival include combinations of standard therapy with a personalized approach based on biomarke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GFR is overexpressed or mutated in NSCLC, and its inhibition with a tyrosine kinase inhibitor such as erlotinib can reduce tumor growth and increase objective response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valuate the efficacy and safety of preoperative erlotinib therapy for patients with early-stage resectabl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newly diagnosed resectable NSCLC (n = 60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lected (enriched) population (n = 29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cluding ≥2 of: female, adenocarcinoma, nonsmoker, Asia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Unselected population (n = 3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l patients received 150 mg/d preoperative erlotinib (oral) for 3 weeks; discontinued 72 h before surger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T and FDG-PET scans performed at 21 d from start of erlotinib; surgery scheduled in week 4 after treatment start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rimary endpoint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Pathologic respons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econdary endpoints: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adiologic (RECIST criteria) and metabolic (EORTC criteria) response; safety; progression-free and overall surviva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914400" y="1689120"/>
          <a:ext cx="7491240" cy="3073320"/>
        </p:xfrm>
        <a:graphic>
          <a:graphicData uri="http://schemas.openxmlformats.org/drawingml/2006/table">
            <a:tbl>
              <a:tblPr/>
              <a:tblGrid>
                <a:gridCol w="2957400"/>
                <a:gridCol w="1511280"/>
                <a:gridCol w="1511280"/>
                <a:gridCol w="1511280"/>
              </a:tblGrid>
              <a:tr h="94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ologic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i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3ee"/>
                    </a:solidFill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: Patholog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914400" y="4762440"/>
            <a:ext cx="761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A cutoff of 50% necrosis (with morphologic signs of therapy-induced regression) was used for pathologic 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914400" y="1384200"/>
          <a:ext cx="7491240" cy="3584520"/>
        </p:xfrm>
        <a:graphic>
          <a:graphicData uri="http://schemas.openxmlformats.org/drawingml/2006/table">
            <a:tbl>
              <a:tblPr/>
              <a:tblGrid>
                <a:gridCol w="3313080"/>
                <a:gridCol w="1486080"/>
                <a:gridCol w="1282680"/>
                <a:gridCol w="1409400"/>
              </a:tblGrid>
              <a:tr h="612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i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SUV</a:t>
                      </a:r>
                      <a:r>
                        <a:rPr b="0" lang="en-US" sz="1800" spc="-1" strike="noStrike" baseline="-25000">
                          <a:solidFill>
                            <a:srgbClr val="464847"/>
                          </a:solidFill>
                          <a:latin typeface="Arial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bol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 (P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 (P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in 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diolog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bolic and Radiologic Tumo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914400" y="4994280"/>
            <a:ext cx="7618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DG tumor uptake quantified using SUV</a:t>
            </a:r>
            <a:r>
              <a:rPr b="0" lang="en-US" sz="1600" spc="-1" strike="noStrike" baseline="-25000">
                <a:solidFill>
                  <a:srgbClr val="464847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(maximum standardized uptake value)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S = tumo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914400" y="1714680"/>
          <a:ext cx="7491240" cy="3095280"/>
        </p:xfrm>
        <a:graphic>
          <a:graphicData uri="http://schemas.openxmlformats.org/drawingml/2006/table">
            <a:tbl>
              <a:tblPr/>
              <a:tblGrid>
                <a:gridCol w="2957400"/>
                <a:gridCol w="1511280"/>
                <a:gridCol w="1511280"/>
                <a:gridCol w="1511280"/>
              </a:tblGrid>
              <a:tr h="112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ologic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FR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as mu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50% nec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re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mor Response by EGFR Mutation Status: Patholog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914400" y="1434960"/>
          <a:ext cx="7491240" cy="4024440"/>
        </p:xfrm>
        <a:graphic>
          <a:graphicData uri="http://schemas.openxmlformats.org/drawingml/2006/table">
            <a:tbl>
              <a:tblPr/>
              <a:tblGrid>
                <a:gridCol w="2800440"/>
                <a:gridCol w="1563480"/>
                <a:gridCol w="1563840"/>
                <a:gridCol w="1563480"/>
              </a:tblGrid>
              <a:tr h="914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FR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-ras mut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uble w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SUV</a:t>
                      </a:r>
                      <a:r>
                        <a:rPr b="0" lang="en-US" sz="1800" spc="-1" strike="noStrike" baseline="-25000">
                          <a:solidFill>
                            <a:srgbClr val="464847"/>
                          </a:solidFill>
                          <a:latin typeface="Arial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bol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change in 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diologic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GFR Mutation Status: Metabolic and Radiologic Tumo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1"/>
          <p:cNvSpPr/>
          <p:nvPr/>
        </p:nvSpPr>
        <p:spPr>
          <a:xfrm>
            <a:off x="914400" y="3741840"/>
            <a:ext cx="736596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0 patients died from P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1 patient died from sepsis after an abdominal infection (13 mo after surg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828800"/>
          <a:ext cx="7365960" cy="1805040"/>
        </p:xfrm>
        <a:graphic>
          <a:graphicData uri="http://schemas.openxmlformats.org/drawingml/2006/table">
            <a:tbl>
              <a:tblPr/>
              <a:tblGrid>
                <a:gridCol w="4290840"/>
                <a:gridCol w="307512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01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progression-free 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ear overall surviv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 at 24 Months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501480" y="599436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914400" y="1422360"/>
          <a:ext cx="7238880" cy="3619440"/>
        </p:xfrm>
        <a:graphic>
          <a:graphicData uri="http://schemas.openxmlformats.org/drawingml/2006/table">
            <a:tbl>
              <a:tblPr/>
              <a:tblGrid>
                <a:gridCol w="2984400"/>
                <a:gridCol w="2121120"/>
                <a:gridCol w="2133360"/>
              </a:tblGrid>
              <a:tr h="362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=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1 o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e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Infection/pneumon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chaake EE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30(22):273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914400" y="5168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4 AE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43Z</dcterms:created>
  <dc:creator>Research To Practice</dc:creator>
  <dc:description/>
  <cp:keywords/>
  <dc:language>en-US</dc:language>
  <cp:lastModifiedBy>Silvana Izquierdo</cp:lastModifiedBy>
  <cp:lastPrinted>2013-02-28T16:56:30Z</cp:lastPrinted>
  <dcterms:modified xsi:type="dcterms:W3CDTF">2013-07-22T18:56:39Z</dcterms:modified>
  <cp:revision>618</cp:revision>
  <dc:subject/>
  <dc:title>Research To Practice</dc:title>
</cp:coreProperties>
</file>