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6CA2-FD5A-47AC-91A2-84A62B17E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0173-CDBA-4B5B-ACC2-A0ED4AF1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6E23E-A3A4-4093-85F7-49FDE117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122D8-8FF2-4D64-AD49-C5872F1F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97839-AD0D-4D54-955D-6CEA6A68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A0187-776A-47DA-99C7-5713AD50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3261C-CF07-4DAE-B6CD-979F8EDF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6CC80-EFE1-4C23-9C9B-1647E3DE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BAE20-BC14-43D2-9437-BC7FDE35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74F46-EBDB-4DDB-B798-19D312F5C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174B8-F6DD-45C9-9656-1E390A4F8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032F-D7A2-4E30-AA59-289B96CF5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025B-F3AA-4A9B-B586-3F6C74977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F992-3B00-41D3-A8E3-7197C4B83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3255-789B-457D-B3BA-888EBB1D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CB53-90BD-42F0-9DB7-F2D78FD4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A2BC-BCF8-488D-8350-0F80AE01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3A39-FCEB-4E25-9EF2-90261183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6BDD-4248-4F72-8B4F-13401A83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1F93B-CA95-45BF-A552-F497616F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2054-6F2E-4E26-A66A-DA6853FA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8CDF-2DF4-493A-88A3-5C44BD2A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7DC1-75AB-4E48-8221-2ADFC834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8A011-71D7-466A-B1EA-6A635E16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FB85-D6AA-4B7C-A030-7D05CD1F9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87C0-D54B-4129-B3A5-D9217EA41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98E5A-6268-44A3-957E-BCEF0E109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8E905-3A85-40FC-96EA-22AD551B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8201F-2DAB-4F2F-B069-A2FDA487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CB49A-B160-46FB-AA09-E002B724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DB2BB-F2F3-409B-BF56-365E7B7A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AB57-3EAB-4304-B12B-3EC4AF37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188B0-02D0-42A0-9FF8-52750B45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1ADD5-EB3F-42C1-953C-9C667763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19DBA-1A7E-4F7A-8CFD-1B6566EC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34FEB-8639-4B84-A78E-842DB024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5F8AA-B874-4339-A85F-D2F969B3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8D52D-A050-40AD-A0D4-AF4F2F240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2D26A-227A-4B59-84E9-38D3A3F32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7EEC-012F-435D-AB85-2A9F4F80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0BAB2-CF13-4CCD-A8AE-D19031A80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8AB8-EA07-4486-8574-29A022EA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4CC57-2A1F-49DE-8572-B618004E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ACCDE-1AC3-4FF6-BA43-98CD269B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8F9B4-A545-4FCB-A48B-645397B1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F6A5B-64DB-43E4-A5CE-465805A5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62804-F369-466F-B05A-E4294BCE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3B9C3-829D-4093-8A9C-79A7C568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41E5A-C729-480D-8F41-2E682438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BE1AF-11C2-45D4-AF26-DD611C66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622AD-81FF-4878-AA3A-550B3C31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D0A10-F5E7-481E-9ED5-2019CECF1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4921-658F-4E0B-BAE1-23C5485C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9E213-B7AB-4173-8C4A-A6A40D3C3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6268-86EF-4BBD-906E-EFE73075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39800-9231-4051-AC65-C5B8105BE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E81F7-7BA0-409B-8149-BF040016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7E0CA-87A5-485B-909A-ADECE230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4A7E9-60D6-4A7F-8726-D400AE8A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21610-8FE3-4461-B585-98D93A47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59179-71DD-4F72-BCE8-207864E1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C2934-33FE-449A-8051-86257D7C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42A0-7D8F-4E52-BCFE-E3FCEAC6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53248-6901-44FE-8567-AAD1D707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05779-802F-44D2-A6F2-A6AE299B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6CE7F-2F8F-4E59-9EF2-2E24E21C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00477-BF22-4099-A8FD-BFDEA6E71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CD49B-5FF0-4591-9D82-9136A993C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B623-D0E4-4F2E-B108-FA370DB0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A1014-ACEF-45B0-9C2D-87ABA276E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E406D-6CD3-4D3A-9F89-DDC8F139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E1F0F-FD56-4849-8A90-17DE8803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7B9F11-A948-46A7-B3E5-FEDD2D806F1B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853CAE-271B-486B-827F-A02B18B613C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D7023D-4200-4DBB-B94A-A73A8E08C26A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B9D8D9-668E-4359-90D1-34C2E8020C91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D4AAE8-9E53-48A1-A626-E1C082679EBE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C77339-3348-41DA-A219-BB957FF81072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icture 8"/>
          <p:cNvSpPr/>
          <p:nvPr/>
        </p:nvSpPr>
        <p:spPr>
          <a:xfrm>
            <a:off x="449280" y="1170000"/>
            <a:ext cx="8226360" cy="45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618F67-4BB8-410D-A38E-6422707BEC3D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159BE8-9519-4E2A-92EB-E8941C1B5FA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icture 8"/>
          <p:cNvSpPr/>
          <p:nvPr/>
        </p:nvSpPr>
        <p:spPr>
          <a:xfrm>
            <a:off x="449280" y="1170000"/>
            <a:ext cx="8226360" cy="45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935A3C-4CA6-4F0A-AFF5-3096F66151FC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98741E-0213-4E76-A534-99DF643041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36F72C-1BD4-435A-9FFC-9802913EC089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CED825-BC32-4CF3-9C33-2596A0A000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rehensive Genomic Characterization of 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uamous Cell Lung 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ance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e Cancer Genome Atlas Research Net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Nature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 2012;489(7417):519-2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01440" y="1320480"/>
            <a:ext cx="75690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201"/>
              </a:spcBef>
              <a:spcAft>
                <a:spcPts val="201"/>
              </a:spcAft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33333"/>
                </a:solidFill>
                <a:latin typeface="Arial"/>
              </a:rPr>
              <a:t>The discovery of recurrent mutations in EGFR kinase and ALK fusions led to a marked change in the treatment of lung adenocarcinoma with targeted therapies.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spcAft>
                <a:spcPts val="201"/>
              </a:spcAft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33333"/>
                </a:solidFill>
                <a:latin typeface="Arial"/>
              </a:rPr>
              <a:t>However, targeted agents for lung adenocarcinoma are largely ineffective against lung squamous cell carcinoma (SQCC) because activating mutations in EGFR and ALK fusions are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ypically not present</a:t>
            </a:r>
            <a:r>
              <a:rPr b="0" lang="en-US" sz="19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spcAft>
                <a:spcPts val="201"/>
              </a:spcAft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33333"/>
                </a:solidFill>
                <a:latin typeface="Arial"/>
              </a:rPr>
              <a:t>Although no comprehensive genomic analysis of lung SQCC has been reported, single-platform studies have identified gene alterations in the disease.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spcAft>
                <a:spcPts val="201"/>
              </a:spcAft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33333"/>
                </a:solidFill>
                <a:latin typeface="Arial"/>
              </a:rPr>
              <a:t>Current study objective: 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lvl="1" marL="727920" indent="-280080">
              <a:spcBef>
                <a:spcPts val="201"/>
              </a:spcBef>
              <a:spcAft>
                <a:spcPts val="201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Arial"/>
              </a:rPr>
              <a:t>Conduct a comprehensive </a:t>
            </a:r>
            <a:r>
              <a:rPr b="0" lang="en-US" sz="1700" spc="-1" strike="noStrike">
                <a:solidFill>
                  <a:srgbClr val="333333"/>
                </a:solidFill>
                <a:latin typeface="Arial"/>
                <a:ea typeface="Arial"/>
              </a:rPr>
              <a:t>study of genomic and epigenomic alterations in a large cohort of patients with lung SQCC to identify </a:t>
            </a:r>
            <a:r>
              <a:rPr b="0" lang="en-US" sz="1700" spc="-1" strike="noStrike">
                <a:solidFill>
                  <a:srgbClr val="333333"/>
                </a:solidFill>
                <a:latin typeface="Arial"/>
              </a:rPr>
              <a:t>potential opportunities for therapy.</a:t>
            </a:r>
            <a:endParaRPr b="0" lang="en-US" sz="17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457200" y="6046920"/>
            <a:ext cx="849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Cancer Genome Atlas Research Network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Nature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489(7417):519-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y 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901440" y="1320480"/>
            <a:ext cx="75690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umor samples were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obtained from 178 patients with previously untreated Stage I to IV lung SQCC of whom 96% had a history of tobacco use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Germline DNA was obtained from adjacent, histologically normal tissue resected at time of surgery (n = 137) or from peripheral blood (n = 41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Normal and tumor DNA samples were sequenced by whole-genome shotgun sequencing, and significantly mutated genes were identified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SNP copy number data were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used to identify recurrent amplification and deletion peak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3" name="Footer Placeholder 4"/>
          <p:cNvSpPr/>
          <p:nvPr/>
        </p:nvSpPr>
        <p:spPr>
          <a:xfrm>
            <a:off x="457200" y="6046920"/>
            <a:ext cx="849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Cancer Genome Atlas Research Network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Nature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489(7417):519-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atic DNA Alt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01440" y="1320480"/>
            <a:ext cx="75690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The lung SQCC samples analyzed displayed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Mean number of exonic mutations: 360 per tumor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Mean number of altered copy number segments: 323 per tumor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Mean number of genomic rearrangements: 165 per tumor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The altered copy number segments gave rise to regions of both focal and broad somatic copy number alterations (SCNAs), with a mean of 47 focal and 23 broad events per tumor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The most notable difference between SQCC and lung adenocarcinoma was the selective amplification of chromosome 3q in lung SQCC versus lung adenocarcinoma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457200" y="6046920"/>
            <a:ext cx="849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Cancer Genome Atlas Research Network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Nature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489(7417):519-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atic DNA Alterations (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01440" y="1320480"/>
            <a:ext cx="7569000" cy="27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10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Fifty peaks of significant amplification or deletion were observed, many of which included SCNAs previously seen in lung SQCC, including PDGFRA and/or KIT, EGFR and CDKN2A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10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Other peaks defined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regions of SCNA reported for the first time, including amplification of chromosomal segments containing MYC, CDK6, MDM2 and deletions of PTEN and NF1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10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Ten significantly mutated genes were observed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9" name="Footer Placeholder 4"/>
          <p:cNvSpPr/>
          <p:nvPr/>
        </p:nvSpPr>
        <p:spPr>
          <a:xfrm>
            <a:off x="457200" y="6046920"/>
            <a:ext cx="849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Cancer Genome Atlas Research Network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Nature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489(7417):519-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Rectangle 8" descr=""/>
          <p:cNvPicPr/>
          <p:nvPr/>
        </p:nvPicPr>
        <p:blipFill>
          <a:blip r:embed="rId1"/>
          <a:stretch/>
        </p:blipFill>
        <p:spPr>
          <a:xfrm>
            <a:off x="895320" y="4022640"/>
            <a:ext cx="757872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atic Altered Path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01440" y="1320480"/>
            <a:ext cx="75690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300"/>
              </a:spcBef>
              <a:spcAft>
                <a:spcPts val="349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Several somatic alterations identified in lung SQCC seem to be drivers of pathways important for cancer initiation or progression.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49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Genes involved in oxidative stress response and squamous differentiation were frequently altered by mutation or SCNA: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49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Mutations and copy number alterations of oxidative stress response genes NFE2L2 and KEAP1 and/or deletion or mutation of CUL3 were observed in 34% of cases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49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Alterations in genes with known roles in squamous cell differentiation were observed in 44% of samples, including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49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Overexpression and amplification of SOX2 and TP63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49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Loss-of-function mutations in NOTCH1, NOTCH2 and ASCL4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49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ocal deletions in FOXP1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3" name="Footer Placeholder 4"/>
          <p:cNvSpPr/>
          <p:nvPr/>
        </p:nvSpPr>
        <p:spPr>
          <a:xfrm>
            <a:off x="457200" y="6046920"/>
            <a:ext cx="849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Cancer Genome Atlas Research Network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Nature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489(7417):519-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ion of Potential Targets for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01440" y="1320480"/>
            <a:ext cx="75690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499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Based on several features, 114 cases (64%) with somatic alteration of a potentially targetable gene were identified, including 3 families of tyrosine kinases: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499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ERBB family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499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GFR family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499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JAK family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499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nalysis of core cellular pathways revealed alterations in 69%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of samples in ≥1 of the following signaling pathways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499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I3K/AKT (47%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499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Receptor tyrosine kinase (26%)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499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RAS (24%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6" name="Footer Placeholder 4"/>
          <p:cNvSpPr/>
          <p:nvPr/>
        </p:nvSpPr>
        <p:spPr>
          <a:xfrm>
            <a:off x="457200" y="6046920"/>
            <a:ext cx="849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Cancer Genome Atlas Research Network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Nature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489(7417):519-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01440" y="1320480"/>
            <a:ext cx="75690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Lung SQCC is characterized by a high overall mutation rate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of 8.1 mutations/Mb and marked genomic complexity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Similar to high-grade serous ovarian cancer, almost all lung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SQCCs display somatic mutations of TP53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Previously unreported loss-of-function mutations in the HLA-A Class I MHC gene were observed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Frequent alterations were observed in the following pathways: CDKN2A/RB1, NFE2L2/KEAP1/CUL3, PI3K/AKT and SOX2/TP63/NOTCH1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se data provide evidence of common dysfunction in cell-cycle control, response to oxidative stress, apoptotic signaling and/or squamous cell differentiation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9" name="Footer Placeholder 4"/>
          <p:cNvSpPr/>
          <p:nvPr/>
        </p:nvSpPr>
        <p:spPr>
          <a:xfrm>
            <a:off x="457200" y="6046920"/>
            <a:ext cx="849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Cancer Genome Atlas Research Network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Nature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489(7417):519-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 (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901440" y="1320480"/>
            <a:ext cx="75690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EGFR and K-ras mutations, the 2 most common oncogenic aberrations in lung adenocarcinoma, are extremely rare in lung SQCC, but alterations in the FGFR kinase family are common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is study identified a potentially targetable gene or pathway alteration in most lung SQCC sample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se data can help to organize efforts to analyze lung SQCC clinical tumor specimens for a panel of specific, actionable mutations to select patients for appropriately targeted clinical trial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se results could help to facilitate effective personalized therapy for lung SQC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2" name="Footer Placeholder 4"/>
          <p:cNvSpPr/>
          <p:nvPr/>
        </p:nvSpPr>
        <p:spPr>
          <a:xfrm>
            <a:off x="457200" y="6046920"/>
            <a:ext cx="849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Cancer Genome Atlas Research Network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Nature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489(7417):519-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3:28:02Z</dcterms:created>
  <dc:creator>Research To Practice</dc:creator>
  <dc:description/>
  <cp:keywords/>
  <dc:language>en-US</dc:language>
  <cp:lastModifiedBy>Silvana Izquierdo</cp:lastModifiedBy>
  <cp:lastPrinted>2013-03-06T20:38:39Z</cp:lastPrinted>
  <dcterms:modified xsi:type="dcterms:W3CDTF">2013-07-22T19:07:12Z</dcterms:modified>
  <cp:revision>743</cp:revision>
  <dc:subject/>
  <dc:title>Research To Practice</dc:title>
</cp:coreProperties>
</file>