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371-4388-4EBC-8B30-692C2785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67D-CB83-4845-9929-78DDC1D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EC4-A1E7-40A0-B5CA-ED72FFF0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5F6-7EAD-4095-81B2-4311CB9E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87D0-8225-4A0D-8A3C-4FBD1244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F73-B2DE-4938-9C57-7D51641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FA3-E17B-49E7-92D2-E2AA0F61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93A1-B51B-43D3-96F5-C9BA0B3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448B-8BBC-4E1E-A7B5-81E24DF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63FD-53BC-4DC8-9B96-8D23379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6A0D-249E-4118-A24E-241ECE7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B89-EC92-4544-A892-A35CF14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8E0-3A06-477C-ADBB-7DCC061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8F40-2935-40E5-A3EF-2E56606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50EF-E481-43DF-BB1D-96EDEE1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A560-6445-4F95-9417-14E9964A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1D5-9816-4D5F-B748-7ADCEC2B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327-02D4-453C-AF46-E0734081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3079-A022-4D6F-BEFA-314B7294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8A72-8040-498F-8BAD-CD59D0A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FEC1-BFD8-4BE1-8C1A-CBB089E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274-DDDE-44E8-8DA6-6663FD1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2C2A-CA07-49A3-A45B-6FC32903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1B06-EA7B-438A-BF06-D377A51C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57C0-0B6E-4CA8-BB99-3E4D379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FFA7-4691-4C7C-970D-3DF2B38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39B6-0A5F-410B-914B-CA117B6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7729-EDEC-4A0C-821A-42A51FF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B8FD-E25F-48FF-BF78-4E4FB6A0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F5B2-53CC-4EBE-BA03-D7CE57FA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8645-38BE-4E4C-A201-CFCFCDC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064-EE06-4FA7-B952-77B2677D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B1B-0C7D-4D7B-A6E7-6AC296C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5119-8DC7-40C0-A1D1-88D2A1B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1F42-E4AF-4626-97AE-2EE1D9DC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EE9C-1EB4-4BC8-9FD2-1ACDCB4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614C-CB84-4388-B0EA-842CE5A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DF21-D558-4669-B02A-DDE8724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3C76-71EF-4C04-A273-C8DDE86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2658-1D6D-4540-801D-76AE13D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4D75-0DF6-4BAB-B252-B381589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2901-8FB1-499F-8D4A-DD07968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434-9891-4B8A-81AE-0118A37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DEAF-DBA3-4298-9253-B9444CE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AF62-5CD4-4318-8751-3C18C7B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0042-9D29-4FC8-9C24-A866CCBE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8C4-CD05-4272-87EC-5BB71BC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155-1296-469B-9B67-7297889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CDC42-8508-401A-B65C-1F2F0936F85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987A-B278-4FE4-9343-663371DECB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26EDE-2290-437F-A5F9-806FE11D3F1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39F26-8C41-45F5-9E86-A1AA9E6742F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75FE2-BABE-4E07-9D8F-29CC3CEE7DE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D6674-FE4A-4EE5-B52E-5201DEB438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6160D-3CA3-4AF2-8395-EE6589443E3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C902C-5EBA-4AB6-BB1F-13B88FE5B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LECT Study: A Multicenter Phase II Trial of Adjuvant Erlotinib in Resected Epidermal Growth Factor Receptor (EGFR) Mutation-Positive Non-Small Cell Lung Cancer (NSCL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Neal JW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 Multidisciplinary Symposium in Thoracic Oncology;Abstract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2440" y="1163520"/>
            <a:ext cx="822636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32004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nly 2 of 8 recurrent tumors exhibited genetic changes associated with EGFR-TKI resistance (data not shown)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 of 6 evaluable patients who received erlotinib for recurrent disease demonstrated sensitivit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ased on the demonstrated role of EGFR TKIs in advanced NSCLC with EGFR mutations, this trial has been expanded to a total of 100 patients to permit survival analysis by stage (accrual completed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juvant chemotherapy provides a modest survival benefit of 5-10% for patients with resected NSCLC, and many patients still experience disease relap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umors with activating EGFR mutations are sensitive to EGFR tyrosine kinase inhibitors (TKIs) such as erlotini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previously published retrospective analysis demonstrated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2-year disease-free survival of 89% versus 72% for patients treated with adjuvant EGFR TKIs compared to controls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 Thoracic Oncol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011;6:56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vestigate the safety and efficacy of adjuvant erlotinib in patients with Stage IA-IIIA NSCLC and somatic EGFR mut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4902120" y="1758960"/>
          <a:ext cx="3300480" cy="695160"/>
        </p:xfrm>
        <a:graphic>
          <a:graphicData uri="http://schemas.openxmlformats.org/drawingml/2006/table">
            <a:tbl>
              <a:tblPr/>
              <a:tblGrid>
                <a:gridCol w="33004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rlotinib (o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0 mg/d x 2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914400" y="4245120"/>
            <a:ext cx="73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-year disease-free survival (DFS) exceeding 85%, suggesting improvement over the historically expected 70% in early-stage EGFR-mutant NSCLC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J Thoracic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1;6:56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902120" y="3203640"/>
          <a:ext cx="3300480" cy="726840"/>
        </p:xfrm>
        <a:graphic>
          <a:graphicData uri="http://schemas.openxmlformats.org/drawingml/2006/table">
            <a:tbl>
              <a:tblPr/>
              <a:tblGrid>
                <a:gridCol w="3300480"/>
              </a:tblGrid>
              <a:tr h="72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T scans: Every 6 mo for 3 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nnually years 4 an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: Single-Arm 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3924360" y="2106720"/>
            <a:ext cx="97776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6551640" y="2454120"/>
            <a:ext cx="0" cy="749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14400" y="1523880"/>
          <a:ext cx="3154320" cy="2457720"/>
        </p:xfrm>
        <a:graphic>
          <a:graphicData uri="http://schemas.openxmlformats.org/drawingml/2006/table">
            <a:tbl>
              <a:tblPr/>
              <a:tblGrid>
                <a:gridCol w="3154320"/>
              </a:tblGrid>
              <a:tr h="412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044800">
                <a:tc>
                  <a:txBody>
                    <a:bodyPr lIns="90000" rIns="90000" anchor="ctr">
                      <a:noAutofit/>
                    </a:bodyPr>
                    <a:p>
                      <a:pPr marL="174600" indent="-17460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GFR mutation-positive, surgically resected Stage IA-IIIA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6-9 mo following routine adjuvant chemotherapy with/without X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iJournalNeilGraph1.png"/>
          <p:cNvPicPr/>
          <p:nvPr/>
        </p:nvPicPr>
        <p:blipFill>
          <a:blip r:embed="rId1"/>
          <a:stretch/>
        </p:blipFill>
        <p:spPr>
          <a:xfrm>
            <a:off x="2095560" y="1355760"/>
            <a:ext cx="6264360" cy="354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S from Start of Adjuvant Erlotinib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 flipH="1">
            <a:off x="647280" y="5216400"/>
            <a:ext cx="7712280" cy="0"/>
          </a:xfrm>
          <a:prstGeom prst="line">
            <a:avLst/>
          </a:prstGeom>
          <a:ln w="158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2077920" y="4789440"/>
            <a:ext cx="64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Time from initiating adjuvant erlotinib 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2081160" y="4521240"/>
            <a:ext cx="68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         0.5       1.0       1.5        2.0       2.5       3.0       3.5        4.0       4.5       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 rot="16200000">
            <a:off x="400680" y="2882160"/>
            <a:ext cx="22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1509840" y="1246320"/>
            <a:ext cx="63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612"/>
          <p:cNvSpPr/>
          <p:nvPr/>
        </p:nvSpPr>
        <p:spPr>
          <a:xfrm>
            <a:off x="5495760" y="1619280"/>
            <a:ext cx="364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edian follow-up tim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2.7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1"/>
          <p:cNvSpPr/>
          <p:nvPr/>
        </p:nvSpPr>
        <p:spPr>
          <a:xfrm>
            <a:off x="4678200" y="1698480"/>
            <a:ext cx="0" cy="1138320"/>
          </a:xfrm>
          <a:prstGeom prst="line">
            <a:avLst/>
          </a:prstGeom>
          <a:ln w="38160">
            <a:solidFill>
              <a:srgbClr val="dc701a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612"/>
          <p:cNvSpPr/>
          <p:nvPr/>
        </p:nvSpPr>
        <p:spPr>
          <a:xfrm>
            <a:off x="3878280" y="2882880"/>
            <a:ext cx="18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dc701a"/>
                </a:solidFill>
                <a:latin typeface="Arial"/>
              </a:rPr>
              <a:t>94% 2-Year 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612"/>
          <p:cNvSpPr/>
          <p:nvPr/>
        </p:nvSpPr>
        <p:spPr>
          <a:xfrm>
            <a:off x="2274840" y="403704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ensored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4"/>
          <p:cNvSpPr/>
          <p:nvPr/>
        </p:nvSpPr>
        <p:spPr>
          <a:xfrm>
            <a:off x="2463840" y="4189320"/>
            <a:ext cx="0" cy="69840"/>
          </a:xfrm>
          <a:prstGeom prst="line">
            <a:avLst/>
          </a:prstGeom>
          <a:ln cap="rnd" w="38160">
            <a:solidFill>
              <a:srgbClr val="6fa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647640" y="5214960"/>
            <a:ext cx="771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Patients at Risk   36</a:t>
            </a:r>
            <a:r>
              <a:rPr b="0" lang="en-US" sz="1300" spc="-1" strike="noStrike">
                <a:solidFill>
                  <a:srgbClr val="464847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35        34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34        33        19          7          3          1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iJournalNeilGraph2.png"/>
          <p:cNvPicPr/>
          <p:nvPr/>
        </p:nvPicPr>
        <p:blipFill>
          <a:blip r:embed="rId1"/>
          <a:stretch/>
        </p:blipFill>
        <p:spPr>
          <a:xfrm>
            <a:off x="2039760" y="1138320"/>
            <a:ext cx="6471000" cy="3521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73120" y="4987800"/>
            <a:ext cx="78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04920"/>
                <a:tab algn="l" pos="1770120"/>
                <a:tab algn="l" pos="2395440"/>
                <a:tab algn="l" pos="2975040"/>
                <a:tab algn="l" pos="3541680"/>
                <a:tab algn="l" pos="4165560"/>
                <a:tab algn="l" pos="4746600"/>
                <a:tab algn="l" pos="5311800"/>
                <a:tab algn="l" pos="5951520"/>
                <a:tab algn="l" pos="6516720"/>
                <a:tab algn="l" pos="7140600"/>
                <a:tab algn="l" pos="7823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4920"/>
                <a:tab algn="l" pos="1770120"/>
                <a:tab algn="l" pos="2395440"/>
                <a:tab algn="l" pos="2975040"/>
                <a:tab algn="l" pos="3541680"/>
                <a:tab algn="l" pos="4165560"/>
                <a:tab algn="l" pos="4746600"/>
                <a:tab algn="l" pos="5311800"/>
                <a:tab algn="l" pos="5951520"/>
                <a:tab algn="l" pos="6516720"/>
                <a:tab algn="l" pos="7140600"/>
                <a:tab algn="l" pos="78231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  <a:ea typeface="Arial"/>
              </a:rPr>
              <a:t>Patients at Risk    36         36        36         35        33        26        11         5            4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 flipH="1">
            <a:off x="464760" y="5191200"/>
            <a:ext cx="7596360" cy="0"/>
          </a:xfrm>
          <a:prstGeom prst="line">
            <a:avLst/>
          </a:prstGeom>
          <a:ln w="158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612"/>
          <p:cNvSpPr/>
          <p:nvPr/>
        </p:nvSpPr>
        <p:spPr>
          <a:xfrm>
            <a:off x="4956120" y="1649520"/>
            <a:ext cx="3554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500" spc="-1" strike="noStrike">
                <a:solidFill>
                  <a:srgbClr val="474747"/>
                </a:solidFill>
                <a:latin typeface="Arial"/>
                <a:ea typeface="Arial"/>
              </a:rPr>
              <a:t>Median follow-up time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500" spc="-1" strike="noStrike">
                <a:solidFill>
                  <a:srgbClr val="474747"/>
                </a:solidFill>
                <a:latin typeface="Arial"/>
                <a:ea typeface="Arial"/>
              </a:rPr>
              <a:t>2.7 yea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2077920" y="4789440"/>
            <a:ext cx="64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Time from initiating adjuvant erlotinib 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2081160" y="4521240"/>
            <a:ext cx="68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         0.5       1.0       1.5        2.0       2.5       3.0       3.5        4.0       4.5       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 rot="16200000">
            <a:off x="400680" y="2882160"/>
            <a:ext cx="22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 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1509840" y="1246320"/>
            <a:ext cx="6300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612"/>
          <p:cNvSpPr/>
          <p:nvPr/>
        </p:nvSpPr>
        <p:spPr>
          <a:xfrm>
            <a:off x="2274840" y="403704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Censored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0"/>
          <p:cNvSpPr/>
          <p:nvPr/>
        </p:nvSpPr>
        <p:spPr>
          <a:xfrm>
            <a:off x="2463840" y="4189320"/>
            <a:ext cx="0" cy="69840"/>
          </a:xfrm>
          <a:prstGeom prst="line">
            <a:avLst/>
          </a:prstGeom>
          <a:ln cap="rnd" w="38160">
            <a:solidFill>
              <a:srgbClr val="6fa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12"/>
          <p:cNvSpPr/>
          <p:nvPr/>
        </p:nvSpPr>
        <p:spPr>
          <a:xfrm>
            <a:off x="3517920" y="2424240"/>
            <a:ext cx="49039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Median OS not yet rea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Two de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13131"/>
              </a:buClr>
              <a:buFont typeface="Lucida Grande"/>
              <a:buChar char="–"/>
              <a:tabLst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One at 1.5 years who stopped erlotinib after 1 month due to tox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13131"/>
              </a:buClr>
              <a:buFont typeface="Lucida Grande"/>
              <a:buChar char="–"/>
              <a:tabLst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400" spc="-1" strike="noStrike">
                <a:solidFill>
                  <a:srgbClr val="313131"/>
                </a:solidFill>
                <a:latin typeface="Arial"/>
              </a:rPr>
              <a:t>One at 2 years whose disease progressed on erlo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2307"/>
          <p:cNvGrpSpPr/>
          <p:nvPr/>
        </p:nvGrpSpPr>
        <p:grpSpPr>
          <a:xfrm>
            <a:off x="1725480" y="4386240"/>
            <a:ext cx="4880160" cy="85680"/>
            <a:chOff x="1725480" y="4386240"/>
            <a:chExt cx="4880160" cy="85680"/>
          </a:xfrm>
        </p:grpSpPr>
        <p:sp>
          <p:nvSpPr>
            <p:cNvPr id="285" name="Straight Connector 31"/>
            <p:cNvSpPr/>
            <p:nvPr/>
          </p:nvSpPr>
          <p:spPr>
            <a:xfrm flipH="1">
              <a:off x="1725480" y="4386240"/>
              <a:ext cx="4880160" cy="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32"/>
            <p:cNvSpPr/>
            <p:nvPr/>
          </p:nvSpPr>
          <p:spPr>
            <a:xfrm flipV="1">
              <a:off x="654696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33"/>
            <p:cNvSpPr/>
            <p:nvPr/>
          </p:nvSpPr>
          <p:spPr>
            <a:xfrm flipV="1">
              <a:off x="53485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34"/>
            <p:cNvSpPr/>
            <p:nvPr/>
          </p:nvSpPr>
          <p:spPr>
            <a:xfrm flipV="1">
              <a:off x="415116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35"/>
            <p:cNvSpPr/>
            <p:nvPr/>
          </p:nvSpPr>
          <p:spPr>
            <a:xfrm flipV="1">
              <a:off x="29527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36"/>
            <p:cNvSpPr/>
            <p:nvPr/>
          </p:nvSpPr>
          <p:spPr>
            <a:xfrm flipV="1">
              <a:off x="1753920" y="4386240"/>
              <a:ext cx="0" cy="85680"/>
            </a:xfrm>
            <a:prstGeom prst="line">
              <a:avLst/>
            </a:prstGeom>
            <a:ln cap="rnd" w="255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37"/>
            <p:cNvSpPr/>
            <p:nvPr/>
          </p:nvSpPr>
          <p:spPr>
            <a:xfrm flipV="1">
              <a:off x="55882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38"/>
            <p:cNvSpPr/>
            <p:nvPr/>
          </p:nvSpPr>
          <p:spPr>
            <a:xfrm flipV="1">
              <a:off x="5827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39"/>
            <p:cNvSpPr/>
            <p:nvPr/>
          </p:nvSpPr>
          <p:spPr>
            <a:xfrm flipV="1">
              <a:off x="6067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40"/>
            <p:cNvSpPr/>
            <p:nvPr/>
          </p:nvSpPr>
          <p:spPr>
            <a:xfrm flipV="1">
              <a:off x="6307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41"/>
            <p:cNvSpPr/>
            <p:nvPr/>
          </p:nvSpPr>
          <p:spPr>
            <a:xfrm flipV="1">
              <a:off x="439092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42"/>
            <p:cNvSpPr/>
            <p:nvPr/>
          </p:nvSpPr>
          <p:spPr>
            <a:xfrm flipV="1">
              <a:off x="4630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43"/>
            <p:cNvSpPr/>
            <p:nvPr/>
          </p:nvSpPr>
          <p:spPr>
            <a:xfrm flipV="1">
              <a:off x="4870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44"/>
            <p:cNvSpPr/>
            <p:nvPr/>
          </p:nvSpPr>
          <p:spPr>
            <a:xfrm flipV="1">
              <a:off x="5110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45"/>
            <p:cNvSpPr/>
            <p:nvPr/>
          </p:nvSpPr>
          <p:spPr>
            <a:xfrm flipV="1">
              <a:off x="31924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46"/>
            <p:cNvSpPr/>
            <p:nvPr/>
          </p:nvSpPr>
          <p:spPr>
            <a:xfrm flipV="1">
              <a:off x="34318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47"/>
            <p:cNvSpPr/>
            <p:nvPr/>
          </p:nvSpPr>
          <p:spPr>
            <a:xfrm flipV="1">
              <a:off x="36716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48"/>
            <p:cNvSpPr/>
            <p:nvPr/>
          </p:nvSpPr>
          <p:spPr>
            <a:xfrm flipV="1">
              <a:off x="39114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49"/>
            <p:cNvSpPr/>
            <p:nvPr/>
          </p:nvSpPr>
          <p:spPr>
            <a:xfrm flipV="1">
              <a:off x="199368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50"/>
            <p:cNvSpPr/>
            <p:nvPr/>
          </p:nvSpPr>
          <p:spPr>
            <a:xfrm flipV="1">
              <a:off x="223344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51"/>
            <p:cNvSpPr/>
            <p:nvPr/>
          </p:nvSpPr>
          <p:spPr>
            <a:xfrm flipV="1">
              <a:off x="247320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52"/>
            <p:cNvSpPr/>
            <p:nvPr/>
          </p:nvSpPr>
          <p:spPr>
            <a:xfrm flipV="1">
              <a:off x="2712960" y="4387320"/>
              <a:ext cx="0" cy="42840"/>
            </a:xfrm>
            <a:prstGeom prst="line">
              <a:avLst/>
            </a:prstGeom>
            <a:ln cap="rnd" w="1260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: Treatment Duration and Int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39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612"/>
          <p:cNvSpPr/>
          <p:nvPr/>
        </p:nvSpPr>
        <p:spPr>
          <a:xfrm>
            <a:off x="2879640" y="4753080"/>
            <a:ext cx="257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Treatment duration (yea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612"/>
          <p:cNvSpPr/>
          <p:nvPr/>
        </p:nvSpPr>
        <p:spPr>
          <a:xfrm rot="16200000">
            <a:off x="-64800" y="2658600"/>
            <a:ext cx="25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Patients/Erlotinib D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Chart 11" descr=""/>
          <p:cNvPicPr/>
          <p:nvPr/>
        </p:nvPicPr>
        <p:blipFill>
          <a:blip r:embed="rId1"/>
          <a:stretch/>
        </p:blipFill>
        <p:spPr>
          <a:xfrm>
            <a:off x="1538280" y="1233360"/>
            <a:ext cx="6062760" cy="3322800"/>
          </a:xfrm>
          <a:prstGeom prst="rect">
            <a:avLst/>
          </a:prstGeom>
          <a:ln w="0">
            <a:noFill/>
          </a:ln>
        </p:spPr>
      </p:pic>
      <p:sp>
        <p:nvSpPr>
          <p:cNvPr id="312" name="Straight Connector 19"/>
          <p:cNvSpPr/>
          <p:nvPr/>
        </p:nvSpPr>
        <p:spPr>
          <a:xfrm flipH="1">
            <a:off x="1722600" y="1349280"/>
            <a:ext cx="2880" cy="30355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979"/>
          <p:cNvSpPr/>
          <p:nvPr/>
        </p:nvSpPr>
        <p:spPr>
          <a:xfrm>
            <a:off x="1601640" y="4471920"/>
            <a:ext cx="297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979"/>
          <p:cNvSpPr/>
          <p:nvPr/>
        </p:nvSpPr>
        <p:spPr>
          <a:xfrm>
            <a:off x="2570040" y="4471920"/>
            <a:ext cx="722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979"/>
          <p:cNvSpPr/>
          <p:nvPr/>
        </p:nvSpPr>
        <p:spPr>
          <a:xfrm>
            <a:off x="3848040" y="447192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1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979"/>
          <p:cNvSpPr/>
          <p:nvPr/>
        </p:nvSpPr>
        <p:spPr>
          <a:xfrm>
            <a:off x="5037120" y="4471920"/>
            <a:ext cx="55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979"/>
          <p:cNvSpPr/>
          <p:nvPr/>
        </p:nvSpPr>
        <p:spPr>
          <a:xfrm>
            <a:off x="6189840" y="447192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2.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58"/>
          <p:cNvSpPr/>
          <p:nvPr/>
        </p:nvSpPr>
        <p:spPr>
          <a:xfrm>
            <a:off x="6350040" y="3495600"/>
            <a:ext cx="0" cy="250920"/>
          </a:xfrm>
          <a:prstGeom prst="line">
            <a:avLst/>
          </a:prstGeom>
          <a:ln w="38160">
            <a:solidFill>
              <a:srgbClr val="0d0d0d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612"/>
          <p:cNvSpPr/>
          <p:nvPr/>
        </p:nvSpPr>
        <p:spPr>
          <a:xfrm>
            <a:off x="4780080" y="3746520"/>
            <a:ext cx="265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69% of pati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completed &gt;90% of thera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612"/>
          <p:cNvSpPr/>
          <p:nvPr/>
        </p:nvSpPr>
        <p:spPr>
          <a:xfrm>
            <a:off x="6885000" y="4427640"/>
            <a:ext cx="1704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39% of pati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  <a:ea typeface="Arial"/>
              </a:rPr>
              <a:t>had dose re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2"/>
          <p:cNvSpPr/>
          <p:nvPr/>
        </p:nvSpPr>
        <p:spPr>
          <a:xfrm>
            <a:off x="6157800" y="1349280"/>
            <a:ext cx="385920" cy="21542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ight Brace 63"/>
          <p:cNvSpPr/>
          <p:nvPr/>
        </p:nvSpPr>
        <p:spPr>
          <a:xfrm>
            <a:off x="7358040" y="3063960"/>
            <a:ext cx="168120" cy="404640"/>
          </a:xfrm>
          <a:custGeom>
            <a:avLst/>
            <a:gdLst>
              <a:gd name="textAreaLeft" fmla="*/ 0 w 168120"/>
              <a:gd name="textAreaRight" fmla="*/ 60840 w 168120"/>
              <a:gd name="textAreaTop" fmla="*/ 4320 h 404640"/>
              <a:gd name="textAreaBottom" fmla="*/ 4003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4"/>
                  <a:pt x="10800" y="748"/>
                </a:cubicBezTo>
                <a:lnTo>
                  <a:pt x="10800" y="10052"/>
                </a:lnTo>
                <a:cubicBezTo>
                  <a:pt x="10800" y="10426"/>
                  <a:pt x="16200" y="10800"/>
                  <a:pt x="21600" y="10800"/>
                </a:cubicBezTo>
                <a:cubicBezTo>
                  <a:pt x="16200" y="10800"/>
                  <a:pt x="10800" y="11174"/>
                  <a:pt x="10800" y="11548"/>
                </a:cubicBezTo>
                <a:lnTo>
                  <a:pt x="10800" y="20852"/>
                </a:lnTo>
                <a:cubicBezTo>
                  <a:pt x="10800" y="212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4"/>
          <p:cNvSpPr/>
          <p:nvPr/>
        </p:nvSpPr>
        <p:spPr>
          <a:xfrm>
            <a:off x="7526160" y="3289320"/>
            <a:ext cx="0" cy="1095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979"/>
          <p:cNvSpPr/>
          <p:nvPr/>
        </p:nvSpPr>
        <p:spPr>
          <a:xfrm>
            <a:off x="907920" y="5167440"/>
            <a:ext cx="63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Reasons for discontinuation included travel, diarrhea, rash, fatigue, prostate cancer radiation therapy, disease progression and patient pre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63720" y="1628640"/>
          <a:ext cx="7088040" cy="3571920"/>
        </p:xfrm>
        <a:graphic>
          <a:graphicData uri="http://schemas.openxmlformats.org/drawingml/2006/table">
            <a:tbl>
              <a:tblPr/>
              <a:tblGrid>
                <a:gridCol w="4408560"/>
                <a:gridCol w="1193760"/>
                <a:gridCol w="1485720"/>
              </a:tblGrid>
              <a:tr h="428760">
                <a:tc>
                  <a:txBody>
                    <a:bodyPr lIns="45720" rIns="4572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Rash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Fatigu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/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r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ugh (unrelated except single Grade 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i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yspnea (unrel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lopecia/scalp irr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Text Box 9613"/>
          <p:cNvSpPr/>
          <p:nvPr/>
        </p:nvSpPr>
        <p:spPr>
          <a:xfrm>
            <a:off x="457200" y="1189080"/>
            <a:ext cx="822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Any relationship, &gt;25% frequency or Grade ≥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918"/>
          <p:cNvSpPr/>
          <p:nvPr/>
        </p:nvSpPr>
        <p:spPr>
          <a:xfrm>
            <a:off x="963720" y="5253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 Toxicities leading to dose reduction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 Grade 4 AE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613"/>
          <p:cNvSpPr/>
          <p:nvPr/>
        </p:nvSpPr>
        <p:spPr>
          <a:xfrm>
            <a:off x="457200" y="1189080"/>
            <a:ext cx="822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Any relationship, 10-25% frequency or Grade ≥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918"/>
          <p:cNvSpPr/>
          <p:nvPr/>
        </p:nvSpPr>
        <p:spPr>
          <a:xfrm>
            <a:off x="963720" y="524016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65280"/>
                <a:tab algn="l" pos="1330200"/>
                <a:tab algn="l" pos="1995480"/>
                <a:tab algn="l" pos="2660760"/>
                <a:tab algn="l" pos="3325680"/>
                <a:tab algn="l" pos="3990960"/>
                <a:tab algn="l" pos="4656240"/>
                <a:tab algn="l" pos="5321160"/>
                <a:tab algn="l" pos="5986440"/>
                <a:tab algn="l" pos="6651720"/>
                <a:tab algn="l" pos="7316640"/>
                <a:tab algn="l" pos="7981920"/>
                <a:tab algn="l" pos="8647200"/>
                <a:tab algn="l" pos="9312120"/>
                <a:tab algn="l" pos="9977400"/>
                <a:tab algn="l" pos="1064268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oxicities leading to dose reduction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 No Grade 4 AEs or pneumonit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63720" y="1628640"/>
          <a:ext cx="7088040" cy="3571920"/>
        </p:xfrm>
        <a:graphic>
          <a:graphicData uri="http://schemas.openxmlformats.org/drawingml/2006/table">
            <a:tbl>
              <a:tblPr/>
              <a:tblGrid>
                <a:gridCol w="4408560"/>
                <a:gridCol w="1193760"/>
                <a:gridCol w="1485720"/>
              </a:tblGrid>
              <a:tr h="428760">
                <a:tc>
                  <a:txBody>
                    <a:bodyPr lIns="45720" rIns="4572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16375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ruri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ransaminit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yperbilirubinem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norexia/dysgu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osebl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4f3ee"/>
                    </a:solidFill>
                  </a:tcPr>
                </a:tc>
              </a:tr>
              <a:tr h="349200">
                <a:tc>
                  <a:txBody>
                    <a:bodyPr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Urticari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reatment with adjuvant erlotinib in patients with NSCLC with EGFR mutations is fea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y patients required dose reduction (39%) or discontinued treatment (31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primary endpoint of 2-year DFS &gt;85% was met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observed 2-year DFS was 94%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juvant erlotinib appears to have at least a cytostatic effect on micrometastatic disease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nly 1 patient experienced disease recurrence during treatm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1 patients experienced recurrence 3 to 24 months after stopping treatment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457200" y="6046920"/>
            <a:ext cx="704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Neal JW et al. </a:t>
            </a:r>
            <a:r>
              <a:rPr b="0" lang="en-US" sz="2000" spc="-1" strike="noStrike">
                <a:solidFill>
                  <a:srgbClr val="80c3d5"/>
                </a:solidFill>
                <a:latin typeface="Arial"/>
              </a:rPr>
              <a:t>2012 Multidisciplinary Symposium in Thoracic Oncology;Abstract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2:09:39Z</dcterms:created>
  <dc:creator>Research To Practice</dc:creator>
  <dc:description/>
  <cp:keywords/>
  <dc:language>en-US</dc:language>
  <cp:lastModifiedBy>Silvana Izquierdo</cp:lastModifiedBy>
  <cp:lastPrinted>2013-05-01T23:57:39Z</cp:lastPrinted>
  <dcterms:modified xsi:type="dcterms:W3CDTF">2013-07-22T18:57:07Z</dcterms:modified>
  <cp:revision>602</cp:revision>
  <dc:subject/>
  <dc:title>Research To Practice</dc:title>
</cp:coreProperties>
</file>