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51F-2012-49A9-B350-2DD8DFAB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B5A-4699-491E-9AB5-5A1EA8CD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5CF4-20E3-4661-A850-5CABC622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21BA-8B19-4F3C-B77D-89F154E9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5F80-BA26-47CF-818A-BDD6D97C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AB11-C6EF-41AA-9F08-5BB9CA0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0226-BEB2-4A29-9609-FE65C70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5081-3D3D-4E38-A2B7-A6BECF0E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512BE-AD87-4595-A09F-5C3256A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4112-1FDA-43E9-BA03-F71A53EB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362A-0414-421B-9C78-2B860840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B4D-F9D0-4F9F-95F7-84B0C31B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E7E-FF73-4062-845E-3906AD31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723-FA93-4B21-9DA0-10DD13C5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13F-B0ED-4004-8050-25DC107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0103-ED6E-48C5-918A-704799AF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0F29-0349-45C9-9D35-BD3F123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370-51A4-453C-9CDE-0E6A6D8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E1EB-7B12-4317-A614-94C96C5F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58D1-A8B4-411F-B585-6C5699F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84B-705E-4E86-A708-056C3CA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BC79-CB67-4D3A-B4BB-8644F45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8B6-8E24-4BD0-9889-A49FAC7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2D4C-86A4-420C-99B9-F9D5B72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7423-6520-4A8C-AA54-94CBF093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DA1-16A0-4FBC-A1CC-7D2F63CE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2379-DBA9-4DCA-A3E1-1DAC4472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36C3-FFD8-40DF-817E-BC1F9E8C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CDC0-E539-4821-8F48-0E2EE55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8351-1D88-491D-B889-3637992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1FAB-E865-4C8A-9D32-2B1C9FA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B75-F874-48B1-BE06-B260A11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AA72-5501-438E-AE59-CEF6DB5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9D64-C867-4E70-A190-6E268D8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BCC6-5528-499A-AE19-4DFE40F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D869-7559-4DFA-AFD2-F33BFB6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0D38-931F-4AAE-878E-87076304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37FD-23B5-49DF-B71C-7A890206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9B6B-2AEF-4933-8B6D-DA5B6D60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638-C6E6-4826-88E9-2377D98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E38C-C27F-42A0-BE34-C1EA2490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263-CB5D-4202-9A9A-62F0D14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55D9-958E-4028-AAF2-F8F3B05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B2D4-7E67-463D-81BA-817A751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22C9-35E1-4A30-91DA-BB17354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987A-8F61-4F54-8866-4527EC3D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1B73-57F4-466A-B429-1F22DC6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993B-1147-4F8F-9A20-5D8BB5B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CC48-DFAE-4930-9CC1-88F5C41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440D-043C-43A0-8AA8-FE1698A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B682-BF99-4C6E-A3B4-B469A74D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2C02-2550-4FCC-9E21-695712E7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416-79BB-47F2-8A8C-5F05B37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B79E-7F6A-4755-AD71-7D25D8DB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3A5-B2FD-4D50-86A1-C150961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1CEB-5FD9-4630-9F0C-AD1ACE3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59CE-4E5B-4024-9620-8723ECD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D8ED-B2FE-48E5-92DF-C2616BC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AAD1F-6002-47EC-8683-E8F80118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A1F0-90D8-46DA-804B-00AB6C46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2876-32AA-4719-A4C1-DE639FF6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227B-BAE9-4FF8-933C-33DFCD9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258-E04B-4F41-B1AA-AE088A6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18B8-BE21-4F3F-9ACD-D2FFEAA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907A-9E12-4EB5-8BAD-3C0D645F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BAA6-7C69-4977-8E14-141CC46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2CF6-FC63-4CF8-A6A9-DB8339E6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7FF4-4949-42FE-B34D-BEF2D32C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AAB-CAB5-4A4D-A3D6-316AE48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5EB6-CADD-4D43-969A-D1163F2F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88B4-0B63-4CBD-AB77-2BB47734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E496-C016-49C2-96EB-0E0ED645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74F2D-50DD-4A7D-A9B0-27B32368FCB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BC36F-CEFC-4AE1-BB18-1A2DD0D296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8A1A5-A6AF-4BC9-9491-FE7789803B4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273B7-A0C1-4021-B9BE-D52E747841B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B3BFA-C3B6-4955-8646-714E0018F79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5B79F-8DE7-493B-9BAB-CD851781B81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DBEB9-91E1-49AF-A5E1-FE649813342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8567-CD94-4078-AEB0-ADA878FEBD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7042F-9BE0-4DF3-9C3D-39738D2A3DC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78052-5009-4946-B70E-C8C462B342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678D2-DD91-4D69-8A58-A38EB1C509B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B27DB-6E15-4935-951C-A80902994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ekly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Paclitaxel in Combination with Carboplatin versus Solvent-Based Paclitaxel plus Carboplatin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First-Line Therapy in Patients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th Advanced Non-Small-Cell Lung Cancer: Final Results of a Phas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II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17):2055-6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tandard treatment for advanced non-small cell lung cancer (NSCLC) is a platinum-based regimen, but in a large randomized study of 4 platinum-based regimens none offered a significant clinical advantage over the othe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2;346:9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olvent-based paclitaxel (sb-P) and carboplatin (sb-PC) is effective against advanced NSCLC and is the most commonly used taxane/platinum regimen in the United Stat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dose-finding study of nanoparticle albumin-bound paclitaxe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-P) and carboplatin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-PC) demonstrated promising efficacy and a good safety profile in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 Thorac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0;5:85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to sb-PC as first-line therapy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914400" y="1339920"/>
          <a:ext cx="3429000" cy="29527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41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,0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511360">
                <a:tc>
                  <a:txBody>
                    <a:bodyPr lIns="90000" rIns="90000" anchor="ctr">
                      <a:noAutofit/>
                    </a:bodyPr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istologically/cytologically confirmed unresectable, untreated Stage IIIB-IV NSCL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radiation therapy within 4 wk of enroll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untreated brain me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Grade &gt;1 peripheral neuropath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914400" y="4710240"/>
            <a:ext cx="36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bjective overall response rate (ORR) by independent radiologi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041880" y="1371600"/>
          <a:ext cx="1828800" cy="68904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b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041880" y="2230560"/>
          <a:ext cx="1828800" cy="63972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4338720" y="2143080"/>
            <a:ext cx="13762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3"/>
          <p:cNvGrpSpPr/>
          <p:nvPr/>
        </p:nvGrpSpPr>
        <p:grpSpPr>
          <a:xfrm>
            <a:off x="5719680" y="1717560"/>
            <a:ext cx="322200" cy="655920"/>
            <a:chOff x="5719680" y="1717560"/>
            <a:chExt cx="322200" cy="655920"/>
          </a:xfrm>
        </p:grpSpPr>
        <p:sp>
          <p:nvSpPr>
            <p:cNvPr id="378" name="Line 14"/>
            <p:cNvSpPr/>
            <p:nvPr/>
          </p:nvSpPr>
          <p:spPr>
            <a:xfrm flipV="1">
              <a:off x="5719680" y="171756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5719680" y="17175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5719680" y="1879560"/>
            <a:ext cx="322200" cy="677880"/>
            <a:chOff x="5719680" y="187956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5719680" y="18795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5719680" y="2557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4745160" y="1778040"/>
            <a:ext cx="731880" cy="7300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4444920" y="2978280"/>
            <a:ext cx="42418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-PC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1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 for 30 minutes on d1, 8, 15 followed by carboplatin AUC 6 mg/mL/min on d1 every 3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b-PC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 of sb-P for 3 h and carboplatin at AUC 6 mg/mL/min on d1 (both administered every 3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1"/>
          <p:cNvSpPr/>
          <p:nvPr/>
        </p:nvSpPr>
        <p:spPr>
          <a:xfrm>
            <a:off x="914400" y="482292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R = response rate; CR = complete response; PR = partial response;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D = stable disease; PD = progressive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4400" y="1473120"/>
          <a:ext cx="7429680" cy="3222720"/>
        </p:xfrm>
        <a:graphic>
          <a:graphicData uri="http://schemas.openxmlformats.org/drawingml/2006/table">
            <a:tbl>
              <a:tblPr/>
              <a:tblGrid>
                <a:gridCol w="2057400"/>
                <a:gridCol w="1434960"/>
                <a:gridCol w="1371600"/>
                <a:gridCol w="1270080"/>
                <a:gridCol w="1295640"/>
              </a:tblGrid>
              <a:tr h="716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0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 (≥16 wee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R by Independent Review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914400" y="1473120"/>
          <a:ext cx="7429680" cy="3314880"/>
        </p:xfrm>
        <a:graphic>
          <a:graphicData uri="http://schemas.openxmlformats.org/drawingml/2006/table">
            <a:tbl>
              <a:tblPr/>
              <a:tblGrid>
                <a:gridCol w="2527200"/>
                <a:gridCol w="1206720"/>
                <a:gridCol w="1231920"/>
                <a:gridCol w="1269720"/>
                <a:gridCol w="1194120"/>
              </a:tblGrid>
              <a:tr h="7534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29, 2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nsquam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92, 3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254, 2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Large cell carcinom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(n = 9, 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 Based on Histologic Subtype (Independent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96760" y="4892760"/>
            <a:ext cx="77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R = not reported; NSD = no significant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1"/>
          <p:cNvSpPr/>
          <p:nvPr/>
        </p:nvSpPr>
        <p:spPr>
          <a:xfrm>
            <a:off x="914400" y="445788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and OS in the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arm were noninferior to the sb-PC 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460520"/>
          <a:ext cx="7378560" cy="2884320"/>
        </p:xfrm>
        <a:graphic>
          <a:graphicData uri="http://schemas.openxmlformats.org/drawingml/2006/table">
            <a:tbl>
              <a:tblPr/>
              <a:tblGrid>
                <a:gridCol w="1917720"/>
                <a:gridCol w="1365120"/>
                <a:gridCol w="1365480"/>
                <a:gridCol w="1365120"/>
                <a:gridCol w="13651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7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and 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1"/>
          <p:cNvSpPr/>
          <p:nvPr/>
        </p:nvSpPr>
        <p:spPr>
          <a:xfrm>
            <a:off x="914400" y="441324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se analyses revealed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 significant improvement in OS in North America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08) and in patients aged ≥70 years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09) with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 versus sb-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14400" y="1486080"/>
          <a:ext cx="7365960" cy="2813040"/>
        </p:xfrm>
        <a:graphic>
          <a:graphicData uri="http://schemas.openxmlformats.org/drawingml/2006/table">
            <a:tbl>
              <a:tblPr/>
              <a:tblGrid>
                <a:gridCol w="2705040"/>
                <a:gridCol w="1689120"/>
                <a:gridCol w="1625760"/>
                <a:gridCol w="134604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in North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s aged ≥7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es of Surviv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838080" y="1409760"/>
          <a:ext cx="7493040" cy="3603600"/>
        </p:xfrm>
        <a:graphic>
          <a:graphicData uri="http://schemas.openxmlformats.org/drawingml/2006/table">
            <a:tbl>
              <a:tblPr/>
              <a:tblGrid>
                <a:gridCol w="2603520"/>
                <a:gridCol w="1282680"/>
                <a:gridCol w="1228680"/>
                <a:gridCol w="1182960"/>
                <a:gridCol w="1195200"/>
              </a:tblGrid>
              <a:tr h="36036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C (n = 5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-PC (n = 5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nsory neuropath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yalg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thralg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914400" y="505476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&lt; 0.05 in favor of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-PC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&lt; 0.05 in favor of sb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administration of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as first-line therapy for patients with advanced NSCLC resulted in a significantly improved ORR versus sb-P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ORR: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-PC (33%) vs sb-PC (25%)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 = 0.005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n insignificant improvement was observed in favor of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for PFS and OS, meeting the noninferiority criteri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reatment with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produced less severe neuropathy, myalgia and arthralgia compared to sb-P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increased risk of thrombocytopenia and anemia in the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arm was readily managea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ab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PC has a favorable risk-benefit profile compared to sb-PC as first-line therapy for all patients with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17):2055-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0:29:4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9:09:55Z</dcterms:modified>
  <cp:revision>661</cp:revision>
  <dc:subject/>
  <dc:title>Research To Practice</dc:title>
</cp:coreProperties>
</file>