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59C5-5DEC-4C7B-812A-9C2F2B466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6AB1-F330-440B-8689-E429AF214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B3F6-7219-4717-BF0D-687656F9C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C47D-9E37-4F1C-B0D4-489166D53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AB316-5804-4825-A9D3-416CA7E61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17BF4-3E2B-4678-9132-97F6D96EB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68396-C384-4D41-A9B5-95B059FA7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B0D3D-5BCB-4C98-B3B6-F7A3721F0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3E72E-57CC-4C28-8C84-A6CF19493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15DA1-77EF-4B4A-B97E-893D2DC87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BF883-291F-4E2E-8DF0-F7067363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D4C6-A4BE-4EEB-A8F3-CCA68D4A2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28A8D-8ADF-47FC-8AD8-0B4CB602B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827E3-1E4D-459E-89BC-0A26695CC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3DE63-CF0B-425F-9CB5-D4C24F0A7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E4E75-4441-41E9-B401-C6F287434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02C31-1733-4D3B-8402-6850F5EC9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59FA-97E5-47C0-8CD8-6E17EF31A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4EF86-DE34-4B9C-9396-1E7A155D0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18E90-4023-41D9-AB74-F3BD1E2EA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D11B2-D05D-48A4-8A29-1C6B76687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6B12-7FB5-436F-819F-F69A827E2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27CE7-E470-46E6-8454-F603C6FF0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11128-49CA-489F-962E-3A6EED36A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51976-EFBC-44C6-83CC-E4345263C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939C2-E8B9-4D18-BAEC-F1999A0C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3C663-9EE8-4F1A-87A2-4DCD15D9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3EC8C-966B-48D7-AA71-ABC79018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53F64-E2AD-49A7-99E3-A8D24EBFC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2E90E-3B98-4A43-BE27-D340AB50B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A32D4-9C48-41C2-9FCB-3C1FD78AC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C6F2-B1A0-412E-A453-E21E173F3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6342-4FFD-4446-B501-26EF5E379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E0669-C9A6-4933-88C1-BE0F81151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58AAE-2A12-4C38-9CF9-3F30DAA08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F8EFA-C558-49D7-8DA0-0250A0A69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80145-92DF-49C0-872C-FA6BFCC7E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95DC5-3A61-4DCE-81C7-2F379155C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0D01F-959F-4BDC-BE4F-76B25092E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3C1C0-AB0E-46FA-9C61-E54C2E758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B958D-AC28-4087-9322-07F44B0A5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6B318-9DA9-453D-A693-48A4E897C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182D-EEC2-40C5-9A86-CFEFAD4C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BDBE3-C468-4BD6-986C-D098A3103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3DEC7-82DC-4C5D-9BFC-2D76ED2BF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598A9-A2C9-4198-825A-775C5D637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1C12-2B2C-43F2-A2CE-2F30F3C79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4F78-E6B9-4E52-83C8-076435FF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9B6E45-F858-414A-9A26-5E89EDD9C0D6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8B58D0-C613-49CD-923F-A7E476A3DD4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A4ED08-01A0-437C-BAFD-80C861E410E8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5151AA-0D18-4B3C-8E4A-DB19FC285F99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1BB267-BA4D-49EF-937A-E0A39770AC56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BF6A2E-EFA6-4F87-8ABF-BE7B57F50A0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C9268F-C913-4025-AA21-310E296B24C1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96E50E-399B-4D87-BBE8-F22020BA851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442800" y="714240"/>
            <a:ext cx="8226360" cy="39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365760" tIns="320040" bIns="4572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fficacy and Safety of Crizotinib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Patients with Advanced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OS1-Rearranged Non-Small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ell Lung Canc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5"/>
          <p:cNvSpPr/>
          <p:nvPr/>
        </p:nvSpPr>
        <p:spPr>
          <a:xfrm>
            <a:off x="455760" y="4707000"/>
            <a:ext cx="822636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Ou SHI et 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464847"/>
                </a:solidFill>
                <a:latin typeface="Arial"/>
              </a:rPr>
              <a:t>Proc ASCO </a:t>
            </a: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2013;Abstract 8032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2286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ROS1 chromosomal rearrangements are oncogenic drivers, occurring in a subset of &lt;1% of patients with NSCLC.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ROS1 tyrosine kinase and anaplastic lymphoma kinase (ALK) are similar in structure, and ALK inhibitors are often active in ROS1-positive cell lines (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</a:rPr>
              <a:t>JCO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 2012;30:863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Crizotinib is a small molecule tyrosine kinase inhibitor of MET, ALK and ROS1 that has demonstrated activity in patients with ROS1-rearranged NSCLC (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</a:rPr>
              <a:t>Proc ESMO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2012;Abstract 1191PD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Current study objective: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Determine the efficacy and safety of crizotinib for patients with advanced ROS1-rearranged NSCLC. 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8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Ou SHI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803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9" name=""/>
          <p:cNvGraphicFramePr/>
          <p:nvPr/>
        </p:nvGraphicFramePr>
        <p:xfrm>
          <a:off x="880920" y="1533600"/>
          <a:ext cx="7239240" cy="3022560"/>
        </p:xfrm>
        <a:graphic>
          <a:graphicData uri="http://schemas.openxmlformats.org/drawingml/2006/table">
            <a:tbl>
              <a:tblPr/>
              <a:tblGrid>
                <a:gridCol w="3683160"/>
                <a:gridCol w="3556080"/>
              </a:tblGrid>
              <a:tr h="43164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h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izotinib d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32000">
                <a:tc>
                  <a:txBody>
                    <a:bodyPr lIns="90000" rIns="90000" anchor="ctr">
                      <a:noAutofit/>
                    </a:bodyPr>
                    <a:p>
                      <a:pPr marL="165240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Cohort 1 (n = 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0 mg Q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1640">
                <a:tc>
                  <a:txBody>
                    <a:bodyPr lIns="90000" rIns="90000" anchor="ctr">
                      <a:noAutofit/>
                    </a:bodyPr>
                    <a:p>
                      <a:pPr marL="165240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Cohort 2 (n = 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00 mg Q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32000">
                <a:tc>
                  <a:txBody>
                    <a:bodyPr lIns="90000" rIns="90000" anchor="ctr">
                      <a:noAutofit/>
                    </a:bodyPr>
                    <a:p>
                      <a:pPr marL="165240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Cohort 3 (n = 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00 mg Q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1640">
                <a:tc>
                  <a:txBody>
                    <a:bodyPr lIns="90000" rIns="90000" anchor="ctr">
                      <a:noAutofit/>
                    </a:bodyPr>
                    <a:p>
                      <a:pPr marL="165240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Cohort 4 (n = 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00 mg B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31640">
                <a:tc>
                  <a:txBody>
                    <a:bodyPr lIns="90000" rIns="90000" anchor="ctr">
                      <a:noAutofit/>
                    </a:bodyPr>
                    <a:p>
                      <a:pPr marL="165240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Cohort 5 (n = 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00 mg B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90000" rIns="90000" anchor="ctr">
                      <a:noAutofit/>
                    </a:bodyPr>
                    <a:p>
                      <a:pPr marL="165240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Cohort 6 (n = 9)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50 mg BID</a:t>
                      </a:r>
                      <a:r>
                        <a:rPr b="0" lang="en-US" sz="1800" spc="-1" strike="noStrike" baseline="30000">
                          <a:solidFill>
                            <a:srgbClr val="464847"/>
                          </a:solidFill>
                          <a:latin typeface="Arial"/>
                        </a:rPr>
                        <a:t>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 1: Dose-Escalation Stu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Ou SHI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803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31"/>
          <p:cNvSpPr/>
          <p:nvPr/>
        </p:nvSpPr>
        <p:spPr>
          <a:xfrm>
            <a:off x="880920" y="4786200"/>
            <a:ext cx="764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*</a:t>
            </a:r>
            <a:r>
              <a:rPr b="0" lang="en-US" sz="1800" spc="-1" strike="noStrike" baseline="30000">
                <a:solidFill>
                  <a:srgbClr val="464847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Included in the dose-expansion cohort (Part 2); </a:t>
            </a:r>
            <a:r>
              <a:rPr b="0" lang="en-US" sz="1800" spc="-1" strike="noStrike" baseline="30000">
                <a:solidFill>
                  <a:srgbClr val="464847"/>
                </a:solidFill>
                <a:latin typeface="Arial"/>
              </a:rPr>
              <a:t>†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Maximum tolerated dose (MTD) = recommended Phase II dose (RP2D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3" name=""/>
          <p:cNvGraphicFramePr/>
          <p:nvPr/>
        </p:nvGraphicFramePr>
        <p:xfrm>
          <a:off x="1066680" y="1536840"/>
          <a:ext cx="3060720" cy="2552400"/>
        </p:xfrm>
        <a:graphic>
          <a:graphicData uri="http://schemas.openxmlformats.org/drawingml/2006/table">
            <a:tbl>
              <a:tblPr/>
              <a:tblGrid>
                <a:gridCol w="3060720"/>
              </a:tblGrid>
              <a:tr h="37440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igibility (N = 4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2178000">
                <a:tc>
                  <a:txBody>
                    <a:bodyPr anchor="t">
                      <a:noAutofit/>
                    </a:bodyPr>
                    <a:p>
                      <a:pPr marL="290520" indent="-235080">
                        <a:spcBef>
                          <a:spcPts val="451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dvanced NSCL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90520" indent="-235080">
                        <a:spcBef>
                          <a:spcPts val="451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ROS1-rearranged NSCLC confirmed with break-apart FISH assay*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90520" indent="-235080">
                        <a:spcBef>
                          <a:spcPts val="451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Treated, stable and untreated, asymptomatic brain metast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54" name="Rectangle 31"/>
          <p:cNvSpPr/>
          <p:nvPr/>
        </p:nvSpPr>
        <p:spPr>
          <a:xfrm>
            <a:off x="901800" y="4305240"/>
            <a:ext cx="760572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*</a:t>
            </a:r>
            <a:r>
              <a:rPr b="0" lang="en-US" sz="1800" spc="-1" strike="noStrike" baseline="30000">
                <a:solidFill>
                  <a:srgbClr val="464847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Where available, further investigation by next-generation sequencing (NGS) was used to identify fusion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64847"/>
                </a:solidFill>
                <a:latin typeface="Arial"/>
              </a:rPr>
              <a:t>Endpoints: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 Objective response rate (ORR), disease control rate (DCR), progression-free survival (PFS) and saf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ase II Trial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5083200" y="1940040"/>
          <a:ext cx="3130560" cy="1117440"/>
        </p:xfrm>
        <a:graphic>
          <a:graphicData uri="http://schemas.openxmlformats.org/drawingml/2006/table">
            <a:tbl>
              <a:tblPr/>
              <a:tblGrid>
                <a:gridCol w="3130560"/>
              </a:tblGrid>
              <a:tr h="1117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Crizotin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(250 mg BI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(n = 4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57" name="Line 2"/>
          <p:cNvSpPr/>
          <p:nvPr/>
        </p:nvSpPr>
        <p:spPr>
          <a:xfrm>
            <a:off x="4133880" y="2536920"/>
            <a:ext cx="949320" cy="0"/>
          </a:xfrm>
          <a:prstGeom prst="line">
            <a:avLst/>
          </a:prstGeom>
          <a:ln w="28440">
            <a:solidFill>
              <a:srgbClr val="767878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Ou SHI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803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"/>
          <p:cNvSpPr/>
          <p:nvPr/>
        </p:nvSpPr>
        <p:spPr>
          <a:xfrm>
            <a:off x="4984920" y="3159000"/>
            <a:ext cx="336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Patients were allowed to continue to receive crizotinib beyond disease prog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0" name=""/>
          <p:cNvGraphicFramePr/>
          <p:nvPr/>
        </p:nvGraphicFramePr>
        <p:xfrm>
          <a:off x="925560" y="1397160"/>
          <a:ext cx="7453440" cy="2868480"/>
        </p:xfrm>
        <a:graphic>
          <a:graphicData uri="http://schemas.openxmlformats.org/drawingml/2006/table">
            <a:tbl>
              <a:tblPr/>
              <a:tblGrid>
                <a:gridCol w="5114880"/>
                <a:gridCol w="2338560"/>
              </a:tblGrid>
              <a:tr h="41724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racteris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= 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1436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age (rang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1 years (31-7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760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2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1580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Smoking history: Never (form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80% (2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616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Histology: Adenocarcino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9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78732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rior Tx for advanced/metastatic NSCLC: N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 regimen (2-6 regime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0% (45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line Characteris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Ou SHI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803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5"/>
          <p:cNvSpPr/>
          <p:nvPr/>
        </p:nvSpPr>
        <p:spPr>
          <a:xfrm>
            <a:off x="925560" y="4330800"/>
            <a:ext cx="7453440" cy="12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5240" indent="-165240">
              <a:spcAft>
                <a:spcPts val="400"/>
              </a:spcAft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Patients still receiving crizotinib at time of analysis (n = 3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5240" indent="-165240">
              <a:spcAft>
                <a:spcPts val="400"/>
              </a:spcAft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Analysis excluded patients whose disease tested as ROS1-positive by FISH but negative by next-generation sequencing with unidentifiable fusion partner (n = 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4" name=""/>
          <p:cNvGraphicFramePr/>
          <p:nvPr/>
        </p:nvGraphicFramePr>
        <p:xfrm>
          <a:off x="901800" y="1384200"/>
          <a:ext cx="7423200" cy="3114720"/>
        </p:xfrm>
        <a:graphic>
          <a:graphicData uri="http://schemas.openxmlformats.org/drawingml/2006/table">
            <a:tbl>
              <a:tblPr/>
              <a:tblGrid>
                <a:gridCol w="5010120"/>
                <a:gridCol w="2413080"/>
              </a:tblGrid>
              <a:tr h="43200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ponse 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= 35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4604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OR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748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Complete 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4640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artial 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748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Stable dise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4784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rogressive dise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748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Early dea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st Respon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Ou SHI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803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5"/>
          <p:cNvSpPr/>
          <p:nvPr/>
        </p:nvSpPr>
        <p:spPr>
          <a:xfrm>
            <a:off x="901800" y="4546440"/>
            <a:ext cx="7289640" cy="10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4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*</a:t>
            </a:r>
            <a:r>
              <a:rPr b="0" lang="en-US" sz="1800" spc="-1" strike="noStrike" baseline="30000">
                <a:solidFill>
                  <a:srgbClr val="464847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Patients evaluable for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Patients with indeterminate response (n = 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64847"/>
                </a:solidFill>
                <a:latin typeface="Arial"/>
              </a:rPr>
              <a:t>DCR: 80% (at 8 weeks); 66% (at 16 week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F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Rectangle 31"/>
          <p:cNvSpPr/>
          <p:nvPr/>
        </p:nvSpPr>
        <p:spPr>
          <a:xfrm>
            <a:off x="1054080" y="4251240"/>
            <a:ext cx="731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*</a:t>
            </a:r>
            <a:r>
              <a:rPr b="0" lang="en-US" sz="1800" spc="-1" strike="noStrike" baseline="30000">
                <a:solidFill>
                  <a:srgbClr val="464847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25 patients (63%) were still in follow-up for progression at time </a:t>
            </a:r>
            <a:br>
              <a:rPr sz="1800"/>
            </a:b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of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Ou SHI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803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1054080" y="1611360"/>
          <a:ext cx="7124760" cy="2116080"/>
        </p:xfrm>
        <a:graphic>
          <a:graphicData uri="http://schemas.openxmlformats.org/drawingml/2006/table">
            <a:tbl>
              <a:tblPr/>
              <a:tblGrid>
                <a:gridCol w="4051440"/>
                <a:gridCol w="3073320"/>
              </a:tblGrid>
              <a:tr h="65232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tc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= 40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730440">
                <a:tc>
                  <a:txBody>
                    <a:bodyPr lIns="90000" rIns="90000" anchor="ctr">
                      <a:noAutofit/>
                    </a:bodyPr>
                    <a:p>
                      <a:pPr marL="111240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P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ot yet reach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3320">
                <a:tc>
                  <a:txBody>
                    <a:bodyPr lIns="90000" rIns="90000" anchor="ctr">
                      <a:noAutofit/>
                    </a:bodyPr>
                    <a:p>
                      <a:pPr marL="111240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-month P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2" name=""/>
          <p:cNvGraphicFramePr/>
          <p:nvPr/>
        </p:nvGraphicFramePr>
        <p:xfrm>
          <a:off x="887400" y="1490760"/>
          <a:ext cx="7408800" cy="3290760"/>
        </p:xfrm>
        <a:graphic>
          <a:graphicData uri="http://schemas.openxmlformats.org/drawingml/2006/table">
            <a:tbl>
              <a:tblPr/>
              <a:tblGrid>
                <a:gridCol w="2867040"/>
                <a:gridCol w="1587600"/>
                <a:gridCol w="1504800"/>
                <a:gridCol w="1449360"/>
              </a:tblGrid>
              <a:tr h="36612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rade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rade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rade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marL="111240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Visual impair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8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marL="111240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Diarrh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3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marL="111240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Naus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marL="111240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Peripheral ede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2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marL="111240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Constip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marL="111240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Vomi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1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marL="1112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Wingdings"/>
                          <a:ea typeface="Wingdings"/>
                        </a:rPr>
                        <a:t>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AST (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Wingdings"/>
                          <a:ea typeface="Wingdings"/>
                        </a:rPr>
                        <a:t>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 A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13% (5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3% (5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3% (5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marL="111240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Hypophosphatem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  <a:ea typeface="Arial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Adverse Events (A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31"/>
          <p:cNvSpPr/>
          <p:nvPr/>
        </p:nvSpPr>
        <p:spPr>
          <a:xfrm>
            <a:off x="887400" y="4925880"/>
            <a:ext cx="740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No treatment-related Grade 4/5 AEs; 1 patient discontinued therapy due to Grade 2 nausea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Ou SHI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803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4568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182880" anchor="t">
            <a:normAutofit/>
          </a:bodyPr>
          <a:p>
            <a:pPr marL="343080" indent="-343080"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Crizotinib demonstrated marked antitumor activity with a high ORR for patients with ROS1-positive NSCLC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Response was similar to that observed in ALK-positive NSCLC.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Adverse events associated with crizotinib were generally tolerable and easily managed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 toxicity profile of crizotinib in patients with ROS1-positive disease was similar to that established in patients with ALK-positive NSCLC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Crizotinib is an effective therapy for advanced ROS1-positive NSCLC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Mechanisms of crizotinib resistance are yet to be investigated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False-positive ROS1 rearrangements by FISH indicate that specificity of this method requires improvement before it can </a:t>
            </a:r>
            <a:br>
              <a:rPr sz="2000"/>
            </a:b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be recommended for routine use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Ou SHI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803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4T13:28:02Z</dcterms:created>
  <dc:creator>Research To Practice</dc:creator>
  <dc:description/>
  <cp:keywords/>
  <dc:language>en-US</dc:language>
  <cp:lastModifiedBy>Silvana Izquierdo</cp:lastModifiedBy>
  <cp:lastPrinted>2013-03-06T20:38:39Z</cp:lastPrinted>
  <dcterms:modified xsi:type="dcterms:W3CDTF">2013-07-22T18:50:43Z</dcterms:modified>
  <cp:revision>718</cp:revision>
  <dc:subject/>
  <dc:title>Research To Practice</dc:title>
</cp:coreProperties>
</file>