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CDE-1BE8-4106-B47A-7FCCFC4C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87E-F667-4DE0-947F-ED0B8FB4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34829-048E-410E-AC92-4DAB1EF1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46BFB-BF9B-4A41-BCF0-EBFFDE53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0A53D-CD86-4995-9350-3C477BED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C2CB-C536-40AD-A8E1-4E5AE1C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37ACC-AE51-4807-A079-B60D316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253D7-1398-409D-A5D3-7419C4C3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DDCA8-04D5-4D15-BE52-65881C38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8E30C-927D-40E7-891E-5DC35113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444E1-3035-4CA5-B122-61506A71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0E4-1235-4293-A85F-A87F7FA7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9AB-6F40-4038-91DD-BE715630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0E84-6BEF-4E02-BA04-9C96F8AE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4772-26BB-4F72-9060-A0D2BB3A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A782-D50F-46EB-A580-A765F232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65EA-C383-44BD-ACED-5210D569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2B67-731E-4CD6-BFD2-C667C657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2153-763C-4376-AD0D-87FE2496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9272-F15F-4465-AA56-26FA2838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774-83EC-4F46-9A80-4C22ACDE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5896-15E6-4034-878B-435DB41E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5935-618D-4571-8A4B-E9F5DC11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6B1A-9099-4CD3-ACB8-44740DF9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F37A-C8AD-45B5-8BBF-219168F3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DB26-981E-4F8A-A9A2-1E92FEB1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5634-447D-49D1-B5A3-74500979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A8B8-6105-403F-A844-36DBBD4D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B7C3-D5C7-4B56-8E6B-1E3EDBCE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5A29-A979-42D5-9B41-CBC4F04E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45F70-B4DC-42FC-AF25-9A44D8B1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164-752F-47DA-8D04-FE4FDF9B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AA39-82EB-4057-99D0-6B4D65A6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2321-8B1E-4863-861A-3C3008FF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117B-8893-47FB-87D8-F31FD89B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2D4CF-2603-497B-B8D7-98DBFD7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754F0-1B61-4C37-86FA-9C4DF97D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0862-F013-4B3A-AAF6-F4F702FB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AB16-1093-4140-944D-9078C1F6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823-CC61-4B8C-BE24-C1E9D2AB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D853F-81A4-44B6-A7A3-5CD448D4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EA1-188B-486A-9794-C5E15B94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1C912-1399-4588-82D3-32DB8CEE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F0734-131B-48E6-A431-4843162A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1AE40-CBC2-40DA-9562-E9787B20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9EF4C-55AA-470F-929E-17690E98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708C5-4C92-43B5-BA43-DDA4E21D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6C31-46A6-41DC-9EEE-D134C16C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96054-1622-411D-8284-A3D308F5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264E4-EB47-4B67-888E-6E91EF50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8FB36-0DEB-41A0-BFD7-A25B29DD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A67DA-C90F-40FC-8336-B10FEDD2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36D-F0A6-4E40-86AB-3AFA75B4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4FE1E-8C82-4404-B5B1-0735EBF9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05E-EBE2-4FCD-8D21-332F7A0E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F8EC0-322C-4E3D-B984-7B0158EE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B2899-52C6-4B9D-9AC6-93B1F638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A9DEA-DDE0-4618-AEFA-4488CA60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36C01-1BF5-4483-9098-D5345A48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64883-FFA2-4AF6-9A31-118567FA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F7047-2850-47C2-8575-6C242D92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172CA-7A7A-4241-BE41-1F155C45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956-4EEE-4322-AC8F-56619744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D3947-1EE5-464C-B76E-047406CE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1A525-7E16-4462-9B89-3D264E54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93402-A16C-4C02-B96C-91CEB541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FDAC5-F69E-4469-9C62-F6FC3732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BF0DD-8CF3-41B8-B0A4-2BF8E250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32A-843D-4B7C-8BD2-8AB00E2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50C71-17A5-4E15-A35B-EA26BE78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6F8DF-A9D1-4AE5-88AA-67E430A7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1E880-C7A4-4FBF-8018-AF218EE2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8958B-FE0A-424F-8C5B-4EF11C7BEB75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9639D-6B1F-4485-92D2-939E131AE99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618BB-93B5-49C4-A181-653E6C9952D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7718F-CBF3-4064-98DF-4F896F0975D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F15E5-B2C2-4542-AC21-F2B9744A280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E0341-9663-4259-8BA2-86A894EB7EF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A2DF5-2C35-49C7-B047-6E4957CA7934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F44B1-B127-4A2D-98F4-96197EF43BB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F196D-5850-4687-AC5F-449813AA8B3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21D6A-702D-4C64-9200-A058080D30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7CB88-AD01-45AB-A001-9708F2F9182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2BE55-C2FC-4C42-A96C-E2F42CA762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ults of the Prospective, Randomized, and Customized NSCLC Adjuvant Phase II Trial (IFCT-0801, TASTE Trial) from the French Collaborative Intergro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oria JC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750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TASTE trial demonstrated that customized biomarker-based adjuvant therapy can be employed after surger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t is unclear whether cisplatin/pemetrexed is an effectiv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djuvant therapy for patients with early-stage nonsquamous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ere no serious adverse events associated with chemotherap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ue to the low accrual on this study, it failed to answer the question of whether erlotinib can substitute for adjuvant chemotherapy for patients with EGFR mutation-posi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nally, ERCC1 status cannot be used to direct adjuvant therapy due to limitations in the currently available detection techniqu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Hoang C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urgical resection followed by adjuvant platinum-based chemotherapy is the standard for Stage II/III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RCC1 protein expression is a molecular determinant of benefit from platinum-based chemotherapy and is a good prognostic marker in resected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6;355:98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utations in EGFR are predictive of response to erlotinib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Science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4;304:1497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valuate the feasibility of standard versus customized treatment for patients with Stage II or IIIA nonsquamous NSCLC based on baseline tumor ERCC1 protein levels and EGFR mutations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888840" y="1436760"/>
          <a:ext cx="7315200" cy="121752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1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urgically resected Stage II/IIIA (non-N2) NSCLC (6</a:t>
                      </a:r>
                      <a:r>
                        <a:rPr b="0" lang="en-US" sz="19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TNM editio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cell histolog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1"/>
          <p:cNvSpPr/>
          <p:nvPr/>
        </p:nvSpPr>
        <p:spPr>
          <a:xfrm>
            <a:off x="1028880" y="3800520"/>
            <a:ext cx="25462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ea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888840" y="2852640"/>
          <a:ext cx="2686320" cy="695520"/>
        </p:xfrm>
        <a:graphic>
          <a:graphicData uri="http://schemas.openxmlformats.org/drawingml/2006/table">
            <a:tbl>
              <a:tblPr/>
              <a:tblGrid>
                <a:gridCol w="268632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isplatin/pemetrex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trol (n = 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4" name="Line 14"/>
          <p:cNvSpPr/>
          <p:nvPr/>
        </p:nvSpPr>
        <p:spPr>
          <a:xfrm>
            <a:off x="5556240" y="3711600"/>
            <a:ext cx="18921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5"/>
          <p:cNvSpPr/>
          <p:nvPr/>
        </p:nvSpPr>
        <p:spPr>
          <a:xfrm flipH="1">
            <a:off x="3574800" y="3086280"/>
            <a:ext cx="476280" cy="18540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110120" y="3902040"/>
          <a:ext cx="2030400" cy="552600"/>
        </p:xfrm>
        <a:graphic>
          <a:graphicData uri="http://schemas.openxmlformats.org/drawingml/2006/table">
            <a:tbl>
              <a:tblPr/>
              <a:tblGrid>
                <a:gridCol w="2030400"/>
              </a:tblGrid>
              <a:tr h="55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wild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5067360" y="2852640"/>
          <a:ext cx="2895480" cy="69552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ustomized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429240" y="3900600"/>
          <a:ext cx="1863720" cy="554040"/>
        </p:xfrm>
        <a:graphic>
          <a:graphicData uri="http://schemas.openxmlformats.org/drawingml/2006/table">
            <a:tbl>
              <a:tblPr/>
              <a:tblGrid>
                <a:gridCol w="1863720"/>
              </a:tblGrid>
              <a:tr h="55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9" name="Line 2"/>
          <p:cNvSpPr/>
          <p:nvPr/>
        </p:nvSpPr>
        <p:spPr>
          <a:xfrm>
            <a:off x="5556240" y="370368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"/>
          <p:cNvSpPr/>
          <p:nvPr/>
        </p:nvSpPr>
        <p:spPr>
          <a:xfrm>
            <a:off x="7445520" y="3718080"/>
            <a:ext cx="0" cy="1825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4673520" y="3098880"/>
            <a:ext cx="393840" cy="17280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4"/>
          <p:cNvSpPr/>
          <p:nvPr/>
        </p:nvSpPr>
        <p:spPr>
          <a:xfrm>
            <a:off x="2527200" y="4626000"/>
            <a:ext cx="265140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"/>
          <p:cNvSpPr/>
          <p:nvPr/>
        </p:nvSpPr>
        <p:spPr>
          <a:xfrm>
            <a:off x="2527200" y="461808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"/>
          <p:cNvSpPr/>
          <p:nvPr/>
        </p:nvSpPr>
        <p:spPr>
          <a:xfrm>
            <a:off x="5184720" y="4619520"/>
            <a:ext cx="0" cy="1825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"/>
          <p:cNvSpPr/>
          <p:nvPr/>
        </p:nvSpPr>
        <p:spPr>
          <a:xfrm>
            <a:off x="5178600" y="4460760"/>
            <a:ext cx="0" cy="16524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257480" y="4805280"/>
          <a:ext cx="2369880" cy="639720"/>
        </p:xfrm>
        <a:graphic>
          <a:graphicData uri="http://schemas.openxmlformats.org/drawingml/2006/table">
            <a:tbl>
              <a:tblPr/>
              <a:tblGrid>
                <a:gridCol w="236988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CC1+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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bservation (n = 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3843360" y="4807080"/>
          <a:ext cx="2548080" cy="639720"/>
        </p:xfrm>
        <a:graphic>
          <a:graphicData uri="http://schemas.openxmlformats.org/drawingml/2006/table">
            <a:tbl>
              <a:tblPr/>
              <a:tblGrid>
                <a:gridCol w="254808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CC1–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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isplatin/pem (n = 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Line 2"/>
          <p:cNvSpPr/>
          <p:nvPr/>
        </p:nvSpPr>
        <p:spPr>
          <a:xfrm>
            <a:off x="6512040" y="3559320"/>
            <a:ext cx="0" cy="14580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7451640" y="4454640"/>
            <a:ext cx="0" cy="35244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6595920" y="4832280"/>
          <a:ext cx="1811520" cy="614520"/>
        </p:xfrm>
        <a:graphic>
          <a:graphicData uri="http://schemas.openxmlformats.org/drawingml/2006/table">
            <a:tbl>
              <a:tblPr/>
              <a:tblGrid>
                <a:gridCol w="1811520"/>
              </a:tblGrid>
              <a:tr h="614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lotinib (n = 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vant Phase II/III TASTE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"/>
          <p:cNvSpPr/>
          <p:nvPr/>
        </p:nvSpPr>
        <p:spPr>
          <a:xfrm>
            <a:off x="3905280" y="2416320"/>
            <a:ext cx="852480" cy="85068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2919240" y="1490760"/>
            <a:ext cx="1725840" cy="452520"/>
          </a:xfrm>
          <a:prstGeom prst="rect">
            <a:avLst/>
          </a:prstGeom>
          <a:solidFill>
            <a:srgbClr val="7ea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Endpoint: Fea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1"/>
          <p:cNvSpPr/>
          <p:nvPr/>
        </p:nvSpPr>
        <p:spPr>
          <a:xfrm>
            <a:off x="995400" y="5076720"/>
            <a:ext cx="75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Lower limit of the 1-sided 95% CI: 74% (superior to the nonfeasibility boundary of 6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ight Arrow 2"/>
          <p:cNvSpPr/>
          <p:nvPr/>
        </p:nvSpPr>
        <p:spPr>
          <a:xfrm>
            <a:off x="927000" y="1252440"/>
            <a:ext cx="7518600" cy="930240"/>
          </a:xfrm>
          <a:prstGeom prst="rightArrow">
            <a:avLst>
              <a:gd name="adj1" fmla="val 50000"/>
              <a:gd name="adj2" fmla="val 32068"/>
            </a:avLst>
          </a:prstGeom>
          <a:noFill/>
          <a:ln w="2844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4"/>
          <p:cNvSpPr/>
          <p:nvPr/>
        </p:nvSpPr>
        <p:spPr>
          <a:xfrm flipV="1">
            <a:off x="1927080" y="1490400"/>
            <a:ext cx="0" cy="46332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10"/>
          <p:cNvSpPr/>
          <p:nvPr/>
        </p:nvSpPr>
        <p:spPr>
          <a:xfrm flipV="1">
            <a:off x="4645080" y="1490400"/>
            <a:ext cx="0" cy="46332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11"/>
          <p:cNvSpPr/>
          <p:nvPr/>
        </p:nvSpPr>
        <p:spPr>
          <a:xfrm flipV="1">
            <a:off x="6227640" y="1490400"/>
            <a:ext cx="0" cy="46332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949320" y="154152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4"/>
          <p:cNvSpPr/>
          <p:nvPr/>
        </p:nvSpPr>
        <p:spPr>
          <a:xfrm>
            <a:off x="1927080" y="154152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I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5"/>
          <p:cNvSpPr/>
          <p:nvPr/>
        </p:nvSpPr>
        <p:spPr>
          <a:xfrm>
            <a:off x="2905200" y="1490760"/>
            <a:ext cx="1739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Biomarker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6"/>
          <p:cNvSpPr/>
          <p:nvPr/>
        </p:nvSpPr>
        <p:spPr>
          <a:xfrm>
            <a:off x="4645080" y="154152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Rando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7"/>
          <p:cNvSpPr/>
          <p:nvPr/>
        </p:nvSpPr>
        <p:spPr>
          <a:xfrm>
            <a:off x="6227640" y="154152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8"/>
          <p:cNvSpPr/>
          <p:nvPr/>
        </p:nvSpPr>
        <p:spPr>
          <a:xfrm>
            <a:off x="1368360" y="20271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9"/>
          <p:cNvSpPr/>
          <p:nvPr/>
        </p:nvSpPr>
        <p:spPr>
          <a:xfrm>
            <a:off x="6278400" y="20304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 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8"/>
          <p:cNvSpPr/>
          <p:nvPr/>
        </p:nvSpPr>
        <p:spPr>
          <a:xfrm>
            <a:off x="1900080" y="2198520"/>
            <a:ext cx="44038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2"/>
          <p:cNvSpPr/>
          <p:nvPr/>
        </p:nvSpPr>
        <p:spPr>
          <a:xfrm>
            <a:off x="835200" y="2540160"/>
            <a:ext cx="5905440" cy="745920"/>
          </a:xfrm>
          <a:prstGeom prst="rect">
            <a:avLst/>
          </a:prstGeom>
          <a:solidFill>
            <a:srgbClr val="fa831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4"/>
          <p:cNvSpPr/>
          <p:nvPr/>
        </p:nvSpPr>
        <p:spPr>
          <a:xfrm>
            <a:off x="6740640" y="2540160"/>
            <a:ext cx="344520" cy="745920"/>
          </a:xfrm>
          <a:prstGeom prst="rect">
            <a:avLst/>
          </a:prstGeom>
          <a:solidFill>
            <a:srgbClr val="7eab4a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5"/>
          <p:cNvSpPr/>
          <p:nvPr/>
        </p:nvSpPr>
        <p:spPr>
          <a:xfrm>
            <a:off x="7085160" y="2540160"/>
            <a:ext cx="245880" cy="74592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6"/>
          <p:cNvSpPr/>
          <p:nvPr/>
        </p:nvSpPr>
        <p:spPr>
          <a:xfrm>
            <a:off x="7331040" y="2540160"/>
            <a:ext cx="890640" cy="745920"/>
          </a:xfrm>
          <a:prstGeom prst="rect">
            <a:avLst/>
          </a:prstGeom>
          <a:solidFill>
            <a:srgbClr val="1b164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20"/>
          <p:cNvSpPr/>
          <p:nvPr/>
        </p:nvSpPr>
        <p:spPr>
          <a:xfrm>
            <a:off x="746280" y="3286080"/>
            <a:ext cx="747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22"/>
          <p:cNvSpPr/>
          <p:nvPr/>
        </p:nvSpPr>
        <p:spPr>
          <a:xfrm flipV="1">
            <a:off x="83520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31"/>
          <p:cNvSpPr/>
          <p:nvPr/>
        </p:nvSpPr>
        <p:spPr>
          <a:xfrm flipV="1">
            <a:off x="160668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32"/>
          <p:cNvSpPr/>
          <p:nvPr/>
        </p:nvSpPr>
        <p:spPr>
          <a:xfrm flipV="1">
            <a:off x="232236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33"/>
          <p:cNvSpPr/>
          <p:nvPr/>
        </p:nvSpPr>
        <p:spPr>
          <a:xfrm flipV="1">
            <a:off x="308448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35"/>
          <p:cNvSpPr/>
          <p:nvPr/>
        </p:nvSpPr>
        <p:spPr>
          <a:xfrm flipV="1">
            <a:off x="381168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36"/>
          <p:cNvSpPr/>
          <p:nvPr/>
        </p:nvSpPr>
        <p:spPr>
          <a:xfrm flipV="1">
            <a:off x="453708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37"/>
          <p:cNvSpPr/>
          <p:nvPr/>
        </p:nvSpPr>
        <p:spPr>
          <a:xfrm flipV="1">
            <a:off x="528012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38"/>
          <p:cNvSpPr/>
          <p:nvPr/>
        </p:nvSpPr>
        <p:spPr>
          <a:xfrm flipV="1">
            <a:off x="601488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39"/>
          <p:cNvSpPr/>
          <p:nvPr/>
        </p:nvSpPr>
        <p:spPr>
          <a:xfrm flipV="1">
            <a:off x="675000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40"/>
          <p:cNvSpPr/>
          <p:nvPr/>
        </p:nvSpPr>
        <p:spPr>
          <a:xfrm flipV="1">
            <a:off x="747540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41"/>
          <p:cNvSpPr/>
          <p:nvPr/>
        </p:nvSpPr>
        <p:spPr>
          <a:xfrm flipV="1">
            <a:off x="8223120" y="328608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2"/>
          <p:cNvSpPr/>
          <p:nvPr/>
        </p:nvSpPr>
        <p:spPr>
          <a:xfrm>
            <a:off x="835200" y="2720880"/>
            <a:ext cx="59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uccess 80% (N = 120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3"/>
          <p:cNvSpPr/>
          <p:nvPr/>
        </p:nvSpPr>
        <p:spPr>
          <a:xfrm>
            <a:off x="1081080" y="3763800"/>
            <a:ext cx="7432560" cy="13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Biomarker status not available on time 5% (n =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nd of study before treatment 3% (n =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ime between surgery and treatment &gt;61 days 11% (n = 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50"/>
          <p:cNvSpPr/>
          <p:nvPr/>
        </p:nvSpPr>
        <p:spPr>
          <a:xfrm flipV="1">
            <a:off x="2914560" y="1490400"/>
            <a:ext cx="0" cy="46332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4"/>
          <p:cNvSpPr/>
          <p:nvPr/>
        </p:nvSpPr>
        <p:spPr>
          <a:xfrm>
            <a:off x="568440" y="3441600"/>
            <a:ext cx="53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2"/>
          <p:cNvSpPr/>
          <p:nvPr/>
        </p:nvSpPr>
        <p:spPr>
          <a:xfrm>
            <a:off x="1339920" y="3441600"/>
            <a:ext cx="53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53"/>
          <p:cNvSpPr/>
          <p:nvPr/>
        </p:nvSpPr>
        <p:spPr>
          <a:xfrm>
            <a:off x="2055960" y="3441600"/>
            <a:ext cx="53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4"/>
          <p:cNvSpPr/>
          <p:nvPr/>
        </p:nvSpPr>
        <p:spPr>
          <a:xfrm>
            <a:off x="2817720" y="3441600"/>
            <a:ext cx="53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5"/>
          <p:cNvSpPr/>
          <p:nvPr/>
        </p:nvSpPr>
        <p:spPr>
          <a:xfrm>
            <a:off x="3544920" y="3441600"/>
            <a:ext cx="53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6"/>
          <p:cNvSpPr/>
          <p:nvPr/>
        </p:nvSpPr>
        <p:spPr>
          <a:xfrm>
            <a:off x="4270320" y="3441600"/>
            <a:ext cx="53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7"/>
          <p:cNvSpPr/>
          <p:nvPr/>
        </p:nvSpPr>
        <p:spPr>
          <a:xfrm>
            <a:off x="5013360" y="3441600"/>
            <a:ext cx="53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58"/>
          <p:cNvSpPr/>
          <p:nvPr/>
        </p:nvSpPr>
        <p:spPr>
          <a:xfrm>
            <a:off x="5767560" y="3441600"/>
            <a:ext cx="53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59"/>
          <p:cNvSpPr/>
          <p:nvPr/>
        </p:nvSpPr>
        <p:spPr>
          <a:xfrm>
            <a:off x="6483240" y="3441600"/>
            <a:ext cx="53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8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60"/>
          <p:cNvSpPr/>
          <p:nvPr/>
        </p:nvSpPr>
        <p:spPr>
          <a:xfrm>
            <a:off x="7209000" y="3441600"/>
            <a:ext cx="53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61"/>
          <p:cNvSpPr/>
          <p:nvPr/>
        </p:nvSpPr>
        <p:spPr>
          <a:xfrm>
            <a:off x="7886880" y="3441600"/>
            <a:ext cx="67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5"/>
          <p:cNvSpPr/>
          <p:nvPr/>
        </p:nvSpPr>
        <p:spPr>
          <a:xfrm>
            <a:off x="903240" y="4178160"/>
            <a:ext cx="177840" cy="177840"/>
          </a:xfrm>
          <a:prstGeom prst="rect">
            <a:avLst/>
          </a:prstGeom>
          <a:solidFill>
            <a:srgbClr val="7eab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3"/>
          <p:cNvSpPr/>
          <p:nvPr/>
        </p:nvSpPr>
        <p:spPr>
          <a:xfrm>
            <a:off x="903240" y="4483080"/>
            <a:ext cx="177840" cy="17784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4"/>
          <p:cNvSpPr/>
          <p:nvPr/>
        </p:nvSpPr>
        <p:spPr>
          <a:xfrm>
            <a:off x="903240" y="4788000"/>
            <a:ext cx="177840" cy="177840"/>
          </a:xfrm>
          <a:prstGeom prst="rect">
            <a:avLst/>
          </a:prstGeom>
          <a:solidFill>
            <a:srgbClr val="1b16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927000" y="1521000"/>
          <a:ext cx="7378920" cy="3187440"/>
        </p:xfrm>
        <a:graphic>
          <a:graphicData uri="http://schemas.openxmlformats.org/drawingml/2006/table">
            <a:tbl>
              <a:tblPr/>
              <a:tblGrid>
                <a:gridCol w="2773440"/>
                <a:gridCol w="1535040"/>
                <a:gridCol w="1535040"/>
                <a:gridCol w="1535400"/>
              </a:tblGrid>
              <a:tr h="7189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a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stomiz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u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/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CC1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/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arker Rea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31"/>
          <p:cNvSpPr/>
          <p:nvPr/>
        </p:nvSpPr>
        <p:spPr>
          <a:xfrm>
            <a:off x="927000" y="4848120"/>
            <a:ext cx="73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turnaround testing time: ERCC1 status (7 days), EGFR status (14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927000" y="1500120"/>
          <a:ext cx="7378920" cy="2178000"/>
        </p:xfrm>
        <a:graphic>
          <a:graphicData uri="http://schemas.openxmlformats.org/drawingml/2006/table">
            <a:tbl>
              <a:tblPr/>
              <a:tblGrid>
                <a:gridCol w="3306960"/>
                <a:gridCol w="2035080"/>
                <a:gridCol w="2036880"/>
              </a:tblGrid>
              <a:tr h="6048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arker (n = 1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2416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24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CC1-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CC1-neg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ized Arm: Incidence of EGFR Mutation and ERCC1 versus IALT Trial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31"/>
          <p:cNvSpPr/>
          <p:nvPr/>
        </p:nvSpPr>
        <p:spPr>
          <a:xfrm>
            <a:off x="820800" y="3789360"/>
            <a:ext cx="7642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spcAft>
                <a:spcPts val="476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ccrual on the study was stopped after the enrollment of 150 patients due to the observed frequency of immunohistochemical (IHC) staining for ERCC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300"/>
              </a:spcBef>
              <a:spcAft>
                <a:spcPts val="476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 occurrence of ERCC1 in samples was significantly different from that observed from bioanalysis of data from the International Adjuvant Lung Cancer Trial (IALT) (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2006;355:98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286680" y="1476360"/>
          <a:ext cx="2019240" cy="2189160"/>
        </p:xfrm>
        <a:graphic>
          <a:graphicData uri="http://schemas.openxmlformats.org/drawingml/2006/table">
            <a:tbl>
              <a:tblPr/>
              <a:tblGrid>
                <a:gridCol w="20192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42800" y="1163520"/>
            <a:ext cx="8244000" cy="4579920"/>
          </a:xfrm>
          <a:prstGeom prst="rect">
            <a:avLst/>
          </a:prstGeom>
          <a:noFill/>
          <a:ln w="0">
            <a:noFill/>
          </a:ln>
        </p:spPr>
        <p:txBody>
          <a:bodyPr lIns="457200" tIns="182880" anchor="t">
            <a:normAutofit/>
          </a:bodyPr>
          <a:p>
            <a:pPr marL="343080" indent="-343080"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Upon retesting of the IALT samples by IHC for ERCC1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nly 43% of IALT samples consistently restained as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RCC1-positiv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nly 21% of IALT samples consistently restained as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RCC1-negative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36% of samples restained in the reverse direction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noclonal antibodies and other commercially available antibodies recognize a conserved region shared by all isoforms of the ERCC1 protei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ly available antibodies are unable to differentiate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etween the different ERCC1 isoform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owever, ERCC1 isoform 202 is the only functional isoform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or DNA repair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Associated with Staining for ERCC1 by IH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927000" y="1467000"/>
          <a:ext cx="7404120" cy="3657600"/>
        </p:xfrm>
        <a:graphic>
          <a:graphicData uri="http://schemas.openxmlformats.org/drawingml/2006/table">
            <a:tbl>
              <a:tblPr/>
              <a:tblGrid>
                <a:gridCol w="2468520"/>
                <a:gridCol w="1233720"/>
                <a:gridCol w="1233360"/>
                <a:gridCol w="1235160"/>
                <a:gridCol w="1233360"/>
              </a:tblGrid>
              <a:tr h="366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/pem (n = 1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(n = 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8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r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sth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reported (N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31"/>
          <p:cNvSpPr/>
          <p:nvPr/>
        </p:nvSpPr>
        <p:spPr>
          <a:xfrm>
            <a:off x="977760" y="5261040"/>
            <a:ext cx="73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Grade 5 AEs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TASTE trial met its primary endpoint for the Phase II component, demonstrating the feasibility of a national biology-driven trial in the adjuvant sett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tandard therapy with cisplatin/pemetrexed demonstrated an excellent tolerability profile comparable to that observed with cisplatin/vinorelbin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hase III component of the trial was cancelled due to the unexpected unreliability of the ERCC1 IHC readou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RCC1 IHC readouts need to be refined before a prospective Phase III trial can be conduct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ria J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8:48:38Z</dcterms:modified>
  <cp:revision>747</cp:revision>
  <dc:subject/>
  <dc:title>Research To Practice</dc:title>
</cp:coreProperties>
</file>