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DC097-B1DB-485B-81BB-942DE63AC7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84D4D-DC68-488E-B206-FB50F02BE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1F271-DC09-400E-9F19-EB55EB240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B04-C62E-40EE-AE0E-CAA97B62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97A-C47B-4362-B496-97F8A896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CB2-6B76-43A1-977B-B81CEE23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6C6-FC6E-4385-B102-A1B31B5F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2E10-A106-432A-B3D7-0EDD715E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7B77-F2A3-4691-8866-FA581D14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9743-7B4F-41EF-9452-67A3EDBA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2B09-F43D-4FF0-9AE5-747651C6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6C0A-F08B-4629-82FE-65E1D3A7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E72D-7C7D-4542-8DBB-0A7D90DA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891C-5380-47F1-B2C9-7F1DEADA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38A-06E2-4745-B1A3-69E40A1F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55D2-6E06-46A9-ADC2-029B3193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E4A2-DE38-43B9-9ADD-79C6A0D7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7871-BB0E-4539-8073-4EBABF51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172C-D0F6-4B7A-A469-6A907B1E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7C8E-E296-44D1-BA31-94FF0424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B1B-6263-4D97-9C26-FE04C71C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E9E5E-DB73-49F5-A8C7-31F0FF38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ECB72-D795-4185-98C9-346DB164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E4652-D92D-4FB2-B3C5-A1F4E384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A96-AD02-4792-BA65-DBAC4398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7CF59-12E3-4996-A9B3-B49AF3CB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958C6-44EC-4EC8-93B9-2583DA7E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E2DF-C362-4AA2-B590-48ED3DD3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8A4FA-261A-40DC-B945-CDF3D958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9AA5E-D11C-44E0-964E-9F8B7CA4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3427A-A79B-4523-ADC0-F31E037D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38EF6-F44D-4824-BC8C-14B300AB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2211-2C5C-4578-8870-1FFFF289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F9523-80DE-4BAF-B4EC-F24C0371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7DC-CB52-4996-91E4-FA55B97F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4FB-580B-405E-BDA7-588C3212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01D90-C9E3-4404-96BE-8CA3F91C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46B64-0AE1-453D-BA06-73AB7F77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41AC7-D739-447F-9AB0-0BD08ED9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37F1B-9A01-4886-984C-5C4CFC0E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9CEC4-77DF-4EDB-8B37-D3A7B851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18B35-07F3-472B-9A80-ABE3C740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8787A-4442-49EB-81C6-7E355D66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B5FA3-7E3B-4381-93F0-DABD89B9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B4F18-8775-4DC3-A55C-0627F3A8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F8B-6F53-402A-B311-C1B4879D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41D22-B2CE-4F3A-822A-185175EE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3246F-7204-4DAB-A138-0E67A401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4C5FC-41D4-4506-BD6D-644E6051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FE6-3A7F-4401-841C-BE91DEC4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79C-1DD4-4A7A-8505-83EE5EC9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4B92C-04BD-4A6A-8F16-5DE6735B1459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1B95A-F916-4BA9-A3D7-142E4783ED4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9E245-47A4-4B99-B2C3-175A480024E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40C51-4E59-4AD2-B600-3692DA4BBF7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8D39E-229D-4BF7-B72F-19460B69D07F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4A8E5-34A4-4600-A7C2-46BBD85F24D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DAFBC-48F7-476F-9A14-0A1DB1455FA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F700F-11F0-44FE-8B1E-A091561A17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nical Activity of th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K Inhibitor LDK378 i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ced, ALK-Positiv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SCL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haw AT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801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172880"/>
            <a:ext cx="82119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LK gene rearrangements occur in 3% to 7% of non-small cell lung cancer (NSCLC) cases and are more prevalent in younger patients, nonsmokers and those with adenocarcinomas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LK+ NSCLC is sensitive to crizotinib (CRZ), but most patients develop resistance to CRZ, and CNS relapses are common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DK378 is a novel, oral ALK tyrosine kinase inhibitor that is more potent than CRZ, with significant antitumor activity, including in CRZ-resistant models (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roc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AACR-NCI-EORTC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011;Abstract B232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nvestigate the safety and efficacy of LDK378 in patients with advanced ALK+ NSCLC.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traight Connector 37"/>
          <p:cNvSpPr/>
          <p:nvPr/>
        </p:nvSpPr>
        <p:spPr>
          <a:xfrm>
            <a:off x="2886120" y="3830760"/>
            <a:ext cx="0" cy="13788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38"/>
          <p:cNvSpPr/>
          <p:nvPr/>
        </p:nvSpPr>
        <p:spPr>
          <a:xfrm>
            <a:off x="4626000" y="3830760"/>
            <a:ext cx="0" cy="13788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5"/>
          <p:cNvSpPr/>
          <p:nvPr/>
        </p:nvSpPr>
        <p:spPr>
          <a:xfrm>
            <a:off x="5084640" y="2500200"/>
            <a:ext cx="0" cy="63972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2"/>
          <p:cNvSpPr/>
          <p:nvPr/>
        </p:nvSpPr>
        <p:spPr>
          <a:xfrm>
            <a:off x="2014560" y="3944880"/>
            <a:ext cx="1657440" cy="539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3"/>
          <p:cNvSpPr/>
          <p:nvPr/>
        </p:nvSpPr>
        <p:spPr>
          <a:xfrm>
            <a:off x="3767040" y="3944880"/>
            <a:ext cx="1657440" cy="539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6929280" y="3270240"/>
            <a:ext cx="1301760" cy="1179360"/>
          </a:xfrm>
          <a:prstGeom prst="rect">
            <a:avLst/>
          </a:prstGeom>
          <a:solidFill>
            <a:srgbClr val="c6d9f1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5519880" y="3270240"/>
            <a:ext cx="1299960" cy="1179360"/>
          </a:xfrm>
          <a:prstGeom prst="rect">
            <a:avLst/>
          </a:prstGeom>
          <a:solidFill>
            <a:srgbClr val="8eb4e3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2021040" y="1308240"/>
            <a:ext cx="5140080" cy="1261800"/>
          </a:xfrm>
          <a:prstGeom prst="rect">
            <a:avLst/>
          </a:prstGeom>
          <a:solidFill>
            <a:srgbClr val="17375e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1"/>
          <p:cNvSpPr/>
          <p:nvPr/>
        </p:nvSpPr>
        <p:spPr>
          <a:xfrm>
            <a:off x="855720" y="5310360"/>
            <a:ext cx="725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Arial"/>
              </a:rPr>
              <a:t>*Continuous oral dosing in 21-day cycles                      ALKi = ALK inhib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2139840" y="1308240"/>
            <a:ext cx="50212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y advanced ALK+ canc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ession on standard thera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treated asymptomatic and treated neurologically stable CNS metastases allow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ose escalation starting at 50 mg/day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3419640" y="2666880"/>
            <a:ext cx="3522600" cy="312840"/>
          </a:xfrm>
          <a:prstGeom prst="rect">
            <a:avLst/>
          </a:prstGeom>
          <a:solidFill>
            <a:srgbClr val="578fd3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calate to MTD (750 mg/day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062000" y="2647800"/>
            <a:ext cx="2306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Completed N = 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2014560" y="3267000"/>
            <a:ext cx="3398760" cy="531720"/>
          </a:xfrm>
          <a:prstGeom prst="rect">
            <a:avLst/>
          </a:prstGeom>
          <a:solidFill>
            <a:srgbClr val="89add8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ALK+ lung cancer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rior ALKi thera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638280" y="3529080"/>
            <a:ext cx="1554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Additional</a:t>
            </a:r>
            <a:br>
              <a:rPr sz="1600"/>
            </a:b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N = 71</a:t>
            </a:r>
            <a:br>
              <a:rPr sz="1600"/>
            </a:b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en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2025720" y="3944880"/>
            <a:ext cx="1658880" cy="53172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≤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2 months after prior ALK T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4"/>
          <p:cNvSpPr/>
          <p:nvPr/>
        </p:nvSpPr>
        <p:spPr>
          <a:xfrm>
            <a:off x="3754440" y="3944880"/>
            <a:ext cx="1658880" cy="53172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&gt;2 months after prior ALK T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5"/>
          <p:cNvSpPr/>
          <p:nvPr/>
        </p:nvSpPr>
        <p:spPr>
          <a:xfrm>
            <a:off x="5519880" y="3371760"/>
            <a:ext cx="12999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ALK+ lung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cancer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naïve to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AL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6"/>
          <p:cNvSpPr/>
          <p:nvPr/>
        </p:nvSpPr>
        <p:spPr>
          <a:xfrm>
            <a:off x="6929280" y="3465360"/>
            <a:ext cx="13017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Non-lung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ALK+ tum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28"/>
          <p:cNvSpPr/>
          <p:nvPr/>
        </p:nvSpPr>
        <p:spPr>
          <a:xfrm flipH="1">
            <a:off x="3684600" y="3139920"/>
            <a:ext cx="3857760" cy="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32"/>
          <p:cNvSpPr/>
          <p:nvPr/>
        </p:nvSpPr>
        <p:spPr>
          <a:xfrm>
            <a:off x="3695760" y="3139920"/>
            <a:ext cx="0" cy="13824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35"/>
          <p:cNvSpPr/>
          <p:nvPr/>
        </p:nvSpPr>
        <p:spPr>
          <a:xfrm>
            <a:off x="6165720" y="3139920"/>
            <a:ext cx="0" cy="13824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36"/>
          <p:cNvSpPr/>
          <p:nvPr/>
        </p:nvSpPr>
        <p:spPr>
          <a:xfrm>
            <a:off x="7542360" y="3139920"/>
            <a:ext cx="0" cy="138240"/>
          </a:xfrm>
          <a:prstGeom prst="line">
            <a:avLst/>
          </a:prstGeom>
          <a:ln w="255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1"/>
          <p:cNvSpPr/>
          <p:nvPr/>
        </p:nvSpPr>
        <p:spPr>
          <a:xfrm>
            <a:off x="844560" y="4573440"/>
            <a:ext cx="7899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objective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Determination of maximum tolerated dose (MT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Secondary objectives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Include safety, preliminary antitumo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939960" y="1494000"/>
          <a:ext cx="7315200" cy="3028680"/>
        </p:xfrm>
        <a:graphic>
          <a:graphicData uri="http://schemas.openxmlformats.org/drawingml/2006/table">
            <a:tbl>
              <a:tblPr/>
              <a:tblGrid>
                <a:gridCol w="2619360"/>
                <a:gridCol w="1552320"/>
                <a:gridCol w="1576440"/>
                <a:gridCol w="1567080"/>
              </a:tblGrid>
              <a:tr h="97200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Z pretre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9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Z naï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5)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0465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verall response r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arti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tabl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403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 to LDK378 (400-750 mg/d)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K+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992520" y="4681440"/>
            <a:ext cx="435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1 response unknown  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4 responses un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FS and Duration of Response with LDK378 in ALK+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934920" y="1517760"/>
          <a:ext cx="7337520" cy="2771640"/>
        </p:xfrm>
        <a:graphic>
          <a:graphicData uri="http://schemas.openxmlformats.org/drawingml/2006/table">
            <a:tbl>
              <a:tblPr/>
              <a:tblGrid>
                <a:gridCol w="5757840"/>
                <a:gridCol w="1579680"/>
              </a:tblGrid>
              <a:tr h="45072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1494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rogression-free survival (PF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PFS* (≥400 mg/d) (n = 1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FS rate (6 mo) at 750 mg/d (n = 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6 mo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714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uration of response (DO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DOR (≥400 mg/d) (n = 66 respond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OR rate (6 mo) at 750 mg/d (n = 47 respond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.2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88" name="TextBox 5"/>
          <p:cNvSpPr/>
          <p:nvPr/>
        </p:nvSpPr>
        <p:spPr>
          <a:xfrm>
            <a:off x="934920" y="4381560"/>
            <a:ext cx="733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Median PFS at 750 mg/d not rea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57% cens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977760" y="1450800"/>
          <a:ext cx="7162920" cy="2414880"/>
        </p:xfrm>
        <a:graphic>
          <a:graphicData uri="http://schemas.openxmlformats.org/drawingml/2006/table">
            <a:tbl>
              <a:tblPr/>
              <a:tblGrid>
                <a:gridCol w="4042080"/>
                <a:gridCol w="3120840"/>
              </a:tblGrid>
              <a:tr h="43992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 and 4 A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atients (n = 1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952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LT incr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ST incr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38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iarrh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ipase incr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52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ypokal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884160" y="4016520"/>
            <a:ext cx="76215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 most common adverse events among all patients were nausea (73%), diarrhea (72%), vomiting (58%) and fatigue (41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2% discontinued therapy due to A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re were no treatment-related dea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457200" y="1173240"/>
            <a:ext cx="82119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2286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DK378 exhibits potent antitumor activity in ALK+ NSCLC at doses of 400-750 mg/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ORR was 57% for CRZ-treated patients and 60% for CRZ-naïve pat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Median PFS was 8.6 mo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DK378 is active in the CNS (data not show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most common adverse events were nausea, diarrhea, vomiting and fatigue, and most were Grade 1 or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DK378 induces responses in the majority of CRZ-treated patients, including those who have acquired a new ALK mutation or amplification (data not show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Directions in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haw AT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457200" y="1173240"/>
            <a:ext cx="82119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2286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hase II stud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DK378 in patients previously treated with CRZ and chemotherapy (NCT016850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DK378 in CRZ-naïve patients previously treated with chemotherapy (NCT016851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hase III stud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DK378 versus chemotherapy in patients previously treated with CRZ and chemotherapy (NCT018281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LDK378 versus chemotherapy in patients who are both CRZ-naïve  and chemotherapy-naïve (NCT018280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68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LDK378 exhibits potent antitumor activity in ALK+ NSCLC in CRZ-naïve and CRZ-resistant tumor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uture studies will inform us regarding sequence of ALK TKI therapy and benefit of rational combinatorial therapies: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otential strategies include combination of ALK inhibitors with HSP90, MEK, mTOR or EGFR inhibitor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urther insights into alternative mechanisms of ALK TKI resistance will help to refine treatment approach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ecause ALK is an oncogenic driver in a growing number of hematologic and solid tumors, an improved understanding of ALK signaling and mechanisms of resistance to ALK inhibition may have potential implications for other ALK-driven malignancies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ovly 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 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6-28T17:15:38Z</cp:lastPrinted>
  <dcterms:modified xsi:type="dcterms:W3CDTF">2013-07-22T18:51:06Z</dcterms:modified>
  <cp:revision>708</cp:revision>
  <dc:subject/>
  <dc:title>Research To Practice</dc:title>
</cp:coreProperties>
</file>