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92C-1260-4526-856B-ACB462F8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994-2B49-45FD-A9EA-EBB75C4E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C71BE-ADF5-4A0B-B9D6-16F3CB4A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37A30-EFFC-4253-A5FE-C000C634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F51F5-CA49-42C6-B3EA-4A412D8F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615D6-F4D7-43F6-BD38-BA46C50E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ED6A0-E8B2-4DBC-A4B9-AE916682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AC6D4-C9A9-4F28-9976-DC26A3B8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CB6AF-4472-4233-9040-6A17E53D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9CF61-6A0D-48BA-A85D-4355E673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A714B-148D-4EA9-8214-7F9A5B69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B1B-0750-4C1F-8555-C98B3D05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2D8-D2FD-4AE6-8DB5-6B268BF5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E906-2CC6-459E-9A45-2299FB2C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6B25-8532-42C6-80D7-72587C3F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1868-AA62-4BB7-8049-E7857548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BFE1-1406-460A-810A-6C976F20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4BAC-3FF7-4C65-9FC4-A383E683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A661-ED09-481E-8B38-74DCD64B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4A4C-C84B-41F3-9E2F-F60400CE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690-2EA1-4B3A-A17C-72A08969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0C5F-414F-4B02-BDD1-49E85560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BFC8-74A2-4F96-88CA-6555C5B3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91B6-E7CE-4766-891C-56004B33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29F9-042B-4510-A022-5862A619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50CA-29B5-47F2-8F37-1B2B1BF3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30B4-ADD6-49C5-9FD8-AE38CB4E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674F-BE79-4A7E-93D2-98BDCB4B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A0C3-222B-406B-ABA7-F2FF17FE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2985-C14A-48C0-9259-F5C89C50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8178-CBAC-4239-B651-6B0EDB6C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136-A62A-440E-ABC5-8B69A7E8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8C389-6AD7-4BF9-BD54-FEB44427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5C08E-71F3-4337-8C66-0134A891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C002-A612-44EC-A296-0AF151CA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43CB-D9F3-481E-BC3A-348C0DD5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820E-96EF-4A0F-B05C-DE7EC5CC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5C08C-FFAF-414F-AD3B-F8DC9682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2D58-B11A-48C9-B06F-C369438E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DFA-1FF4-4CF1-ADC7-CFB449C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0D9F2-25AA-48AA-9E78-DD90CBC2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430-2637-45FC-84EA-6671E45D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6F8E1-CB72-4708-BFDA-038880FB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7BA68-73EE-4F0F-83FE-BA7FE991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F8BAC-500B-442C-80CC-F4314990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E4C58-F3CA-4131-803D-56222F69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5D3F4-40A9-4FA5-9913-BFF4B247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D1DED-127C-4FED-B551-FEC86974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196F8-6EC1-4535-A11B-4B884516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E7633-B354-45D5-92AE-CAA2FAD6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1317A-52D0-4612-B183-124FD5E6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A6FD2-8339-47B5-B91F-2E1C95B0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670-8304-46E8-99CF-C00D2FCE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85C4-3352-44CE-92F3-64D40CF0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1EE-9BF8-4D44-8B62-FD71AF7F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FFBBA-B683-4222-B771-938E4AFC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019A7-FCCD-4123-9FEB-5C0CE393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5BC07-7D60-40D3-BE65-CB0CF0F7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D1EA6-3690-48F1-AC08-4A402A73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445B1-B8EE-4429-911F-9C6BA278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BE3A5-0E9A-47F2-A119-9C0340C1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2894-94C1-4202-8436-A254B611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871-7B1A-4D81-A54D-742DC403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B2518-10CE-4F7E-BFA4-11F2C00E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FD874-A529-4BE8-A50E-F720A332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592EB-A563-4EE4-8D92-4CDB9CAD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20EAA-24C4-4031-853B-EC15E54C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7F7B5-7210-4F73-919D-6D595F99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136-F361-4F9C-BB5A-E0D7EEBF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985D1-2C42-4897-B019-72E97820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CEC37-20E1-4F5A-81D9-9A58F9D1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881B4-FD61-4B0B-A1F5-BB2C7165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13716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7F3B4-F9C3-4D76-AAF6-843362A4BDEB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2C55B-F2F9-4502-861F-7BF5F8BB08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6F5F1-269A-4754-9CBF-7B03A0A4B3D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0501A-ADC8-41D2-92E2-7A73E171AAC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4E5BF-AA49-48DD-B15B-A7DB35D3CA1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B4815-D613-42A0-AA4C-C8C08CE6B78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13716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13716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96246-2A6F-4EF4-8E3D-58232F07F6B6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F71C5-846B-47A7-B785-41C422A192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9A7B5-1848-4F10-91CE-BFE9766D917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F014C-0DAF-4020-930A-1B6FC2BF7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B19F9-5627-4843-8F70-0C508C1A93D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4F3F4-EDF0-4E1B-864D-3782F34830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ivity of Afatinib/Cetuximab in Patients (Pts) with EGFR Mutant Non-Small Cell Lung Cancer (NSCLC) and Acquired Resistance (AR) to EGFR Inhibito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Janjigian YY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ESM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2;Abstract 1227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800" y="1185840"/>
            <a:ext cx="8244000" cy="457056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cquired resistance to reversible EGFR-specific tyrosine kinase inhibitors (TKIs) in EGFR-mutant NSCLC is associated with exon 20 EGFR T790M mutation in about 50% of cas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NA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2;109:E212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tudies in T790M transgenic murine models showed that combined EFGR targeting with afatinib (A) and cetuximab (C) induced near-complete respons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 Clin Invest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09;119:3000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arly-phase clinical data suggested that the recommended dose combination for A/C is tolerable, with some activity in patients with acquired resistance to EGFR TKIs (ASCO 2011;Abstract 7525)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etermine the safety and efficacy of A/C in patients with advanced NSCLC with acquired resistance to EGFR TKIs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B 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42800" y="1172880"/>
            <a:ext cx="824400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with EGFR-mutant advanced NSCLC with progressive disease on erlotinib or gefitinib within 30 days were includ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o date, n = 100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were treated within a minimum of 3 days with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: 40 mg/d (PO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: Biweekly 5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(IV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o prior treatment with EGFR-targeting antibodies was allow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andatory tumor biopsy was conducted after acquired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esistance to EGFR TKIs, prior to therapy with A/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Primary endpoints: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Objective response rate (ORR) and progression-free survival (PFS) with imaging at weeks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, 8 and 12 and then every 8 week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1"/>
          <p:cNvSpPr/>
          <p:nvPr/>
        </p:nvSpPr>
        <p:spPr>
          <a:xfrm>
            <a:off x="914400" y="3257640"/>
            <a:ext cx="7112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otal number of patients treated at maximum tolerated dose = 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edian duration of treatment: 4.7 months (range: 3-21+ 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914400" y="1608120"/>
          <a:ext cx="7277040" cy="1333440"/>
        </p:xfrm>
        <a:graphic>
          <a:graphicData uri="http://schemas.openxmlformats.org/drawingml/2006/table">
            <a:tbl>
              <a:tblPr/>
              <a:tblGrid>
                <a:gridCol w="4259160"/>
                <a:gridCol w="3017880"/>
              </a:tblGrid>
              <a:tr h="666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6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7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on-Free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914400" y="1320840"/>
          <a:ext cx="7413480" cy="3506760"/>
        </p:xfrm>
        <a:graphic>
          <a:graphicData uri="http://schemas.openxmlformats.org/drawingml/2006/table">
            <a:tbl>
              <a:tblPr/>
              <a:tblGrid>
                <a:gridCol w="2502000"/>
                <a:gridCol w="1854000"/>
                <a:gridCol w="1797120"/>
                <a:gridCol w="126036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790M muta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790M+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790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firmed 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308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duration of confirmed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4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232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disease (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12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linical benefit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8268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600">
                <a:tc>
                  <a:txBody>
                    <a:bodyPr lIns="90000" rIns="90000" anchor="ctr">
                      <a:noAutofit/>
                    </a:bodyPr>
                    <a:p>
                      <a:pPr marL="1144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t evalu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1"/>
          <p:cNvSpPr/>
          <p:nvPr/>
        </p:nvSpPr>
        <p:spPr>
          <a:xfrm>
            <a:off x="914400" y="485316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R = partial response; clinical benefit rate = any PR + 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914400" y="532296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our patients were EGFR wild type or with T790M status unkn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s by EGFR T790M Mutation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70"/>
          <p:cNvSpPr/>
          <p:nvPr/>
        </p:nvSpPr>
        <p:spPr>
          <a:xfrm>
            <a:off x="3691080" y="2741760"/>
            <a:ext cx="68040" cy="263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36"/>
          <p:cNvSpPr/>
          <p:nvPr/>
        </p:nvSpPr>
        <p:spPr>
          <a:xfrm>
            <a:off x="3089160" y="2757600"/>
            <a:ext cx="73080" cy="93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36"/>
          <p:cNvSpPr/>
          <p:nvPr/>
        </p:nvSpPr>
        <p:spPr>
          <a:xfrm>
            <a:off x="2954160" y="2755800"/>
            <a:ext cx="68400" cy="71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3"/>
          <p:cNvSpPr/>
          <p:nvPr/>
        </p:nvSpPr>
        <p:spPr>
          <a:xfrm>
            <a:off x="4548240" y="2751120"/>
            <a:ext cx="71280" cy="4618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3"/>
          <p:cNvSpPr/>
          <p:nvPr/>
        </p:nvSpPr>
        <p:spPr>
          <a:xfrm>
            <a:off x="4019400" y="2752560"/>
            <a:ext cx="73080" cy="324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8"/>
          <p:cNvSpPr/>
          <p:nvPr/>
        </p:nvSpPr>
        <p:spPr>
          <a:xfrm>
            <a:off x="3757680" y="2744640"/>
            <a:ext cx="135000" cy="2876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2162"/>
          <p:cNvGrpSpPr/>
          <p:nvPr/>
        </p:nvGrpSpPr>
        <p:grpSpPr>
          <a:xfrm>
            <a:off x="1425600" y="1643040"/>
            <a:ext cx="6848280" cy="3524400"/>
            <a:chOff x="1425600" y="1643040"/>
            <a:chExt cx="6848280" cy="3524400"/>
          </a:xfrm>
        </p:grpSpPr>
        <p:sp>
          <p:nvSpPr>
            <p:cNvPr id="391" name="Freeform 7"/>
            <p:cNvSpPr/>
            <p:nvPr/>
          </p:nvSpPr>
          <p:spPr>
            <a:xfrm>
              <a:off x="1504800" y="1643040"/>
              <a:ext cx="6769080" cy="3434400"/>
            </a:xfrm>
            <a:custGeom>
              <a:avLst/>
              <a:gdLst>
                <a:gd name="textAreaLeft" fmla="*/ 0 w 6769080"/>
                <a:gd name="textAreaRight" fmla="*/ 6769440 w 6769080"/>
                <a:gd name="textAreaTop" fmla="*/ 0 h 3434400"/>
                <a:gd name="textAreaBottom" fmla="*/ 3434760 h 3434400"/>
              </a:gdLst>
              <a:ahLst/>
              <a:rect l="textAreaLeft" t="textAreaTop" r="textAreaRight" b="textAreaBottom"/>
              <a:pathLst>
                <a:path w="4264" h="2216">
                  <a:moveTo>
                    <a:pt x="0" y="0"/>
                  </a:moveTo>
                  <a:lnTo>
                    <a:pt x="0" y="2216"/>
                  </a:lnTo>
                  <a:lnTo>
                    <a:pt x="4264" y="221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8"/>
            <p:cNvSpPr/>
            <p:nvPr/>
          </p:nvSpPr>
          <p:spPr>
            <a:xfrm>
              <a:off x="1425600" y="164304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9"/>
            <p:cNvSpPr/>
            <p:nvPr/>
          </p:nvSpPr>
          <p:spPr>
            <a:xfrm>
              <a:off x="1425600" y="185832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0"/>
            <p:cNvSpPr/>
            <p:nvPr/>
          </p:nvSpPr>
          <p:spPr>
            <a:xfrm>
              <a:off x="1425600" y="207072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1"/>
            <p:cNvSpPr/>
            <p:nvPr/>
          </p:nvSpPr>
          <p:spPr>
            <a:xfrm>
              <a:off x="1425600" y="228780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2"/>
            <p:cNvSpPr/>
            <p:nvPr/>
          </p:nvSpPr>
          <p:spPr>
            <a:xfrm>
              <a:off x="1425600" y="250308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3"/>
            <p:cNvSpPr/>
            <p:nvPr/>
          </p:nvSpPr>
          <p:spPr>
            <a:xfrm>
              <a:off x="1425600" y="271548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4"/>
            <p:cNvSpPr/>
            <p:nvPr/>
          </p:nvSpPr>
          <p:spPr>
            <a:xfrm>
              <a:off x="1425600" y="293256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5"/>
            <p:cNvSpPr/>
            <p:nvPr/>
          </p:nvSpPr>
          <p:spPr>
            <a:xfrm>
              <a:off x="1425600" y="314496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6"/>
            <p:cNvSpPr/>
            <p:nvPr/>
          </p:nvSpPr>
          <p:spPr>
            <a:xfrm>
              <a:off x="1425600" y="336024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7"/>
            <p:cNvSpPr/>
            <p:nvPr/>
          </p:nvSpPr>
          <p:spPr>
            <a:xfrm>
              <a:off x="1425600" y="357552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8"/>
            <p:cNvSpPr/>
            <p:nvPr/>
          </p:nvSpPr>
          <p:spPr>
            <a:xfrm>
              <a:off x="1425600" y="378792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9"/>
            <p:cNvSpPr/>
            <p:nvPr/>
          </p:nvSpPr>
          <p:spPr>
            <a:xfrm>
              <a:off x="1425600" y="400500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1425600" y="421740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1425600" y="443268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1425600" y="464976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1425600" y="486216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1425600" y="5077440"/>
              <a:ext cx="79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157932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6"/>
            <p:cNvSpPr/>
            <p:nvPr/>
          </p:nvSpPr>
          <p:spPr>
            <a:xfrm flipV="1">
              <a:off x="191448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 flipV="1">
              <a:off x="224784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 flipV="1">
              <a:off x="258444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9"/>
            <p:cNvSpPr/>
            <p:nvPr/>
          </p:nvSpPr>
          <p:spPr>
            <a:xfrm flipV="1">
              <a:off x="291924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30"/>
            <p:cNvSpPr/>
            <p:nvPr/>
          </p:nvSpPr>
          <p:spPr>
            <a:xfrm flipV="1">
              <a:off x="325260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1"/>
            <p:cNvSpPr/>
            <p:nvPr/>
          </p:nvSpPr>
          <p:spPr>
            <a:xfrm flipV="1">
              <a:off x="358596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2"/>
            <p:cNvSpPr/>
            <p:nvPr/>
          </p:nvSpPr>
          <p:spPr>
            <a:xfrm flipV="1">
              <a:off x="392436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 flipV="1">
              <a:off x="425772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 flipV="1">
              <a:off x="459108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5"/>
            <p:cNvSpPr/>
            <p:nvPr/>
          </p:nvSpPr>
          <p:spPr>
            <a:xfrm flipV="1">
              <a:off x="492588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36"/>
            <p:cNvSpPr/>
            <p:nvPr/>
          </p:nvSpPr>
          <p:spPr>
            <a:xfrm flipV="1">
              <a:off x="526248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7"/>
            <p:cNvSpPr/>
            <p:nvPr/>
          </p:nvSpPr>
          <p:spPr>
            <a:xfrm flipV="1">
              <a:off x="559584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38"/>
            <p:cNvSpPr/>
            <p:nvPr/>
          </p:nvSpPr>
          <p:spPr>
            <a:xfrm flipV="1">
              <a:off x="593100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39"/>
            <p:cNvSpPr/>
            <p:nvPr/>
          </p:nvSpPr>
          <p:spPr>
            <a:xfrm flipV="1">
              <a:off x="626436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40"/>
            <p:cNvSpPr/>
            <p:nvPr/>
          </p:nvSpPr>
          <p:spPr>
            <a:xfrm flipV="1">
              <a:off x="660240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41"/>
            <p:cNvSpPr/>
            <p:nvPr/>
          </p:nvSpPr>
          <p:spPr>
            <a:xfrm flipV="1">
              <a:off x="693576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42"/>
            <p:cNvSpPr/>
            <p:nvPr/>
          </p:nvSpPr>
          <p:spPr>
            <a:xfrm flipV="1">
              <a:off x="726912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43"/>
            <p:cNvSpPr/>
            <p:nvPr/>
          </p:nvSpPr>
          <p:spPr>
            <a:xfrm flipV="1">
              <a:off x="760248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4"/>
            <p:cNvSpPr/>
            <p:nvPr/>
          </p:nvSpPr>
          <p:spPr>
            <a:xfrm flipV="1">
              <a:off x="793764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45"/>
            <p:cNvSpPr/>
            <p:nvPr/>
          </p:nvSpPr>
          <p:spPr>
            <a:xfrm flipV="1">
              <a:off x="8273880" y="5077440"/>
              <a:ext cx="0" cy="9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Line 47"/>
          <p:cNvSpPr/>
          <p:nvPr/>
        </p:nvSpPr>
        <p:spPr>
          <a:xfrm>
            <a:off x="1509840" y="2276640"/>
            <a:ext cx="6840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1"/>
          <p:cNvSpPr/>
          <p:nvPr/>
        </p:nvSpPr>
        <p:spPr>
          <a:xfrm>
            <a:off x="7351560" y="2741760"/>
            <a:ext cx="66960" cy="14666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32"/>
          <p:cNvSpPr/>
          <p:nvPr/>
        </p:nvSpPr>
        <p:spPr>
          <a:xfrm>
            <a:off x="7832880" y="2741760"/>
            <a:ext cx="79200" cy="21985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1"/>
          <p:cNvSpPr/>
          <p:nvPr/>
        </p:nvSpPr>
        <p:spPr>
          <a:xfrm>
            <a:off x="1752480" y="2355840"/>
            <a:ext cx="68400" cy="385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2"/>
          <p:cNvSpPr/>
          <p:nvPr/>
        </p:nvSpPr>
        <p:spPr>
          <a:xfrm>
            <a:off x="1887480" y="2422440"/>
            <a:ext cx="68400" cy="319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3"/>
          <p:cNvSpPr/>
          <p:nvPr/>
        </p:nvSpPr>
        <p:spPr>
          <a:xfrm>
            <a:off x="1955880" y="2430360"/>
            <a:ext cx="63360" cy="3114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4"/>
          <p:cNvSpPr/>
          <p:nvPr/>
        </p:nvSpPr>
        <p:spPr>
          <a:xfrm>
            <a:off x="2019240" y="2452680"/>
            <a:ext cx="66600" cy="2890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5"/>
          <p:cNvSpPr/>
          <p:nvPr/>
        </p:nvSpPr>
        <p:spPr>
          <a:xfrm>
            <a:off x="2085840" y="2498760"/>
            <a:ext cx="68400" cy="243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6"/>
          <p:cNvSpPr/>
          <p:nvPr/>
        </p:nvSpPr>
        <p:spPr>
          <a:xfrm>
            <a:off x="2154240" y="2502000"/>
            <a:ext cx="66600" cy="2397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7"/>
          <p:cNvSpPr/>
          <p:nvPr/>
        </p:nvSpPr>
        <p:spPr>
          <a:xfrm>
            <a:off x="2220840" y="2617920"/>
            <a:ext cx="63720" cy="1238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8"/>
          <p:cNvSpPr/>
          <p:nvPr/>
        </p:nvSpPr>
        <p:spPr>
          <a:xfrm>
            <a:off x="2622600" y="2741760"/>
            <a:ext cx="68040" cy="457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9"/>
          <p:cNvSpPr/>
          <p:nvPr/>
        </p:nvSpPr>
        <p:spPr>
          <a:xfrm>
            <a:off x="2690640" y="2741760"/>
            <a:ext cx="66960" cy="457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0"/>
          <p:cNvSpPr/>
          <p:nvPr/>
        </p:nvSpPr>
        <p:spPr>
          <a:xfrm>
            <a:off x="2757600" y="2741760"/>
            <a:ext cx="63360" cy="489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4"/>
          <p:cNvSpPr/>
          <p:nvPr/>
        </p:nvSpPr>
        <p:spPr>
          <a:xfrm>
            <a:off x="3294000" y="2741760"/>
            <a:ext cx="63720" cy="1537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5"/>
          <p:cNvSpPr/>
          <p:nvPr/>
        </p:nvSpPr>
        <p:spPr>
          <a:xfrm>
            <a:off x="3357720" y="2741760"/>
            <a:ext cx="68040" cy="1983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8"/>
          <p:cNvSpPr/>
          <p:nvPr/>
        </p:nvSpPr>
        <p:spPr>
          <a:xfrm>
            <a:off x="3560760" y="2741760"/>
            <a:ext cx="63360" cy="2523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9"/>
          <p:cNvSpPr/>
          <p:nvPr/>
        </p:nvSpPr>
        <p:spPr>
          <a:xfrm>
            <a:off x="3957480" y="2741760"/>
            <a:ext cx="68400" cy="3157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11"/>
          <p:cNvSpPr/>
          <p:nvPr/>
        </p:nvSpPr>
        <p:spPr>
          <a:xfrm>
            <a:off x="4152960" y="2741760"/>
            <a:ext cx="66600" cy="3794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13"/>
          <p:cNvSpPr/>
          <p:nvPr/>
        </p:nvSpPr>
        <p:spPr>
          <a:xfrm>
            <a:off x="4486320" y="2741760"/>
            <a:ext cx="68040" cy="4618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4"/>
          <p:cNvSpPr/>
          <p:nvPr/>
        </p:nvSpPr>
        <p:spPr>
          <a:xfrm>
            <a:off x="4951440" y="2741760"/>
            <a:ext cx="66600" cy="506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5"/>
          <p:cNvSpPr/>
          <p:nvPr/>
        </p:nvSpPr>
        <p:spPr>
          <a:xfrm>
            <a:off x="5086440" y="2741760"/>
            <a:ext cx="66600" cy="5364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16"/>
          <p:cNvSpPr/>
          <p:nvPr/>
        </p:nvSpPr>
        <p:spPr>
          <a:xfrm>
            <a:off x="5218200" y="2741760"/>
            <a:ext cx="66600" cy="5778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7"/>
          <p:cNvSpPr/>
          <p:nvPr/>
        </p:nvSpPr>
        <p:spPr>
          <a:xfrm>
            <a:off x="5284800" y="2741760"/>
            <a:ext cx="68400" cy="5857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18"/>
          <p:cNvSpPr/>
          <p:nvPr/>
        </p:nvSpPr>
        <p:spPr>
          <a:xfrm>
            <a:off x="5419800" y="2741760"/>
            <a:ext cx="63360" cy="5918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19"/>
          <p:cNvSpPr/>
          <p:nvPr/>
        </p:nvSpPr>
        <p:spPr>
          <a:xfrm>
            <a:off x="5483160" y="2741760"/>
            <a:ext cx="68400" cy="660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20"/>
          <p:cNvSpPr/>
          <p:nvPr/>
        </p:nvSpPr>
        <p:spPr>
          <a:xfrm>
            <a:off x="5686560" y="2741760"/>
            <a:ext cx="66600" cy="7538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21"/>
          <p:cNvSpPr/>
          <p:nvPr/>
        </p:nvSpPr>
        <p:spPr>
          <a:xfrm>
            <a:off x="5952960" y="2741760"/>
            <a:ext cx="66960" cy="7840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22"/>
          <p:cNvSpPr/>
          <p:nvPr/>
        </p:nvSpPr>
        <p:spPr>
          <a:xfrm>
            <a:off x="6019920" y="2741760"/>
            <a:ext cx="68040" cy="80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23"/>
          <p:cNvSpPr/>
          <p:nvPr/>
        </p:nvSpPr>
        <p:spPr>
          <a:xfrm>
            <a:off x="6620040" y="2741760"/>
            <a:ext cx="68040" cy="10569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4"/>
          <p:cNvSpPr/>
          <p:nvPr/>
        </p:nvSpPr>
        <p:spPr>
          <a:xfrm>
            <a:off x="6886440" y="2741760"/>
            <a:ext cx="66960" cy="11970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25"/>
          <p:cNvSpPr/>
          <p:nvPr/>
        </p:nvSpPr>
        <p:spPr>
          <a:xfrm>
            <a:off x="7021440" y="2741760"/>
            <a:ext cx="63720" cy="12078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26"/>
          <p:cNvSpPr/>
          <p:nvPr/>
        </p:nvSpPr>
        <p:spPr>
          <a:xfrm>
            <a:off x="7288200" y="2741760"/>
            <a:ext cx="63360" cy="13921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27"/>
          <p:cNvSpPr/>
          <p:nvPr/>
        </p:nvSpPr>
        <p:spPr>
          <a:xfrm>
            <a:off x="7418520" y="2741760"/>
            <a:ext cx="68040" cy="14889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8"/>
          <p:cNvSpPr/>
          <p:nvPr/>
        </p:nvSpPr>
        <p:spPr>
          <a:xfrm>
            <a:off x="7621560" y="2741760"/>
            <a:ext cx="63360" cy="15937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9"/>
          <p:cNvSpPr/>
          <p:nvPr/>
        </p:nvSpPr>
        <p:spPr>
          <a:xfrm>
            <a:off x="7756560" y="2741760"/>
            <a:ext cx="76320" cy="20397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3"/>
          <p:cNvSpPr/>
          <p:nvPr/>
        </p:nvSpPr>
        <p:spPr>
          <a:xfrm>
            <a:off x="5753160" y="2741760"/>
            <a:ext cx="65160" cy="772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34"/>
          <p:cNvSpPr/>
          <p:nvPr/>
        </p:nvSpPr>
        <p:spPr>
          <a:xfrm>
            <a:off x="5818320" y="2741760"/>
            <a:ext cx="66600" cy="776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35"/>
          <p:cNvSpPr/>
          <p:nvPr/>
        </p:nvSpPr>
        <p:spPr>
          <a:xfrm>
            <a:off x="2889360" y="2741760"/>
            <a:ext cx="66600" cy="792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6"/>
          <p:cNvSpPr/>
          <p:nvPr/>
        </p:nvSpPr>
        <p:spPr>
          <a:xfrm>
            <a:off x="3021120" y="2741760"/>
            <a:ext cx="66600" cy="93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48"/>
          <p:cNvSpPr/>
          <p:nvPr/>
        </p:nvSpPr>
        <p:spPr>
          <a:xfrm>
            <a:off x="1620720" y="1755720"/>
            <a:ext cx="63720" cy="986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9"/>
          <p:cNvSpPr/>
          <p:nvPr/>
        </p:nvSpPr>
        <p:spPr>
          <a:xfrm>
            <a:off x="1684440" y="2317680"/>
            <a:ext cx="68040" cy="424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0"/>
          <p:cNvSpPr/>
          <p:nvPr/>
        </p:nvSpPr>
        <p:spPr>
          <a:xfrm>
            <a:off x="1820880" y="2397240"/>
            <a:ext cx="66600" cy="344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1"/>
          <p:cNvSpPr/>
          <p:nvPr/>
        </p:nvSpPr>
        <p:spPr>
          <a:xfrm>
            <a:off x="2820960" y="2741760"/>
            <a:ext cx="68400" cy="6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2"/>
          <p:cNvSpPr/>
          <p:nvPr/>
        </p:nvSpPr>
        <p:spPr>
          <a:xfrm>
            <a:off x="3159000" y="2741760"/>
            <a:ext cx="66960" cy="131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3"/>
          <p:cNvSpPr/>
          <p:nvPr/>
        </p:nvSpPr>
        <p:spPr>
          <a:xfrm>
            <a:off x="3225960" y="2741760"/>
            <a:ext cx="68040" cy="131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6"/>
          <p:cNvSpPr/>
          <p:nvPr/>
        </p:nvSpPr>
        <p:spPr>
          <a:xfrm>
            <a:off x="3425760" y="2741760"/>
            <a:ext cx="66600" cy="228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7"/>
          <p:cNvSpPr/>
          <p:nvPr/>
        </p:nvSpPr>
        <p:spPr>
          <a:xfrm>
            <a:off x="3492360" y="2741760"/>
            <a:ext cx="68400" cy="24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9"/>
          <p:cNvSpPr/>
          <p:nvPr/>
        </p:nvSpPr>
        <p:spPr>
          <a:xfrm>
            <a:off x="3624120" y="2741760"/>
            <a:ext cx="66960" cy="258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1"/>
          <p:cNvSpPr/>
          <p:nvPr/>
        </p:nvSpPr>
        <p:spPr>
          <a:xfrm>
            <a:off x="3825720" y="2741760"/>
            <a:ext cx="68400" cy="293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2"/>
          <p:cNvSpPr/>
          <p:nvPr/>
        </p:nvSpPr>
        <p:spPr>
          <a:xfrm>
            <a:off x="3894120" y="2741760"/>
            <a:ext cx="63360" cy="29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3"/>
          <p:cNvSpPr/>
          <p:nvPr/>
        </p:nvSpPr>
        <p:spPr>
          <a:xfrm>
            <a:off x="4084560" y="2741760"/>
            <a:ext cx="68400" cy="363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4"/>
          <p:cNvSpPr/>
          <p:nvPr/>
        </p:nvSpPr>
        <p:spPr>
          <a:xfrm>
            <a:off x="4219560" y="2741760"/>
            <a:ext cx="63360" cy="40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75"/>
          <p:cNvSpPr/>
          <p:nvPr/>
        </p:nvSpPr>
        <p:spPr>
          <a:xfrm>
            <a:off x="4282920" y="2741760"/>
            <a:ext cx="68400" cy="409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6"/>
          <p:cNvSpPr/>
          <p:nvPr/>
        </p:nvSpPr>
        <p:spPr>
          <a:xfrm>
            <a:off x="4351320" y="2741760"/>
            <a:ext cx="66600" cy="423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7"/>
          <p:cNvSpPr/>
          <p:nvPr/>
        </p:nvSpPr>
        <p:spPr>
          <a:xfrm>
            <a:off x="4417920" y="2741760"/>
            <a:ext cx="68400" cy="434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8"/>
          <p:cNvSpPr/>
          <p:nvPr/>
        </p:nvSpPr>
        <p:spPr>
          <a:xfrm>
            <a:off x="4618080" y="2741760"/>
            <a:ext cx="66600" cy="476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9"/>
          <p:cNvSpPr/>
          <p:nvPr/>
        </p:nvSpPr>
        <p:spPr>
          <a:xfrm>
            <a:off x="4684680" y="2741760"/>
            <a:ext cx="68400" cy="476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0"/>
          <p:cNvSpPr/>
          <p:nvPr/>
        </p:nvSpPr>
        <p:spPr>
          <a:xfrm>
            <a:off x="4753080" y="2741760"/>
            <a:ext cx="66600" cy="487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81"/>
          <p:cNvSpPr/>
          <p:nvPr/>
        </p:nvSpPr>
        <p:spPr>
          <a:xfrm>
            <a:off x="4819680" y="2741760"/>
            <a:ext cx="63360" cy="49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2"/>
          <p:cNvSpPr/>
          <p:nvPr/>
        </p:nvSpPr>
        <p:spPr>
          <a:xfrm>
            <a:off x="4883040" y="2741760"/>
            <a:ext cx="68400" cy="498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83"/>
          <p:cNvSpPr/>
          <p:nvPr/>
        </p:nvSpPr>
        <p:spPr>
          <a:xfrm>
            <a:off x="5018040" y="2741760"/>
            <a:ext cx="68400" cy="514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84"/>
          <p:cNvSpPr/>
          <p:nvPr/>
        </p:nvSpPr>
        <p:spPr>
          <a:xfrm>
            <a:off x="5153040" y="2741760"/>
            <a:ext cx="65160" cy="577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85"/>
          <p:cNvSpPr/>
          <p:nvPr/>
        </p:nvSpPr>
        <p:spPr>
          <a:xfrm>
            <a:off x="5353200" y="2741760"/>
            <a:ext cx="66600" cy="588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86"/>
          <p:cNvSpPr/>
          <p:nvPr/>
        </p:nvSpPr>
        <p:spPr>
          <a:xfrm>
            <a:off x="5551560" y="2741760"/>
            <a:ext cx="66600" cy="704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87"/>
          <p:cNvSpPr/>
          <p:nvPr/>
        </p:nvSpPr>
        <p:spPr>
          <a:xfrm>
            <a:off x="5618160" y="2741760"/>
            <a:ext cx="68400" cy="715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88"/>
          <p:cNvSpPr/>
          <p:nvPr/>
        </p:nvSpPr>
        <p:spPr>
          <a:xfrm>
            <a:off x="5884920" y="2741760"/>
            <a:ext cx="68040" cy="780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9"/>
          <p:cNvSpPr/>
          <p:nvPr/>
        </p:nvSpPr>
        <p:spPr>
          <a:xfrm>
            <a:off x="6087960" y="2741760"/>
            <a:ext cx="6372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90"/>
          <p:cNvSpPr/>
          <p:nvPr/>
        </p:nvSpPr>
        <p:spPr>
          <a:xfrm>
            <a:off x="6151680" y="2741760"/>
            <a:ext cx="66600" cy="85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91"/>
          <p:cNvSpPr/>
          <p:nvPr/>
        </p:nvSpPr>
        <p:spPr>
          <a:xfrm>
            <a:off x="6218280" y="2741760"/>
            <a:ext cx="68400" cy="863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2"/>
          <p:cNvSpPr/>
          <p:nvPr/>
        </p:nvSpPr>
        <p:spPr>
          <a:xfrm>
            <a:off x="6286680" y="2741760"/>
            <a:ext cx="66600" cy="880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93"/>
          <p:cNvSpPr/>
          <p:nvPr/>
        </p:nvSpPr>
        <p:spPr>
          <a:xfrm>
            <a:off x="6353280" y="2741760"/>
            <a:ext cx="65160" cy="88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4"/>
          <p:cNvSpPr/>
          <p:nvPr/>
        </p:nvSpPr>
        <p:spPr>
          <a:xfrm>
            <a:off x="6418440" y="2741760"/>
            <a:ext cx="66600" cy="896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95"/>
          <p:cNvSpPr/>
          <p:nvPr/>
        </p:nvSpPr>
        <p:spPr>
          <a:xfrm>
            <a:off x="6485040" y="2741760"/>
            <a:ext cx="68040" cy="938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6"/>
          <p:cNvSpPr/>
          <p:nvPr/>
        </p:nvSpPr>
        <p:spPr>
          <a:xfrm>
            <a:off x="6553080" y="2741760"/>
            <a:ext cx="66960" cy="98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97"/>
          <p:cNvSpPr/>
          <p:nvPr/>
        </p:nvSpPr>
        <p:spPr>
          <a:xfrm>
            <a:off x="6688080" y="2741760"/>
            <a:ext cx="63720" cy="1174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98"/>
          <p:cNvSpPr/>
          <p:nvPr/>
        </p:nvSpPr>
        <p:spPr>
          <a:xfrm>
            <a:off x="6751800" y="2741760"/>
            <a:ext cx="66600" cy="1185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9"/>
          <p:cNvSpPr/>
          <p:nvPr/>
        </p:nvSpPr>
        <p:spPr>
          <a:xfrm>
            <a:off x="6818400" y="2741760"/>
            <a:ext cx="68040" cy="1191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0"/>
          <p:cNvSpPr/>
          <p:nvPr/>
        </p:nvSpPr>
        <p:spPr>
          <a:xfrm>
            <a:off x="6953400" y="2741760"/>
            <a:ext cx="68040" cy="119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01"/>
          <p:cNvSpPr/>
          <p:nvPr/>
        </p:nvSpPr>
        <p:spPr>
          <a:xfrm>
            <a:off x="7085160" y="2741760"/>
            <a:ext cx="68040" cy="128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2"/>
          <p:cNvSpPr/>
          <p:nvPr/>
        </p:nvSpPr>
        <p:spPr>
          <a:xfrm>
            <a:off x="7153200" y="2741760"/>
            <a:ext cx="66600" cy="1293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3"/>
          <p:cNvSpPr/>
          <p:nvPr/>
        </p:nvSpPr>
        <p:spPr>
          <a:xfrm>
            <a:off x="7219800" y="2741760"/>
            <a:ext cx="68400" cy="1328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04"/>
          <p:cNvSpPr/>
          <p:nvPr/>
        </p:nvSpPr>
        <p:spPr>
          <a:xfrm>
            <a:off x="7486560" y="2741760"/>
            <a:ext cx="66600" cy="152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5"/>
          <p:cNvSpPr/>
          <p:nvPr/>
        </p:nvSpPr>
        <p:spPr>
          <a:xfrm>
            <a:off x="7553160" y="2741760"/>
            <a:ext cx="684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06"/>
          <p:cNvSpPr/>
          <p:nvPr/>
        </p:nvSpPr>
        <p:spPr>
          <a:xfrm>
            <a:off x="7684920" y="2741760"/>
            <a:ext cx="76320" cy="171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7"/>
          <p:cNvSpPr/>
          <p:nvPr/>
        </p:nvSpPr>
        <p:spPr>
          <a:xfrm>
            <a:off x="7910640" y="2741760"/>
            <a:ext cx="79200" cy="2198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37"/>
          <p:cNvSpPr/>
          <p:nvPr/>
        </p:nvSpPr>
        <p:spPr>
          <a:xfrm>
            <a:off x="2284560" y="2693880"/>
            <a:ext cx="68040" cy="47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38"/>
          <p:cNvSpPr/>
          <p:nvPr/>
        </p:nvSpPr>
        <p:spPr>
          <a:xfrm>
            <a:off x="1512720" y="2741760"/>
            <a:ext cx="684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87"/>
          <p:cNvSpPr/>
          <p:nvPr/>
        </p:nvSpPr>
        <p:spPr>
          <a:xfrm>
            <a:off x="880560" y="1484280"/>
            <a:ext cx="57708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88"/>
          <p:cNvSpPr/>
          <p:nvPr/>
        </p:nvSpPr>
        <p:spPr>
          <a:xfrm>
            <a:off x="1446120" y="5137200"/>
            <a:ext cx="726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2680"/>
                <a:tab algn="ctr" pos="714240"/>
                <a:tab algn="ctr" pos="1052640"/>
                <a:tab algn="ctr" pos="1384200"/>
                <a:tab algn="ctr" pos="1722600"/>
                <a:tab algn="ctr" pos="2054160"/>
                <a:tab algn="ctr" pos="2392200"/>
                <a:tab algn="ctr" pos="2724120"/>
                <a:tab algn="ctr" pos="3056040"/>
                <a:tab algn="ctr" pos="3394080"/>
                <a:tab algn="ctr" pos="3726000"/>
                <a:tab algn="ctr" pos="4064040"/>
                <a:tab algn="ctr" pos="4397400"/>
                <a:tab algn="ctr" pos="4729320"/>
                <a:tab algn="ctr" pos="5067360"/>
                <a:tab algn="ctr" pos="5411880"/>
                <a:tab algn="ctr" pos="5737320"/>
                <a:tab algn="ctr" pos="6075360"/>
                <a:tab algn="ctr" pos="6407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2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2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3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3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4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4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5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5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6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6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7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7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8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8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89"/>
          <p:cNvSpPr/>
          <p:nvPr/>
        </p:nvSpPr>
        <p:spPr>
          <a:xfrm>
            <a:off x="8039520" y="5137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382680"/>
                <a:tab algn="ctr" pos="714240"/>
                <a:tab algn="ctr" pos="1052640"/>
                <a:tab algn="ctr" pos="1384200"/>
                <a:tab algn="ctr" pos="1722600"/>
                <a:tab algn="ctr" pos="2054160"/>
                <a:tab algn="ctr" pos="2392200"/>
                <a:tab algn="ctr" pos="2724120"/>
                <a:tab algn="ctr" pos="3056040"/>
                <a:tab algn="ctr" pos="3394080"/>
                <a:tab algn="ctr" pos="3726000"/>
                <a:tab algn="ctr" pos="4064040"/>
                <a:tab algn="ctr" pos="4397400"/>
                <a:tab algn="ctr" pos="4729320"/>
                <a:tab algn="ctr" pos="5067360"/>
                <a:tab algn="ctr" pos="5411880"/>
                <a:tab algn="ctr" pos="5737320"/>
                <a:tab algn="ctr" pos="6075360"/>
                <a:tab algn="ctr" pos="6407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90"/>
          <p:cNvSpPr/>
          <p:nvPr/>
        </p:nvSpPr>
        <p:spPr>
          <a:xfrm>
            <a:off x="2901240" y="5381640"/>
            <a:ext cx="405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Patient index sorted by maximum % de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91"/>
          <p:cNvSpPr/>
          <p:nvPr/>
        </p:nvSpPr>
        <p:spPr>
          <a:xfrm rot="16200000">
            <a:off x="-726480" y="3098880"/>
            <a:ext cx="287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Maximum percentage decreas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from baseline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2"/>
          <p:cNvSpPr/>
          <p:nvPr/>
        </p:nvSpPr>
        <p:spPr>
          <a:xfrm>
            <a:off x="2234520" y="170496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T790M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293"/>
          <p:cNvSpPr/>
          <p:nvPr/>
        </p:nvSpPr>
        <p:spPr>
          <a:xfrm>
            <a:off x="3443400" y="170496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T790M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94"/>
          <p:cNvSpPr/>
          <p:nvPr/>
        </p:nvSpPr>
        <p:spPr>
          <a:xfrm>
            <a:off x="4614480" y="170496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EGFR w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95"/>
          <p:cNvSpPr/>
          <p:nvPr/>
        </p:nvSpPr>
        <p:spPr>
          <a:xfrm>
            <a:off x="6058080" y="1704960"/>
            <a:ext cx="246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Uninformative for T79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96"/>
          <p:cNvSpPr/>
          <p:nvPr/>
        </p:nvSpPr>
        <p:spPr>
          <a:xfrm>
            <a:off x="2138400" y="1785960"/>
            <a:ext cx="142920" cy="142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97"/>
          <p:cNvSpPr/>
          <p:nvPr/>
        </p:nvSpPr>
        <p:spPr>
          <a:xfrm>
            <a:off x="3352680" y="1785960"/>
            <a:ext cx="142920" cy="142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98"/>
          <p:cNvSpPr/>
          <p:nvPr/>
        </p:nvSpPr>
        <p:spPr>
          <a:xfrm>
            <a:off x="4513320" y="1785960"/>
            <a:ext cx="142920" cy="142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9"/>
          <p:cNvSpPr/>
          <p:nvPr/>
        </p:nvSpPr>
        <p:spPr>
          <a:xfrm>
            <a:off x="5961240" y="1785960"/>
            <a:ext cx="14256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46"/>
          <p:cNvSpPr/>
          <p:nvPr/>
        </p:nvSpPr>
        <p:spPr>
          <a:xfrm>
            <a:off x="1512720" y="3357720"/>
            <a:ext cx="684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046920"/>
            <a:ext cx="86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914400" y="1486080"/>
          <a:ext cx="7162920" cy="3489120"/>
        </p:xfrm>
        <a:graphic>
          <a:graphicData uri="http://schemas.openxmlformats.org/drawingml/2006/table">
            <a:tbl>
              <a:tblPr/>
              <a:tblGrid>
                <a:gridCol w="2387520"/>
                <a:gridCol w="2387520"/>
                <a:gridCol w="2387880"/>
              </a:tblGrid>
              <a:tr h="421920">
                <a:tc>
                  <a:txBody>
                    <a:bodyPr lIns="90000" rIns="90000" anchor="b">
                      <a:noAutofit/>
                    </a:bodyPr>
                    <a:p>
                      <a:pPr marL="1144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s 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8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ash/ac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8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8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Xer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tomat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8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ail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914400" y="5029200"/>
            <a:ext cx="693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reatment discontinuation due to: disease progression (n = 63); adverse events (n = 19); other reasons (n =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42800" y="1172880"/>
            <a:ext cx="810432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se data demonstrated a confirmed response rate of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30% in patients with heavily pretreated T790M-positiv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nd nega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5% of the patients experienced partial response/stabl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isease with a median duration of response of 8 month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are ongoing efforts to elucidate the mechanisms underlying tumor regression and eventual diseas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rogression on combination therapy with afatinib and cetuximab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mbination therapy with afatinib and cetuximab should undergo further evaluat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Janjigian YY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ESMO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Abstract 1227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6-11T14:16:39Z</cp:lastPrinted>
  <dcterms:modified xsi:type="dcterms:W3CDTF">2013-07-22T18:59:39Z</dcterms:modified>
  <cp:revision>634</cp:revision>
  <dc:subject/>
  <dc:title>Research To Practice</dc:title>
</cp:coreProperties>
</file>