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7.png" ContentType="image/png"/>
  <Override PartName="/ppt/media/image37.png" ContentType="image/png"/>
  <Override PartName="/ppt/media/image28.png" ContentType="image/png"/>
  <Override PartName="/ppt/media/image30.png" ContentType="image/png"/>
  <Override PartName="/ppt/media/image9.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5.png" ContentType="image/png"/>
  <Override PartName="/ppt/media/image35.png" ContentType="image/png"/>
  <Override PartName="/ppt/media/image8.jpeg" ContentType="image/jpeg"/>
  <Override PartName="/ppt/media/image38.png" ContentType="image/pn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 id="280" r:id="rId75"/>
    <p:sldId id="281"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slide" Target="slides/slide25.xml"/><Relationship Id="rId76" Type="http://schemas.openxmlformats.org/officeDocument/2006/relationships/slide" Target="slides/slide26.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0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0" name="PlaceHolder 2"/>
          <p:cNvSpPr>
            <a:spLocks noGrp="1"/>
          </p:cNvSpPr>
          <p:nvPr>
            <p:ph type="dt" idx="1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33" name="PlaceHolder 5"/>
          <p:cNvSpPr>
            <a:spLocks noGrp="1"/>
          </p:cNvSpPr>
          <p:nvPr>
            <p:ph type="ftr" idx="1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4" name="PlaceHolder 6"/>
          <p:cNvSpPr>
            <a:spLocks noGrp="1"/>
          </p:cNvSpPr>
          <p:nvPr>
            <p:ph type="sldNum" idx="1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F383-4AC8-4A19-83C7-EB5AE0DB5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3" name="PlaceHolder 1"/>
          <p:cNvSpPr>
            <a:spLocks noGrp="1"/>
          </p:cNvSpPr>
          <p:nvPr>
            <p:ph type="sldImg"/>
          </p:nvPr>
        </p:nvSpPr>
        <p:spPr>
          <a:xfrm>
            <a:off x="1143000" y="685800"/>
            <a:ext cx="4572000" cy="3429000"/>
          </a:xfrm>
          <a:prstGeom prst="rect">
            <a:avLst/>
          </a:prstGeom>
          <a:ln w="0">
            <a:noFill/>
          </a:ln>
        </p:spPr>
      </p:sp>
      <p:sp>
        <p:nvSpPr>
          <p:cNvPr id="2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7C63-B9CB-4F1E-A11F-B1FB28FAF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PlaceHolder 1"/>
          <p:cNvSpPr>
            <a:spLocks noGrp="1"/>
          </p:cNvSpPr>
          <p:nvPr>
            <p:ph type="sldImg"/>
          </p:nvPr>
        </p:nvSpPr>
        <p:spPr>
          <a:xfrm>
            <a:off x="1143000" y="685800"/>
            <a:ext cx="4572000" cy="3429000"/>
          </a:xfrm>
          <a:prstGeom prst="rect">
            <a:avLst/>
          </a:prstGeom>
          <a:ln w="0">
            <a:noFill/>
          </a:ln>
        </p:spPr>
      </p:sp>
      <p:sp>
        <p:nvSpPr>
          <p:cNvPr id="2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7806-A78F-4104-A79D-0590A5B6C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143000" y="685800"/>
            <a:ext cx="4572000" cy="3429000"/>
          </a:xfrm>
          <a:prstGeom prst="rect">
            <a:avLst/>
          </a:prstGeom>
          <a:ln w="0">
            <a:noFill/>
          </a:ln>
        </p:spPr>
      </p:sp>
      <p:sp>
        <p:nvSpPr>
          <p:cNvPr id="2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46DB-870D-4C3C-A5DD-268C0CD83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3" name="PlaceHolder 1"/>
          <p:cNvSpPr>
            <a:spLocks noGrp="1"/>
          </p:cNvSpPr>
          <p:nvPr>
            <p:ph type="sldImg"/>
          </p:nvPr>
        </p:nvSpPr>
        <p:spPr>
          <a:xfrm>
            <a:off x="1143000" y="685800"/>
            <a:ext cx="4572000" cy="3429000"/>
          </a:xfrm>
          <a:prstGeom prst="rect">
            <a:avLst/>
          </a:prstGeom>
          <a:ln w="0">
            <a:noFill/>
          </a:ln>
        </p:spPr>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632D-7A7B-41F5-AC3B-A003083B7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143000" y="685800"/>
            <a:ext cx="4572000" cy="3429000"/>
          </a:xfrm>
          <a:prstGeom prst="rect">
            <a:avLst/>
          </a:prstGeom>
          <a:ln w="0">
            <a:noFill/>
          </a:ln>
        </p:spPr>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2A2B-9754-4390-AE64-611A7AB93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sldImg"/>
          </p:nvPr>
        </p:nvSpPr>
        <p:spPr>
          <a:xfrm>
            <a:off x="1143000" y="685800"/>
            <a:ext cx="4572000" cy="3429000"/>
          </a:xfrm>
          <a:prstGeom prst="rect">
            <a:avLst/>
          </a:prstGeom>
          <a:ln w="0">
            <a:noFill/>
          </a:ln>
        </p:spPr>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D1BD-32B1-4E74-9575-C0D5C1923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1"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143000" y="685800"/>
            <a:ext cx="4572000" cy="3429000"/>
          </a:xfrm>
          <a:prstGeom prst="rect">
            <a:avLst/>
          </a:prstGeom>
          <a:ln w="0">
            <a:noFill/>
          </a:ln>
        </p:spPr>
      </p:sp>
      <p:sp>
        <p:nvSpPr>
          <p:cNvPr id="2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5259-BBD0-4724-ABEE-9AA3DD854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sldImg"/>
          </p:nvPr>
        </p:nvSpPr>
        <p:spPr>
          <a:xfrm>
            <a:off x="1143000" y="685800"/>
            <a:ext cx="4572000" cy="3429000"/>
          </a:xfrm>
          <a:prstGeom prst="rect">
            <a:avLst/>
          </a:prstGeom>
          <a:ln w="0">
            <a:noFill/>
          </a:ln>
        </p:spPr>
      </p:sp>
      <p:sp>
        <p:nvSpPr>
          <p:cNvPr id="2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D38D-20DF-487F-86EF-709363278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143000" y="685800"/>
            <a:ext cx="4572000" cy="3429000"/>
          </a:xfrm>
          <a:prstGeom prst="rect">
            <a:avLst/>
          </a:prstGeom>
          <a:ln w="0">
            <a:noFill/>
          </a:ln>
        </p:spPr>
      </p:sp>
      <p:sp>
        <p:nvSpPr>
          <p:cNvPr id="2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FE95-8C58-4317-A49F-A2C404549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sldImg"/>
          </p:nvPr>
        </p:nvSpPr>
        <p:spPr>
          <a:xfrm>
            <a:off x="1143000" y="685800"/>
            <a:ext cx="4572000" cy="3429000"/>
          </a:xfrm>
          <a:prstGeom prst="rect">
            <a:avLst/>
          </a:prstGeom>
          <a:ln w="0">
            <a:noFill/>
          </a:ln>
        </p:spPr>
      </p:sp>
      <p:sp>
        <p:nvSpPr>
          <p:cNvPr id="2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97B7-A54C-4835-83B2-32000BBAF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sldImg"/>
          </p:nvPr>
        </p:nvSpPr>
        <p:spPr>
          <a:xfrm>
            <a:off x="1143000" y="685800"/>
            <a:ext cx="4572000" cy="3429000"/>
          </a:xfrm>
          <a:prstGeom prst="rect">
            <a:avLst/>
          </a:prstGeom>
          <a:ln w="0">
            <a:noFill/>
          </a:ln>
        </p:spPr>
      </p:sp>
      <p:sp>
        <p:nvSpPr>
          <p:cNvPr id="2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64B0-86FA-4336-8E44-42F5E1E2E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143000" y="685800"/>
            <a:ext cx="4572000" cy="3429000"/>
          </a:xfrm>
          <a:prstGeom prst="rect">
            <a:avLst/>
          </a:prstGeom>
          <a:ln w="0">
            <a:noFill/>
          </a:ln>
        </p:spPr>
      </p:sp>
      <p:sp>
        <p:nvSpPr>
          <p:cNvPr id="2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E3A2-D57C-4306-B103-62EC289A5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7" name="PlaceHolder 1"/>
          <p:cNvSpPr>
            <a:spLocks noGrp="1"/>
          </p:cNvSpPr>
          <p:nvPr>
            <p:ph type="sldImg"/>
          </p:nvPr>
        </p:nvSpPr>
        <p:spPr>
          <a:xfrm>
            <a:off x="1143000" y="685800"/>
            <a:ext cx="4572000" cy="3429000"/>
          </a:xfrm>
          <a:prstGeom prst="rect">
            <a:avLst/>
          </a:prstGeom>
          <a:ln w="0">
            <a:noFill/>
          </a:ln>
        </p:spPr>
      </p:sp>
      <p:sp>
        <p:nvSpPr>
          <p:cNvPr id="2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1BA3-7860-4C7D-8A3C-CF1EA2373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143000" y="685800"/>
            <a:ext cx="4572000" cy="3429000"/>
          </a:xfrm>
          <a:prstGeom prst="rect">
            <a:avLst/>
          </a:prstGeom>
          <a:ln w="0">
            <a:noFill/>
          </a:ln>
        </p:spPr>
      </p:sp>
      <p:sp>
        <p:nvSpPr>
          <p:cNvPr id="2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286E-2F15-44AF-A657-83BFFFD5D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3" name="PlaceHolder 1"/>
          <p:cNvSpPr>
            <a:spLocks noGrp="1"/>
          </p:cNvSpPr>
          <p:nvPr>
            <p:ph type="sldImg"/>
          </p:nvPr>
        </p:nvSpPr>
        <p:spPr>
          <a:xfrm>
            <a:off x="1143000" y="685800"/>
            <a:ext cx="4572000" cy="3429000"/>
          </a:xfrm>
          <a:prstGeom prst="rect">
            <a:avLst/>
          </a:prstGeom>
          <a:ln w="0">
            <a:noFill/>
          </a:ln>
        </p:spPr>
      </p:sp>
      <p:sp>
        <p:nvSpPr>
          <p:cNvPr id="2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3A0B-CD1F-4C33-B452-ECF467011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143000" y="685800"/>
            <a:ext cx="4572000" cy="3429000"/>
          </a:xfrm>
          <a:prstGeom prst="rect">
            <a:avLst/>
          </a:prstGeom>
          <a:ln w="0">
            <a:noFill/>
          </a:ln>
        </p:spPr>
      </p:sp>
      <p:sp>
        <p:nvSpPr>
          <p:cNvPr id="2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73C7-259A-4D72-91F1-583A50BD5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1143000" y="685800"/>
            <a:ext cx="4572000" cy="3429000"/>
          </a:xfrm>
          <a:prstGeom prst="rect">
            <a:avLst/>
          </a:prstGeom>
          <a:ln w="0">
            <a:noFill/>
          </a:ln>
        </p:spPr>
      </p:sp>
      <p:sp>
        <p:nvSpPr>
          <p:cNvPr id="2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2D19-3813-46A9-A152-08AB57B62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PlaceHolder 1"/>
          <p:cNvSpPr>
            <a:spLocks noGrp="1"/>
          </p:cNvSpPr>
          <p:nvPr>
            <p:ph type="sldImg"/>
          </p:nvPr>
        </p:nvSpPr>
        <p:spPr>
          <a:xfrm>
            <a:off x="1143000" y="685800"/>
            <a:ext cx="4572000" cy="3429000"/>
          </a:xfrm>
          <a:prstGeom prst="rect">
            <a:avLst/>
          </a:prstGeom>
          <a:ln w="0">
            <a:noFill/>
          </a:ln>
        </p:spPr>
      </p:sp>
      <p:sp>
        <p:nvSpPr>
          <p:cNvPr id="2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7DB5-B4A0-46CB-81BF-2F3DDDEF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143000" y="685800"/>
            <a:ext cx="4572000" cy="3429000"/>
          </a:xfrm>
          <a:prstGeom prst="rect">
            <a:avLst/>
          </a:prstGeom>
          <a:ln w="0">
            <a:noFill/>
          </a:ln>
        </p:spPr>
      </p:sp>
      <p:sp>
        <p:nvSpPr>
          <p:cNvPr id="2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5162-75D0-49DD-BF14-35D5ADBC5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PlaceHolder 1"/>
          <p:cNvSpPr>
            <a:spLocks noGrp="1"/>
          </p:cNvSpPr>
          <p:nvPr>
            <p:ph type="sldImg"/>
          </p:nvPr>
        </p:nvSpPr>
        <p:spPr>
          <a:xfrm>
            <a:off x="1143000" y="685800"/>
            <a:ext cx="4572000" cy="3429000"/>
          </a:xfrm>
          <a:prstGeom prst="rect">
            <a:avLst/>
          </a:prstGeom>
          <a:ln w="0">
            <a:noFill/>
          </a:ln>
        </p:spPr>
      </p:sp>
      <p:sp>
        <p:nvSpPr>
          <p:cNvPr id="2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B457-4602-4572-A27E-58FBCE4AE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143000" y="685800"/>
            <a:ext cx="4572000" cy="3429000"/>
          </a:xfrm>
          <a:prstGeom prst="rect">
            <a:avLst/>
          </a:prstGeom>
          <a:ln w="0">
            <a:noFill/>
          </a:ln>
        </p:spPr>
      </p:sp>
      <p:sp>
        <p:nvSpPr>
          <p:cNvPr id="2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ACFA-BF86-46F8-9B30-1EB83757C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sldImg"/>
          </p:nvPr>
        </p:nvSpPr>
        <p:spPr>
          <a:xfrm>
            <a:off x="1143000" y="685800"/>
            <a:ext cx="4572000" cy="3429000"/>
          </a:xfrm>
          <a:prstGeom prst="rect">
            <a:avLst/>
          </a:prstGeom>
          <a:ln w="0">
            <a:noFill/>
          </a:ln>
        </p:spPr>
      </p:sp>
      <p:sp>
        <p:nvSpPr>
          <p:cNvPr id="2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6F90-91CF-41C3-9DCC-584176A5D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143000" y="685800"/>
            <a:ext cx="4572000" cy="3429000"/>
          </a:xfrm>
          <a:prstGeom prst="rect">
            <a:avLst/>
          </a:prstGeom>
          <a:ln w="0">
            <a:noFill/>
          </a:ln>
        </p:spPr>
      </p:sp>
      <p:sp>
        <p:nvSpPr>
          <p:cNvPr id="2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8CB6-CCD0-4F26-A861-7D18A1A0B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60E46-4DCE-4DD5-9E04-0349D564B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F511-8018-40F0-A8E6-9636559F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BFFC18-ABA8-46F2-BBF3-0B65E0FBF0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EB258-733F-4729-BF6C-C66F10A48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5F3765-4F69-47C4-9A91-44F237403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0103B-72CC-4595-995D-880206513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FF73E-5592-4C59-9CBB-B1308595B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555A35-2BCD-4F42-A39B-FA7F4EDCA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FE787-9A8D-46EA-91C4-9D82A6DA4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011D7-90EF-497D-BF6E-78A0200E6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6CA47-EBC4-4AA4-88EA-603D960B6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AA3A6-C834-4582-83D3-610E7D3E6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EBC946-DC08-47CC-9CD6-BE1741289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12292-6E29-4D4B-B22E-78005B071D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C4AF3-64EA-4E30-BA55-A13578980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B2A86B-9989-44BD-A557-869D457EF9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27778C-67E4-43A8-8BA9-2A013411B4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F2B28-A78A-4F91-8FCC-0CCB574C1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C8957-A866-4EB0-9616-495524DC94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A6C8B-FFD0-465F-A7AF-ECE1508DB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2CF01A-71A7-4F76-9C37-665DB3572A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6DA2F-C1D5-4F70-9C8D-99A30D88C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A7209-2ECD-4AE1-BEEF-A458D84DBB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526BD-FFA7-4F52-A435-4A77B8E5E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405898-6494-442B-B559-7CF9B6E4A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46F1B-456C-48DE-8D28-25277FFBF9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40A2E-18C4-4BCB-B7D3-3257FD609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814C2-ABF1-49F2-AB32-FB8C71235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5565E7-6A11-4CCF-9995-7F8209F0E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E3045B-7629-4BA0-8B03-AFC430C7D0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1B8C2E-929E-4189-A798-CA18438677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30772B-BD63-499E-8851-0A7D8D5AAF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2986A-BECB-4661-ADF9-B6BE08B92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A7DCE-B562-4AE7-B711-F37A1644D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0A058B-DF48-4FCD-B925-A798B825A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258F9-F25B-4826-A07C-B385C06F8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470E3-9CE2-4CC2-96AE-755E54FEB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EF8A2-7CAC-425F-A57F-5241DFE8D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C4CDE7-F407-446E-8F94-7D44FD7B7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C6E542-ABCA-4171-8A0B-31F2F2C823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D5A13-C0D9-4D29-A34B-EDEAFC4A5A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AE639B-E001-436A-9AD5-A722E1CB2E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105DC2-7208-4EEB-BDE4-5AD656C17C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7A764D-A1C4-4412-B103-C772A47C2C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7D84E-D4DE-48AD-B36B-E1190D03AC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C9CE96-2ECE-4D2D-8726-41EF2B9CF4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4C7CCF-5F03-46FD-B3B5-8901A508E1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86DC1-D424-4DA3-969D-970D37C93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86A45-6906-41F2-ACFE-E380B4F91C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BFF41-11C4-41A8-A5C4-A82B902C6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54F84C-AD34-4672-AA2A-4C582FA0B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03AF6-6191-4A65-B8BE-39F606A98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E6AEBF-0F9F-4B49-B84A-EEE236A0C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B63ADA-1BD2-4500-9FF7-8374EF71AF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60109-1AEB-452C-A4F3-6EB27FCA8E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707050-7833-4ED1-B7CC-EE61016A52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FFEC45-F4EF-42DD-A9F0-ACDF2DD08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BA396-9D95-4278-97D6-10AEE810F6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6945-B2BA-491D-BE5D-AA1131D19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DAE31F-905B-44A7-A8CB-B5EF41F2F0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9353E0-9C74-4D20-9C1B-8333DBFBB4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284AD0-9D34-4462-9AEE-15AEEC4ADE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04F1B8-9B4E-490E-A531-EE878420CE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B63DD1-ED66-4C1B-A2F1-3FAFB32F70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55B9AF-1AB6-4411-85BB-F1D6C421BC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62E2F6-EDE5-4E85-B3F5-42DB263D84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6582E9-EDB7-4F33-8B65-50D3FF4C4E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252C2B-AA0E-4415-B121-2D33FEC240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74E7DD-4C67-47D7-BEA2-7B34EAC52E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B1ABA-C6DD-4898-BCD4-9F3749F25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0455AF-5127-430A-95C5-B90238102B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4F4326-E419-4A76-8A19-FA67C61814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F2A66D-B922-4311-8219-08247FB1A0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5EDFC-3682-472A-8175-B3A756D958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7541BA-9725-4637-ACE9-64B8EB214D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2DD3F4-B2B0-4B2F-B649-A8CF1AF1BE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4F3162-B9C9-42E3-ACE1-C10CE4189F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08EF54-4C57-4EFC-B382-3CFC490953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E46F9E-E2F3-45B3-85E4-A7202FD00F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533995-4481-4FC4-AA19-C3623326FD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87E16-CE41-4617-A7BC-4115D4A4B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B07ED8-A4CC-4CA6-956F-093833CE542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477696-5FDC-446F-895D-9884C014F2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79B86D-BD61-4182-9DE2-25614A5079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740F72-7BE4-4690-85E1-C32ED8A20B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5BEE68-2A0C-4653-A10B-5FA5FF0F02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57A655-BA1A-419B-A4A0-1052B4654C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EE9F15-C498-4F81-9521-F64F8A41DE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0191B6-CBBF-481B-9714-591FAFE2D0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28846A-E83D-4FA8-961B-119BDB5A29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8EE474-0427-417F-A5DE-062E873A45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F4DB4-ACE2-4B54-9007-72FBFA8B9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489C12-AF82-450C-B140-90B25BA0BB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2A327F-A9D9-4FC9-A3CA-CF2C07D646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BA77BF-C750-4B7B-BEE4-503094819C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7BD618-8637-47DA-9976-B7426C65F4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913EEA-138B-4019-BF90-CD853DD581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5DE92F-DE3A-4A25-A349-BAD67D2769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A569C5-ADCA-47BE-B442-485D5732AF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E2B6BA-01AE-4F28-A0F6-9E7F359568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BCB99E-165D-4D85-A6FD-86656DF7D9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CA4A4F-4905-49DE-8AB4-3653A41300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9D10B-F462-4F15-A5D7-1E3AAFBF0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D6E09-4F45-4447-A8E6-D7054F2FB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71CE16-2F1F-4719-B546-C9A047B2DA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380DBC-BFFA-4F91-BF1F-5C5ED5246A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CA4A10-6B9F-4286-AC10-8FF8CED797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765705-8B65-4FE0-9BAA-1B89C53AF0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4CBCAB5-2552-4FA9-AE75-33EC562587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083AD8-3CCF-4847-B534-1118E348981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43BDAA-16AE-4796-BE5C-995822979E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05929B8-B589-442A-A1E1-8A1D94F398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D7E073-7D1F-4ED5-86C7-80419DC213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1FC8B8-6034-4CDF-8AC1-6C2595A135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842A-8B0D-428B-93CC-23A1EC2B8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7DADD1-C1F2-4240-889F-5427D39ADD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DDC72D-5652-46F5-90A8-ED25A42F33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68109A-B4AE-4E43-AD28-754F12C5B6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3F9F3EB-1CE5-4FC3-87DA-F2A8E6EECF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B90444-E97B-4537-9DB1-A3C6970BC8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673752-209F-4B30-A10F-39992B5F0FB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DA33526-7CE4-4A70-B0CA-A2B701E05F5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E2F8005-515F-451F-9DED-3942E4D6AC8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10D67E-B27A-4325-AD8B-1BFEB4054F7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1FB471-CC90-451A-BAA2-2538910F2A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30D7A-2247-4D03-9652-B5082F575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A7BE14-B4A7-4946-B5C8-10ECD882A8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7FD301-B1B1-4DF5-9775-4498C76556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56BB65-2638-49A8-8850-CD4C43ECCB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E7D114-D8C3-4A7E-B9E2-E463504238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9642C3-3153-4E78-A1C4-3DAFDF96B1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1A854D-1BC7-45F4-A614-CF298A10FB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23A5F3-01C1-470E-B1FE-E27B893BA2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132E06B-C01B-456C-ADC7-4DF8C42033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88101B6-4A5E-45DA-917A-A3B81A65A3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8AAA9D0-DB43-4493-8110-94533E30D94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5FA62-CDE0-43BF-848E-64B6DF6D3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9F2E9D-C56C-480C-B6CE-8D20B74FA5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388F018-5759-42C7-8CBF-C6F3F22BE1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4C547A-A87F-43AD-8B2C-3C6F523279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F68AEC-C2E5-4577-906C-9386163680F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343652-5E99-4A17-B329-1A352CF062C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E8996C-FAC5-41A6-86BB-E58FB7C892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15AA1B-09BF-40EE-AD55-2F785DEE21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D9DB72-2539-4756-A45B-3CC481B8A1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52805B-A57B-49D9-B357-C858C23391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98CDE37-6718-439E-A34C-420F574D95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02F2AA-3CDD-4624-970A-99568711A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9A98BD9-70F5-491B-AB54-6EE96E7EE7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C6132B3-EEFC-492F-AA6B-9CFF0A12BEE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0890F74-5DE3-4E72-89AE-DBFDC4BECB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13B2BE-74F9-4696-A192-8371FDF1F7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20F9B5-6528-4DD4-A5DC-24991CCCAD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983499-3351-4D27-A263-71BEC43403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84FCE1E-B627-47B5-8612-39A62D0C998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55EB39-F109-4241-BFB9-360B58DDD6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B0E2F6F-6089-409D-BD2A-AE663237B5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C42552-852C-4FE1-895A-CCC73279F98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D5C64-7F28-42C0-80A5-E71D1D9085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30426DA-5481-46AC-8589-BFA611499C5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14D37C-B368-4A08-B77A-5AF4D388E2E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8B43FD2-1EB6-4F1A-A54C-B968ABA9FC9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9AD9E05-5862-4559-93C3-228B22C7A4F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7596306-2F10-4FC9-BB17-BB5A814F954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E17AD1-3F5C-4930-8480-4883C2E2E8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967E5E6-9014-4A0E-8A17-A4128488D1B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CD37E6-4E30-4E83-948D-AA4D7CDE03A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EDAE25-AFAD-4A57-8E64-FEF25CE970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7C14E4-CF37-44CB-9E6F-A6BCB5B01E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4DB63-A317-422B-8608-640093846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4E32B0-EDAE-4EB2-8B77-0F9ADD58DD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761DD5-3B0E-4134-89A4-CFE56A534F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39DF2F-C8E2-414B-A675-1DC6C63B7B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E25D001-2BE6-4750-8BB6-89E3ECE19E4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50728F1-DDFA-432E-83E9-A58936726BC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BC8B0E0-3E67-4ACA-98DD-C7073817247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DEB2730-88BC-4525-A04E-FC0D8DCBBFD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8C85E7-9A40-44DC-8C4C-90095B6136F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B47EA8-2E64-4CA9-B990-8685E817CD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493815-2F98-4418-BE4D-B4E65773796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805FCE-80FB-4A67-B99B-4576CE63F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CD5E4A7-807B-410C-A9E5-062C945A71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0228DE-E648-4225-B2DB-17FC21CE799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DAEE58E-D3E3-41EA-BA44-87DAE8470B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AC7614-1938-4C39-9833-AEF5AE88A9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8A499E-9CA0-4525-A549-CB252DCB77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8F0383F-A84D-4A38-B644-49E107A380E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0FA5B2-87C7-450A-BF15-32CC43EC127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54B9A23-86B1-41CA-8959-BD1D0C8DF5A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8938AB-9596-4460-B7CD-E4578815DEF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15263C1-564E-4AB5-8762-2B279B5143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610A3-CA2A-414B-B655-4051119B3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6666E3-D602-48EB-B036-FE1869EA653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938C06-17A9-4F74-B52F-1C767157A0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FB2DB5D-0E77-4EC2-B22D-5FEE2F2D073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218415-EECD-4B72-9DAB-0D4B466299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406836-3320-4786-9FC5-33FA8C514F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809F3E-2666-4998-B4D4-29FDCFEA63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B09B2AE-B530-4344-83B1-C61251C7B5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1466B63-49AA-46C1-9E30-0808A0F1C7D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F082FA0-757A-4E55-AC6C-15F936B4AE8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F3C8D6C-3DF5-4EE5-B698-3ECA557A8E4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192B4-AD74-4837-91E3-0EABF9B99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B60BB19-892A-4311-8986-48A20C5FB3F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153275-0608-43EF-A441-30E0117629B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FF2EB24-1456-4293-9988-2627C901AB3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26405F-C2D4-4D56-AB5D-03EE9BDC0E5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56E300F-8021-4A5B-888B-95E9CC467AF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181D9E-C12D-4B5E-8048-24708BD375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51D937B-226F-44CE-A90E-842286AD1E6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4FB117-41B0-4F82-9016-77032C314DE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8DB3550-FAA8-4226-B2B9-58FC0046D3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D4D9E57-FF03-443B-91DC-3A17DF0CFCC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F01FB-450F-4D9D-AF48-2CDDDA0E4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DC4B3-7EF1-4D88-9FC1-C7D5CF232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F440B2C-3DA7-4811-AFDA-025DC0EA7A4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A602063-57DF-44EE-AB29-03B0733AF98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16F8DE2-43C1-4257-AD70-CE78ED4226F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8E1F185-337F-4077-8786-3E31601382E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31DC9C-9FEF-4D49-96A4-E096DE8C47B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613C6DD-60B4-49C5-9F75-F4C87AA6DBC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15A0713-5C9F-4CAB-B51D-08312B2035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6C7437B-6148-4C3A-98B3-69A29BE2904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E453D1D-F10F-4AF6-834D-3EB49A92C19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F283D5-62CD-43F8-BCC6-CD4D27FCC12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2EABA-9410-4B0F-AE7A-AD7D8B0C4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8471F99-20D9-4129-B38D-B325CAB23C3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8A3B104-0F89-4463-997D-FE819D5A691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2CE5F39-EEEA-465F-ACBE-98D789AAEE4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FFB9CD1-DB1A-4836-9AAD-F530DB05D4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CB95864-4870-4F3D-A11F-89688046404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BD9491-876A-46B9-B008-6A95A272B81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A06B109-E347-4309-B8E5-34FE4B5C175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FB4414B-35B6-471F-A5E2-3398AE47BC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ED0E12-2660-4A0C-B044-01CDD9DBA09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5BC67D-399F-4887-AE73-3D7C039F28E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E2BEC-21D2-4291-AD29-77EB9868C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BBE675F-D50D-43EB-BA08-003131F95D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6D09172-62A6-4A54-9A70-271A9537703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6D1E01-A08A-44B3-A78E-0267E7A84C7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7291AA6-B957-403C-8DE2-3FD60182DED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AA1E08B-EF14-4DCA-86AE-3B1CDB3D9CC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46F6160-DAA6-4241-A643-684FC129B49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63402F2-C955-42AE-9ABA-AC1683F254D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4D83545-2439-442C-A982-D448207E83B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CCB79D6-4AE2-43EC-9F10-AC7CE69E680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719BE13-0688-43E1-B148-4E9AFD517A8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A8DC4-3688-42FD-A332-937478B34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3F3CE22-043E-4340-833A-625EF4D421B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B900E7-3660-4EDD-9504-7CBD311DE19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98ECFA7-309E-4B9D-B218-F2E6C7A558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715B8A7-C5E2-48A8-BD76-9029AACA96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49D0FEC-3E66-4EFF-BD79-64F8B8CBFEB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F2E0512-A88A-4725-8A24-E55E21B1A89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5CF8B68-2C34-46D3-80A2-94F353F3A54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B5E2BDA-510E-45EF-B050-5D4A8489B72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3AD8BC-8DE2-4995-8880-8F7A6C34991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1AB352C-7738-4F1B-9339-81DEDECA320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F50F8-FD80-468F-AB66-7034B28120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26D157-ECC3-475A-BD4F-9882D52343B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1730FFB-FBA0-4683-8C76-B2022EA003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6B3A769-5E28-40EE-97CF-55C5D0C7861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6F63EE-97F7-42A8-AFBB-FEE7AEDA85C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CAD198-6C80-4354-AD2A-AA27657D00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C6BCEC-5D8C-40D2-B241-BDF50754E1C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2DE5134-9174-462B-8242-A638E322A74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5CD09C6-D106-4DC8-BCDB-4D7E60198DE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FC2AB36-234D-4E3C-88F0-5CF809F9307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3110A8F-6933-4C11-BE8F-60EAC014F94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20A829-7B6E-498A-A451-99ECA599B9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4E4D4C2-179B-4E07-8A2A-FC04B0326A6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88E5EAB-6588-4DCD-9884-7B76B192FC3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23EEBBA-F774-419D-BFD9-F847366EF65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687196A-9C17-4706-B395-D441108C13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A089F5E-51E2-41B7-A686-1DDF89A0C4B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D167295-055F-4CB4-822A-4A204337AC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3FA937-3EC5-4DE1-B743-A318B557383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628A429-5754-491D-819E-B41B2F36563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ABFA144-3DBC-4FFD-BA45-BE54CA0DAE0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DBB362B-9E71-4BB7-97C2-ACCADA1CB7E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38F54-5E15-479E-ACBF-B1AB1950A6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CD50B63-B3EE-4E10-BA9D-0FDF6E0FEA7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7E3B383-144A-4B7D-B9C5-3738D6E6143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273F3E7-C8CB-4827-A6D2-0858E54F03E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F58FF50-7914-4C4A-A0A3-F035037E23D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EC2A7EC-435E-4F29-8F18-CB113A64DEB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3638718-DA0B-4BC3-881C-CB62FC13182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30735D-FCFB-4C26-A059-391CE3B3C6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F6B93E-7946-4E33-8D7A-689EDD1733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61FF0AA-EF22-4C13-8C56-7545CEBA120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21A758B-DB19-459E-8C0B-5A02E4F0118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DADF7D0-1045-475D-A12A-79CC2FDAFE11}"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16AA528-D584-47E3-9BCA-649F6B4185D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B52B0DF-7CC9-45C2-8C10-B26E2EE48ED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5D64E25-25EA-47B7-8CBF-3F920BB39BF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ED4F0660-2D45-41BA-A9A1-60BB7C19873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13CC5CC0-7B52-4547-BA63-1F5266B3EF81}"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BBCBA144-313D-4B54-8611-1E699D46840A}"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08AB3EB8-597B-4DF0-AD9C-1C2254406E9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2"/>
          </p:nvPr>
        </p:nvSpPr>
        <p:spPr/>
        <p:txBody>
          <a:bodyPr/>
          <a:p>
            <a:fld id="{265156A0-0A3E-41D3-BDDF-E0FB3C046FC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2"/>
          </p:nvPr>
        </p:nvSpPr>
        <p:spPr/>
        <p:txBody>
          <a:bodyPr/>
          <a:p>
            <a:fld id="{1EB6BDD5-7DFE-485A-B757-C64C1374FE79}"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45BB4857-0CE3-402B-B825-977902FCD9A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E8DCA67-FFC3-44AE-93C5-7A1CA21AC38F}"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9CA2BCBB-DFC0-4A5C-A678-A75CC019A60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2"/>
          </p:nvPr>
        </p:nvSpPr>
        <p:spPr/>
        <p:txBody>
          <a:bodyPr/>
          <a:p>
            <a:fld id="{BAC62DC3-B9AB-4363-BA21-D30B2ABD9DD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2"/>
          </p:nvPr>
        </p:nvSpPr>
        <p:spPr/>
        <p:txBody>
          <a:bodyPr/>
          <a:p>
            <a:fld id="{4FC4E375-AA36-4E77-B270-9296C0164D8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2"/>
          </p:nvPr>
        </p:nvSpPr>
        <p:spPr/>
        <p:txBody>
          <a:bodyPr/>
          <a:p>
            <a:fld id="{274BEA1E-B05F-4541-9123-F027BAD09C3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2"/>
          </p:nvPr>
        </p:nvSpPr>
        <p:spPr/>
        <p:txBody>
          <a:bodyPr/>
          <a:p>
            <a:fld id="{5CCDB32D-720F-4984-A090-2693EBB00D9F}"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E9F11D70-F3CA-45A0-8110-830C542D26E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A9963AB9-444A-4BB9-B25D-7B80AFD7E9F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F02AAEA6-B667-4141-8B18-D8D9244CFF74}"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08419361-7F4F-4E57-A303-82B9743FE16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DD232397-875D-47AD-8E1E-83E22B4B760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DE003B7-0D79-4FA2-95CA-68AF5EB894F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B82F92BE-53CB-497C-9EDF-2BBAD6808B7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E7FE9887-8943-4D27-A168-5E42A826B81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7AFCF2A6-BEFB-4EA2-8D4E-156D285A43A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A149FF97-CFBA-4908-8F3D-42CE7DB3972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D7F34E17-223D-4874-9331-8BC042D0E187}"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526C946F-FDD3-4EE0-9402-07BF7F3E43F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FCCBB36B-7F5D-43B1-B5D2-305F3E9A62B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dt" idx="8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dt" idx="8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58863-10F4-44BA-B5FF-56B7990F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F8DB5C1-E909-4C83-AFBF-BF4A3FC212E0}"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dt" idx="8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dt" idx="8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dt" idx="8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dt" idx="8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dt" idx="8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dt" idx="8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C0123EEA-A32A-4004-B730-EBB007867C7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dt" idx="8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dt" idx="8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dt" idx="8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dt" idx="8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dt" idx="8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6896718-5986-46EE-8C91-7BB009441E9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dt" idx="8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dt" idx="8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dt" idx="8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dt" idx="8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dt" idx="8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E8656BC-2842-4D22-BA1C-4517BBB36F5A}"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dt" idx="8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dt" idx="8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dt" idx="8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dt" idx="9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dt" idx="9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dt" idx="9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E134135-93F3-4EC0-B1FD-7228809E1247}"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dt" idx="9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dt" idx="9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dt" idx="9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dt" idx="9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dt" idx="9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dt" idx="9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99772E0-D0B6-4759-9190-6EDC82E0BB9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dt" idx="9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dt" idx="9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dt" idx="9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dt" idx="9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dt" idx="9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74BC7525-9A69-4755-99DC-959F81B3375C}"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98B93608-CE20-4433-AB63-2A2C77E8722D}"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227B5DB5-BA21-469C-BD17-ED9316C7F5B7}"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449CEF9-72B5-4159-99CA-90BEABD9288C}"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B615CB4D-1473-4080-8C4B-3A26B73A069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C3D8AEEB-785E-4993-A97B-49D462C52D3E}"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2492C96A-3262-4310-9659-D5471FE8C441}"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B22D152A-40D4-43BD-9E9B-F8A521CF9243}"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330FB7C5-A007-4BB4-BA8C-2A4B2BC3623D}"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C0C5E173-705B-4964-B9B0-E9C643E5D2D7}"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38C3D0F2-E64A-472C-92A7-3D4BF05323C9}"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DF540EC7-A031-4EE9-9BEE-1F76FE6DF23E}"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C19C00CD-E05B-4F0E-BF81-2DAFE9E187E1}"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46D2A11D-28C3-4861-968C-06202E446CCE}"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6E55788-AD97-40E2-97D1-59624AFD8362}"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43F17E2-6B5A-402A-945C-67E44D7DECF5}"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0260BA3A-B6A0-463D-8F8F-92A56CFA7869}"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16A23A49-DC18-495F-BD8A-B51E8BD277C9}"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981FAAAA-BF63-4346-9F2C-C9E7B8E575B9}"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E5F815AB-1488-4585-B9F6-CFB30C021E1D}"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1C4180E-A8FE-4BD5-902D-315ED26193AA}"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6D41AE16-8629-4B11-BD5A-4263F05D13CE}"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4C2CF7D4-0863-4C75-9E04-02C2BA38B931}"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CE8EB064-262B-4B93-B15D-035F5E4442D7}"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730725FA-78B2-4D71-84F5-711397F55256}"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1D74E95-A629-4816-AD77-01BA49929CD2}"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68AB8397-4932-462F-96AF-B465970BC4B2}"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8DF87E95-7B97-4CE4-9999-F4824AEE89BF}"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77AAB522-82F3-4650-B549-FDCB6EA6BF4F}"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1194B386-5D40-4957-A933-D09C76C7FFD7}"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7B4095C6-EC7F-453E-AB7E-F682C6CEFA2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FADE2EAD-108E-4B1F-8819-22BDDAA6B0F6}"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A47AC33D-D903-478A-AD29-B32C050987CF}"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483B29D4-6191-4C15-AA67-5D17FE68462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E9E58036-A61C-406D-961D-06263992B996}"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5EBDAF13-0358-4C0E-83C3-DB0249A48E1F}"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494C058A-B3B7-4910-817D-DED144C44AB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7C38E083-E4C9-4B0C-AE77-62CD657ACE2F}"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005C7DC9-5A95-4779-B30A-BA1F9025B2FA}"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132F9076-273D-4E75-9738-9A7554BC0F62}"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89337085-72F3-41A4-9B57-E213622A1A86}"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2327A00E-ABCA-4814-A258-FAB8F67EC6E8}"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F782F444-EA9B-4E41-B6FF-26DE1BEA6EF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904573BB-96D4-48C8-9DB5-CB418F6A5E55}"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33D53498-C739-4626-856B-B87CE55185FB}"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E712135A-F8C0-494B-9C22-3200AB343EB3}"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AA1B-C36F-4AAA-A9D0-005B977B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47DA18D8-783A-4AB6-ADDC-337BA03C9BC9}"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2F77707-FEDA-466D-BEA8-D787E8D82AE2}"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4AB37250-2E93-4738-A5EE-76902765E0F6}"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3B6E562E-E643-41D4-8653-16A98015D86F}"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782EABCB-C9A8-4389-AA78-B33A674A5839}"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C9C44243-AE7E-47A2-8888-1EE1C2F8FDE4}"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40FC7152-46C7-4F20-87A2-AA176697F61A}"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6882BFDE-AE3E-4D1C-95BE-E9CCD560531D}"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B967ADE9-2282-4266-8347-594FFD33DE2E}"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9CC8160E-E341-4404-962D-CFA76F7AA29B}"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D9A00A0E-96C1-4FE6-9829-2A0399CB0A86}"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13B977E-7FB4-4842-B170-284813E91CC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5C5A77A9-0A5D-4125-88D5-D6447B8C3A4A}"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D72ED2AA-9C8E-40BC-9FD9-27ED230F08F4}"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67451D28-FF89-44E6-92B9-5EA5ABF2D001}"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B39D460A-B032-49B7-9DCC-90CA5A504209}"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E9D74BA5-EFC0-4332-995F-270C8E7D7567}"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3F92357A-D871-4441-AC89-F13197BE1A0E}"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9A7233E8-158A-4A3F-B90B-9CC5D12B2565}"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7E3AF6B4-1F36-46E8-9EF5-5E1529C0139A}"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20295E27-0326-49FC-B5DB-653436F14E1F}"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BF617955-F2F6-484A-AB4A-42F799B1487D}"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488E1083-4054-4B8B-B8F2-EBEC97960997}"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F9336292-7BA4-42B8-B13A-53373CCD4EFC}"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4C963BB4-A8BC-436D-AF34-8F84CC1EC79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2B5E59AB-03BF-44D1-AC97-8AD858545A1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550CEE7D-A17B-4DCD-8431-66420D1A5BF0}"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13CDD390-B417-4549-8920-E090D0F854EE}"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5B874803-6791-4D34-BC3C-927836892861}"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3817170A-D373-4ED5-BDBC-13B9D61E4FA4}"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3B02662B-9A54-4AC3-B3D6-0A7290CB1208}"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5350A576-2456-433D-BA93-9EECD1FC4412}"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7A054FC6-1DAA-4D5A-BA9D-58F097A97A0B}"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EA5EA9C4-A688-4450-904E-CD9DD101EC53}"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71DC749D-F2B1-4ECD-A63F-3E2DE26CA80B}"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87B7DAB1-2D6D-4A97-A48C-8FACBB6237A2}"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35F9E68A-8E4E-48C1-B1F8-98A674C16363}"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D9DE8DFD-3344-4A6E-9958-8CA09881EADA}"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234C80F8-D2A9-4DC0-ACB2-535C81E7759A}"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639264B7-C38D-440B-9A58-DD696F8F89CD}"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3C0DD7EC-1C9F-44C4-A064-2EB7F59B6809}"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B5440DD0-70BD-4924-B3E9-5728FB2EFC89}"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4E484F9D-6104-4912-B79D-FED09988949B}"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A40FD8C0-1F9C-49D6-9941-4BD6A50E0ED3}"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3A0EAA68-732D-400C-A627-3C482806BE5D}"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199A41F0-5F07-413A-AB54-863F86970933}"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6D7FDC8-08AD-4ADE-848E-40B53C270D5D}"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1F788A56-0E83-4810-A0E1-1F90B9367D38}"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8D056562-A5A8-486D-839E-796863163551}"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1A72F391-C67D-4CBC-AFD2-C59F118FF677}"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23783F01-9124-4DB3-9CB1-7040CDDB43E1}"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C57FDB8D-5457-4023-916B-093B62EFFDC1}"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42B88F37-F9EA-44EE-ACEF-18CCA7BAF6C0}"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DA3B5-A2FA-4DC5-928E-DE325872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2DCC9-93E3-4500-900A-B28ADECDA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DC645-920A-42F1-BEC8-6E477E69A6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63E79-1150-4108-B604-1CBAEA44C0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1A9BB-F090-4401-8C80-D5B948FA4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26670-9F80-4731-99A6-B6F23F1C1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9D0A2-9C08-40E4-A9D3-C7AFF8677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3A8EA-8087-4F47-BB23-D4D9A35432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A1F7D-C4E0-4302-863B-999858DCE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4EA38-988B-4E87-81C2-996786E57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966B-6E52-46BA-BB57-8E0D8C72B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CF554-FB67-4013-BEDE-A72A1C9245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2D65B-E423-47DF-9882-F5E185E07B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0F0813-A64B-4A70-9428-00BFCAB9DF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FCB6-B240-405F-8A28-E9D2CB731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C1EA-0900-4ECE-AB35-E979F59B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5.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A87B-DE3C-4114-B944-6C410E4247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8" name="Picture 2" descr=""/>
          <p:cNvPicPr/>
          <p:nvPr/>
        </p:nvPicPr>
        <p:blipFill>
          <a:blip r:embed="rId2"/>
          <a:stretch/>
        </p:blipFill>
        <p:spPr>
          <a:xfrm>
            <a:off x="0" y="6114960"/>
            <a:ext cx="1523880" cy="74304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46D9-7657-4879-AFF7-B4EC4106E8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7F5B-3F2B-4A1C-A923-C9370F574F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CD2A-34CF-4950-A1FD-3C7D4B2EBE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EDAC-EAA5-4094-8BA9-5546241F34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E370-DFAD-4319-933A-6AB4361E01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DC43-726A-4E89-B47E-4BDBAC1814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289-4122-419F-9E97-A793DE5EC7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8" name="Picture 2" descr=""/>
          <p:cNvPicPr/>
          <p:nvPr/>
        </p:nvPicPr>
        <p:blipFill>
          <a:blip r:embed="rId2"/>
          <a:stretch/>
        </p:blipFill>
        <p:spPr>
          <a:xfrm>
            <a:off x="0" y="6114960"/>
            <a:ext cx="1523880" cy="743040"/>
          </a:xfrm>
          <a:prstGeom prst="rect">
            <a:avLst/>
          </a:prstGeom>
          <a:ln w="0">
            <a:noFill/>
          </a:ln>
        </p:spPr>
      </p:pic>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72"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3"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49A7-878F-4B3A-BF39-088796EBA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1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1B7A-AD45-40AE-A2C1-315FEBB96B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7"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58"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84C70-9044-44F4-9399-59ABF63184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6656-AC2F-4360-AD3B-A582DBC5DC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0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7527-6031-47A4-89CD-1E96DACE76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4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F40A-9981-42BB-8F33-B38B3BA5B6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1CB7-BA67-4F8B-B515-9514A1346D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99A9-57B4-4768-81A2-A41A06F68D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68" name="Picture 2" descr=""/>
          <p:cNvPicPr/>
          <p:nvPr/>
        </p:nvPicPr>
        <p:blipFill>
          <a:blip r:embed="rId2"/>
          <a:stretch/>
        </p:blipFill>
        <p:spPr>
          <a:xfrm>
            <a:off x="0" y="6114960"/>
            <a:ext cx="1523880" cy="743040"/>
          </a:xfrm>
          <a:prstGeom prst="rect">
            <a:avLst/>
          </a:prstGeom>
          <a:ln w="0">
            <a:noFill/>
          </a:ln>
        </p:spPr>
      </p:pic>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7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4A06-0A41-460B-BA06-124535B89C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1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44D3-D7A6-42D4-9094-FE05D1575C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05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3213-C4C8-49EF-913F-B213AA6EE1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7"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0"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01"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7E51-38A5-4CC1-A875-6BBA54EA4E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14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A9F7-4D16-4563-8378-C1C9A053AD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A6F6-20A6-4280-92A5-8F503A29F4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4D79-5D92-44CC-B5FE-8549334D1C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0E6F-FE3A-45D8-8EC4-68D1F4B6FF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Straight Connector 9"/>
          <p:cNvSpPr/>
          <p:nvPr/>
        </p:nvSpPr>
        <p:spPr>
          <a:xfrm>
            <a:off x="934920" y="3736800"/>
            <a:ext cx="727560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1270"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71"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72" name="PlaceHolder 3"/>
          <p:cNvSpPr>
            <a:spLocks noGrp="1"/>
          </p:cNvSpPr>
          <p:nvPr>
            <p:ph type="dt" idx="7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PlaceHolder 4"/>
          <p:cNvSpPr>
            <a:spLocks noGrp="1"/>
          </p:cNvSpPr>
          <p:nvPr>
            <p:ph type="ftr" idx="8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PlaceHolder 5"/>
          <p:cNvSpPr>
            <a:spLocks noGrp="1"/>
          </p:cNvSpPr>
          <p:nvPr>
            <p:ph type="sldNum" idx="81"/>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3B87-BEA6-494C-885B-3865871BAD50}"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11"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5"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16" name="PlaceHolder 3"/>
          <p:cNvSpPr>
            <a:spLocks noGrp="1"/>
          </p:cNvSpPr>
          <p:nvPr>
            <p:ph type="sldNum" idx="82"/>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8D03-7B25-4265-9BC3-ABBB31323345}"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353"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5"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6" name="Rectangle 6"/>
          <p:cNvSpPr/>
          <p:nvPr/>
        </p:nvSpPr>
        <p:spPr>
          <a:xfrm>
            <a:off x="7277040" y="6562800"/>
            <a:ext cx="1866960" cy="447480"/>
          </a:xfrm>
          <a:prstGeom prst="rect">
            <a:avLst/>
          </a:prstGeom>
          <a:noFill/>
          <a:ln w="0">
            <a:noFill/>
          </a:ln>
        </p:spPr>
        <p:style>
          <a:lnRef idx="0"/>
          <a:fillRef idx="0"/>
          <a:effectRef idx="0"/>
          <a:fontRef idx="minor"/>
        </p:style>
        <p:txBody>
          <a:bodyPr lIns="89640" rIns="89640" tIns="44640" bIns="44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7753-0639-48C1-BFB8-C3A77CB53CAD}"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1357"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58"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59" name="PlaceHolder 3"/>
          <p:cNvSpPr>
            <a:spLocks noGrp="1"/>
          </p:cNvSpPr>
          <p:nvPr>
            <p:ph type="sldNum" idx="83"/>
          </p:nvPr>
        </p:nvSpPr>
        <p:spPr>
          <a:xfrm>
            <a:off x="0" y="1271160"/>
            <a:ext cx="533520" cy="24444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BF23-9DF3-4B12-AFF9-EFB4BB9AE141}"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1360" name="PlaceHolder 4"/>
          <p:cNvSpPr>
            <a:spLocks noGrp="1"/>
          </p:cNvSpPr>
          <p:nvPr>
            <p:ph type="ftr" idx="84"/>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9" name="Picture 2" descr=""/>
          <p:cNvPicPr/>
          <p:nvPr/>
        </p:nvPicPr>
        <p:blipFill>
          <a:blip r:embed="rId2"/>
          <a:stretch/>
        </p:blipFill>
        <p:spPr>
          <a:xfrm>
            <a:off x="0" y="6114960"/>
            <a:ext cx="1523880" cy="743040"/>
          </a:xfrm>
          <a:prstGeom prst="rect">
            <a:avLst/>
          </a:prstGeom>
          <a:ln w="0">
            <a:noFill/>
          </a:ln>
        </p:spPr>
      </p:pic>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2"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CC7E-B2BD-4FAF-BA98-E3668D5E0DDB}"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403"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4"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FD6E-C3ED-4EA8-A60E-6E9E5460741D}"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445"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6" name="PlaceHolder 3"/>
          <p:cNvSpPr>
            <a:spLocks noGrp="1"/>
          </p:cNvSpPr>
          <p:nvPr>
            <p:ph type="dt" idx="8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32EF-0E12-415A-A177-69F32DA1BF5C}"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487" name="PlaceHolder 4"/>
          <p:cNvSpPr>
            <a:spLocks noGrp="1"/>
          </p:cNvSpPr>
          <p:nvPr>
            <p:ph type="ftr" idx="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5"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8"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5DEC-429A-43FD-BB77-99B39EE9C44B}"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529"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7" name="Rectangle 7"/>
          <p:cNvSpPr/>
          <p:nvPr/>
        </p:nvSpPr>
        <p:spPr>
          <a:xfrm>
            <a:off x="76320" y="1371600"/>
            <a:ext cx="9067680" cy="7632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0"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5B60-2758-4F2E-B830-9BD0DCC55D3A}"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571"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9"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0" name="Picture 2" descr=""/>
          <p:cNvPicPr/>
          <p:nvPr/>
        </p:nvPicPr>
        <p:blipFill>
          <a:blip r:embed="rId2"/>
          <a:stretch/>
        </p:blipFill>
        <p:spPr>
          <a:xfrm>
            <a:off x="0" y="6114960"/>
            <a:ext cx="1523880" cy="743040"/>
          </a:xfrm>
          <a:prstGeom prst="rect">
            <a:avLst/>
          </a:prstGeom>
          <a:ln w="0">
            <a:noFill/>
          </a:ln>
        </p:spPr>
      </p:pic>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13" name="PlaceHolder 3"/>
          <p:cNvSpPr>
            <a:spLocks noGrp="1"/>
          </p:cNvSpPr>
          <p:nvPr>
            <p:ph type="dt" idx="9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14" name="PlaceHolder 4"/>
          <p:cNvSpPr>
            <a:spLocks noGrp="1"/>
          </p:cNvSpPr>
          <p:nvPr>
            <p:ph type="ftr" idx="9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5" name="PlaceHolder 5"/>
          <p:cNvSpPr>
            <a:spLocks noGrp="1"/>
          </p:cNvSpPr>
          <p:nvPr>
            <p:ph type="sldNum" idx="9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497-5E27-4DAF-B0F1-E9F0F0E3EA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4d"/>
        </a:solidFill>
      </p:bgPr>
    </p:bg>
    <p:spTree>
      <p:nvGrpSpPr>
        <p:cNvPr id="1" name=""/>
        <p:cNvGrpSpPr/>
        <p:nvPr/>
      </p:nvGrpSpPr>
      <p:grpSpPr>
        <a:xfrm>
          <a:off x="0" y="0"/>
          <a:ext cx="0" cy="0"/>
          <a:chOff x="0" y="0"/>
          <a:chExt cx="0" cy="0"/>
        </a:xfrm>
      </p:grpSpPr>
      <p:sp>
        <p:nvSpPr>
          <p:cNvPr id="126" name="Rectangle 3"/>
          <p:cNvSpPr/>
          <p:nvPr/>
        </p:nvSpPr>
        <p:spPr>
          <a:xfrm flipV="1">
            <a:off x="0" y="1446840"/>
            <a:ext cx="91440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8"/>
          <p:cNvSpPr/>
          <p:nvPr/>
        </p:nvSpPr>
        <p:spPr>
          <a:xfrm>
            <a:off x="0" y="0"/>
            <a:ext cx="9144000" cy="6858000"/>
          </a:xfrm>
          <a:prstGeom prst="rect">
            <a:avLst/>
          </a:prstGeom>
          <a:gradFill rotWithShape="0">
            <a:gsLst>
              <a:gs pos="0">
                <a:srgbClr val="000022"/>
              </a:gs>
              <a:gs pos="100000">
                <a:srgbClr val="003366"/>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1"/>
          <p:cNvSpPr>
            <a:spLocks noGrp="1"/>
          </p:cNvSpPr>
          <p:nvPr>
            <p:ph type="title"/>
          </p:nvPr>
        </p:nvSpPr>
        <p:spPr>
          <a:xfrm>
            <a:off x="0" y="356760"/>
            <a:ext cx="9144000" cy="1120680"/>
          </a:xfrm>
          <a:prstGeom prst="rect">
            <a:avLst/>
          </a:prstGeom>
          <a:noFill/>
          <a:ln w="0">
            <a:noFill/>
          </a:ln>
        </p:spPr>
        <p:txBody>
          <a:bodyPr lIns="182880" rIns="182880" tIns="44640" bIns="44640" anchor="ctr">
            <a:noAutofit/>
          </a:bodyPr>
          <a:p>
            <a:pPr indent="0" algn="ctr">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29" name="PlaceHolder 2"/>
          <p:cNvSpPr>
            <a:spLocks noGrp="1"/>
          </p:cNvSpPr>
          <p:nvPr>
            <p:ph type="body"/>
          </p:nvPr>
        </p:nvSpPr>
        <p:spPr>
          <a:xfrm>
            <a:off x="457200" y="1573200"/>
            <a:ext cx="8229600" cy="4960800"/>
          </a:xfrm>
          <a:prstGeom prst="rect">
            <a:avLst/>
          </a:prstGeom>
          <a:noFill/>
          <a:ln w="0">
            <a:noFill/>
          </a:ln>
        </p:spPr>
        <p:txBody>
          <a:bodyPr lIns="89640" rIns="89640" tIns="44640" bIns="44640" anchor="t">
            <a:normAutofit/>
          </a:bodyPr>
          <a:p>
            <a:pPr marL="3430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8608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indent="-228600">
              <a:spcBef>
                <a:spcPts val="1800"/>
              </a:spcBef>
              <a:buClr>
                <a:srgbClr val="ffff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0" name="Text Box 8"/>
          <p:cNvSpPr/>
          <p:nvPr/>
        </p:nvSpPr>
        <p:spPr>
          <a:xfrm>
            <a:off x="8458200" y="6451560"/>
            <a:ext cx="64764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type="sldNum" idx="10"/>
          </p:nvPr>
        </p:nvSpPr>
        <p:spPr>
          <a:xfrm>
            <a:off x="7277040" y="6562800"/>
            <a:ext cx="1866960" cy="295200"/>
          </a:xfrm>
          <a:prstGeom prst="rect">
            <a:avLst/>
          </a:prstGeom>
          <a:noFill/>
          <a:ln w="0">
            <a:noFill/>
          </a:ln>
        </p:spPr>
        <p:txBody>
          <a:bodyPr lIns="89640" rIns="89640" tIns="44640" bIns="446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AFC1-9701-465F-9008-0ECE6F76C375}" type="slidenum">
              <a:rPr b="0"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3" name="Rectangle 7"/>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6" name="PlaceHolder 3"/>
          <p:cNvSpPr>
            <a:spLocks noGrp="1"/>
          </p:cNvSpPr>
          <p:nvPr>
            <p:ph type="dt" idx="9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57" name="PlaceHolder 4"/>
          <p:cNvSpPr>
            <a:spLocks noGrp="1"/>
          </p:cNvSpPr>
          <p:nvPr>
            <p:ph type="ftr" idx="9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8" name="PlaceHolder 5"/>
          <p:cNvSpPr>
            <a:spLocks noGrp="1"/>
          </p:cNvSpPr>
          <p:nvPr>
            <p:ph type="sldNum" idx="10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5DD7-0DFB-4E75-BE2B-B95F4CC3AA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6"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9" name="PlaceHolder 3"/>
          <p:cNvSpPr>
            <a:spLocks noGrp="1"/>
          </p:cNvSpPr>
          <p:nvPr>
            <p:ph type="dt" idx="10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00" name="PlaceHolder 4"/>
          <p:cNvSpPr>
            <a:spLocks noGrp="1"/>
          </p:cNvSpPr>
          <p:nvPr>
            <p:ph type="ftr" idx="10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1" name="PlaceHolder 5"/>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DE50-F0F4-4BB7-958B-3F86150341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9" name="Rectangle 7"/>
          <p:cNvSpPr/>
          <p:nvPr/>
        </p:nvSpPr>
        <p:spPr>
          <a:xfrm>
            <a:off x="0" y="144792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2" name="PlaceHolder 3"/>
          <p:cNvSpPr>
            <a:spLocks noGrp="1"/>
          </p:cNvSpPr>
          <p:nvPr>
            <p:ph type="dt" idx="10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43" name="PlaceHolder 4"/>
          <p:cNvSpPr>
            <a:spLocks noGrp="1"/>
          </p:cNvSpPr>
          <p:nvPr>
            <p:ph type="ftr" idx="10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4" name="PlaceHolder 5"/>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607B-97F9-426C-85AE-7D5CCFCC89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2" name="Rectangle 7"/>
          <p:cNvSpPr/>
          <p:nvPr/>
        </p:nvSpPr>
        <p:spPr>
          <a:xfrm>
            <a:off x="7632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5" name="PlaceHolder 3"/>
          <p:cNvSpPr>
            <a:spLocks noGrp="1"/>
          </p:cNvSpPr>
          <p:nvPr>
            <p:ph type="dt" idx="10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786" name="PlaceHolder 4"/>
          <p:cNvSpPr>
            <a:spLocks noGrp="1"/>
          </p:cNvSpPr>
          <p:nvPr>
            <p:ph type="ftr" idx="10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7" name="PlaceHolder 5"/>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20F0-E4C2-4416-9DFF-9AB1DE2F6F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7" name="PlaceHolder 3"/>
          <p:cNvSpPr>
            <a:spLocks noGrp="1"/>
          </p:cNvSpPr>
          <p:nvPr>
            <p:ph type="dt" idx="1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8" name="PlaceHolder 4"/>
          <p:cNvSpPr>
            <a:spLocks noGrp="1"/>
          </p:cNvSpPr>
          <p:nvPr>
            <p:ph type="ftr" idx="1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9" name="PlaceHolder 5"/>
          <p:cNvSpPr>
            <a:spLocks noGrp="1"/>
          </p:cNvSpPr>
          <p:nvPr>
            <p:ph type="sldNum" idx="1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933F-B136-4740-BCD0-C395C04496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9" name="PlaceHolder 3"/>
          <p:cNvSpPr>
            <a:spLocks noGrp="1"/>
          </p:cNvSpPr>
          <p:nvPr>
            <p:ph type="dt" idx="1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0" name="PlaceHolder 4"/>
          <p:cNvSpPr>
            <a:spLocks noGrp="1"/>
          </p:cNvSpPr>
          <p:nvPr>
            <p:ph type="ftr" idx="1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1" name="PlaceHolder 5"/>
          <p:cNvSpPr>
            <a:spLocks noGrp="1"/>
          </p:cNvSpPr>
          <p:nvPr>
            <p:ph type="sldNum" idx="1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927A-32D0-4153-AE64-9E4940880C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1"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2"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3"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0144-5FEA-444B-A3CC-613E7F2320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0" name="Picture 3" descr="RTP_SlideBackground-ONS13_v1fr-title.jpg"/>
          <p:cNvPicPr/>
          <p:nvPr/>
        </p:nvPicPr>
        <p:blipFill>
          <a:blip r:embed="rId3"/>
          <a:stretch/>
        </p:blipFill>
        <p:spPr>
          <a:xfrm>
            <a:off x="0" y="0"/>
            <a:ext cx="9144000" cy="6858000"/>
          </a:xfrm>
          <a:prstGeom prst="rect">
            <a:avLst/>
          </a:prstGeom>
          <a:ln w="0">
            <a:noFill/>
          </a:ln>
        </p:spPr>
      </p:pic>
      <p:sp>
        <p:nvSpPr>
          <p:cNvPr id="19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9" name="Picture 4" descr="RTP_SlideBackground-ASCO-GI-13_v1fr-Title.png"/>
          <p:cNvPicPr/>
          <p:nvPr/>
        </p:nvPicPr>
        <p:blipFill>
          <a:blip r:embed="rId2"/>
          <a:stretch/>
        </p:blipFill>
        <p:spPr>
          <a:xfrm>
            <a:off x="0" y="0"/>
            <a:ext cx="9144000" cy="6858000"/>
          </a:xfrm>
          <a:prstGeom prst="rect">
            <a:avLst/>
          </a:prstGeom>
          <a:ln w="0">
            <a:noFill/>
          </a:ln>
        </p:spPr>
      </p:pic>
      <p:sp>
        <p:nvSpPr>
          <p:cNvPr id="19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0F09-C0BD-4BDC-97E5-9F6A3F999418}" type="datetime">
              <a:rPr b="0" lang="en-US" sz="1200" spc="-1" strike="noStrike">
                <a:solidFill>
                  <a:srgbClr val="898989"/>
                </a:solidFill>
                <a:latin typeface="Arial"/>
                <a:ea typeface="MS PGothic"/>
              </a:rPr>
              <a:t>07/29/26</a:t>
            </a:fld>
            <a:endParaRPr b="0" lang="en-US" sz="1200" spc="-1" strike="noStrike">
              <a:solidFill>
                <a:srgbClr val="000000"/>
              </a:solidFill>
              <a:latin typeface="Arial"/>
            </a:endParaRPr>
          </a:p>
        </p:txBody>
      </p:sp>
      <p:sp>
        <p:nvSpPr>
          <p:cNvPr id="17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1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34DE-52A3-410C-BF71-F33F73FFB9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14" name="Rectangle 6"/>
          <p:cNvSpPr/>
          <p:nvPr/>
        </p:nvSpPr>
        <p:spPr>
          <a:xfrm>
            <a:off x="0" y="1401840"/>
            <a:ext cx="9144000" cy="46080"/>
          </a:xfrm>
          <a:prstGeom prst="rect">
            <a:avLst/>
          </a:prstGeom>
          <a:solidFill>
            <a:srgbClr val="ff000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1" descr="RTP_SlideBackground-YiR_v3fr-bulleted.png"/>
          <p:cNvPicPr/>
          <p:nvPr/>
        </p:nvPicPr>
        <p:blipFill>
          <a:blip r:embed="rId2"/>
          <a:stretch/>
        </p:blipFill>
        <p:spPr>
          <a:xfrm>
            <a:off x="0" y="0"/>
            <a:ext cx="9144000" cy="6858000"/>
          </a:xfrm>
          <a:prstGeom prst="rect">
            <a:avLst/>
          </a:prstGeom>
          <a:ln w="0">
            <a:noFill/>
          </a:ln>
        </p:spPr>
      </p:pic>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2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09.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0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09.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hyperlink" Target="http://clinicaltrials.gov/ct/show/NCT01107626" TargetMode="External"/><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193.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5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4" name="PlaceHolder 1"/>
          <p:cNvSpPr>
            <a:spLocks noGrp="1"/>
          </p:cNvSpPr>
          <p:nvPr>
            <p:ph type="title"/>
          </p:nvPr>
        </p:nvSpPr>
        <p:spPr>
          <a:xfrm>
            <a:off x="441360" y="490320"/>
            <a:ext cx="8012160" cy="5794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n otherwise healthy 50-yo with </a:t>
            </a:r>
            <a:br>
              <a:rPr sz="3200"/>
            </a:br>
            <a:r>
              <a:rPr b="1" lang="en-US" sz="3200" spc="-1" strike="noStrike">
                <a:solidFill>
                  <a:srgbClr val="ecbb33"/>
                </a:solidFill>
                <a:latin typeface="Arial"/>
              </a:rPr>
              <a:t>PWT adeno experiences a partial response to your recommended </a:t>
            </a:r>
            <a:br>
              <a:rPr sz="3200"/>
            </a:br>
            <a:r>
              <a:rPr b="1" lang="en-US" sz="3200" spc="-1" strike="noStrike">
                <a:solidFill>
                  <a:srgbClr val="ecbb33"/>
                </a:solidFill>
                <a:latin typeface="Arial"/>
              </a:rPr>
              <a:t>first-line treatment. Which maintenance therapy, if any, would you likely use?</a:t>
            </a:r>
            <a:endParaRPr b="1" lang="en-US" sz="3200" spc="-1" strike="noStrike">
              <a:solidFill>
                <a:srgbClr val="ecbb33"/>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therwise healthy 50-yo with PWT adeno experiences a partial response to your recommended </a:t>
            </a:r>
            <a:br>
              <a:rPr sz="2400"/>
            </a:br>
            <a:r>
              <a:rPr b="1" lang="en-US" sz="2400" spc="-1" strike="noStrike">
                <a:solidFill>
                  <a:srgbClr val="ffffff"/>
                </a:solidFill>
                <a:latin typeface="Arial"/>
              </a:rPr>
              <a:t>first-line treatment. Which maintenance therapy, if any, would you likely use?</a:t>
            </a:r>
            <a:endParaRPr b="0" lang="en-US" sz="2400" spc="-1" strike="noStrike">
              <a:solidFill>
                <a:srgbClr val="000000"/>
              </a:solidFill>
              <a:latin typeface="Arial"/>
            </a:endParaRPr>
          </a:p>
        </p:txBody>
      </p:sp>
      <p:pic>
        <p:nvPicPr>
          <p:cNvPr id="2056" name="Chart 3" descr=""/>
          <p:cNvPicPr/>
          <p:nvPr/>
        </p:nvPicPr>
        <p:blipFill>
          <a:blip r:embed="rId1"/>
          <a:stretch/>
        </p:blipFill>
        <p:spPr>
          <a:xfrm>
            <a:off x="482760" y="2293920"/>
            <a:ext cx="8254800" cy="444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41360" y="490320"/>
            <a:ext cx="8012160" cy="5762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Do you use maintenance therapy </a:t>
            </a:r>
            <a:br>
              <a:rPr sz="3200"/>
            </a:br>
            <a:r>
              <a:rPr b="1" lang="en-US" sz="3200" spc="-1" strike="noStrike">
                <a:solidFill>
                  <a:srgbClr val="ecbb33"/>
                </a:solidFill>
                <a:latin typeface="Arial"/>
              </a:rPr>
              <a:t>for your patients with metastatic </a:t>
            </a:r>
            <a:r>
              <a:rPr b="1" lang="en-US" sz="3200" spc="-1" strike="noStrike" u="sng">
                <a:solidFill>
                  <a:srgbClr val="ecbb33"/>
                </a:solidFill>
                <a:uFillTx/>
                <a:latin typeface="Arial"/>
              </a:rPr>
              <a:t>squamous cell</a:t>
            </a:r>
            <a:r>
              <a:rPr b="1" lang="en-US" sz="3200" spc="-1" strike="noStrike">
                <a:solidFill>
                  <a:srgbClr val="ecbb33"/>
                </a:solidFill>
                <a:latin typeface="Arial"/>
              </a:rPr>
              <a:t> lung cancer?</a:t>
            </a:r>
            <a:endParaRPr b="1" lang="en-US" sz="3200" spc="-1" strike="noStrike">
              <a:solidFill>
                <a:srgbClr val="ecbb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use maintenance therapy for your patients with metastatic squamous cell carcinoma?</a:t>
            </a:r>
            <a:endParaRPr b="0" lang="en-US" sz="2400" spc="-1" strike="noStrike">
              <a:solidFill>
                <a:srgbClr val="000000"/>
              </a:solidFill>
              <a:latin typeface="Arial"/>
            </a:endParaRPr>
          </a:p>
        </p:txBody>
      </p:sp>
      <p:pic>
        <p:nvPicPr>
          <p:cNvPr id="2059" name="Chart 3" descr=""/>
          <p:cNvPicPr/>
          <p:nvPr/>
        </p:nvPicPr>
        <p:blipFill>
          <a:blip r:embed="rId1"/>
          <a:stretch/>
        </p:blipFill>
        <p:spPr>
          <a:xfrm>
            <a:off x="482760" y="2082960"/>
            <a:ext cx="8254800" cy="4444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260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decisions: choices for maintenance therapy in lung adenocarcinoma</a:t>
            </a:r>
            <a:endParaRPr b="0" lang="en-US" sz="2800" spc="-1" strike="noStrike">
              <a:solidFill>
                <a:srgbClr val="000000"/>
              </a:solidFill>
              <a:latin typeface="Arial"/>
            </a:endParaRPr>
          </a:p>
        </p:txBody>
      </p:sp>
      <p:grpSp>
        <p:nvGrpSpPr>
          <p:cNvPr id="2061" name="TextBox 3"/>
          <p:cNvGrpSpPr/>
          <p:nvPr/>
        </p:nvGrpSpPr>
        <p:grpSpPr>
          <a:xfrm>
            <a:off x="92160" y="3571920"/>
            <a:ext cx="2022480" cy="1755720"/>
            <a:chOff x="92160" y="3571920"/>
            <a:chExt cx="2022480" cy="1755720"/>
          </a:xfrm>
        </p:grpSpPr>
        <p:pic>
          <p:nvPicPr>
            <p:cNvPr id="2062" name="TextBox 3" descr=""/>
            <p:cNvPicPr/>
            <p:nvPr/>
          </p:nvPicPr>
          <p:blipFill>
            <a:blip r:embed="rId1"/>
            <a:stretch/>
          </p:blipFill>
          <p:spPr>
            <a:xfrm>
              <a:off x="92160" y="3571920"/>
              <a:ext cx="2022480" cy="1755720"/>
            </a:xfrm>
            <a:prstGeom prst="rect">
              <a:avLst/>
            </a:prstGeom>
            <a:ln w="0">
              <a:noFill/>
            </a:ln>
          </p:spPr>
        </p:pic>
        <p:sp>
          <p:nvSpPr>
            <p:cNvPr id="2063" name=""/>
            <p:cNvSpPr/>
            <p:nvPr/>
          </p:nvSpPr>
          <p:spPr>
            <a:xfrm>
              <a:off x="152280" y="3606840"/>
              <a:ext cx="19051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ction chem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 cycles), +/- 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th non-PD</a:t>
              </a:r>
              <a:endParaRPr b="0" lang="en-US" sz="2000" spc="-1" strike="noStrike">
                <a:solidFill>
                  <a:srgbClr val="000000"/>
                </a:solidFill>
                <a:latin typeface="Arial"/>
              </a:endParaRPr>
            </a:p>
          </p:txBody>
        </p:sp>
      </p:grpSp>
      <p:grpSp>
        <p:nvGrpSpPr>
          <p:cNvPr id="2064" name="TextBox 40"/>
          <p:cNvGrpSpPr/>
          <p:nvPr/>
        </p:nvGrpSpPr>
        <p:grpSpPr>
          <a:xfrm>
            <a:off x="2998800" y="2152800"/>
            <a:ext cx="1938240" cy="577800"/>
            <a:chOff x="2998800" y="2152800"/>
            <a:chExt cx="1938240" cy="577800"/>
          </a:xfrm>
        </p:grpSpPr>
        <p:pic>
          <p:nvPicPr>
            <p:cNvPr id="2065" name="TextBox 40" descr=""/>
            <p:cNvPicPr/>
            <p:nvPr/>
          </p:nvPicPr>
          <p:blipFill>
            <a:blip r:embed="rId2"/>
            <a:stretch/>
          </p:blipFill>
          <p:spPr>
            <a:xfrm>
              <a:off x="2998800" y="2152800"/>
              <a:ext cx="1938240" cy="577800"/>
            </a:xfrm>
            <a:prstGeom prst="rect">
              <a:avLst/>
            </a:prstGeom>
            <a:ln w="0">
              <a:noFill/>
            </a:ln>
          </p:spPr>
        </p:pic>
        <p:sp>
          <p:nvSpPr>
            <p:cNvPr id="2066" name=""/>
            <p:cNvSpPr/>
            <p:nvPr/>
          </p:nvSpPr>
          <p:spPr>
            <a:xfrm>
              <a:off x="3059280" y="2181240"/>
              <a:ext cx="181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a:t>
              </a:r>
              <a:endParaRPr b="0" lang="en-US" sz="2400" spc="-1" strike="noStrike">
                <a:solidFill>
                  <a:srgbClr val="000000"/>
                </a:solidFill>
                <a:latin typeface="Arial"/>
              </a:endParaRPr>
            </a:p>
          </p:txBody>
        </p:sp>
      </p:grpSp>
      <p:cxnSp>
        <p:nvCxnSpPr>
          <p:cNvPr id="2067" name="Straight Arrow Connector 45"/>
          <p:cNvCxnSpPr/>
          <p:nvPr/>
        </p:nvCxnSpPr>
        <p:spPr>
          <a:xfrm flipV="1">
            <a:off x="2133720" y="3104640"/>
            <a:ext cx="838800" cy="1239120"/>
          </a:xfrm>
          <a:prstGeom prst="straightConnector1">
            <a:avLst/>
          </a:prstGeom>
          <a:ln w="57240">
            <a:solidFill>
              <a:srgbClr val="002060"/>
            </a:solidFill>
            <a:miter/>
            <a:tailEnd len="med" type="triangle" w="med"/>
          </a:ln>
        </p:spPr>
      </p:cxnSp>
      <p:grpSp>
        <p:nvGrpSpPr>
          <p:cNvPr id="2068" name="Group 8"/>
          <p:cNvGrpSpPr/>
          <p:nvPr/>
        </p:nvGrpSpPr>
        <p:grpSpPr>
          <a:xfrm>
            <a:off x="2133720" y="4262400"/>
            <a:ext cx="2732040" cy="484920"/>
            <a:chOff x="2133720" y="4262400"/>
            <a:chExt cx="2732040" cy="484920"/>
          </a:xfrm>
        </p:grpSpPr>
        <p:grpSp>
          <p:nvGrpSpPr>
            <p:cNvPr id="2069" name="TextBox 41"/>
            <p:cNvGrpSpPr/>
            <p:nvPr/>
          </p:nvGrpSpPr>
          <p:grpSpPr>
            <a:xfrm>
              <a:off x="2968920" y="4262400"/>
              <a:ext cx="1896840" cy="484920"/>
              <a:chOff x="2968920" y="4262400"/>
              <a:chExt cx="1896840" cy="484920"/>
            </a:xfrm>
          </p:grpSpPr>
          <p:pic>
            <p:nvPicPr>
              <p:cNvPr id="2070" name="TextBox 41" descr=""/>
              <p:cNvPicPr/>
              <p:nvPr/>
            </p:nvPicPr>
            <p:blipFill>
              <a:blip r:embed="rId3"/>
              <a:stretch/>
            </p:blipFill>
            <p:spPr>
              <a:xfrm>
                <a:off x="2968920" y="4262400"/>
                <a:ext cx="1896840" cy="461880"/>
              </a:xfrm>
              <a:prstGeom prst="rect">
                <a:avLst/>
              </a:prstGeom>
              <a:ln w="0">
                <a:noFill/>
              </a:ln>
            </p:spPr>
          </p:pic>
          <p:sp>
            <p:nvSpPr>
              <p:cNvPr id="2071" name=""/>
              <p:cNvSpPr/>
              <p:nvPr/>
            </p:nvSpPr>
            <p:spPr>
              <a:xfrm>
                <a:off x="3028320" y="4287600"/>
                <a:ext cx="1778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a:t>
                </a:r>
                <a:endParaRPr b="0" lang="en-US" sz="2400" spc="-1" strike="noStrike">
                  <a:solidFill>
                    <a:srgbClr val="000000"/>
                  </a:solidFill>
                  <a:latin typeface="Arial"/>
                </a:endParaRPr>
              </a:p>
            </p:txBody>
          </p:sp>
        </p:grpSp>
        <p:cxnSp>
          <p:nvCxnSpPr>
            <p:cNvPr id="2072" name="Straight Arrow Connector 47"/>
            <p:cNvCxnSpPr/>
            <p:nvPr/>
          </p:nvCxnSpPr>
          <p:spPr>
            <a:xfrm>
              <a:off x="2133720" y="4411440"/>
              <a:ext cx="820800" cy="1800"/>
            </a:xfrm>
            <a:prstGeom prst="straightConnector1">
              <a:avLst/>
            </a:prstGeom>
            <a:ln w="57240">
              <a:solidFill>
                <a:srgbClr val="002060"/>
              </a:solidFill>
              <a:miter/>
              <a:tailEnd len="med" type="triangle" w="med"/>
            </a:ln>
          </p:spPr>
        </p:cxnSp>
      </p:grpSp>
      <p:grpSp>
        <p:nvGrpSpPr>
          <p:cNvPr id="2073" name="Group 7"/>
          <p:cNvGrpSpPr/>
          <p:nvPr/>
        </p:nvGrpSpPr>
        <p:grpSpPr>
          <a:xfrm>
            <a:off x="5029200" y="1523880"/>
            <a:ext cx="3980160" cy="1847880"/>
            <a:chOff x="5029200" y="1523880"/>
            <a:chExt cx="3980160" cy="1847880"/>
          </a:xfrm>
        </p:grpSpPr>
        <p:cxnSp>
          <p:nvCxnSpPr>
            <p:cNvPr id="2074" name="Straight Arrow Connector 21"/>
            <p:cNvCxnSpPr/>
            <p:nvPr/>
          </p:nvCxnSpPr>
          <p:spPr>
            <a:xfrm flipV="1">
              <a:off x="5029200" y="1856520"/>
              <a:ext cx="838800" cy="502920"/>
            </a:xfrm>
            <a:prstGeom prst="straightConnector1">
              <a:avLst/>
            </a:prstGeom>
            <a:ln w="57240">
              <a:solidFill>
                <a:srgbClr val="002060"/>
              </a:solidFill>
              <a:miter/>
              <a:tailEnd len="med" type="triangle" w="med"/>
            </a:ln>
          </p:spPr>
        </p:cxnSp>
        <p:cxnSp>
          <p:nvCxnSpPr>
            <p:cNvPr id="2075" name="Straight Arrow Connector 23"/>
            <p:cNvCxnSpPr/>
            <p:nvPr/>
          </p:nvCxnSpPr>
          <p:spPr>
            <a:xfrm>
              <a:off x="5029200" y="2502720"/>
              <a:ext cx="838800" cy="502920"/>
            </a:xfrm>
            <a:prstGeom prst="straightConnector1">
              <a:avLst/>
            </a:prstGeom>
            <a:ln w="57240">
              <a:solidFill>
                <a:srgbClr val="002060"/>
              </a:solidFill>
              <a:miter/>
              <a:tailEnd len="med" type="triangle" w="med"/>
            </a:ln>
          </p:spPr>
        </p:cxnSp>
        <p:cxnSp>
          <p:nvCxnSpPr>
            <p:cNvPr id="2076" name="Straight Arrow Connector 24"/>
            <p:cNvCxnSpPr/>
            <p:nvPr/>
          </p:nvCxnSpPr>
          <p:spPr>
            <a:xfrm>
              <a:off x="5029200" y="2430000"/>
              <a:ext cx="838800" cy="2160"/>
            </a:xfrm>
            <a:prstGeom prst="straightConnector1">
              <a:avLst/>
            </a:prstGeom>
            <a:ln w="57240">
              <a:solidFill>
                <a:srgbClr val="002060"/>
              </a:solidFill>
              <a:miter/>
              <a:tailEnd len="med" type="triangle" w="med"/>
            </a:ln>
          </p:spPr>
        </p:cxnSp>
        <p:grpSp>
          <p:nvGrpSpPr>
            <p:cNvPr id="2077" name="TextBox 26"/>
            <p:cNvGrpSpPr/>
            <p:nvPr/>
          </p:nvGrpSpPr>
          <p:grpSpPr>
            <a:xfrm>
              <a:off x="5882400" y="1523880"/>
              <a:ext cx="2255400" cy="487800"/>
              <a:chOff x="5882400" y="1523880"/>
              <a:chExt cx="2255400" cy="487800"/>
            </a:xfrm>
          </p:grpSpPr>
          <p:pic>
            <p:nvPicPr>
              <p:cNvPr id="2078" name="TextBox 26" descr=""/>
              <p:cNvPicPr/>
              <p:nvPr/>
            </p:nvPicPr>
            <p:blipFill>
              <a:blip r:embed="rId4"/>
              <a:stretch/>
            </p:blipFill>
            <p:spPr>
              <a:xfrm>
                <a:off x="5882400" y="1523880"/>
                <a:ext cx="2255400" cy="487800"/>
              </a:xfrm>
              <a:prstGeom prst="rect">
                <a:avLst/>
              </a:prstGeom>
              <a:ln w="0">
                <a:noFill/>
              </a:ln>
            </p:spPr>
          </p:pic>
          <p:sp>
            <p:nvSpPr>
              <p:cNvPr id="2079" name=""/>
              <p:cNvSpPr/>
              <p:nvPr/>
            </p:nvSpPr>
            <p:spPr>
              <a:xfrm>
                <a:off x="5943240" y="1552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grpSp>
          <p:nvGrpSpPr>
            <p:cNvPr id="2080" name="TextBox 29"/>
            <p:cNvGrpSpPr/>
            <p:nvPr/>
          </p:nvGrpSpPr>
          <p:grpSpPr>
            <a:xfrm>
              <a:off x="5882400" y="2166480"/>
              <a:ext cx="2255400" cy="487800"/>
              <a:chOff x="5882400" y="2166480"/>
              <a:chExt cx="2255400" cy="487800"/>
            </a:xfrm>
          </p:grpSpPr>
          <p:pic>
            <p:nvPicPr>
              <p:cNvPr id="2081" name="TextBox 29" descr=""/>
              <p:cNvPicPr/>
              <p:nvPr/>
            </p:nvPicPr>
            <p:blipFill>
              <a:blip r:embed="rId5"/>
              <a:stretch/>
            </p:blipFill>
            <p:spPr>
              <a:xfrm>
                <a:off x="5882400" y="2166480"/>
                <a:ext cx="2255400" cy="487800"/>
              </a:xfrm>
              <a:prstGeom prst="rect">
                <a:avLst/>
              </a:prstGeom>
              <a:ln w="0">
                <a:noFill/>
              </a:ln>
            </p:spPr>
          </p:pic>
          <p:sp>
            <p:nvSpPr>
              <p:cNvPr id="2082" name=""/>
              <p:cNvSpPr/>
              <p:nvPr/>
            </p:nvSpPr>
            <p:spPr>
              <a:xfrm>
                <a:off x="5943240" y="21949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83" name="TextBox 30"/>
            <p:cNvGrpSpPr/>
            <p:nvPr/>
          </p:nvGrpSpPr>
          <p:grpSpPr>
            <a:xfrm>
              <a:off x="5882400" y="2883960"/>
              <a:ext cx="2255400" cy="487800"/>
              <a:chOff x="5882400" y="2883960"/>
              <a:chExt cx="2255400" cy="487800"/>
            </a:xfrm>
          </p:grpSpPr>
          <p:pic>
            <p:nvPicPr>
              <p:cNvPr id="2084" name="TextBox 30" descr=""/>
              <p:cNvPicPr/>
              <p:nvPr/>
            </p:nvPicPr>
            <p:blipFill>
              <a:blip r:embed="rId6"/>
              <a:stretch/>
            </p:blipFill>
            <p:spPr>
              <a:xfrm>
                <a:off x="5882400" y="2883960"/>
                <a:ext cx="2255400" cy="487800"/>
              </a:xfrm>
              <a:prstGeom prst="rect">
                <a:avLst/>
              </a:prstGeom>
              <a:ln w="0">
                <a:noFill/>
              </a:ln>
            </p:spPr>
          </p:pic>
          <p:sp>
            <p:nvSpPr>
              <p:cNvPr id="2085" name=""/>
              <p:cNvSpPr/>
              <p:nvPr/>
            </p:nvSpPr>
            <p:spPr>
              <a:xfrm>
                <a:off x="5943240" y="291528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086" name="TextBox 6"/>
            <p:cNvSpPr/>
            <p:nvPr/>
          </p:nvSpPr>
          <p:spPr>
            <a:xfrm>
              <a:off x="8078760" y="1624320"/>
              <a:ext cx="62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4599</a:t>
              </a:r>
              <a:endParaRPr b="0" lang="en-US" sz="1200" spc="-1" strike="noStrike">
                <a:solidFill>
                  <a:srgbClr val="000000"/>
                </a:solidFill>
                <a:latin typeface="Arial"/>
              </a:endParaRPr>
            </a:p>
          </p:txBody>
        </p:sp>
        <p:sp>
          <p:nvSpPr>
            <p:cNvPr id="2087" name="TextBox 48"/>
            <p:cNvSpPr/>
            <p:nvPr/>
          </p:nvSpPr>
          <p:spPr>
            <a:xfrm>
              <a:off x="8080200" y="226692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ount</a:t>
              </a:r>
              <a:endParaRPr b="0" lang="en-US" sz="1200" spc="-1" strike="noStrike">
                <a:solidFill>
                  <a:srgbClr val="000000"/>
                </a:solidFill>
                <a:latin typeface="Arial"/>
              </a:endParaRPr>
            </a:p>
          </p:txBody>
        </p:sp>
        <p:sp>
          <p:nvSpPr>
            <p:cNvPr id="2088" name="TextBox 49"/>
            <p:cNvSpPr/>
            <p:nvPr/>
          </p:nvSpPr>
          <p:spPr>
            <a:xfrm>
              <a:off x="8080200" y="2912760"/>
              <a:ext cx="92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Break</a:t>
              </a:r>
              <a:endParaRPr b="0" lang="en-US" sz="1200" spc="-1" strike="noStrike">
                <a:solidFill>
                  <a:srgbClr val="000000"/>
                </a:solidFill>
                <a:latin typeface="Arial"/>
              </a:endParaRPr>
            </a:p>
          </p:txBody>
        </p:sp>
      </p:grpSp>
      <p:grpSp>
        <p:nvGrpSpPr>
          <p:cNvPr id="2089" name="Group 9"/>
          <p:cNvGrpSpPr/>
          <p:nvPr/>
        </p:nvGrpSpPr>
        <p:grpSpPr>
          <a:xfrm>
            <a:off x="5029200" y="3562200"/>
            <a:ext cx="3854160" cy="1847880"/>
            <a:chOff x="5029200" y="3562200"/>
            <a:chExt cx="3854160" cy="1847880"/>
          </a:xfrm>
        </p:grpSpPr>
        <p:cxnSp>
          <p:nvCxnSpPr>
            <p:cNvPr id="2090" name="Straight Arrow Connector 19"/>
            <p:cNvCxnSpPr/>
            <p:nvPr/>
          </p:nvCxnSpPr>
          <p:spPr>
            <a:xfrm flipV="1">
              <a:off x="5029200" y="3896280"/>
              <a:ext cx="838800" cy="501120"/>
            </a:xfrm>
            <a:prstGeom prst="straightConnector1">
              <a:avLst/>
            </a:prstGeom>
            <a:ln w="57240">
              <a:solidFill>
                <a:srgbClr val="002060"/>
              </a:solidFill>
              <a:miter/>
              <a:tailEnd len="med" type="triangle" w="med"/>
            </a:ln>
          </p:spPr>
        </p:cxnSp>
        <p:cxnSp>
          <p:nvCxnSpPr>
            <p:cNvPr id="2091" name="Straight Arrow Connector 20"/>
            <p:cNvCxnSpPr/>
            <p:nvPr/>
          </p:nvCxnSpPr>
          <p:spPr>
            <a:xfrm>
              <a:off x="5029200" y="4540320"/>
              <a:ext cx="838800" cy="501120"/>
            </a:xfrm>
            <a:prstGeom prst="straightConnector1">
              <a:avLst/>
            </a:prstGeom>
            <a:ln w="57240">
              <a:solidFill>
                <a:srgbClr val="002060"/>
              </a:solidFill>
              <a:miter/>
              <a:tailEnd len="med" type="triangle" w="med"/>
            </a:ln>
          </p:spPr>
        </p:cxnSp>
        <p:cxnSp>
          <p:nvCxnSpPr>
            <p:cNvPr id="2092" name="Straight Arrow Connector 22"/>
            <p:cNvCxnSpPr/>
            <p:nvPr/>
          </p:nvCxnSpPr>
          <p:spPr>
            <a:xfrm>
              <a:off x="5029200" y="4467600"/>
              <a:ext cx="838800" cy="2160"/>
            </a:xfrm>
            <a:prstGeom prst="straightConnector1">
              <a:avLst/>
            </a:prstGeom>
            <a:ln w="57240">
              <a:solidFill>
                <a:srgbClr val="002060"/>
              </a:solidFill>
              <a:miter/>
              <a:tailEnd len="med" type="triangle" w="med"/>
            </a:ln>
          </p:spPr>
        </p:cxnSp>
        <p:grpSp>
          <p:nvGrpSpPr>
            <p:cNvPr id="2093" name="TextBox 25"/>
            <p:cNvGrpSpPr/>
            <p:nvPr/>
          </p:nvGrpSpPr>
          <p:grpSpPr>
            <a:xfrm>
              <a:off x="5882400" y="3562200"/>
              <a:ext cx="2255400" cy="486360"/>
              <a:chOff x="5882400" y="3562200"/>
              <a:chExt cx="2255400" cy="486360"/>
            </a:xfrm>
          </p:grpSpPr>
          <p:pic>
            <p:nvPicPr>
              <p:cNvPr id="2094" name="TextBox 25" descr=""/>
              <p:cNvPicPr/>
              <p:nvPr/>
            </p:nvPicPr>
            <p:blipFill>
              <a:blip r:embed="rId7"/>
              <a:stretch/>
            </p:blipFill>
            <p:spPr>
              <a:xfrm>
                <a:off x="5882400" y="3562200"/>
                <a:ext cx="2255400" cy="486360"/>
              </a:xfrm>
              <a:prstGeom prst="rect">
                <a:avLst/>
              </a:prstGeom>
              <a:ln w="0">
                <a:noFill/>
              </a:ln>
            </p:spPr>
          </p:pic>
          <p:sp>
            <p:nvSpPr>
              <p:cNvPr id="2095" name=""/>
              <p:cNvSpPr/>
              <p:nvPr/>
            </p:nvSpPr>
            <p:spPr>
              <a:xfrm>
                <a:off x="5943240" y="35928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096" name="TextBox 32"/>
            <p:cNvGrpSpPr/>
            <p:nvPr/>
          </p:nvGrpSpPr>
          <p:grpSpPr>
            <a:xfrm>
              <a:off x="5882400" y="4203000"/>
              <a:ext cx="2255400" cy="486360"/>
              <a:chOff x="5882400" y="4203000"/>
              <a:chExt cx="2255400" cy="486360"/>
            </a:xfrm>
          </p:grpSpPr>
          <p:pic>
            <p:nvPicPr>
              <p:cNvPr id="2097" name="TextBox 32" descr=""/>
              <p:cNvPicPr/>
              <p:nvPr/>
            </p:nvPicPr>
            <p:blipFill>
              <a:blip r:embed="rId8"/>
              <a:stretch/>
            </p:blipFill>
            <p:spPr>
              <a:xfrm>
                <a:off x="5882400" y="4203000"/>
                <a:ext cx="2255400" cy="486360"/>
              </a:xfrm>
              <a:prstGeom prst="rect">
                <a:avLst/>
              </a:prstGeom>
              <a:ln w="0">
                <a:noFill/>
              </a:ln>
            </p:spPr>
          </p:pic>
          <p:sp>
            <p:nvSpPr>
              <p:cNvPr id="2098" name=""/>
              <p:cNvSpPr/>
              <p:nvPr/>
            </p:nvSpPr>
            <p:spPr>
              <a:xfrm>
                <a:off x="5943240" y="42336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a:t>
                </a:r>
                <a:endParaRPr b="0" lang="en-US" sz="2000" spc="-1" strike="noStrike">
                  <a:solidFill>
                    <a:srgbClr val="000000"/>
                  </a:solidFill>
                  <a:latin typeface="Arial"/>
                </a:endParaRPr>
              </a:p>
            </p:txBody>
          </p:sp>
        </p:grpSp>
        <p:grpSp>
          <p:nvGrpSpPr>
            <p:cNvPr id="2099" name="TextBox 33"/>
            <p:cNvGrpSpPr/>
            <p:nvPr/>
          </p:nvGrpSpPr>
          <p:grpSpPr>
            <a:xfrm>
              <a:off x="5882400" y="4923720"/>
              <a:ext cx="2255400" cy="486360"/>
              <a:chOff x="5882400" y="4923720"/>
              <a:chExt cx="2255400" cy="486360"/>
            </a:xfrm>
          </p:grpSpPr>
          <p:pic>
            <p:nvPicPr>
              <p:cNvPr id="2100" name="TextBox 33" descr=""/>
              <p:cNvPicPr/>
              <p:nvPr/>
            </p:nvPicPr>
            <p:blipFill>
              <a:blip r:embed="rId9"/>
              <a:stretch/>
            </p:blipFill>
            <p:spPr>
              <a:xfrm>
                <a:off x="5882400" y="4923720"/>
                <a:ext cx="2255400" cy="486360"/>
              </a:xfrm>
              <a:prstGeom prst="rect">
                <a:avLst/>
              </a:prstGeom>
              <a:ln w="0">
                <a:noFill/>
              </a:ln>
            </p:spPr>
          </p:pic>
          <p:sp>
            <p:nvSpPr>
              <p:cNvPr id="2101" name=""/>
              <p:cNvSpPr/>
              <p:nvPr/>
            </p:nvSpPr>
            <p:spPr>
              <a:xfrm>
                <a:off x="5943240" y="495144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m</a:t>
                </a:r>
                <a:endParaRPr b="0" lang="en-US" sz="2000" spc="-1" strike="noStrike">
                  <a:solidFill>
                    <a:srgbClr val="000000"/>
                  </a:solidFill>
                  <a:latin typeface="Arial"/>
                </a:endParaRPr>
              </a:p>
            </p:txBody>
          </p:sp>
        </p:grpSp>
        <p:sp>
          <p:nvSpPr>
            <p:cNvPr id="2102" name="TextBox 50"/>
            <p:cNvSpPr/>
            <p:nvPr/>
          </p:nvSpPr>
          <p:spPr>
            <a:xfrm>
              <a:off x="8081280" y="361080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EN</a:t>
              </a:r>
              <a:endParaRPr b="0" lang="en-US" sz="1200" spc="-1" strike="noStrike">
                <a:solidFill>
                  <a:srgbClr val="000000"/>
                </a:solidFill>
                <a:latin typeface="Arial"/>
              </a:endParaRPr>
            </a:p>
          </p:txBody>
        </p:sp>
        <p:sp>
          <p:nvSpPr>
            <p:cNvPr id="2103" name="TextBox 51"/>
            <p:cNvSpPr/>
            <p:nvPr/>
          </p:nvSpPr>
          <p:spPr>
            <a:xfrm>
              <a:off x="8076240" y="425160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p:txBody>
        </p:sp>
        <p:sp>
          <p:nvSpPr>
            <p:cNvPr id="2104" name="TextBox 52"/>
            <p:cNvSpPr/>
            <p:nvPr/>
          </p:nvSpPr>
          <p:spPr>
            <a:xfrm>
              <a:off x="8081280" y="496980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CT</a:t>
              </a:r>
              <a:endParaRPr b="0" lang="en-US" sz="1200" spc="-1" strike="noStrike">
                <a:solidFill>
                  <a:srgbClr val="000000"/>
                </a:solidFill>
                <a:latin typeface="Arial"/>
              </a:endParaRPr>
            </a:p>
          </p:txBody>
        </p:sp>
      </p:grpSp>
      <p:grpSp>
        <p:nvGrpSpPr>
          <p:cNvPr id="2105" name="Group 10"/>
          <p:cNvGrpSpPr/>
          <p:nvPr/>
        </p:nvGrpSpPr>
        <p:grpSpPr>
          <a:xfrm>
            <a:off x="2133720" y="4495320"/>
            <a:ext cx="6606360" cy="1905480"/>
            <a:chOff x="2133720" y="4495320"/>
            <a:chExt cx="6606360" cy="1905480"/>
          </a:xfrm>
        </p:grpSpPr>
        <p:cxnSp>
          <p:nvCxnSpPr>
            <p:cNvPr id="2106" name="Straight Arrow Connector 36"/>
            <p:cNvCxnSpPr/>
            <p:nvPr/>
          </p:nvCxnSpPr>
          <p:spPr>
            <a:xfrm>
              <a:off x="4952880" y="6171840"/>
              <a:ext cx="838800" cy="2160"/>
            </a:xfrm>
            <a:prstGeom prst="straightConnector1">
              <a:avLst/>
            </a:prstGeom>
            <a:ln w="57240">
              <a:solidFill>
                <a:srgbClr val="002060"/>
              </a:solidFill>
              <a:miter/>
              <a:tailEnd len="med" type="triangle" w="med"/>
            </a:ln>
          </p:spPr>
        </p:cxnSp>
        <p:grpSp>
          <p:nvGrpSpPr>
            <p:cNvPr id="2107" name="TextBox 43"/>
            <p:cNvGrpSpPr/>
            <p:nvPr/>
          </p:nvGrpSpPr>
          <p:grpSpPr>
            <a:xfrm>
              <a:off x="2986920" y="5846400"/>
              <a:ext cx="1938240" cy="554400"/>
              <a:chOff x="2986920" y="5846400"/>
              <a:chExt cx="1938240" cy="554400"/>
            </a:xfrm>
          </p:grpSpPr>
          <p:pic>
            <p:nvPicPr>
              <p:cNvPr id="2108" name="TextBox 43" descr=""/>
              <p:cNvPicPr/>
              <p:nvPr/>
            </p:nvPicPr>
            <p:blipFill>
              <a:blip r:embed="rId10"/>
              <a:stretch/>
            </p:blipFill>
            <p:spPr>
              <a:xfrm>
                <a:off x="2986920" y="5846400"/>
                <a:ext cx="1938240" cy="554400"/>
              </a:xfrm>
              <a:prstGeom prst="rect">
                <a:avLst/>
              </a:prstGeom>
              <a:ln w="0">
                <a:noFill/>
              </a:ln>
            </p:spPr>
          </p:pic>
          <p:sp>
            <p:nvSpPr>
              <p:cNvPr id="2109" name=""/>
              <p:cNvSpPr/>
              <p:nvPr/>
            </p:nvSpPr>
            <p:spPr>
              <a:xfrm>
                <a:off x="3047760" y="5877000"/>
                <a:ext cx="1817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a:t>
                </a:r>
                <a:endParaRPr b="0" lang="en-US" sz="2400" spc="-1" strike="noStrike">
                  <a:solidFill>
                    <a:srgbClr val="000000"/>
                  </a:solidFill>
                  <a:latin typeface="Arial"/>
                </a:endParaRPr>
              </a:p>
            </p:txBody>
          </p:sp>
        </p:grpSp>
        <p:grpSp>
          <p:nvGrpSpPr>
            <p:cNvPr id="2110" name="TextBox 44"/>
            <p:cNvGrpSpPr/>
            <p:nvPr/>
          </p:nvGrpSpPr>
          <p:grpSpPr>
            <a:xfrm>
              <a:off x="5895000" y="5852520"/>
              <a:ext cx="1938240" cy="495720"/>
              <a:chOff x="5895000" y="5852520"/>
              <a:chExt cx="1938240" cy="495720"/>
            </a:xfrm>
          </p:grpSpPr>
          <p:pic>
            <p:nvPicPr>
              <p:cNvPr id="2111" name="TextBox 44" descr=""/>
              <p:cNvPicPr/>
              <p:nvPr/>
            </p:nvPicPr>
            <p:blipFill>
              <a:blip r:embed="rId11"/>
              <a:stretch/>
            </p:blipFill>
            <p:spPr>
              <a:xfrm>
                <a:off x="5895000" y="5852520"/>
                <a:ext cx="1938240" cy="495720"/>
              </a:xfrm>
              <a:prstGeom prst="rect">
                <a:avLst/>
              </a:prstGeom>
              <a:ln w="0">
                <a:noFill/>
              </a:ln>
            </p:spPr>
          </p:pic>
          <p:sp>
            <p:nvSpPr>
              <p:cNvPr id="2112" name=""/>
              <p:cNvSpPr/>
              <p:nvPr/>
            </p:nvSpPr>
            <p:spPr>
              <a:xfrm>
                <a:off x="5954760" y="5881680"/>
                <a:ext cx="1817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lo to BV</a:t>
                </a:r>
                <a:endParaRPr b="0" lang="en-US" sz="2000" spc="-1" strike="noStrike">
                  <a:solidFill>
                    <a:srgbClr val="000000"/>
                  </a:solidFill>
                  <a:latin typeface="Arial"/>
                </a:endParaRPr>
              </a:p>
            </p:txBody>
          </p:sp>
        </p:grpSp>
        <p:cxnSp>
          <p:nvCxnSpPr>
            <p:cNvPr id="2113" name="Straight Arrow Connector 46"/>
            <p:cNvCxnSpPr/>
            <p:nvPr/>
          </p:nvCxnSpPr>
          <p:spPr>
            <a:xfrm>
              <a:off x="2133720" y="4495320"/>
              <a:ext cx="838800" cy="1532520"/>
            </a:xfrm>
            <a:prstGeom prst="straightConnector1">
              <a:avLst/>
            </a:prstGeom>
            <a:ln w="57240">
              <a:solidFill>
                <a:srgbClr val="002060"/>
              </a:solidFill>
              <a:miter/>
              <a:tailEnd len="med" type="triangle" w="med"/>
            </a:ln>
          </p:spPr>
        </p:cxnSp>
        <p:sp>
          <p:nvSpPr>
            <p:cNvPr id="2114" name="TextBox 53"/>
            <p:cNvSpPr/>
            <p:nvPr/>
          </p:nvSpPr>
          <p:spPr>
            <a:xfrm>
              <a:off x="8074800" y="58788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LAS</a:t>
              </a:r>
              <a:endParaRPr b="0" lang="en-US" sz="12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Straight Connector 5"/>
          <p:cNvSpPr/>
          <p:nvPr/>
        </p:nvSpPr>
        <p:spPr>
          <a:xfrm flipV="1">
            <a:off x="2819520" y="213948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6" name="Straight Connector 26"/>
          <p:cNvSpPr/>
          <p:nvPr/>
        </p:nvSpPr>
        <p:spPr>
          <a:xfrm>
            <a:off x="2819520" y="2597040"/>
            <a:ext cx="304560" cy="30492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7" name="Straight Connector 32"/>
          <p:cNvSpPr/>
          <p:nvPr/>
        </p:nvSpPr>
        <p:spPr>
          <a:xfrm>
            <a:off x="4038480" y="205740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8" name="Straight Connector 35"/>
          <p:cNvSpPr/>
          <p:nvPr/>
        </p:nvSpPr>
        <p:spPr>
          <a:xfrm>
            <a:off x="4038480" y="2978280"/>
            <a:ext cx="38124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19" name="Straight Connector 36"/>
          <p:cNvSpPr/>
          <p:nvPr/>
        </p:nvSpPr>
        <p:spPr>
          <a:xfrm>
            <a:off x="5334120" y="297828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0" name="Straight Connector 37"/>
          <p:cNvSpPr/>
          <p:nvPr/>
        </p:nvSpPr>
        <p:spPr>
          <a:xfrm>
            <a:off x="5334120" y="2057400"/>
            <a:ext cx="38088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oratory analysis of BV maintenance from E4599</a:t>
            </a:r>
            <a:endParaRPr b="0" lang="en-US" sz="4400" spc="-1" strike="noStrike">
              <a:solidFill>
                <a:srgbClr val="000000"/>
              </a:solidFill>
              <a:latin typeface="Arial"/>
            </a:endParaRPr>
          </a:p>
        </p:txBody>
      </p:sp>
      <p:sp>
        <p:nvSpPr>
          <p:cNvPr id="2122" name="TextBox 3"/>
          <p:cNvSpPr/>
          <p:nvPr/>
        </p:nvSpPr>
        <p:spPr>
          <a:xfrm>
            <a:off x="6593760" y="645948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pez-Chavez, JTO, 2012</a:t>
            </a:r>
            <a:endParaRPr b="0" lang="en-US" sz="1600" spc="-1" strike="noStrike">
              <a:solidFill>
                <a:srgbClr val="000000"/>
              </a:solidFill>
              <a:latin typeface="Arial"/>
            </a:endParaRPr>
          </a:p>
        </p:txBody>
      </p:sp>
      <p:sp>
        <p:nvSpPr>
          <p:cNvPr id="2123" name="Rounded Rectangle 2"/>
          <p:cNvSpPr/>
          <p:nvPr/>
        </p:nvSpPr>
        <p:spPr>
          <a:xfrm>
            <a:off x="3124080" y="182880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4" name="TextBox 1"/>
          <p:cNvSpPr/>
          <p:nvPr/>
        </p:nvSpPr>
        <p:spPr>
          <a:xfrm>
            <a:off x="3124080" y="187020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429</a:t>
            </a:r>
            <a:endParaRPr b="0" lang="en-US" sz="1300" spc="-1" strike="noStrike">
              <a:solidFill>
                <a:srgbClr val="000000"/>
              </a:solidFill>
              <a:latin typeface="Arial"/>
            </a:endParaRPr>
          </a:p>
        </p:txBody>
      </p:sp>
      <p:sp>
        <p:nvSpPr>
          <p:cNvPr id="2125" name="Rounded Rectangle 10"/>
          <p:cNvSpPr/>
          <p:nvPr/>
        </p:nvSpPr>
        <p:spPr>
          <a:xfrm>
            <a:off x="4495680" y="171144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6" name="TextBox 11"/>
          <p:cNvSpPr/>
          <p:nvPr/>
        </p:nvSpPr>
        <p:spPr>
          <a:xfrm>
            <a:off x="4495680" y="167652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 BV</a:t>
            </a:r>
            <a:br>
              <a:rPr sz="1300"/>
            </a:br>
            <a:r>
              <a:rPr b="0" lang="en-US" sz="1300" spc="-1" strike="noStrike">
                <a:solidFill>
                  <a:srgbClr val="ffffff"/>
                </a:solidFill>
                <a:latin typeface="Arial"/>
              </a:rPr>
              <a:t>n = 258</a:t>
            </a:r>
            <a:br>
              <a:rPr sz="1300"/>
            </a:br>
            <a:r>
              <a:rPr b="0" lang="en-US" sz="1300" spc="-1" strike="noStrike">
                <a:solidFill>
                  <a:srgbClr val="ffffff"/>
                </a:solidFill>
                <a:latin typeface="Arial"/>
              </a:rPr>
              <a:t>(60%)</a:t>
            </a:r>
            <a:endParaRPr b="0" lang="en-US" sz="1300" spc="-1" strike="noStrike">
              <a:solidFill>
                <a:srgbClr val="000000"/>
              </a:solidFill>
              <a:latin typeface="Arial"/>
            </a:endParaRPr>
          </a:p>
        </p:txBody>
      </p:sp>
      <p:sp>
        <p:nvSpPr>
          <p:cNvPr id="2127" name="Rounded Rectangle 12"/>
          <p:cNvSpPr/>
          <p:nvPr/>
        </p:nvSpPr>
        <p:spPr>
          <a:xfrm>
            <a:off x="5715000" y="171144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8" name="TextBox 13"/>
          <p:cNvSpPr/>
          <p:nvPr/>
        </p:nvSpPr>
        <p:spPr>
          <a:xfrm>
            <a:off x="5715000" y="167652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V maintenance</a:t>
            </a:r>
            <a:br>
              <a:rPr sz="1300"/>
            </a:br>
            <a:r>
              <a:rPr b="0" lang="en-US" sz="1300" spc="-1" strike="noStrike">
                <a:solidFill>
                  <a:srgbClr val="ffffff"/>
                </a:solidFill>
                <a:latin typeface="Arial"/>
              </a:rPr>
              <a:t>n = 217</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1%)</a:t>
            </a:r>
            <a:endParaRPr b="0" lang="en-US" sz="1300" spc="-1" strike="noStrike">
              <a:solidFill>
                <a:srgbClr val="000000"/>
              </a:solidFill>
              <a:latin typeface="Arial"/>
            </a:endParaRPr>
          </a:p>
        </p:txBody>
      </p:sp>
      <p:sp>
        <p:nvSpPr>
          <p:cNvPr id="2129" name="Rounded Rectangle 14"/>
          <p:cNvSpPr/>
          <p:nvPr/>
        </p:nvSpPr>
        <p:spPr>
          <a:xfrm>
            <a:off x="3124080" y="2673360"/>
            <a:ext cx="914400" cy="53352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0" name="TextBox 15"/>
          <p:cNvSpPr/>
          <p:nvPr/>
        </p:nvSpPr>
        <p:spPr>
          <a:xfrm>
            <a:off x="3124080" y="2714760"/>
            <a:ext cx="914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440</a:t>
            </a:r>
            <a:endParaRPr b="0" lang="en-US" sz="1300" spc="-1" strike="noStrike">
              <a:solidFill>
                <a:srgbClr val="000000"/>
              </a:solidFill>
              <a:latin typeface="Arial"/>
            </a:endParaRPr>
          </a:p>
        </p:txBody>
      </p:sp>
      <p:sp>
        <p:nvSpPr>
          <p:cNvPr id="2131" name="Rounded Rectangle 16"/>
          <p:cNvSpPr/>
          <p:nvPr/>
        </p:nvSpPr>
        <p:spPr>
          <a:xfrm>
            <a:off x="4495680" y="2556000"/>
            <a:ext cx="9144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2" name="TextBox 17"/>
          <p:cNvSpPr/>
          <p:nvPr/>
        </p:nvSpPr>
        <p:spPr>
          <a:xfrm>
            <a:off x="4495680" y="2521080"/>
            <a:ext cx="9144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a:t>
            </a:r>
            <a:br>
              <a:rPr sz="1300"/>
            </a:br>
            <a:r>
              <a:rPr b="0" lang="en-US" sz="1300" spc="-1" strike="noStrike">
                <a:solidFill>
                  <a:srgbClr val="ffffff"/>
                </a:solidFill>
                <a:latin typeface="Arial"/>
              </a:rPr>
              <a:t>n = 194</a:t>
            </a:r>
            <a:br>
              <a:rPr sz="1300"/>
            </a:br>
            <a:r>
              <a:rPr b="0" lang="en-US" sz="1300" spc="-1" strike="noStrike">
                <a:solidFill>
                  <a:srgbClr val="ffffff"/>
                </a:solidFill>
                <a:latin typeface="Arial"/>
              </a:rPr>
              <a:t>(44%)</a:t>
            </a:r>
            <a:endParaRPr b="0" lang="en-US" sz="1300" spc="-1" strike="noStrike">
              <a:solidFill>
                <a:srgbClr val="000000"/>
              </a:solidFill>
              <a:latin typeface="Arial"/>
            </a:endParaRPr>
          </a:p>
        </p:txBody>
      </p:sp>
      <p:sp>
        <p:nvSpPr>
          <p:cNvPr id="2133" name="Rounded Rectangle 18"/>
          <p:cNvSpPr/>
          <p:nvPr/>
        </p:nvSpPr>
        <p:spPr>
          <a:xfrm>
            <a:off x="5715000" y="2556000"/>
            <a:ext cx="167652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4" name="TextBox 19"/>
          <p:cNvSpPr/>
          <p:nvPr/>
        </p:nvSpPr>
        <p:spPr>
          <a:xfrm>
            <a:off x="5715000" y="2521080"/>
            <a:ext cx="16765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P nonprogressors</a:t>
            </a:r>
            <a:br>
              <a:rPr sz="1300"/>
            </a:br>
            <a:r>
              <a:rPr b="0" lang="en-US" sz="1300" spc="-1" strike="noStrike">
                <a:solidFill>
                  <a:srgbClr val="ffffff"/>
                </a:solidFill>
                <a:latin typeface="Arial"/>
              </a:rPr>
              <a:t>n = 134</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0%)</a:t>
            </a:r>
            <a:endParaRPr b="0" lang="en-US" sz="1300" spc="-1" strike="noStrike">
              <a:solidFill>
                <a:srgbClr val="000000"/>
              </a:solidFill>
              <a:latin typeface="Arial"/>
            </a:endParaRPr>
          </a:p>
        </p:txBody>
      </p:sp>
      <p:sp>
        <p:nvSpPr>
          <p:cNvPr id="2135" name="Rounded Rectangle 20"/>
          <p:cNvSpPr/>
          <p:nvPr/>
        </p:nvSpPr>
        <p:spPr>
          <a:xfrm>
            <a:off x="1676520" y="2139840"/>
            <a:ext cx="1143000" cy="650880"/>
          </a:xfrm>
          <a:prstGeom prst="roundRect">
            <a:avLst>
              <a:gd name="adj" fmla="val 16667"/>
            </a:avLst>
          </a:prstGeom>
          <a:solidFill>
            <a:srgbClr val="0000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6" name="TextBox 21"/>
          <p:cNvSpPr/>
          <p:nvPr/>
        </p:nvSpPr>
        <p:spPr>
          <a:xfrm>
            <a:off x="1676520" y="2104920"/>
            <a:ext cx="11430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tients in</a:t>
            </a:r>
            <a:br>
              <a:rPr sz="1300"/>
            </a:br>
            <a:r>
              <a:rPr b="0" lang="en-US" sz="1300" spc="-1" strike="noStrike">
                <a:solidFill>
                  <a:srgbClr val="ffffff"/>
                </a:solidFill>
                <a:latin typeface="Arial"/>
              </a:rPr>
              <a:t>ECOG 4599</a:t>
            </a:r>
            <a:br>
              <a:rPr sz="1300"/>
            </a:br>
            <a:r>
              <a:rPr b="0" lang="en-US" sz="1300" spc="-1" strike="noStrike">
                <a:solidFill>
                  <a:srgbClr val="ffffff"/>
                </a:solidFill>
                <a:latin typeface="Arial"/>
              </a:rPr>
              <a:t>n = 869</a:t>
            </a:r>
            <a:endParaRPr b="0" lang="en-US" sz="1300" spc="-1" strike="noStrike">
              <a:solidFill>
                <a:srgbClr val="000000"/>
              </a:solidFill>
              <a:latin typeface="Arial"/>
            </a:endParaRPr>
          </a:p>
        </p:txBody>
      </p:sp>
      <p:sp>
        <p:nvSpPr>
          <p:cNvPr id="2137" name="TextBox 30"/>
          <p:cNvSpPr/>
          <p:nvPr/>
        </p:nvSpPr>
        <p:spPr>
          <a:xfrm>
            <a:off x="274320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6 cycles</a:t>
            </a:r>
            <a:endParaRPr b="0" lang="en-US" sz="1200" spc="-1" strike="noStrike">
              <a:solidFill>
                <a:srgbClr val="000000"/>
              </a:solidFill>
              <a:latin typeface="Arial"/>
            </a:endParaRPr>
          </a:p>
        </p:txBody>
      </p:sp>
      <p:sp>
        <p:nvSpPr>
          <p:cNvPr id="2138" name="TextBox 39"/>
          <p:cNvSpPr/>
          <p:nvPr/>
        </p:nvSpPr>
        <p:spPr>
          <a:xfrm>
            <a:off x="41911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d 6 cycles</a:t>
            </a:r>
            <a:endParaRPr b="0" lang="en-US" sz="1200" spc="-1" strike="noStrike">
              <a:solidFill>
                <a:srgbClr val="000000"/>
              </a:solidFill>
              <a:latin typeface="Arial"/>
            </a:endParaRPr>
          </a:p>
        </p:txBody>
      </p:sp>
      <p:sp>
        <p:nvSpPr>
          <p:cNvPr id="2139" name="TextBox 40"/>
          <p:cNvSpPr/>
          <p:nvPr/>
        </p:nvSpPr>
        <p:spPr>
          <a:xfrm>
            <a:off x="5791320" y="1447920"/>
            <a:ext cx="1600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population</a:t>
            </a:r>
            <a:endParaRPr b="0" lang="en-US" sz="1200" spc="-1" strike="noStrike">
              <a:solidFill>
                <a:srgbClr val="000000"/>
              </a:solidFill>
              <a:latin typeface="Arial"/>
            </a:endParaRPr>
          </a:p>
        </p:txBody>
      </p:sp>
      <p:graphicFrame>
        <p:nvGraphicFramePr>
          <p:cNvPr id="2140" name=""/>
          <p:cNvGraphicFramePr/>
          <p:nvPr/>
        </p:nvGraphicFramePr>
        <p:xfrm>
          <a:off x="762120" y="3581280"/>
          <a:ext cx="7543800" cy="2259000"/>
        </p:xfrm>
        <a:graphic>
          <a:graphicData uri="http://schemas.openxmlformats.org/drawingml/2006/table">
            <a:tbl>
              <a:tblPr/>
              <a:tblGrid>
                <a:gridCol w="2590560"/>
                <a:gridCol w="2797200"/>
                <a:gridCol w="2156040"/>
              </a:tblGrid>
              <a:tr h="8226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 + bev induction followed by bev maintenance (n = 217)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P induction </a:t>
                      </a:r>
                      <a:br>
                        <a:rPr sz="1600"/>
                      </a:br>
                      <a:r>
                        <a:rPr b="1" lang="en-US" sz="1600" spc="-1" strike="noStrike">
                          <a:solidFill>
                            <a:srgbClr val="000000"/>
                          </a:solidFill>
                          <a:latin typeface="Arial"/>
                        </a:rPr>
                        <a:t>+ no maintenance </a:t>
                      </a:r>
                      <a:br>
                        <a:rPr sz="1600"/>
                      </a:br>
                      <a:r>
                        <a:rPr b="1" lang="en-US" sz="1600" spc="-1" strike="noStrike">
                          <a:solidFill>
                            <a:srgbClr val="000000"/>
                          </a:solidFill>
                          <a:latin typeface="Arial"/>
                        </a:rPr>
                        <a:t>(n = 134)</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3585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overall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4.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8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3603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R = 0.75, </a:t>
                      </a:r>
                      <a:r>
                        <a:rPr b="0" i="1" lang="en-US" sz="1600" spc="-1" strike="noStrike">
                          <a:solidFill>
                            <a:srgbClr val="000000"/>
                          </a:solidFill>
                          <a:latin typeface="Arial"/>
                        </a:rPr>
                        <a:t>p</a:t>
                      </a:r>
                      <a:r>
                        <a:rPr b="0" lang="en-US" sz="1600" spc="-1" strike="noStrike">
                          <a:solidFill>
                            <a:srgbClr val="000000"/>
                          </a:solidFill>
                          <a:latin typeface="Arial"/>
                        </a:rPr>
                        <a:t> = 0.03</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rogression-free survival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12.4 mo </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1.2 mo</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58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 = 0.64, </a:t>
                      </a:r>
                      <a:r>
                        <a:rPr b="0" i="1" lang="en-US" sz="1600" spc="-1" strike="noStrike">
                          <a:solidFill>
                            <a:srgbClr val="000000"/>
                          </a:solidFill>
                          <a:latin typeface="Arial"/>
                        </a:rPr>
                        <a:t>p</a:t>
                      </a:r>
                      <a:r>
                        <a:rPr b="0" lang="en-US" sz="1600" spc="-1" strike="noStrike">
                          <a:solidFill>
                            <a:srgbClr val="000000"/>
                          </a:solidFill>
                          <a:latin typeface="Arial"/>
                        </a:rPr>
                        <a:t> &lt; 0.001</a:t>
                      </a:r>
                      <a:endParaRPr b="0" lang="en-US" sz="16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OUNT: Phase III study of maintenance pem vs BSC after Pem/Cis induction </a:t>
            </a:r>
            <a:endParaRPr b="0" lang="en-US" sz="3200" spc="-1" strike="noStrike">
              <a:solidFill>
                <a:srgbClr val="000000"/>
              </a:solidFill>
              <a:latin typeface="Arial"/>
            </a:endParaRPr>
          </a:p>
        </p:txBody>
      </p:sp>
      <p:sp>
        <p:nvSpPr>
          <p:cNvPr id="2142" name="TextBox 3"/>
          <p:cNvSpPr/>
          <p:nvPr/>
        </p:nvSpPr>
        <p:spPr>
          <a:xfrm>
            <a:off x="4884840" y="6400800"/>
            <a:ext cx="365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z-Ares et al, Lancet Oncology, 2012</a:t>
            </a:r>
            <a:endParaRPr b="0" lang="en-US" sz="1600" spc="-1" strike="noStrike">
              <a:solidFill>
                <a:srgbClr val="000000"/>
              </a:solidFill>
              <a:latin typeface="Arial"/>
            </a:endParaRPr>
          </a:p>
        </p:txBody>
      </p:sp>
      <p:graphicFrame>
        <p:nvGraphicFramePr>
          <p:cNvPr id="2143" name=""/>
          <p:cNvGraphicFramePr/>
          <p:nvPr/>
        </p:nvGraphicFramePr>
        <p:xfrm>
          <a:off x="609480" y="2286000"/>
          <a:ext cx="8153640" cy="1981080"/>
        </p:xfrm>
        <a:graphic>
          <a:graphicData uri="http://schemas.openxmlformats.org/drawingml/2006/table">
            <a:tbl>
              <a:tblPr/>
              <a:tblGrid>
                <a:gridCol w="2210040"/>
                <a:gridCol w="1600200"/>
                <a:gridCol w="1447560"/>
                <a:gridCol w="1447920"/>
                <a:gridCol w="1447920"/>
              </a:tblGrid>
              <a:tr h="10080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vival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cebo + BSC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nk p </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R (95% CI)</a:t>
                      </a: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973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FS (95% CI)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1 mo (3.2-4.6)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 mo (2.6-3.1) </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0.0001</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2 (0.49-0.79)</a:t>
                      </a:r>
                      <a:endParaRPr b="0" lang="en-US" sz="16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44" name="Straight Arrow Connector 14"/>
          <p:cNvCxnSpPr/>
          <p:nvPr/>
        </p:nvCxnSpPr>
        <p:spPr>
          <a:xfrm>
            <a:off x="3200400" y="2501640"/>
            <a:ext cx="991440" cy="1080"/>
          </a:xfrm>
          <a:prstGeom prst="straightConnector1">
            <a:avLst/>
          </a:prstGeom>
          <a:ln w="57240">
            <a:solidFill>
              <a:srgbClr val="002060"/>
            </a:solidFill>
            <a:miter/>
            <a:tailEnd len="med" type="triangle" w="med"/>
          </a:ln>
        </p:spPr>
      </p:cxnSp>
      <p:sp>
        <p:nvSpPr>
          <p:cNvPr id="2145"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MEN Phase III trial of </a:t>
            </a:r>
            <a:r>
              <a:rPr b="0" lang="ja-JP" sz="3200" spc="-1" strike="noStrike">
                <a:solidFill>
                  <a:srgbClr val="000000"/>
                </a:solidFill>
                <a:latin typeface="Arial"/>
              </a:rPr>
              <a:t>“</a:t>
            </a:r>
            <a:r>
              <a:rPr b="0" lang="en-US" sz="3200" spc="-1" strike="noStrike">
                <a:solidFill>
                  <a:srgbClr val="000000"/>
                </a:solidFill>
                <a:latin typeface="Arial"/>
              </a:rPr>
              <a:t>switch</a:t>
            </a:r>
            <a:r>
              <a:rPr b="0" lang="ja-JP" sz="3200" spc="-1" strike="noStrike">
                <a:solidFill>
                  <a:srgbClr val="000000"/>
                </a:solidFill>
                <a:latin typeface="Arial"/>
              </a:rPr>
              <a:t>”</a:t>
            </a:r>
            <a:r>
              <a:rPr b="0" lang="en-US" sz="3200" spc="-1" strike="noStrike">
                <a:solidFill>
                  <a:srgbClr val="000000"/>
                </a:solidFill>
                <a:latin typeface="Arial"/>
              </a:rPr>
              <a:t> maintenance for NSCLC (non-squamous subset)</a:t>
            </a:r>
            <a:endParaRPr b="0" lang="en-US" sz="3200" spc="-1" strike="noStrike">
              <a:solidFill>
                <a:srgbClr val="000000"/>
              </a:solidFill>
              <a:latin typeface="Arial"/>
            </a:endParaRPr>
          </a:p>
        </p:txBody>
      </p:sp>
      <p:grpSp>
        <p:nvGrpSpPr>
          <p:cNvPr id="2146" name="TextBox 18"/>
          <p:cNvGrpSpPr/>
          <p:nvPr/>
        </p:nvGrpSpPr>
        <p:grpSpPr>
          <a:xfrm>
            <a:off x="853920" y="1779480"/>
            <a:ext cx="2919600" cy="1354320"/>
            <a:chOff x="853920" y="1779480"/>
            <a:chExt cx="2919600" cy="1354320"/>
          </a:xfrm>
        </p:grpSpPr>
        <p:pic>
          <p:nvPicPr>
            <p:cNvPr id="2147" name="TextBox 18" descr=""/>
            <p:cNvPicPr/>
            <p:nvPr/>
          </p:nvPicPr>
          <p:blipFill>
            <a:blip r:embed="rId1"/>
            <a:stretch/>
          </p:blipFill>
          <p:spPr>
            <a:xfrm>
              <a:off x="853920" y="1779480"/>
              <a:ext cx="2919600" cy="1354320"/>
            </a:xfrm>
            <a:prstGeom prst="rect">
              <a:avLst/>
            </a:prstGeom>
            <a:ln w="0">
              <a:noFill/>
            </a:ln>
          </p:spPr>
        </p:pic>
        <p:sp>
          <p:nvSpPr>
            <p:cNvPr id="2148" name=""/>
            <p:cNvSpPr/>
            <p:nvPr/>
          </p:nvSpPr>
          <p:spPr>
            <a:xfrm>
              <a:off x="914400" y="1812960"/>
              <a:ext cx="2800440" cy="12200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ge IIIB/IV NSCLC</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ycles of gem, doc, or tax + cis/carb, w/ non-PD</a:t>
              </a:r>
              <a:endParaRPr b="0" lang="en-US" sz="1600" spc="-1" strike="noStrike">
                <a:solidFill>
                  <a:srgbClr val="000000"/>
                </a:solidFill>
                <a:latin typeface="Arial"/>
              </a:endParaRPr>
            </a:p>
            <a:p>
              <a:pPr marL="231840" indent="-231840">
                <a:spcBef>
                  <a:spcPts val="601"/>
                </a:spcBef>
                <a:buClr>
                  <a:srgbClr val="f07f0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endpoint: PFS</a:t>
              </a:r>
              <a:endParaRPr b="0" lang="en-US" sz="1600" spc="-1" strike="noStrike">
                <a:solidFill>
                  <a:srgbClr val="000000"/>
                </a:solidFill>
                <a:latin typeface="Arial"/>
              </a:endParaRPr>
            </a:p>
          </p:txBody>
        </p:sp>
      </p:grpSp>
      <p:cxnSp>
        <p:nvCxnSpPr>
          <p:cNvPr id="2149" name="Straight Arrow Connector 21"/>
          <p:cNvCxnSpPr/>
          <p:nvPr/>
        </p:nvCxnSpPr>
        <p:spPr>
          <a:xfrm flipV="1">
            <a:off x="5029200" y="1901520"/>
            <a:ext cx="838800" cy="534240"/>
          </a:xfrm>
          <a:prstGeom prst="straightConnector1">
            <a:avLst/>
          </a:prstGeom>
          <a:ln w="57240">
            <a:solidFill>
              <a:srgbClr val="002060"/>
            </a:solidFill>
            <a:miter/>
            <a:tailEnd len="med" type="triangle" w="med"/>
          </a:ln>
        </p:spPr>
      </p:cxnSp>
      <p:cxnSp>
        <p:nvCxnSpPr>
          <p:cNvPr id="2150" name="Straight Arrow Connector 23"/>
          <p:cNvCxnSpPr/>
          <p:nvPr/>
        </p:nvCxnSpPr>
        <p:spPr>
          <a:xfrm>
            <a:off x="5029200" y="2587680"/>
            <a:ext cx="838800" cy="534240"/>
          </a:xfrm>
          <a:prstGeom prst="straightConnector1">
            <a:avLst/>
          </a:prstGeom>
          <a:ln w="57240">
            <a:solidFill>
              <a:srgbClr val="002060"/>
            </a:solidFill>
            <a:miter/>
            <a:tailEnd len="med" type="triangle" w="med"/>
          </a:ln>
        </p:spPr>
      </p:cxnSp>
      <p:grpSp>
        <p:nvGrpSpPr>
          <p:cNvPr id="2151" name="TextBox 26"/>
          <p:cNvGrpSpPr/>
          <p:nvPr/>
        </p:nvGrpSpPr>
        <p:grpSpPr>
          <a:xfrm>
            <a:off x="5883120" y="1494000"/>
            <a:ext cx="2406960" cy="1029960"/>
            <a:chOff x="5883120" y="1494000"/>
            <a:chExt cx="2406960" cy="1029960"/>
          </a:xfrm>
        </p:grpSpPr>
        <p:pic>
          <p:nvPicPr>
            <p:cNvPr id="2152" name="TextBox 26" descr=""/>
            <p:cNvPicPr/>
            <p:nvPr/>
          </p:nvPicPr>
          <p:blipFill>
            <a:blip r:embed="rId2"/>
            <a:stretch/>
          </p:blipFill>
          <p:spPr>
            <a:xfrm>
              <a:off x="5883120" y="1494000"/>
              <a:ext cx="2406960" cy="1029960"/>
            </a:xfrm>
            <a:prstGeom prst="rect">
              <a:avLst/>
            </a:prstGeom>
            <a:ln w="0">
              <a:noFill/>
            </a:ln>
          </p:spPr>
        </p:pic>
        <p:sp>
          <p:nvSpPr>
            <p:cNvPr id="2153" name=""/>
            <p:cNvSpPr/>
            <p:nvPr/>
          </p:nvSpPr>
          <p:spPr>
            <a:xfrm>
              <a:off x="5943600" y="1523880"/>
              <a:ext cx="2286000" cy="906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etrexed </a:t>
              </a:r>
              <a:endParaRPr b="0" lang="en-US" sz="1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mg/m</a:t>
              </a:r>
              <a:r>
                <a:rPr b="0" lang="en-US" sz="1600" spc="-1" strike="noStrike" baseline="30000">
                  <a:solidFill>
                    <a:srgbClr val="000000"/>
                  </a:solidFill>
                  <a:latin typeface="Arial"/>
                </a:rPr>
                <a:t>2</a:t>
              </a:r>
              <a:r>
                <a:rPr b="0" lang="en-US" sz="1600" spc="-1" strike="noStrike">
                  <a:solidFill>
                    <a:srgbClr val="000000"/>
                  </a:solidFill>
                  <a:latin typeface="Arial"/>
                </a:rPr>
                <a:t>, q21d</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41)</a:t>
              </a:r>
              <a:endParaRPr b="0" lang="en-US" sz="1600" spc="-1" strike="noStrike">
                <a:solidFill>
                  <a:srgbClr val="000000"/>
                </a:solidFill>
                <a:latin typeface="Arial"/>
              </a:endParaRPr>
            </a:p>
          </p:txBody>
        </p:sp>
      </p:grpSp>
      <p:grpSp>
        <p:nvGrpSpPr>
          <p:cNvPr id="2154" name="TextBox 37"/>
          <p:cNvGrpSpPr/>
          <p:nvPr/>
        </p:nvGrpSpPr>
        <p:grpSpPr>
          <a:xfrm>
            <a:off x="5883120" y="2798640"/>
            <a:ext cx="2327400" cy="487440"/>
            <a:chOff x="5883120" y="2798640"/>
            <a:chExt cx="2327400" cy="487440"/>
          </a:xfrm>
        </p:grpSpPr>
        <p:pic>
          <p:nvPicPr>
            <p:cNvPr id="2155" name="TextBox 37" descr=""/>
            <p:cNvPicPr/>
            <p:nvPr/>
          </p:nvPicPr>
          <p:blipFill>
            <a:blip r:embed="rId3"/>
            <a:stretch/>
          </p:blipFill>
          <p:spPr>
            <a:xfrm>
              <a:off x="5883120" y="2798640"/>
              <a:ext cx="2327400" cy="487440"/>
            </a:xfrm>
            <a:prstGeom prst="rect">
              <a:avLst/>
            </a:prstGeom>
            <a:ln w="0">
              <a:noFill/>
            </a:ln>
          </p:spPr>
        </p:pic>
        <p:sp>
          <p:nvSpPr>
            <p:cNvPr id="2156" name=""/>
            <p:cNvSpPr/>
            <p:nvPr/>
          </p:nvSpPr>
          <p:spPr>
            <a:xfrm>
              <a:off x="5943600" y="282744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bo (N=222)</a:t>
              </a:r>
              <a:endParaRPr b="0" lang="en-US" sz="1800" spc="-1" strike="noStrike">
                <a:solidFill>
                  <a:srgbClr val="000000"/>
                </a:solidFill>
                <a:latin typeface="Arial"/>
              </a:endParaRPr>
            </a:p>
          </p:txBody>
        </p:sp>
      </p:grpSp>
      <p:sp>
        <p:nvSpPr>
          <p:cNvPr id="2157" name="TextBox 19"/>
          <p:cNvSpPr/>
          <p:nvPr/>
        </p:nvSpPr>
        <p:spPr>
          <a:xfrm>
            <a:off x="4956480" y="651996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uleanu et al, Lancet, 2009</a:t>
            </a:r>
            <a:endParaRPr b="0" lang="en-US" sz="1400" spc="-1" strike="noStrike">
              <a:solidFill>
                <a:srgbClr val="000000"/>
              </a:solidFill>
              <a:latin typeface="Arial"/>
            </a:endParaRPr>
          </a:p>
        </p:txBody>
      </p:sp>
      <p:grpSp>
        <p:nvGrpSpPr>
          <p:cNvPr id="2158" name="TextBox 13"/>
          <p:cNvGrpSpPr/>
          <p:nvPr/>
        </p:nvGrpSpPr>
        <p:grpSpPr>
          <a:xfrm>
            <a:off x="4206960" y="2023920"/>
            <a:ext cx="955440" cy="944640"/>
            <a:chOff x="4206960" y="2023920"/>
            <a:chExt cx="955440" cy="944640"/>
          </a:xfrm>
        </p:grpSpPr>
        <p:pic>
          <p:nvPicPr>
            <p:cNvPr id="2159" name="TextBox 13" descr=""/>
            <p:cNvPicPr/>
            <p:nvPr/>
          </p:nvPicPr>
          <p:blipFill>
            <a:blip r:embed="rId4"/>
            <a:stretch/>
          </p:blipFill>
          <p:spPr>
            <a:xfrm>
              <a:off x="4206960" y="2023920"/>
              <a:ext cx="955440" cy="944640"/>
            </a:xfrm>
            <a:prstGeom prst="rect">
              <a:avLst/>
            </a:prstGeom>
            <a:ln w="0">
              <a:noFill/>
            </a:ln>
          </p:spPr>
        </p:pic>
        <p:sp>
          <p:nvSpPr>
            <p:cNvPr id="2160" name=""/>
            <p:cNvSpPr/>
            <p:nvPr/>
          </p:nvSpPr>
          <p:spPr>
            <a:xfrm>
              <a:off x="4389480" y="2178000"/>
              <a:ext cx="593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p:txBody>
        </p:sp>
      </p:grpSp>
      <p:graphicFrame>
        <p:nvGraphicFramePr>
          <p:cNvPr id="2161" name=""/>
          <p:cNvGraphicFramePr/>
          <p:nvPr/>
        </p:nvGraphicFramePr>
        <p:xfrm>
          <a:off x="609480" y="3581280"/>
          <a:ext cx="8153640" cy="2133720"/>
        </p:xfrm>
        <a:graphic>
          <a:graphicData uri="http://schemas.openxmlformats.org/drawingml/2006/table">
            <a:tbl>
              <a:tblPr/>
              <a:tblGrid>
                <a:gridCol w="3048120"/>
                <a:gridCol w="1523880"/>
                <a:gridCol w="1219320"/>
                <a:gridCol w="1143000"/>
                <a:gridCol w="1219320"/>
              </a:tblGrid>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fficacy parameter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metrex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32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 = 156)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azard rati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value</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7621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S</a:t>
                      </a:r>
                      <a:br>
                        <a:rPr sz="1800"/>
                      </a:br>
                      <a:r>
                        <a:rPr b="0" lang="en-US" sz="1800" spc="-1" strike="noStrike">
                          <a:solidFill>
                            <a:srgbClr val="000000"/>
                          </a:solidFill>
                          <a:latin typeface="Arial"/>
                        </a:rPr>
                        <a:t>    Nonsquamous</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44</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0.0001</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68580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Nonsquamous </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5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3 mo</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70</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00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title"/>
          </p:nvPr>
        </p:nvSpPr>
        <p:spPr>
          <a:xfrm>
            <a:off x="456840" y="380520"/>
            <a:ext cx="843444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hase III IFCT-GFPC 0502 results: </a:t>
            </a:r>
            <a:br>
              <a:rPr sz="4000"/>
            </a:br>
            <a:r>
              <a:rPr b="0" lang="en-GB" sz="4000" spc="-1" strike="noStrike">
                <a:solidFill>
                  <a:srgbClr val="000000"/>
                </a:solidFill>
                <a:latin typeface="Arial"/>
              </a:rPr>
              <a:t>gem maintenance prolongs PFS </a:t>
            </a:r>
            <a:endParaRPr b="0" lang="en-US" sz="4000" spc="-1" strike="noStrike">
              <a:solidFill>
                <a:srgbClr val="000000"/>
              </a:solidFill>
              <a:latin typeface="Arial"/>
            </a:endParaRPr>
          </a:p>
        </p:txBody>
      </p:sp>
      <p:sp>
        <p:nvSpPr>
          <p:cNvPr id="2163" name="Rectangle 5"/>
          <p:cNvSpPr/>
          <p:nvPr/>
        </p:nvSpPr>
        <p:spPr>
          <a:xfrm>
            <a:off x="108000" y="6535800"/>
            <a:ext cx="871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Perol M. </a:t>
            </a:r>
            <a:r>
              <a:rPr b="0" i="1" lang="en-IE" sz="1200" spc="-1" strike="noStrike">
                <a:solidFill>
                  <a:srgbClr val="000000"/>
                </a:solidFill>
                <a:latin typeface="Arial"/>
              </a:rPr>
              <a:t>J Clin Oncol </a:t>
            </a:r>
            <a:r>
              <a:rPr b="0" lang="en-IE" sz="1200" spc="-1" strike="noStrike">
                <a:solidFill>
                  <a:srgbClr val="000000"/>
                </a:solidFill>
                <a:latin typeface="Arial"/>
              </a:rPr>
              <a:t>2010;28:15s (suppl; abstr 7507)</a:t>
            </a:r>
            <a:endParaRPr b="0" lang="en-US" sz="1200" spc="-1" strike="noStrike">
              <a:solidFill>
                <a:srgbClr val="000000"/>
              </a:solidFill>
              <a:latin typeface="Arial"/>
            </a:endParaRPr>
          </a:p>
        </p:txBody>
      </p:sp>
      <p:sp>
        <p:nvSpPr>
          <p:cNvPr id="2164" name="Content Placeholder 2"/>
          <p:cNvSpPr/>
          <p:nvPr/>
        </p:nvSpPr>
        <p:spPr>
          <a:xfrm>
            <a:off x="1476360" y="1484280"/>
            <a:ext cx="6912000" cy="865080"/>
          </a:xfrm>
          <a:prstGeom prst="rect">
            <a:avLst/>
          </a:prstGeom>
          <a:noFill/>
          <a:ln w="0">
            <a:noFill/>
          </a:ln>
        </p:spPr>
        <p:style>
          <a:lnRef idx="0"/>
          <a:fillRef idx="0"/>
          <a:effectRef idx="0"/>
          <a:fontRef idx="minor"/>
        </p:style>
        <p:txBody>
          <a:bodyPr lIns="270000" rIns="90000" tIns="46800" bIns="46800" anchor="t">
            <a:noAutofit/>
          </a:bodyPr>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enance therapy with gemcitabine significantly delayed disease progression compared with the observation arm</a:t>
            </a:r>
            <a:endParaRPr b="0" lang="en-US" sz="2000" spc="-1" strike="noStrike">
              <a:solidFill>
                <a:srgbClr val="000000"/>
              </a:solidFill>
              <a:latin typeface="Arial"/>
            </a:endParaRPr>
          </a:p>
        </p:txBody>
      </p:sp>
      <p:sp>
        <p:nvSpPr>
          <p:cNvPr id="2165" name="TextBox 137"/>
          <p:cNvSpPr/>
          <p:nvPr/>
        </p:nvSpPr>
        <p:spPr>
          <a:xfrm flipH="1">
            <a:off x="5784120" y="6362640"/>
            <a:ext cx="322596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FS is measured from time of randomization into the maintenance phase</a:t>
            </a:r>
            <a:endParaRPr b="0" lang="en-US" sz="1200" spc="-1" strike="noStrike">
              <a:solidFill>
                <a:srgbClr val="000000"/>
              </a:solidFill>
              <a:latin typeface="Arial"/>
            </a:endParaRPr>
          </a:p>
        </p:txBody>
      </p:sp>
      <p:sp>
        <p:nvSpPr>
          <p:cNvPr id="2166" name="TextBox 150"/>
          <p:cNvSpPr/>
          <p:nvPr/>
        </p:nvSpPr>
        <p:spPr>
          <a:xfrm>
            <a:off x="1476360" y="2492280"/>
            <a:ext cx="6805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FS by independent review: gemcitabine versus observation</a:t>
            </a:r>
            <a:endParaRPr b="0" lang="en-US" sz="1600" spc="-1" strike="noStrike">
              <a:solidFill>
                <a:srgbClr val="000000"/>
              </a:solidFill>
              <a:latin typeface="Arial"/>
            </a:endParaRPr>
          </a:p>
        </p:txBody>
      </p:sp>
      <p:sp>
        <p:nvSpPr>
          <p:cNvPr id="2167" name="TextBox 132"/>
          <p:cNvSpPr/>
          <p:nvPr/>
        </p:nvSpPr>
        <p:spPr>
          <a:xfrm flipH="1">
            <a:off x="914400" y="5486400"/>
            <a:ext cx="32004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R=0.55 (0.43–0.7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g-rank test, p&lt;0.0001</a:t>
            </a:r>
            <a:endParaRPr b="0" lang="en-US" sz="1600" spc="-1" strike="noStrike">
              <a:solidFill>
                <a:srgbClr val="000000"/>
              </a:solidFill>
              <a:latin typeface="Arial"/>
            </a:endParaRPr>
          </a:p>
        </p:txBody>
      </p:sp>
      <p:graphicFrame>
        <p:nvGraphicFramePr>
          <p:cNvPr id="2168" name=""/>
          <p:cNvGraphicFramePr/>
          <p:nvPr/>
        </p:nvGraphicFramePr>
        <p:xfrm>
          <a:off x="838080" y="3276720"/>
          <a:ext cx="7239240" cy="2133360"/>
        </p:xfrm>
        <a:graphic>
          <a:graphicData uri="http://schemas.openxmlformats.org/drawingml/2006/table">
            <a:tbl>
              <a:tblPr/>
              <a:tblGrid>
                <a:gridCol w="3084480"/>
                <a:gridCol w="2086200"/>
                <a:gridCol w="2068560"/>
              </a:tblGrid>
              <a:tr h="7617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bservation </a:t>
                      </a:r>
                      <a:br>
                        <a:rPr sz="1800"/>
                      </a:br>
                      <a:r>
                        <a:rPr b="1" lang="en-GB" sz="1800" spc="-1" strike="noStrike">
                          <a:solidFill>
                            <a:srgbClr val="000000"/>
                          </a:solidFill>
                          <a:latin typeface="Arial"/>
                        </a:rPr>
                        <a:t>n=152</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mcitabine </a:t>
                      </a:r>
                      <a:br>
                        <a:rPr sz="1800"/>
                      </a:br>
                      <a:r>
                        <a:rPr b="1" lang="en-GB" sz="1800" spc="-1" strike="noStrike">
                          <a:solidFill>
                            <a:srgbClr val="000000"/>
                          </a:solidFill>
                          <a:latin typeface="Arial"/>
                        </a:rPr>
                        <a:t>n=149</a:t>
                      </a:r>
                      <a:endParaRPr b="0" lang="en-US" sz="1800" spc="-1" strike="noStrike">
                        <a:solidFill>
                          <a:srgbClr val="000000"/>
                        </a:solidFill>
                        <a:latin typeface="Arial"/>
                      </a:endParaRPr>
                    </a:p>
                  </a:txBody>
                  <a:tcPr anchor="b" marL="90000" marR="90000">
                    <a:lnL w="2880">
                      <a:solidFill>
                        <a:srgbClr val="000000"/>
                      </a:solidFill>
                    </a:lnL>
                    <a:lnR w="2880">
                      <a:solidFill>
                        <a:srgbClr val="000000"/>
                      </a:solidFill>
                    </a:lnR>
                    <a:lnT w="2880">
                      <a:solidFill>
                        <a:srgbClr val="000000"/>
                      </a:solidFill>
                    </a:lnT>
                    <a:lnB w="2880">
                      <a:solidFill>
                        <a:srgbClr val="000000"/>
                      </a:solidFill>
                    </a:lnB>
                    <a:solidFill>
                      <a:srgbClr val="ccecf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n PFS, months</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FS at 3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3</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5.0</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FS at 6 months, %</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6</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1</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2f2f2"/>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LAS – maintenance erlotinib prolongs PFS in combination with BV</a:t>
            </a:r>
            <a:endParaRPr b="0" lang="en-US" sz="3600" spc="-1" strike="noStrike">
              <a:solidFill>
                <a:srgbClr val="000000"/>
              </a:solidFill>
              <a:latin typeface="Arial"/>
            </a:endParaRPr>
          </a:p>
        </p:txBody>
      </p:sp>
      <p:sp>
        <p:nvSpPr>
          <p:cNvPr id="2170" name="Rectangle 8"/>
          <p:cNvSpPr/>
          <p:nvPr/>
        </p:nvSpPr>
        <p:spPr>
          <a:xfrm>
            <a:off x="34920" y="6524640"/>
            <a:ext cx="914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With permission from Miller VA, </a:t>
            </a:r>
            <a:r>
              <a:rPr b="0" i="1" lang="en-IE" sz="1200" spc="-1" strike="noStrike">
                <a:solidFill>
                  <a:srgbClr val="000000"/>
                </a:solidFill>
                <a:latin typeface="Arial"/>
                <a:ea typeface="Arial"/>
              </a:rPr>
              <a:t>et al. J Clin Oncol </a:t>
            </a:r>
            <a:r>
              <a:rPr b="0" lang="en-IE" sz="1200" spc="-1" strike="noStrike">
                <a:solidFill>
                  <a:srgbClr val="000000"/>
                </a:solidFill>
                <a:latin typeface="Arial"/>
                <a:ea typeface="Arial"/>
              </a:rPr>
              <a:t>2009;27(Suppl 1):Abstract LBA8002</a:t>
            </a:r>
            <a:endParaRPr b="0" lang="en-US" sz="1200" spc="-1" strike="noStrike">
              <a:solidFill>
                <a:srgbClr val="000000"/>
              </a:solidFill>
              <a:latin typeface="Arial"/>
            </a:endParaRPr>
          </a:p>
        </p:txBody>
      </p:sp>
      <p:sp>
        <p:nvSpPr>
          <p:cNvPr id="2171" name="Text Box 5"/>
          <p:cNvSpPr/>
          <p:nvPr/>
        </p:nvSpPr>
        <p:spPr>
          <a:xfrm>
            <a:off x="1889280" y="5713560"/>
            <a:ext cx="677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3</a:t>
            </a:r>
            <a:endParaRPr b="0" lang="en-US" sz="1600" spc="-1" strike="noStrike">
              <a:solidFill>
                <a:srgbClr val="000000"/>
              </a:solidFill>
              <a:latin typeface="Arial"/>
            </a:endParaRPr>
          </a:p>
        </p:txBody>
      </p:sp>
      <p:sp>
        <p:nvSpPr>
          <p:cNvPr id="2172" name="Text Box 6"/>
          <p:cNvSpPr/>
          <p:nvPr/>
        </p:nvSpPr>
        <p:spPr>
          <a:xfrm>
            <a:off x="2662200" y="571356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2</a:t>
            </a:r>
            <a:endParaRPr b="0" lang="en-US" sz="1600" spc="-1" strike="noStrike">
              <a:solidFill>
                <a:srgbClr val="000000"/>
              </a:solidFill>
              <a:latin typeface="Arial"/>
            </a:endParaRPr>
          </a:p>
        </p:txBody>
      </p:sp>
      <p:sp>
        <p:nvSpPr>
          <p:cNvPr id="2173" name="Text Box 7"/>
          <p:cNvSpPr/>
          <p:nvPr/>
        </p:nvSpPr>
        <p:spPr>
          <a:xfrm>
            <a:off x="343368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p:txBody>
      </p:sp>
      <p:sp>
        <p:nvSpPr>
          <p:cNvPr id="2174" name="Text Box 8"/>
          <p:cNvSpPr/>
          <p:nvPr/>
        </p:nvSpPr>
        <p:spPr>
          <a:xfrm>
            <a:off x="4159080" y="571356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p:txBody>
      </p:sp>
      <p:sp>
        <p:nvSpPr>
          <p:cNvPr id="2175" name="Text Box 9"/>
          <p:cNvSpPr/>
          <p:nvPr/>
        </p:nvSpPr>
        <p:spPr>
          <a:xfrm>
            <a:off x="4876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p:txBody>
      </p:sp>
      <p:sp>
        <p:nvSpPr>
          <p:cNvPr id="2176" name="Text Box 10"/>
          <p:cNvSpPr/>
          <p:nvPr/>
        </p:nvSpPr>
        <p:spPr>
          <a:xfrm>
            <a:off x="558324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77" name="Text Box 11"/>
          <p:cNvSpPr/>
          <p:nvPr/>
        </p:nvSpPr>
        <p:spPr>
          <a:xfrm>
            <a:off x="63277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78" name="Text Box 12"/>
          <p:cNvSpPr/>
          <p:nvPr/>
        </p:nvSpPr>
        <p:spPr>
          <a:xfrm>
            <a:off x="7027920" y="571356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179" name="Text Box 15"/>
          <p:cNvSpPr/>
          <p:nvPr/>
        </p:nvSpPr>
        <p:spPr>
          <a:xfrm>
            <a:off x="1952640" y="5973840"/>
            <a:ext cx="5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Arial"/>
            </a:endParaRPr>
          </a:p>
        </p:txBody>
      </p:sp>
      <p:sp>
        <p:nvSpPr>
          <p:cNvPr id="2180" name="Text Box 16"/>
          <p:cNvSpPr/>
          <p:nvPr/>
        </p:nvSpPr>
        <p:spPr>
          <a:xfrm>
            <a:off x="2662200" y="5973840"/>
            <a:ext cx="552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8</a:t>
            </a:r>
            <a:endParaRPr b="0" lang="en-US" sz="1600" spc="-1" strike="noStrike">
              <a:solidFill>
                <a:srgbClr val="000000"/>
              </a:solidFill>
              <a:latin typeface="Arial"/>
            </a:endParaRPr>
          </a:p>
        </p:txBody>
      </p:sp>
      <p:sp>
        <p:nvSpPr>
          <p:cNvPr id="2181" name="Text Box 17"/>
          <p:cNvSpPr/>
          <p:nvPr/>
        </p:nvSpPr>
        <p:spPr>
          <a:xfrm>
            <a:off x="343368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a:t>
            </a:r>
            <a:endParaRPr b="0" lang="en-US" sz="1600" spc="-1" strike="noStrike">
              <a:solidFill>
                <a:srgbClr val="000000"/>
              </a:solidFill>
              <a:latin typeface="Arial"/>
            </a:endParaRPr>
          </a:p>
        </p:txBody>
      </p:sp>
      <p:sp>
        <p:nvSpPr>
          <p:cNvPr id="2182" name="Text Box 18"/>
          <p:cNvSpPr/>
          <p:nvPr/>
        </p:nvSpPr>
        <p:spPr>
          <a:xfrm>
            <a:off x="4159080" y="5973840"/>
            <a:ext cx="41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a:t>
            </a:r>
            <a:endParaRPr b="0" lang="en-US" sz="1600" spc="-1" strike="noStrike">
              <a:solidFill>
                <a:srgbClr val="000000"/>
              </a:solidFill>
              <a:latin typeface="Arial"/>
            </a:endParaRPr>
          </a:p>
        </p:txBody>
      </p:sp>
      <p:sp>
        <p:nvSpPr>
          <p:cNvPr id="2183" name="Text Box 19"/>
          <p:cNvSpPr/>
          <p:nvPr/>
        </p:nvSpPr>
        <p:spPr>
          <a:xfrm>
            <a:off x="487692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p:txBody>
      </p:sp>
      <p:sp>
        <p:nvSpPr>
          <p:cNvPr id="2184" name="Text Box 20"/>
          <p:cNvSpPr/>
          <p:nvPr/>
        </p:nvSpPr>
        <p:spPr>
          <a:xfrm>
            <a:off x="5583240" y="597708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185" name="Text Box 21"/>
          <p:cNvSpPr/>
          <p:nvPr/>
        </p:nvSpPr>
        <p:spPr>
          <a:xfrm>
            <a:off x="63277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2186" name="Text Box 22"/>
          <p:cNvSpPr/>
          <p:nvPr/>
        </p:nvSpPr>
        <p:spPr>
          <a:xfrm>
            <a:off x="7027920" y="5973840"/>
            <a:ext cx="419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187" name="Text Box 24"/>
          <p:cNvSpPr/>
          <p:nvPr/>
        </p:nvSpPr>
        <p:spPr>
          <a:xfrm>
            <a:off x="453960" y="5413320"/>
            <a:ext cx="274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f patients at risk:</a:t>
            </a:r>
            <a:endParaRPr b="0" lang="en-US" sz="1600" spc="-1" strike="noStrike">
              <a:solidFill>
                <a:srgbClr val="000000"/>
              </a:solidFill>
              <a:latin typeface="Arial"/>
            </a:endParaRPr>
          </a:p>
        </p:txBody>
      </p:sp>
      <p:sp>
        <p:nvSpPr>
          <p:cNvPr id="2188" name="Text Box 25"/>
          <p:cNvSpPr/>
          <p:nvPr/>
        </p:nvSpPr>
        <p:spPr>
          <a:xfrm>
            <a:off x="453960" y="5708520"/>
            <a:ext cx="1865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a:rPr>
              <a:t>Bev + placebo</a:t>
            </a:r>
            <a:endParaRPr b="0" lang="en-US" sz="1600" spc="-1" strike="noStrike">
              <a:solidFill>
                <a:srgbClr val="000000"/>
              </a:solidFill>
              <a:latin typeface="Arial"/>
            </a:endParaRPr>
          </a:p>
        </p:txBody>
      </p:sp>
      <p:sp>
        <p:nvSpPr>
          <p:cNvPr id="2189" name="Text Box 26"/>
          <p:cNvSpPr/>
          <p:nvPr/>
        </p:nvSpPr>
        <p:spPr>
          <a:xfrm>
            <a:off x="453960" y="5981760"/>
            <a:ext cx="1519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d0ff"/>
                </a:solidFill>
                <a:latin typeface="Arial"/>
              </a:rPr>
              <a:t>Bev + erlotinib</a:t>
            </a:r>
            <a:endParaRPr b="0" lang="en-US" sz="1600" spc="-1" strike="noStrike">
              <a:solidFill>
                <a:srgbClr val="000000"/>
              </a:solidFill>
              <a:latin typeface="Arial"/>
            </a:endParaRPr>
          </a:p>
        </p:txBody>
      </p:sp>
      <p:sp>
        <p:nvSpPr>
          <p:cNvPr id="2190" name="Text Box 27"/>
          <p:cNvSpPr/>
          <p:nvPr/>
        </p:nvSpPr>
        <p:spPr>
          <a:xfrm>
            <a:off x="2533680" y="5118120"/>
            <a:ext cx="4467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ion-free survival (months)</a:t>
            </a:r>
            <a:endParaRPr b="0" lang="en-US" sz="1400" spc="-1" strike="noStrike">
              <a:solidFill>
                <a:srgbClr val="000000"/>
              </a:solidFill>
              <a:latin typeface="Arial"/>
            </a:endParaRPr>
          </a:p>
        </p:txBody>
      </p:sp>
      <p:grpSp>
        <p:nvGrpSpPr>
          <p:cNvPr id="2191" name="Group 87"/>
          <p:cNvGrpSpPr/>
          <p:nvPr/>
        </p:nvGrpSpPr>
        <p:grpSpPr>
          <a:xfrm>
            <a:off x="1028520" y="1547640"/>
            <a:ext cx="6483600" cy="3639600"/>
            <a:chOff x="1028520" y="1547640"/>
            <a:chExt cx="6483600" cy="3639600"/>
          </a:xfrm>
        </p:grpSpPr>
        <p:pic>
          <p:nvPicPr>
            <p:cNvPr id="2192" name="Picture 50" descr="10302_geneta_ATLAS PFS.png"/>
            <p:cNvPicPr/>
            <p:nvPr/>
          </p:nvPicPr>
          <p:blipFill>
            <a:blip r:embed="rId1"/>
            <a:srcRect l="0" t="0" r="19434" b="0"/>
            <a:stretch/>
          </p:blipFill>
          <p:spPr>
            <a:xfrm>
              <a:off x="1972440" y="1671120"/>
              <a:ext cx="5405760" cy="3193560"/>
            </a:xfrm>
            <a:prstGeom prst="rect">
              <a:avLst/>
            </a:prstGeom>
            <a:ln w="0">
              <a:noFill/>
            </a:ln>
          </p:spPr>
        </p:pic>
        <p:sp>
          <p:nvSpPr>
            <p:cNvPr id="2193" name="Text Box 28"/>
            <p:cNvSpPr/>
            <p:nvPr/>
          </p:nvSpPr>
          <p:spPr>
            <a:xfrm>
              <a:off x="200196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194" name="Text Box 29"/>
            <p:cNvSpPr/>
            <p:nvPr/>
          </p:nvSpPr>
          <p:spPr>
            <a:xfrm>
              <a:off x="27208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2195" name="Text Box 30"/>
            <p:cNvSpPr/>
            <p:nvPr/>
          </p:nvSpPr>
          <p:spPr>
            <a:xfrm>
              <a:off x="343080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2196" name="Text Box 31"/>
            <p:cNvSpPr/>
            <p:nvPr/>
          </p:nvSpPr>
          <p:spPr>
            <a:xfrm>
              <a:off x="414972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2197" name="Text Box 32"/>
            <p:cNvSpPr/>
            <p:nvPr/>
          </p:nvSpPr>
          <p:spPr>
            <a:xfrm>
              <a:off x="4848480" y="4869000"/>
              <a:ext cx="43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198" name="Text Box 33"/>
            <p:cNvSpPr/>
            <p:nvPr/>
          </p:nvSpPr>
          <p:spPr>
            <a:xfrm>
              <a:off x="5586480" y="486900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2199" name="Text Box 34"/>
            <p:cNvSpPr/>
            <p:nvPr/>
          </p:nvSpPr>
          <p:spPr>
            <a:xfrm>
              <a:off x="629640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200" name="Text Box 35"/>
            <p:cNvSpPr/>
            <p:nvPr/>
          </p:nvSpPr>
          <p:spPr>
            <a:xfrm>
              <a:off x="7015320" y="4880160"/>
              <a:ext cx="439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p:txBody>
        </p:sp>
        <p:sp>
          <p:nvSpPr>
            <p:cNvPr id="2201" name="Text Box 38"/>
            <p:cNvSpPr/>
            <p:nvPr/>
          </p:nvSpPr>
          <p:spPr>
            <a:xfrm>
              <a:off x="1373040" y="4497480"/>
              <a:ext cx="6379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Arial"/>
              </a:endParaRPr>
            </a:p>
          </p:txBody>
        </p:sp>
        <p:sp>
          <p:nvSpPr>
            <p:cNvPr id="2202" name="Text Box 39"/>
            <p:cNvSpPr/>
            <p:nvPr/>
          </p:nvSpPr>
          <p:spPr>
            <a:xfrm>
              <a:off x="1357200" y="3894120"/>
              <a:ext cx="653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Arial"/>
              </a:endParaRPr>
            </a:p>
          </p:txBody>
        </p:sp>
        <p:sp>
          <p:nvSpPr>
            <p:cNvPr id="2203" name="Text Box 40"/>
            <p:cNvSpPr/>
            <p:nvPr/>
          </p:nvSpPr>
          <p:spPr>
            <a:xfrm>
              <a:off x="1301760" y="3265560"/>
              <a:ext cx="7095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Arial"/>
              </a:endParaRPr>
            </a:p>
          </p:txBody>
        </p:sp>
        <p:sp>
          <p:nvSpPr>
            <p:cNvPr id="2204" name="Text Box 41"/>
            <p:cNvSpPr/>
            <p:nvPr/>
          </p:nvSpPr>
          <p:spPr>
            <a:xfrm>
              <a:off x="1386000" y="2711160"/>
              <a:ext cx="6253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Arial"/>
              </a:endParaRPr>
            </a:p>
          </p:txBody>
        </p:sp>
        <p:sp>
          <p:nvSpPr>
            <p:cNvPr id="2205" name="Text Box 42"/>
            <p:cNvSpPr/>
            <p:nvPr/>
          </p:nvSpPr>
          <p:spPr>
            <a:xfrm>
              <a:off x="1343160" y="2153880"/>
              <a:ext cx="6681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a:t>
              </a:r>
              <a:endParaRPr b="0" lang="en-US" sz="1400" spc="-1" strike="noStrike">
                <a:solidFill>
                  <a:srgbClr val="000000"/>
                </a:solidFill>
                <a:latin typeface="Arial"/>
              </a:endParaRPr>
            </a:p>
          </p:txBody>
        </p:sp>
        <p:sp>
          <p:nvSpPr>
            <p:cNvPr id="2206" name="Text Box 43"/>
            <p:cNvSpPr/>
            <p:nvPr/>
          </p:nvSpPr>
          <p:spPr>
            <a:xfrm>
              <a:off x="1314360" y="1549080"/>
              <a:ext cx="696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207" name="Text Box 48"/>
            <p:cNvSpPr/>
            <p:nvPr/>
          </p:nvSpPr>
          <p:spPr>
            <a:xfrm rot="10800000">
              <a:off x="1028520" y="1547640"/>
              <a:ext cx="393480" cy="3330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rtion without event</a:t>
              </a:r>
              <a:endParaRPr b="0" lang="en-US" sz="1400" spc="-1" strike="noStrike">
                <a:solidFill>
                  <a:srgbClr val="000000"/>
                </a:solidFill>
                <a:latin typeface="Arial"/>
              </a:endParaRPr>
            </a:p>
          </p:txBody>
        </p:sp>
        <p:sp>
          <p:nvSpPr>
            <p:cNvPr id="2208" name="Text Box 55"/>
            <p:cNvSpPr/>
            <p:nvPr/>
          </p:nvSpPr>
          <p:spPr>
            <a:xfrm>
              <a:off x="4402440" y="2712960"/>
              <a:ext cx="3109680" cy="5853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0.722 (</a:t>
              </a:r>
              <a:r>
                <a:rPr b="1" lang="en-US" sz="1600" spc="-1" strike="noStrike">
                  <a:solidFill>
                    <a:srgbClr val="000000"/>
                  </a:solidFill>
                  <a:latin typeface="Arial"/>
                </a:rPr>
                <a:t>0.592–0.881</a:t>
              </a:r>
              <a:r>
                <a:rPr b="1" lang="en-US" sz="1800" spc="-1" strike="noStrike">
                  <a:solidFill>
                    <a:srgbClr val="000000"/>
                  </a:solidFill>
                  <a:latin typeface="Arial"/>
                </a:rPr>
                <a:t>)</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rank p=0.0012</a:t>
              </a:r>
              <a:endParaRPr b="0" lang="en-US" sz="1600" spc="-1" strike="noStrike">
                <a:solidFill>
                  <a:srgbClr val="000000"/>
                </a:solidFill>
                <a:latin typeface="Arial"/>
              </a:endParaRPr>
            </a:p>
          </p:txBody>
        </p:sp>
        <p:grpSp>
          <p:nvGrpSpPr>
            <p:cNvPr id="2209" name="Group 88"/>
            <p:cNvGrpSpPr/>
            <p:nvPr/>
          </p:nvGrpSpPr>
          <p:grpSpPr>
            <a:xfrm>
              <a:off x="4663080" y="1805040"/>
              <a:ext cx="2724120" cy="698400"/>
              <a:chOff x="4663080" y="1805040"/>
              <a:chExt cx="2724120" cy="698400"/>
            </a:xfrm>
          </p:grpSpPr>
          <p:sp>
            <p:nvSpPr>
              <p:cNvPr id="2210" name="Rectangle 14"/>
              <p:cNvSpPr/>
              <p:nvPr/>
            </p:nvSpPr>
            <p:spPr>
              <a:xfrm>
                <a:off x="4663080" y="1805040"/>
                <a:ext cx="2724120" cy="69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GB" sz="1400" spc="-1" strike="noStrike">
                    <a:solidFill>
                      <a:srgbClr val="000000"/>
                    </a:solidFill>
                    <a:latin typeface="Arial"/>
                  </a:rPr>
                  <a:t>Bevacizumab + placebo </a:t>
                </a:r>
                <a:r>
                  <a:rPr b="0" lang="en-GB" sz="1400" spc="-1" strike="noStrike">
                    <a:solidFill>
                      <a:srgbClr val="000000"/>
                    </a:solidFill>
                    <a:latin typeface="Arial"/>
                  </a:rPr>
                  <a:t>(n=373)</a:t>
                </a:r>
                <a:endParaRPr b="0" lang="en-US" sz="14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1" lang="en-GB" sz="1400" spc="-1" strike="noStrike">
                    <a:solidFill>
                      <a:srgbClr val="000000"/>
                    </a:solidFill>
                    <a:latin typeface="Arial"/>
                  </a:rPr>
                  <a:t>Bevacizumab + erlotinib </a:t>
                </a:r>
                <a:r>
                  <a:rPr b="0" lang="en-GB" sz="1400" spc="-1" strike="noStrike">
                    <a:solidFill>
                      <a:srgbClr val="000000"/>
                    </a:solidFill>
                    <a:latin typeface="Arial"/>
                  </a:rPr>
                  <a:t>(n=370)</a:t>
                </a:r>
                <a:endParaRPr b="0" lang="en-US" sz="1400" spc="-1" strike="noStrike">
                  <a:solidFill>
                    <a:srgbClr val="000000"/>
                  </a:solidFill>
                  <a:latin typeface="Arial"/>
                </a:endParaRPr>
              </a:p>
            </p:txBody>
          </p:sp>
          <p:sp>
            <p:nvSpPr>
              <p:cNvPr id="2211" name="Line 8"/>
              <p:cNvSpPr/>
              <p:nvPr/>
            </p:nvSpPr>
            <p:spPr>
              <a:xfrm>
                <a:off x="4880520" y="2293920"/>
                <a:ext cx="215640" cy="0"/>
              </a:xfrm>
              <a:prstGeom prst="line">
                <a:avLst/>
              </a:prstGeom>
              <a:ln cap="rnd" w="31680">
                <a:solidFill>
                  <a:srgbClr val="00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2" name="Line 10"/>
              <p:cNvSpPr/>
              <p:nvPr/>
            </p:nvSpPr>
            <p:spPr>
              <a:xfrm>
                <a:off x="4880520" y="2014560"/>
                <a:ext cx="215640" cy="0"/>
              </a:xfrm>
              <a:prstGeom prst="line">
                <a:avLst/>
              </a:prstGeom>
              <a:ln cap="rnd" w="31680">
                <a:solidFill>
                  <a:srgbClr val="ff35d3"/>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213" name="Straight Connector 106"/>
            <p:cNvSpPr/>
            <p:nvPr/>
          </p:nvSpPr>
          <p:spPr>
            <a:xfrm>
              <a:off x="2085840" y="1706040"/>
              <a:ext cx="0" cy="306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4" name="Straight Connector 107"/>
            <p:cNvSpPr/>
            <p:nvPr/>
          </p:nvSpPr>
          <p:spPr>
            <a:xfrm flipH="1">
              <a:off x="2011320" y="404820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5" name="Straight Connector 108"/>
            <p:cNvSpPr/>
            <p:nvPr/>
          </p:nvSpPr>
          <p:spPr>
            <a:xfrm flipH="1">
              <a:off x="2011320" y="34282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6" name="Straight Connector 109"/>
            <p:cNvSpPr/>
            <p:nvPr/>
          </p:nvSpPr>
          <p:spPr>
            <a:xfrm flipH="1">
              <a:off x="2011320" y="28720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7" name="Straight Connector 110"/>
            <p:cNvSpPr/>
            <p:nvPr/>
          </p:nvSpPr>
          <p:spPr>
            <a:xfrm flipH="1">
              <a:off x="2011320" y="2301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8" name="Straight Connector 111"/>
            <p:cNvSpPr/>
            <p:nvPr/>
          </p:nvSpPr>
          <p:spPr>
            <a:xfrm flipH="1">
              <a:off x="2011320" y="170748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19" name="Straight Connector 112"/>
            <p:cNvSpPr/>
            <p:nvPr/>
          </p:nvSpPr>
          <p:spPr>
            <a:xfrm flipH="1">
              <a:off x="2011320" y="4675320"/>
              <a:ext cx="7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0" name="Straight Connector 113"/>
            <p:cNvSpPr/>
            <p:nvPr/>
          </p:nvSpPr>
          <p:spPr>
            <a:xfrm>
              <a:off x="2084040" y="4768560"/>
              <a:ext cx="5371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21" name="Straight Connector 114"/>
            <p:cNvSpPr/>
            <p:nvPr/>
          </p:nvSpPr>
          <p:spPr>
            <a:xfrm flipV="1">
              <a:off x="22204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2" name="Straight Connector 115"/>
            <p:cNvSpPr/>
            <p:nvPr/>
          </p:nvSpPr>
          <p:spPr>
            <a:xfrm flipV="1">
              <a:off x="29408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3" name="Straight Connector 116"/>
            <p:cNvSpPr/>
            <p:nvPr/>
          </p:nvSpPr>
          <p:spPr>
            <a:xfrm flipV="1">
              <a:off x="36392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4" name="Straight Connector 117"/>
            <p:cNvSpPr/>
            <p:nvPr/>
          </p:nvSpPr>
          <p:spPr>
            <a:xfrm flipV="1">
              <a:off x="43639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5" name="Straight Connector 118"/>
            <p:cNvSpPr/>
            <p:nvPr/>
          </p:nvSpPr>
          <p:spPr>
            <a:xfrm flipV="1">
              <a:off x="508428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6" name="Straight Connector 119"/>
            <p:cNvSpPr/>
            <p:nvPr/>
          </p:nvSpPr>
          <p:spPr>
            <a:xfrm flipV="1">
              <a:off x="578304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7" name="Straight Connector 120"/>
            <p:cNvSpPr/>
            <p:nvPr/>
          </p:nvSpPr>
          <p:spPr>
            <a:xfrm flipV="1">
              <a:off x="65293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2228" name="Straight Connector 121"/>
            <p:cNvSpPr/>
            <p:nvPr/>
          </p:nvSpPr>
          <p:spPr>
            <a:xfrm flipV="1">
              <a:off x="7227720" y="4770360"/>
              <a:ext cx="0" cy="7128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6" name="Rectangle 3"/>
          <p:cNvSpPr/>
          <p:nvPr/>
        </p:nvSpPr>
        <p:spPr>
          <a:xfrm>
            <a:off x="0" y="0"/>
            <a:ext cx="2895480" cy="6858000"/>
          </a:xfrm>
          <a:prstGeom prst="rect">
            <a:avLst/>
          </a:prstGeom>
          <a:solidFill>
            <a:srgbClr val="000000"/>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7" name="Picture 4" descr=""/>
          <p:cNvPicPr/>
          <p:nvPr/>
        </p:nvPicPr>
        <p:blipFill>
          <a:blip r:embed="rId1"/>
          <a:stretch/>
        </p:blipFill>
        <p:spPr>
          <a:xfrm>
            <a:off x="201600" y="378000"/>
            <a:ext cx="2533680" cy="2176200"/>
          </a:xfrm>
          <a:prstGeom prst="rect">
            <a:avLst/>
          </a:prstGeom>
          <a:ln cap="sq" w="25560">
            <a:solidFill>
              <a:srgbClr val="000000"/>
            </a:solidFill>
            <a:miter/>
          </a:ln>
          <a:effectLst>
            <a:outerShdw dist="50911" dir="2700000" blurRad="0" rotWithShape="0">
              <a:srgbClr val="808080">
                <a:alpha val="40000"/>
              </a:srgbClr>
            </a:outerShdw>
          </a:effectLst>
        </p:spPr>
      </p:pic>
      <p:pic>
        <p:nvPicPr>
          <p:cNvPr id="2038" name="Picture 6" descr="MDACC_Rev_PMS_TC_tag_V.png"/>
          <p:cNvPicPr/>
          <p:nvPr/>
        </p:nvPicPr>
        <p:blipFill>
          <a:blip r:embed="rId2"/>
          <a:stretch/>
        </p:blipFill>
        <p:spPr>
          <a:xfrm>
            <a:off x="243000" y="5403960"/>
            <a:ext cx="2428920" cy="1185840"/>
          </a:xfrm>
          <a:prstGeom prst="rect">
            <a:avLst/>
          </a:prstGeom>
          <a:ln w="0">
            <a:noFill/>
          </a:ln>
        </p:spPr>
      </p:pic>
      <p:sp>
        <p:nvSpPr>
          <p:cNvPr id="2039" name="TextBox 6"/>
          <p:cNvSpPr/>
          <p:nvPr/>
        </p:nvSpPr>
        <p:spPr>
          <a:xfrm>
            <a:off x="3048120" y="1735200"/>
            <a:ext cx="59436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enance Therapy in the Management of NSCLC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ohn Heymach, M.D., Ph.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ir, Department of Thoracic/Head &amp; Neck Medical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D Anderson Cancer C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 To Practice Mee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y 31, 2013</a:t>
            </a:r>
            <a:endParaRPr b="0" lang="en-US" sz="2400" spc="-1" strike="noStrike">
              <a:solidFill>
                <a:srgbClr val="000000"/>
              </a:solidFill>
              <a:latin typeface="Arial"/>
            </a:endParaRPr>
          </a:p>
        </p:txBody>
      </p:sp>
      <p:sp>
        <p:nvSpPr>
          <p:cNvPr id="2040" name="Straight Connector 9"/>
          <p:cNvSpPr/>
          <p:nvPr/>
        </p:nvSpPr>
        <p:spPr>
          <a:xfrm>
            <a:off x="2895480" y="0"/>
            <a:ext cx="0" cy="685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PointBreak (JMHD): </a:t>
            </a:r>
            <a:br>
              <a:rPr sz="4400"/>
            </a:br>
            <a:r>
              <a:rPr b="0" lang="en-US" sz="4400" spc="-1" strike="noStrike">
                <a:solidFill>
                  <a:srgbClr val="000000"/>
                </a:solidFill>
                <a:latin typeface="Arial"/>
                <a:ea typeface="MS PGothic"/>
              </a:rPr>
              <a:t>Phase III Study Design </a:t>
            </a:r>
            <a:endParaRPr b="0" lang="en-US" sz="4400" spc="-1" strike="noStrike">
              <a:solidFill>
                <a:srgbClr val="000000"/>
              </a:solidFill>
              <a:latin typeface="Arial"/>
            </a:endParaRPr>
          </a:p>
        </p:txBody>
      </p:sp>
      <p:sp>
        <p:nvSpPr>
          <p:cNvPr id="223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5CEA-54C6-4879-A7E5-DBAA03AC732C}" type="slidenum">
              <a:rPr b="0" lang="en-US" sz="1200" spc="-1" strike="noStrike">
                <a:solidFill>
                  <a:srgbClr val="ffffff"/>
                </a:solidFill>
                <a:latin typeface="Arial"/>
                <a:ea typeface="MS PGothic"/>
              </a:rPr>
              <a:t>&lt;number&gt;</a:t>
            </a:fld>
            <a:endParaRPr b="0" lang="en-US" sz="1200" spc="-1" strike="noStrike">
              <a:solidFill>
                <a:srgbClr val="000000"/>
              </a:solidFill>
              <a:latin typeface="Arial"/>
            </a:endParaRPr>
          </a:p>
        </p:txBody>
      </p:sp>
      <p:sp>
        <p:nvSpPr>
          <p:cNvPr id="2231" name="Rectangle 19"/>
          <p:cNvSpPr/>
          <p:nvPr/>
        </p:nvSpPr>
        <p:spPr>
          <a:xfrm>
            <a:off x="5530680" y="5202360"/>
            <a:ext cx="3216600" cy="91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uperiority Trial</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OS</a:t>
            </a:r>
            <a:endParaRPr b="0" lang="en-US" sz="18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endpoint</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PFS</a:t>
            </a:r>
            <a:endParaRPr b="0" lang="en-US" sz="1800" spc="-1" strike="noStrike">
              <a:solidFill>
                <a:srgbClr val="000000"/>
              </a:solidFill>
              <a:latin typeface="Arial"/>
            </a:endParaRPr>
          </a:p>
        </p:txBody>
      </p:sp>
      <p:cxnSp>
        <p:nvCxnSpPr>
          <p:cNvPr id="2232" name="Elbow Connector 26"/>
          <p:cNvCxnSpPr/>
          <p:nvPr/>
        </p:nvCxnSpPr>
        <p:spPr>
          <a:xfrm flipV="1">
            <a:off x="3357720" y="2296440"/>
            <a:ext cx="497520" cy="910440"/>
          </a:xfrm>
          <a:prstGeom prst="bentConnector3">
            <a:avLst>
              <a:gd name="adj1" fmla="val 49963"/>
            </a:avLst>
          </a:prstGeom>
          <a:ln w="38160">
            <a:solidFill>
              <a:srgbClr val="000000"/>
            </a:solidFill>
            <a:miter/>
            <a:tailEnd len="med" type="triangle" w="med"/>
          </a:ln>
        </p:spPr>
      </p:cxnSp>
      <p:cxnSp>
        <p:nvCxnSpPr>
          <p:cNvPr id="2233" name="Elbow Connector 30"/>
          <p:cNvCxnSpPr/>
          <p:nvPr/>
        </p:nvCxnSpPr>
        <p:spPr>
          <a:xfrm>
            <a:off x="3357720" y="3206520"/>
            <a:ext cx="497520" cy="973800"/>
          </a:xfrm>
          <a:prstGeom prst="bentConnector3">
            <a:avLst>
              <a:gd name="adj1" fmla="val 49963"/>
            </a:avLst>
          </a:prstGeom>
          <a:ln w="38160">
            <a:solidFill>
              <a:srgbClr val="000000"/>
            </a:solidFill>
            <a:miter/>
            <a:tailEnd len="med" type="triangle" w="med"/>
          </a:ln>
        </p:spPr>
      </p:cxnSp>
      <p:cxnSp>
        <p:nvCxnSpPr>
          <p:cNvPr id="2234" name="Elbow Connector 7"/>
          <p:cNvCxnSpPr/>
          <p:nvPr/>
        </p:nvCxnSpPr>
        <p:spPr>
          <a:xfrm flipH="1" rot="16200000">
            <a:off x="7909560" y="2370600"/>
            <a:ext cx="516600" cy="1010160"/>
          </a:xfrm>
          <a:prstGeom prst="bentConnector3">
            <a:avLst>
              <a:gd name="adj1" fmla="val 50000"/>
            </a:avLst>
          </a:prstGeom>
          <a:ln w="38160">
            <a:solidFill>
              <a:srgbClr val="000000"/>
            </a:solidFill>
            <a:miter/>
            <a:tailEnd len="med" type="triangle" w="med"/>
          </a:ln>
        </p:spPr>
      </p:cxnSp>
      <p:grpSp>
        <p:nvGrpSpPr>
          <p:cNvPr id="2235" name="Group 39"/>
          <p:cNvGrpSpPr/>
          <p:nvPr/>
        </p:nvGrpSpPr>
        <p:grpSpPr>
          <a:xfrm>
            <a:off x="2362320" y="2305800"/>
            <a:ext cx="6615000" cy="1880280"/>
            <a:chOff x="2362320" y="2305800"/>
            <a:chExt cx="6615000" cy="1880280"/>
          </a:xfrm>
        </p:grpSpPr>
        <p:cxnSp>
          <p:nvCxnSpPr>
            <p:cNvPr id="2236" name="Straight Arrow Connector 17"/>
            <p:cNvCxnSpPr/>
            <p:nvPr/>
          </p:nvCxnSpPr>
          <p:spPr>
            <a:xfrm>
              <a:off x="2362320" y="3206160"/>
              <a:ext cx="422640" cy="1080"/>
            </a:xfrm>
            <a:prstGeom prst="straightConnector1">
              <a:avLst/>
            </a:prstGeom>
            <a:ln w="38160">
              <a:solidFill>
                <a:srgbClr val="000000"/>
              </a:solidFill>
              <a:miter/>
              <a:tailEnd len="med" type="triangle" w="med"/>
            </a:ln>
          </p:spPr>
        </p:cxnSp>
        <p:cxnSp>
          <p:nvCxnSpPr>
            <p:cNvPr id="2237" name="Straight Arrow Connector 23"/>
            <p:cNvCxnSpPr/>
            <p:nvPr/>
          </p:nvCxnSpPr>
          <p:spPr>
            <a:xfrm flipV="1">
              <a:off x="6153480" y="2305800"/>
              <a:ext cx="614160" cy="10440"/>
            </a:xfrm>
            <a:prstGeom prst="straightConnector1">
              <a:avLst/>
            </a:prstGeom>
            <a:ln w="38160">
              <a:solidFill>
                <a:srgbClr val="000000"/>
              </a:solidFill>
              <a:miter/>
              <a:tailEnd len="med" type="triangle" w="med"/>
            </a:ln>
          </p:spPr>
        </p:cxnSp>
        <p:cxnSp>
          <p:nvCxnSpPr>
            <p:cNvPr id="2238" name="Straight Arrow Connector 23"/>
            <p:cNvCxnSpPr/>
            <p:nvPr/>
          </p:nvCxnSpPr>
          <p:spPr>
            <a:xfrm flipV="1">
              <a:off x="6153480" y="4180680"/>
              <a:ext cx="637920" cy="5760"/>
            </a:xfrm>
            <a:prstGeom prst="straightConnector1">
              <a:avLst/>
            </a:prstGeom>
            <a:ln w="38160">
              <a:solidFill>
                <a:srgbClr val="000000"/>
              </a:solidFill>
              <a:miter/>
              <a:tailEnd len="med" type="triangle" w="med"/>
            </a:ln>
          </p:spPr>
        </p:cxnSp>
        <p:grpSp>
          <p:nvGrpSpPr>
            <p:cNvPr id="2239" name="AutoShape 8"/>
            <p:cNvGrpSpPr/>
            <p:nvPr/>
          </p:nvGrpSpPr>
          <p:grpSpPr>
            <a:xfrm>
              <a:off x="8310240" y="3102840"/>
              <a:ext cx="667080" cy="365760"/>
              <a:chOff x="8310240" y="3102840"/>
              <a:chExt cx="667080" cy="365760"/>
            </a:xfrm>
          </p:grpSpPr>
          <p:pic>
            <p:nvPicPr>
              <p:cNvPr id="2240" name="AutoShape 8" descr=""/>
              <p:cNvPicPr/>
              <p:nvPr/>
            </p:nvPicPr>
            <p:blipFill>
              <a:blip r:embed="rId1"/>
              <a:stretch/>
            </p:blipFill>
            <p:spPr>
              <a:xfrm>
                <a:off x="8310240" y="3102840"/>
                <a:ext cx="667080" cy="365760"/>
              </a:xfrm>
              <a:prstGeom prst="rect">
                <a:avLst/>
              </a:prstGeom>
              <a:ln w="0">
                <a:noFill/>
              </a:ln>
            </p:spPr>
          </p:pic>
          <p:sp>
            <p:nvSpPr>
              <p:cNvPr id="2241" name=""/>
              <p:cNvSpPr/>
              <p:nvPr/>
            </p:nvSpPr>
            <p:spPr>
              <a:xfrm>
                <a:off x="8353080" y="3148560"/>
                <a:ext cx="577080" cy="27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400" spc="-1" strike="noStrike">
                    <a:solidFill>
                      <a:srgbClr val="ffffff"/>
                    </a:solidFill>
                    <a:latin typeface="Arial"/>
                  </a:rPr>
                  <a:t>PD</a:t>
                </a:r>
                <a:endParaRPr b="0" lang="en-US" sz="1400" spc="-1" strike="noStrike">
                  <a:solidFill>
                    <a:srgbClr val="000000"/>
                  </a:solidFill>
                  <a:latin typeface="Arial"/>
                </a:endParaRPr>
              </a:p>
            </p:txBody>
          </p:sp>
        </p:grpSp>
        <p:sp>
          <p:nvSpPr>
            <p:cNvPr id="2242" name="TextBox 30"/>
            <p:cNvSpPr/>
            <p:nvPr/>
          </p:nvSpPr>
          <p:spPr>
            <a:xfrm>
              <a:off x="3589920" y="3062880"/>
              <a:ext cx="530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1:1</a:t>
              </a:r>
              <a:endParaRPr b="0" lang="en-US" sz="1400" spc="-1" strike="noStrike">
                <a:solidFill>
                  <a:srgbClr val="000000"/>
                </a:solidFill>
                <a:latin typeface="Arial"/>
              </a:endParaRPr>
            </a:p>
          </p:txBody>
        </p:sp>
      </p:grpSp>
      <p:cxnSp>
        <p:nvCxnSpPr>
          <p:cNvPr id="2243" name="Elbow Connector 9"/>
          <p:cNvCxnSpPr/>
          <p:nvPr/>
        </p:nvCxnSpPr>
        <p:spPr>
          <a:xfrm flipH="1" flipV="1" rot="5400000">
            <a:off x="7911000" y="3189600"/>
            <a:ext cx="513720" cy="1010160"/>
          </a:xfrm>
          <a:prstGeom prst="bentConnector3">
            <a:avLst>
              <a:gd name="adj1" fmla="val 50000"/>
            </a:avLst>
          </a:prstGeom>
          <a:ln w="38160">
            <a:solidFill>
              <a:srgbClr val="000000"/>
            </a:solidFill>
            <a:miter/>
            <a:tailEnd len="med" type="triangle" w="med"/>
          </a:ln>
        </p:spPr>
      </p:cxnSp>
      <p:sp>
        <p:nvSpPr>
          <p:cNvPr id="2244" name="TextBox 18"/>
          <p:cNvSpPr/>
          <p:nvPr/>
        </p:nvSpPr>
        <p:spPr>
          <a:xfrm>
            <a:off x="1108080" y="4818240"/>
            <a:ext cx="41464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Arial Unicode MS"/>
              </a:rPr>
              <a:t>Stratified for:</a:t>
            </a:r>
            <a:r>
              <a:rPr b="0" lang="en-US" sz="1600" spc="-1" strike="noStrike">
                <a:solidFill>
                  <a:srgbClr val="000000"/>
                </a:solidFill>
                <a:latin typeface="Arial"/>
                <a:ea typeface="Arial Unicode MS"/>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PS (0 vs 1)</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Sex (M vs 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Disease stage (IIIB vs IV)</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Measurable vs nonmeasurable disease</a:t>
            </a:r>
            <a:endParaRPr b="0" lang="en-US" sz="1600" spc="-1" strike="noStrike">
              <a:solidFill>
                <a:srgbClr val="000000"/>
              </a:solidFill>
              <a:latin typeface="Arial"/>
            </a:endParaRPr>
          </a:p>
        </p:txBody>
      </p:sp>
      <p:sp>
        <p:nvSpPr>
          <p:cNvPr id="2245" name="Text Box 15"/>
          <p:cNvSpPr/>
          <p:nvPr/>
        </p:nvSpPr>
        <p:spPr>
          <a:xfrm>
            <a:off x="5462640" y="6454440"/>
            <a:ext cx="3352680" cy="246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atel, et al. Presented at IASLC. 2012 (abstr LBPL1).</a:t>
            </a:r>
            <a:endParaRPr b="0" lang="en-US" sz="1000" spc="-1" strike="noStrike">
              <a:solidFill>
                <a:srgbClr val="000000"/>
              </a:solidFill>
              <a:latin typeface="Arial"/>
            </a:endParaRPr>
          </a:p>
        </p:txBody>
      </p:sp>
      <p:grpSp>
        <p:nvGrpSpPr>
          <p:cNvPr id="2246" name="TextBox 20"/>
          <p:cNvGrpSpPr/>
          <p:nvPr/>
        </p:nvGrpSpPr>
        <p:grpSpPr>
          <a:xfrm>
            <a:off x="66600" y="1805040"/>
            <a:ext cx="2511360" cy="2797200"/>
            <a:chOff x="66600" y="1805040"/>
            <a:chExt cx="2511360" cy="2797200"/>
          </a:xfrm>
        </p:grpSpPr>
        <p:pic>
          <p:nvPicPr>
            <p:cNvPr id="2247" name="TextBox 20" descr=""/>
            <p:cNvPicPr/>
            <p:nvPr/>
          </p:nvPicPr>
          <p:blipFill>
            <a:blip r:embed="rId2"/>
            <a:stretch/>
          </p:blipFill>
          <p:spPr>
            <a:xfrm>
              <a:off x="66600" y="1805040"/>
              <a:ext cx="2511360" cy="2797200"/>
            </a:xfrm>
            <a:prstGeom prst="rect">
              <a:avLst/>
            </a:prstGeom>
            <a:ln w="0">
              <a:noFill/>
            </a:ln>
          </p:spPr>
        </p:pic>
        <p:sp>
          <p:nvSpPr>
            <p:cNvPr id="2248" name=""/>
            <p:cNvSpPr/>
            <p:nvPr/>
          </p:nvSpPr>
          <p:spPr>
            <a:xfrm>
              <a:off x="123840" y="1836720"/>
              <a:ext cx="2395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 III/IV NSCLC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ous</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ior systemic therapy</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 0/1</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ed brain metastases </a:t>
              </a:r>
              <a:endParaRPr b="0" lang="en-US" sz="1800" spc="-1" strike="noStrike">
                <a:solidFill>
                  <a:srgbClr val="000000"/>
                </a:solidFill>
                <a:latin typeface="Arial"/>
              </a:endParaRPr>
            </a:p>
            <a:p>
              <a:pPr>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939)</a:t>
              </a:r>
              <a:endParaRPr b="0" lang="en-US" sz="1800" spc="-1" strike="noStrike">
                <a:solidFill>
                  <a:srgbClr val="000000"/>
                </a:solidFill>
                <a:latin typeface="Arial"/>
              </a:endParaRPr>
            </a:p>
          </p:txBody>
        </p:sp>
      </p:grpSp>
      <p:grpSp>
        <p:nvGrpSpPr>
          <p:cNvPr id="2249" name="TextBox 21"/>
          <p:cNvGrpSpPr/>
          <p:nvPr/>
        </p:nvGrpSpPr>
        <p:grpSpPr>
          <a:xfrm>
            <a:off x="2682720" y="2908440"/>
            <a:ext cx="730440" cy="682560"/>
            <a:chOff x="2682720" y="2908440"/>
            <a:chExt cx="730440" cy="682560"/>
          </a:xfrm>
        </p:grpSpPr>
        <p:pic>
          <p:nvPicPr>
            <p:cNvPr id="2250" name="TextBox 21" descr=""/>
            <p:cNvPicPr/>
            <p:nvPr/>
          </p:nvPicPr>
          <p:blipFill>
            <a:blip r:embed="rId3"/>
            <a:stretch/>
          </p:blipFill>
          <p:spPr>
            <a:xfrm>
              <a:off x="2682720" y="2908440"/>
              <a:ext cx="730440" cy="682560"/>
            </a:xfrm>
            <a:prstGeom prst="rect">
              <a:avLst/>
            </a:prstGeom>
            <a:ln w="0">
              <a:noFill/>
            </a:ln>
          </p:spPr>
        </p:pic>
        <p:sp>
          <p:nvSpPr>
            <p:cNvPr id="2251" name=""/>
            <p:cNvSpPr/>
            <p:nvPr/>
          </p:nvSpPr>
          <p:spPr>
            <a:xfrm>
              <a:off x="2832120" y="3024360"/>
              <a:ext cx="43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grpSp>
        <p:nvGrpSpPr>
          <p:cNvPr id="2252" name="TextBox 22"/>
          <p:cNvGrpSpPr/>
          <p:nvPr/>
        </p:nvGrpSpPr>
        <p:grpSpPr>
          <a:xfrm>
            <a:off x="3803760" y="1620720"/>
            <a:ext cx="2425680" cy="1446480"/>
            <a:chOff x="3803760" y="1620720"/>
            <a:chExt cx="2425680" cy="1446480"/>
          </a:xfrm>
        </p:grpSpPr>
        <p:pic>
          <p:nvPicPr>
            <p:cNvPr id="2253" name="TextBox 22" descr=""/>
            <p:cNvPicPr/>
            <p:nvPr/>
          </p:nvPicPr>
          <p:blipFill>
            <a:blip r:embed="rId4"/>
            <a:stretch/>
          </p:blipFill>
          <p:spPr>
            <a:xfrm>
              <a:off x="3803760" y="1620720"/>
              <a:ext cx="2425680" cy="1446480"/>
            </a:xfrm>
            <a:prstGeom prst="rect">
              <a:avLst/>
            </a:prstGeom>
            <a:ln w="0">
              <a:noFill/>
            </a:ln>
          </p:spPr>
        </p:pic>
        <p:sp>
          <p:nvSpPr>
            <p:cNvPr id="2254" name=""/>
            <p:cNvSpPr/>
            <p:nvPr/>
          </p:nvSpPr>
          <p:spPr>
            <a:xfrm>
              <a:off x="3862440" y="1655640"/>
              <a:ext cx="23097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metrexed/ Carboplatin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vacizumab 15 mg/kg q3w × up to 4 cycles</a:t>
              </a:r>
              <a:endParaRPr b="0" lang="en-US" sz="1600" spc="-1" strike="noStrike">
                <a:solidFill>
                  <a:srgbClr val="000000"/>
                </a:solidFill>
                <a:latin typeface="Arial"/>
              </a:endParaRPr>
            </a:p>
          </p:txBody>
        </p:sp>
      </p:grpSp>
      <p:grpSp>
        <p:nvGrpSpPr>
          <p:cNvPr id="2255" name="TextBox 23"/>
          <p:cNvGrpSpPr/>
          <p:nvPr/>
        </p:nvGrpSpPr>
        <p:grpSpPr>
          <a:xfrm>
            <a:off x="3797280" y="3614760"/>
            <a:ext cx="2432160" cy="1195200"/>
            <a:chOff x="3797280" y="3614760"/>
            <a:chExt cx="2432160" cy="1195200"/>
          </a:xfrm>
        </p:grpSpPr>
        <p:pic>
          <p:nvPicPr>
            <p:cNvPr id="2256" name="TextBox 23" descr=""/>
            <p:cNvPicPr/>
            <p:nvPr/>
          </p:nvPicPr>
          <p:blipFill>
            <a:blip r:embed="rId5"/>
            <a:stretch/>
          </p:blipFill>
          <p:spPr>
            <a:xfrm>
              <a:off x="3797280" y="3614760"/>
              <a:ext cx="2432160" cy="1195200"/>
            </a:xfrm>
            <a:prstGeom prst="rect">
              <a:avLst/>
            </a:prstGeom>
            <a:ln w="0">
              <a:noFill/>
            </a:ln>
          </p:spPr>
        </p:pic>
        <p:sp>
          <p:nvSpPr>
            <p:cNvPr id="2257" name=""/>
            <p:cNvSpPr/>
            <p:nvPr/>
          </p:nvSpPr>
          <p:spPr>
            <a:xfrm>
              <a:off x="3854520" y="3646440"/>
              <a:ext cx="2317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clitaxel/Carboplatin + Bevacizumab 15 mg/k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w × up to 4 cycles</a:t>
              </a:r>
              <a:endParaRPr b="0" lang="en-US" sz="1600" spc="-1" strike="noStrike">
                <a:solidFill>
                  <a:srgbClr val="000000"/>
                </a:solidFill>
                <a:latin typeface="Arial"/>
              </a:endParaRPr>
            </a:p>
          </p:txBody>
        </p:sp>
      </p:grpSp>
      <p:grpSp>
        <p:nvGrpSpPr>
          <p:cNvPr id="2258" name="TextBox 24"/>
          <p:cNvGrpSpPr/>
          <p:nvPr/>
        </p:nvGrpSpPr>
        <p:grpSpPr>
          <a:xfrm>
            <a:off x="6729480" y="1981080"/>
            <a:ext cx="2000160" cy="706680"/>
            <a:chOff x="6729480" y="1981080"/>
            <a:chExt cx="2000160" cy="706680"/>
          </a:xfrm>
        </p:grpSpPr>
        <p:pic>
          <p:nvPicPr>
            <p:cNvPr id="2259" name="TextBox 24" descr=""/>
            <p:cNvPicPr/>
            <p:nvPr/>
          </p:nvPicPr>
          <p:blipFill>
            <a:blip r:embed="rId6"/>
            <a:stretch/>
          </p:blipFill>
          <p:spPr>
            <a:xfrm>
              <a:off x="6729480" y="1981080"/>
              <a:ext cx="2000160" cy="706680"/>
            </a:xfrm>
            <a:prstGeom prst="rect">
              <a:avLst/>
            </a:prstGeom>
            <a:ln w="0">
              <a:noFill/>
            </a:ln>
          </p:spPr>
        </p:pic>
        <p:sp>
          <p:nvSpPr>
            <p:cNvPr id="2260" name=""/>
            <p:cNvSpPr/>
            <p:nvPr/>
          </p:nvSpPr>
          <p:spPr>
            <a:xfrm>
              <a:off x="6789600" y="2014560"/>
              <a:ext cx="1882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Pemetrexed +</a:t>
              </a:r>
              <a:endParaRPr b="0" lang="en-US" sz="16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grpSp>
        <p:nvGrpSpPr>
          <p:cNvPr id="2261" name="TextBox 25"/>
          <p:cNvGrpSpPr/>
          <p:nvPr/>
        </p:nvGrpSpPr>
        <p:grpSpPr>
          <a:xfrm>
            <a:off x="6729480" y="3981600"/>
            <a:ext cx="2000160" cy="457200"/>
            <a:chOff x="6729480" y="3981600"/>
            <a:chExt cx="2000160" cy="457200"/>
          </a:xfrm>
        </p:grpSpPr>
        <p:pic>
          <p:nvPicPr>
            <p:cNvPr id="2262" name="TextBox 25" descr=""/>
            <p:cNvPicPr/>
            <p:nvPr/>
          </p:nvPicPr>
          <p:blipFill>
            <a:blip r:embed="rId7"/>
            <a:stretch/>
          </p:blipFill>
          <p:spPr>
            <a:xfrm>
              <a:off x="6729480" y="3981600"/>
              <a:ext cx="2000160" cy="457200"/>
            </a:xfrm>
            <a:prstGeom prst="rect">
              <a:avLst/>
            </a:prstGeom>
            <a:ln w="0">
              <a:noFill/>
            </a:ln>
          </p:spPr>
        </p:pic>
        <p:sp>
          <p:nvSpPr>
            <p:cNvPr id="2263" name=""/>
            <p:cNvSpPr/>
            <p:nvPr/>
          </p:nvSpPr>
          <p:spPr>
            <a:xfrm>
              <a:off x="6789600" y="4010040"/>
              <a:ext cx="1882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828800"/>
                  <a:tab algn="l" pos="2743200"/>
                  <a:tab algn="l" pos="3657600"/>
                  <a:tab algn="l" pos="4572000"/>
                  <a:tab algn="l" pos="5486400"/>
                  <a:tab algn="l" pos="6400800"/>
                  <a:tab algn="l" pos="7315200"/>
                  <a:tab algn="l" pos="8229600"/>
                  <a:tab algn="l" pos="9144000"/>
                  <a:tab algn="l" pos="10058400"/>
                  <a:tab algn="l" pos="10953720"/>
                </a:tabLst>
              </a:pPr>
              <a:r>
                <a:rPr b="1" lang="en-US" sz="1600" spc="-1" strike="noStrike">
                  <a:solidFill>
                    <a:srgbClr val="000000"/>
                  </a:solidFill>
                  <a:latin typeface="Arial"/>
                </a:rPr>
                <a:t>Bevacizumab</a:t>
              </a:r>
              <a:endParaRPr b="0" lang="en-US" sz="16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4" name="Group 103"/>
          <p:cNvGrpSpPr/>
          <p:nvPr/>
        </p:nvGrpSpPr>
        <p:grpSpPr>
          <a:xfrm>
            <a:off x="160200" y="457200"/>
            <a:ext cx="8823600" cy="6754680"/>
            <a:chOff x="160200" y="457200"/>
            <a:chExt cx="8823600" cy="6754680"/>
          </a:xfrm>
        </p:grpSpPr>
        <p:sp>
          <p:nvSpPr>
            <p:cNvPr id="2265" name="AutoShape 5"/>
            <p:cNvSpPr/>
            <p:nvPr/>
          </p:nvSpPr>
          <p:spPr>
            <a:xfrm>
              <a:off x="160200" y="457200"/>
              <a:ext cx="8823600" cy="6754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6" name="Rectangle 7"/>
            <p:cNvSpPr/>
            <p:nvPr/>
          </p:nvSpPr>
          <p:spPr>
            <a:xfrm>
              <a:off x="161640" y="458640"/>
              <a:ext cx="8820720" cy="675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7" name="Rectangle 8"/>
            <p:cNvSpPr/>
            <p:nvPr/>
          </p:nvSpPr>
          <p:spPr>
            <a:xfrm>
              <a:off x="902880" y="1577880"/>
              <a:ext cx="7793280" cy="36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8" name="Line 9"/>
            <p:cNvSpPr/>
            <p:nvPr/>
          </p:nvSpPr>
          <p:spPr>
            <a:xfrm>
              <a:off x="902880" y="5267160"/>
              <a:ext cx="779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9" name="Line 10"/>
            <p:cNvSpPr/>
            <p:nvPr/>
          </p:nvSpPr>
          <p:spPr>
            <a:xfrm flipV="1">
              <a:off x="90288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0" name="Line 11"/>
            <p:cNvSpPr/>
            <p:nvPr/>
          </p:nvSpPr>
          <p:spPr>
            <a:xfrm flipV="1">
              <a:off x="15508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1" name="Line 12"/>
            <p:cNvSpPr/>
            <p:nvPr/>
          </p:nvSpPr>
          <p:spPr>
            <a:xfrm flipV="1">
              <a:off x="22017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2" name="Line 13"/>
            <p:cNvSpPr/>
            <p:nvPr/>
          </p:nvSpPr>
          <p:spPr>
            <a:xfrm flipV="1">
              <a:off x="28512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3" name="Line 14"/>
            <p:cNvSpPr/>
            <p:nvPr/>
          </p:nvSpPr>
          <p:spPr>
            <a:xfrm flipV="1">
              <a:off x="350028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4" name="Line 15"/>
            <p:cNvSpPr/>
            <p:nvPr/>
          </p:nvSpPr>
          <p:spPr>
            <a:xfrm flipV="1">
              <a:off x="41497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5" name="Line 16"/>
            <p:cNvSpPr/>
            <p:nvPr/>
          </p:nvSpPr>
          <p:spPr>
            <a:xfrm flipV="1">
              <a:off x="479916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6" name="Line 17"/>
            <p:cNvSpPr/>
            <p:nvPr/>
          </p:nvSpPr>
          <p:spPr>
            <a:xfrm flipV="1">
              <a:off x="54482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7" name="Line 18"/>
            <p:cNvSpPr/>
            <p:nvPr/>
          </p:nvSpPr>
          <p:spPr>
            <a:xfrm flipV="1">
              <a:off x="6099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8" name="Line 19"/>
            <p:cNvSpPr/>
            <p:nvPr/>
          </p:nvSpPr>
          <p:spPr>
            <a:xfrm flipV="1">
              <a:off x="674712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79" name="Line 20"/>
            <p:cNvSpPr/>
            <p:nvPr/>
          </p:nvSpPr>
          <p:spPr>
            <a:xfrm flipV="1">
              <a:off x="739800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0" name="Line 21"/>
            <p:cNvSpPr/>
            <p:nvPr/>
          </p:nvSpPr>
          <p:spPr>
            <a:xfrm flipV="1">
              <a:off x="8047440" y="526680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1" name="Line 22"/>
            <p:cNvSpPr/>
            <p:nvPr/>
          </p:nvSpPr>
          <p:spPr>
            <a:xfrm flipV="1">
              <a:off x="8696520" y="5266800"/>
              <a:ext cx="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282" name="Line 23"/>
            <p:cNvSpPr/>
            <p:nvPr/>
          </p:nvSpPr>
          <p:spPr>
            <a:xfrm flipV="1">
              <a:off x="11174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3" name="Line 24"/>
            <p:cNvSpPr/>
            <p:nvPr/>
          </p:nvSpPr>
          <p:spPr>
            <a:xfrm flipV="1">
              <a:off x="1334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4" name="Line 25"/>
            <p:cNvSpPr/>
            <p:nvPr/>
          </p:nvSpPr>
          <p:spPr>
            <a:xfrm flipV="1">
              <a:off x="1768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5" name="Line 26"/>
            <p:cNvSpPr/>
            <p:nvPr/>
          </p:nvSpPr>
          <p:spPr>
            <a:xfrm flipV="1">
              <a:off x="19843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6" name="Line 27"/>
            <p:cNvSpPr/>
            <p:nvPr/>
          </p:nvSpPr>
          <p:spPr>
            <a:xfrm flipV="1">
              <a:off x="24177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7" name="Line 28"/>
            <p:cNvSpPr/>
            <p:nvPr/>
          </p:nvSpPr>
          <p:spPr>
            <a:xfrm flipV="1">
              <a:off x="26334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8" name="Line 29"/>
            <p:cNvSpPr/>
            <p:nvPr/>
          </p:nvSpPr>
          <p:spPr>
            <a:xfrm flipV="1">
              <a:off x="30668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89" name="Line 30"/>
            <p:cNvSpPr/>
            <p:nvPr/>
          </p:nvSpPr>
          <p:spPr>
            <a:xfrm flipV="1">
              <a:off x="3284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0" name="Line 31"/>
            <p:cNvSpPr/>
            <p:nvPr/>
          </p:nvSpPr>
          <p:spPr>
            <a:xfrm flipV="1">
              <a:off x="3716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1" name="Line 32"/>
            <p:cNvSpPr/>
            <p:nvPr/>
          </p:nvSpPr>
          <p:spPr>
            <a:xfrm flipV="1">
              <a:off x="39322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2" name="Line 33"/>
            <p:cNvSpPr/>
            <p:nvPr/>
          </p:nvSpPr>
          <p:spPr>
            <a:xfrm flipV="1">
              <a:off x="43657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3" name="Line 34"/>
            <p:cNvSpPr/>
            <p:nvPr/>
          </p:nvSpPr>
          <p:spPr>
            <a:xfrm flipV="1">
              <a:off x="45831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4" name="Line 35"/>
            <p:cNvSpPr/>
            <p:nvPr/>
          </p:nvSpPr>
          <p:spPr>
            <a:xfrm flipV="1">
              <a:off x="50148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5" name="Line 36"/>
            <p:cNvSpPr/>
            <p:nvPr/>
          </p:nvSpPr>
          <p:spPr>
            <a:xfrm flipV="1">
              <a:off x="52326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6" name="Line 37"/>
            <p:cNvSpPr/>
            <p:nvPr/>
          </p:nvSpPr>
          <p:spPr>
            <a:xfrm flipV="1">
              <a:off x="56660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7" name="Line 38"/>
            <p:cNvSpPr/>
            <p:nvPr/>
          </p:nvSpPr>
          <p:spPr>
            <a:xfrm flipV="1">
              <a:off x="58816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8" name="Line 39"/>
            <p:cNvSpPr/>
            <p:nvPr/>
          </p:nvSpPr>
          <p:spPr>
            <a:xfrm flipV="1">
              <a:off x="6315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299" name="Line 40"/>
            <p:cNvSpPr/>
            <p:nvPr/>
          </p:nvSpPr>
          <p:spPr>
            <a:xfrm flipV="1">
              <a:off x="653112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0" name="Line 41"/>
            <p:cNvSpPr/>
            <p:nvPr/>
          </p:nvSpPr>
          <p:spPr>
            <a:xfrm flipV="1">
              <a:off x="6964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1" name="Line 42"/>
            <p:cNvSpPr/>
            <p:nvPr/>
          </p:nvSpPr>
          <p:spPr>
            <a:xfrm flipV="1">
              <a:off x="718056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2" name="Line 43"/>
            <p:cNvSpPr/>
            <p:nvPr/>
          </p:nvSpPr>
          <p:spPr>
            <a:xfrm flipV="1">
              <a:off x="761400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3" name="Line 44"/>
            <p:cNvSpPr/>
            <p:nvPr/>
          </p:nvSpPr>
          <p:spPr>
            <a:xfrm flipV="1">
              <a:off x="782964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4" name="Line 45"/>
            <p:cNvSpPr/>
            <p:nvPr/>
          </p:nvSpPr>
          <p:spPr>
            <a:xfrm flipV="1">
              <a:off x="82630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5" name="Line 46"/>
            <p:cNvSpPr/>
            <p:nvPr/>
          </p:nvSpPr>
          <p:spPr>
            <a:xfrm flipV="1">
              <a:off x="8480880" y="52671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06" name="Rectangle 47"/>
            <p:cNvSpPr/>
            <p:nvPr/>
          </p:nvSpPr>
          <p:spPr>
            <a:xfrm>
              <a:off x="86184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307" name="Rectangle 48"/>
            <p:cNvSpPr/>
            <p:nvPr/>
          </p:nvSpPr>
          <p:spPr>
            <a:xfrm>
              <a:off x="151092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308" name="Rectangle 49"/>
            <p:cNvSpPr/>
            <p:nvPr/>
          </p:nvSpPr>
          <p:spPr>
            <a:xfrm>
              <a:off x="216216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309" name="Rectangle 50"/>
            <p:cNvSpPr/>
            <p:nvPr/>
          </p:nvSpPr>
          <p:spPr>
            <a:xfrm>
              <a:off x="2809800" y="5394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310" name="Rectangle 51"/>
            <p:cNvSpPr/>
            <p:nvPr/>
          </p:nvSpPr>
          <p:spPr>
            <a:xfrm>
              <a:off x="34185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311" name="Rectangle 52"/>
            <p:cNvSpPr/>
            <p:nvPr/>
          </p:nvSpPr>
          <p:spPr>
            <a:xfrm>
              <a:off x="40680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312" name="Rectangle 53"/>
            <p:cNvSpPr/>
            <p:nvPr/>
          </p:nvSpPr>
          <p:spPr>
            <a:xfrm>
              <a:off x="471744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313" name="Rectangle 54"/>
            <p:cNvSpPr/>
            <p:nvPr/>
          </p:nvSpPr>
          <p:spPr>
            <a:xfrm>
              <a:off x="53665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314" name="Rectangle 55"/>
            <p:cNvSpPr/>
            <p:nvPr/>
          </p:nvSpPr>
          <p:spPr>
            <a:xfrm>
              <a:off x="601596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315" name="Rectangle 56"/>
            <p:cNvSpPr/>
            <p:nvPr/>
          </p:nvSpPr>
          <p:spPr>
            <a:xfrm>
              <a:off x="66654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316" name="Rectangle 57"/>
            <p:cNvSpPr/>
            <p:nvPr/>
          </p:nvSpPr>
          <p:spPr>
            <a:xfrm>
              <a:off x="731628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317" name="Rectangle 58"/>
            <p:cNvSpPr/>
            <p:nvPr/>
          </p:nvSpPr>
          <p:spPr>
            <a:xfrm>
              <a:off x="796572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318" name="Rectangle 59"/>
            <p:cNvSpPr/>
            <p:nvPr/>
          </p:nvSpPr>
          <p:spPr>
            <a:xfrm>
              <a:off x="8614800" y="53942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319" name="Line 60"/>
            <p:cNvSpPr/>
            <p:nvPr/>
          </p:nvSpPr>
          <p:spPr>
            <a:xfrm flipV="1">
              <a:off x="902880" y="1577880"/>
              <a:ext cx="0" cy="368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0" name="Line 61"/>
            <p:cNvSpPr/>
            <p:nvPr/>
          </p:nvSpPr>
          <p:spPr>
            <a:xfrm>
              <a:off x="848880" y="5195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1" name="Line 62"/>
            <p:cNvSpPr/>
            <p:nvPr/>
          </p:nvSpPr>
          <p:spPr>
            <a:xfrm>
              <a:off x="848880" y="48340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2" name="Line 63"/>
            <p:cNvSpPr/>
            <p:nvPr/>
          </p:nvSpPr>
          <p:spPr>
            <a:xfrm>
              <a:off x="848880" y="44719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3" name="Line 64"/>
            <p:cNvSpPr/>
            <p:nvPr/>
          </p:nvSpPr>
          <p:spPr>
            <a:xfrm>
              <a:off x="848880" y="4110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4" name="Line 65"/>
            <p:cNvSpPr/>
            <p:nvPr/>
          </p:nvSpPr>
          <p:spPr>
            <a:xfrm>
              <a:off x="848880" y="37479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5" name="Line 66"/>
            <p:cNvSpPr/>
            <p:nvPr/>
          </p:nvSpPr>
          <p:spPr>
            <a:xfrm>
              <a:off x="848880" y="33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6" name="Line 67"/>
            <p:cNvSpPr/>
            <p:nvPr/>
          </p:nvSpPr>
          <p:spPr>
            <a:xfrm>
              <a:off x="848880" y="3024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7" name="Line 68"/>
            <p:cNvSpPr/>
            <p:nvPr/>
          </p:nvSpPr>
          <p:spPr>
            <a:xfrm>
              <a:off x="848880" y="2663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8" name="Line 69"/>
            <p:cNvSpPr/>
            <p:nvPr/>
          </p:nvSpPr>
          <p:spPr>
            <a:xfrm>
              <a:off x="848880" y="2301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9" name="Line 70"/>
            <p:cNvSpPr/>
            <p:nvPr/>
          </p:nvSpPr>
          <p:spPr>
            <a:xfrm>
              <a:off x="848880" y="19396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0" name="Line 71"/>
            <p:cNvSpPr/>
            <p:nvPr/>
          </p:nvSpPr>
          <p:spPr>
            <a:xfrm>
              <a:off x="848880" y="1577880"/>
              <a:ext cx="536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1" name="Line 72"/>
            <p:cNvSpPr/>
            <p:nvPr/>
          </p:nvSpPr>
          <p:spPr>
            <a:xfrm>
              <a:off x="871200" y="50133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2" name="Line 73"/>
            <p:cNvSpPr/>
            <p:nvPr/>
          </p:nvSpPr>
          <p:spPr>
            <a:xfrm>
              <a:off x="871200" y="46530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3" name="Line 74"/>
            <p:cNvSpPr/>
            <p:nvPr/>
          </p:nvSpPr>
          <p:spPr>
            <a:xfrm>
              <a:off x="871200" y="42908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4" name="Line 75"/>
            <p:cNvSpPr/>
            <p:nvPr/>
          </p:nvSpPr>
          <p:spPr>
            <a:xfrm>
              <a:off x="871200" y="39290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5" name="Line 76"/>
            <p:cNvSpPr/>
            <p:nvPr/>
          </p:nvSpPr>
          <p:spPr>
            <a:xfrm>
              <a:off x="871200" y="35668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6" name="Line 77"/>
            <p:cNvSpPr/>
            <p:nvPr/>
          </p:nvSpPr>
          <p:spPr>
            <a:xfrm>
              <a:off x="871200" y="32065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7" name="Line 78"/>
            <p:cNvSpPr/>
            <p:nvPr/>
          </p:nvSpPr>
          <p:spPr>
            <a:xfrm>
              <a:off x="871200" y="28432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8" name="Line 79"/>
            <p:cNvSpPr/>
            <p:nvPr/>
          </p:nvSpPr>
          <p:spPr>
            <a:xfrm>
              <a:off x="871200" y="24811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9" name="Line 80"/>
            <p:cNvSpPr/>
            <p:nvPr/>
          </p:nvSpPr>
          <p:spPr>
            <a:xfrm>
              <a:off x="871200" y="21207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0" name="Line 81"/>
            <p:cNvSpPr/>
            <p:nvPr/>
          </p:nvSpPr>
          <p:spPr>
            <a:xfrm>
              <a:off x="871200" y="1758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41" name="Rectangle 82"/>
            <p:cNvSpPr/>
            <p:nvPr/>
          </p:nvSpPr>
          <p:spPr>
            <a:xfrm>
              <a:off x="573840" y="511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342" name="Rectangle 83"/>
            <p:cNvSpPr/>
            <p:nvPr/>
          </p:nvSpPr>
          <p:spPr>
            <a:xfrm>
              <a:off x="573840" y="47512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343" name="Rectangle 84"/>
            <p:cNvSpPr/>
            <p:nvPr/>
          </p:nvSpPr>
          <p:spPr>
            <a:xfrm>
              <a:off x="573840" y="4389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344" name="Rectangle 85"/>
            <p:cNvSpPr/>
            <p:nvPr/>
          </p:nvSpPr>
          <p:spPr>
            <a:xfrm>
              <a:off x="573840" y="40273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345" name="Rectangle 86"/>
            <p:cNvSpPr/>
            <p:nvPr/>
          </p:nvSpPr>
          <p:spPr>
            <a:xfrm>
              <a:off x="573840" y="36655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346" name="Rectangle 87"/>
            <p:cNvSpPr/>
            <p:nvPr/>
          </p:nvSpPr>
          <p:spPr>
            <a:xfrm>
              <a:off x="573840" y="33033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347" name="Rectangle 88"/>
            <p:cNvSpPr/>
            <p:nvPr/>
          </p:nvSpPr>
          <p:spPr>
            <a:xfrm>
              <a:off x="573840" y="29415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348" name="Rectangle 89"/>
            <p:cNvSpPr/>
            <p:nvPr/>
          </p:nvSpPr>
          <p:spPr>
            <a:xfrm>
              <a:off x="573840" y="25794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349" name="Rectangle 90"/>
            <p:cNvSpPr/>
            <p:nvPr/>
          </p:nvSpPr>
          <p:spPr>
            <a:xfrm>
              <a:off x="573840" y="22190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350" name="Rectangle 91"/>
            <p:cNvSpPr/>
            <p:nvPr/>
          </p:nvSpPr>
          <p:spPr>
            <a:xfrm>
              <a:off x="573840" y="1857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351" name="Rectangle 92"/>
            <p:cNvSpPr/>
            <p:nvPr/>
          </p:nvSpPr>
          <p:spPr>
            <a:xfrm>
              <a:off x="573840" y="1495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352" name="Freeform 93"/>
            <p:cNvSpPr/>
            <p:nvPr/>
          </p:nvSpPr>
          <p:spPr>
            <a:xfrm flipV="1">
              <a:off x="902880" y="1577520"/>
              <a:ext cx="7261560" cy="3504960"/>
            </a:xfrm>
            <a:custGeom>
              <a:avLst/>
              <a:gdLst/>
              <a:ahLst/>
              <a:rect l="l" t="t" r="r" b="b"/>
              <a:pathLst>
                <a:path w="6870" h="3325">
                  <a:moveTo>
                    <a:pt x="0" y="3325"/>
                  </a:moveTo>
                  <a:lnTo>
                    <a:pt x="6" y="3325"/>
                  </a:lnTo>
                  <a:lnTo>
                    <a:pt x="60" y="3325"/>
                  </a:lnTo>
                  <a:lnTo>
                    <a:pt x="60" y="3310"/>
                  </a:lnTo>
                  <a:lnTo>
                    <a:pt x="67" y="3310"/>
                  </a:lnTo>
                  <a:lnTo>
                    <a:pt x="67" y="3302"/>
                  </a:lnTo>
                  <a:lnTo>
                    <a:pt x="94" y="3302"/>
                  </a:lnTo>
                  <a:lnTo>
                    <a:pt x="94" y="3294"/>
                  </a:lnTo>
                  <a:lnTo>
                    <a:pt x="107" y="3294"/>
                  </a:lnTo>
                  <a:lnTo>
                    <a:pt x="107" y="3286"/>
                  </a:lnTo>
                  <a:lnTo>
                    <a:pt x="114" y="3286"/>
                  </a:lnTo>
                  <a:lnTo>
                    <a:pt x="114" y="3278"/>
                  </a:lnTo>
                  <a:lnTo>
                    <a:pt x="127" y="3278"/>
                  </a:lnTo>
                  <a:lnTo>
                    <a:pt x="127" y="3263"/>
                  </a:lnTo>
                  <a:lnTo>
                    <a:pt x="141" y="3263"/>
                  </a:lnTo>
                  <a:lnTo>
                    <a:pt x="141" y="3255"/>
                  </a:lnTo>
                  <a:lnTo>
                    <a:pt x="154" y="3255"/>
                  </a:lnTo>
                  <a:lnTo>
                    <a:pt x="154" y="3247"/>
                  </a:lnTo>
                  <a:lnTo>
                    <a:pt x="161" y="3247"/>
                  </a:lnTo>
                  <a:lnTo>
                    <a:pt x="161" y="3239"/>
                  </a:lnTo>
                  <a:lnTo>
                    <a:pt x="168" y="3239"/>
                  </a:lnTo>
                  <a:lnTo>
                    <a:pt x="168" y="3231"/>
                  </a:lnTo>
                  <a:lnTo>
                    <a:pt x="188" y="3231"/>
                  </a:lnTo>
                  <a:lnTo>
                    <a:pt x="188" y="3215"/>
                  </a:lnTo>
                  <a:lnTo>
                    <a:pt x="195" y="3215"/>
                  </a:lnTo>
                  <a:lnTo>
                    <a:pt x="195" y="3207"/>
                  </a:lnTo>
                  <a:lnTo>
                    <a:pt x="201" y="3207"/>
                  </a:lnTo>
                  <a:lnTo>
                    <a:pt x="201" y="3200"/>
                  </a:lnTo>
                  <a:lnTo>
                    <a:pt x="208" y="3200"/>
                  </a:lnTo>
                  <a:lnTo>
                    <a:pt x="208" y="3192"/>
                  </a:lnTo>
                  <a:lnTo>
                    <a:pt x="215" y="3192"/>
                  </a:lnTo>
                  <a:lnTo>
                    <a:pt x="215" y="3184"/>
                  </a:lnTo>
                  <a:lnTo>
                    <a:pt x="235" y="3184"/>
                  </a:lnTo>
                  <a:lnTo>
                    <a:pt x="235" y="3176"/>
                  </a:lnTo>
                  <a:lnTo>
                    <a:pt x="242" y="3176"/>
                  </a:lnTo>
                  <a:lnTo>
                    <a:pt x="242" y="3168"/>
                  </a:lnTo>
                  <a:lnTo>
                    <a:pt x="248" y="3168"/>
                  </a:lnTo>
                  <a:lnTo>
                    <a:pt x="248" y="3144"/>
                  </a:lnTo>
                  <a:lnTo>
                    <a:pt x="255" y="3144"/>
                  </a:lnTo>
                  <a:lnTo>
                    <a:pt x="255" y="3113"/>
                  </a:lnTo>
                  <a:lnTo>
                    <a:pt x="262" y="3113"/>
                  </a:lnTo>
                  <a:lnTo>
                    <a:pt x="262" y="3081"/>
                  </a:lnTo>
                  <a:lnTo>
                    <a:pt x="269" y="3081"/>
                  </a:lnTo>
                  <a:lnTo>
                    <a:pt x="269" y="3073"/>
                  </a:lnTo>
                  <a:lnTo>
                    <a:pt x="275" y="3073"/>
                  </a:lnTo>
                  <a:lnTo>
                    <a:pt x="275" y="3049"/>
                  </a:lnTo>
                  <a:lnTo>
                    <a:pt x="282" y="3049"/>
                  </a:lnTo>
                  <a:lnTo>
                    <a:pt x="282" y="3001"/>
                  </a:lnTo>
                  <a:lnTo>
                    <a:pt x="289" y="3001"/>
                  </a:lnTo>
                  <a:lnTo>
                    <a:pt x="289" y="2961"/>
                  </a:lnTo>
                  <a:lnTo>
                    <a:pt x="296" y="2961"/>
                  </a:lnTo>
                  <a:lnTo>
                    <a:pt x="296" y="2953"/>
                  </a:lnTo>
                  <a:lnTo>
                    <a:pt x="302" y="2953"/>
                  </a:lnTo>
                  <a:lnTo>
                    <a:pt x="302" y="2945"/>
                  </a:lnTo>
                  <a:lnTo>
                    <a:pt x="309" y="2945"/>
                  </a:lnTo>
                  <a:lnTo>
                    <a:pt x="309" y="2912"/>
                  </a:lnTo>
                  <a:lnTo>
                    <a:pt x="316" y="2912"/>
                  </a:lnTo>
                  <a:lnTo>
                    <a:pt x="316" y="2904"/>
                  </a:lnTo>
                  <a:lnTo>
                    <a:pt x="322" y="2904"/>
                  </a:lnTo>
                  <a:lnTo>
                    <a:pt x="322" y="2888"/>
                  </a:lnTo>
                  <a:lnTo>
                    <a:pt x="329" y="2888"/>
                  </a:lnTo>
                  <a:lnTo>
                    <a:pt x="329" y="2880"/>
                  </a:lnTo>
                  <a:lnTo>
                    <a:pt x="336" y="2880"/>
                  </a:lnTo>
                  <a:lnTo>
                    <a:pt x="336" y="2872"/>
                  </a:lnTo>
                  <a:lnTo>
                    <a:pt x="343" y="2872"/>
                  </a:lnTo>
                  <a:lnTo>
                    <a:pt x="343" y="2864"/>
                  </a:lnTo>
                  <a:lnTo>
                    <a:pt x="349" y="2864"/>
                  </a:lnTo>
                  <a:lnTo>
                    <a:pt x="349" y="2847"/>
                  </a:lnTo>
                  <a:lnTo>
                    <a:pt x="397" y="2847"/>
                  </a:lnTo>
                  <a:lnTo>
                    <a:pt x="397" y="2831"/>
                  </a:lnTo>
                  <a:lnTo>
                    <a:pt x="403" y="2831"/>
                  </a:lnTo>
                  <a:lnTo>
                    <a:pt x="417" y="2831"/>
                  </a:lnTo>
                  <a:lnTo>
                    <a:pt x="417" y="2823"/>
                  </a:lnTo>
                  <a:lnTo>
                    <a:pt x="423" y="2823"/>
                  </a:lnTo>
                  <a:lnTo>
                    <a:pt x="423" y="2807"/>
                  </a:lnTo>
                  <a:lnTo>
                    <a:pt x="444" y="2807"/>
                  </a:lnTo>
                  <a:lnTo>
                    <a:pt x="444" y="2798"/>
                  </a:lnTo>
                  <a:lnTo>
                    <a:pt x="450" y="2798"/>
                  </a:lnTo>
                  <a:lnTo>
                    <a:pt x="450" y="2790"/>
                  </a:lnTo>
                  <a:lnTo>
                    <a:pt x="464" y="2790"/>
                  </a:lnTo>
                  <a:lnTo>
                    <a:pt x="464" y="2766"/>
                  </a:lnTo>
                  <a:lnTo>
                    <a:pt x="477" y="2766"/>
                  </a:lnTo>
                  <a:lnTo>
                    <a:pt x="477" y="2757"/>
                  </a:lnTo>
                  <a:lnTo>
                    <a:pt x="484" y="2757"/>
                  </a:lnTo>
                  <a:lnTo>
                    <a:pt x="484" y="2749"/>
                  </a:lnTo>
                  <a:lnTo>
                    <a:pt x="511" y="2749"/>
                  </a:lnTo>
                  <a:lnTo>
                    <a:pt x="511" y="2741"/>
                  </a:lnTo>
                  <a:lnTo>
                    <a:pt x="524" y="2741"/>
                  </a:lnTo>
                  <a:lnTo>
                    <a:pt x="524" y="2716"/>
                  </a:lnTo>
                  <a:lnTo>
                    <a:pt x="531" y="2716"/>
                  </a:lnTo>
                  <a:lnTo>
                    <a:pt x="531" y="2700"/>
                  </a:lnTo>
                  <a:lnTo>
                    <a:pt x="538" y="2700"/>
                  </a:lnTo>
                  <a:lnTo>
                    <a:pt x="538" y="2683"/>
                  </a:lnTo>
                  <a:lnTo>
                    <a:pt x="545" y="2683"/>
                  </a:lnTo>
                  <a:lnTo>
                    <a:pt x="545" y="2675"/>
                  </a:lnTo>
                  <a:lnTo>
                    <a:pt x="551" y="2675"/>
                  </a:lnTo>
                  <a:lnTo>
                    <a:pt x="551" y="2659"/>
                  </a:lnTo>
                  <a:lnTo>
                    <a:pt x="558" y="2659"/>
                  </a:lnTo>
                  <a:lnTo>
                    <a:pt x="558" y="2642"/>
                  </a:lnTo>
                  <a:lnTo>
                    <a:pt x="565" y="2642"/>
                  </a:lnTo>
                  <a:lnTo>
                    <a:pt x="565" y="2625"/>
                  </a:lnTo>
                  <a:lnTo>
                    <a:pt x="571" y="2625"/>
                  </a:lnTo>
                  <a:lnTo>
                    <a:pt x="571" y="2601"/>
                  </a:lnTo>
                  <a:lnTo>
                    <a:pt x="578" y="2601"/>
                  </a:lnTo>
                  <a:lnTo>
                    <a:pt x="578" y="2592"/>
                  </a:lnTo>
                  <a:lnTo>
                    <a:pt x="585" y="2592"/>
                  </a:lnTo>
                  <a:lnTo>
                    <a:pt x="585" y="2576"/>
                  </a:lnTo>
                  <a:lnTo>
                    <a:pt x="592" y="2576"/>
                  </a:lnTo>
                  <a:lnTo>
                    <a:pt x="592" y="2567"/>
                  </a:lnTo>
                  <a:lnTo>
                    <a:pt x="598" y="2567"/>
                  </a:lnTo>
                  <a:lnTo>
                    <a:pt x="598" y="2559"/>
                  </a:lnTo>
                  <a:lnTo>
                    <a:pt x="612" y="2559"/>
                  </a:lnTo>
                  <a:lnTo>
                    <a:pt x="612" y="2542"/>
                  </a:lnTo>
                  <a:lnTo>
                    <a:pt x="619" y="2542"/>
                  </a:lnTo>
                  <a:lnTo>
                    <a:pt x="619" y="2517"/>
                  </a:lnTo>
                  <a:lnTo>
                    <a:pt x="625" y="2517"/>
                  </a:lnTo>
                  <a:lnTo>
                    <a:pt x="625" y="2509"/>
                  </a:lnTo>
                  <a:lnTo>
                    <a:pt x="632" y="2509"/>
                  </a:lnTo>
                  <a:lnTo>
                    <a:pt x="632" y="2492"/>
                  </a:lnTo>
                  <a:lnTo>
                    <a:pt x="652" y="2492"/>
                  </a:lnTo>
                  <a:lnTo>
                    <a:pt x="652" y="2467"/>
                  </a:lnTo>
                  <a:lnTo>
                    <a:pt x="659" y="2467"/>
                  </a:lnTo>
                  <a:lnTo>
                    <a:pt x="659" y="2459"/>
                  </a:lnTo>
                  <a:lnTo>
                    <a:pt x="666" y="2459"/>
                  </a:lnTo>
                  <a:lnTo>
                    <a:pt x="666" y="2426"/>
                  </a:lnTo>
                  <a:lnTo>
                    <a:pt x="672" y="2426"/>
                  </a:lnTo>
                  <a:lnTo>
                    <a:pt x="672" y="2417"/>
                  </a:lnTo>
                  <a:lnTo>
                    <a:pt x="686" y="2417"/>
                  </a:lnTo>
                  <a:lnTo>
                    <a:pt x="686" y="2392"/>
                  </a:lnTo>
                  <a:lnTo>
                    <a:pt x="706" y="2392"/>
                  </a:lnTo>
                  <a:lnTo>
                    <a:pt x="706" y="2384"/>
                  </a:lnTo>
                  <a:lnTo>
                    <a:pt x="713" y="2384"/>
                  </a:lnTo>
                  <a:lnTo>
                    <a:pt x="713" y="2375"/>
                  </a:lnTo>
                  <a:lnTo>
                    <a:pt x="753" y="2375"/>
                  </a:lnTo>
                  <a:lnTo>
                    <a:pt x="753" y="2367"/>
                  </a:lnTo>
                  <a:lnTo>
                    <a:pt x="760" y="2367"/>
                  </a:lnTo>
                  <a:lnTo>
                    <a:pt x="760" y="2359"/>
                  </a:lnTo>
                  <a:lnTo>
                    <a:pt x="767" y="2359"/>
                  </a:lnTo>
                  <a:lnTo>
                    <a:pt x="767" y="2350"/>
                  </a:lnTo>
                  <a:lnTo>
                    <a:pt x="773" y="2350"/>
                  </a:lnTo>
                  <a:lnTo>
                    <a:pt x="773" y="2342"/>
                  </a:lnTo>
                  <a:lnTo>
                    <a:pt x="787" y="2342"/>
                  </a:lnTo>
                  <a:lnTo>
                    <a:pt x="787" y="2333"/>
                  </a:lnTo>
                  <a:lnTo>
                    <a:pt x="794" y="2333"/>
                  </a:lnTo>
                  <a:lnTo>
                    <a:pt x="794" y="2317"/>
                  </a:lnTo>
                  <a:lnTo>
                    <a:pt x="800" y="2317"/>
                  </a:lnTo>
                  <a:lnTo>
                    <a:pt x="800" y="2300"/>
                  </a:lnTo>
                  <a:lnTo>
                    <a:pt x="814" y="2300"/>
                  </a:lnTo>
                  <a:lnTo>
                    <a:pt x="814" y="2292"/>
                  </a:lnTo>
                  <a:lnTo>
                    <a:pt x="820" y="2292"/>
                  </a:lnTo>
                  <a:lnTo>
                    <a:pt x="820" y="2266"/>
                  </a:lnTo>
                  <a:lnTo>
                    <a:pt x="834" y="2266"/>
                  </a:lnTo>
                  <a:lnTo>
                    <a:pt x="834" y="2250"/>
                  </a:lnTo>
                  <a:lnTo>
                    <a:pt x="841" y="2250"/>
                  </a:lnTo>
                  <a:lnTo>
                    <a:pt x="841" y="2233"/>
                  </a:lnTo>
                  <a:lnTo>
                    <a:pt x="847" y="2233"/>
                  </a:lnTo>
                  <a:lnTo>
                    <a:pt x="847" y="2199"/>
                  </a:lnTo>
                  <a:lnTo>
                    <a:pt x="854" y="2199"/>
                  </a:lnTo>
                  <a:lnTo>
                    <a:pt x="854" y="2157"/>
                  </a:lnTo>
                  <a:lnTo>
                    <a:pt x="861" y="2157"/>
                  </a:lnTo>
                  <a:lnTo>
                    <a:pt x="861" y="2148"/>
                  </a:lnTo>
                  <a:lnTo>
                    <a:pt x="868" y="2148"/>
                  </a:lnTo>
                  <a:lnTo>
                    <a:pt x="868" y="2140"/>
                  </a:lnTo>
                  <a:lnTo>
                    <a:pt x="874" y="2140"/>
                  </a:lnTo>
                  <a:lnTo>
                    <a:pt x="874" y="2131"/>
                  </a:lnTo>
                  <a:lnTo>
                    <a:pt x="881" y="2131"/>
                  </a:lnTo>
                  <a:lnTo>
                    <a:pt x="881" y="2123"/>
                  </a:lnTo>
                  <a:lnTo>
                    <a:pt x="888" y="2123"/>
                  </a:lnTo>
                  <a:lnTo>
                    <a:pt x="888" y="2106"/>
                  </a:lnTo>
                  <a:lnTo>
                    <a:pt x="894" y="2106"/>
                  </a:lnTo>
                  <a:lnTo>
                    <a:pt x="894" y="2089"/>
                  </a:lnTo>
                  <a:lnTo>
                    <a:pt x="901" y="2089"/>
                  </a:lnTo>
                  <a:lnTo>
                    <a:pt x="901" y="2063"/>
                  </a:lnTo>
                  <a:lnTo>
                    <a:pt x="908" y="2063"/>
                  </a:lnTo>
                  <a:lnTo>
                    <a:pt x="908" y="2054"/>
                  </a:lnTo>
                  <a:lnTo>
                    <a:pt x="921" y="2054"/>
                  </a:lnTo>
                  <a:lnTo>
                    <a:pt x="921" y="2046"/>
                  </a:lnTo>
                  <a:lnTo>
                    <a:pt x="935" y="2046"/>
                  </a:lnTo>
                  <a:lnTo>
                    <a:pt x="935" y="2037"/>
                  </a:lnTo>
                  <a:lnTo>
                    <a:pt x="942" y="2037"/>
                  </a:lnTo>
                  <a:lnTo>
                    <a:pt x="942" y="2011"/>
                  </a:lnTo>
                  <a:lnTo>
                    <a:pt x="948" y="2011"/>
                  </a:lnTo>
                  <a:lnTo>
                    <a:pt x="948" y="2002"/>
                  </a:lnTo>
                  <a:lnTo>
                    <a:pt x="955" y="2002"/>
                  </a:lnTo>
                  <a:lnTo>
                    <a:pt x="955" y="1985"/>
                  </a:lnTo>
                  <a:lnTo>
                    <a:pt x="968" y="1985"/>
                  </a:lnTo>
                  <a:lnTo>
                    <a:pt x="968" y="1951"/>
                  </a:lnTo>
                  <a:lnTo>
                    <a:pt x="975" y="1951"/>
                  </a:lnTo>
                  <a:lnTo>
                    <a:pt x="982" y="1951"/>
                  </a:lnTo>
                  <a:lnTo>
                    <a:pt x="982" y="1942"/>
                  </a:lnTo>
                  <a:lnTo>
                    <a:pt x="1002" y="1942"/>
                  </a:lnTo>
                  <a:lnTo>
                    <a:pt x="1029" y="1942"/>
                  </a:lnTo>
                  <a:lnTo>
                    <a:pt x="1029" y="1933"/>
                  </a:lnTo>
                  <a:lnTo>
                    <a:pt x="1036" y="1933"/>
                  </a:lnTo>
                  <a:lnTo>
                    <a:pt x="1036" y="1924"/>
                  </a:lnTo>
                  <a:lnTo>
                    <a:pt x="1043" y="1924"/>
                  </a:lnTo>
                  <a:lnTo>
                    <a:pt x="1049" y="1924"/>
                  </a:lnTo>
                  <a:lnTo>
                    <a:pt x="1049" y="1916"/>
                  </a:lnTo>
                  <a:lnTo>
                    <a:pt x="1076" y="1916"/>
                  </a:lnTo>
                  <a:lnTo>
                    <a:pt x="1076" y="1907"/>
                  </a:lnTo>
                  <a:lnTo>
                    <a:pt x="1090" y="1907"/>
                  </a:lnTo>
                  <a:lnTo>
                    <a:pt x="1090" y="1898"/>
                  </a:lnTo>
                  <a:lnTo>
                    <a:pt x="1096" y="1898"/>
                  </a:lnTo>
                  <a:lnTo>
                    <a:pt x="1096" y="1889"/>
                  </a:lnTo>
                  <a:lnTo>
                    <a:pt x="1103" y="1889"/>
                  </a:lnTo>
                  <a:lnTo>
                    <a:pt x="1103" y="1880"/>
                  </a:lnTo>
                  <a:lnTo>
                    <a:pt x="1110" y="1880"/>
                  </a:lnTo>
                  <a:lnTo>
                    <a:pt x="1110" y="1872"/>
                  </a:lnTo>
                  <a:lnTo>
                    <a:pt x="1117" y="1872"/>
                  </a:lnTo>
                  <a:lnTo>
                    <a:pt x="1117" y="1854"/>
                  </a:lnTo>
                  <a:lnTo>
                    <a:pt x="1123" y="1854"/>
                  </a:lnTo>
                  <a:lnTo>
                    <a:pt x="1123" y="1836"/>
                  </a:lnTo>
                  <a:lnTo>
                    <a:pt x="1130" y="1836"/>
                  </a:lnTo>
                  <a:lnTo>
                    <a:pt x="1130" y="1801"/>
                  </a:lnTo>
                  <a:lnTo>
                    <a:pt x="1137" y="1801"/>
                  </a:lnTo>
                  <a:lnTo>
                    <a:pt x="1137" y="1774"/>
                  </a:lnTo>
                  <a:lnTo>
                    <a:pt x="1143" y="1774"/>
                  </a:lnTo>
                  <a:lnTo>
                    <a:pt x="1143" y="1757"/>
                  </a:lnTo>
                  <a:lnTo>
                    <a:pt x="1150" y="1757"/>
                  </a:lnTo>
                  <a:lnTo>
                    <a:pt x="1157" y="1757"/>
                  </a:lnTo>
                  <a:lnTo>
                    <a:pt x="1157" y="1721"/>
                  </a:lnTo>
                  <a:lnTo>
                    <a:pt x="1170" y="1721"/>
                  </a:lnTo>
                  <a:lnTo>
                    <a:pt x="1170" y="1694"/>
                  </a:lnTo>
                  <a:lnTo>
                    <a:pt x="1177" y="1694"/>
                  </a:lnTo>
                  <a:lnTo>
                    <a:pt x="1177" y="1676"/>
                  </a:lnTo>
                  <a:lnTo>
                    <a:pt x="1184" y="1676"/>
                  </a:lnTo>
                  <a:lnTo>
                    <a:pt x="1184" y="1658"/>
                  </a:lnTo>
                  <a:lnTo>
                    <a:pt x="1191" y="1658"/>
                  </a:lnTo>
                  <a:lnTo>
                    <a:pt x="1191" y="1631"/>
                  </a:lnTo>
                  <a:lnTo>
                    <a:pt x="1211" y="1631"/>
                  </a:lnTo>
                  <a:lnTo>
                    <a:pt x="1211" y="1622"/>
                  </a:lnTo>
                  <a:lnTo>
                    <a:pt x="1217" y="1622"/>
                  </a:lnTo>
                  <a:lnTo>
                    <a:pt x="1224" y="1622"/>
                  </a:lnTo>
                  <a:lnTo>
                    <a:pt x="1224" y="1613"/>
                  </a:lnTo>
                  <a:lnTo>
                    <a:pt x="1238" y="1613"/>
                  </a:lnTo>
                  <a:lnTo>
                    <a:pt x="1238" y="1595"/>
                  </a:lnTo>
                  <a:lnTo>
                    <a:pt x="1251" y="1595"/>
                  </a:lnTo>
                  <a:lnTo>
                    <a:pt x="1251" y="1586"/>
                  </a:lnTo>
                  <a:lnTo>
                    <a:pt x="1265" y="1586"/>
                  </a:lnTo>
                  <a:lnTo>
                    <a:pt x="1271" y="1586"/>
                  </a:lnTo>
                  <a:lnTo>
                    <a:pt x="1271" y="1577"/>
                  </a:lnTo>
                  <a:lnTo>
                    <a:pt x="1278" y="1577"/>
                  </a:lnTo>
                  <a:lnTo>
                    <a:pt x="1278" y="1568"/>
                  </a:lnTo>
                  <a:lnTo>
                    <a:pt x="1291" y="1568"/>
                  </a:lnTo>
                  <a:lnTo>
                    <a:pt x="1291" y="1558"/>
                  </a:lnTo>
                  <a:lnTo>
                    <a:pt x="1298" y="1558"/>
                  </a:lnTo>
                  <a:lnTo>
                    <a:pt x="1298" y="1549"/>
                  </a:lnTo>
                  <a:lnTo>
                    <a:pt x="1305" y="1549"/>
                  </a:lnTo>
                  <a:lnTo>
                    <a:pt x="1305" y="1540"/>
                  </a:lnTo>
                  <a:lnTo>
                    <a:pt x="1312" y="1540"/>
                  </a:lnTo>
                  <a:lnTo>
                    <a:pt x="1312" y="1531"/>
                  </a:lnTo>
                  <a:lnTo>
                    <a:pt x="1325" y="1531"/>
                  </a:lnTo>
                  <a:lnTo>
                    <a:pt x="1325" y="1513"/>
                  </a:lnTo>
                  <a:lnTo>
                    <a:pt x="1372" y="1513"/>
                  </a:lnTo>
                  <a:lnTo>
                    <a:pt x="1372" y="1494"/>
                  </a:lnTo>
                  <a:lnTo>
                    <a:pt x="1379" y="1494"/>
                  </a:lnTo>
                  <a:lnTo>
                    <a:pt x="1379" y="1485"/>
                  </a:lnTo>
                  <a:lnTo>
                    <a:pt x="1386" y="1485"/>
                  </a:lnTo>
                  <a:lnTo>
                    <a:pt x="1386" y="1457"/>
                  </a:lnTo>
                  <a:lnTo>
                    <a:pt x="1392" y="1457"/>
                  </a:lnTo>
                  <a:lnTo>
                    <a:pt x="1392" y="1448"/>
                  </a:lnTo>
                  <a:lnTo>
                    <a:pt x="1406" y="1448"/>
                  </a:lnTo>
                  <a:lnTo>
                    <a:pt x="1406" y="1438"/>
                  </a:lnTo>
                  <a:lnTo>
                    <a:pt x="1413" y="1438"/>
                  </a:lnTo>
                  <a:lnTo>
                    <a:pt x="1413" y="1429"/>
                  </a:lnTo>
                  <a:lnTo>
                    <a:pt x="1419" y="1429"/>
                  </a:lnTo>
                  <a:lnTo>
                    <a:pt x="1419" y="1401"/>
                  </a:lnTo>
                  <a:lnTo>
                    <a:pt x="1426" y="1401"/>
                  </a:lnTo>
                  <a:lnTo>
                    <a:pt x="1426" y="1392"/>
                  </a:lnTo>
                  <a:lnTo>
                    <a:pt x="1440" y="1392"/>
                  </a:lnTo>
                  <a:lnTo>
                    <a:pt x="1440" y="1373"/>
                  </a:lnTo>
                  <a:lnTo>
                    <a:pt x="1446" y="1373"/>
                  </a:lnTo>
                  <a:lnTo>
                    <a:pt x="1446" y="1363"/>
                  </a:lnTo>
                  <a:lnTo>
                    <a:pt x="1453" y="1363"/>
                  </a:lnTo>
                  <a:lnTo>
                    <a:pt x="1453" y="1354"/>
                  </a:lnTo>
                  <a:lnTo>
                    <a:pt x="1460" y="1354"/>
                  </a:lnTo>
                  <a:lnTo>
                    <a:pt x="1460" y="1344"/>
                  </a:lnTo>
                  <a:lnTo>
                    <a:pt x="1466" y="1344"/>
                  </a:lnTo>
                  <a:lnTo>
                    <a:pt x="1466" y="1335"/>
                  </a:lnTo>
                  <a:lnTo>
                    <a:pt x="1473" y="1335"/>
                  </a:lnTo>
                  <a:lnTo>
                    <a:pt x="1473" y="1326"/>
                  </a:lnTo>
                  <a:lnTo>
                    <a:pt x="1480" y="1326"/>
                  </a:lnTo>
                  <a:lnTo>
                    <a:pt x="1480" y="1316"/>
                  </a:lnTo>
                  <a:lnTo>
                    <a:pt x="1487" y="1316"/>
                  </a:lnTo>
                  <a:lnTo>
                    <a:pt x="1487" y="1297"/>
                  </a:lnTo>
                  <a:lnTo>
                    <a:pt x="1514" y="1297"/>
                  </a:lnTo>
                  <a:lnTo>
                    <a:pt x="1514" y="1288"/>
                  </a:lnTo>
                  <a:lnTo>
                    <a:pt x="1520" y="1288"/>
                  </a:lnTo>
                  <a:lnTo>
                    <a:pt x="1520" y="1278"/>
                  </a:lnTo>
                  <a:lnTo>
                    <a:pt x="1527" y="1278"/>
                  </a:lnTo>
                  <a:lnTo>
                    <a:pt x="1527" y="1269"/>
                  </a:lnTo>
                  <a:lnTo>
                    <a:pt x="1534" y="1269"/>
                  </a:lnTo>
                  <a:lnTo>
                    <a:pt x="1534" y="1259"/>
                  </a:lnTo>
                  <a:lnTo>
                    <a:pt x="1540" y="1259"/>
                  </a:lnTo>
                  <a:lnTo>
                    <a:pt x="1540" y="1250"/>
                  </a:lnTo>
                  <a:lnTo>
                    <a:pt x="1561" y="1250"/>
                  </a:lnTo>
                  <a:lnTo>
                    <a:pt x="1561" y="1240"/>
                  </a:lnTo>
                  <a:lnTo>
                    <a:pt x="1581" y="1240"/>
                  </a:lnTo>
                  <a:lnTo>
                    <a:pt x="1588" y="1240"/>
                  </a:lnTo>
                  <a:lnTo>
                    <a:pt x="1588" y="1230"/>
                  </a:lnTo>
                  <a:lnTo>
                    <a:pt x="1641" y="1230"/>
                  </a:lnTo>
                  <a:lnTo>
                    <a:pt x="1641" y="1221"/>
                  </a:lnTo>
                  <a:lnTo>
                    <a:pt x="1648" y="1221"/>
                  </a:lnTo>
                  <a:lnTo>
                    <a:pt x="1648" y="1211"/>
                  </a:lnTo>
                  <a:lnTo>
                    <a:pt x="1655" y="1211"/>
                  </a:lnTo>
                  <a:lnTo>
                    <a:pt x="1662" y="1211"/>
                  </a:lnTo>
                  <a:lnTo>
                    <a:pt x="1662" y="1202"/>
                  </a:lnTo>
                  <a:lnTo>
                    <a:pt x="1682" y="1202"/>
                  </a:lnTo>
                  <a:lnTo>
                    <a:pt x="1682" y="1182"/>
                  </a:lnTo>
                  <a:lnTo>
                    <a:pt x="1695" y="1182"/>
                  </a:lnTo>
                  <a:lnTo>
                    <a:pt x="1695" y="1172"/>
                  </a:lnTo>
                  <a:lnTo>
                    <a:pt x="1702" y="1172"/>
                  </a:lnTo>
                  <a:lnTo>
                    <a:pt x="1702" y="1163"/>
                  </a:lnTo>
                  <a:lnTo>
                    <a:pt x="1709" y="1163"/>
                  </a:lnTo>
                  <a:lnTo>
                    <a:pt x="1709" y="1153"/>
                  </a:lnTo>
                  <a:lnTo>
                    <a:pt x="1722" y="1153"/>
                  </a:lnTo>
                  <a:lnTo>
                    <a:pt x="1742" y="1153"/>
                  </a:lnTo>
                  <a:lnTo>
                    <a:pt x="1742" y="1133"/>
                  </a:lnTo>
                  <a:lnTo>
                    <a:pt x="1749" y="1133"/>
                  </a:lnTo>
                  <a:lnTo>
                    <a:pt x="1756" y="1133"/>
                  </a:lnTo>
                  <a:lnTo>
                    <a:pt x="1756" y="1123"/>
                  </a:lnTo>
                  <a:lnTo>
                    <a:pt x="1763" y="1123"/>
                  </a:lnTo>
                  <a:lnTo>
                    <a:pt x="1763" y="1114"/>
                  </a:lnTo>
                  <a:lnTo>
                    <a:pt x="1769" y="1114"/>
                  </a:lnTo>
                  <a:lnTo>
                    <a:pt x="1769" y="1104"/>
                  </a:lnTo>
                  <a:lnTo>
                    <a:pt x="1789" y="1104"/>
                  </a:lnTo>
                  <a:lnTo>
                    <a:pt x="1789" y="1094"/>
                  </a:lnTo>
                  <a:lnTo>
                    <a:pt x="1803" y="1094"/>
                  </a:lnTo>
                  <a:lnTo>
                    <a:pt x="1803" y="1064"/>
                  </a:lnTo>
                  <a:lnTo>
                    <a:pt x="1810" y="1064"/>
                  </a:lnTo>
                  <a:lnTo>
                    <a:pt x="1810" y="1054"/>
                  </a:lnTo>
                  <a:lnTo>
                    <a:pt x="1816" y="1054"/>
                  </a:lnTo>
                  <a:lnTo>
                    <a:pt x="1816" y="1034"/>
                  </a:lnTo>
                  <a:lnTo>
                    <a:pt x="1823" y="1034"/>
                  </a:lnTo>
                  <a:lnTo>
                    <a:pt x="1823" y="1024"/>
                  </a:lnTo>
                  <a:lnTo>
                    <a:pt x="1843" y="1024"/>
                  </a:lnTo>
                  <a:lnTo>
                    <a:pt x="1870" y="1024"/>
                  </a:lnTo>
                  <a:lnTo>
                    <a:pt x="1884" y="1024"/>
                  </a:lnTo>
                  <a:lnTo>
                    <a:pt x="1884" y="1014"/>
                  </a:lnTo>
                  <a:lnTo>
                    <a:pt x="1917" y="1014"/>
                  </a:lnTo>
                  <a:lnTo>
                    <a:pt x="1917" y="1004"/>
                  </a:lnTo>
                  <a:lnTo>
                    <a:pt x="1931" y="1004"/>
                  </a:lnTo>
                  <a:lnTo>
                    <a:pt x="1931" y="994"/>
                  </a:lnTo>
                  <a:lnTo>
                    <a:pt x="1937" y="994"/>
                  </a:lnTo>
                  <a:lnTo>
                    <a:pt x="1937" y="984"/>
                  </a:lnTo>
                  <a:lnTo>
                    <a:pt x="1944" y="984"/>
                  </a:lnTo>
                  <a:lnTo>
                    <a:pt x="1944" y="973"/>
                  </a:lnTo>
                  <a:lnTo>
                    <a:pt x="1951" y="973"/>
                  </a:lnTo>
                  <a:lnTo>
                    <a:pt x="1951" y="963"/>
                  </a:lnTo>
                  <a:lnTo>
                    <a:pt x="1964" y="963"/>
                  </a:lnTo>
                  <a:lnTo>
                    <a:pt x="1964" y="953"/>
                  </a:lnTo>
                  <a:lnTo>
                    <a:pt x="1985" y="953"/>
                  </a:lnTo>
                  <a:lnTo>
                    <a:pt x="1985" y="942"/>
                  </a:lnTo>
                  <a:lnTo>
                    <a:pt x="2018" y="942"/>
                  </a:lnTo>
                  <a:lnTo>
                    <a:pt x="2018" y="932"/>
                  </a:lnTo>
                  <a:lnTo>
                    <a:pt x="2032" y="932"/>
                  </a:lnTo>
                  <a:lnTo>
                    <a:pt x="2032" y="912"/>
                  </a:lnTo>
                  <a:lnTo>
                    <a:pt x="2038" y="912"/>
                  </a:lnTo>
                  <a:lnTo>
                    <a:pt x="2038" y="901"/>
                  </a:lnTo>
                  <a:lnTo>
                    <a:pt x="2092" y="901"/>
                  </a:lnTo>
                  <a:lnTo>
                    <a:pt x="2092" y="891"/>
                  </a:lnTo>
                  <a:lnTo>
                    <a:pt x="2106" y="891"/>
                  </a:lnTo>
                  <a:lnTo>
                    <a:pt x="2106" y="881"/>
                  </a:lnTo>
                  <a:lnTo>
                    <a:pt x="2133" y="881"/>
                  </a:lnTo>
                  <a:lnTo>
                    <a:pt x="2133" y="871"/>
                  </a:lnTo>
                  <a:lnTo>
                    <a:pt x="2180" y="871"/>
                  </a:lnTo>
                  <a:lnTo>
                    <a:pt x="2180" y="860"/>
                  </a:lnTo>
                  <a:lnTo>
                    <a:pt x="2200" y="860"/>
                  </a:lnTo>
                  <a:lnTo>
                    <a:pt x="2200" y="850"/>
                  </a:lnTo>
                  <a:lnTo>
                    <a:pt x="2234" y="850"/>
                  </a:lnTo>
                  <a:lnTo>
                    <a:pt x="2234" y="840"/>
                  </a:lnTo>
                  <a:lnTo>
                    <a:pt x="2240" y="840"/>
                  </a:lnTo>
                  <a:lnTo>
                    <a:pt x="2240" y="829"/>
                  </a:lnTo>
                  <a:lnTo>
                    <a:pt x="2247" y="829"/>
                  </a:lnTo>
                  <a:lnTo>
                    <a:pt x="2247" y="809"/>
                  </a:lnTo>
                  <a:lnTo>
                    <a:pt x="2267" y="809"/>
                  </a:lnTo>
                  <a:lnTo>
                    <a:pt x="2281" y="809"/>
                  </a:lnTo>
                  <a:lnTo>
                    <a:pt x="2314" y="809"/>
                  </a:lnTo>
                  <a:lnTo>
                    <a:pt x="2314" y="798"/>
                  </a:lnTo>
                  <a:lnTo>
                    <a:pt x="2334" y="798"/>
                  </a:lnTo>
                  <a:lnTo>
                    <a:pt x="2334" y="777"/>
                  </a:lnTo>
                  <a:lnTo>
                    <a:pt x="2382" y="777"/>
                  </a:lnTo>
                  <a:lnTo>
                    <a:pt x="2382" y="767"/>
                  </a:lnTo>
                  <a:lnTo>
                    <a:pt x="2388" y="767"/>
                  </a:lnTo>
                  <a:lnTo>
                    <a:pt x="2388" y="756"/>
                  </a:lnTo>
                  <a:lnTo>
                    <a:pt x="2395" y="756"/>
                  </a:lnTo>
                  <a:lnTo>
                    <a:pt x="2395" y="746"/>
                  </a:lnTo>
                  <a:lnTo>
                    <a:pt x="2402" y="746"/>
                  </a:lnTo>
                  <a:lnTo>
                    <a:pt x="2402" y="735"/>
                  </a:lnTo>
                  <a:lnTo>
                    <a:pt x="2409" y="735"/>
                  </a:lnTo>
                  <a:lnTo>
                    <a:pt x="2409" y="724"/>
                  </a:lnTo>
                  <a:lnTo>
                    <a:pt x="2456" y="724"/>
                  </a:lnTo>
                  <a:lnTo>
                    <a:pt x="2456" y="713"/>
                  </a:lnTo>
                  <a:lnTo>
                    <a:pt x="2483" y="713"/>
                  </a:lnTo>
                  <a:lnTo>
                    <a:pt x="2483" y="702"/>
                  </a:lnTo>
                  <a:lnTo>
                    <a:pt x="2509" y="702"/>
                  </a:lnTo>
                  <a:lnTo>
                    <a:pt x="2509" y="670"/>
                  </a:lnTo>
                  <a:lnTo>
                    <a:pt x="2550" y="670"/>
                  </a:lnTo>
                  <a:lnTo>
                    <a:pt x="2550" y="649"/>
                  </a:lnTo>
                  <a:lnTo>
                    <a:pt x="2563" y="649"/>
                  </a:lnTo>
                  <a:lnTo>
                    <a:pt x="2563" y="638"/>
                  </a:lnTo>
                  <a:lnTo>
                    <a:pt x="2583" y="638"/>
                  </a:lnTo>
                  <a:lnTo>
                    <a:pt x="2583" y="627"/>
                  </a:lnTo>
                  <a:lnTo>
                    <a:pt x="2590" y="627"/>
                  </a:lnTo>
                  <a:lnTo>
                    <a:pt x="2590" y="616"/>
                  </a:lnTo>
                  <a:lnTo>
                    <a:pt x="2597" y="616"/>
                  </a:lnTo>
                  <a:lnTo>
                    <a:pt x="2597" y="605"/>
                  </a:lnTo>
                  <a:lnTo>
                    <a:pt x="2644" y="605"/>
                  </a:lnTo>
                  <a:lnTo>
                    <a:pt x="2664" y="605"/>
                  </a:lnTo>
                  <a:lnTo>
                    <a:pt x="2664" y="594"/>
                  </a:lnTo>
                  <a:lnTo>
                    <a:pt x="2684" y="594"/>
                  </a:lnTo>
                  <a:lnTo>
                    <a:pt x="2738" y="594"/>
                  </a:lnTo>
                  <a:lnTo>
                    <a:pt x="2738" y="583"/>
                  </a:lnTo>
                  <a:lnTo>
                    <a:pt x="2745" y="583"/>
                  </a:lnTo>
                  <a:lnTo>
                    <a:pt x="2745" y="572"/>
                  </a:lnTo>
                  <a:lnTo>
                    <a:pt x="2785" y="572"/>
                  </a:lnTo>
                  <a:lnTo>
                    <a:pt x="2792" y="572"/>
                  </a:lnTo>
                  <a:lnTo>
                    <a:pt x="2826" y="572"/>
                  </a:lnTo>
                  <a:lnTo>
                    <a:pt x="2826" y="561"/>
                  </a:lnTo>
                  <a:lnTo>
                    <a:pt x="2832" y="561"/>
                  </a:lnTo>
                  <a:lnTo>
                    <a:pt x="2832" y="549"/>
                  </a:lnTo>
                  <a:lnTo>
                    <a:pt x="2839" y="549"/>
                  </a:lnTo>
                  <a:lnTo>
                    <a:pt x="2839" y="538"/>
                  </a:lnTo>
                  <a:lnTo>
                    <a:pt x="2846" y="538"/>
                  </a:lnTo>
                  <a:lnTo>
                    <a:pt x="2846" y="526"/>
                  </a:lnTo>
                  <a:lnTo>
                    <a:pt x="2853" y="526"/>
                  </a:lnTo>
                  <a:lnTo>
                    <a:pt x="2853" y="515"/>
                  </a:lnTo>
                  <a:lnTo>
                    <a:pt x="2880" y="515"/>
                  </a:lnTo>
                  <a:lnTo>
                    <a:pt x="2880" y="503"/>
                  </a:lnTo>
                  <a:lnTo>
                    <a:pt x="2906" y="503"/>
                  </a:lnTo>
                  <a:lnTo>
                    <a:pt x="2906" y="492"/>
                  </a:lnTo>
                  <a:lnTo>
                    <a:pt x="2947" y="492"/>
                  </a:lnTo>
                  <a:lnTo>
                    <a:pt x="2947" y="480"/>
                  </a:lnTo>
                  <a:lnTo>
                    <a:pt x="2974" y="480"/>
                  </a:lnTo>
                  <a:lnTo>
                    <a:pt x="2974" y="469"/>
                  </a:lnTo>
                  <a:lnTo>
                    <a:pt x="3068" y="469"/>
                  </a:lnTo>
                  <a:lnTo>
                    <a:pt x="3068" y="457"/>
                  </a:lnTo>
                  <a:lnTo>
                    <a:pt x="3081" y="457"/>
                  </a:lnTo>
                  <a:lnTo>
                    <a:pt x="3135" y="457"/>
                  </a:lnTo>
                  <a:lnTo>
                    <a:pt x="3135" y="446"/>
                  </a:lnTo>
                  <a:lnTo>
                    <a:pt x="3189" y="446"/>
                  </a:lnTo>
                  <a:lnTo>
                    <a:pt x="3189" y="434"/>
                  </a:lnTo>
                  <a:lnTo>
                    <a:pt x="3256" y="434"/>
                  </a:lnTo>
                  <a:lnTo>
                    <a:pt x="3256" y="422"/>
                  </a:lnTo>
                  <a:lnTo>
                    <a:pt x="3297" y="422"/>
                  </a:lnTo>
                  <a:lnTo>
                    <a:pt x="3297" y="410"/>
                  </a:lnTo>
                  <a:lnTo>
                    <a:pt x="3357" y="410"/>
                  </a:lnTo>
                  <a:lnTo>
                    <a:pt x="3357" y="399"/>
                  </a:lnTo>
                  <a:lnTo>
                    <a:pt x="3378" y="399"/>
                  </a:lnTo>
                  <a:lnTo>
                    <a:pt x="3378" y="375"/>
                  </a:lnTo>
                  <a:lnTo>
                    <a:pt x="3398" y="375"/>
                  </a:lnTo>
                  <a:lnTo>
                    <a:pt x="3398" y="363"/>
                  </a:lnTo>
                  <a:lnTo>
                    <a:pt x="3411" y="363"/>
                  </a:lnTo>
                  <a:lnTo>
                    <a:pt x="3411" y="352"/>
                  </a:lnTo>
                  <a:lnTo>
                    <a:pt x="3438" y="352"/>
                  </a:lnTo>
                  <a:lnTo>
                    <a:pt x="3505" y="352"/>
                  </a:lnTo>
                  <a:lnTo>
                    <a:pt x="3505" y="340"/>
                  </a:lnTo>
                  <a:lnTo>
                    <a:pt x="3519" y="340"/>
                  </a:lnTo>
                  <a:lnTo>
                    <a:pt x="3600" y="340"/>
                  </a:lnTo>
                  <a:lnTo>
                    <a:pt x="3613" y="340"/>
                  </a:lnTo>
                  <a:lnTo>
                    <a:pt x="3613" y="327"/>
                  </a:lnTo>
                  <a:lnTo>
                    <a:pt x="3620" y="327"/>
                  </a:lnTo>
                  <a:lnTo>
                    <a:pt x="3680" y="327"/>
                  </a:lnTo>
                  <a:lnTo>
                    <a:pt x="3714" y="327"/>
                  </a:lnTo>
                  <a:lnTo>
                    <a:pt x="3714" y="313"/>
                  </a:lnTo>
                  <a:lnTo>
                    <a:pt x="3761" y="313"/>
                  </a:lnTo>
                  <a:lnTo>
                    <a:pt x="3761" y="286"/>
                  </a:lnTo>
                  <a:lnTo>
                    <a:pt x="3808" y="286"/>
                  </a:lnTo>
                  <a:lnTo>
                    <a:pt x="3808" y="257"/>
                  </a:lnTo>
                  <a:lnTo>
                    <a:pt x="3835" y="257"/>
                  </a:lnTo>
                  <a:lnTo>
                    <a:pt x="3923" y="257"/>
                  </a:lnTo>
                  <a:lnTo>
                    <a:pt x="3956" y="257"/>
                  </a:lnTo>
                  <a:lnTo>
                    <a:pt x="4084" y="257"/>
                  </a:lnTo>
                  <a:lnTo>
                    <a:pt x="4252" y="257"/>
                  </a:lnTo>
                  <a:lnTo>
                    <a:pt x="4340" y="257"/>
                  </a:lnTo>
                  <a:lnTo>
                    <a:pt x="4340" y="239"/>
                  </a:lnTo>
                  <a:lnTo>
                    <a:pt x="4360" y="239"/>
                  </a:lnTo>
                  <a:lnTo>
                    <a:pt x="4360" y="221"/>
                  </a:lnTo>
                  <a:lnTo>
                    <a:pt x="4407" y="221"/>
                  </a:lnTo>
                  <a:lnTo>
                    <a:pt x="4488" y="221"/>
                  </a:lnTo>
                  <a:lnTo>
                    <a:pt x="4488" y="202"/>
                  </a:lnTo>
                  <a:lnTo>
                    <a:pt x="4508" y="202"/>
                  </a:lnTo>
                  <a:lnTo>
                    <a:pt x="4508" y="183"/>
                  </a:lnTo>
                  <a:lnTo>
                    <a:pt x="4521" y="183"/>
                  </a:lnTo>
                  <a:lnTo>
                    <a:pt x="4521" y="163"/>
                  </a:lnTo>
                  <a:lnTo>
                    <a:pt x="4548" y="163"/>
                  </a:lnTo>
                  <a:lnTo>
                    <a:pt x="4548" y="144"/>
                  </a:lnTo>
                  <a:lnTo>
                    <a:pt x="4717" y="144"/>
                  </a:lnTo>
                  <a:lnTo>
                    <a:pt x="4717" y="125"/>
                  </a:lnTo>
                  <a:lnTo>
                    <a:pt x="4777" y="125"/>
                  </a:lnTo>
                  <a:lnTo>
                    <a:pt x="4777" y="106"/>
                  </a:lnTo>
                  <a:lnTo>
                    <a:pt x="4811" y="106"/>
                  </a:lnTo>
                  <a:lnTo>
                    <a:pt x="4912" y="106"/>
                  </a:lnTo>
                  <a:lnTo>
                    <a:pt x="5033" y="106"/>
                  </a:lnTo>
                  <a:lnTo>
                    <a:pt x="5060" y="106"/>
                  </a:lnTo>
                  <a:lnTo>
                    <a:pt x="5134" y="106"/>
                  </a:lnTo>
                  <a:lnTo>
                    <a:pt x="5167" y="106"/>
                  </a:lnTo>
                  <a:lnTo>
                    <a:pt x="5450" y="106"/>
                  </a:lnTo>
                  <a:lnTo>
                    <a:pt x="5612" y="106"/>
                  </a:lnTo>
                  <a:lnTo>
                    <a:pt x="5847" y="106"/>
                  </a:lnTo>
                  <a:lnTo>
                    <a:pt x="6224" y="106"/>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3" name="Freeform 94"/>
            <p:cNvSpPr/>
            <p:nvPr/>
          </p:nvSpPr>
          <p:spPr>
            <a:xfrm flipV="1">
              <a:off x="902880" y="1577520"/>
              <a:ext cx="6990120" cy="3618000"/>
            </a:xfrm>
            <a:custGeom>
              <a:avLst/>
              <a:gdLst/>
              <a:ahLst/>
              <a:rect l="l" t="t" r="r" b="b"/>
              <a:pathLst>
                <a:path w="6614" h="3431">
                  <a:moveTo>
                    <a:pt x="0" y="3431"/>
                  </a:moveTo>
                  <a:lnTo>
                    <a:pt x="6" y="3431"/>
                  </a:lnTo>
                  <a:lnTo>
                    <a:pt x="67" y="3431"/>
                  </a:lnTo>
                  <a:lnTo>
                    <a:pt x="67" y="3423"/>
                  </a:lnTo>
                  <a:lnTo>
                    <a:pt x="74" y="3423"/>
                  </a:lnTo>
                  <a:lnTo>
                    <a:pt x="74" y="3415"/>
                  </a:lnTo>
                  <a:lnTo>
                    <a:pt x="107" y="3415"/>
                  </a:lnTo>
                  <a:lnTo>
                    <a:pt x="107" y="3407"/>
                  </a:lnTo>
                  <a:lnTo>
                    <a:pt x="114" y="3407"/>
                  </a:lnTo>
                  <a:lnTo>
                    <a:pt x="114" y="3399"/>
                  </a:lnTo>
                  <a:lnTo>
                    <a:pt x="121" y="3399"/>
                  </a:lnTo>
                  <a:lnTo>
                    <a:pt x="121" y="3383"/>
                  </a:lnTo>
                  <a:lnTo>
                    <a:pt x="134" y="3383"/>
                  </a:lnTo>
                  <a:lnTo>
                    <a:pt x="134" y="3367"/>
                  </a:lnTo>
                  <a:lnTo>
                    <a:pt x="141" y="3367"/>
                  </a:lnTo>
                  <a:lnTo>
                    <a:pt x="141" y="3359"/>
                  </a:lnTo>
                  <a:lnTo>
                    <a:pt x="148" y="3359"/>
                  </a:lnTo>
                  <a:lnTo>
                    <a:pt x="148" y="3343"/>
                  </a:lnTo>
                  <a:lnTo>
                    <a:pt x="168" y="3343"/>
                  </a:lnTo>
                  <a:lnTo>
                    <a:pt x="168" y="3335"/>
                  </a:lnTo>
                  <a:lnTo>
                    <a:pt x="174" y="3335"/>
                  </a:lnTo>
                  <a:lnTo>
                    <a:pt x="174" y="3327"/>
                  </a:lnTo>
                  <a:lnTo>
                    <a:pt x="195" y="3327"/>
                  </a:lnTo>
                  <a:lnTo>
                    <a:pt x="195" y="3310"/>
                  </a:lnTo>
                  <a:lnTo>
                    <a:pt x="215" y="3310"/>
                  </a:lnTo>
                  <a:lnTo>
                    <a:pt x="215" y="3302"/>
                  </a:lnTo>
                  <a:lnTo>
                    <a:pt x="222" y="3302"/>
                  </a:lnTo>
                  <a:lnTo>
                    <a:pt x="222" y="3286"/>
                  </a:lnTo>
                  <a:lnTo>
                    <a:pt x="228" y="3286"/>
                  </a:lnTo>
                  <a:lnTo>
                    <a:pt x="228" y="3278"/>
                  </a:lnTo>
                  <a:lnTo>
                    <a:pt x="235" y="3278"/>
                  </a:lnTo>
                  <a:lnTo>
                    <a:pt x="235" y="3270"/>
                  </a:lnTo>
                  <a:lnTo>
                    <a:pt x="242" y="3270"/>
                  </a:lnTo>
                  <a:lnTo>
                    <a:pt x="242" y="3254"/>
                  </a:lnTo>
                  <a:lnTo>
                    <a:pt x="248" y="3254"/>
                  </a:lnTo>
                  <a:lnTo>
                    <a:pt x="248" y="3237"/>
                  </a:lnTo>
                  <a:lnTo>
                    <a:pt x="255" y="3237"/>
                  </a:lnTo>
                  <a:lnTo>
                    <a:pt x="255" y="3221"/>
                  </a:lnTo>
                  <a:lnTo>
                    <a:pt x="262" y="3221"/>
                  </a:lnTo>
                  <a:lnTo>
                    <a:pt x="262" y="3196"/>
                  </a:lnTo>
                  <a:lnTo>
                    <a:pt x="269" y="3196"/>
                  </a:lnTo>
                  <a:lnTo>
                    <a:pt x="275" y="3196"/>
                  </a:lnTo>
                  <a:lnTo>
                    <a:pt x="275" y="3147"/>
                  </a:lnTo>
                  <a:lnTo>
                    <a:pt x="282" y="3147"/>
                  </a:lnTo>
                  <a:lnTo>
                    <a:pt x="282" y="3131"/>
                  </a:lnTo>
                  <a:lnTo>
                    <a:pt x="289" y="3131"/>
                  </a:lnTo>
                  <a:lnTo>
                    <a:pt x="289" y="3122"/>
                  </a:lnTo>
                  <a:lnTo>
                    <a:pt x="296" y="3122"/>
                  </a:lnTo>
                  <a:lnTo>
                    <a:pt x="296" y="3106"/>
                  </a:lnTo>
                  <a:lnTo>
                    <a:pt x="302" y="3106"/>
                  </a:lnTo>
                  <a:lnTo>
                    <a:pt x="302" y="3089"/>
                  </a:lnTo>
                  <a:lnTo>
                    <a:pt x="316" y="3089"/>
                  </a:lnTo>
                  <a:lnTo>
                    <a:pt x="316" y="3073"/>
                  </a:lnTo>
                  <a:lnTo>
                    <a:pt x="322" y="3073"/>
                  </a:lnTo>
                  <a:lnTo>
                    <a:pt x="322" y="3056"/>
                  </a:lnTo>
                  <a:lnTo>
                    <a:pt x="329" y="3056"/>
                  </a:lnTo>
                  <a:lnTo>
                    <a:pt x="329" y="3048"/>
                  </a:lnTo>
                  <a:lnTo>
                    <a:pt x="336" y="3048"/>
                  </a:lnTo>
                  <a:lnTo>
                    <a:pt x="336" y="3023"/>
                  </a:lnTo>
                  <a:lnTo>
                    <a:pt x="343" y="3023"/>
                  </a:lnTo>
                  <a:lnTo>
                    <a:pt x="343" y="3015"/>
                  </a:lnTo>
                  <a:lnTo>
                    <a:pt x="349" y="3015"/>
                  </a:lnTo>
                  <a:lnTo>
                    <a:pt x="349" y="3006"/>
                  </a:lnTo>
                  <a:lnTo>
                    <a:pt x="383" y="3006"/>
                  </a:lnTo>
                  <a:lnTo>
                    <a:pt x="383" y="2973"/>
                  </a:lnTo>
                  <a:lnTo>
                    <a:pt x="417" y="2973"/>
                  </a:lnTo>
                  <a:lnTo>
                    <a:pt x="417" y="2965"/>
                  </a:lnTo>
                  <a:lnTo>
                    <a:pt x="450" y="2965"/>
                  </a:lnTo>
                  <a:lnTo>
                    <a:pt x="450" y="2956"/>
                  </a:lnTo>
                  <a:lnTo>
                    <a:pt x="464" y="2956"/>
                  </a:lnTo>
                  <a:lnTo>
                    <a:pt x="464" y="2940"/>
                  </a:lnTo>
                  <a:lnTo>
                    <a:pt x="511" y="2940"/>
                  </a:lnTo>
                  <a:lnTo>
                    <a:pt x="518" y="2940"/>
                  </a:lnTo>
                  <a:lnTo>
                    <a:pt x="518" y="2931"/>
                  </a:lnTo>
                  <a:lnTo>
                    <a:pt x="531" y="2931"/>
                  </a:lnTo>
                  <a:lnTo>
                    <a:pt x="531" y="2923"/>
                  </a:lnTo>
                  <a:lnTo>
                    <a:pt x="538" y="2923"/>
                  </a:lnTo>
                  <a:lnTo>
                    <a:pt x="538" y="2914"/>
                  </a:lnTo>
                  <a:lnTo>
                    <a:pt x="551" y="2914"/>
                  </a:lnTo>
                  <a:lnTo>
                    <a:pt x="551" y="2906"/>
                  </a:lnTo>
                  <a:lnTo>
                    <a:pt x="558" y="2906"/>
                  </a:lnTo>
                  <a:lnTo>
                    <a:pt x="565" y="2906"/>
                  </a:lnTo>
                  <a:lnTo>
                    <a:pt x="565" y="2889"/>
                  </a:lnTo>
                  <a:lnTo>
                    <a:pt x="571" y="2889"/>
                  </a:lnTo>
                  <a:lnTo>
                    <a:pt x="571" y="2872"/>
                  </a:lnTo>
                  <a:lnTo>
                    <a:pt x="578" y="2872"/>
                  </a:lnTo>
                  <a:lnTo>
                    <a:pt x="578" y="2855"/>
                  </a:lnTo>
                  <a:lnTo>
                    <a:pt x="585" y="2855"/>
                  </a:lnTo>
                  <a:lnTo>
                    <a:pt x="585" y="2830"/>
                  </a:lnTo>
                  <a:lnTo>
                    <a:pt x="592" y="2830"/>
                  </a:lnTo>
                  <a:lnTo>
                    <a:pt x="592" y="2821"/>
                  </a:lnTo>
                  <a:lnTo>
                    <a:pt x="598" y="2821"/>
                  </a:lnTo>
                  <a:lnTo>
                    <a:pt x="598" y="2796"/>
                  </a:lnTo>
                  <a:lnTo>
                    <a:pt x="605" y="2796"/>
                  </a:lnTo>
                  <a:lnTo>
                    <a:pt x="605" y="2778"/>
                  </a:lnTo>
                  <a:lnTo>
                    <a:pt x="612" y="2778"/>
                  </a:lnTo>
                  <a:lnTo>
                    <a:pt x="612" y="2753"/>
                  </a:lnTo>
                  <a:lnTo>
                    <a:pt x="619" y="2753"/>
                  </a:lnTo>
                  <a:lnTo>
                    <a:pt x="619" y="2736"/>
                  </a:lnTo>
                  <a:lnTo>
                    <a:pt x="632" y="2736"/>
                  </a:lnTo>
                  <a:lnTo>
                    <a:pt x="639" y="2736"/>
                  </a:lnTo>
                  <a:lnTo>
                    <a:pt x="652" y="2736"/>
                  </a:lnTo>
                  <a:lnTo>
                    <a:pt x="652" y="2718"/>
                  </a:lnTo>
                  <a:lnTo>
                    <a:pt x="659" y="2718"/>
                  </a:lnTo>
                  <a:lnTo>
                    <a:pt x="659" y="2710"/>
                  </a:lnTo>
                  <a:lnTo>
                    <a:pt x="666" y="2710"/>
                  </a:lnTo>
                  <a:lnTo>
                    <a:pt x="666" y="2701"/>
                  </a:lnTo>
                  <a:lnTo>
                    <a:pt x="672" y="2701"/>
                  </a:lnTo>
                  <a:lnTo>
                    <a:pt x="672" y="2692"/>
                  </a:lnTo>
                  <a:lnTo>
                    <a:pt x="679" y="2692"/>
                  </a:lnTo>
                  <a:lnTo>
                    <a:pt x="679" y="2683"/>
                  </a:lnTo>
                  <a:lnTo>
                    <a:pt x="693" y="2683"/>
                  </a:lnTo>
                  <a:lnTo>
                    <a:pt x="693" y="2675"/>
                  </a:lnTo>
                  <a:lnTo>
                    <a:pt x="713" y="2675"/>
                  </a:lnTo>
                  <a:lnTo>
                    <a:pt x="713" y="2666"/>
                  </a:lnTo>
                  <a:lnTo>
                    <a:pt x="726" y="2666"/>
                  </a:lnTo>
                  <a:lnTo>
                    <a:pt x="726" y="2657"/>
                  </a:lnTo>
                  <a:lnTo>
                    <a:pt x="740" y="2657"/>
                  </a:lnTo>
                  <a:lnTo>
                    <a:pt x="740" y="2640"/>
                  </a:lnTo>
                  <a:lnTo>
                    <a:pt x="746" y="2640"/>
                  </a:lnTo>
                  <a:lnTo>
                    <a:pt x="746" y="2623"/>
                  </a:lnTo>
                  <a:lnTo>
                    <a:pt x="753" y="2623"/>
                  </a:lnTo>
                  <a:lnTo>
                    <a:pt x="753" y="2614"/>
                  </a:lnTo>
                  <a:lnTo>
                    <a:pt x="767" y="2614"/>
                  </a:lnTo>
                  <a:lnTo>
                    <a:pt x="767" y="2605"/>
                  </a:lnTo>
                  <a:lnTo>
                    <a:pt x="773" y="2605"/>
                  </a:lnTo>
                  <a:lnTo>
                    <a:pt x="773" y="2597"/>
                  </a:lnTo>
                  <a:lnTo>
                    <a:pt x="787" y="2597"/>
                  </a:lnTo>
                  <a:lnTo>
                    <a:pt x="794" y="2597"/>
                  </a:lnTo>
                  <a:lnTo>
                    <a:pt x="794" y="2588"/>
                  </a:lnTo>
                  <a:lnTo>
                    <a:pt x="800" y="2588"/>
                  </a:lnTo>
                  <a:lnTo>
                    <a:pt x="800" y="2570"/>
                  </a:lnTo>
                  <a:lnTo>
                    <a:pt x="807" y="2570"/>
                  </a:lnTo>
                  <a:lnTo>
                    <a:pt x="807" y="2553"/>
                  </a:lnTo>
                  <a:lnTo>
                    <a:pt x="814" y="2553"/>
                  </a:lnTo>
                  <a:lnTo>
                    <a:pt x="814" y="2526"/>
                  </a:lnTo>
                  <a:lnTo>
                    <a:pt x="820" y="2526"/>
                  </a:lnTo>
                  <a:lnTo>
                    <a:pt x="820" y="2491"/>
                  </a:lnTo>
                  <a:lnTo>
                    <a:pt x="827" y="2491"/>
                  </a:lnTo>
                  <a:lnTo>
                    <a:pt x="827" y="2465"/>
                  </a:lnTo>
                  <a:lnTo>
                    <a:pt x="841" y="2465"/>
                  </a:lnTo>
                  <a:lnTo>
                    <a:pt x="841" y="2420"/>
                  </a:lnTo>
                  <a:lnTo>
                    <a:pt x="847" y="2420"/>
                  </a:lnTo>
                  <a:lnTo>
                    <a:pt x="847" y="2403"/>
                  </a:lnTo>
                  <a:lnTo>
                    <a:pt x="854" y="2403"/>
                  </a:lnTo>
                  <a:lnTo>
                    <a:pt x="854" y="2358"/>
                  </a:lnTo>
                  <a:lnTo>
                    <a:pt x="861" y="2358"/>
                  </a:lnTo>
                  <a:lnTo>
                    <a:pt x="861" y="2305"/>
                  </a:lnTo>
                  <a:lnTo>
                    <a:pt x="874" y="2305"/>
                  </a:lnTo>
                  <a:lnTo>
                    <a:pt x="874" y="2278"/>
                  </a:lnTo>
                  <a:lnTo>
                    <a:pt x="881" y="2278"/>
                  </a:lnTo>
                  <a:lnTo>
                    <a:pt x="881" y="2260"/>
                  </a:lnTo>
                  <a:lnTo>
                    <a:pt x="888" y="2260"/>
                  </a:lnTo>
                  <a:lnTo>
                    <a:pt x="888" y="2242"/>
                  </a:lnTo>
                  <a:lnTo>
                    <a:pt x="894" y="2242"/>
                  </a:lnTo>
                  <a:lnTo>
                    <a:pt x="894" y="2215"/>
                  </a:lnTo>
                  <a:lnTo>
                    <a:pt x="901" y="2215"/>
                  </a:lnTo>
                  <a:lnTo>
                    <a:pt x="901" y="2197"/>
                  </a:lnTo>
                  <a:lnTo>
                    <a:pt x="908" y="2197"/>
                  </a:lnTo>
                  <a:lnTo>
                    <a:pt x="908" y="2170"/>
                  </a:lnTo>
                  <a:lnTo>
                    <a:pt x="915" y="2170"/>
                  </a:lnTo>
                  <a:lnTo>
                    <a:pt x="915" y="2161"/>
                  </a:lnTo>
                  <a:lnTo>
                    <a:pt x="921" y="2161"/>
                  </a:lnTo>
                  <a:lnTo>
                    <a:pt x="921" y="2125"/>
                  </a:lnTo>
                  <a:lnTo>
                    <a:pt x="928" y="2125"/>
                  </a:lnTo>
                  <a:lnTo>
                    <a:pt x="928" y="2098"/>
                  </a:lnTo>
                  <a:lnTo>
                    <a:pt x="935" y="2098"/>
                  </a:lnTo>
                  <a:lnTo>
                    <a:pt x="935" y="2089"/>
                  </a:lnTo>
                  <a:lnTo>
                    <a:pt x="942" y="2089"/>
                  </a:lnTo>
                  <a:lnTo>
                    <a:pt x="942" y="2071"/>
                  </a:lnTo>
                  <a:lnTo>
                    <a:pt x="948" y="2071"/>
                  </a:lnTo>
                  <a:lnTo>
                    <a:pt x="948" y="2052"/>
                  </a:lnTo>
                  <a:lnTo>
                    <a:pt x="955" y="2052"/>
                  </a:lnTo>
                  <a:lnTo>
                    <a:pt x="968" y="2052"/>
                  </a:lnTo>
                  <a:lnTo>
                    <a:pt x="968" y="2043"/>
                  </a:lnTo>
                  <a:lnTo>
                    <a:pt x="995" y="2043"/>
                  </a:lnTo>
                  <a:lnTo>
                    <a:pt x="995" y="2034"/>
                  </a:lnTo>
                  <a:lnTo>
                    <a:pt x="1009" y="2034"/>
                  </a:lnTo>
                  <a:lnTo>
                    <a:pt x="1009" y="2025"/>
                  </a:lnTo>
                  <a:lnTo>
                    <a:pt x="1022" y="2025"/>
                  </a:lnTo>
                  <a:lnTo>
                    <a:pt x="1022" y="2016"/>
                  </a:lnTo>
                  <a:lnTo>
                    <a:pt x="1029" y="2016"/>
                  </a:lnTo>
                  <a:lnTo>
                    <a:pt x="1029" y="2007"/>
                  </a:lnTo>
                  <a:lnTo>
                    <a:pt x="1036" y="2007"/>
                  </a:lnTo>
                  <a:lnTo>
                    <a:pt x="1036" y="1998"/>
                  </a:lnTo>
                  <a:lnTo>
                    <a:pt x="1043" y="1998"/>
                  </a:lnTo>
                  <a:lnTo>
                    <a:pt x="1043" y="1979"/>
                  </a:lnTo>
                  <a:lnTo>
                    <a:pt x="1069" y="1979"/>
                  </a:lnTo>
                  <a:lnTo>
                    <a:pt x="1069" y="1961"/>
                  </a:lnTo>
                  <a:lnTo>
                    <a:pt x="1076" y="1961"/>
                  </a:lnTo>
                  <a:lnTo>
                    <a:pt x="1076" y="1952"/>
                  </a:lnTo>
                  <a:lnTo>
                    <a:pt x="1083" y="1952"/>
                  </a:lnTo>
                  <a:lnTo>
                    <a:pt x="1083" y="1933"/>
                  </a:lnTo>
                  <a:lnTo>
                    <a:pt x="1096" y="1933"/>
                  </a:lnTo>
                  <a:lnTo>
                    <a:pt x="1096" y="1906"/>
                  </a:lnTo>
                  <a:lnTo>
                    <a:pt x="1103" y="1906"/>
                  </a:lnTo>
                  <a:lnTo>
                    <a:pt x="1103" y="1851"/>
                  </a:lnTo>
                  <a:lnTo>
                    <a:pt x="1110" y="1851"/>
                  </a:lnTo>
                  <a:lnTo>
                    <a:pt x="1110" y="1832"/>
                  </a:lnTo>
                  <a:lnTo>
                    <a:pt x="1117" y="1832"/>
                  </a:lnTo>
                  <a:lnTo>
                    <a:pt x="1117" y="1814"/>
                  </a:lnTo>
                  <a:lnTo>
                    <a:pt x="1123" y="1814"/>
                  </a:lnTo>
                  <a:lnTo>
                    <a:pt x="1123" y="1786"/>
                  </a:lnTo>
                  <a:lnTo>
                    <a:pt x="1130" y="1786"/>
                  </a:lnTo>
                  <a:lnTo>
                    <a:pt x="1130" y="1740"/>
                  </a:lnTo>
                  <a:lnTo>
                    <a:pt x="1137" y="1740"/>
                  </a:lnTo>
                  <a:lnTo>
                    <a:pt x="1137" y="1684"/>
                  </a:lnTo>
                  <a:lnTo>
                    <a:pt x="1143" y="1684"/>
                  </a:lnTo>
                  <a:lnTo>
                    <a:pt x="1143" y="1656"/>
                  </a:lnTo>
                  <a:lnTo>
                    <a:pt x="1157" y="1656"/>
                  </a:lnTo>
                  <a:lnTo>
                    <a:pt x="1157" y="1628"/>
                  </a:lnTo>
                  <a:lnTo>
                    <a:pt x="1164" y="1628"/>
                  </a:lnTo>
                  <a:lnTo>
                    <a:pt x="1164" y="1619"/>
                  </a:lnTo>
                  <a:lnTo>
                    <a:pt x="1184" y="1619"/>
                  </a:lnTo>
                  <a:lnTo>
                    <a:pt x="1184" y="1609"/>
                  </a:lnTo>
                  <a:lnTo>
                    <a:pt x="1191" y="1609"/>
                  </a:lnTo>
                  <a:lnTo>
                    <a:pt x="1191" y="1581"/>
                  </a:lnTo>
                  <a:lnTo>
                    <a:pt x="1197" y="1581"/>
                  </a:lnTo>
                  <a:lnTo>
                    <a:pt x="1197" y="1572"/>
                  </a:lnTo>
                  <a:lnTo>
                    <a:pt x="1217" y="1572"/>
                  </a:lnTo>
                  <a:lnTo>
                    <a:pt x="1217" y="1562"/>
                  </a:lnTo>
                  <a:lnTo>
                    <a:pt x="1224" y="1562"/>
                  </a:lnTo>
                  <a:lnTo>
                    <a:pt x="1224" y="1543"/>
                  </a:lnTo>
                  <a:lnTo>
                    <a:pt x="1231" y="1543"/>
                  </a:lnTo>
                  <a:lnTo>
                    <a:pt x="1231" y="1534"/>
                  </a:lnTo>
                  <a:lnTo>
                    <a:pt x="1238" y="1534"/>
                  </a:lnTo>
                  <a:lnTo>
                    <a:pt x="1238" y="1515"/>
                  </a:lnTo>
                  <a:lnTo>
                    <a:pt x="1244" y="1515"/>
                  </a:lnTo>
                  <a:lnTo>
                    <a:pt x="1244" y="1506"/>
                  </a:lnTo>
                  <a:lnTo>
                    <a:pt x="1265" y="1506"/>
                  </a:lnTo>
                  <a:lnTo>
                    <a:pt x="1265" y="1496"/>
                  </a:lnTo>
                  <a:lnTo>
                    <a:pt x="1278" y="1496"/>
                  </a:lnTo>
                  <a:lnTo>
                    <a:pt x="1278" y="1478"/>
                  </a:lnTo>
                  <a:lnTo>
                    <a:pt x="1285" y="1478"/>
                  </a:lnTo>
                  <a:lnTo>
                    <a:pt x="1285" y="1468"/>
                  </a:lnTo>
                  <a:lnTo>
                    <a:pt x="1291" y="1468"/>
                  </a:lnTo>
                  <a:lnTo>
                    <a:pt x="1291" y="1459"/>
                  </a:lnTo>
                  <a:lnTo>
                    <a:pt x="1312" y="1459"/>
                  </a:lnTo>
                  <a:lnTo>
                    <a:pt x="1312" y="1449"/>
                  </a:lnTo>
                  <a:lnTo>
                    <a:pt x="1325" y="1449"/>
                  </a:lnTo>
                  <a:lnTo>
                    <a:pt x="1325" y="1430"/>
                  </a:lnTo>
                  <a:lnTo>
                    <a:pt x="1372" y="1430"/>
                  </a:lnTo>
                  <a:lnTo>
                    <a:pt x="1372" y="1421"/>
                  </a:lnTo>
                  <a:lnTo>
                    <a:pt x="1386" y="1421"/>
                  </a:lnTo>
                  <a:lnTo>
                    <a:pt x="1386" y="1411"/>
                  </a:lnTo>
                  <a:lnTo>
                    <a:pt x="1392" y="1411"/>
                  </a:lnTo>
                  <a:lnTo>
                    <a:pt x="1392" y="1402"/>
                  </a:lnTo>
                  <a:lnTo>
                    <a:pt x="1406" y="1402"/>
                  </a:lnTo>
                  <a:lnTo>
                    <a:pt x="1406" y="1373"/>
                  </a:lnTo>
                  <a:lnTo>
                    <a:pt x="1413" y="1373"/>
                  </a:lnTo>
                  <a:lnTo>
                    <a:pt x="1413" y="1345"/>
                  </a:lnTo>
                  <a:lnTo>
                    <a:pt x="1419" y="1345"/>
                  </a:lnTo>
                  <a:lnTo>
                    <a:pt x="1419" y="1316"/>
                  </a:lnTo>
                  <a:lnTo>
                    <a:pt x="1426" y="1316"/>
                  </a:lnTo>
                  <a:lnTo>
                    <a:pt x="1426" y="1297"/>
                  </a:lnTo>
                  <a:lnTo>
                    <a:pt x="1433" y="1297"/>
                  </a:lnTo>
                  <a:lnTo>
                    <a:pt x="1433" y="1288"/>
                  </a:lnTo>
                  <a:lnTo>
                    <a:pt x="1440" y="1288"/>
                  </a:lnTo>
                  <a:lnTo>
                    <a:pt x="1440" y="1269"/>
                  </a:lnTo>
                  <a:lnTo>
                    <a:pt x="1446" y="1269"/>
                  </a:lnTo>
                  <a:lnTo>
                    <a:pt x="1446" y="1249"/>
                  </a:lnTo>
                  <a:lnTo>
                    <a:pt x="1453" y="1249"/>
                  </a:lnTo>
                  <a:lnTo>
                    <a:pt x="1453" y="1230"/>
                  </a:lnTo>
                  <a:lnTo>
                    <a:pt x="1460" y="1230"/>
                  </a:lnTo>
                  <a:lnTo>
                    <a:pt x="1460" y="1221"/>
                  </a:lnTo>
                  <a:lnTo>
                    <a:pt x="1466" y="1221"/>
                  </a:lnTo>
                  <a:lnTo>
                    <a:pt x="1466" y="1202"/>
                  </a:lnTo>
                  <a:lnTo>
                    <a:pt x="1487" y="1202"/>
                  </a:lnTo>
                  <a:lnTo>
                    <a:pt x="1487" y="1173"/>
                  </a:lnTo>
                  <a:lnTo>
                    <a:pt x="1500" y="1173"/>
                  </a:lnTo>
                  <a:lnTo>
                    <a:pt x="1500" y="1164"/>
                  </a:lnTo>
                  <a:lnTo>
                    <a:pt x="1507" y="1164"/>
                  </a:lnTo>
                  <a:lnTo>
                    <a:pt x="1507" y="1135"/>
                  </a:lnTo>
                  <a:lnTo>
                    <a:pt x="1514" y="1135"/>
                  </a:lnTo>
                  <a:lnTo>
                    <a:pt x="1514" y="1126"/>
                  </a:lnTo>
                  <a:lnTo>
                    <a:pt x="1527" y="1126"/>
                  </a:lnTo>
                  <a:lnTo>
                    <a:pt x="1534" y="1126"/>
                  </a:lnTo>
                  <a:lnTo>
                    <a:pt x="1534" y="1116"/>
                  </a:lnTo>
                  <a:lnTo>
                    <a:pt x="1540" y="1116"/>
                  </a:lnTo>
                  <a:lnTo>
                    <a:pt x="1540" y="1106"/>
                  </a:lnTo>
                  <a:lnTo>
                    <a:pt x="1547" y="1106"/>
                  </a:lnTo>
                  <a:lnTo>
                    <a:pt x="1547" y="1096"/>
                  </a:lnTo>
                  <a:lnTo>
                    <a:pt x="1554" y="1096"/>
                  </a:lnTo>
                  <a:lnTo>
                    <a:pt x="1554" y="1087"/>
                  </a:lnTo>
                  <a:lnTo>
                    <a:pt x="1581" y="1087"/>
                  </a:lnTo>
                  <a:lnTo>
                    <a:pt x="1581" y="1077"/>
                  </a:lnTo>
                  <a:lnTo>
                    <a:pt x="1608" y="1077"/>
                  </a:lnTo>
                  <a:lnTo>
                    <a:pt x="1608" y="1067"/>
                  </a:lnTo>
                  <a:lnTo>
                    <a:pt x="1621" y="1067"/>
                  </a:lnTo>
                  <a:lnTo>
                    <a:pt x="1621" y="1057"/>
                  </a:lnTo>
                  <a:lnTo>
                    <a:pt x="1655" y="1057"/>
                  </a:lnTo>
                  <a:lnTo>
                    <a:pt x="1655" y="1047"/>
                  </a:lnTo>
                  <a:lnTo>
                    <a:pt x="1662" y="1047"/>
                  </a:lnTo>
                  <a:lnTo>
                    <a:pt x="1662" y="1028"/>
                  </a:lnTo>
                  <a:lnTo>
                    <a:pt x="1682" y="1028"/>
                  </a:lnTo>
                  <a:lnTo>
                    <a:pt x="1682" y="1018"/>
                  </a:lnTo>
                  <a:lnTo>
                    <a:pt x="1689" y="1018"/>
                  </a:lnTo>
                  <a:lnTo>
                    <a:pt x="1689" y="1008"/>
                  </a:lnTo>
                  <a:lnTo>
                    <a:pt x="1695" y="1008"/>
                  </a:lnTo>
                  <a:lnTo>
                    <a:pt x="1695" y="998"/>
                  </a:lnTo>
                  <a:lnTo>
                    <a:pt x="1709" y="998"/>
                  </a:lnTo>
                  <a:lnTo>
                    <a:pt x="1709" y="988"/>
                  </a:lnTo>
                  <a:lnTo>
                    <a:pt x="1715" y="988"/>
                  </a:lnTo>
                  <a:lnTo>
                    <a:pt x="1715" y="968"/>
                  </a:lnTo>
                  <a:lnTo>
                    <a:pt x="1742" y="968"/>
                  </a:lnTo>
                  <a:lnTo>
                    <a:pt x="1742" y="918"/>
                  </a:lnTo>
                  <a:lnTo>
                    <a:pt x="1756" y="918"/>
                  </a:lnTo>
                  <a:lnTo>
                    <a:pt x="1756" y="888"/>
                  </a:lnTo>
                  <a:lnTo>
                    <a:pt x="1763" y="888"/>
                  </a:lnTo>
                  <a:lnTo>
                    <a:pt x="1763" y="878"/>
                  </a:lnTo>
                  <a:lnTo>
                    <a:pt x="1796" y="878"/>
                  </a:lnTo>
                  <a:lnTo>
                    <a:pt x="1796" y="858"/>
                  </a:lnTo>
                  <a:lnTo>
                    <a:pt x="1803" y="858"/>
                  </a:lnTo>
                  <a:lnTo>
                    <a:pt x="1803" y="848"/>
                  </a:lnTo>
                  <a:lnTo>
                    <a:pt x="1810" y="848"/>
                  </a:lnTo>
                  <a:lnTo>
                    <a:pt x="1810" y="838"/>
                  </a:lnTo>
                  <a:lnTo>
                    <a:pt x="1823" y="838"/>
                  </a:lnTo>
                  <a:lnTo>
                    <a:pt x="1823" y="828"/>
                  </a:lnTo>
                  <a:lnTo>
                    <a:pt x="1837" y="828"/>
                  </a:lnTo>
                  <a:lnTo>
                    <a:pt x="1837" y="817"/>
                  </a:lnTo>
                  <a:lnTo>
                    <a:pt x="1850" y="817"/>
                  </a:lnTo>
                  <a:lnTo>
                    <a:pt x="1850" y="807"/>
                  </a:lnTo>
                  <a:lnTo>
                    <a:pt x="1870" y="807"/>
                  </a:lnTo>
                  <a:lnTo>
                    <a:pt x="1870" y="797"/>
                  </a:lnTo>
                  <a:lnTo>
                    <a:pt x="1877" y="797"/>
                  </a:lnTo>
                  <a:lnTo>
                    <a:pt x="1877" y="787"/>
                  </a:lnTo>
                  <a:lnTo>
                    <a:pt x="1917" y="787"/>
                  </a:lnTo>
                  <a:lnTo>
                    <a:pt x="1917" y="777"/>
                  </a:lnTo>
                  <a:lnTo>
                    <a:pt x="1924" y="777"/>
                  </a:lnTo>
                  <a:lnTo>
                    <a:pt x="1924" y="767"/>
                  </a:lnTo>
                  <a:lnTo>
                    <a:pt x="1944" y="767"/>
                  </a:lnTo>
                  <a:lnTo>
                    <a:pt x="1944" y="757"/>
                  </a:lnTo>
                  <a:lnTo>
                    <a:pt x="1951" y="757"/>
                  </a:lnTo>
                  <a:lnTo>
                    <a:pt x="1951" y="737"/>
                  </a:lnTo>
                  <a:lnTo>
                    <a:pt x="1971" y="737"/>
                  </a:lnTo>
                  <a:lnTo>
                    <a:pt x="1971" y="727"/>
                  </a:lnTo>
                  <a:lnTo>
                    <a:pt x="1978" y="727"/>
                  </a:lnTo>
                  <a:lnTo>
                    <a:pt x="1978" y="717"/>
                  </a:lnTo>
                  <a:lnTo>
                    <a:pt x="2005" y="717"/>
                  </a:lnTo>
                  <a:lnTo>
                    <a:pt x="2005" y="706"/>
                  </a:lnTo>
                  <a:lnTo>
                    <a:pt x="2018" y="706"/>
                  </a:lnTo>
                  <a:lnTo>
                    <a:pt x="2018" y="696"/>
                  </a:lnTo>
                  <a:lnTo>
                    <a:pt x="2059" y="696"/>
                  </a:lnTo>
                  <a:lnTo>
                    <a:pt x="2059" y="686"/>
                  </a:lnTo>
                  <a:lnTo>
                    <a:pt x="2072" y="686"/>
                  </a:lnTo>
                  <a:lnTo>
                    <a:pt x="2072" y="676"/>
                  </a:lnTo>
                  <a:lnTo>
                    <a:pt x="2086" y="676"/>
                  </a:lnTo>
                  <a:lnTo>
                    <a:pt x="2086" y="666"/>
                  </a:lnTo>
                  <a:lnTo>
                    <a:pt x="2133" y="666"/>
                  </a:lnTo>
                  <a:lnTo>
                    <a:pt x="2133" y="656"/>
                  </a:lnTo>
                  <a:lnTo>
                    <a:pt x="2213" y="656"/>
                  </a:lnTo>
                  <a:lnTo>
                    <a:pt x="2213" y="646"/>
                  </a:lnTo>
                  <a:lnTo>
                    <a:pt x="2247" y="646"/>
                  </a:lnTo>
                  <a:lnTo>
                    <a:pt x="2247" y="636"/>
                  </a:lnTo>
                  <a:lnTo>
                    <a:pt x="2260" y="636"/>
                  </a:lnTo>
                  <a:lnTo>
                    <a:pt x="2260" y="626"/>
                  </a:lnTo>
                  <a:lnTo>
                    <a:pt x="2267" y="626"/>
                  </a:lnTo>
                  <a:lnTo>
                    <a:pt x="2267" y="606"/>
                  </a:lnTo>
                  <a:lnTo>
                    <a:pt x="2274" y="606"/>
                  </a:lnTo>
                  <a:lnTo>
                    <a:pt x="2274" y="585"/>
                  </a:lnTo>
                  <a:lnTo>
                    <a:pt x="2301" y="585"/>
                  </a:lnTo>
                  <a:lnTo>
                    <a:pt x="2301" y="575"/>
                  </a:lnTo>
                  <a:lnTo>
                    <a:pt x="2308" y="575"/>
                  </a:lnTo>
                  <a:lnTo>
                    <a:pt x="2375" y="575"/>
                  </a:lnTo>
                  <a:lnTo>
                    <a:pt x="2375" y="554"/>
                  </a:lnTo>
                  <a:lnTo>
                    <a:pt x="2382" y="554"/>
                  </a:lnTo>
                  <a:lnTo>
                    <a:pt x="2382" y="543"/>
                  </a:lnTo>
                  <a:lnTo>
                    <a:pt x="2388" y="543"/>
                  </a:lnTo>
                  <a:lnTo>
                    <a:pt x="2388" y="533"/>
                  </a:lnTo>
                  <a:lnTo>
                    <a:pt x="2409" y="533"/>
                  </a:lnTo>
                  <a:lnTo>
                    <a:pt x="2409" y="523"/>
                  </a:lnTo>
                  <a:lnTo>
                    <a:pt x="2516" y="523"/>
                  </a:lnTo>
                  <a:lnTo>
                    <a:pt x="2516" y="502"/>
                  </a:lnTo>
                  <a:lnTo>
                    <a:pt x="2530" y="502"/>
                  </a:lnTo>
                  <a:lnTo>
                    <a:pt x="2536" y="502"/>
                  </a:lnTo>
                  <a:lnTo>
                    <a:pt x="2536" y="491"/>
                  </a:lnTo>
                  <a:lnTo>
                    <a:pt x="2563" y="491"/>
                  </a:lnTo>
                  <a:lnTo>
                    <a:pt x="2563" y="480"/>
                  </a:lnTo>
                  <a:lnTo>
                    <a:pt x="2577" y="480"/>
                  </a:lnTo>
                  <a:lnTo>
                    <a:pt x="2577" y="470"/>
                  </a:lnTo>
                  <a:lnTo>
                    <a:pt x="2583" y="470"/>
                  </a:lnTo>
                  <a:lnTo>
                    <a:pt x="2583" y="459"/>
                  </a:lnTo>
                  <a:lnTo>
                    <a:pt x="2590" y="459"/>
                  </a:lnTo>
                  <a:lnTo>
                    <a:pt x="2590" y="438"/>
                  </a:lnTo>
                  <a:lnTo>
                    <a:pt x="2678" y="438"/>
                  </a:lnTo>
                  <a:lnTo>
                    <a:pt x="2678" y="427"/>
                  </a:lnTo>
                  <a:lnTo>
                    <a:pt x="2691" y="427"/>
                  </a:lnTo>
                  <a:lnTo>
                    <a:pt x="2691" y="406"/>
                  </a:lnTo>
                  <a:lnTo>
                    <a:pt x="2846" y="406"/>
                  </a:lnTo>
                  <a:lnTo>
                    <a:pt x="2866" y="406"/>
                  </a:lnTo>
                  <a:lnTo>
                    <a:pt x="2866" y="394"/>
                  </a:lnTo>
                  <a:lnTo>
                    <a:pt x="2947" y="394"/>
                  </a:lnTo>
                  <a:lnTo>
                    <a:pt x="2947" y="383"/>
                  </a:lnTo>
                  <a:lnTo>
                    <a:pt x="3014" y="383"/>
                  </a:lnTo>
                  <a:lnTo>
                    <a:pt x="3021" y="383"/>
                  </a:lnTo>
                  <a:lnTo>
                    <a:pt x="3021" y="371"/>
                  </a:lnTo>
                  <a:lnTo>
                    <a:pt x="3061" y="371"/>
                  </a:lnTo>
                  <a:lnTo>
                    <a:pt x="3061" y="360"/>
                  </a:lnTo>
                  <a:lnTo>
                    <a:pt x="3075" y="360"/>
                  </a:lnTo>
                  <a:lnTo>
                    <a:pt x="3075" y="348"/>
                  </a:lnTo>
                  <a:lnTo>
                    <a:pt x="3081" y="348"/>
                  </a:lnTo>
                  <a:lnTo>
                    <a:pt x="3081" y="337"/>
                  </a:lnTo>
                  <a:lnTo>
                    <a:pt x="3129" y="337"/>
                  </a:lnTo>
                  <a:lnTo>
                    <a:pt x="3169" y="337"/>
                  </a:lnTo>
                  <a:lnTo>
                    <a:pt x="3169" y="313"/>
                  </a:lnTo>
                  <a:lnTo>
                    <a:pt x="3263" y="313"/>
                  </a:lnTo>
                  <a:lnTo>
                    <a:pt x="3263" y="301"/>
                  </a:lnTo>
                  <a:lnTo>
                    <a:pt x="3324" y="301"/>
                  </a:lnTo>
                  <a:lnTo>
                    <a:pt x="3324" y="289"/>
                  </a:lnTo>
                  <a:lnTo>
                    <a:pt x="3344" y="289"/>
                  </a:lnTo>
                  <a:lnTo>
                    <a:pt x="3344" y="277"/>
                  </a:lnTo>
                  <a:lnTo>
                    <a:pt x="3364" y="277"/>
                  </a:lnTo>
                  <a:lnTo>
                    <a:pt x="3364" y="265"/>
                  </a:lnTo>
                  <a:lnTo>
                    <a:pt x="3512" y="265"/>
                  </a:lnTo>
                  <a:lnTo>
                    <a:pt x="3512" y="253"/>
                  </a:lnTo>
                  <a:lnTo>
                    <a:pt x="3606" y="253"/>
                  </a:lnTo>
                  <a:lnTo>
                    <a:pt x="3606" y="241"/>
                  </a:lnTo>
                  <a:lnTo>
                    <a:pt x="3667" y="241"/>
                  </a:lnTo>
                  <a:lnTo>
                    <a:pt x="3667" y="228"/>
                  </a:lnTo>
                  <a:lnTo>
                    <a:pt x="3680" y="228"/>
                  </a:lnTo>
                  <a:lnTo>
                    <a:pt x="3680" y="204"/>
                  </a:lnTo>
                  <a:lnTo>
                    <a:pt x="3721" y="204"/>
                  </a:lnTo>
                  <a:lnTo>
                    <a:pt x="3721" y="192"/>
                  </a:lnTo>
                  <a:lnTo>
                    <a:pt x="3761" y="192"/>
                  </a:lnTo>
                  <a:lnTo>
                    <a:pt x="3761" y="180"/>
                  </a:lnTo>
                  <a:lnTo>
                    <a:pt x="3855" y="180"/>
                  </a:lnTo>
                  <a:lnTo>
                    <a:pt x="3875" y="180"/>
                  </a:lnTo>
                  <a:lnTo>
                    <a:pt x="3875" y="168"/>
                  </a:lnTo>
                  <a:lnTo>
                    <a:pt x="4091" y="168"/>
                  </a:lnTo>
                  <a:lnTo>
                    <a:pt x="4091" y="155"/>
                  </a:lnTo>
                  <a:lnTo>
                    <a:pt x="4259" y="155"/>
                  </a:lnTo>
                  <a:lnTo>
                    <a:pt x="4447" y="155"/>
                  </a:lnTo>
                  <a:lnTo>
                    <a:pt x="4447" y="141"/>
                  </a:lnTo>
                  <a:lnTo>
                    <a:pt x="4582" y="141"/>
                  </a:lnTo>
                  <a:lnTo>
                    <a:pt x="4582" y="127"/>
                  </a:lnTo>
                  <a:lnTo>
                    <a:pt x="4609" y="127"/>
                  </a:lnTo>
                  <a:lnTo>
                    <a:pt x="4730" y="127"/>
                  </a:lnTo>
                  <a:lnTo>
                    <a:pt x="4730" y="111"/>
                  </a:lnTo>
                  <a:lnTo>
                    <a:pt x="4737" y="111"/>
                  </a:lnTo>
                  <a:lnTo>
                    <a:pt x="4737" y="95"/>
                  </a:lnTo>
                  <a:lnTo>
                    <a:pt x="4797" y="95"/>
                  </a:lnTo>
                  <a:lnTo>
                    <a:pt x="4804" y="95"/>
                  </a:lnTo>
                  <a:lnTo>
                    <a:pt x="5551" y="95"/>
                  </a:lnTo>
                  <a:lnTo>
                    <a:pt x="5847" y="95"/>
                  </a:lnTo>
                  <a:lnTo>
                    <a:pt x="5955" y="95"/>
                  </a:lnTo>
                  <a:lnTo>
                    <a:pt x="5955" y="48"/>
                  </a:lnTo>
                  <a:lnTo>
                    <a:pt x="6614" y="48"/>
                  </a:lnTo>
                  <a:lnTo>
                    <a:pt x="6614"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54" name="Rectangle 95"/>
            <p:cNvSpPr/>
            <p:nvPr/>
          </p:nvSpPr>
          <p:spPr>
            <a:xfrm>
              <a:off x="3793320" y="57564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355" name="Rectangle 96"/>
            <p:cNvSpPr/>
            <p:nvPr/>
          </p:nvSpPr>
          <p:spPr>
            <a:xfrm rot="16200000">
              <a:off x="-422280" y="322344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
        <p:nvSpPr>
          <p:cNvPr id="2356" name="PlaceHolder 1"/>
          <p:cNvSpPr>
            <a:spLocks noGrp="1"/>
          </p:cNvSpPr>
          <p:nvPr>
            <p:ph type="title"/>
          </p:nvPr>
        </p:nvSpPr>
        <p:spPr>
          <a:xfrm>
            <a:off x="0" y="22824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PointBreak: PFS from </a:t>
            </a:r>
            <a:br>
              <a:rPr sz="4000"/>
            </a:br>
            <a:r>
              <a:rPr b="0" lang="en-US" sz="4000" spc="-1" strike="noStrike">
                <a:solidFill>
                  <a:srgbClr val="000000"/>
                </a:solidFill>
                <a:latin typeface="Arial"/>
                <a:ea typeface="MS PGothic"/>
              </a:rPr>
              <a:t>Randomization (ITT)</a:t>
            </a:r>
            <a:endParaRPr b="0" lang="en-US" sz="4000" spc="-1" strike="noStrike">
              <a:solidFill>
                <a:srgbClr val="000000"/>
              </a:solidFill>
              <a:latin typeface="Arial"/>
            </a:endParaRPr>
          </a:p>
        </p:txBody>
      </p:sp>
      <p:sp>
        <p:nvSpPr>
          <p:cNvPr id="2357" name="Text Box 15"/>
          <p:cNvSpPr/>
          <p:nvPr/>
        </p:nvSpPr>
        <p:spPr>
          <a:xfrm>
            <a:off x="1828800" y="5987880"/>
            <a:ext cx="6858000" cy="7938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Arial Unicode MS"/>
              </a:rPr>
              <a:t>a</a:t>
            </a:r>
            <a:r>
              <a:rPr b="0" lang="en-US" sz="1200" spc="-1" strike="noStrike">
                <a:solidFill>
                  <a:srgbClr val="000000"/>
                </a:solidFill>
                <a:latin typeface="Arial"/>
                <a:ea typeface="Arial Unicode MS"/>
              </a:rPr>
              <a:t>Exploratory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ensoring rate for Pem + Cb + Bev was 26.9; for Pac + Cb + Bev was 23.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TPD=time to progressive dise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358" name=""/>
          <p:cNvGraphicFramePr/>
          <p:nvPr/>
        </p:nvGraphicFramePr>
        <p:xfrm>
          <a:off x="3822840" y="1913040"/>
          <a:ext cx="4984560" cy="2411280"/>
        </p:xfrm>
        <a:graphic>
          <a:graphicData uri="http://schemas.openxmlformats.org/drawingml/2006/table">
            <a:tbl>
              <a:tblPr/>
              <a:tblGrid>
                <a:gridCol w="2070000"/>
                <a:gridCol w="1495440"/>
                <a:gridCol w="1419120"/>
              </a:tblGrid>
              <a:tr h="2775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t">
                    <a:lnL w="5760">
                      <a:solidFill>
                        <a:srgbClr val="000000"/>
                      </a:solidFill>
                    </a:lnL>
                    <a:lnR>
                      <a:noFill/>
                    </a:lnR>
                    <a:lnT w="13680">
                      <a:solidFill>
                        <a:srgbClr val="000000"/>
                      </a:solidFill>
                    </a:lnT>
                    <a:lnB w="13680">
                      <a:solidFill>
                        <a:srgbClr val="000000"/>
                      </a:solidFill>
                    </a:lnB>
                    <a:noFill/>
                  </a:tcPr>
                </a:tc>
              </a:tr>
              <a:tr h="319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5.6</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2775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3 (0.71, 0.96); </a:t>
                      </a:r>
                      <a:r>
                        <a:rPr b="0" i="1" lang="en-US" sz="1400" spc="-1" strike="noStrike">
                          <a:solidFill>
                            <a:srgbClr val="000000"/>
                          </a:solidFill>
                          <a:latin typeface="Arial"/>
                        </a:rPr>
                        <a:t>P</a:t>
                      </a:r>
                      <a:r>
                        <a:rPr b="0" lang="en-US" sz="1400" spc="-1" strike="noStrike">
                          <a:solidFill>
                            <a:srgbClr val="000000"/>
                          </a:solidFill>
                          <a:latin typeface="Arial"/>
                        </a:rPr>
                        <a:t>=</a:t>
                      </a:r>
                      <a:r>
                        <a:rPr b="0" lang="en-US" sz="1400" spc="-1" strike="noStrike">
                          <a:solidFill>
                            <a:srgbClr val="000000"/>
                          </a:solidFill>
                          <a:latin typeface="Arial"/>
                          <a:ea typeface="Arial Unicode MS"/>
                        </a:rPr>
                        <a:t>0.012</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TTPD,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7.0</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6120">
                <a:tc>
                  <a:txBody>
                    <a:bodyPr lIns="0" rIns="0" tIns="0" bIns="0" anchor="ctr">
                      <a:noAutofit/>
                    </a:bodyPr>
                    <a:p>
                      <a:pPr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a:t>
                      </a:r>
                      <a:r>
                        <a:rPr b="0" i="1" lang="en-US" sz="1400" spc="-1" strike="noStrike">
                          <a:solidFill>
                            <a:srgbClr val="000000"/>
                          </a:solidFill>
                          <a:latin typeface="Arial"/>
                          <a:ea typeface="Arial Unicode MS"/>
                        </a:rPr>
                        <a:t>); 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9 (0.67, 0.94); </a:t>
                      </a:r>
                      <a:r>
                        <a:rPr b="0" i="1" lang="en-US" sz="1400" spc="-1" strike="noStrike">
                          <a:solidFill>
                            <a:srgbClr val="000000"/>
                          </a:solidFill>
                          <a:latin typeface="Arial"/>
                          <a:ea typeface="Arial"/>
                        </a:rPr>
                        <a:t>P</a:t>
                      </a:r>
                      <a:r>
                        <a:rPr b="0" lang="en-US" sz="1400" spc="-1" strike="noStrike">
                          <a:solidFill>
                            <a:srgbClr val="000000"/>
                          </a:solidFill>
                          <a:latin typeface="Arial"/>
                          <a:ea typeface="Arial"/>
                        </a:rPr>
                        <a:t>=0.006</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RR, %</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4.1</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4269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G4 PFS</a:t>
                      </a:r>
                      <a:r>
                        <a:rPr b="0" lang="en-US" sz="1400" spc="-1" strike="noStrike" baseline="30000">
                          <a:solidFill>
                            <a:srgbClr val="000000"/>
                          </a:solidFill>
                          <a:latin typeface="Arial"/>
                          <a:ea typeface="Arial Unicode MS"/>
                        </a:rPr>
                        <a:t>a</a:t>
                      </a:r>
                      <a:r>
                        <a:rPr b="0" lang="en-US" sz="1400" spc="-1" strike="noStrike">
                          <a:solidFill>
                            <a:srgbClr val="000000"/>
                          </a:solidFill>
                          <a:latin typeface="Arial"/>
                          <a:ea typeface="Arial Unicode MS"/>
                        </a:rPr>
                        <a:t> median, months</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4.3</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3.0</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7792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0.74 (0.64, 0.86); </a:t>
                      </a:r>
                      <a:r>
                        <a:rPr b="0" i="1" lang="en-US" sz="1400" spc="-1" strike="noStrike">
                          <a:solidFill>
                            <a:srgbClr val="000000"/>
                          </a:solidFill>
                          <a:latin typeface="Arial"/>
                        </a:rPr>
                        <a:t>P</a:t>
                      </a:r>
                      <a:r>
                        <a:rPr b="0" lang="en-US" sz="1400" spc="-1" strike="noStrike">
                          <a:solidFill>
                            <a:srgbClr val="000000"/>
                          </a:solidFill>
                          <a:latin typeface="Arial"/>
                        </a:rPr>
                        <a:t>&lt;0.001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PointBreak: OS From Randomization (ITT)</a:t>
            </a:r>
            <a:endParaRPr b="0" lang="en-US" sz="3600" spc="-1" strike="noStrike">
              <a:solidFill>
                <a:srgbClr val="000000"/>
              </a:solidFill>
              <a:latin typeface="Arial"/>
            </a:endParaRPr>
          </a:p>
        </p:txBody>
      </p:sp>
      <p:graphicFrame>
        <p:nvGraphicFramePr>
          <p:cNvPr id="2360" name=""/>
          <p:cNvGraphicFramePr/>
          <p:nvPr/>
        </p:nvGraphicFramePr>
        <p:xfrm>
          <a:off x="4343400" y="1752480"/>
          <a:ext cx="4687920" cy="1712880"/>
        </p:xfrm>
        <a:graphic>
          <a:graphicData uri="http://schemas.openxmlformats.org/drawingml/2006/table">
            <a:tbl>
              <a:tblPr/>
              <a:tblGrid>
                <a:gridCol w="1741320"/>
                <a:gridCol w="1473480"/>
                <a:gridCol w="1473120"/>
              </a:tblGrid>
              <a:tr h="25740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2570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2.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3.4</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42696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HR (95% CI); </a:t>
                      </a:r>
                      <a:r>
                        <a:rPr b="0" i="1" lang="en-US" sz="1400" spc="-1" strike="noStrike">
                          <a:solidFill>
                            <a:srgbClr val="000000"/>
                          </a:solidFill>
                          <a:latin typeface="Arial"/>
                          <a:ea typeface="Arial Unicode MS"/>
                        </a:rPr>
                        <a:t>P </a:t>
                      </a:r>
                      <a:r>
                        <a:rPr b="0" lang="en-US" sz="1400" spc="-1" strike="noStrike">
                          <a:solidFill>
                            <a:srgbClr val="000000"/>
                          </a:solidFill>
                          <a:latin typeface="Arial"/>
                          <a:ea typeface="Arial Unicode MS"/>
                        </a:rPr>
                        <a:t>value</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0.86, 1.16); </a:t>
                      </a:r>
                      <a:r>
                        <a:rPr b="0" i="1" lang="en-US" sz="1400" spc="-1" strike="noStrike">
                          <a:solidFill>
                            <a:srgbClr val="000000"/>
                          </a:solidFill>
                          <a:latin typeface="Arial"/>
                          <a:ea typeface="Arial Unicode MS"/>
                        </a:rPr>
                        <a:t>P</a:t>
                      </a:r>
                      <a:r>
                        <a:rPr b="0" lang="en-US" sz="1400" spc="-1" strike="noStrike">
                          <a:solidFill>
                            <a:srgbClr val="000000"/>
                          </a:solidFill>
                          <a:latin typeface="Arial"/>
                          <a:ea typeface="Arial Unicode MS"/>
                        </a:rPr>
                        <a:t>=0.949</a:t>
                      </a:r>
                      <a:r>
                        <a:rPr b="0" lang="en-US" sz="1400" spc="-1" strike="noStrike">
                          <a:solidFill>
                            <a:srgbClr val="000000"/>
                          </a:solidFill>
                          <a:latin typeface="Arial"/>
                        </a:rPr>
                        <a:t> </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400">
                <a:tc gridSpan="3">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Survival rate, % </a:t>
                      </a:r>
                      <a:endParaRPr b="0" lang="en-US" sz="14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2.7</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54.1</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57040">
                <a:tc>
                  <a:txBody>
                    <a:bodyPr lIns="0" rIns="0" tIns="0" bIns="0" anchor="ctr">
                      <a:noAutofit/>
                    </a:bodyPr>
                    <a:p>
                      <a:pPr marL="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2-year</a:t>
                      </a:r>
                      <a:endParaRPr b="0" lang="en-US" sz="14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4.4</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 </a:t>
                      </a:r>
                      <a:r>
                        <a:rPr b="0" lang="en-US" sz="1400" spc="-1" strike="noStrike">
                          <a:solidFill>
                            <a:srgbClr val="000000"/>
                          </a:solidFill>
                          <a:latin typeface="Arial"/>
                          <a:ea typeface="Arial Unicode MS"/>
                        </a:rPr>
                        <a:t>21.2</a:t>
                      </a:r>
                      <a:endParaRPr b="0" lang="en-US" sz="14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
        <p:nvSpPr>
          <p:cNvPr id="2361" name="Text Box 15"/>
          <p:cNvSpPr/>
          <p:nvPr/>
        </p:nvSpPr>
        <p:spPr>
          <a:xfrm>
            <a:off x="2133720" y="6387120"/>
            <a:ext cx="6019560" cy="4136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Censoring rate for Pem + Cb + Bev was 27.8; for Pac + Cb + Bev was 27.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sp>
        <p:nvSpPr>
          <p:cNvPr id="2362" name="AutoShape 99"/>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3" name="Rectangle 101"/>
          <p:cNvSpPr/>
          <p:nvPr/>
        </p:nvSpPr>
        <p:spPr>
          <a:xfrm>
            <a:off x="87480" y="100080"/>
            <a:ext cx="8969040" cy="66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64" name="Group 134276"/>
          <p:cNvGrpSpPr/>
          <p:nvPr/>
        </p:nvGrpSpPr>
        <p:grpSpPr>
          <a:xfrm>
            <a:off x="281160" y="1770120"/>
            <a:ext cx="8549640" cy="4417560"/>
            <a:chOff x="281160" y="1770120"/>
            <a:chExt cx="8549640" cy="4417560"/>
          </a:xfrm>
        </p:grpSpPr>
        <p:sp>
          <p:nvSpPr>
            <p:cNvPr id="2365" name="Rectangle 102"/>
            <p:cNvSpPr/>
            <p:nvPr/>
          </p:nvSpPr>
          <p:spPr>
            <a:xfrm>
              <a:off x="831960" y="1850760"/>
              <a:ext cx="7924680" cy="364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6" name="Line 103"/>
            <p:cNvSpPr/>
            <p:nvPr/>
          </p:nvSpPr>
          <p:spPr>
            <a:xfrm>
              <a:off x="831960" y="5492880"/>
              <a:ext cx="7924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67" name="Line 104"/>
            <p:cNvSpPr/>
            <p:nvPr/>
          </p:nvSpPr>
          <p:spPr>
            <a:xfrm flipV="1">
              <a:off x="831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8" name="Line 105"/>
            <p:cNvSpPr/>
            <p:nvPr/>
          </p:nvSpPr>
          <p:spPr>
            <a:xfrm flipV="1">
              <a:off x="14400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69" name="Line 106"/>
            <p:cNvSpPr/>
            <p:nvPr/>
          </p:nvSpPr>
          <p:spPr>
            <a:xfrm flipV="1">
              <a:off x="20494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0" name="Line 107"/>
            <p:cNvSpPr/>
            <p:nvPr/>
          </p:nvSpPr>
          <p:spPr>
            <a:xfrm flipV="1">
              <a:off x="26589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1" name="Line 108"/>
            <p:cNvSpPr/>
            <p:nvPr/>
          </p:nvSpPr>
          <p:spPr>
            <a:xfrm flipV="1">
              <a:off x="32688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2" name="Line 109"/>
            <p:cNvSpPr/>
            <p:nvPr/>
          </p:nvSpPr>
          <p:spPr>
            <a:xfrm flipV="1">
              <a:off x="387972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3" name="Line 110"/>
            <p:cNvSpPr/>
            <p:nvPr/>
          </p:nvSpPr>
          <p:spPr>
            <a:xfrm flipV="1">
              <a:off x="44895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4" name="Line 111"/>
            <p:cNvSpPr/>
            <p:nvPr/>
          </p:nvSpPr>
          <p:spPr>
            <a:xfrm flipV="1">
              <a:off x="509760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5" name="Line 112"/>
            <p:cNvSpPr/>
            <p:nvPr/>
          </p:nvSpPr>
          <p:spPr>
            <a:xfrm flipV="1">
              <a:off x="57070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6" name="Line 113"/>
            <p:cNvSpPr/>
            <p:nvPr/>
          </p:nvSpPr>
          <p:spPr>
            <a:xfrm flipV="1">
              <a:off x="63183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7" name="Line 114"/>
            <p:cNvSpPr/>
            <p:nvPr/>
          </p:nvSpPr>
          <p:spPr>
            <a:xfrm flipV="1">
              <a:off x="69278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8" name="Line 115"/>
            <p:cNvSpPr/>
            <p:nvPr/>
          </p:nvSpPr>
          <p:spPr>
            <a:xfrm flipV="1">
              <a:off x="753768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79" name="Line 116"/>
            <p:cNvSpPr/>
            <p:nvPr/>
          </p:nvSpPr>
          <p:spPr>
            <a:xfrm flipV="1">
              <a:off x="814716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0" name="Line 117"/>
            <p:cNvSpPr/>
            <p:nvPr/>
          </p:nvSpPr>
          <p:spPr>
            <a:xfrm flipV="1">
              <a:off x="8756640" y="549252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600" spc="-1" strike="noStrike">
                <a:solidFill>
                  <a:srgbClr val="000000"/>
                </a:solidFill>
                <a:latin typeface="Arial"/>
              </a:endParaRPr>
            </a:p>
          </p:txBody>
        </p:sp>
        <p:sp>
          <p:nvSpPr>
            <p:cNvPr id="2381" name="Line 118"/>
            <p:cNvSpPr/>
            <p:nvPr/>
          </p:nvSpPr>
          <p:spPr>
            <a:xfrm flipV="1">
              <a:off x="1035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2" name="Line 119"/>
            <p:cNvSpPr/>
            <p:nvPr/>
          </p:nvSpPr>
          <p:spPr>
            <a:xfrm flipV="1">
              <a:off x="1236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3" name="Line 120"/>
            <p:cNvSpPr/>
            <p:nvPr/>
          </p:nvSpPr>
          <p:spPr>
            <a:xfrm flipV="1">
              <a:off x="1643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4" name="Line 121"/>
            <p:cNvSpPr/>
            <p:nvPr/>
          </p:nvSpPr>
          <p:spPr>
            <a:xfrm flipV="1">
              <a:off x="18464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5" name="Line 122"/>
            <p:cNvSpPr/>
            <p:nvPr/>
          </p:nvSpPr>
          <p:spPr>
            <a:xfrm flipV="1">
              <a:off x="22525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6" name="Line 123"/>
            <p:cNvSpPr/>
            <p:nvPr/>
          </p:nvSpPr>
          <p:spPr>
            <a:xfrm flipV="1">
              <a:off x="24559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7" name="Line 124"/>
            <p:cNvSpPr/>
            <p:nvPr/>
          </p:nvSpPr>
          <p:spPr>
            <a:xfrm flipV="1">
              <a:off x="28623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8" name="Line 125"/>
            <p:cNvSpPr/>
            <p:nvPr/>
          </p:nvSpPr>
          <p:spPr>
            <a:xfrm flipV="1">
              <a:off x="3065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89" name="Line 126"/>
            <p:cNvSpPr/>
            <p:nvPr/>
          </p:nvSpPr>
          <p:spPr>
            <a:xfrm flipV="1">
              <a:off x="3473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0" name="Line 127"/>
            <p:cNvSpPr/>
            <p:nvPr/>
          </p:nvSpPr>
          <p:spPr>
            <a:xfrm flipV="1">
              <a:off x="36766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1" name="Line 128"/>
            <p:cNvSpPr/>
            <p:nvPr/>
          </p:nvSpPr>
          <p:spPr>
            <a:xfrm flipV="1">
              <a:off x="40831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2" name="Line 129"/>
            <p:cNvSpPr/>
            <p:nvPr/>
          </p:nvSpPr>
          <p:spPr>
            <a:xfrm flipV="1">
              <a:off x="42861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3" name="Line 130"/>
            <p:cNvSpPr/>
            <p:nvPr/>
          </p:nvSpPr>
          <p:spPr>
            <a:xfrm flipV="1">
              <a:off x="4692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4" name="Line 131"/>
            <p:cNvSpPr/>
            <p:nvPr/>
          </p:nvSpPr>
          <p:spPr>
            <a:xfrm flipV="1">
              <a:off x="48960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5" name="Line 132"/>
            <p:cNvSpPr/>
            <p:nvPr/>
          </p:nvSpPr>
          <p:spPr>
            <a:xfrm flipV="1">
              <a:off x="53006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6" name="Line 133"/>
            <p:cNvSpPr/>
            <p:nvPr/>
          </p:nvSpPr>
          <p:spPr>
            <a:xfrm flipV="1">
              <a:off x="55040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7" name="Line 134"/>
            <p:cNvSpPr/>
            <p:nvPr/>
          </p:nvSpPr>
          <p:spPr>
            <a:xfrm flipV="1">
              <a:off x="59104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8" name="Line 135"/>
            <p:cNvSpPr/>
            <p:nvPr/>
          </p:nvSpPr>
          <p:spPr>
            <a:xfrm flipV="1">
              <a:off x="61149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399" name="Line 136"/>
            <p:cNvSpPr/>
            <p:nvPr/>
          </p:nvSpPr>
          <p:spPr>
            <a:xfrm flipV="1">
              <a:off x="65214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0" name="Line 137"/>
            <p:cNvSpPr/>
            <p:nvPr/>
          </p:nvSpPr>
          <p:spPr>
            <a:xfrm flipV="1">
              <a:off x="67248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1" name="Line 138"/>
            <p:cNvSpPr/>
            <p:nvPr/>
          </p:nvSpPr>
          <p:spPr>
            <a:xfrm flipV="1">
              <a:off x="713124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2" name="Line 139"/>
            <p:cNvSpPr/>
            <p:nvPr/>
          </p:nvSpPr>
          <p:spPr>
            <a:xfrm flipV="1">
              <a:off x="733428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3" name="Line 140"/>
            <p:cNvSpPr/>
            <p:nvPr/>
          </p:nvSpPr>
          <p:spPr>
            <a:xfrm flipV="1">
              <a:off x="774072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4" name="Line 141"/>
            <p:cNvSpPr/>
            <p:nvPr/>
          </p:nvSpPr>
          <p:spPr>
            <a:xfrm flipV="1">
              <a:off x="794376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5" name="Line 142"/>
            <p:cNvSpPr/>
            <p:nvPr/>
          </p:nvSpPr>
          <p:spPr>
            <a:xfrm flipV="1">
              <a:off x="83502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6" name="Line 143"/>
            <p:cNvSpPr/>
            <p:nvPr/>
          </p:nvSpPr>
          <p:spPr>
            <a:xfrm flipV="1">
              <a:off x="8553600" y="549288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407" name="Rectangle 144"/>
            <p:cNvSpPr/>
            <p:nvPr/>
          </p:nvSpPr>
          <p:spPr>
            <a:xfrm>
              <a:off x="79020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408" name="Rectangle 145"/>
            <p:cNvSpPr/>
            <p:nvPr/>
          </p:nvSpPr>
          <p:spPr>
            <a:xfrm>
              <a:off x="139968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409" name="Rectangle 146"/>
            <p:cNvSpPr/>
            <p:nvPr/>
          </p:nvSpPr>
          <p:spPr>
            <a:xfrm>
              <a:off x="200952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410" name="Rectangle 147"/>
            <p:cNvSpPr/>
            <p:nvPr/>
          </p:nvSpPr>
          <p:spPr>
            <a:xfrm>
              <a:off x="2617560" y="561996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411" name="Rectangle 148"/>
            <p:cNvSpPr/>
            <p:nvPr/>
          </p:nvSpPr>
          <p:spPr>
            <a:xfrm>
              <a:off x="31863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412" name="Rectangle 149"/>
            <p:cNvSpPr/>
            <p:nvPr/>
          </p:nvSpPr>
          <p:spPr>
            <a:xfrm>
              <a:off x="37976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413" name="Rectangle 150"/>
            <p:cNvSpPr/>
            <p:nvPr/>
          </p:nvSpPr>
          <p:spPr>
            <a:xfrm>
              <a:off x="44056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414" name="Rectangle 151"/>
            <p:cNvSpPr/>
            <p:nvPr/>
          </p:nvSpPr>
          <p:spPr>
            <a:xfrm>
              <a:off x="50151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415" name="Rectangle 152"/>
            <p:cNvSpPr/>
            <p:nvPr/>
          </p:nvSpPr>
          <p:spPr>
            <a:xfrm>
              <a:off x="562500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416" name="Rectangle 153"/>
            <p:cNvSpPr/>
            <p:nvPr/>
          </p:nvSpPr>
          <p:spPr>
            <a:xfrm>
              <a:off x="6236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417" name="Rectangle 154"/>
            <p:cNvSpPr/>
            <p:nvPr/>
          </p:nvSpPr>
          <p:spPr>
            <a:xfrm>
              <a:off x="68457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418" name="Rectangle 155"/>
            <p:cNvSpPr/>
            <p:nvPr/>
          </p:nvSpPr>
          <p:spPr>
            <a:xfrm>
              <a:off x="745524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419" name="Rectangle 156"/>
            <p:cNvSpPr/>
            <p:nvPr/>
          </p:nvSpPr>
          <p:spPr>
            <a:xfrm>
              <a:off x="806328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420" name="Rectangle 157"/>
            <p:cNvSpPr/>
            <p:nvPr/>
          </p:nvSpPr>
          <p:spPr>
            <a:xfrm>
              <a:off x="8674560" y="56199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9</a:t>
              </a:r>
              <a:endParaRPr b="0" lang="en-US" sz="1100" spc="-1" strike="noStrike">
                <a:solidFill>
                  <a:srgbClr val="000000"/>
                </a:solidFill>
                <a:latin typeface="Arial"/>
              </a:endParaRPr>
            </a:p>
          </p:txBody>
        </p:sp>
        <p:sp>
          <p:nvSpPr>
            <p:cNvPr id="2421" name="Line 158"/>
            <p:cNvSpPr/>
            <p:nvPr/>
          </p:nvSpPr>
          <p:spPr>
            <a:xfrm flipV="1">
              <a:off x="831960" y="1850400"/>
              <a:ext cx="0" cy="364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2" name="Line 159"/>
            <p:cNvSpPr/>
            <p:nvPr/>
          </p:nvSpPr>
          <p:spPr>
            <a:xfrm>
              <a:off x="777960" y="54216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3" name="Line 160"/>
            <p:cNvSpPr/>
            <p:nvPr/>
          </p:nvSpPr>
          <p:spPr>
            <a:xfrm>
              <a:off x="777960" y="5064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4" name="Line 161"/>
            <p:cNvSpPr/>
            <p:nvPr/>
          </p:nvSpPr>
          <p:spPr>
            <a:xfrm>
              <a:off x="777960" y="47070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5" name="Line 162"/>
            <p:cNvSpPr/>
            <p:nvPr/>
          </p:nvSpPr>
          <p:spPr>
            <a:xfrm>
              <a:off x="777960" y="4349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6" name="Line 163"/>
            <p:cNvSpPr/>
            <p:nvPr/>
          </p:nvSpPr>
          <p:spPr>
            <a:xfrm>
              <a:off x="777960" y="3992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7" name="Line 164"/>
            <p:cNvSpPr/>
            <p:nvPr/>
          </p:nvSpPr>
          <p:spPr>
            <a:xfrm>
              <a:off x="777960" y="36352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8" name="Line 165"/>
            <p:cNvSpPr/>
            <p:nvPr/>
          </p:nvSpPr>
          <p:spPr>
            <a:xfrm>
              <a:off x="777960" y="3278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9" name="Line 166"/>
            <p:cNvSpPr/>
            <p:nvPr/>
          </p:nvSpPr>
          <p:spPr>
            <a:xfrm>
              <a:off x="777960" y="29210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0" name="Line 167"/>
            <p:cNvSpPr/>
            <p:nvPr/>
          </p:nvSpPr>
          <p:spPr>
            <a:xfrm>
              <a:off x="777960" y="2565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1" name="Line 168"/>
            <p:cNvSpPr/>
            <p:nvPr/>
          </p:nvSpPr>
          <p:spPr>
            <a:xfrm>
              <a:off x="777960" y="22082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2" name="Line 169"/>
            <p:cNvSpPr/>
            <p:nvPr/>
          </p:nvSpPr>
          <p:spPr>
            <a:xfrm>
              <a:off x="777960" y="18507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3" name="Line 170"/>
            <p:cNvSpPr/>
            <p:nvPr/>
          </p:nvSpPr>
          <p:spPr>
            <a:xfrm>
              <a:off x="798480" y="52423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4" name="Line 171"/>
            <p:cNvSpPr/>
            <p:nvPr/>
          </p:nvSpPr>
          <p:spPr>
            <a:xfrm>
              <a:off x="798480" y="48848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5" name="Line 172"/>
            <p:cNvSpPr/>
            <p:nvPr/>
          </p:nvSpPr>
          <p:spPr>
            <a:xfrm>
              <a:off x="798480" y="45277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6" name="Line 173"/>
            <p:cNvSpPr/>
            <p:nvPr/>
          </p:nvSpPr>
          <p:spPr>
            <a:xfrm>
              <a:off x="798480" y="417204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7" name="Line 174"/>
            <p:cNvSpPr/>
            <p:nvPr/>
          </p:nvSpPr>
          <p:spPr>
            <a:xfrm>
              <a:off x="798480" y="381492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8" name="Line 175"/>
            <p:cNvSpPr/>
            <p:nvPr/>
          </p:nvSpPr>
          <p:spPr>
            <a:xfrm>
              <a:off x="798480" y="34578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9" name="Line 176"/>
            <p:cNvSpPr/>
            <p:nvPr/>
          </p:nvSpPr>
          <p:spPr>
            <a:xfrm>
              <a:off x="798480" y="30988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0" name="Line 177"/>
            <p:cNvSpPr/>
            <p:nvPr/>
          </p:nvSpPr>
          <p:spPr>
            <a:xfrm>
              <a:off x="798480" y="27432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1" name="Line 178"/>
            <p:cNvSpPr/>
            <p:nvPr/>
          </p:nvSpPr>
          <p:spPr>
            <a:xfrm>
              <a:off x="798480" y="238608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2" name="Line 179"/>
            <p:cNvSpPr/>
            <p:nvPr/>
          </p:nvSpPr>
          <p:spPr>
            <a:xfrm>
              <a:off x="798480" y="2028600"/>
              <a:ext cx="3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3" name="Rectangle 180"/>
            <p:cNvSpPr/>
            <p:nvPr/>
          </p:nvSpPr>
          <p:spPr>
            <a:xfrm>
              <a:off x="496440" y="534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444" name="Rectangle 181"/>
            <p:cNvSpPr/>
            <p:nvPr/>
          </p:nvSpPr>
          <p:spPr>
            <a:xfrm>
              <a:off x="496440" y="498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445" name="Rectangle 182"/>
            <p:cNvSpPr/>
            <p:nvPr/>
          </p:nvSpPr>
          <p:spPr>
            <a:xfrm>
              <a:off x="496440" y="46260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446" name="Rectangle 183"/>
            <p:cNvSpPr/>
            <p:nvPr/>
          </p:nvSpPr>
          <p:spPr>
            <a:xfrm>
              <a:off x="496440" y="4268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447" name="Rectangle 184"/>
            <p:cNvSpPr/>
            <p:nvPr/>
          </p:nvSpPr>
          <p:spPr>
            <a:xfrm>
              <a:off x="496440" y="3911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448" name="Rectangle 185"/>
            <p:cNvSpPr/>
            <p:nvPr/>
          </p:nvSpPr>
          <p:spPr>
            <a:xfrm>
              <a:off x="496440" y="3554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449" name="Rectangle 186"/>
            <p:cNvSpPr/>
            <p:nvPr/>
          </p:nvSpPr>
          <p:spPr>
            <a:xfrm>
              <a:off x="496440" y="31989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450" name="Rectangle 187"/>
            <p:cNvSpPr/>
            <p:nvPr/>
          </p:nvSpPr>
          <p:spPr>
            <a:xfrm>
              <a:off x="496440" y="2841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451" name="Rectangle 188"/>
            <p:cNvSpPr/>
            <p:nvPr/>
          </p:nvSpPr>
          <p:spPr>
            <a:xfrm>
              <a:off x="496440" y="2484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452" name="Rectangle 189"/>
            <p:cNvSpPr/>
            <p:nvPr/>
          </p:nvSpPr>
          <p:spPr>
            <a:xfrm>
              <a:off x="496440" y="2127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453" name="Rectangle 190"/>
            <p:cNvSpPr/>
            <p:nvPr/>
          </p:nvSpPr>
          <p:spPr>
            <a:xfrm>
              <a:off x="496440" y="1770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454" name="Freeform 191"/>
            <p:cNvSpPr/>
            <p:nvPr/>
          </p:nvSpPr>
          <p:spPr>
            <a:xfrm flipV="1">
              <a:off x="831960" y="1849680"/>
              <a:ext cx="7529400" cy="3195720"/>
            </a:xfrm>
            <a:custGeom>
              <a:avLst/>
              <a:gdLst/>
              <a:ahLst/>
              <a:rect l="l" t="t" r="r" b="b"/>
              <a:pathLst>
                <a:path w="7006" h="3072">
                  <a:moveTo>
                    <a:pt x="0" y="3072"/>
                  </a:moveTo>
                  <a:lnTo>
                    <a:pt x="6" y="3072"/>
                  </a:lnTo>
                  <a:lnTo>
                    <a:pt x="24" y="3072"/>
                  </a:lnTo>
                  <a:lnTo>
                    <a:pt x="43" y="3072"/>
                  </a:lnTo>
                  <a:lnTo>
                    <a:pt x="55" y="3072"/>
                  </a:lnTo>
                  <a:lnTo>
                    <a:pt x="55" y="3065"/>
                  </a:lnTo>
                  <a:lnTo>
                    <a:pt x="62" y="3065"/>
                  </a:lnTo>
                  <a:lnTo>
                    <a:pt x="62" y="3058"/>
                  </a:lnTo>
                  <a:lnTo>
                    <a:pt x="68" y="3058"/>
                  </a:lnTo>
                  <a:lnTo>
                    <a:pt x="68" y="3051"/>
                  </a:lnTo>
                  <a:lnTo>
                    <a:pt x="86" y="3051"/>
                  </a:lnTo>
                  <a:lnTo>
                    <a:pt x="86" y="3043"/>
                  </a:lnTo>
                  <a:lnTo>
                    <a:pt x="99" y="3043"/>
                  </a:lnTo>
                  <a:lnTo>
                    <a:pt x="99" y="3036"/>
                  </a:lnTo>
                  <a:lnTo>
                    <a:pt x="105" y="3036"/>
                  </a:lnTo>
                  <a:lnTo>
                    <a:pt x="105" y="3029"/>
                  </a:lnTo>
                  <a:lnTo>
                    <a:pt x="118" y="3029"/>
                  </a:lnTo>
                  <a:lnTo>
                    <a:pt x="118" y="3021"/>
                  </a:lnTo>
                  <a:lnTo>
                    <a:pt x="130" y="3021"/>
                  </a:lnTo>
                  <a:lnTo>
                    <a:pt x="130" y="3014"/>
                  </a:lnTo>
                  <a:lnTo>
                    <a:pt x="142" y="3014"/>
                  </a:lnTo>
                  <a:lnTo>
                    <a:pt x="142" y="3007"/>
                  </a:lnTo>
                  <a:lnTo>
                    <a:pt x="149" y="3007"/>
                  </a:lnTo>
                  <a:lnTo>
                    <a:pt x="149" y="2999"/>
                  </a:lnTo>
                  <a:lnTo>
                    <a:pt x="161" y="2999"/>
                  </a:lnTo>
                  <a:lnTo>
                    <a:pt x="161" y="2992"/>
                  </a:lnTo>
                  <a:lnTo>
                    <a:pt x="167" y="2992"/>
                  </a:lnTo>
                  <a:lnTo>
                    <a:pt x="167" y="2985"/>
                  </a:lnTo>
                  <a:lnTo>
                    <a:pt x="173" y="2985"/>
                  </a:lnTo>
                  <a:lnTo>
                    <a:pt x="173" y="2970"/>
                  </a:lnTo>
                  <a:lnTo>
                    <a:pt x="180" y="2970"/>
                  </a:lnTo>
                  <a:lnTo>
                    <a:pt x="180" y="2963"/>
                  </a:lnTo>
                  <a:lnTo>
                    <a:pt x="186" y="2963"/>
                  </a:lnTo>
                  <a:lnTo>
                    <a:pt x="186" y="2955"/>
                  </a:lnTo>
                  <a:lnTo>
                    <a:pt x="198" y="2955"/>
                  </a:lnTo>
                  <a:lnTo>
                    <a:pt x="198" y="2948"/>
                  </a:lnTo>
                  <a:lnTo>
                    <a:pt x="211" y="2948"/>
                  </a:lnTo>
                  <a:lnTo>
                    <a:pt x="211" y="2941"/>
                  </a:lnTo>
                  <a:lnTo>
                    <a:pt x="223" y="2941"/>
                  </a:lnTo>
                  <a:lnTo>
                    <a:pt x="223" y="2926"/>
                  </a:lnTo>
                  <a:lnTo>
                    <a:pt x="229" y="2926"/>
                  </a:lnTo>
                  <a:lnTo>
                    <a:pt x="229" y="2919"/>
                  </a:lnTo>
                  <a:lnTo>
                    <a:pt x="254" y="2919"/>
                  </a:lnTo>
                  <a:lnTo>
                    <a:pt x="254" y="2911"/>
                  </a:lnTo>
                  <a:lnTo>
                    <a:pt x="260" y="2911"/>
                  </a:lnTo>
                  <a:lnTo>
                    <a:pt x="260" y="2897"/>
                  </a:lnTo>
                  <a:lnTo>
                    <a:pt x="267" y="2897"/>
                  </a:lnTo>
                  <a:lnTo>
                    <a:pt x="267" y="2882"/>
                  </a:lnTo>
                  <a:lnTo>
                    <a:pt x="285" y="2882"/>
                  </a:lnTo>
                  <a:lnTo>
                    <a:pt x="285" y="2867"/>
                  </a:lnTo>
                  <a:lnTo>
                    <a:pt x="291" y="2867"/>
                  </a:lnTo>
                  <a:lnTo>
                    <a:pt x="298" y="2867"/>
                  </a:lnTo>
                  <a:lnTo>
                    <a:pt x="298" y="2860"/>
                  </a:lnTo>
                  <a:lnTo>
                    <a:pt x="304" y="2860"/>
                  </a:lnTo>
                  <a:lnTo>
                    <a:pt x="310" y="2860"/>
                  </a:lnTo>
                  <a:lnTo>
                    <a:pt x="310" y="2852"/>
                  </a:lnTo>
                  <a:lnTo>
                    <a:pt x="316" y="2852"/>
                  </a:lnTo>
                  <a:lnTo>
                    <a:pt x="316" y="2845"/>
                  </a:lnTo>
                  <a:lnTo>
                    <a:pt x="322" y="2845"/>
                  </a:lnTo>
                  <a:lnTo>
                    <a:pt x="366" y="2845"/>
                  </a:lnTo>
                  <a:lnTo>
                    <a:pt x="366" y="2823"/>
                  </a:lnTo>
                  <a:lnTo>
                    <a:pt x="372" y="2823"/>
                  </a:lnTo>
                  <a:lnTo>
                    <a:pt x="372" y="2815"/>
                  </a:lnTo>
                  <a:lnTo>
                    <a:pt x="385" y="2815"/>
                  </a:lnTo>
                  <a:lnTo>
                    <a:pt x="385" y="2801"/>
                  </a:lnTo>
                  <a:lnTo>
                    <a:pt x="391" y="2801"/>
                  </a:lnTo>
                  <a:lnTo>
                    <a:pt x="391" y="2786"/>
                  </a:lnTo>
                  <a:lnTo>
                    <a:pt x="409" y="2786"/>
                  </a:lnTo>
                  <a:lnTo>
                    <a:pt x="409" y="2778"/>
                  </a:lnTo>
                  <a:lnTo>
                    <a:pt x="428" y="2778"/>
                  </a:lnTo>
                  <a:lnTo>
                    <a:pt x="428" y="2763"/>
                  </a:lnTo>
                  <a:lnTo>
                    <a:pt x="434" y="2763"/>
                  </a:lnTo>
                  <a:lnTo>
                    <a:pt x="434" y="2756"/>
                  </a:lnTo>
                  <a:lnTo>
                    <a:pt x="447" y="2756"/>
                  </a:lnTo>
                  <a:lnTo>
                    <a:pt x="447" y="2749"/>
                  </a:lnTo>
                  <a:lnTo>
                    <a:pt x="459" y="2749"/>
                  </a:lnTo>
                  <a:lnTo>
                    <a:pt x="472" y="2749"/>
                  </a:lnTo>
                  <a:lnTo>
                    <a:pt x="472" y="2734"/>
                  </a:lnTo>
                  <a:lnTo>
                    <a:pt x="478" y="2734"/>
                  </a:lnTo>
                  <a:lnTo>
                    <a:pt x="484" y="2734"/>
                  </a:lnTo>
                  <a:lnTo>
                    <a:pt x="484" y="2726"/>
                  </a:lnTo>
                  <a:lnTo>
                    <a:pt x="490" y="2726"/>
                  </a:lnTo>
                  <a:lnTo>
                    <a:pt x="490" y="2719"/>
                  </a:lnTo>
                  <a:lnTo>
                    <a:pt x="509" y="2719"/>
                  </a:lnTo>
                  <a:lnTo>
                    <a:pt x="509" y="2711"/>
                  </a:lnTo>
                  <a:lnTo>
                    <a:pt x="515" y="2711"/>
                  </a:lnTo>
                  <a:lnTo>
                    <a:pt x="534" y="2711"/>
                  </a:lnTo>
                  <a:lnTo>
                    <a:pt x="540" y="2711"/>
                  </a:lnTo>
                  <a:lnTo>
                    <a:pt x="540" y="2696"/>
                  </a:lnTo>
                  <a:lnTo>
                    <a:pt x="552" y="2696"/>
                  </a:lnTo>
                  <a:lnTo>
                    <a:pt x="559" y="2696"/>
                  </a:lnTo>
                  <a:lnTo>
                    <a:pt x="559" y="2689"/>
                  </a:lnTo>
                  <a:lnTo>
                    <a:pt x="571" y="2689"/>
                  </a:lnTo>
                  <a:lnTo>
                    <a:pt x="571" y="2681"/>
                  </a:lnTo>
                  <a:lnTo>
                    <a:pt x="577" y="2681"/>
                  </a:lnTo>
                  <a:lnTo>
                    <a:pt x="577" y="2674"/>
                  </a:lnTo>
                  <a:lnTo>
                    <a:pt x="583" y="2674"/>
                  </a:lnTo>
                  <a:lnTo>
                    <a:pt x="596" y="2674"/>
                  </a:lnTo>
                  <a:lnTo>
                    <a:pt x="596" y="2666"/>
                  </a:lnTo>
                  <a:lnTo>
                    <a:pt x="602" y="2666"/>
                  </a:lnTo>
                  <a:lnTo>
                    <a:pt x="602" y="2651"/>
                  </a:lnTo>
                  <a:lnTo>
                    <a:pt x="614" y="2651"/>
                  </a:lnTo>
                  <a:lnTo>
                    <a:pt x="614" y="2636"/>
                  </a:lnTo>
                  <a:lnTo>
                    <a:pt x="627" y="2636"/>
                  </a:lnTo>
                  <a:lnTo>
                    <a:pt x="627" y="2629"/>
                  </a:lnTo>
                  <a:lnTo>
                    <a:pt x="633" y="2629"/>
                  </a:lnTo>
                  <a:lnTo>
                    <a:pt x="633" y="2614"/>
                  </a:lnTo>
                  <a:lnTo>
                    <a:pt x="670" y="2614"/>
                  </a:lnTo>
                  <a:lnTo>
                    <a:pt x="670" y="2606"/>
                  </a:lnTo>
                  <a:lnTo>
                    <a:pt x="677" y="2606"/>
                  </a:lnTo>
                  <a:lnTo>
                    <a:pt x="701" y="2606"/>
                  </a:lnTo>
                  <a:lnTo>
                    <a:pt x="701" y="2576"/>
                  </a:lnTo>
                  <a:lnTo>
                    <a:pt x="708" y="2576"/>
                  </a:lnTo>
                  <a:lnTo>
                    <a:pt x="714" y="2576"/>
                  </a:lnTo>
                  <a:lnTo>
                    <a:pt x="714" y="2561"/>
                  </a:lnTo>
                  <a:lnTo>
                    <a:pt x="720" y="2561"/>
                  </a:lnTo>
                  <a:lnTo>
                    <a:pt x="720" y="2553"/>
                  </a:lnTo>
                  <a:lnTo>
                    <a:pt x="726" y="2553"/>
                  </a:lnTo>
                  <a:lnTo>
                    <a:pt x="726" y="2546"/>
                  </a:lnTo>
                  <a:lnTo>
                    <a:pt x="732" y="2546"/>
                  </a:lnTo>
                  <a:lnTo>
                    <a:pt x="732" y="2538"/>
                  </a:lnTo>
                  <a:lnTo>
                    <a:pt x="745" y="2538"/>
                  </a:lnTo>
                  <a:lnTo>
                    <a:pt x="745" y="2523"/>
                  </a:lnTo>
                  <a:lnTo>
                    <a:pt x="751" y="2523"/>
                  </a:lnTo>
                  <a:lnTo>
                    <a:pt x="751" y="2516"/>
                  </a:lnTo>
                  <a:lnTo>
                    <a:pt x="764" y="2516"/>
                  </a:lnTo>
                  <a:lnTo>
                    <a:pt x="764" y="2493"/>
                  </a:lnTo>
                  <a:lnTo>
                    <a:pt x="776" y="2493"/>
                  </a:lnTo>
                  <a:lnTo>
                    <a:pt x="776" y="2485"/>
                  </a:lnTo>
                  <a:lnTo>
                    <a:pt x="782" y="2485"/>
                  </a:lnTo>
                  <a:lnTo>
                    <a:pt x="782" y="2478"/>
                  </a:lnTo>
                  <a:lnTo>
                    <a:pt x="788" y="2478"/>
                  </a:lnTo>
                  <a:lnTo>
                    <a:pt x="788" y="2470"/>
                  </a:lnTo>
                  <a:lnTo>
                    <a:pt x="807" y="2470"/>
                  </a:lnTo>
                  <a:lnTo>
                    <a:pt x="807" y="2463"/>
                  </a:lnTo>
                  <a:lnTo>
                    <a:pt x="819" y="2463"/>
                  </a:lnTo>
                  <a:lnTo>
                    <a:pt x="819" y="2455"/>
                  </a:lnTo>
                  <a:lnTo>
                    <a:pt x="832" y="2455"/>
                  </a:lnTo>
                  <a:lnTo>
                    <a:pt x="832" y="2440"/>
                  </a:lnTo>
                  <a:lnTo>
                    <a:pt x="838" y="2440"/>
                  </a:lnTo>
                  <a:lnTo>
                    <a:pt x="838" y="2432"/>
                  </a:lnTo>
                  <a:lnTo>
                    <a:pt x="844" y="2432"/>
                  </a:lnTo>
                  <a:lnTo>
                    <a:pt x="844" y="2425"/>
                  </a:lnTo>
                  <a:lnTo>
                    <a:pt x="869" y="2425"/>
                  </a:lnTo>
                  <a:lnTo>
                    <a:pt x="888" y="2425"/>
                  </a:lnTo>
                  <a:lnTo>
                    <a:pt x="888" y="2417"/>
                  </a:lnTo>
                  <a:lnTo>
                    <a:pt x="900" y="2417"/>
                  </a:lnTo>
                  <a:lnTo>
                    <a:pt x="900" y="2410"/>
                  </a:lnTo>
                  <a:lnTo>
                    <a:pt x="906" y="2410"/>
                  </a:lnTo>
                  <a:lnTo>
                    <a:pt x="906" y="2402"/>
                  </a:lnTo>
                  <a:lnTo>
                    <a:pt x="913" y="2402"/>
                  </a:lnTo>
                  <a:lnTo>
                    <a:pt x="913" y="2394"/>
                  </a:lnTo>
                  <a:lnTo>
                    <a:pt x="919" y="2394"/>
                  </a:lnTo>
                  <a:lnTo>
                    <a:pt x="919" y="2387"/>
                  </a:lnTo>
                  <a:lnTo>
                    <a:pt x="925" y="2387"/>
                  </a:lnTo>
                  <a:lnTo>
                    <a:pt x="925" y="2379"/>
                  </a:lnTo>
                  <a:lnTo>
                    <a:pt x="931" y="2379"/>
                  </a:lnTo>
                  <a:lnTo>
                    <a:pt x="931" y="2372"/>
                  </a:lnTo>
                  <a:lnTo>
                    <a:pt x="937" y="2372"/>
                  </a:lnTo>
                  <a:lnTo>
                    <a:pt x="937" y="2364"/>
                  </a:lnTo>
                  <a:lnTo>
                    <a:pt x="956" y="2364"/>
                  </a:lnTo>
                  <a:lnTo>
                    <a:pt x="956" y="2356"/>
                  </a:lnTo>
                  <a:lnTo>
                    <a:pt x="987" y="2356"/>
                  </a:lnTo>
                  <a:lnTo>
                    <a:pt x="987" y="2349"/>
                  </a:lnTo>
                  <a:lnTo>
                    <a:pt x="993" y="2349"/>
                  </a:lnTo>
                  <a:lnTo>
                    <a:pt x="993" y="2334"/>
                  </a:lnTo>
                  <a:lnTo>
                    <a:pt x="1018" y="2334"/>
                  </a:lnTo>
                  <a:lnTo>
                    <a:pt x="1018" y="2318"/>
                  </a:lnTo>
                  <a:lnTo>
                    <a:pt x="1024" y="2318"/>
                  </a:lnTo>
                  <a:lnTo>
                    <a:pt x="1024" y="2311"/>
                  </a:lnTo>
                  <a:lnTo>
                    <a:pt x="1031" y="2311"/>
                  </a:lnTo>
                  <a:lnTo>
                    <a:pt x="1031" y="2303"/>
                  </a:lnTo>
                  <a:lnTo>
                    <a:pt x="1037" y="2303"/>
                  </a:lnTo>
                  <a:lnTo>
                    <a:pt x="1037" y="2296"/>
                  </a:lnTo>
                  <a:lnTo>
                    <a:pt x="1043" y="2296"/>
                  </a:lnTo>
                  <a:lnTo>
                    <a:pt x="1043" y="2288"/>
                  </a:lnTo>
                  <a:lnTo>
                    <a:pt x="1062" y="2288"/>
                  </a:lnTo>
                  <a:lnTo>
                    <a:pt x="1062" y="2280"/>
                  </a:lnTo>
                  <a:lnTo>
                    <a:pt x="1080" y="2280"/>
                  </a:lnTo>
                  <a:lnTo>
                    <a:pt x="1080" y="2265"/>
                  </a:lnTo>
                  <a:lnTo>
                    <a:pt x="1099" y="2265"/>
                  </a:lnTo>
                  <a:lnTo>
                    <a:pt x="1118" y="2265"/>
                  </a:lnTo>
                  <a:lnTo>
                    <a:pt x="1118" y="2258"/>
                  </a:lnTo>
                  <a:lnTo>
                    <a:pt x="1124" y="2258"/>
                  </a:lnTo>
                  <a:lnTo>
                    <a:pt x="1124" y="2242"/>
                  </a:lnTo>
                  <a:lnTo>
                    <a:pt x="1142" y="2242"/>
                  </a:lnTo>
                  <a:lnTo>
                    <a:pt x="1142" y="2235"/>
                  </a:lnTo>
                  <a:lnTo>
                    <a:pt x="1192" y="2235"/>
                  </a:lnTo>
                  <a:lnTo>
                    <a:pt x="1192" y="2212"/>
                  </a:lnTo>
                  <a:lnTo>
                    <a:pt x="1198" y="2212"/>
                  </a:lnTo>
                  <a:lnTo>
                    <a:pt x="1198" y="2204"/>
                  </a:lnTo>
                  <a:lnTo>
                    <a:pt x="1205" y="2204"/>
                  </a:lnTo>
                  <a:lnTo>
                    <a:pt x="1205" y="2189"/>
                  </a:lnTo>
                  <a:lnTo>
                    <a:pt x="1229" y="2189"/>
                  </a:lnTo>
                  <a:lnTo>
                    <a:pt x="1229" y="2181"/>
                  </a:lnTo>
                  <a:lnTo>
                    <a:pt x="1236" y="2181"/>
                  </a:lnTo>
                  <a:lnTo>
                    <a:pt x="1236" y="2166"/>
                  </a:lnTo>
                  <a:lnTo>
                    <a:pt x="1248" y="2166"/>
                  </a:lnTo>
                  <a:lnTo>
                    <a:pt x="1248" y="2158"/>
                  </a:lnTo>
                  <a:lnTo>
                    <a:pt x="1254" y="2158"/>
                  </a:lnTo>
                  <a:lnTo>
                    <a:pt x="1254" y="2151"/>
                  </a:lnTo>
                  <a:lnTo>
                    <a:pt x="1267" y="2151"/>
                  </a:lnTo>
                  <a:lnTo>
                    <a:pt x="1310" y="2151"/>
                  </a:lnTo>
                  <a:lnTo>
                    <a:pt x="1310" y="2135"/>
                  </a:lnTo>
                  <a:lnTo>
                    <a:pt x="1316" y="2135"/>
                  </a:lnTo>
                  <a:lnTo>
                    <a:pt x="1316" y="2120"/>
                  </a:lnTo>
                  <a:lnTo>
                    <a:pt x="1341" y="2120"/>
                  </a:lnTo>
                  <a:lnTo>
                    <a:pt x="1341" y="2105"/>
                  </a:lnTo>
                  <a:lnTo>
                    <a:pt x="1347" y="2105"/>
                  </a:lnTo>
                  <a:lnTo>
                    <a:pt x="1347" y="2097"/>
                  </a:lnTo>
                  <a:lnTo>
                    <a:pt x="1354" y="2097"/>
                  </a:lnTo>
                  <a:lnTo>
                    <a:pt x="1354" y="2089"/>
                  </a:lnTo>
                  <a:lnTo>
                    <a:pt x="1360" y="2089"/>
                  </a:lnTo>
                  <a:lnTo>
                    <a:pt x="1372" y="2089"/>
                  </a:lnTo>
                  <a:lnTo>
                    <a:pt x="1372" y="2082"/>
                  </a:lnTo>
                  <a:lnTo>
                    <a:pt x="1378" y="2082"/>
                  </a:lnTo>
                  <a:lnTo>
                    <a:pt x="1378" y="2074"/>
                  </a:lnTo>
                  <a:lnTo>
                    <a:pt x="1385" y="2074"/>
                  </a:lnTo>
                  <a:lnTo>
                    <a:pt x="1385" y="2066"/>
                  </a:lnTo>
                  <a:lnTo>
                    <a:pt x="1403" y="2066"/>
                  </a:lnTo>
                  <a:lnTo>
                    <a:pt x="1403" y="2058"/>
                  </a:lnTo>
                  <a:lnTo>
                    <a:pt x="1410" y="2058"/>
                  </a:lnTo>
                  <a:lnTo>
                    <a:pt x="1410" y="2051"/>
                  </a:lnTo>
                  <a:lnTo>
                    <a:pt x="1422" y="2051"/>
                  </a:lnTo>
                  <a:lnTo>
                    <a:pt x="1422" y="2043"/>
                  </a:lnTo>
                  <a:lnTo>
                    <a:pt x="1434" y="2043"/>
                  </a:lnTo>
                  <a:lnTo>
                    <a:pt x="1434" y="2035"/>
                  </a:lnTo>
                  <a:lnTo>
                    <a:pt x="1459" y="2035"/>
                  </a:lnTo>
                  <a:lnTo>
                    <a:pt x="1459" y="2020"/>
                  </a:lnTo>
                  <a:lnTo>
                    <a:pt x="1465" y="2020"/>
                  </a:lnTo>
                  <a:lnTo>
                    <a:pt x="1465" y="2012"/>
                  </a:lnTo>
                  <a:lnTo>
                    <a:pt x="1490" y="2012"/>
                  </a:lnTo>
                  <a:lnTo>
                    <a:pt x="1490" y="2004"/>
                  </a:lnTo>
                  <a:lnTo>
                    <a:pt x="1496" y="2004"/>
                  </a:lnTo>
                  <a:lnTo>
                    <a:pt x="1496" y="1997"/>
                  </a:lnTo>
                  <a:lnTo>
                    <a:pt x="1515" y="1997"/>
                  </a:lnTo>
                  <a:lnTo>
                    <a:pt x="1515" y="1989"/>
                  </a:lnTo>
                  <a:lnTo>
                    <a:pt x="1540" y="1989"/>
                  </a:lnTo>
                  <a:lnTo>
                    <a:pt x="1540" y="1973"/>
                  </a:lnTo>
                  <a:lnTo>
                    <a:pt x="1546" y="1973"/>
                  </a:lnTo>
                  <a:lnTo>
                    <a:pt x="1546" y="1966"/>
                  </a:lnTo>
                  <a:lnTo>
                    <a:pt x="1571" y="1966"/>
                  </a:lnTo>
                  <a:lnTo>
                    <a:pt x="1571" y="1950"/>
                  </a:lnTo>
                  <a:lnTo>
                    <a:pt x="1590" y="1950"/>
                  </a:lnTo>
                  <a:lnTo>
                    <a:pt x="1590" y="1935"/>
                  </a:lnTo>
                  <a:lnTo>
                    <a:pt x="1608" y="1935"/>
                  </a:lnTo>
                  <a:lnTo>
                    <a:pt x="1608" y="1927"/>
                  </a:lnTo>
                  <a:lnTo>
                    <a:pt x="1621" y="1927"/>
                  </a:lnTo>
                  <a:lnTo>
                    <a:pt x="1621" y="1919"/>
                  </a:lnTo>
                  <a:lnTo>
                    <a:pt x="1646" y="1919"/>
                  </a:lnTo>
                  <a:lnTo>
                    <a:pt x="1652" y="1919"/>
                  </a:lnTo>
                  <a:lnTo>
                    <a:pt x="1652" y="1911"/>
                  </a:lnTo>
                  <a:lnTo>
                    <a:pt x="1658" y="1911"/>
                  </a:lnTo>
                  <a:lnTo>
                    <a:pt x="1664" y="1911"/>
                  </a:lnTo>
                  <a:lnTo>
                    <a:pt x="1664" y="1904"/>
                  </a:lnTo>
                  <a:lnTo>
                    <a:pt x="1670" y="1904"/>
                  </a:lnTo>
                  <a:lnTo>
                    <a:pt x="1670" y="1896"/>
                  </a:lnTo>
                  <a:lnTo>
                    <a:pt x="1677" y="1896"/>
                  </a:lnTo>
                  <a:lnTo>
                    <a:pt x="1677" y="1880"/>
                  </a:lnTo>
                  <a:lnTo>
                    <a:pt x="1683" y="1880"/>
                  </a:lnTo>
                  <a:lnTo>
                    <a:pt x="1683" y="1857"/>
                  </a:lnTo>
                  <a:lnTo>
                    <a:pt x="1701" y="1857"/>
                  </a:lnTo>
                  <a:lnTo>
                    <a:pt x="1701" y="1849"/>
                  </a:lnTo>
                  <a:lnTo>
                    <a:pt x="1720" y="1849"/>
                  </a:lnTo>
                  <a:lnTo>
                    <a:pt x="1720" y="1841"/>
                  </a:lnTo>
                  <a:lnTo>
                    <a:pt x="1739" y="1841"/>
                  </a:lnTo>
                  <a:lnTo>
                    <a:pt x="1739" y="1833"/>
                  </a:lnTo>
                  <a:lnTo>
                    <a:pt x="1745" y="1833"/>
                  </a:lnTo>
                  <a:lnTo>
                    <a:pt x="1745" y="1810"/>
                  </a:lnTo>
                  <a:lnTo>
                    <a:pt x="1757" y="1810"/>
                  </a:lnTo>
                  <a:lnTo>
                    <a:pt x="1757" y="1802"/>
                  </a:lnTo>
                  <a:lnTo>
                    <a:pt x="1770" y="1802"/>
                  </a:lnTo>
                  <a:lnTo>
                    <a:pt x="1770" y="1794"/>
                  </a:lnTo>
                  <a:lnTo>
                    <a:pt x="1776" y="1794"/>
                  </a:lnTo>
                  <a:lnTo>
                    <a:pt x="1776" y="1786"/>
                  </a:lnTo>
                  <a:lnTo>
                    <a:pt x="1782" y="1786"/>
                  </a:lnTo>
                  <a:lnTo>
                    <a:pt x="1782" y="1778"/>
                  </a:lnTo>
                  <a:lnTo>
                    <a:pt x="1788" y="1778"/>
                  </a:lnTo>
                  <a:lnTo>
                    <a:pt x="1788" y="1771"/>
                  </a:lnTo>
                  <a:lnTo>
                    <a:pt x="1795" y="1771"/>
                  </a:lnTo>
                  <a:lnTo>
                    <a:pt x="1795" y="1747"/>
                  </a:lnTo>
                  <a:lnTo>
                    <a:pt x="1807" y="1747"/>
                  </a:lnTo>
                  <a:lnTo>
                    <a:pt x="1807" y="1739"/>
                  </a:lnTo>
                  <a:lnTo>
                    <a:pt x="1813" y="1739"/>
                  </a:lnTo>
                  <a:lnTo>
                    <a:pt x="1813" y="1731"/>
                  </a:lnTo>
                  <a:lnTo>
                    <a:pt x="1819" y="1731"/>
                  </a:lnTo>
                  <a:lnTo>
                    <a:pt x="1819" y="1724"/>
                  </a:lnTo>
                  <a:lnTo>
                    <a:pt x="1826" y="1724"/>
                  </a:lnTo>
                  <a:lnTo>
                    <a:pt x="1826" y="1716"/>
                  </a:lnTo>
                  <a:lnTo>
                    <a:pt x="1838" y="1716"/>
                  </a:lnTo>
                  <a:lnTo>
                    <a:pt x="1838" y="1708"/>
                  </a:lnTo>
                  <a:lnTo>
                    <a:pt x="1869" y="1708"/>
                  </a:lnTo>
                  <a:lnTo>
                    <a:pt x="1869" y="1700"/>
                  </a:lnTo>
                  <a:lnTo>
                    <a:pt x="1882" y="1700"/>
                  </a:lnTo>
                  <a:lnTo>
                    <a:pt x="1882" y="1685"/>
                  </a:lnTo>
                  <a:lnTo>
                    <a:pt x="1913" y="1685"/>
                  </a:lnTo>
                  <a:lnTo>
                    <a:pt x="1913" y="1677"/>
                  </a:lnTo>
                  <a:lnTo>
                    <a:pt x="1925" y="1677"/>
                  </a:lnTo>
                  <a:lnTo>
                    <a:pt x="1925" y="1661"/>
                  </a:lnTo>
                  <a:lnTo>
                    <a:pt x="1931" y="1661"/>
                  </a:lnTo>
                  <a:lnTo>
                    <a:pt x="1931" y="1653"/>
                  </a:lnTo>
                  <a:lnTo>
                    <a:pt x="1969" y="1653"/>
                  </a:lnTo>
                  <a:lnTo>
                    <a:pt x="1969" y="1645"/>
                  </a:lnTo>
                  <a:lnTo>
                    <a:pt x="1975" y="1645"/>
                  </a:lnTo>
                  <a:lnTo>
                    <a:pt x="1975" y="1638"/>
                  </a:lnTo>
                  <a:lnTo>
                    <a:pt x="1987" y="1638"/>
                  </a:lnTo>
                  <a:lnTo>
                    <a:pt x="1987" y="1606"/>
                  </a:lnTo>
                  <a:lnTo>
                    <a:pt x="2000" y="1606"/>
                  </a:lnTo>
                  <a:lnTo>
                    <a:pt x="2000" y="1598"/>
                  </a:lnTo>
                  <a:lnTo>
                    <a:pt x="2006" y="1598"/>
                  </a:lnTo>
                  <a:lnTo>
                    <a:pt x="2006" y="1591"/>
                  </a:lnTo>
                  <a:lnTo>
                    <a:pt x="2012" y="1591"/>
                  </a:lnTo>
                  <a:lnTo>
                    <a:pt x="2012" y="1583"/>
                  </a:lnTo>
                  <a:lnTo>
                    <a:pt x="2024" y="1583"/>
                  </a:lnTo>
                  <a:lnTo>
                    <a:pt x="2037" y="1583"/>
                  </a:lnTo>
                  <a:lnTo>
                    <a:pt x="2037" y="1567"/>
                  </a:lnTo>
                  <a:lnTo>
                    <a:pt x="2068" y="1567"/>
                  </a:lnTo>
                  <a:lnTo>
                    <a:pt x="2068" y="1559"/>
                  </a:lnTo>
                  <a:lnTo>
                    <a:pt x="2080" y="1559"/>
                  </a:lnTo>
                  <a:lnTo>
                    <a:pt x="2080" y="1551"/>
                  </a:lnTo>
                  <a:lnTo>
                    <a:pt x="2093" y="1551"/>
                  </a:lnTo>
                  <a:lnTo>
                    <a:pt x="2093" y="1543"/>
                  </a:lnTo>
                  <a:lnTo>
                    <a:pt x="2099" y="1543"/>
                  </a:lnTo>
                  <a:lnTo>
                    <a:pt x="2099" y="1536"/>
                  </a:lnTo>
                  <a:lnTo>
                    <a:pt x="2130" y="1536"/>
                  </a:lnTo>
                  <a:lnTo>
                    <a:pt x="2130" y="1520"/>
                  </a:lnTo>
                  <a:lnTo>
                    <a:pt x="2136" y="1520"/>
                  </a:lnTo>
                  <a:lnTo>
                    <a:pt x="2136" y="1512"/>
                  </a:lnTo>
                  <a:lnTo>
                    <a:pt x="2155" y="1512"/>
                  </a:lnTo>
                  <a:lnTo>
                    <a:pt x="2155" y="1504"/>
                  </a:lnTo>
                  <a:lnTo>
                    <a:pt x="2205" y="1504"/>
                  </a:lnTo>
                  <a:lnTo>
                    <a:pt x="2205" y="1496"/>
                  </a:lnTo>
                  <a:lnTo>
                    <a:pt x="2211" y="1496"/>
                  </a:lnTo>
                  <a:lnTo>
                    <a:pt x="2211" y="1481"/>
                  </a:lnTo>
                  <a:lnTo>
                    <a:pt x="2223" y="1481"/>
                  </a:lnTo>
                  <a:lnTo>
                    <a:pt x="2236" y="1481"/>
                  </a:lnTo>
                  <a:lnTo>
                    <a:pt x="2236" y="1473"/>
                  </a:lnTo>
                  <a:lnTo>
                    <a:pt x="2242" y="1473"/>
                  </a:lnTo>
                  <a:lnTo>
                    <a:pt x="2242" y="1457"/>
                  </a:lnTo>
                  <a:lnTo>
                    <a:pt x="2267" y="1457"/>
                  </a:lnTo>
                  <a:lnTo>
                    <a:pt x="2267" y="1449"/>
                  </a:lnTo>
                  <a:lnTo>
                    <a:pt x="2273" y="1449"/>
                  </a:lnTo>
                  <a:lnTo>
                    <a:pt x="2273" y="1433"/>
                  </a:lnTo>
                  <a:lnTo>
                    <a:pt x="2279" y="1433"/>
                  </a:lnTo>
                  <a:lnTo>
                    <a:pt x="2279" y="1425"/>
                  </a:lnTo>
                  <a:lnTo>
                    <a:pt x="2285" y="1425"/>
                  </a:lnTo>
                  <a:lnTo>
                    <a:pt x="2285" y="1409"/>
                  </a:lnTo>
                  <a:lnTo>
                    <a:pt x="2310" y="1409"/>
                  </a:lnTo>
                  <a:lnTo>
                    <a:pt x="2310" y="1402"/>
                  </a:lnTo>
                  <a:lnTo>
                    <a:pt x="2316" y="1402"/>
                  </a:lnTo>
                  <a:lnTo>
                    <a:pt x="2316" y="1394"/>
                  </a:lnTo>
                  <a:lnTo>
                    <a:pt x="2323" y="1394"/>
                  </a:lnTo>
                  <a:lnTo>
                    <a:pt x="2323" y="1386"/>
                  </a:lnTo>
                  <a:lnTo>
                    <a:pt x="2329" y="1386"/>
                  </a:lnTo>
                  <a:lnTo>
                    <a:pt x="2341" y="1386"/>
                  </a:lnTo>
                  <a:lnTo>
                    <a:pt x="2341" y="1378"/>
                  </a:lnTo>
                  <a:lnTo>
                    <a:pt x="2354" y="1378"/>
                  </a:lnTo>
                  <a:lnTo>
                    <a:pt x="2354" y="1370"/>
                  </a:lnTo>
                  <a:lnTo>
                    <a:pt x="2360" y="1370"/>
                  </a:lnTo>
                  <a:lnTo>
                    <a:pt x="2360" y="1362"/>
                  </a:lnTo>
                  <a:lnTo>
                    <a:pt x="2372" y="1362"/>
                  </a:lnTo>
                  <a:lnTo>
                    <a:pt x="2372" y="1354"/>
                  </a:lnTo>
                  <a:lnTo>
                    <a:pt x="2391" y="1354"/>
                  </a:lnTo>
                  <a:lnTo>
                    <a:pt x="2391" y="1346"/>
                  </a:lnTo>
                  <a:lnTo>
                    <a:pt x="2403" y="1346"/>
                  </a:lnTo>
                  <a:lnTo>
                    <a:pt x="2403" y="1338"/>
                  </a:lnTo>
                  <a:lnTo>
                    <a:pt x="2416" y="1338"/>
                  </a:lnTo>
                  <a:lnTo>
                    <a:pt x="2416" y="1314"/>
                  </a:lnTo>
                  <a:lnTo>
                    <a:pt x="2428" y="1314"/>
                  </a:lnTo>
                  <a:lnTo>
                    <a:pt x="2428" y="1307"/>
                  </a:lnTo>
                  <a:lnTo>
                    <a:pt x="2447" y="1307"/>
                  </a:lnTo>
                  <a:lnTo>
                    <a:pt x="2447" y="1299"/>
                  </a:lnTo>
                  <a:lnTo>
                    <a:pt x="2465" y="1299"/>
                  </a:lnTo>
                  <a:lnTo>
                    <a:pt x="2465" y="1291"/>
                  </a:lnTo>
                  <a:lnTo>
                    <a:pt x="2478" y="1291"/>
                  </a:lnTo>
                  <a:lnTo>
                    <a:pt x="2478" y="1283"/>
                  </a:lnTo>
                  <a:lnTo>
                    <a:pt x="2490" y="1283"/>
                  </a:lnTo>
                  <a:lnTo>
                    <a:pt x="2490" y="1267"/>
                  </a:lnTo>
                  <a:lnTo>
                    <a:pt x="2503" y="1267"/>
                  </a:lnTo>
                  <a:lnTo>
                    <a:pt x="2503" y="1259"/>
                  </a:lnTo>
                  <a:lnTo>
                    <a:pt x="2509" y="1259"/>
                  </a:lnTo>
                  <a:lnTo>
                    <a:pt x="2509" y="1251"/>
                  </a:lnTo>
                  <a:lnTo>
                    <a:pt x="2515" y="1251"/>
                  </a:lnTo>
                  <a:lnTo>
                    <a:pt x="2515" y="1243"/>
                  </a:lnTo>
                  <a:lnTo>
                    <a:pt x="2521" y="1243"/>
                  </a:lnTo>
                  <a:lnTo>
                    <a:pt x="2521" y="1235"/>
                  </a:lnTo>
                  <a:lnTo>
                    <a:pt x="2534" y="1235"/>
                  </a:lnTo>
                  <a:lnTo>
                    <a:pt x="2534" y="1227"/>
                  </a:lnTo>
                  <a:lnTo>
                    <a:pt x="2552" y="1227"/>
                  </a:lnTo>
                  <a:lnTo>
                    <a:pt x="2552" y="1219"/>
                  </a:lnTo>
                  <a:lnTo>
                    <a:pt x="2559" y="1219"/>
                  </a:lnTo>
                  <a:lnTo>
                    <a:pt x="2559" y="1211"/>
                  </a:lnTo>
                  <a:lnTo>
                    <a:pt x="2565" y="1211"/>
                  </a:lnTo>
                  <a:lnTo>
                    <a:pt x="2627" y="1211"/>
                  </a:lnTo>
                  <a:lnTo>
                    <a:pt x="2627" y="1203"/>
                  </a:lnTo>
                  <a:lnTo>
                    <a:pt x="2652" y="1203"/>
                  </a:lnTo>
                  <a:lnTo>
                    <a:pt x="2652" y="1187"/>
                  </a:lnTo>
                  <a:lnTo>
                    <a:pt x="2664" y="1187"/>
                  </a:lnTo>
                  <a:lnTo>
                    <a:pt x="2683" y="1187"/>
                  </a:lnTo>
                  <a:lnTo>
                    <a:pt x="2683" y="1179"/>
                  </a:lnTo>
                  <a:lnTo>
                    <a:pt x="2695" y="1179"/>
                  </a:lnTo>
                  <a:lnTo>
                    <a:pt x="2714" y="1179"/>
                  </a:lnTo>
                  <a:lnTo>
                    <a:pt x="2714" y="1171"/>
                  </a:lnTo>
                  <a:lnTo>
                    <a:pt x="2733" y="1171"/>
                  </a:lnTo>
                  <a:lnTo>
                    <a:pt x="2733" y="1163"/>
                  </a:lnTo>
                  <a:lnTo>
                    <a:pt x="2751" y="1163"/>
                  </a:lnTo>
                  <a:lnTo>
                    <a:pt x="2751" y="1155"/>
                  </a:lnTo>
                  <a:lnTo>
                    <a:pt x="2801" y="1155"/>
                  </a:lnTo>
                  <a:lnTo>
                    <a:pt x="2801" y="1146"/>
                  </a:lnTo>
                  <a:lnTo>
                    <a:pt x="2807" y="1146"/>
                  </a:lnTo>
                  <a:lnTo>
                    <a:pt x="2807" y="1138"/>
                  </a:lnTo>
                  <a:lnTo>
                    <a:pt x="2813" y="1138"/>
                  </a:lnTo>
                  <a:lnTo>
                    <a:pt x="2813" y="1130"/>
                  </a:lnTo>
                  <a:lnTo>
                    <a:pt x="2826" y="1130"/>
                  </a:lnTo>
                  <a:lnTo>
                    <a:pt x="2826" y="1122"/>
                  </a:lnTo>
                  <a:lnTo>
                    <a:pt x="2832" y="1122"/>
                  </a:lnTo>
                  <a:lnTo>
                    <a:pt x="2838" y="1122"/>
                  </a:lnTo>
                  <a:lnTo>
                    <a:pt x="2838" y="1114"/>
                  </a:lnTo>
                  <a:lnTo>
                    <a:pt x="2844" y="1114"/>
                  </a:lnTo>
                  <a:lnTo>
                    <a:pt x="2844" y="1106"/>
                  </a:lnTo>
                  <a:lnTo>
                    <a:pt x="2857" y="1106"/>
                  </a:lnTo>
                  <a:lnTo>
                    <a:pt x="2857" y="1097"/>
                  </a:lnTo>
                  <a:lnTo>
                    <a:pt x="2863" y="1097"/>
                  </a:lnTo>
                  <a:lnTo>
                    <a:pt x="2863" y="1089"/>
                  </a:lnTo>
                  <a:lnTo>
                    <a:pt x="2882" y="1089"/>
                  </a:lnTo>
                  <a:lnTo>
                    <a:pt x="2882" y="1081"/>
                  </a:lnTo>
                  <a:lnTo>
                    <a:pt x="2888" y="1081"/>
                  </a:lnTo>
                  <a:lnTo>
                    <a:pt x="2888" y="1073"/>
                  </a:lnTo>
                  <a:lnTo>
                    <a:pt x="2906" y="1073"/>
                  </a:lnTo>
                  <a:lnTo>
                    <a:pt x="2906" y="1065"/>
                  </a:lnTo>
                  <a:lnTo>
                    <a:pt x="2919" y="1065"/>
                  </a:lnTo>
                  <a:lnTo>
                    <a:pt x="2919" y="1057"/>
                  </a:lnTo>
                  <a:lnTo>
                    <a:pt x="2944" y="1057"/>
                  </a:lnTo>
                  <a:lnTo>
                    <a:pt x="2944" y="1048"/>
                  </a:lnTo>
                  <a:lnTo>
                    <a:pt x="2950" y="1048"/>
                  </a:lnTo>
                  <a:lnTo>
                    <a:pt x="2950" y="1040"/>
                  </a:lnTo>
                  <a:lnTo>
                    <a:pt x="2969" y="1040"/>
                  </a:lnTo>
                  <a:lnTo>
                    <a:pt x="2969" y="1032"/>
                  </a:lnTo>
                  <a:lnTo>
                    <a:pt x="3012" y="1032"/>
                  </a:lnTo>
                  <a:lnTo>
                    <a:pt x="3012" y="1024"/>
                  </a:lnTo>
                  <a:lnTo>
                    <a:pt x="3024" y="1024"/>
                  </a:lnTo>
                  <a:lnTo>
                    <a:pt x="3024" y="1016"/>
                  </a:lnTo>
                  <a:lnTo>
                    <a:pt x="3043" y="1016"/>
                  </a:lnTo>
                  <a:lnTo>
                    <a:pt x="3043" y="1007"/>
                  </a:lnTo>
                  <a:lnTo>
                    <a:pt x="3093" y="1007"/>
                  </a:lnTo>
                  <a:lnTo>
                    <a:pt x="3093" y="999"/>
                  </a:lnTo>
                  <a:lnTo>
                    <a:pt x="3136" y="999"/>
                  </a:lnTo>
                  <a:lnTo>
                    <a:pt x="3136" y="991"/>
                  </a:lnTo>
                  <a:lnTo>
                    <a:pt x="3143" y="991"/>
                  </a:lnTo>
                  <a:lnTo>
                    <a:pt x="3143" y="983"/>
                  </a:lnTo>
                  <a:lnTo>
                    <a:pt x="3149" y="983"/>
                  </a:lnTo>
                  <a:lnTo>
                    <a:pt x="3149" y="975"/>
                  </a:lnTo>
                  <a:lnTo>
                    <a:pt x="3155" y="975"/>
                  </a:lnTo>
                  <a:lnTo>
                    <a:pt x="3155" y="967"/>
                  </a:lnTo>
                  <a:lnTo>
                    <a:pt x="3161" y="967"/>
                  </a:lnTo>
                  <a:lnTo>
                    <a:pt x="3161" y="950"/>
                  </a:lnTo>
                  <a:lnTo>
                    <a:pt x="3186" y="950"/>
                  </a:lnTo>
                  <a:lnTo>
                    <a:pt x="3186" y="942"/>
                  </a:lnTo>
                  <a:lnTo>
                    <a:pt x="3192" y="942"/>
                  </a:lnTo>
                  <a:lnTo>
                    <a:pt x="3192" y="934"/>
                  </a:lnTo>
                  <a:lnTo>
                    <a:pt x="3205" y="934"/>
                  </a:lnTo>
                  <a:lnTo>
                    <a:pt x="3205" y="926"/>
                  </a:lnTo>
                  <a:lnTo>
                    <a:pt x="3211" y="926"/>
                  </a:lnTo>
                  <a:lnTo>
                    <a:pt x="3211" y="917"/>
                  </a:lnTo>
                  <a:lnTo>
                    <a:pt x="3261" y="917"/>
                  </a:lnTo>
                  <a:lnTo>
                    <a:pt x="3261" y="909"/>
                  </a:lnTo>
                  <a:lnTo>
                    <a:pt x="3273" y="909"/>
                  </a:lnTo>
                  <a:lnTo>
                    <a:pt x="3273" y="893"/>
                  </a:lnTo>
                  <a:lnTo>
                    <a:pt x="3335" y="893"/>
                  </a:lnTo>
                  <a:lnTo>
                    <a:pt x="3335" y="877"/>
                  </a:lnTo>
                  <a:lnTo>
                    <a:pt x="3354" y="877"/>
                  </a:lnTo>
                  <a:lnTo>
                    <a:pt x="3354" y="860"/>
                  </a:lnTo>
                  <a:lnTo>
                    <a:pt x="3385" y="860"/>
                  </a:lnTo>
                  <a:lnTo>
                    <a:pt x="3385" y="852"/>
                  </a:lnTo>
                  <a:lnTo>
                    <a:pt x="3403" y="852"/>
                  </a:lnTo>
                  <a:lnTo>
                    <a:pt x="3422" y="852"/>
                  </a:lnTo>
                  <a:lnTo>
                    <a:pt x="3441" y="852"/>
                  </a:lnTo>
                  <a:lnTo>
                    <a:pt x="3447" y="852"/>
                  </a:lnTo>
                  <a:lnTo>
                    <a:pt x="3453" y="852"/>
                  </a:lnTo>
                  <a:lnTo>
                    <a:pt x="3453" y="844"/>
                  </a:lnTo>
                  <a:lnTo>
                    <a:pt x="3472" y="844"/>
                  </a:lnTo>
                  <a:lnTo>
                    <a:pt x="3472" y="835"/>
                  </a:lnTo>
                  <a:lnTo>
                    <a:pt x="3484" y="835"/>
                  </a:lnTo>
                  <a:lnTo>
                    <a:pt x="3509" y="835"/>
                  </a:lnTo>
                  <a:lnTo>
                    <a:pt x="3540" y="835"/>
                  </a:lnTo>
                  <a:lnTo>
                    <a:pt x="3552" y="835"/>
                  </a:lnTo>
                  <a:lnTo>
                    <a:pt x="3552" y="826"/>
                  </a:lnTo>
                  <a:lnTo>
                    <a:pt x="3565" y="826"/>
                  </a:lnTo>
                  <a:lnTo>
                    <a:pt x="3565" y="818"/>
                  </a:lnTo>
                  <a:lnTo>
                    <a:pt x="3571" y="818"/>
                  </a:lnTo>
                  <a:lnTo>
                    <a:pt x="3584" y="818"/>
                  </a:lnTo>
                  <a:lnTo>
                    <a:pt x="3584" y="809"/>
                  </a:lnTo>
                  <a:lnTo>
                    <a:pt x="3596" y="809"/>
                  </a:lnTo>
                  <a:lnTo>
                    <a:pt x="3608" y="809"/>
                  </a:lnTo>
                  <a:lnTo>
                    <a:pt x="3621" y="809"/>
                  </a:lnTo>
                  <a:lnTo>
                    <a:pt x="3621" y="800"/>
                  </a:lnTo>
                  <a:lnTo>
                    <a:pt x="3627" y="800"/>
                  </a:lnTo>
                  <a:lnTo>
                    <a:pt x="3627" y="791"/>
                  </a:lnTo>
                  <a:lnTo>
                    <a:pt x="3639" y="791"/>
                  </a:lnTo>
                  <a:lnTo>
                    <a:pt x="3652" y="791"/>
                  </a:lnTo>
                  <a:lnTo>
                    <a:pt x="3652" y="782"/>
                  </a:lnTo>
                  <a:lnTo>
                    <a:pt x="3664" y="782"/>
                  </a:lnTo>
                  <a:lnTo>
                    <a:pt x="3670" y="782"/>
                  </a:lnTo>
                  <a:lnTo>
                    <a:pt x="3670" y="773"/>
                  </a:lnTo>
                  <a:lnTo>
                    <a:pt x="3702" y="773"/>
                  </a:lnTo>
                  <a:lnTo>
                    <a:pt x="3702" y="764"/>
                  </a:lnTo>
                  <a:lnTo>
                    <a:pt x="3720" y="764"/>
                  </a:lnTo>
                  <a:lnTo>
                    <a:pt x="3720" y="755"/>
                  </a:lnTo>
                  <a:lnTo>
                    <a:pt x="3733" y="755"/>
                  </a:lnTo>
                  <a:lnTo>
                    <a:pt x="3733" y="746"/>
                  </a:lnTo>
                  <a:lnTo>
                    <a:pt x="3739" y="746"/>
                  </a:lnTo>
                  <a:lnTo>
                    <a:pt x="3745" y="746"/>
                  </a:lnTo>
                  <a:lnTo>
                    <a:pt x="3757" y="746"/>
                  </a:lnTo>
                  <a:lnTo>
                    <a:pt x="3776" y="746"/>
                  </a:lnTo>
                  <a:lnTo>
                    <a:pt x="3776" y="736"/>
                  </a:lnTo>
                  <a:lnTo>
                    <a:pt x="3788" y="736"/>
                  </a:lnTo>
                  <a:lnTo>
                    <a:pt x="3795" y="736"/>
                  </a:lnTo>
                  <a:lnTo>
                    <a:pt x="3795" y="727"/>
                  </a:lnTo>
                  <a:lnTo>
                    <a:pt x="3813" y="727"/>
                  </a:lnTo>
                  <a:lnTo>
                    <a:pt x="3813" y="717"/>
                  </a:lnTo>
                  <a:lnTo>
                    <a:pt x="3820" y="717"/>
                  </a:lnTo>
                  <a:lnTo>
                    <a:pt x="3826" y="717"/>
                  </a:lnTo>
                  <a:lnTo>
                    <a:pt x="3826" y="698"/>
                  </a:lnTo>
                  <a:lnTo>
                    <a:pt x="3844" y="698"/>
                  </a:lnTo>
                  <a:lnTo>
                    <a:pt x="3869" y="698"/>
                  </a:lnTo>
                  <a:lnTo>
                    <a:pt x="3869" y="688"/>
                  </a:lnTo>
                  <a:lnTo>
                    <a:pt x="3875" y="688"/>
                  </a:lnTo>
                  <a:lnTo>
                    <a:pt x="3875" y="678"/>
                  </a:lnTo>
                  <a:lnTo>
                    <a:pt x="3900" y="678"/>
                  </a:lnTo>
                  <a:lnTo>
                    <a:pt x="3925" y="678"/>
                  </a:lnTo>
                  <a:lnTo>
                    <a:pt x="3944" y="678"/>
                  </a:lnTo>
                  <a:lnTo>
                    <a:pt x="3956" y="678"/>
                  </a:lnTo>
                  <a:lnTo>
                    <a:pt x="3956" y="668"/>
                  </a:lnTo>
                  <a:lnTo>
                    <a:pt x="3969" y="668"/>
                  </a:lnTo>
                  <a:lnTo>
                    <a:pt x="3969" y="647"/>
                  </a:lnTo>
                  <a:lnTo>
                    <a:pt x="3975" y="647"/>
                  </a:lnTo>
                  <a:lnTo>
                    <a:pt x="3975" y="637"/>
                  </a:lnTo>
                  <a:lnTo>
                    <a:pt x="3981" y="637"/>
                  </a:lnTo>
                  <a:lnTo>
                    <a:pt x="3981" y="626"/>
                  </a:lnTo>
                  <a:lnTo>
                    <a:pt x="3987" y="626"/>
                  </a:lnTo>
                  <a:lnTo>
                    <a:pt x="3987" y="616"/>
                  </a:lnTo>
                  <a:lnTo>
                    <a:pt x="4006" y="616"/>
                  </a:lnTo>
                  <a:lnTo>
                    <a:pt x="4025" y="616"/>
                  </a:lnTo>
                  <a:lnTo>
                    <a:pt x="4080" y="616"/>
                  </a:lnTo>
                  <a:lnTo>
                    <a:pt x="4080" y="606"/>
                  </a:lnTo>
                  <a:lnTo>
                    <a:pt x="4087" y="606"/>
                  </a:lnTo>
                  <a:lnTo>
                    <a:pt x="4105" y="606"/>
                  </a:lnTo>
                  <a:lnTo>
                    <a:pt x="4111" y="606"/>
                  </a:lnTo>
                  <a:lnTo>
                    <a:pt x="4130" y="606"/>
                  </a:lnTo>
                  <a:lnTo>
                    <a:pt x="4136" y="606"/>
                  </a:lnTo>
                  <a:lnTo>
                    <a:pt x="4143" y="606"/>
                  </a:lnTo>
                  <a:lnTo>
                    <a:pt x="4143" y="595"/>
                  </a:lnTo>
                  <a:lnTo>
                    <a:pt x="4155" y="595"/>
                  </a:lnTo>
                  <a:lnTo>
                    <a:pt x="4161" y="595"/>
                  </a:lnTo>
                  <a:lnTo>
                    <a:pt x="4161" y="583"/>
                  </a:lnTo>
                  <a:lnTo>
                    <a:pt x="4174" y="583"/>
                  </a:lnTo>
                  <a:lnTo>
                    <a:pt x="4174" y="572"/>
                  </a:lnTo>
                  <a:lnTo>
                    <a:pt x="4180" y="572"/>
                  </a:lnTo>
                  <a:lnTo>
                    <a:pt x="4192" y="572"/>
                  </a:lnTo>
                  <a:lnTo>
                    <a:pt x="4198" y="572"/>
                  </a:lnTo>
                  <a:lnTo>
                    <a:pt x="4198" y="560"/>
                  </a:lnTo>
                  <a:lnTo>
                    <a:pt x="4217" y="560"/>
                  </a:lnTo>
                  <a:lnTo>
                    <a:pt x="4217" y="549"/>
                  </a:lnTo>
                  <a:lnTo>
                    <a:pt x="4230" y="549"/>
                  </a:lnTo>
                  <a:lnTo>
                    <a:pt x="4230" y="537"/>
                  </a:lnTo>
                  <a:lnTo>
                    <a:pt x="4236" y="537"/>
                  </a:lnTo>
                  <a:lnTo>
                    <a:pt x="4236" y="525"/>
                  </a:lnTo>
                  <a:lnTo>
                    <a:pt x="4242" y="525"/>
                  </a:lnTo>
                  <a:lnTo>
                    <a:pt x="4242" y="514"/>
                  </a:lnTo>
                  <a:lnTo>
                    <a:pt x="4292" y="514"/>
                  </a:lnTo>
                  <a:lnTo>
                    <a:pt x="4316" y="514"/>
                  </a:lnTo>
                  <a:lnTo>
                    <a:pt x="4335" y="514"/>
                  </a:lnTo>
                  <a:lnTo>
                    <a:pt x="4335" y="502"/>
                  </a:lnTo>
                  <a:lnTo>
                    <a:pt x="4341" y="502"/>
                  </a:lnTo>
                  <a:lnTo>
                    <a:pt x="4341" y="490"/>
                  </a:lnTo>
                  <a:lnTo>
                    <a:pt x="4354" y="490"/>
                  </a:lnTo>
                  <a:lnTo>
                    <a:pt x="4391" y="490"/>
                  </a:lnTo>
                  <a:lnTo>
                    <a:pt x="4391" y="478"/>
                  </a:lnTo>
                  <a:lnTo>
                    <a:pt x="4416" y="478"/>
                  </a:lnTo>
                  <a:lnTo>
                    <a:pt x="4546" y="478"/>
                  </a:lnTo>
                  <a:lnTo>
                    <a:pt x="4546" y="465"/>
                  </a:lnTo>
                  <a:lnTo>
                    <a:pt x="4553" y="465"/>
                  </a:lnTo>
                  <a:lnTo>
                    <a:pt x="4577" y="465"/>
                  </a:lnTo>
                  <a:lnTo>
                    <a:pt x="4602" y="465"/>
                  </a:lnTo>
                  <a:lnTo>
                    <a:pt x="4621" y="465"/>
                  </a:lnTo>
                  <a:lnTo>
                    <a:pt x="4646" y="465"/>
                  </a:lnTo>
                  <a:lnTo>
                    <a:pt x="4652" y="465"/>
                  </a:lnTo>
                  <a:lnTo>
                    <a:pt x="4658" y="465"/>
                  </a:lnTo>
                  <a:lnTo>
                    <a:pt x="4658" y="452"/>
                  </a:lnTo>
                  <a:lnTo>
                    <a:pt x="4677" y="452"/>
                  </a:lnTo>
                  <a:lnTo>
                    <a:pt x="4689" y="452"/>
                  </a:lnTo>
                  <a:lnTo>
                    <a:pt x="4689" y="438"/>
                  </a:lnTo>
                  <a:lnTo>
                    <a:pt x="4695" y="438"/>
                  </a:lnTo>
                  <a:lnTo>
                    <a:pt x="4695" y="424"/>
                  </a:lnTo>
                  <a:lnTo>
                    <a:pt x="4726" y="424"/>
                  </a:lnTo>
                  <a:lnTo>
                    <a:pt x="4739" y="424"/>
                  </a:lnTo>
                  <a:lnTo>
                    <a:pt x="4751" y="424"/>
                  </a:lnTo>
                  <a:lnTo>
                    <a:pt x="4757" y="424"/>
                  </a:lnTo>
                  <a:lnTo>
                    <a:pt x="4764" y="424"/>
                  </a:lnTo>
                  <a:lnTo>
                    <a:pt x="4764" y="408"/>
                  </a:lnTo>
                  <a:lnTo>
                    <a:pt x="4776" y="408"/>
                  </a:lnTo>
                  <a:lnTo>
                    <a:pt x="4801" y="408"/>
                  </a:lnTo>
                  <a:lnTo>
                    <a:pt x="4838" y="408"/>
                  </a:lnTo>
                  <a:lnTo>
                    <a:pt x="4851" y="408"/>
                  </a:lnTo>
                  <a:lnTo>
                    <a:pt x="4851" y="392"/>
                  </a:lnTo>
                  <a:lnTo>
                    <a:pt x="4882" y="392"/>
                  </a:lnTo>
                  <a:lnTo>
                    <a:pt x="4900" y="392"/>
                  </a:lnTo>
                  <a:lnTo>
                    <a:pt x="4913" y="392"/>
                  </a:lnTo>
                  <a:lnTo>
                    <a:pt x="4925" y="392"/>
                  </a:lnTo>
                  <a:lnTo>
                    <a:pt x="4931" y="392"/>
                  </a:lnTo>
                  <a:lnTo>
                    <a:pt x="4956" y="392"/>
                  </a:lnTo>
                  <a:lnTo>
                    <a:pt x="4956" y="354"/>
                  </a:lnTo>
                  <a:lnTo>
                    <a:pt x="4962" y="354"/>
                  </a:lnTo>
                  <a:lnTo>
                    <a:pt x="4962" y="336"/>
                  </a:lnTo>
                  <a:lnTo>
                    <a:pt x="5062" y="336"/>
                  </a:lnTo>
                  <a:lnTo>
                    <a:pt x="5062" y="317"/>
                  </a:lnTo>
                  <a:lnTo>
                    <a:pt x="5093" y="317"/>
                  </a:lnTo>
                  <a:lnTo>
                    <a:pt x="5143" y="317"/>
                  </a:lnTo>
                  <a:lnTo>
                    <a:pt x="5174" y="317"/>
                  </a:lnTo>
                  <a:lnTo>
                    <a:pt x="5242" y="317"/>
                  </a:lnTo>
                  <a:lnTo>
                    <a:pt x="5273" y="317"/>
                  </a:lnTo>
                  <a:lnTo>
                    <a:pt x="5317" y="317"/>
                  </a:lnTo>
                  <a:lnTo>
                    <a:pt x="5335" y="317"/>
                  </a:lnTo>
                  <a:lnTo>
                    <a:pt x="5435" y="317"/>
                  </a:lnTo>
                  <a:lnTo>
                    <a:pt x="5435" y="294"/>
                  </a:lnTo>
                  <a:lnTo>
                    <a:pt x="5490" y="294"/>
                  </a:lnTo>
                  <a:lnTo>
                    <a:pt x="5503" y="294"/>
                  </a:lnTo>
                  <a:lnTo>
                    <a:pt x="5509" y="294"/>
                  </a:lnTo>
                  <a:lnTo>
                    <a:pt x="5534" y="294"/>
                  </a:lnTo>
                  <a:lnTo>
                    <a:pt x="5540" y="294"/>
                  </a:lnTo>
                  <a:lnTo>
                    <a:pt x="5584" y="294"/>
                  </a:lnTo>
                  <a:lnTo>
                    <a:pt x="5584" y="264"/>
                  </a:lnTo>
                  <a:lnTo>
                    <a:pt x="5627" y="264"/>
                  </a:lnTo>
                  <a:lnTo>
                    <a:pt x="5671" y="264"/>
                  </a:lnTo>
                  <a:lnTo>
                    <a:pt x="5671" y="233"/>
                  </a:lnTo>
                  <a:lnTo>
                    <a:pt x="5714" y="233"/>
                  </a:lnTo>
                  <a:lnTo>
                    <a:pt x="5714" y="202"/>
                  </a:lnTo>
                  <a:lnTo>
                    <a:pt x="5745" y="202"/>
                  </a:lnTo>
                  <a:lnTo>
                    <a:pt x="5776" y="202"/>
                  </a:lnTo>
                  <a:lnTo>
                    <a:pt x="5782" y="202"/>
                  </a:lnTo>
                  <a:lnTo>
                    <a:pt x="5826" y="202"/>
                  </a:lnTo>
                  <a:lnTo>
                    <a:pt x="5826" y="164"/>
                  </a:lnTo>
                  <a:lnTo>
                    <a:pt x="5863" y="164"/>
                  </a:lnTo>
                  <a:lnTo>
                    <a:pt x="5969" y="164"/>
                  </a:lnTo>
                  <a:lnTo>
                    <a:pt x="5994" y="164"/>
                  </a:lnTo>
                  <a:lnTo>
                    <a:pt x="6012" y="164"/>
                  </a:lnTo>
                  <a:lnTo>
                    <a:pt x="6049" y="164"/>
                  </a:lnTo>
                  <a:lnTo>
                    <a:pt x="6136" y="164"/>
                  </a:lnTo>
                  <a:lnTo>
                    <a:pt x="6391" y="164"/>
                  </a:lnTo>
                  <a:lnTo>
                    <a:pt x="6466" y="164"/>
                  </a:lnTo>
                  <a:lnTo>
                    <a:pt x="6466" y="90"/>
                  </a:lnTo>
                  <a:lnTo>
                    <a:pt x="6490" y="90"/>
                  </a:lnTo>
                  <a:lnTo>
                    <a:pt x="6559" y="90"/>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5" name="Freeform 192"/>
            <p:cNvSpPr/>
            <p:nvPr/>
          </p:nvSpPr>
          <p:spPr>
            <a:xfrm flipV="1">
              <a:off x="831960" y="1849680"/>
              <a:ext cx="7202520" cy="3148200"/>
            </a:xfrm>
            <a:custGeom>
              <a:avLst/>
              <a:gdLst/>
              <a:ahLst/>
              <a:rect l="l" t="t" r="r" b="b"/>
              <a:pathLst>
                <a:path w="6702" h="3025">
                  <a:moveTo>
                    <a:pt x="0" y="3025"/>
                  </a:moveTo>
                  <a:lnTo>
                    <a:pt x="6" y="3025"/>
                  </a:lnTo>
                  <a:lnTo>
                    <a:pt x="12" y="3025"/>
                  </a:lnTo>
                  <a:lnTo>
                    <a:pt x="18" y="3025"/>
                  </a:lnTo>
                  <a:lnTo>
                    <a:pt x="55" y="3025"/>
                  </a:lnTo>
                  <a:lnTo>
                    <a:pt x="62" y="3025"/>
                  </a:lnTo>
                  <a:lnTo>
                    <a:pt x="62" y="3018"/>
                  </a:lnTo>
                  <a:lnTo>
                    <a:pt x="68" y="3018"/>
                  </a:lnTo>
                  <a:lnTo>
                    <a:pt x="68" y="3003"/>
                  </a:lnTo>
                  <a:lnTo>
                    <a:pt x="86" y="3003"/>
                  </a:lnTo>
                  <a:lnTo>
                    <a:pt x="86" y="2996"/>
                  </a:lnTo>
                  <a:lnTo>
                    <a:pt x="99" y="2996"/>
                  </a:lnTo>
                  <a:lnTo>
                    <a:pt x="99" y="2988"/>
                  </a:lnTo>
                  <a:lnTo>
                    <a:pt x="105" y="2988"/>
                  </a:lnTo>
                  <a:lnTo>
                    <a:pt x="105" y="2981"/>
                  </a:lnTo>
                  <a:lnTo>
                    <a:pt x="111" y="2981"/>
                  </a:lnTo>
                  <a:lnTo>
                    <a:pt x="111" y="2966"/>
                  </a:lnTo>
                  <a:lnTo>
                    <a:pt x="118" y="2966"/>
                  </a:lnTo>
                  <a:lnTo>
                    <a:pt x="124" y="2966"/>
                  </a:lnTo>
                  <a:lnTo>
                    <a:pt x="124" y="2951"/>
                  </a:lnTo>
                  <a:lnTo>
                    <a:pt x="130" y="2951"/>
                  </a:lnTo>
                  <a:lnTo>
                    <a:pt x="136" y="2951"/>
                  </a:lnTo>
                  <a:lnTo>
                    <a:pt x="136" y="2944"/>
                  </a:lnTo>
                  <a:lnTo>
                    <a:pt x="142" y="2944"/>
                  </a:lnTo>
                  <a:lnTo>
                    <a:pt x="149" y="2944"/>
                  </a:lnTo>
                  <a:lnTo>
                    <a:pt x="149" y="2936"/>
                  </a:lnTo>
                  <a:lnTo>
                    <a:pt x="155" y="2936"/>
                  </a:lnTo>
                  <a:lnTo>
                    <a:pt x="155" y="2921"/>
                  </a:lnTo>
                  <a:lnTo>
                    <a:pt x="167" y="2921"/>
                  </a:lnTo>
                  <a:lnTo>
                    <a:pt x="180" y="2921"/>
                  </a:lnTo>
                  <a:lnTo>
                    <a:pt x="180" y="2914"/>
                  </a:lnTo>
                  <a:lnTo>
                    <a:pt x="204" y="2914"/>
                  </a:lnTo>
                  <a:lnTo>
                    <a:pt x="204" y="2898"/>
                  </a:lnTo>
                  <a:lnTo>
                    <a:pt x="211" y="2898"/>
                  </a:lnTo>
                  <a:lnTo>
                    <a:pt x="211" y="2891"/>
                  </a:lnTo>
                  <a:lnTo>
                    <a:pt x="217" y="2891"/>
                  </a:lnTo>
                  <a:lnTo>
                    <a:pt x="217" y="2883"/>
                  </a:lnTo>
                  <a:lnTo>
                    <a:pt x="242" y="2883"/>
                  </a:lnTo>
                  <a:lnTo>
                    <a:pt x="242" y="2876"/>
                  </a:lnTo>
                  <a:lnTo>
                    <a:pt x="310" y="2876"/>
                  </a:lnTo>
                  <a:lnTo>
                    <a:pt x="310" y="2868"/>
                  </a:lnTo>
                  <a:lnTo>
                    <a:pt x="322" y="2868"/>
                  </a:lnTo>
                  <a:lnTo>
                    <a:pt x="322" y="2861"/>
                  </a:lnTo>
                  <a:lnTo>
                    <a:pt x="341" y="2861"/>
                  </a:lnTo>
                  <a:lnTo>
                    <a:pt x="341" y="2853"/>
                  </a:lnTo>
                  <a:lnTo>
                    <a:pt x="354" y="2853"/>
                  </a:lnTo>
                  <a:lnTo>
                    <a:pt x="354" y="2823"/>
                  </a:lnTo>
                  <a:lnTo>
                    <a:pt x="385" y="2823"/>
                  </a:lnTo>
                  <a:lnTo>
                    <a:pt x="385" y="2815"/>
                  </a:lnTo>
                  <a:lnTo>
                    <a:pt x="416" y="2815"/>
                  </a:lnTo>
                  <a:lnTo>
                    <a:pt x="416" y="2808"/>
                  </a:lnTo>
                  <a:lnTo>
                    <a:pt x="428" y="2808"/>
                  </a:lnTo>
                  <a:lnTo>
                    <a:pt x="428" y="2800"/>
                  </a:lnTo>
                  <a:lnTo>
                    <a:pt x="441" y="2800"/>
                  </a:lnTo>
                  <a:lnTo>
                    <a:pt x="441" y="2785"/>
                  </a:lnTo>
                  <a:lnTo>
                    <a:pt x="465" y="2785"/>
                  </a:lnTo>
                  <a:lnTo>
                    <a:pt x="465" y="2777"/>
                  </a:lnTo>
                  <a:lnTo>
                    <a:pt x="521" y="2777"/>
                  </a:lnTo>
                  <a:lnTo>
                    <a:pt x="521" y="2770"/>
                  </a:lnTo>
                  <a:lnTo>
                    <a:pt x="540" y="2770"/>
                  </a:lnTo>
                  <a:lnTo>
                    <a:pt x="540" y="2755"/>
                  </a:lnTo>
                  <a:lnTo>
                    <a:pt x="552" y="2755"/>
                  </a:lnTo>
                  <a:lnTo>
                    <a:pt x="552" y="2732"/>
                  </a:lnTo>
                  <a:lnTo>
                    <a:pt x="565" y="2732"/>
                  </a:lnTo>
                  <a:lnTo>
                    <a:pt x="565" y="2724"/>
                  </a:lnTo>
                  <a:lnTo>
                    <a:pt x="571" y="2724"/>
                  </a:lnTo>
                  <a:lnTo>
                    <a:pt x="571" y="2702"/>
                  </a:lnTo>
                  <a:lnTo>
                    <a:pt x="577" y="2702"/>
                  </a:lnTo>
                  <a:lnTo>
                    <a:pt x="577" y="2694"/>
                  </a:lnTo>
                  <a:lnTo>
                    <a:pt x="596" y="2694"/>
                  </a:lnTo>
                  <a:lnTo>
                    <a:pt x="596" y="2687"/>
                  </a:lnTo>
                  <a:lnTo>
                    <a:pt x="602" y="2687"/>
                  </a:lnTo>
                  <a:lnTo>
                    <a:pt x="602" y="2672"/>
                  </a:lnTo>
                  <a:lnTo>
                    <a:pt x="608" y="2672"/>
                  </a:lnTo>
                  <a:lnTo>
                    <a:pt x="608" y="2664"/>
                  </a:lnTo>
                  <a:lnTo>
                    <a:pt x="614" y="2664"/>
                  </a:lnTo>
                  <a:lnTo>
                    <a:pt x="627" y="2664"/>
                  </a:lnTo>
                  <a:lnTo>
                    <a:pt x="627" y="2656"/>
                  </a:lnTo>
                  <a:lnTo>
                    <a:pt x="633" y="2656"/>
                  </a:lnTo>
                  <a:lnTo>
                    <a:pt x="633" y="2641"/>
                  </a:lnTo>
                  <a:lnTo>
                    <a:pt x="639" y="2641"/>
                  </a:lnTo>
                  <a:lnTo>
                    <a:pt x="639" y="2634"/>
                  </a:lnTo>
                  <a:lnTo>
                    <a:pt x="652" y="2634"/>
                  </a:lnTo>
                  <a:lnTo>
                    <a:pt x="652" y="2626"/>
                  </a:lnTo>
                  <a:lnTo>
                    <a:pt x="664" y="2626"/>
                  </a:lnTo>
                  <a:lnTo>
                    <a:pt x="664" y="2611"/>
                  </a:lnTo>
                  <a:lnTo>
                    <a:pt x="689" y="2611"/>
                  </a:lnTo>
                  <a:lnTo>
                    <a:pt x="689" y="2603"/>
                  </a:lnTo>
                  <a:lnTo>
                    <a:pt x="708" y="2603"/>
                  </a:lnTo>
                  <a:lnTo>
                    <a:pt x="708" y="2596"/>
                  </a:lnTo>
                  <a:lnTo>
                    <a:pt x="714" y="2596"/>
                  </a:lnTo>
                  <a:lnTo>
                    <a:pt x="714" y="2588"/>
                  </a:lnTo>
                  <a:lnTo>
                    <a:pt x="720" y="2588"/>
                  </a:lnTo>
                  <a:lnTo>
                    <a:pt x="720" y="2573"/>
                  </a:lnTo>
                  <a:lnTo>
                    <a:pt x="739" y="2573"/>
                  </a:lnTo>
                  <a:lnTo>
                    <a:pt x="739" y="2565"/>
                  </a:lnTo>
                  <a:lnTo>
                    <a:pt x="757" y="2565"/>
                  </a:lnTo>
                  <a:lnTo>
                    <a:pt x="757" y="2542"/>
                  </a:lnTo>
                  <a:lnTo>
                    <a:pt x="776" y="2542"/>
                  </a:lnTo>
                  <a:lnTo>
                    <a:pt x="776" y="2527"/>
                  </a:lnTo>
                  <a:lnTo>
                    <a:pt x="788" y="2527"/>
                  </a:lnTo>
                  <a:lnTo>
                    <a:pt x="788" y="2519"/>
                  </a:lnTo>
                  <a:lnTo>
                    <a:pt x="795" y="2519"/>
                  </a:lnTo>
                  <a:lnTo>
                    <a:pt x="795" y="2504"/>
                  </a:lnTo>
                  <a:lnTo>
                    <a:pt x="801" y="2504"/>
                  </a:lnTo>
                  <a:lnTo>
                    <a:pt x="813" y="2504"/>
                  </a:lnTo>
                  <a:lnTo>
                    <a:pt x="813" y="2489"/>
                  </a:lnTo>
                  <a:lnTo>
                    <a:pt x="826" y="2489"/>
                  </a:lnTo>
                  <a:lnTo>
                    <a:pt x="826" y="2481"/>
                  </a:lnTo>
                  <a:lnTo>
                    <a:pt x="850" y="2481"/>
                  </a:lnTo>
                  <a:lnTo>
                    <a:pt x="850" y="2473"/>
                  </a:lnTo>
                  <a:lnTo>
                    <a:pt x="875" y="2473"/>
                  </a:lnTo>
                  <a:lnTo>
                    <a:pt x="875" y="2466"/>
                  </a:lnTo>
                  <a:lnTo>
                    <a:pt x="882" y="2466"/>
                  </a:lnTo>
                  <a:lnTo>
                    <a:pt x="882" y="2458"/>
                  </a:lnTo>
                  <a:lnTo>
                    <a:pt x="888" y="2458"/>
                  </a:lnTo>
                  <a:lnTo>
                    <a:pt x="888" y="2450"/>
                  </a:lnTo>
                  <a:lnTo>
                    <a:pt x="894" y="2450"/>
                  </a:lnTo>
                  <a:lnTo>
                    <a:pt x="894" y="2443"/>
                  </a:lnTo>
                  <a:lnTo>
                    <a:pt x="900" y="2443"/>
                  </a:lnTo>
                  <a:lnTo>
                    <a:pt x="900" y="2435"/>
                  </a:lnTo>
                  <a:lnTo>
                    <a:pt x="913" y="2435"/>
                  </a:lnTo>
                  <a:lnTo>
                    <a:pt x="913" y="2427"/>
                  </a:lnTo>
                  <a:lnTo>
                    <a:pt x="937" y="2427"/>
                  </a:lnTo>
                  <a:lnTo>
                    <a:pt x="937" y="2420"/>
                  </a:lnTo>
                  <a:lnTo>
                    <a:pt x="956" y="2420"/>
                  </a:lnTo>
                  <a:lnTo>
                    <a:pt x="956" y="2412"/>
                  </a:lnTo>
                  <a:lnTo>
                    <a:pt x="962" y="2412"/>
                  </a:lnTo>
                  <a:lnTo>
                    <a:pt x="968" y="2412"/>
                  </a:lnTo>
                  <a:lnTo>
                    <a:pt x="968" y="2404"/>
                  </a:lnTo>
                  <a:lnTo>
                    <a:pt x="981" y="2404"/>
                  </a:lnTo>
                  <a:lnTo>
                    <a:pt x="1000" y="2404"/>
                  </a:lnTo>
                  <a:lnTo>
                    <a:pt x="1000" y="2389"/>
                  </a:lnTo>
                  <a:lnTo>
                    <a:pt x="1024" y="2389"/>
                  </a:lnTo>
                  <a:lnTo>
                    <a:pt x="1024" y="2381"/>
                  </a:lnTo>
                  <a:lnTo>
                    <a:pt x="1037" y="2381"/>
                  </a:lnTo>
                  <a:lnTo>
                    <a:pt x="1037" y="2366"/>
                  </a:lnTo>
                  <a:lnTo>
                    <a:pt x="1049" y="2366"/>
                  </a:lnTo>
                  <a:lnTo>
                    <a:pt x="1049" y="2350"/>
                  </a:lnTo>
                  <a:lnTo>
                    <a:pt x="1055" y="2350"/>
                  </a:lnTo>
                  <a:lnTo>
                    <a:pt x="1068" y="2350"/>
                  </a:lnTo>
                  <a:lnTo>
                    <a:pt x="1074" y="2350"/>
                  </a:lnTo>
                  <a:lnTo>
                    <a:pt x="1074" y="2343"/>
                  </a:lnTo>
                  <a:lnTo>
                    <a:pt x="1087" y="2343"/>
                  </a:lnTo>
                  <a:lnTo>
                    <a:pt x="1087" y="2335"/>
                  </a:lnTo>
                  <a:lnTo>
                    <a:pt x="1105" y="2335"/>
                  </a:lnTo>
                  <a:lnTo>
                    <a:pt x="1105" y="2320"/>
                  </a:lnTo>
                  <a:lnTo>
                    <a:pt x="1111" y="2320"/>
                  </a:lnTo>
                  <a:lnTo>
                    <a:pt x="1111" y="2312"/>
                  </a:lnTo>
                  <a:lnTo>
                    <a:pt x="1118" y="2312"/>
                  </a:lnTo>
                  <a:lnTo>
                    <a:pt x="1118" y="2304"/>
                  </a:lnTo>
                  <a:lnTo>
                    <a:pt x="1136" y="2304"/>
                  </a:lnTo>
                  <a:lnTo>
                    <a:pt x="1136" y="2296"/>
                  </a:lnTo>
                  <a:lnTo>
                    <a:pt x="1142" y="2296"/>
                  </a:lnTo>
                  <a:lnTo>
                    <a:pt x="1142" y="2289"/>
                  </a:lnTo>
                  <a:lnTo>
                    <a:pt x="1149" y="2289"/>
                  </a:lnTo>
                  <a:lnTo>
                    <a:pt x="1149" y="2281"/>
                  </a:lnTo>
                  <a:lnTo>
                    <a:pt x="1155" y="2281"/>
                  </a:lnTo>
                  <a:lnTo>
                    <a:pt x="1155" y="2273"/>
                  </a:lnTo>
                  <a:lnTo>
                    <a:pt x="1161" y="2273"/>
                  </a:lnTo>
                  <a:lnTo>
                    <a:pt x="1161" y="2265"/>
                  </a:lnTo>
                  <a:lnTo>
                    <a:pt x="1167" y="2265"/>
                  </a:lnTo>
                  <a:lnTo>
                    <a:pt x="1167" y="2250"/>
                  </a:lnTo>
                  <a:lnTo>
                    <a:pt x="1173" y="2250"/>
                  </a:lnTo>
                  <a:lnTo>
                    <a:pt x="1173" y="2227"/>
                  </a:lnTo>
                  <a:lnTo>
                    <a:pt x="1186" y="2227"/>
                  </a:lnTo>
                  <a:lnTo>
                    <a:pt x="1186" y="2219"/>
                  </a:lnTo>
                  <a:lnTo>
                    <a:pt x="1205" y="2219"/>
                  </a:lnTo>
                  <a:lnTo>
                    <a:pt x="1205" y="2211"/>
                  </a:lnTo>
                  <a:lnTo>
                    <a:pt x="1229" y="2211"/>
                  </a:lnTo>
                  <a:lnTo>
                    <a:pt x="1242" y="2211"/>
                  </a:lnTo>
                  <a:lnTo>
                    <a:pt x="1242" y="2196"/>
                  </a:lnTo>
                  <a:lnTo>
                    <a:pt x="1248" y="2196"/>
                  </a:lnTo>
                  <a:lnTo>
                    <a:pt x="1248" y="2188"/>
                  </a:lnTo>
                  <a:lnTo>
                    <a:pt x="1260" y="2188"/>
                  </a:lnTo>
                  <a:lnTo>
                    <a:pt x="1260" y="2180"/>
                  </a:lnTo>
                  <a:lnTo>
                    <a:pt x="1273" y="2180"/>
                  </a:lnTo>
                  <a:lnTo>
                    <a:pt x="1273" y="2172"/>
                  </a:lnTo>
                  <a:lnTo>
                    <a:pt x="1285" y="2172"/>
                  </a:lnTo>
                  <a:lnTo>
                    <a:pt x="1285" y="2165"/>
                  </a:lnTo>
                  <a:lnTo>
                    <a:pt x="1304" y="2165"/>
                  </a:lnTo>
                  <a:lnTo>
                    <a:pt x="1304" y="2157"/>
                  </a:lnTo>
                  <a:lnTo>
                    <a:pt x="1310" y="2157"/>
                  </a:lnTo>
                  <a:lnTo>
                    <a:pt x="1310" y="2141"/>
                  </a:lnTo>
                  <a:lnTo>
                    <a:pt x="1316" y="2141"/>
                  </a:lnTo>
                  <a:lnTo>
                    <a:pt x="1329" y="2141"/>
                  </a:lnTo>
                  <a:lnTo>
                    <a:pt x="1329" y="2133"/>
                  </a:lnTo>
                  <a:lnTo>
                    <a:pt x="1341" y="2133"/>
                  </a:lnTo>
                  <a:lnTo>
                    <a:pt x="1341" y="2126"/>
                  </a:lnTo>
                  <a:lnTo>
                    <a:pt x="1347" y="2126"/>
                  </a:lnTo>
                  <a:lnTo>
                    <a:pt x="1347" y="2118"/>
                  </a:lnTo>
                  <a:lnTo>
                    <a:pt x="1366" y="2118"/>
                  </a:lnTo>
                  <a:lnTo>
                    <a:pt x="1366" y="2110"/>
                  </a:lnTo>
                  <a:lnTo>
                    <a:pt x="1378" y="2110"/>
                  </a:lnTo>
                  <a:lnTo>
                    <a:pt x="1378" y="2102"/>
                  </a:lnTo>
                  <a:lnTo>
                    <a:pt x="1397" y="2102"/>
                  </a:lnTo>
                  <a:lnTo>
                    <a:pt x="1397" y="2094"/>
                  </a:lnTo>
                  <a:lnTo>
                    <a:pt x="1403" y="2094"/>
                  </a:lnTo>
                  <a:lnTo>
                    <a:pt x="1403" y="2086"/>
                  </a:lnTo>
                  <a:lnTo>
                    <a:pt x="1410" y="2086"/>
                  </a:lnTo>
                  <a:lnTo>
                    <a:pt x="1410" y="2079"/>
                  </a:lnTo>
                  <a:lnTo>
                    <a:pt x="1416" y="2079"/>
                  </a:lnTo>
                  <a:lnTo>
                    <a:pt x="1416" y="2071"/>
                  </a:lnTo>
                  <a:lnTo>
                    <a:pt x="1422" y="2071"/>
                  </a:lnTo>
                  <a:lnTo>
                    <a:pt x="1428" y="2071"/>
                  </a:lnTo>
                  <a:lnTo>
                    <a:pt x="1428" y="2063"/>
                  </a:lnTo>
                  <a:lnTo>
                    <a:pt x="1434" y="2063"/>
                  </a:lnTo>
                  <a:lnTo>
                    <a:pt x="1434" y="2055"/>
                  </a:lnTo>
                  <a:lnTo>
                    <a:pt x="1441" y="2055"/>
                  </a:lnTo>
                  <a:lnTo>
                    <a:pt x="1441" y="2047"/>
                  </a:lnTo>
                  <a:lnTo>
                    <a:pt x="1447" y="2047"/>
                  </a:lnTo>
                  <a:lnTo>
                    <a:pt x="1447" y="2039"/>
                  </a:lnTo>
                  <a:lnTo>
                    <a:pt x="1459" y="2039"/>
                  </a:lnTo>
                  <a:lnTo>
                    <a:pt x="1459" y="2031"/>
                  </a:lnTo>
                  <a:lnTo>
                    <a:pt x="1472" y="2031"/>
                  </a:lnTo>
                  <a:lnTo>
                    <a:pt x="1472" y="2016"/>
                  </a:lnTo>
                  <a:lnTo>
                    <a:pt x="1496" y="2016"/>
                  </a:lnTo>
                  <a:lnTo>
                    <a:pt x="1496" y="2008"/>
                  </a:lnTo>
                  <a:lnTo>
                    <a:pt x="1509" y="2008"/>
                  </a:lnTo>
                  <a:lnTo>
                    <a:pt x="1509" y="2000"/>
                  </a:lnTo>
                  <a:lnTo>
                    <a:pt x="1515" y="2000"/>
                  </a:lnTo>
                  <a:lnTo>
                    <a:pt x="1515" y="1992"/>
                  </a:lnTo>
                  <a:lnTo>
                    <a:pt x="1521" y="1992"/>
                  </a:lnTo>
                  <a:lnTo>
                    <a:pt x="1521" y="1984"/>
                  </a:lnTo>
                  <a:lnTo>
                    <a:pt x="1552" y="1984"/>
                  </a:lnTo>
                  <a:lnTo>
                    <a:pt x="1552" y="1976"/>
                  </a:lnTo>
                  <a:lnTo>
                    <a:pt x="1565" y="1976"/>
                  </a:lnTo>
                  <a:lnTo>
                    <a:pt x="1583" y="1976"/>
                  </a:lnTo>
                  <a:lnTo>
                    <a:pt x="1583" y="1969"/>
                  </a:lnTo>
                  <a:lnTo>
                    <a:pt x="1596" y="1969"/>
                  </a:lnTo>
                  <a:lnTo>
                    <a:pt x="1596" y="1953"/>
                  </a:lnTo>
                  <a:lnTo>
                    <a:pt x="1621" y="1953"/>
                  </a:lnTo>
                  <a:lnTo>
                    <a:pt x="1621" y="1945"/>
                  </a:lnTo>
                  <a:lnTo>
                    <a:pt x="1627" y="1945"/>
                  </a:lnTo>
                  <a:lnTo>
                    <a:pt x="1627" y="1929"/>
                  </a:lnTo>
                  <a:lnTo>
                    <a:pt x="1633" y="1929"/>
                  </a:lnTo>
                  <a:lnTo>
                    <a:pt x="1633" y="1921"/>
                  </a:lnTo>
                  <a:lnTo>
                    <a:pt x="1664" y="1921"/>
                  </a:lnTo>
                  <a:lnTo>
                    <a:pt x="1664" y="1913"/>
                  </a:lnTo>
                  <a:lnTo>
                    <a:pt x="1670" y="1913"/>
                  </a:lnTo>
                  <a:lnTo>
                    <a:pt x="1670" y="1905"/>
                  </a:lnTo>
                  <a:lnTo>
                    <a:pt x="1677" y="1905"/>
                  </a:lnTo>
                  <a:lnTo>
                    <a:pt x="1677" y="1897"/>
                  </a:lnTo>
                  <a:lnTo>
                    <a:pt x="1689" y="1897"/>
                  </a:lnTo>
                  <a:lnTo>
                    <a:pt x="1689" y="1889"/>
                  </a:lnTo>
                  <a:lnTo>
                    <a:pt x="1701" y="1889"/>
                  </a:lnTo>
                  <a:lnTo>
                    <a:pt x="1701" y="1881"/>
                  </a:lnTo>
                  <a:lnTo>
                    <a:pt x="1708" y="1881"/>
                  </a:lnTo>
                  <a:lnTo>
                    <a:pt x="1708" y="1873"/>
                  </a:lnTo>
                  <a:lnTo>
                    <a:pt x="1714" y="1873"/>
                  </a:lnTo>
                  <a:lnTo>
                    <a:pt x="1714" y="1865"/>
                  </a:lnTo>
                  <a:lnTo>
                    <a:pt x="1720" y="1865"/>
                  </a:lnTo>
                  <a:lnTo>
                    <a:pt x="1720" y="1857"/>
                  </a:lnTo>
                  <a:lnTo>
                    <a:pt x="1745" y="1857"/>
                  </a:lnTo>
                  <a:lnTo>
                    <a:pt x="1745" y="1849"/>
                  </a:lnTo>
                  <a:lnTo>
                    <a:pt x="1751" y="1849"/>
                  </a:lnTo>
                  <a:lnTo>
                    <a:pt x="1751" y="1842"/>
                  </a:lnTo>
                  <a:lnTo>
                    <a:pt x="1757" y="1842"/>
                  </a:lnTo>
                  <a:lnTo>
                    <a:pt x="1757" y="1826"/>
                  </a:lnTo>
                  <a:lnTo>
                    <a:pt x="1782" y="1826"/>
                  </a:lnTo>
                  <a:lnTo>
                    <a:pt x="1782" y="1818"/>
                  </a:lnTo>
                  <a:lnTo>
                    <a:pt x="1795" y="1818"/>
                  </a:lnTo>
                  <a:lnTo>
                    <a:pt x="1795" y="1810"/>
                  </a:lnTo>
                  <a:lnTo>
                    <a:pt x="1801" y="1810"/>
                  </a:lnTo>
                  <a:lnTo>
                    <a:pt x="1801" y="1786"/>
                  </a:lnTo>
                  <a:lnTo>
                    <a:pt x="1807" y="1786"/>
                  </a:lnTo>
                  <a:lnTo>
                    <a:pt x="1807" y="1778"/>
                  </a:lnTo>
                  <a:lnTo>
                    <a:pt x="1819" y="1778"/>
                  </a:lnTo>
                  <a:lnTo>
                    <a:pt x="1819" y="1762"/>
                  </a:lnTo>
                  <a:lnTo>
                    <a:pt x="1838" y="1762"/>
                  </a:lnTo>
                  <a:lnTo>
                    <a:pt x="1838" y="1746"/>
                  </a:lnTo>
                  <a:lnTo>
                    <a:pt x="1844" y="1746"/>
                  </a:lnTo>
                  <a:lnTo>
                    <a:pt x="1844" y="1738"/>
                  </a:lnTo>
                  <a:lnTo>
                    <a:pt x="1857" y="1738"/>
                  </a:lnTo>
                  <a:lnTo>
                    <a:pt x="1857" y="1730"/>
                  </a:lnTo>
                  <a:lnTo>
                    <a:pt x="1863" y="1730"/>
                  </a:lnTo>
                  <a:lnTo>
                    <a:pt x="1863" y="1722"/>
                  </a:lnTo>
                  <a:lnTo>
                    <a:pt x="1906" y="1722"/>
                  </a:lnTo>
                  <a:lnTo>
                    <a:pt x="1906" y="1714"/>
                  </a:lnTo>
                  <a:lnTo>
                    <a:pt x="1913" y="1714"/>
                  </a:lnTo>
                  <a:lnTo>
                    <a:pt x="1913" y="1707"/>
                  </a:lnTo>
                  <a:lnTo>
                    <a:pt x="1925" y="1707"/>
                  </a:lnTo>
                  <a:lnTo>
                    <a:pt x="1925" y="1699"/>
                  </a:lnTo>
                  <a:lnTo>
                    <a:pt x="1931" y="1699"/>
                  </a:lnTo>
                  <a:lnTo>
                    <a:pt x="1931" y="1691"/>
                  </a:lnTo>
                  <a:lnTo>
                    <a:pt x="1962" y="1691"/>
                  </a:lnTo>
                  <a:lnTo>
                    <a:pt x="1962" y="1683"/>
                  </a:lnTo>
                  <a:lnTo>
                    <a:pt x="1975" y="1683"/>
                  </a:lnTo>
                  <a:lnTo>
                    <a:pt x="1975" y="1675"/>
                  </a:lnTo>
                  <a:lnTo>
                    <a:pt x="2006" y="1675"/>
                  </a:lnTo>
                  <a:lnTo>
                    <a:pt x="2006" y="1667"/>
                  </a:lnTo>
                  <a:lnTo>
                    <a:pt x="2018" y="1667"/>
                  </a:lnTo>
                  <a:lnTo>
                    <a:pt x="2018" y="1659"/>
                  </a:lnTo>
                  <a:lnTo>
                    <a:pt x="2031" y="1659"/>
                  </a:lnTo>
                  <a:lnTo>
                    <a:pt x="2031" y="1651"/>
                  </a:lnTo>
                  <a:lnTo>
                    <a:pt x="2043" y="1651"/>
                  </a:lnTo>
                  <a:lnTo>
                    <a:pt x="2043" y="1643"/>
                  </a:lnTo>
                  <a:lnTo>
                    <a:pt x="2055" y="1643"/>
                  </a:lnTo>
                  <a:lnTo>
                    <a:pt x="2055" y="1635"/>
                  </a:lnTo>
                  <a:lnTo>
                    <a:pt x="2062" y="1635"/>
                  </a:lnTo>
                  <a:lnTo>
                    <a:pt x="2062" y="1619"/>
                  </a:lnTo>
                  <a:lnTo>
                    <a:pt x="2074" y="1619"/>
                  </a:lnTo>
                  <a:lnTo>
                    <a:pt x="2074" y="1611"/>
                  </a:lnTo>
                  <a:lnTo>
                    <a:pt x="2080" y="1611"/>
                  </a:lnTo>
                  <a:lnTo>
                    <a:pt x="2080" y="1603"/>
                  </a:lnTo>
                  <a:lnTo>
                    <a:pt x="2087" y="1603"/>
                  </a:lnTo>
                  <a:lnTo>
                    <a:pt x="2087" y="1595"/>
                  </a:lnTo>
                  <a:lnTo>
                    <a:pt x="2111" y="1595"/>
                  </a:lnTo>
                  <a:lnTo>
                    <a:pt x="2111" y="1587"/>
                  </a:lnTo>
                  <a:lnTo>
                    <a:pt x="2118" y="1587"/>
                  </a:lnTo>
                  <a:lnTo>
                    <a:pt x="2118" y="1579"/>
                  </a:lnTo>
                  <a:lnTo>
                    <a:pt x="2124" y="1579"/>
                  </a:lnTo>
                  <a:lnTo>
                    <a:pt x="2124" y="1563"/>
                  </a:lnTo>
                  <a:lnTo>
                    <a:pt x="2130" y="1563"/>
                  </a:lnTo>
                  <a:lnTo>
                    <a:pt x="2130" y="1547"/>
                  </a:lnTo>
                  <a:lnTo>
                    <a:pt x="2142" y="1547"/>
                  </a:lnTo>
                  <a:lnTo>
                    <a:pt x="2142" y="1539"/>
                  </a:lnTo>
                  <a:lnTo>
                    <a:pt x="2149" y="1539"/>
                  </a:lnTo>
                  <a:lnTo>
                    <a:pt x="2149" y="1531"/>
                  </a:lnTo>
                  <a:lnTo>
                    <a:pt x="2167" y="1531"/>
                  </a:lnTo>
                  <a:lnTo>
                    <a:pt x="2167" y="1523"/>
                  </a:lnTo>
                  <a:lnTo>
                    <a:pt x="2186" y="1523"/>
                  </a:lnTo>
                  <a:lnTo>
                    <a:pt x="2205" y="1523"/>
                  </a:lnTo>
                  <a:lnTo>
                    <a:pt x="2205" y="1515"/>
                  </a:lnTo>
                  <a:lnTo>
                    <a:pt x="2211" y="1515"/>
                  </a:lnTo>
                  <a:lnTo>
                    <a:pt x="2211" y="1507"/>
                  </a:lnTo>
                  <a:lnTo>
                    <a:pt x="2217" y="1507"/>
                  </a:lnTo>
                  <a:lnTo>
                    <a:pt x="2223" y="1507"/>
                  </a:lnTo>
                  <a:lnTo>
                    <a:pt x="2223" y="1499"/>
                  </a:lnTo>
                  <a:lnTo>
                    <a:pt x="2229" y="1499"/>
                  </a:lnTo>
                  <a:lnTo>
                    <a:pt x="2229" y="1491"/>
                  </a:lnTo>
                  <a:lnTo>
                    <a:pt x="2236" y="1491"/>
                  </a:lnTo>
                  <a:lnTo>
                    <a:pt x="2236" y="1483"/>
                  </a:lnTo>
                  <a:lnTo>
                    <a:pt x="2242" y="1483"/>
                  </a:lnTo>
                  <a:lnTo>
                    <a:pt x="2242" y="1467"/>
                  </a:lnTo>
                  <a:lnTo>
                    <a:pt x="2254" y="1467"/>
                  </a:lnTo>
                  <a:lnTo>
                    <a:pt x="2254" y="1459"/>
                  </a:lnTo>
                  <a:lnTo>
                    <a:pt x="2260" y="1459"/>
                  </a:lnTo>
                  <a:lnTo>
                    <a:pt x="2260" y="1451"/>
                  </a:lnTo>
                  <a:lnTo>
                    <a:pt x="2292" y="1451"/>
                  </a:lnTo>
                  <a:lnTo>
                    <a:pt x="2292" y="1435"/>
                  </a:lnTo>
                  <a:lnTo>
                    <a:pt x="2298" y="1435"/>
                  </a:lnTo>
                  <a:lnTo>
                    <a:pt x="2298" y="1427"/>
                  </a:lnTo>
                  <a:lnTo>
                    <a:pt x="2310" y="1427"/>
                  </a:lnTo>
                  <a:lnTo>
                    <a:pt x="2323" y="1427"/>
                  </a:lnTo>
                  <a:lnTo>
                    <a:pt x="2323" y="1419"/>
                  </a:lnTo>
                  <a:lnTo>
                    <a:pt x="2335" y="1419"/>
                  </a:lnTo>
                  <a:lnTo>
                    <a:pt x="2335" y="1411"/>
                  </a:lnTo>
                  <a:lnTo>
                    <a:pt x="2347" y="1411"/>
                  </a:lnTo>
                  <a:lnTo>
                    <a:pt x="2347" y="1386"/>
                  </a:lnTo>
                  <a:lnTo>
                    <a:pt x="2391" y="1386"/>
                  </a:lnTo>
                  <a:lnTo>
                    <a:pt x="2391" y="1378"/>
                  </a:lnTo>
                  <a:lnTo>
                    <a:pt x="2416" y="1378"/>
                  </a:lnTo>
                  <a:lnTo>
                    <a:pt x="2416" y="1370"/>
                  </a:lnTo>
                  <a:lnTo>
                    <a:pt x="2434" y="1370"/>
                  </a:lnTo>
                  <a:lnTo>
                    <a:pt x="2434" y="1362"/>
                  </a:lnTo>
                  <a:lnTo>
                    <a:pt x="2472" y="1362"/>
                  </a:lnTo>
                  <a:lnTo>
                    <a:pt x="2472" y="1354"/>
                  </a:lnTo>
                  <a:lnTo>
                    <a:pt x="2478" y="1354"/>
                  </a:lnTo>
                  <a:lnTo>
                    <a:pt x="2478" y="1346"/>
                  </a:lnTo>
                  <a:lnTo>
                    <a:pt x="2484" y="1346"/>
                  </a:lnTo>
                  <a:lnTo>
                    <a:pt x="2484" y="1338"/>
                  </a:lnTo>
                  <a:lnTo>
                    <a:pt x="2528" y="1338"/>
                  </a:lnTo>
                  <a:lnTo>
                    <a:pt x="2528" y="1321"/>
                  </a:lnTo>
                  <a:lnTo>
                    <a:pt x="2534" y="1321"/>
                  </a:lnTo>
                  <a:lnTo>
                    <a:pt x="2534" y="1305"/>
                  </a:lnTo>
                  <a:lnTo>
                    <a:pt x="2559" y="1305"/>
                  </a:lnTo>
                  <a:lnTo>
                    <a:pt x="2577" y="1305"/>
                  </a:lnTo>
                  <a:lnTo>
                    <a:pt x="2577" y="1297"/>
                  </a:lnTo>
                  <a:lnTo>
                    <a:pt x="2583" y="1297"/>
                  </a:lnTo>
                  <a:lnTo>
                    <a:pt x="2583" y="1289"/>
                  </a:lnTo>
                  <a:lnTo>
                    <a:pt x="2602" y="1289"/>
                  </a:lnTo>
                  <a:lnTo>
                    <a:pt x="2602" y="1281"/>
                  </a:lnTo>
                  <a:lnTo>
                    <a:pt x="2608" y="1281"/>
                  </a:lnTo>
                  <a:lnTo>
                    <a:pt x="2608" y="1273"/>
                  </a:lnTo>
                  <a:lnTo>
                    <a:pt x="2621" y="1273"/>
                  </a:lnTo>
                  <a:lnTo>
                    <a:pt x="2621" y="1264"/>
                  </a:lnTo>
                  <a:lnTo>
                    <a:pt x="2633" y="1264"/>
                  </a:lnTo>
                  <a:lnTo>
                    <a:pt x="2633" y="1256"/>
                  </a:lnTo>
                  <a:lnTo>
                    <a:pt x="2646" y="1256"/>
                  </a:lnTo>
                  <a:lnTo>
                    <a:pt x="2646" y="1240"/>
                  </a:lnTo>
                  <a:lnTo>
                    <a:pt x="2664" y="1240"/>
                  </a:lnTo>
                  <a:lnTo>
                    <a:pt x="2683" y="1240"/>
                  </a:lnTo>
                  <a:lnTo>
                    <a:pt x="2683" y="1232"/>
                  </a:lnTo>
                  <a:lnTo>
                    <a:pt x="2695" y="1232"/>
                  </a:lnTo>
                  <a:lnTo>
                    <a:pt x="2695" y="1224"/>
                  </a:lnTo>
                  <a:lnTo>
                    <a:pt x="2701" y="1224"/>
                  </a:lnTo>
                  <a:lnTo>
                    <a:pt x="2701" y="1215"/>
                  </a:lnTo>
                  <a:lnTo>
                    <a:pt x="2708" y="1215"/>
                  </a:lnTo>
                  <a:lnTo>
                    <a:pt x="2708" y="1207"/>
                  </a:lnTo>
                  <a:lnTo>
                    <a:pt x="2720" y="1207"/>
                  </a:lnTo>
                  <a:lnTo>
                    <a:pt x="2720" y="1191"/>
                  </a:lnTo>
                  <a:lnTo>
                    <a:pt x="2726" y="1191"/>
                  </a:lnTo>
                  <a:lnTo>
                    <a:pt x="2726" y="1183"/>
                  </a:lnTo>
                  <a:lnTo>
                    <a:pt x="2745" y="1183"/>
                  </a:lnTo>
                  <a:lnTo>
                    <a:pt x="2745" y="1174"/>
                  </a:lnTo>
                  <a:lnTo>
                    <a:pt x="2764" y="1174"/>
                  </a:lnTo>
                  <a:lnTo>
                    <a:pt x="2764" y="1166"/>
                  </a:lnTo>
                  <a:lnTo>
                    <a:pt x="2776" y="1166"/>
                  </a:lnTo>
                  <a:lnTo>
                    <a:pt x="2776" y="1150"/>
                  </a:lnTo>
                  <a:lnTo>
                    <a:pt x="2820" y="1150"/>
                  </a:lnTo>
                  <a:lnTo>
                    <a:pt x="2820" y="1134"/>
                  </a:lnTo>
                  <a:lnTo>
                    <a:pt x="2838" y="1134"/>
                  </a:lnTo>
                  <a:lnTo>
                    <a:pt x="2838" y="1109"/>
                  </a:lnTo>
                  <a:lnTo>
                    <a:pt x="2844" y="1109"/>
                  </a:lnTo>
                  <a:lnTo>
                    <a:pt x="2844" y="1101"/>
                  </a:lnTo>
                  <a:lnTo>
                    <a:pt x="2851" y="1101"/>
                  </a:lnTo>
                  <a:lnTo>
                    <a:pt x="2851" y="1084"/>
                  </a:lnTo>
                  <a:lnTo>
                    <a:pt x="2875" y="1084"/>
                  </a:lnTo>
                  <a:lnTo>
                    <a:pt x="2875" y="1068"/>
                  </a:lnTo>
                  <a:lnTo>
                    <a:pt x="2888" y="1068"/>
                  </a:lnTo>
                  <a:lnTo>
                    <a:pt x="2888" y="1060"/>
                  </a:lnTo>
                  <a:lnTo>
                    <a:pt x="2900" y="1060"/>
                  </a:lnTo>
                  <a:lnTo>
                    <a:pt x="2900" y="1052"/>
                  </a:lnTo>
                  <a:lnTo>
                    <a:pt x="2906" y="1052"/>
                  </a:lnTo>
                  <a:lnTo>
                    <a:pt x="2906" y="1043"/>
                  </a:lnTo>
                  <a:lnTo>
                    <a:pt x="2919" y="1043"/>
                  </a:lnTo>
                  <a:lnTo>
                    <a:pt x="2919" y="1035"/>
                  </a:lnTo>
                  <a:lnTo>
                    <a:pt x="2931" y="1035"/>
                  </a:lnTo>
                  <a:lnTo>
                    <a:pt x="2931" y="1019"/>
                  </a:lnTo>
                  <a:lnTo>
                    <a:pt x="2938" y="1019"/>
                  </a:lnTo>
                  <a:lnTo>
                    <a:pt x="2938" y="1002"/>
                  </a:lnTo>
                  <a:lnTo>
                    <a:pt x="2950" y="1002"/>
                  </a:lnTo>
                  <a:lnTo>
                    <a:pt x="2950" y="994"/>
                  </a:lnTo>
                  <a:lnTo>
                    <a:pt x="2962" y="994"/>
                  </a:lnTo>
                  <a:lnTo>
                    <a:pt x="2962" y="986"/>
                  </a:lnTo>
                  <a:lnTo>
                    <a:pt x="2969" y="986"/>
                  </a:lnTo>
                  <a:lnTo>
                    <a:pt x="2969" y="978"/>
                  </a:lnTo>
                  <a:lnTo>
                    <a:pt x="2975" y="978"/>
                  </a:lnTo>
                  <a:lnTo>
                    <a:pt x="2975" y="970"/>
                  </a:lnTo>
                  <a:lnTo>
                    <a:pt x="3000" y="970"/>
                  </a:lnTo>
                  <a:lnTo>
                    <a:pt x="3000" y="962"/>
                  </a:lnTo>
                  <a:lnTo>
                    <a:pt x="3006" y="962"/>
                  </a:lnTo>
                  <a:lnTo>
                    <a:pt x="3006" y="953"/>
                  </a:lnTo>
                  <a:lnTo>
                    <a:pt x="3018" y="953"/>
                  </a:lnTo>
                  <a:lnTo>
                    <a:pt x="3018" y="945"/>
                  </a:lnTo>
                  <a:lnTo>
                    <a:pt x="3031" y="945"/>
                  </a:lnTo>
                  <a:lnTo>
                    <a:pt x="3031" y="937"/>
                  </a:lnTo>
                  <a:lnTo>
                    <a:pt x="3049" y="937"/>
                  </a:lnTo>
                  <a:lnTo>
                    <a:pt x="3049" y="921"/>
                  </a:lnTo>
                  <a:lnTo>
                    <a:pt x="3080" y="921"/>
                  </a:lnTo>
                  <a:lnTo>
                    <a:pt x="3080" y="912"/>
                  </a:lnTo>
                  <a:lnTo>
                    <a:pt x="3087" y="912"/>
                  </a:lnTo>
                  <a:lnTo>
                    <a:pt x="3087" y="888"/>
                  </a:lnTo>
                  <a:lnTo>
                    <a:pt x="3111" y="888"/>
                  </a:lnTo>
                  <a:lnTo>
                    <a:pt x="3111" y="880"/>
                  </a:lnTo>
                  <a:lnTo>
                    <a:pt x="3118" y="880"/>
                  </a:lnTo>
                  <a:lnTo>
                    <a:pt x="3118" y="871"/>
                  </a:lnTo>
                  <a:lnTo>
                    <a:pt x="3124" y="871"/>
                  </a:lnTo>
                  <a:lnTo>
                    <a:pt x="3124" y="863"/>
                  </a:lnTo>
                  <a:lnTo>
                    <a:pt x="3136" y="863"/>
                  </a:lnTo>
                  <a:lnTo>
                    <a:pt x="3205" y="863"/>
                  </a:lnTo>
                  <a:lnTo>
                    <a:pt x="3205" y="855"/>
                  </a:lnTo>
                  <a:lnTo>
                    <a:pt x="3217" y="855"/>
                  </a:lnTo>
                  <a:lnTo>
                    <a:pt x="3217" y="847"/>
                  </a:lnTo>
                  <a:lnTo>
                    <a:pt x="3223" y="847"/>
                  </a:lnTo>
                  <a:lnTo>
                    <a:pt x="3223" y="839"/>
                  </a:lnTo>
                  <a:lnTo>
                    <a:pt x="3229" y="839"/>
                  </a:lnTo>
                  <a:lnTo>
                    <a:pt x="3229" y="830"/>
                  </a:lnTo>
                  <a:lnTo>
                    <a:pt x="3236" y="830"/>
                  </a:lnTo>
                  <a:lnTo>
                    <a:pt x="3236" y="822"/>
                  </a:lnTo>
                  <a:lnTo>
                    <a:pt x="3242" y="822"/>
                  </a:lnTo>
                  <a:lnTo>
                    <a:pt x="3242" y="814"/>
                  </a:lnTo>
                  <a:lnTo>
                    <a:pt x="3254" y="814"/>
                  </a:lnTo>
                  <a:lnTo>
                    <a:pt x="3254" y="806"/>
                  </a:lnTo>
                  <a:lnTo>
                    <a:pt x="3335" y="806"/>
                  </a:lnTo>
                  <a:lnTo>
                    <a:pt x="3335" y="797"/>
                  </a:lnTo>
                  <a:lnTo>
                    <a:pt x="3341" y="797"/>
                  </a:lnTo>
                  <a:lnTo>
                    <a:pt x="3341" y="789"/>
                  </a:lnTo>
                  <a:lnTo>
                    <a:pt x="3347" y="789"/>
                  </a:lnTo>
                  <a:lnTo>
                    <a:pt x="3347" y="773"/>
                  </a:lnTo>
                  <a:lnTo>
                    <a:pt x="3360" y="773"/>
                  </a:lnTo>
                  <a:lnTo>
                    <a:pt x="3360" y="764"/>
                  </a:lnTo>
                  <a:lnTo>
                    <a:pt x="3366" y="764"/>
                  </a:lnTo>
                  <a:lnTo>
                    <a:pt x="3366" y="748"/>
                  </a:lnTo>
                  <a:lnTo>
                    <a:pt x="3372" y="748"/>
                  </a:lnTo>
                  <a:lnTo>
                    <a:pt x="3379" y="748"/>
                  </a:lnTo>
                  <a:lnTo>
                    <a:pt x="3379" y="739"/>
                  </a:lnTo>
                  <a:lnTo>
                    <a:pt x="3385" y="739"/>
                  </a:lnTo>
                  <a:lnTo>
                    <a:pt x="3385" y="731"/>
                  </a:lnTo>
                  <a:lnTo>
                    <a:pt x="3397" y="731"/>
                  </a:lnTo>
                  <a:lnTo>
                    <a:pt x="3397" y="722"/>
                  </a:lnTo>
                  <a:lnTo>
                    <a:pt x="3403" y="722"/>
                  </a:lnTo>
                  <a:lnTo>
                    <a:pt x="3416" y="722"/>
                  </a:lnTo>
                  <a:lnTo>
                    <a:pt x="3416" y="714"/>
                  </a:lnTo>
                  <a:lnTo>
                    <a:pt x="3434" y="714"/>
                  </a:lnTo>
                  <a:lnTo>
                    <a:pt x="3434" y="705"/>
                  </a:lnTo>
                  <a:lnTo>
                    <a:pt x="3472" y="705"/>
                  </a:lnTo>
                  <a:lnTo>
                    <a:pt x="3490" y="705"/>
                  </a:lnTo>
                  <a:lnTo>
                    <a:pt x="3497" y="705"/>
                  </a:lnTo>
                  <a:lnTo>
                    <a:pt x="3497" y="696"/>
                  </a:lnTo>
                  <a:lnTo>
                    <a:pt x="3509" y="696"/>
                  </a:lnTo>
                  <a:lnTo>
                    <a:pt x="3528" y="696"/>
                  </a:lnTo>
                  <a:lnTo>
                    <a:pt x="3528" y="688"/>
                  </a:lnTo>
                  <a:lnTo>
                    <a:pt x="3571" y="688"/>
                  </a:lnTo>
                  <a:lnTo>
                    <a:pt x="3571" y="679"/>
                  </a:lnTo>
                  <a:lnTo>
                    <a:pt x="3577" y="679"/>
                  </a:lnTo>
                  <a:lnTo>
                    <a:pt x="3584" y="679"/>
                  </a:lnTo>
                  <a:lnTo>
                    <a:pt x="3602" y="679"/>
                  </a:lnTo>
                  <a:lnTo>
                    <a:pt x="3615" y="679"/>
                  </a:lnTo>
                  <a:lnTo>
                    <a:pt x="3633" y="679"/>
                  </a:lnTo>
                  <a:lnTo>
                    <a:pt x="3633" y="669"/>
                  </a:lnTo>
                  <a:lnTo>
                    <a:pt x="3658" y="669"/>
                  </a:lnTo>
                  <a:lnTo>
                    <a:pt x="3670" y="669"/>
                  </a:lnTo>
                  <a:lnTo>
                    <a:pt x="3683" y="669"/>
                  </a:lnTo>
                  <a:lnTo>
                    <a:pt x="3683" y="660"/>
                  </a:lnTo>
                  <a:lnTo>
                    <a:pt x="3689" y="660"/>
                  </a:lnTo>
                  <a:lnTo>
                    <a:pt x="3689" y="651"/>
                  </a:lnTo>
                  <a:lnTo>
                    <a:pt x="3702" y="651"/>
                  </a:lnTo>
                  <a:lnTo>
                    <a:pt x="3702" y="641"/>
                  </a:lnTo>
                  <a:lnTo>
                    <a:pt x="3708" y="641"/>
                  </a:lnTo>
                  <a:lnTo>
                    <a:pt x="3708" y="631"/>
                  </a:lnTo>
                  <a:lnTo>
                    <a:pt x="3726" y="631"/>
                  </a:lnTo>
                  <a:lnTo>
                    <a:pt x="3726" y="622"/>
                  </a:lnTo>
                  <a:lnTo>
                    <a:pt x="3745" y="622"/>
                  </a:lnTo>
                  <a:lnTo>
                    <a:pt x="3751" y="622"/>
                  </a:lnTo>
                  <a:lnTo>
                    <a:pt x="3751" y="612"/>
                  </a:lnTo>
                  <a:lnTo>
                    <a:pt x="3770" y="612"/>
                  </a:lnTo>
                  <a:lnTo>
                    <a:pt x="3770" y="602"/>
                  </a:lnTo>
                  <a:lnTo>
                    <a:pt x="3795" y="602"/>
                  </a:lnTo>
                  <a:lnTo>
                    <a:pt x="3795" y="593"/>
                  </a:lnTo>
                  <a:lnTo>
                    <a:pt x="3807" y="593"/>
                  </a:lnTo>
                  <a:lnTo>
                    <a:pt x="3807" y="583"/>
                  </a:lnTo>
                  <a:lnTo>
                    <a:pt x="3832" y="583"/>
                  </a:lnTo>
                  <a:lnTo>
                    <a:pt x="3832" y="573"/>
                  </a:lnTo>
                  <a:lnTo>
                    <a:pt x="3888" y="573"/>
                  </a:lnTo>
                  <a:lnTo>
                    <a:pt x="3888" y="554"/>
                  </a:lnTo>
                  <a:lnTo>
                    <a:pt x="3900" y="554"/>
                  </a:lnTo>
                  <a:lnTo>
                    <a:pt x="3900" y="544"/>
                  </a:lnTo>
                  <a:lnTo>
                    <a:pt x="3907" y="544"/>
                  </a:lnTo>
                  <a:lnTo>
                    <a:pt x="3907" y="534"/>
                  </a:lnTo>
                  <a:lnTo>
                    <a:pt x="3913" y="534"/>
                  </a:lnTo>
                  <a:lnTo>
                    <a:pt x="3925" y="534"/>
                  </a:lnTo>
                  <a:lnTo>
                    <a:pt x="3931" y="534"/>
                  </a:lnTo>
                  <a:lnTo>
                    <a:pt x="3931" y="524"/>
                  </a:lnTo>
                  <a:lnTo>
                    <a:pt x="3962" y="524"/>
                  </a:lnTo>
                  <a:lnTo>
                    <a:pt x="3975" y="524"/>
                  </a:lnTo>
                  <a:lnTo>
                    <a:pt x="3975" y="513"/>
                  </a:lnTo>
                  <a:lnTo>
                    <a:pt x="3987" y="513"/>
                  </a:lnTo>
                  <a:lnTo>
                    <a:pt x="3987" y="503"/>
                  </a:lnTo>
                  <a:lnTo>
                    <a:pt x="4018" y="503"/>
                  </a:lnTo>
                  <a:lnTo>
                    <a:pt x="4018" y="493"/>
                  </a:lnTo>
                  <a:lnTo>
                    <a:pt x="4056" y="493"/>
                  </a:lnTo>
                  <a:lnTo>
                    <a:pt x="4056" y="482"/>
                  </a:lnTo>
                  <a:lnTo>
                    <a:pt x="4062" y="482"/>
                  </a:lnTo>
                  <a:lnTo>
                    <a:pt x="4062" y="472"/>
                  </a:lnTo>
                  <a:lnTo>
                    <a:pt x="4068" y="472"/>
                  </a:lnTo>
                  <a:lnTo>
                    <a:pt x="4105" y="472"/>
                  </a:lnTo>
                  <a:lnTo>
                    <a:pt x="4105" y="461"/>
                  </a:lnTo>
                  <a:lnTo>
                    <a:pt x="4143" y="461"/>
                  </a:lnTo>
                  <a:lnTo>
                    <a:pt x="4161" y="461"/>
                  </a:lnTo>
                  <a:lnTo>
                    <a:pt x="4161" y="450"/>
                  </a:lnTo>
                  <a:lnTo>
                    <a:pt x="4174" y="450"/>
                  </a:lnTo>
                  <a:lnTo>
                    <a:pt x="4174" y="439"/>
                  </a:lnTo>
                  <a:lnTo>
                    <a:pt x="4198" y="439"/>
                  </a:lnTo>
                  <a:lnTo>
                    <a:pt x="4217" y="439"/>
                  </a:lnTo>
                  <a:lnTo>
                    <a:pt x="4217" y="405"/>
                  </a:lnTo>
                  <a:lnTo>
                    <a:pt x="4254" y="405"/>
                  </a:lnTo>
                  <a:lnTo>
                    <a:pt x="4254" y="394"/>
                  </a:lnTo>
                  <a:lnTo>
                    <a:pt x="4267" y="394"/>
                  </a:lnTo>
                  <a:lnTo>
                    <a:pt x="4267" y="383"/>
                  </a:lnTo>
                  <a:lnTo>
                    <a:pt x="4292" y="383"/>
                  </a:lnTo>
                  <a:lnTo>
                    <a:pt x="4298" y="383"/>
                  </a:lnTo>
                  <a:lnTo>
                    <a:pt x="4310" y="383"/>
                  </a:lnTo>
                  <a:lnTo>
                    <a:pt x="4310" y="371"/>
                  </a:lnTo>
                  <a:lnTo>
                    <a:pt x="4329" y="371"/>
                  </a:lnTo>
                  <a:lnTo>
                    <a:pt x="4329" y="359"/>
                  </a:lnTo>
                  <a:lnTo>
                    <a:pt x="4348" y="359"/>
                  </a:lnTo>
                  <a:lnTo>
                    <a:pt x="4422" y="359"/>
                  </a:lnTo>
                  <a:lnTo>
                    <a:pt x="4441" y="359"/>
                  </a:lnTo>
                  <a:lnTo>
                    <a:pt x="4459" y="359"/>
                  </a:lnTo>
                  <a:lnTo>
                    <a:pt x="4478" y="359"/>
                  </a:lnTo>
                  <a:lnTo>
                    <a:pt x="4478" y="347"/>
                  </a:lnTo>
                  <a:lnTo>
                    <a:pt x="4484" y="347"/>
                  </a:lnTo>
                  <a:lnTo>
                    <a:pt x="4484" y="335"/>
                  </a:lnTo>
                  <a:lnTo>
                    <a:pt x="4515" y="335"/>
                  </a:lnTo>
                  <a:lnTo>
                    <a:pt x="4515" y="322"/>
                  </a:lnTo>
                  <a:lnTo>
                    <a:pt x="4540" y="322"/>
                  </a:lnTo>
                  <a:lnTo>
                    <a:pt x="4553" y="322"/>
                  </a:lnTo>
                  <a:lnTo>
                    <a:pt x="4577" y="322"/>
                  </a:lnTo>
                  <a:lnTo>
                    <a:pt x="4584" y="322"/>
                  </a:lnTo>
                  <a:lnTo>
                    <a:pt x="4590" y="322"/>
                  </a:lnTo>
                  <a:lnTo>
                    <a:pt x="4608" y="322"/>
                  </a:lnTo>
                  <a:lnTo>
                    <a:pt x="4627" y="322"/>
                  </a:lnTo>
                  <a:lnTo>
                    <a:pt x="4627" y="309"/>
                  </a:lnTo>
                  <a:lnTo>
                    <a:pt x="4652" y="309"/>
                  </a:lnTo>
                  <a:lnTo>
                    <a:pt x="4664" y="309"/>
                  </a:lnTo>
                  <a:lnTo>
                    <a:pt x="4677" y="309"/>
                  </a:lnTo>
                  <a:lnTo>
                    <a:pt x="4708" y="309"/>
                  </a:lnTo>
                  <a:lnTo>
                    <a:pt x="4726" y="309"/>
                  </a:lnTo>
                  <a:lnTo>
                    <a:pt x="4745" y="309"/>
                  </a:lnTo>
                  <a:lnTo>
                    <a:pt x="4813" y="309"/>
                  </a:lnTo>
                  <a:lnTo>
                    <a:pt x="4813" y="293"/>
                  </a:lnTo>
                  <a:lnTo>
                    <a:pt x="4826" y="293"/>
                  </a:lnTo>
                  <a:lnTo>
                    <a:pt x="4863" y="293"/>
                  </a:lnTo>
                  <a:lnTo>
                    <a:pt x="4875" y="293"/>
                  </a:lnTo>
                  <a:lnTo>
                    <a:pt x="4919" y="293"/>
                  </a:lnTo>
                  <a:lnTo>
                    <a:pt x="4919" y="276"/>
                  </a:lnTo>
                  <a:lnTo>
                    <a:pt x="4925" y="276"/>
                  </a:lnTo>
                  <a:lnTo>
                    <a:pt x="4950" y="276"/>
                  </a:lnTo>
                  <a:lnTo>
                    <a:pt x="4950" y="259"/>
                  </a:lnTo>
                  <a:lnTo>
                    <a:pt x="5018" y="259"/>
                  </a:lnTo>
                  <a:lnTo>
                    <a:pt x="5037" y="259"/>
                  </a:lnTo>
                  <a:lnTo>
                    <a:pt x="5043" y="259"/>
                  </a:lnTo>
                  <a:lnTo>
                    <a:pt x="5099" y="259"/>
                  </a:lnTo>
                  <a:lnTo>
                    <a:pt x="5124" y="259"/>
                  </a:lnTo>
                  <a:lnTo>
                    <a:pt x="5136" y="259"/>
                  </a:lnTo>
                  <a:lnTo>
                    <a:pt x="5161" y="259"/>
                  </a:lnTo>
                  <a:lnTo>
                    <a:pt x="5186" y="259"/>
                  </a:lnTo>
                  <a:lnTo>
                    <a:pt x="5230" y="259"/>
                  </a:lnTo>
                  <a:lnTo>
                    <a:pt x="5248" y="259"/>
                  </a:lnTo>
                  <a:lnTo>
                    <a:pt x="5248" y="237"/>
                  </a:lnTo>
                  <a:lnTo>
                    <a:pt x="5254" y="237"/>
                  </a:lnTo>
                  <a:lnTo>
                    <a:pt x="5261" y="237"/>
                  </a:lnTo>
                  <a:lnTo>
                    <a:pt x="5273" y="237"/>
                  </a:lnTo>
                  <a:lnTo>
                    <a:pt x="5279" y="237"/>
                  </a:lnTo>
                  <a:lnTo>
                    <a:pt x="5285" y="237"/>
                  </a:lnTo>
                  <a:lnTo>
                    <a:pt x="5304" y="237"/>
                  </a:lnTo>
                  <a:lnTo>
                    <a:pt x="5304" y="209"/>
                  </a:lnTo>
                  <a:lnTo>
                    <a:pt x="5323" y="209"/>
                  </a:lnTo>
                  <a:lnTo>
                    <a:pt x="5379" y="209"/>
                  </a:lnTo>
                  <a:lnTo>
                    <a:pt x="5422" y="209"/>
                  </a:lnTo>
                  <a:lnTo>
                    <a:pt x="5497" y="209"/>
                  </a:lnTo>
                  <a:lnTo>
                    <a:pt x="5540" y="209"/>
                  </a:lnTo>
                  <a:lnTo>
                    <a:pt x="5689" y="209"/>
                  </a:lnTo>
                  <a:lnTo>
                    <a:pt x="5726" y="209"/>
                  </a:lnTo>
                  <a:lnTo>
                    <a:pt x="5764" y="209"/>
                  </a:lnTo>
                  <a:lnTo>
                    <a:pt x="5838" y="209"/>
                  </a:lnTo>
                  <a:lnTo>
                    <a:pt x="5975" y="209"/>
                  </a:lnTo>
                  <a:lnTo>
                    <a:pt x="5975" y="158"/>
                  </a:lnTo>
                  <a:lnTo>
                    <a:pt x="5987" y="158"/>
                  </a:lnTo>
                  <a:lnTo>
                    <a:pt x="6105" y="158"/>
                  </a:lnTo>
                  <a:lnTo>
                    <a:pt x="6105" y="102"/>
                  </a:lnTo>
                  <a:lnTo>
                    <a:pt x="6112" y="102"/>
                  </a:lnTo>
                  <a:lnTo>
                    <a:pt x="6180" y="102"/>
                  </a:lnTo>
                  <a:lnTo>
                    <a:pt x="6192" y="102"/>
                  </a:lnTo>
                  <a:lnTo>
                    <a:pt x="6205" y="102"/>
                  </a:lnTo>
                  <a:lnTo>
                    <a:pt x="6273" y="10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56" name="Rectangle 193"/>
            <p:cNvSpPr/>
            <p:nvPr/>
          </p:nvSpPr>
          <p:spPr>
            <a:xfrm>
              <a:off x="3771360" y="597420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457" name="Rectangle 194"/>
            <p:cNvSpPr/>
            <p:nvPr/>
          </p:nvSpPr>
          <p:spPr>
            <a:xfrm rot="16200000">
              <a:off x="-445680" y="356472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Break Prespecified Analysis: PFS From Randomization (Maintenance Group)</a:t>
            </a:r>
            <a:endParaRPr b="0" lang="en-US" sz="3200" spc="-1" strike="noStrike">
              <a:solidFill>
                <a:srgbClr val="000000"/>
              </a:solidFill>
              <a:latin typeface="Arial"/>
            </a:endParaRPr>
          </a:p>
        </p:txBody>
      </p:sp>
      <p:sp>
        <p:nvSpPr>
          <p:cNvPr id="2459" name="Text Box 15"/>
          <p:cNvSpPr/>
          <p:nvPr/>
        </p:nvSpPr>
        <p:spPr>
          <a:xfrm>
            <a:off x="2133720" y="6232320"/>
            <a:ext cx="570852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24.7; for Pac + Cb + Bev was 14.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460" name=""/>
          <p:cNvGraphicFramePr/>
          <p:nvPr/>
        </p:nvGraphicFramePr>
        <p:xfrm>
          <a:off x="4343400" y="1717560"/>
          <a:ext cx="4251240" cy="1067040"/>
        </p:xfrm>
        <a:graphic>
          <a:graphicData uri="http://schemas.openxmlformats.org/drawingml/2006/table">
            <a:tbl>
              <a:tblPr/>
              <a:tblGrid>
                <a:gridCol w="1528920"/>
                <a:gridCol w="1511280"/>
                <a:gridCol w="1211040"/>
              </a:tblGrid>
              <a:tr h="6397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42732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PF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8.6</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6.9</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461" name="Group 135234"/>
          <p:cNvGrpSpPr/>
          <p:nvPr/>
        </p:nvGrpSpPr>
        <p:grpSpPr>
          <a:xfrm>
            <a:off x="270000" y="638280"/>
            <a:ext cx="8673840" cy="7567560"/>
            <a:chOff x="270000" y="638280"/>
            <a:chExt cx="8673840" cy="7567560"/>
          </a:xfrm>
        </p:grpSpPr>
        <p:sp>
          <p:nvSpPr>
            <p:cNvPr id="2462" name="AutoShape 4"/>
            <p:cNvSpPr/>
            <p:nvPr/>
          </p:nvSpPr>
          <p:spPr>
            <a:xfrm>
              <a:off x="293760" y="1543680"/>
              <a:ext cx="8650080" cy="666216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3" name="Rectangle 6"/>
            <p:cNvSpPr/>
            <p:nvPr/>
          </p:nvSpPr>
          <p:spPr>
            <a:xfrm>
              <a:off x="270000" y="638280"/>
              <a:ext cx="8650080" cy="66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4" name="Rectangle 7"/>
            <p:cNvSpPr/>
            <p:nvPr/>
          </p:nvSpPr>
          <p:spPr>
            <a:xfrm>
              <a:off x="946080" y="1742760"/>
              <a:ext cx="7692840" cy="364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5" name="Line 8"/>
            <p:cNvSpPr/>
            <p:nvPr/>
          </p:nvSpPr>
          <p:spPr>
            <a:xfrm>
              <a:off x="946080" y="5384520"/>
              <a:ext cx="76928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66" name="Line 9"/>
            <p:cNvSpPr/>
            <p:nvPr/>
          </p:nvSpPr>
          <p:spPr>
            <a:xfrm flipV="1">
              <a:off x="946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7" name="Line 10"/>
            <p:cNvSpPr/>
            <p:nvPr/>
          </p:nvSpPr>
          <p:spPr>
            <a:xfrm flipV="1">
              <a:off x="1587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8" name="Line 11"/>
            <p:cNvSpPr/>
            <p:nvPr/>
          </p:nvSpPr>
          <p:spPr>
            <a:xfrm flipV="1">
              <a:off x="2228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69" name="Line 12"/>
            <p:cNvSpPr/>
            <p:nvPr/>
          </p:nvSpPr>
          <p:spPr>
            <a:xfrm flipV="1">
              <a:off x="28684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0" name="Line 13"/>
            <p:cNvSpPr/>
            <p:nvPr/>
          </p:nvSpPr>
          <p:spPr>
            <a:xfrm flipV="1">
              <a:off x="35114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1" name="Line 14"/>
            <p:cNvSpPr/>
            <p:nvPr/>
          </p:nvSpPr>
          <p:spPr>
            <a:xfrm flipV="1">
              <a:off x="41511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2" name="Line 15"/>
            <p:cNvSpPr/>
            <p:nvPr/>
          </p:nvSpPr>
          <p:spPr>
            <a:xfrm flipV="1">
              <a:off x="47926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3" name="Line 16"/>
            <p:cNvSpPr/>
            <p:nvPr/>
          </p:nvSpPr>
          <p:spPr>
            <a:xfrm flipV="1">
              <a:off x="543384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4" name="Line 17"/>
            <p:cNvSpPr/>
            <p:nvPr/>
          </p:nvSpPr>
          <p:spPr>
            <a:xfrm flipV="1">
              <a:off x="60753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5" name="Line 18"/>
            <p:cNvSpPr/>
            <p:nvPr/>
          </p:nvSpPr>
          <p:spPr>
            <a:xfrm flipV="1">
              <a:off x="67150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6" name="Line 19"/>
            <p:cNvSpPr/>
            <p:nvPr/>
          </p:nvSpPr>
          <p:spPr>
            <a:xfrm flipV="1">
              <a:off x="735660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7" name="Line 20"/>
            <p:cNvSpPr/>
            <p:nvPr/>
          </p:nvSpPr>
          <p:spPr>
            <a:xfrm flipV="1">
              <a:off x="799776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8" name="Line 21"/>
            <p:cNvSpPr/>
            <p:nvPr/>
          </p:nvSpPr>
          <p:spPr>
            <a:xfrm flipV="1">
              <a:off x="8639280" y="5384160"/>
              <a:ext cx="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479" name="Line 22"/>
            <p:cNvSpPr/>
            <p:nvPr/>
          </p:nvSpPr>
          <p:spPr>
            <a:xfrm flipV="1">
              <a:off x="1158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0" name="Line 23"/>
            <p:cNvSpPr/>
            <p:nvPr/>
          </p:nvSpPr>
          <p:spPr>
            <a:xfrm flipV="1">
              <a:off x="137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1" name="Line 24"/>
            <p:cNvSpPr/>
            <p:nvPr/>
          </p:nvSpPr>
          <p:spPr>
            <a:xfrm flipV="1">
              <a:off x="18018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2" name="Line 25"/>
            <p:cNvSpPr/>
            <p:nvPr/>
          </p:nvSpPr>
          <p:spPr>
            <a:xfrm flipV="1">
              <a:off x="2014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3" name="Line 26"/>
            <p:cNvSpPr/>
            <p:nvPr/>
          </p:nvSpPr>
          <p:spPr>
            <a:xfrm flipV="1">
              <a:off x="2441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4" name="Line 27"/>
            <p:cNvSpPr/>
            <p:nvPr/>
          </p:nvSpPr>
          <p:spPr>
            <a:xfrm flipV="1">
              <a:off x="265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5" name="Line 28"/>
            <p:cNvSpPr/>
            <p:nvPr/>
          </p:nvSpPr>
          <p:spPr>
            <a:xfrm flipV="1">
              <a:off x="30830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6" name="Line 29"/>
            <p:cNvSpPr/>
            <p:nvPr/>
          </p:nvSpPr>
          <p:spPr>
            <a:xfrm flipV="1">
              <a:off x="32972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7" name="Line 30"/>
            <p:cNvSpPr/>
            <p:nvPr/>
          </p:nvSpPr>
          <p:spPr>
            <a:xfrm flipV="1">
              <a:off x="37242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8" name="Line 31"/>
            <p:cNvSpPr/>
            <p:nvPr/>
          </p:nvSpPr>
          <p:spPr>
            <a:xfrm flipV="1">
              <a:off x="39369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89" name="Line 32"/>
            <p:cNvSpPr/>
            <p:nvPr/>
          </p:nvSpPr>
          <p:spPr>
            <a:xfrm flipV="1">
              <a:off x="4365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0" name="Line 33"/>
            <p:cNvSpPr/>
            <p:nvPr/>
          </p:nvSpPr>
          <p:spPr>
            <a:xfrm flipV="1">
              <a:off x="45784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1" name="Line 34"/>
            <p:cNvSpPr/>
            <p:nvPr/>
          </p:nvSpPr>
          <p:spPr>
            <a:xfrm flipV="1">
              <a:off x="50054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2" name="Line 35"/>
            <p:cNvSpPr/>
            <p:nvPr/>
          </p:nvSpPr>
          <p:spPr>
            <a:xfrm flipV="1">
              <a:off x="52196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3" name="Line 36"/>
            <p:cNvSpPr/>
            <p:nvPr/>
          </p:nvSpPr>
          <p:spPr>
            <a:xfrm flipV="1">
              <a:off x="56466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4" name="Line 37"/>
            <p:cNvSpPr/>
            <p:nvPr/>
          </p:nvSpPr>
          <p:spPr>
            <a:xfrm flipV="1">
              <a:off x="58611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5" name="Line 38"/>
            <p:cNvSpPr/>
            <p:nvPr/>
          </p:nvSpPr>
          <p:spPr>
            <a:xfrm flipV="1">
              <a:off x="62881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6" name="Line 39"/>
            <p:cNvSpPr/>
            <p:nvPr/>
          </p:nvSpPr>
          <p:spPr>
            <a:xfrm flipV="1">
              <a:off x="65008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7" name="Line 40"/>
            <p:cNvSpPr/>
            <p:nvPr/>
          </p:nvSpPr>
          <p:spPr>
            <a:xfrm flipV="1">
              <a:off x="692928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8" name="Line 41"/>
            <p:cNvSpPr/>
            <p:nvPr/>
          </p:nvSpPr>
          <p:spPr>
            <a:xfrm flipV="1">
              <a:off x="714384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499" name="Line 42"/>
            <p:cNvSpPr/>
            <p:nvPr/>
          </p:nvSpPr>
          <p:spPr>
            <a:xfrm flipV="1">
              <a:off x="756900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0" name="Line 43"/>
            <p:cNvSpPr/>
            <p:nvPr/>
          </p:nvSpPr>
          <p:spPr>
            <a:xfrm flipV="1">
              <a:off x="778356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1" name="Line 44"/>
            <p:cNvSpPr/>
            <p:nvPr/>
          </p:nvSpPr>
          <p:spPr>
            <a:xfrm flipV="1">
              <a:off x="82105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2" name="Line 45"/>
            <p:cNvSpPr/>
            <p:nvPr/>
          </p:nvSpPr>
          <p:spPr>
            <a:xfrm flipV="1">
              <a:off x="8424720" y="5384160"/>
              <a:ext cx="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sp>
          <p:nvSpPr>
            <p:cNvPr id="2503" name="Rectangle 46"/>
            <p:cNvSpPr/>
            <p:nvPr/>
          </p:nvSpPr>
          <p:spPr>
            <a:xfrm>
              <a:off x="9061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504" name="Rectangle 47"/>
            <p:cNvSpPr/>
            <p:nvPr/>
          </p:nvSpPr>
          <p:spPr>
            <a:xfrm>
              <a:off x="154728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2505" name="Rectangle 48"/>
            <p:cNvSpPr/>
            <p:nvPr/>
          </p:nvSpPr>
          <p:spPr>
            <a:xfrm>
              <a:off x="218880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2506" name="Rectangle 49"/>
            <p:cNvSpPr/>
            <p:nvPr/>
          </p:nvSpPr>
          <p:spPr>
            <a:xfrm>
              <a:off x="2828520" y="55098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2507" name="Rectangle 50"/>
            <p:cNvSpPr/>
            <p:nvPr/>
          </p:nvSpPr>
          <p:spPr>
            <a:xfrm>
              <a:off x="34308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a:t>
              </a:r>
              <a:endParaRPr b="0" lang="en-US" sz="1100" spc="-1" strike="noStrike">
                <a:solidFill>
                  <a:srgbClr val="000000"/>
                </a:solidFill>
                <a:latin typeface="Arial"/>
              </a:endParaRPr>
            </a:p>
          </p:txBody>
        </p:sp>
        <p:sp>
          <p:nvSpPr>
            <p:cNvPr id="2508" name="Rectangle 51"/>
            <p:cNvSpPr/>
            <p:nvPr/>
          </p:nvSpPr>
          <p:spPr>
            <a:xfrm>
              <a:off x="40705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509" name="Rectangle 52"/>
            <p:cNvSpPr/>
            <p:nvPr/>
          </p:nvSpPr>
          <p:spPr>
            <a:xfrm>
              <a:off x="471348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Arial"/>
              </a:endParaRPr>
            </a:p>
          </p:txBody>
        </p:sp>
        <p:sp>
          <p:nvSpPr>
            <p:cNvPr id="2510" name="Rectangle 53"/>
            <p:cNvSpPr/>
            <p:nvPr/>
          </p:nvSpPr>
          <p:spPr>
            <a:xfrm>
              <a:off x="53532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a:t>
              </a:r>
              <a:endParaRPr b="0" lang="en-US" sz="1100" spc="-1" strike="noStrike">
                <a:solidFill>
                  <a:srgbClr val="000000"/>
                </a:solidFill>
                <a:latin typeface="Arial"/>
              </a:endParaRPr>
            </a:p>
          </p:txBody>
        </p:sp>
        <p:sp>
          <p:nvSpPr>
            <p:cNvPr id="2511" name="Rectangle 54"/>
            <p:cNvSpPr/>
            <p:nvPr/>
          </p:nvSpPr>
          <p:spPr>
            <a:xfrm>
              <a:off x="59947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4</a:t>
              </a:r>
              <a:endParaRPr b="0" lang="en-US" sz="1100" spc="-1" strike="noStrike">
                <a:solidFill>
                  <a:srgbClr val="000000"/>
                </a:solidFill>
                <a:latin typeface="Arial"/>
              </a:endParaRPr>
            </a:p>
          </p:txBody>
        </p:sp>
        <p:sp>
          <p:nvSpPr>
            <p:cNvPr id="2512" name="Rectangle 55"/>
            <p:cNvSpPr/>
            <p:nvPr/>
          </p:nvSpPr>
          <p:spPr>
            <a:xfrm>
              <a:off x="66362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a:t>
              </a:r>
              <a:endParaRPr b="0" lang="en-US" sz="1100" spc="-1" strike="noStrike">
                <a:solidFill>
                  <a:srgbClr val="000000"/>
                </a:solidFill>
                <a:latin typeface="Arial"/>
              </a:endParaRPr>
            </a:p>
          </p:txBody>
        </p:sp>
        <p:sp>
          <p:nvSpPr>
            <p:cNvPr id="2513" name="Rectangle 56"/>
            <p:cNvSpPr/>
            <p:nvPr/>
          </p:nvSpPr>
          <p:spPr>
            <a:xfrm>
              <a:off x="727740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514" name="Rectangle 57"/>
            <p:cNvSpPr/>
            <p:nvPr/>
          </p:nvSpPr>
          <p:spPr>
            <a:xfrm>
              <a:off x="791712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a:t>
              </a:r>
              <a:endParaRPr b="0" lang="en-US" sz="1100" spc="-1" strike="noStrike">
                <a:solidFill>
                  <a:srgbClr val="000000"/>
                </a:solidFill>
                <a:latin typeface="Arial"/>
              </a:endParaRPr>
            </a:p>
          </p:txBody>
        </p:sp>
        <p:sp>
          <p:nvSpPr>
            <p:cNvPr id="2515" name="Rectangle 58"/>
            <p:cNvSpPr/>
            <p:nvPr/>
          </p:nvSpPr>
          <p:spPr>
            <a:xfrm>
              <a:off x="8558640" y="55098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6</a:t>
              </a:r>
              <a:endParaRPr b="0" lang="en-US" sz="1100" spc="-1" strike="noStrike">
                <a:solidFill>
                  <a:srgbClr val="000000"/>
                </a:solidFill>
                <a:latin typeface="Arial"/>
              </a:endParaRPr>
            </a:p>
          </p:txBody>
        </p:sp>
        <p:sp>
          <p:nvSpPr>
            <p:cNvPr id="2516" name="Line 59"/>
            <p:cNvSpPr/>
            <p:nvPr/>
          </p:nvSpPr>
          <p:spPr>
            <a:xfrm flipV="1">
              <a:off x="946080" y="1742400"/>
              <a:ext cx="0" cy="364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7" name="Line 60"/>
            <p:cNvSpPr/>
            <p:nvPr/>
          </p:nvSpPr>
          <p:spPr>
            <a:xfrm>
              <a:off x="895320" y="53114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8" name="Line 61"/>
            <p:cNvSpPr/>
            <p:nvPr/>
          </p:nvSpPr>
          <p:spPr>
            <a:xfrm>
              <a:off x="895320" y="4955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19" name="Line 62"/>
            <p:cNvSpPr/>
            <p:nvPr/>
          </p:nvSpPr>
          <p:spPr>
            <a:xfrm>
              <a:off x="895320" y="45986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0" name="Line 63"/>
            <p:cNvSpPr/>
            <p:nvPr/>
          </p:nvSpPr>
          <p:spPr>
            <a:xfrm>
              <a:off x="895320" y="42400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1" name="Line 64"/>
            <p:cNvSpPr/>
            <p:nvPr/>
          </p:nvSpPr>
          <p:spPr>
            <a:xfrm>
              <a:off x="895320" y="388440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2" name="Line 65"/>
            <p:cNvSpPr/>
            <p:nvPr/>
          </p:nvSpPr>
          <p:spPr>
            <a:xfrm>
              <a:off x="895320" y="35272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3" name="Line 66"/>
            <p:cNvSpPr/>
            <p:nvPr/>
          </p:nvSpPr>
          <p:spPr>
            <a:xfrm>
              <a:off x="895320" y="31701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4" name="Line 67"/>
            <p:cNvSpPr/>
            <p:nvPr/>
          </p:nvSpPr>
          <p:spPr>
            <a:xfrm>
              <a:off x="895320" y="281268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5" name="Line 68"/>
            <p:cNvSpPr/>
            <p:nvPr/>
          </p:nvSpPr>
          <p:spPr>
            <a:xfrm>
              <a:off x="895320" y="24573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6" name="Line 69"/>
            <p:cNvSpPr/>
            <p:nvPr/>
          </p:nvSpPr>
          <p:spPr>
            <a:xfrm>
              <a:off x="895320" y="210024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7" name="Line 70"/>
            <p:cNvSpPr/>
            <p:nvPr/>
          </p:nvSpPr>
          <p:spPr>
            <a:xfrm>
              <a:off x="895320" y="1742760"/>
              <a:ext cx="50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8" name="Line 71"/>
            <p:cNvSpPr/>
            <p:nvPr/>
          </p:nvSpPr>
          <p:spPr>
            <a:xfrm>
              <a:off x="915840" y="5133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29" name="Line 72"/>
            <p:cNvSpPr/>
            <p:nvPr/>
          </p:nvSpPr>
          <p:spPr>
            <a:xfrm>
              <a:off x="915840" y="4776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0" name="Line 73"/>
            <p:cNvSpPr/>
            <p:nvPr/>
          </p:nvSpPr>
          <p:spPr>
            <a:xfrm>
              <a:off x="915840" y="44193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1" name="Line 74"/>
            <p:cNvSpPr/>
            <p:nvPr/>
          </p:nvSpPr>
          <p:spPr>
            <a:xfrm>
              <a:off x="915840" y="40622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2" name="Line 75"/>
            <p:cNvSpPr/>
            <p:nvPr/>
          </p:nvSpPr>
          <p:spPr>
            <a:xfrm>
              <a:off x="915840" y="37065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3" name="Line 76"/>
            <p:cNvSpPr/>
            <p:nvPr/>
          </p:nvSpPr>
          <p:spPr>
            <a:xfrm>
              <a:off x="915840" y="334944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4" name="Line 77"/>
            <p:cNvSpPr/>
            <p:nvPr/>
          </p:nvSpPr>
          <p:spPr>
            <a:xfrm>
              <a:off x="915840" y="2990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5" name="Line 78"/>
            <p:cNvSpPr/>
            <p:nvPr/>
          </p:nvSpPr>
          <p:spPr>
            <a:xfrm>
              <a:off x="915840" y="26352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6" name="Line 79"/>
            <p:cNvSpPr/>
            <p:nvPr/>
          </p:nvSpPr>
          <p:spPr>
            <a:xfrm>
              <a:off x="915840" y="22777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7" name="Line 80"/>
            <p:cNvSpPr/>
            <p:nvPr/>
          </p:nvSpPr>
          <p:spPr>
            <a:xfrm>
              <a:off x="915840" y="192060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38" name="Rectangle 81"/>
            <p:cNvSpPr/>
            <p:nvPr/>
          </p:nvSpPr>
          <p:spPr>
            <a:xfrm>
              <a:off x="621720" y="52318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0</a:t>
              </a:r>
              <a:endParaRPr b="0" lang="en-US" sz="1100" spc="-1" strike="noStrike">
                <a:solidFill>
                  <a:srgbClr val="000000"/>
                </a:solidFill>
                <a:latin typeface="Arial"/>
              </a:endParaRPr>
            </a:p>
          </p:txBody>
        </p:sp>
        <p:sp>
          <p:nvSpPr>
            <p:cNvPr id="2539" name="Rectangle 82"/>
            <p:cNvSpPr/>
            <p:nvPr/>
          </p:nvSpPr>
          <p:spPr>
            <a:xfrm>
              <a:off x="621720" y="48747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1</a:t>
              </a:r>
              <a:endParaRPr b="0" lang="en-US" sz="1100" spc="-1" strike="noStrike">
                <a:solidFill>
                  <a:srgbClr val="000000"/>
                </a:solidFill>
                <a:latin typeface="Arial"/>
              </a:endParaRPr>
            </a:p>
          </p:txBody>
        </p:sp>
        <p:sp>
          <p:nvSpPr>
            <p:cNvPr id="2540" name="Rectangle 83"/>
            <p:cNvSpPr/>
            <p:nvPr/>
          </p:nvSpPr>
          <p:spPr>
            <a:xfrm>
              <a:off x="621720" y="45176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2</a:t>
              </a:r>
              <a:endParaRPr b="0" lang="en-US" sz="1100" spc="-1" strike="noStrike">
                <a:solidFill>
                  <a:srgbClr val="000000"/>
                </a:solidFill>
                <a:latin typeface="Arial"/>
              </a:endParaRPr>
            </a:p>
          </p:txBody>
        </p:sp>
        <p:sp>
          <p:nvSpPr>
            <p:cNvPr id="2541" name="Rectangle 84"/>
            <p:cNvSpPr/>
            <p:nvPr/>
          </p:nvSpPr>
          <p:spPr>
            <a:xfrm>
              <a:off x="621720" y="41605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3</a:t>
              </a:r>
              <a:endParaRPr b="0" lang="en-US" sz="1100" spc="-1" strike="noStrike">
                <a:solidFill>
                  <a:srgbClr val="000000"/>
                </a:solidFill>
                <a:latin typeface="Arial"/>
              </a:endParaRPr>
            </a:p>
          </p:txBody>
        </p:sp>
        <p:sp>
          <p:nvSpPr>
            <p:cNvPr id="2542" name="Rectangle 85"/>
            <p:cNvSpPr/>
            <p:nvPr/>
          </p:nvSpPr>
          <p:spPr>
            <a:xfrm>
              <a:off x="621720" y="38034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4</a:t>
              </a:r>
              <a:endParaRPr b="0" lang="en-US" sz="1100" spc="-1" strike="noStrike">
                <a:solidFill>
                  <a:srgbClr val="000000"/>
                </a:solidFill>
                <a:latin typeface="Arial"/>
              </a:endParaRPr>
            </a:p>
          </p:txBody>
        </p:sp>
        <p:sp>
          <p:nvSpPr>
            <p:cNvPr id="2543" name="Rectangle 86"/>
            <p:cNvSpPr/>
            <p:nvPr/>
          </p:nvSpPr>
          <p:spPr>
            <a:xfrm>
              <a:off x="621720" y="3446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Arial"/>
              </a:endParaRPr>
            </a:p>
          </p:txBody>
        </p:sp>
        <p:sp>
          <p:nvSpPr>
            <p:cNvPr id="2544" name="Rectangle 87"/>
            <p:cNvSpPr/>
            <p:nvPr/>
          </p:nvSpPr>
          <p:spPr>
            <a:xfrm>
              <a:off x="621720" y="309060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0" lang="en-US" sz="1100" spc="-1" strike="noStrike">
                <a:solidFill>
                  <a:srgbClr val="000000"/>
                </a:solidFill>
                <a:latin typeface="Arial"/>
              </a:endParaRPr>
            </a:p>
          </p:txBody>
        </p:sp>
        <p:sp>
          <p:nvSpPr>
            <p:cNvPr id="2545" name="Rectangle 88"/>
            <p:cNvSpPr/>
            <p:nvPr/>
          </p:nvSpPr>
          <p:spPr>
            <a:xfrm>
              <a:off x="621720" y="27334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7</a:t>
              </a:r>
              <a:endParaRPr b="0" lang="en-US" sz="1100" spc="-1" strike="noStrike">
                <a:solidFill>
                  <a:srgbClr val="000000"/>
                </a:solidFill>
                <a:latin typeface="Arial"/>
              </a:endParaRPr>
            </a:p>
          </p:txBody>
        </p:sp>
        <p:sp>
          <p:nvSpPr>
            <p:cNvPr id="2546" name="Rectangle 89"/>
            <p:cNvSpPr/>
            <p:nvPr/>
          </p:nvSpPr>
          <p:spPr>
            <a:xfrm>
              <a:off x="621720" y="237636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8</a:t>
              </a:r>
              <a:endParaRPr b="0" lang="en-US" sz="1100" spc="-1" strike="noStrike">
                <a:solidFill>
                  <a:srgbClr val="000000"/>
                </a:solidFill>
                <a:latin typeface="Arial"/>
              </a:endParaRPr>
            </a:p>
          </p:txBody>
        </p:sp>
        <p:sp>
          <p:nvSpPr>
            <p:cNvPr id="2547" name="Rectangle 90"/>
            <p:cNvSpPr/>
            <p:nvPr/>
          </p:nvSpPr>
          <p:spPr>
            <a:xfrm>
              <a:off x="621720" y="201924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9</a:t>
              </a:r>
              <a:endParaRPr b="0" lang="en-US" sz="1100" spc="-1" strike="noStrike">
                <a:solidFill>
                  <a:srgbClr val="000000"/>
                </a:solidFill>
                <a:latin typeface="Arial"/>
              </a:endParaRPr>
            </a:p>
          </p:txBody>
        </p:sp>
        <p:sp>
          <p:nvSpPr>
            <p:cNvPr id="2548" name="Rectangle 91"/>
            <p:cNvSpPr/>
            <p:nvPr/>
          </p:nvSpPr>
          <p:spPr>
            <a:xfrm>
              <a:off x="621720" y="166212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549" name="Freeform 92"/>
            <p:cNvSpPr/>
            <p:nvPr/>
          </p:nvSpPr>
          <p:spPr>
            <a:xfrm flipV="1">
              <a:off x="946080" y="1742400"/>
              <a:ext cx="7167240" cy="3420720"/>
            </a:xfrm>
            <a:custGeom>
              <a:avLst/>
              <a:gdLst/>
              <a:ahLst/>
              <a:rect l="l" t="t" r="r" b="b"/>
              <a:pathLst>
                <a:path w="6870" h="3289">
                  <a:moveTo>
                    <a:pt x="0" y="3289"/>
                  </a:moveTo>
                  <a:lnTo>
                    <a:pt x="6" y="3289"/>
                  </a:lnTo>
                  <a:lnTo>
                    <a:pt x="262" y="3289"/>
                  </a:lnTo>
                  <a:lnTo>
                    <a:pt x="282" y="3289"/>
                  </a:lnTo>
                  <a:lnTo>
                    <a:pt x="551" y="3289"/>
                  </a:lnTo>
                  <a:lnTo>
                    <a:pt x="551" y="3278"/>
                  </a:lnTo>
                  <a:lnTo>
                    <a:pt x="558" y="3278"/>
                  </a:lnTo>
                  <a:lnTo>
                    <a:pt x="558" y="3266"/>
                  </a:lnTo>
                  <a:lnTo>
                    <a:pt x="565" y="3266"/>
                  </a:lnTo>
                  <a:lnTo>
                    <a:pt x="565" y="3254"/>
                  </a:lnTo>
                  <a:lnTo>
                    <a:pt x="578" y="3254"/>
                  </a:lnTo>
                  <a:lnTo>
                    <a:pt x="585" y="3254"/>
                  </a:lnTo>
                  <a:lnTo>
                    <a:pt x="619" y="3254"/>
                  </a:lnTo>
                  <a:lnTo>
                    <a:pt x="619" y="3242"/>
                  </a:lnTo>
                  <a:lnTo>
                    <a:pt x="672" y="3242"/>
                  </a:lnTo>
                  <a:lnTo>
                    <a:pt x="672" y="3230"/>
                  </a:lnTo>
                  <a:lnTo>
                    <a:pt x="686" y="3230"/>
                  </a:lnTo>
                  <a:lnTo>
                    <a:pt x="686" y="3194"/>
                  </a:lnTo>
                  <a:lnTo>
                    <a:pt x="767" y="3194"/>
                  </a:lnTo>
                  <a:lnTo>
                    <a:pt x="767" y="3182"/>
                  </a:lnTo>
                  <a:lnTo>
                    <a:pt x="773" y="3182"/>
                  </a:lnTo>
                  <a:lnTo>
                    <a:pt x="773" y="3170"/>
                  </a:lnTo>
                  <a:lnTo>
                    <a:pt x="794" y="3170"/>
                  </a:lnTo>
                  <a:lnTo>
                    <a:pt x="794" y="3158"/>
                  </a:lnTo>
                  <a:lnTo>
                    <a:pt x="800" y="3158"/>
                  </a:lnTo>
                  <a:lnTo>
                    <a:pt x="800" y="3134"/>
                  </a:lnTo>
                  <a:lnTo>
                    <a:pt x="820" y="3134"/>
                  </a:lnTo>
                  <a:lnTo>
                    <a:pt x="820" y="3098"/>
                  </a:lnTo>
                  <a:lnTo>
                    <a:pt x="834" y="3098"/>
                  </a:lnTo>
                  <a:lnTo>
                    <a:pt x="834" y="3075"/>
                  </a:lnTo>
                  <a:lnTo>
                    <a:pt x="841" y="3075"/>
                  </a:lnTo>
                  <a:lnTo>
                    <a:pt x="841" y="3051"/>
                  </a:lnTo>
                  <a:lnTo>
                    <a:pt x="847" y="3051"/>
                  </a:lnTo>
                  <a:lnTo>
                    <a:pt x="847" y="3003"/>
                  </a:lnTo>
                  <a:lnTo>
                    <a:pt x="854" y="3003"/>
                  </a:lnTo>
                  <a:lnTo>
                    <a:pt x="854" y="2942"/>
                  </a:lnTo>
                  <a:lnTo>
                    <a:pt x="861" y="2942"/>
                  </a:lnTo>
                  <a:lnTo>
                    <a:pt x="861" y="2930"/>
                  </a:lnTo>
                  <a:lnTo>
                    <a:pt x="868" y="2930"/>
                  </a:lnTo>
                  <a:lnTo>
                    <a:pt x="868" y="2918"/>
                  </a:lnTo>
                  <a:lnTo>
                    <a:pt x="874" y="2918"/>
                  </a:lnTo>
                  <a:lnTo>
                    <a:pt x="874" y="2906"/>
                  </a:lnTo>
                  <a:lnTo>
                    <a:pt x="881" y="2906"/>
                  </a:lnTo>
                  <a:lnTo>
                    <a:pt x="881" y="2894"/>
                  </a:lnTo>
                  <a:lnTo>
                    <a:pt x="888" y="2894"/>
                  </a:lnTo>
                  <a:lnTo>
                    <a:pt x="888" y="2881"/>
                  </a:lnTo>
                  <a:lnTo>
                    <a:pt x="894" y="2881"/>
                  </a:lnTo>
                  <a:lnTo>
                    <a:pt x="894" y="2857"/>
                  </a:lnTo>
                  <a:lnTo>
                    <a:pt x="901" y="2857"/>
                  </a:lnTo>
                  <a:lnTo>
                    <a:pt x="901" y="2820"/>
                  </a:lnTo>
                  <a:lnTo>
                    <a:pt x="908" y="2820"/>
                  </a:lnTo>
                  <a:lnTo>
                    <a:pt x="908" y="2808"/>
                  </a:lnTo>
                  <a:lnTo>
                    <a:pt x="921" y="2808"/>
                  </a:lnTo>
                  <a:lnTo>
                    <a:pt x="921" y="2796"/>
                  </a:lnTo>
                  <a:lnTo>
                    <a:pt x="935" y="2796"/>
                  </a:lnTo>
                  <a:lnTo>
                    <a:pt x="935" y="2783"/>
                  </a:lnTo>
                  <a:lnTo>
                    <a:pt x="942" y="2783"/>
                  </a:lnTo>
                  <a:lnTo>
                    <a:pt x="942" y="2746"/>
                  </a:lnTo>
                  <a:lnTo>
                    <a:pt x="948" y="2746"/>
                  </a:lnTo>
                  <a:lnTo>
                    <a:pt x="948" y="2734"/>
                  </a:lnTo>
                  <a:lnTo>
                    <a:pt x="955" y="2734"/>
                  </a:lnTo>
                  <a:lnTo>
                    <a:pt x="955" y="2709"/>
                  </a:lnTo>
                  <a:lnTo>
                    <a:pt x="968" y="2709"/>
                  </a:lnTo>
                  <a:lnTo>
                    <a:pt x="968" y="2660"/>
                  </a:lnTo>
                  <a:lnTo>
                    <a:pt x="975" y="2660"/>
                  </a:lnTo>
                  <a:lnTo>
                    <a:pt x="982" y="2660"/>
                  </a:lnTo>
                  <a:lnTo>
                    <a:pt x="982" y="2647"/>
                  </a:lnTo>
                  <a:lnTo>
                    <a:pt x="1002" y="2647"/>
                  </a:lnTo>
                  <a:lnTo>
                    <a:pt x="1029" y="2647"/>
                  </a:lnTo>
                  <a:lnTo>
                    <a:pt x="1029" y="2635"/>
                  </a:lnTo>
                  <a:lnTo>
                    <a:pt x="1043" y="2635"/>
                  </a:lnTo>
                  <a:lnTo>
                    <a:pt x="1049" y="2635"/>
                  </a:lnTo>
                  <a:lnTo>
                    <a:pt x="1049" y="2622"/>
                  </a:lnTo>
                  <a:lnTo>
                    <a:pt x="1076" y="2622"/>
                  </a:lnTo>
                  <a:lnTo>
                    <a:pt x="1076" y="2610"/>
                  </a:lnTo>
                  <a:lnTo>
                    <a:pt x="1096" y="2610"/>
                  </a:lnTo>
                  <a:lnTo>
                    <a:pt x="1096" y="2597"/>
                  </a:lnTo>
                  <a:lnTo>
                    <a:pt x="1103" y="2597"/>
                  </a:lnTo>
                  <a:lnTo>
                    <a:pt x="1103" y="2585"/>
                  </a:lnTo>
                  <a:lnTo>
                    <a:pt x="1110" y="2585"/>
                  </a:lnTo>
                  <a:lnTo>
                    <a:pt x="1110" y="2572"/>
                  </a:lnTo>
                  <a:lnTo>
                    <a:pt x="1117" y="2572"/>
                  </a:lnTo>
                  <a:lnTo>
                    <a:pt x="1117" y="2547"/>
                  </a:lnTo>
                  <a:lnTo>
                    <a:pt x="1123" y="2547"/>
                  </a:lnTo>
                  <a:lnTo>
                    <a:pt x="1123" y="2521"/>
                  </a:lnTo>
                  <a:lnTo>
                    <a:pt x="1130" y="2521"/>
                  </a:lnTo>
                  <a:lnTo>
                    <a:pt x="1130" y="2484"/>
                  </a:lnTo>
                  <a:lnTo>
                    <a:pt x="1137" y="2484"/>
                  </a:lnTo>
                  <a:lnTo>
                    <a:pt x="1137" y="2446"/>
                  </a:lnTo>
                  <a:lnTo>
                    <a:pt x="1143" y="2446"/>
                  </a:lnTo>
                  <a:lnTo>
                    <a:pt x="1143" y="2420"/>
                  </a:lnTo>
                  <a:lnTo>
                    <a:pt x="1150" y="2420"/>
                  </a:lnTo>
                  <a:lnTo>
                    <a:pt x="1157" y="2420"/>
                  </a:lnTo>
                  <a:lnTo>
                    <a:pt x="1157" y="2369"/>
                  </a:lnTo>
                  <a:lnTo>
                    <a:pt x="1170" y="2369"/>
                  </a:lnTo>
                  <a:lnTo>
                    <a:pt x="1170" y="2330"/>
                  </a:lnTo>
                  <a:lnTo>
                    <a:pt x="1177" y="2330"/>
                  </a:lnTo>
                  <a:lnTo>
                    <a:pt x="1177" y="2318"/>
                  </a:lnTo>
                  <a:lnTo>
                    <a:pt x="1184" y="2318"/>
                  </a:lnTo>
                  <a:lnTo>
                    <a:pt x="1184" y="2292"/>
                  </a:lnTo>
                  <a:lnTo>
                    <a:pt x="1191" y="2292"/>
                  </a:lnTo>
                  <a:lnTo>
                    <a:pt x="1191" y="2253"/>
                  </a:lnTo>
                  <a:lnTo>
                    <a:pt x="1211" y="2253"/>
                  </a:lnTo>
                  <a:lnTo>
                    <a:pt x="1211" y="2240"/>
                  </a:lnTo>
                  <a:lnTo>
                    <a:pt x="1217" y="2240"/>
                  </a:lnTo>
                  <a:lnTo>
                    <a:pt x="1224" y="2240"/>
                  </a:lnTo>
                  <a:lnTo>
                    <a:pt x="1224" y="2228"/>
                  </a:lnTo>
                  <a:lnTo>
                    <a:pt x="1238" y="2228"/>
                  </a:lnTo>
                  <a:lnTo>
                    <a:pt x="1238" y="2202"/>
                  </a:lnTo>
                  <a:lnTo>
                    <a:pt x="1251" y="2202"/>
                  </a:lnTo>
                  <a:lnTo>
                    <a:pt x="1251" y="2189"/>
                  </a:lnTo>
                  <a:lnTo>
                    <a:pt x="1265" y="2189"/>
                  </a:lnTo>
                  <a:lnTo>
                    <a:pt x="1271" y="2189"/>
                  </a:lnTo>
                  <a:lnTo>
                    <a:pt x="1271" y="2176"/>
                  </a:lnTo>
                  <a:lnTo>
                    <a:pt x="1278" y="2176"/>
                  </a:lnTo>
                  <a:lnTo>
                    <a:pt x="1278" y="2163"/>
                  </a:lnTo>
                  <a:lnTo>
                    <a:pt x="1291" y="2163"/>
                  </a:lnTo>
                  <a:lnTo>
                    <a:pt x="1291" y="2149"/>
                  </a:lnTo>
                  <a:lnTo>
                    <a:pt x="1298" y="2149"/>
                  </a:lnTo>
                  <a:lnTo>
                    <a:pt x="1298" y="2136"/>
                  </a:lnTo>
                  <a:lnTo>
                    <a:pt x="1305" y="2136"/>
                  </a:lnTo>
                  <a:lnTo>
                    <a:pt x="1305" y="2123"/>
                  </a:lnTo>
                  <a:lnTo>
                    <a:pt x="1312" y="2123"/>
                  </a:lnTo>
                  <a:lnTo>
                    <a:pt x="1312" y="2110"/>
                  </a:lnTo>
                  <a:lnTo>
                    <a:pt x="1325" y="2110"/>
                  </a:lnTo>
                  <a:lnTo>
                    <a:pt x="1325" y="2084"/>
                  </a:lnTo>
                  <a:lnTo>
                    <a:pt x="1372" y="2084"/>
                  </a:lnTo>
                  <a:lnTo>
                    <a:pt x="1372" y="2057"/>
                  </a:lnTo>
                  <a:lnTo>
                    <a:pt x="1379" y="2057"/>
                  </a:lnTo>
                  <a:lnTo>
                    <a:pt x="1379" y="2044"/>
                  </a:lnTo>
                  <a:lnTo>
                    <a:pt x="1386" y="2044"/>
                  </a:lnTo>
                  <a:lnTo>
                    <a:pt x="1386" y="2004"/>
                  </a:lnTo>
                  <a:lnTo>
                    <a:pt x="1392" y="2004"/>
                  </a:lnTo>
                  <a:lnTo>
                    <a:pt x="1392" y="1991"/>
                  </a:lnTo>
                  <a:lnTo>
                    <a:pt x="1406" y="1991"/>
                  </a:lnTo>
                  <a:lnTo>
                    <a:pt x="1406" y="1977"/>
                  </a:lnTo>
                  <a:lnTo>
                    <a:pt x="1413" y="1977"/>
                  </a:lnTo>
                  <a:lnTo>
                    <a:pt x="1413" y="1964"/>
                  </a:lnTo>
                  <a:lnTo>
                    <a:pt x="1419" y="1964"/>
                  </a:lnTo>
                  <a:lnTo>
                    <a:pt x="1419" y="1924"/>
                  </a:lnTo>
                  <a:lnTo>
                    <a:pt x="1426" y="1924"/>
                  </a:lnTo>
                  <a:lnTo>
                    <a:pt x="1426" y="1910"/>
                  </a:lnTo>
                  <a:lnTo>
                    <a:pt x="1440" y="1910"/>
                  </a:lnTo>
                  <a:lnTo>
                    <a:pt x="1440" y="1883"/>
                  </a:lnTo>
                  <a:lnTo>
                    <a:pt x="1446" y="1883"/>
                  </a:lnTo>
                  <a:lnTo>
                    <a:pt x="1446" y="1870"/>
                  </a:lnTo>
                  <a:lnTo>
                    <a:pt x="1453" y="1870"/>
                  </a:lnTo>
                  <a:lnTo>
                    <a:pt x="1453" y="1856"/>
                  </a:lnTo>
                  <a:lnTo>
                    <a:pt x="1460" y="1856"/>
                  </a:lnTo>
                  <a:lnTo>
                    <a:pt x="1460" y="1843"/>
                  </a:lnTo>
                  <a:lnTo>
                    <a:pt x="1466" y="1843"/>
                  </a:lnTo>
                  <a:lnTo>
                    <a:pt x="1466" y="1829"/>
                  </a:lnTo>
                  <a:lnTo>
                    <a:pt x="1480" y="1829"/>
                  </a:lnTo>
                  <a:lnTo>
                    <a:pt x="1480" y="1816"/>
                  </a:lnTo>
                  <a:lnTo>
                    <a:pt x="1487" y="1816"/>
                  </a:lnTo>
                  <a:lnTo>
                    <a:pt x="1487" y="1802"/>
                  </a:lnTo>
                  <a:lnTo>
                    <a:pt x="1514" y="1802"/>
                  </a:lnTo>
                  <a:lnTo>
                    <a:pt x="1514" y="1788"/>
                  </a:lnTo>
                  <a:lnTo>
                    <a:pt x="1520" y="1788"/>
                  </a:lnTo>
                  <a:lnTo>
                    <a:pt x="1520" y="1775"/>
                  </a:lnTo>
                  <a:lnTo>
                    <a:pt x="1527" y="1775"/>
                  </a:lnTo>
                  <a:lnTo>
                    <a:pt x="1527" y="1761"/>
                  </a:lnTo>
                  <a:lnTo>
                    <a:pt x="1534" y="1761"/>
                  </a:lnTo>
                  <a:lnTo>
                    <a:pt x="1534" y="1748"/>
                  </a:lnTo>
                  <a:lnTo>
                    <a:pt x="1561" y="1748"/>
                  </a:lnTo>
                  <a:lnTo>
                    <a:pt x="1561" y="1734"/>
                  </a:lnTo>
                  <a:lnTo>
                    <a:pt x="1581" y="1734"/>
                  </a:lnTo>
                  <a:lnTo>
                    <a:pt x="1641" y="1734"/>
                  </a:lnTo>
                  <a:lnTo>
                    <a:pt x="1641" y="1720"/>
                  </a:lnTo>
                  <a:lnTo>
                    <a:pt x="1648" y="1720"/>
                  </a:lnTo>
                  <a:lnTo>
                    <a:pt x="1648" y="1706"/>
                  </a:lnTo>
                  <a:lnTo>
                    <a:pt x="1655" y="1706"/>
                  </a:lnTo>
                  <a:lnTo>
                    <a:pt x="1662" y="1706"/>
                  </a:lnTo>
                  <a:lnTo>
                    <a:pt x="1662" y="1693"/>
                  </a:lnTo>
                  <a:lnTo>
                    <a:pt x="1682" y="1693"/>
                  </a:lnTo>
                  <a:lnTo>
                    <a:pt x="1682" y="1665"/>
                  </a:lnTo>
                  <a:lnTo>
                    <a:pt x="1695" y="1665"/>
                  </a:lnTo>
                  <a:lnTo>
                    <a:pt x="1695" y="1651"/>
                  </a:lnTo>
                  <a:lnTo>
                    <a:pt x="1702" y="1651"/>
                  </a:lnTo>
                  <a:lnTo>
                    <a:pt x="1702" y="1637"/>
                  </a:lnTo>
                  <a:lnTo>
                    <a:pt x="1709" y="1637"/>
                  </a:lnTo>
                  <a:lnTo>
                    <a:pt x="1709" y="1623"/>
                  </a:lnTo>
                  <a:lnTo>
                    <a:pt x="1722" y="1623"/>
                  </a:lnTo>
                  <a:lnTo>
                    <a:pt x="1742" y="1623"/>
                  </a:lnTo>
                  <a:lnTo>
                    <a:pt x="1742" y="1595"/>
                  </a:lnTo>
                  <a:lnTo>
                    <a:pt x="1749" y="1595"/>
                  </a:lnTo>
                  <a:lnTo>
                    <a:pt x="1756" y="1595"/>
                  </a:lnTo>
                  <a:lnTo>
                    <a:pt x="1756" y="1580"/>
                  </a:lnTo>
                  <a:lnTo>
                    <a:pt x="1763" y="1580"/>
                  </a:lnTo>
                  <a:lnTo>
                    <a:pt x="1763" y="1566"/>
                  </a:lnTo>
                  <a:lnTo>
                    <a:pt x="1769" y="1566"/>
                  </a:lnTo>
                  <a:lnTo>
                    <a:pt x="1769" y="1552"/>
                  </a:lnTo>
                  <a:lnTo>
                    <a:pt x="1803" y="1552"/>
                  </a:lnTo>
                  <a:lnTo>
                    <a:pt x="1803" y="1509"/>
                  </a:lnTo>
                  <a:lnTo>
                    <a:pt x="1810" y="1509"/>
                  </a:lnTo>
                  <a:lnTo>
                    <a:pt x="1810" y="1495"/>
                  </a:lnTo>
                  <a:lnTo>
                    <a:pt x="1816" y="1495"/>
                  </a:lnTo>
                  <a:lnTo>
                    <a:pt x="1816" y="1467"/>
                  </a:lnTo>
                  <a:lnTo>
                    <a:pt x="1823" y="1467"/>
                  </a:lnTo>
                  <a:lnTo>
                    <a:pt x="1823" y="1452"/>
                  </a:lnTo>
                  <a:lnTo>
                    <a:pt x="1843" y="1452"/>
                  </a:lnTo>
                  <a:lnTo>
                    <a:pt x="1870" y="1452"/>
                  </a:lnTo>
                  <a:lnTo>
                    <a:pt x="1884" y="1452"/>
                  </a:lnTo>
                  <a:lnTo>
                    <a:pt x="1884" y="1438"/>
                  </a:lnTo>
                  <a:lnTo>
                    <a:pt x="1917" y="1438"/>
                  </a:lnTo>
                  <a:lnTo>
                    <a:pt x="1917" y="1423"/>
                  </a:lnTo>
                  <a:lnTo>
                    <a:pt x="1931" y="1423"/>
                  </a:lnTo>
                  <a:lnTo>
                    <a:pt x="1931" y="1408"/>
                  </a:lnTo>
                  <a:lnTo>
                    <a:pt x="1937" y="1408"/>
                  </a:lnTo>
                  <a:lnTo>
                    <a:pt x="1937" y="1394"/>
                  </a:lnTo>
                  <a:lnTo>
                    <a:pt x="1944" y="1394"/>
                  </a:lnTo>
                  <a:lnTo>
                    <a:pt x="1944" y="1379"/>
                  </a:lnTo>
                  <a:lnTo>
                    <a:pt x="1951" y="1379"/>
                  </a:lnTo>
                  <a:lnTo>
                    <a:pt x="1951" y="1364"/>
                  </a:lnTo>
                  <a:lnTo>
                    <a:pt x="1964" y="1364"/>
                  </a:lnTo>
                  <a:lnTo>
                    <a:pt x="1964" y="1350"/>
                  </a:lnTo>
                  <a:lnTo>
                    <a:pt x="1985" y="1350"/>
                  </a:lnTo>
                  <a:lnTo>
                    <a:pt x="1985" y="1335"/>
                  </a:lnTo>
                  <a:lnTo>
                    <a:pt x="2018" y="1335"/>
                  </a:lnTo>
                  <a:lnTo>
                    <a:pt x="2018" y="1320"/>
                  </a:lnTo>
                  <a:lnTo>
                    <a:pt x="2032" y="1320"/>
                  </a:lnTo>
                  <a:lnTo>
                    <a:pt x="2032" y="1290"/>
                  </a:lnTo>
                  <a:lnTo>
                    <a:pt x="2038" y="1290"/>
                  </a:lnTo>
                  <a:lnTo>
                    <a:pt x="2038" y="1276"/>
                  </a:lnTo>
                  <a:lnTo>
                    <a:pt x="2092" y="1276"/>
                  </a:lnTo>
                  <a:lnTo>
                    <a:pt x="2092" y="1261"/>
                  </a:lnTo>
                  <a:lnTo>
                    <a:pt x="2106" y="1261"/>
                  </a:lnTo>
                  <a:lnTo>
                    <a:pt x="2106" y="1246"/>
                  </a:lnTo>
                  <a:lnTo>
                    <a:pt x="2133" y="1246"/>
                  </a:lnTo>
                  <a:lnTo>
                    <a:pt x="2133" y="1231"/>
                  </a:lnTo>
                  <a:lnTo>
                    <a:pt x="2180" y="1231"/>
                  </a:lnTo>
                  <a:lnTo>
                    <a:pt x="2180" y="1217"/>
                  </a:lnTo>
                  <a:lnTo>
                    <a:pt x="2200" y="1217"/>
                  </a:lnTo>
                  <a:lnTo>
                    <a:pt x="2200" y="1202"/>
                  </a:lnTo>
                  <a:lnTo>
                    <a:pt x="2234" y="1202"/>
                  </a:lnTo>
                  <a:lnTo>
                    <a:pt x="2234" y="1187"/>
                  </a:lnTo>
                  <a:lnTo>
                    <a:pt x="2240" y="1187"/>
                  </a:lnTo>
                  <a:lnTo>
                    <a:pt x="2240" y="1172"/>
                  </a:lnTo>
                  <a:lnTo>
                    <a:pt x="2247" y="1172"/>
                  </a:lnTo>
                  <a:lnTo>
                    <a:pt x="2247" y="1143"/>
                  </a:lnTo>
                  <a:lnTo>
                    <a:pt x="2267" y="1143"/>
                  </a:lnTo>
                  <a:lnTo>
                    <a:pt x="2281" y="1143"/>
                  </a:lnTo>
                  <a:lnTo>
                    <a:pt x="2314" y="1143"/>
                  </a:lnTo>
                  <a:lnTo>
                    <a:pt x="2314" y="1128"/>
                  </a:lnTo>
                  <a:lnTo>
                    <a:pt x="2334" y="1128"/>
                  </a:lnTo>
                  <a:lnTo>
                    <a:pt x="2334" y="1097"/>
                  </a:lnTo>
                  <a:lnTo>
                    <a:pt x="2382" y="1097"/>
                  </a:lnTo>
                  <a:lnTo>
                    <a:pt x="2382" y="1082"/>
                  </a:lnTo>
                  <a:lnTo>
                    <a:pt x="2388" y="1082"/>
                  </a:lnTo>
                  <a:lnTo>
                    <a:pt x="2388" y="1067"/>
                  </a:lnTo>
                  <a:lnTo>
                    <a:pt x="2395" y="1067"/>
                  </a:lnTo>
                  <a:lnTo>
                    <a:pt x="2395" y="1052"/>
                  </a:lnTo>
                  <a:lnTo>
                    <a:pt x="2402" y="1052"/>
                  </a:lnTo>
                  <a:lnTo>
                    <a:pt x="2402" y="1036"/>
                  </a:lnTo>
                  <a:lnTo>
                    <a:pt x="2409" y="1036"/>
                  </a:lnTo>
                  <a:lnTo>
                    <a:pt x="2409" y="1021"/>
                  </a:lnTo>
                  <a:lnTo>
                    <a:pt x="2456" y="1021"/>
                  </a:lnTo>
                  <a:lnTo>
                    <a:pt x="2456" y="1005"/>
                  </a:lnTo>
                  <a:lnTo>
                    <a:pt x="2483" y="1005"/>
                  </a:lnTo>
                  <a:lnTo>
                    <a:pt x="2483" y="990"/>
                  </a:lnTo>
                  <a:lnTo>
                    <a:pt x="2509" y="990"/>
                  </a:lnTo>
                  <a:lnTo>
                    <a:pt x="2509" y="959"/>
                  </a:lnTo>
                  <a:lnTo>
                    <a:pt x="2550" y="959"/>
                  </a:lnTo>
                  <a:lnTo>
                    <a:pt x="2550" y="928"/>
                  </a:lnTo>
                  <a:lnTo>
                    <a:pt x="2563" y="928"/>
                  </a:lnTo>
                  <a:lnTo>
                    <a:pt x="2563" y="912"/>
                  </a:lnTo>
                  <a:lnTo>
                    <a:pt x="2583" y="912"/>
                  </a:lnTo>
                  <a:lnTo>
                    <a:pt x="2583" y="897"/>
                  </a:lnTo>
                  <a:lnTo>
                    <a:pt x="2590" y="897"/>
                  </a:lnTo>
                  <a:lnTo>
                    <a:pt x="2590" y="881"/>
                  </a:lnTo>
                  <a:lnTo>
                    <a:pt x="2597" y="881"/>
                  </a:lnTo>
                  <a:lnTo>
                    <a:pt x="2597" y="866"/>
                  </a:lnTo>
                  <a:lnTo>
                    <a:pt x="2644" y="866"/>
                  </a:lnTo>
                  <a:lnTo>
                    <a:pt x="2664" y="866"/>
                  </a:lnTo>
                  <a:lnTo>
                    <a:pt x="2664" y="850"/>
                  </a:lnTo>
                  <a:lnTo>
                    <a:pt x="2684" y="850"/>
                  </a:lnTo>
                  <a:lnTo>
                    <a:pt x="2738" y="850"/>
                  </a:lnTo>
                  <a:lnTo>
                    <a:pt x="2738" y="834"/>
                  </a:lnTo>
                  <a:lnTo>
                    <a:pt x="2745" y="834"/>
                  </a:lnTo>
                  <a:lnTo>
                    <a:pt x="2745" y="818"/>
                  </a:lnTo>
                  <a:lnTo>
                    <a:pt x="2785" y="818"/>
                  </a:lnTo>
                  <a:lnTo>
                    <a:pt x="2792" y="818"/>
                  </a:lnTo>
                  <a:lnTo>
                    <a:pt x="2826" y="818"/>
                  </a:lnTo>
                  <a:lnTo>
                    <a:pt x="2826" y="801"/>
                  </a:lnTo>
                  <a:lnTo>
                    <a:pt x="2832" y="801"/>
                  </a:lnTo>
                  <a:lnTo>
                    <a:pt x="2832" y="785"/>
                  </a:lnTo>
                  <a:lnTo>
                    <a:pt x="2839" y="785"/>
                  </a:lnTo>
                  <a:lnTo>
                    <a:pt x="2839" y="768"/>
                  </a:lnTo>
                  <a:lnTo>
                    <a:pt x="2846" y="768"/>
                  </a:lnTo>
                  <a:lnTo>
                    <a:pt x="2846" y="752"/>
                  </a:lnTo>
                  <a:lnTo>
                    <a:pt x="2853" y="752"/>
                  </a:lnTo>
                  <a:lnTo>
                    <a:pt x="2853" y="735"/>
                  </a:lnTo>
                  <a:lnTo>
                    <a:pt x="2880" y="735"/>
                  </a:lnTo>
                  <a:lnTo>
                    <a:pt x="2880" y="719"/>
                  </a:lnTo>
                  <a:lnTo>
                    <a:pt x="2906" y="719"/>
                  </a:lnTo>
                  <a:lnTo>
                    <a:pt x="2906" y="702"/>
                  </a:lnTo>
                  <a:lnTo>
                    <a:pt x="2947" y="702"/>
                  </a:lnTo>
                  <a:lnTo>
                    <a:pt x="2947" y="686"/>
                  </a:lnTo>
                  <a:lnTo>
                    <a:pt x="2974" y="686"/>
                  </a:lnTo>
                  <a:lnTo>
                    <a:pt x="2974" y="669"/>
                  </a:lnTo>
                  <a:lnTo>
                    <a:pt x="3068" y="669"/>
                  </a:lnTo>
                  <a:lnTo>
                    <a:pt x="3068" y="653"/>
                  </a:lnTo>
                  <a:lnTo>
                    <a:pt x="3081" y="653"/>
                  </a:lnTo>
                  <a:lnTo>
                    <a:pt x="3135" y="653"/>
                  </a:lnTo>
                  <a:lnTo>
                    <a:pt x="3135" y="636"/>
                  </a:lnTo>
                  <a:lnTo>
                    <a:pt x="3189" y="636"/>
                  </a:lnTo>
                  <a:lnTo>
                    <a:pt x="3189" y="619"/>
                  </a:lnTo>
                  <a:lnTo>
                    <a:pt x="3256" y="619"/>
                  </a:lnTo>
                  <a:lnTo>
                    <a:pt x="3256" y="602"/>
                  </a:lnTo>
                  <a:lnTo>
                    <a:pt x="3297" y="602"/>
                  </a:lnTo>
                  <a:lnTo>
                    <a:pt x="3297" y="585"/>
                  </a:lnTo>
                  <a:lnTo>
                    <a:pt x="3357" y="585"/>
                  </a:lnTo>
                  <a:lnTo>
                    <a:pt x="3357" y="568"/>
                  </a:lnTo>
                  <a:lnTo>
                    <a:pt x="3378" y="568"/>
                  </a:lnTo>
                  <a:lnTo>
                    <a:pt x="3378" y="534"/>
                  </a:lnTo>
                  <a:lnTo>
                    <a:pt x="3398" y="534"/>
                  </a:lnTo>
                  <a:lnTo>
                    <a:pt x="3398" y="517"/>
                  </a:lnTo>
                  <a:lnTo>
                    <a:pt x="3411" y="517"/>
                  </a:lnTo>
                  <a:lnTo>
                    <a:pt x="3411" y="500"/>
                  </a:lnTo>
                  <a:lnTo>
                    <a:pt x="3438" y="500"/>
                  </a:lnTo>
                  <a:lnTo>
                    <a:pt x="3505" y="500"/>
                  </a:lnTo>
                  <a:lnTo>
                    <a:pt x="3505" y="483"/>
                  </a:lnTo>
                  <a:lnTo>
                    <a:pt x="3519" y="483"/>
                  </a:lnTo>
                  <a:lnTo>
                    <a:pt x="3600" y="483"/>
                  </a:lnTo>
                  <a:lnTo>
                    <a:pt x="3613" y="483"/>
                  </a:lnTo>
                  <a:lnTo>
                    <a:pt x="3613" y="465"/>
                  </a:lnTo>
                  <a:lnTo>
                    <a:pt x="3620" y="465"/>
                  </a:lnTo>
                  <a:lnTo>
                    <a:pt x="3680" y="465"/>
                  </a:lnTo>
                  <a:lnTo>
                    <a:pt x="3714" y="465"/>
                  </a:lnTo>
                  <a:lnTo>
                    <a:pt x="3714" y="445"/>
                  </a:lnTo>
                  <a:lnTo>
                    <a:pt x="3761" y="445"/>
                  </a:lnTo>
                  <a:lnTo>
                    <a:pt x="3761" y="406"/>
                  </a:lnTo>
                  <a:lnTo>
                    <a:pt x="3808" y="406"/>
                  </a:lnTo>
                  <a:lnTo>
                    <a:pt x="3808" y="364"/>
                  </a:lnTo>
                  <a:lnTo>
                    <a:pt x="3835" y="364"/>
                  </a:lnTo>
                  <a:lnTo>
                    <a:pt x="3923" y="364"/>
                  </a:lnTo>
                  <a:lnTo>
                    <a:pt x="3956" y="364"/>
                  </a:lnTo>
                  <a:lnTo>
                    <a:pt x="4084" y="364"/>
                  </a:lnTo>
                  <a:lnTo>
                    <a:pt x="4252" y="364"/>
                  </a:lnTo>
                  <a:lnTo>
                    <a:pt x="4340" y="364"/>
                  </a:lnTo>
                  <a:lnTo>
                    <a:pt x="4340" y="337"/>
                  </a:lnTo>
                  <a:lnTo>
                    <a:pt x="4360" y="337"/>
                  </a:lnTo>
                  <a:lnTo>
                    <a:pt x="4360" y="311"/>
                  </a:lnTo>
                  <a:lnTo>
                    <a:pt x="4407" y="311"/>
                  </a:lnTo>
                  <a:lnTo>
                    <a:pt x="4488" y="311"/>
                  </a:lnTo>
                  <a:lnTo>
                    <a:pt x="4488" y="282"/>
                  </a:lnTo>
                  <a:lnTo>
                    <a:pt x="4508" y="282"/>
                  </a:lnTo>
                  <a:lnTo>
                    <a:pt x="4508" y="254"/>
                  </a:lnTo>
                  <a:lnTo>
                    <a:pt x="4521" y="254"/>
                  </a:lnTo>
                  <a:lnTo>
                    <a:pt x="4521" y="226"/>
                  </a:lnTo>
                  <a:lnTo>
                    <a:pt x="4548" y="226"/>
                  </a:lnTo>
                  <a:lnTo>
                    <a:pt x="4548" y="197"/>
                  </a:lnTo>
                  <a:lnTo>
                    <a:pt x="4717" y="197"/>
                  </a:lnTo>
                  <a:lnTo>
                    <a:pt x="4717" y="169"/>
                  </a:lnTo>
                  <a:lnTo>
                    <a:pt x="4777" y="169"/>
                  </a:lnTo>
                  <a:lnTo>
                    <a:pt x="4777" y="141"/>
                  </a:lnTo>
                  <a:lnTo>
                    <a:pt x="4811" y="141"/>
                  </a:lnTo>
                  <a:lnTo>
                    <a:pt x="4912" y="141"/>
                  </a:lnTo>
                  <a:lnTo>
                    <a:pt x="5060" y="141"/>
                  </a:lnTo>
                  <a:lnTo>
                    <a:pt x="5134" y="141"/>
                  </a:lnTo>
                  <a:lnTo>
                    <a:pt x="5167" y="141"/>
                  </a:lnTo>
                  <a:lnTo>
                    <a:pt x="5450" y="141"/>
                  </a:lnTo>
                  <a:lnTo>
                    <a:pt x="5612" y="141"/>
                  </a:lnTo>
                  <a:lnTo>
                    <a:pt x="5847" y="141"/>
                  </a:lnTo>
                  <a:lnTo>
                    <a:pt x="6224" y="141"/>
                  </a:lnTo>
                  <a:lnTo>
                    <a:pt x="6224" y="0"/>
                  </a:lnTo>
                  <a:lnTo>
                    <a:pt x="6870"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0" name="Freeform 93"/>
            <p:cNvSpPr/>
            <p:nvPr/>
          </p:nvSpPr>
          <p:spPr>
            <a:xfrm flipV="1">
              <a:off x="946080" y="1742400"/>
              <a:ext cx="6211800" cy="3568320"/>
            </a:xfrm>
            <a:custGeom>
              <a:avLst/>
              <a:gdLst/>
              <a:ahLst/>
              <a:rect l="l" t="t" r="r" b="b"/>
              <a:pathLst>
                <a:path w="5955" h="3431">
                  <a:moveTo>
                    <a:pt x="0" y="3431"/>
                  </a:moveTo>
                  <a:lnTo>
                    <a:pt x="6" y="3431"/>
                  </a:lnTo>
                  <a:lnTo>
                    <a:pt x="565" y="3431"/>
                  </a:lnTo>
                  <a:lnTo>
                    <a:pt x="565" y="3420"/>
                  </a:lnTo>
                  <a:lnTo>
                    <a:pt x="585" y="3420"/>
                  </a:lnTo>
                  <a:lnTo>
                    <a:pt x="592" y="3420"/>
                  </a:lnTo>
                  <a:lnTo>
                    <a:pt x="605" y="3420"/>
                  </a:lnTo>
                  <a:lnTo>
                    <a:pt x="605" y="3408"/>
                  </a:lnTo>
                  <a:lnTo>
                    <a:pt x="619" y="3408"/>
                  </a:lnTo>
                  <a:lnTo>
                    <a:pt x="632" y="3408"/>
                  </a:lnTo>
                  <a:lnTo>
                    <a:pt x="666" y="3408"/>
                  </a:lnTo>
                  <a:lnTo>
                    <a:pt x="666" y="3396"/>
                  </a:lnTo>
                  <a:lnTo>
                    <a:pt x="672" y="3396"/>
                  </a:lnTo>
                  <a:lnTo>
                    <a:pt x="672" y="3385"/>
                  </a:lnTo>
                  <a:lnTo>
                    <a:pt x="679" y="3385"/>
                  </a:lnTo>
                  <a:lnTo>
                    <a:pt x="679" y="3373"/>
                  </a:lnTo>
                  <a:lnTo>
                    <a:pt x="693" y="3373"/>
                  </a:lnTo>
                  <a:lnTo>
                    <a:pt x="693" y="3361"/>
                  </a:lnTo>
                  <a:lnTo>
                    <a:pt x="713" y="3361"/>
                  </a:lnTo>
                  <a:lnTo>
                    <a:pt x="713" y="3349"/>
                  </a:lnTo>
                  <a:lnTo>
                    <a:pt x="726" y="3349"/>
                  </a:lnTo>
                  <a:lnTo>
                    <a:pt x="726" y="3337"/>
                  </a:lnTo>
                  <a:lnTo>
                    <a:pt x="740" y="3337"/>
                  </a:lnTo>
                  <a:lnTo>
                    <a:pt x="740" y="3314"/>
                  </a:lnTo>
                  <a:lnTo>
                    <a:pt x="746" y="3314"/>
                  </a:lnTo>
                  <a:lnTo>
                    <a:pt x="746" y="3290"/>
                  </a:lnTo>
                  <a:lnTo>
                    <a:pt x="753" y="3290"/>
                  </a:lnTo>
                  <a:lnTo>
                    <a:pt x="753" y="3278"/>
                  </a:lnTo>
                  <a:lnTo>
                    <a:pt x="767" y="3278"/>
                  </a:lnTo>
                  <a:lnTo>
                    <a:pt x="767" y="3267"/>
                  </a:lnTo>
                  <a:lnTo>
                    <a:pt x="773" y="3267"/>
                  </a:lnTo>
                  <a:lnTo>
                    <a:pt x="773" y="3255"/>
                  </a:lnTo>
                  <a:lnTo>
                    <a:pt x="787" y="3255"/>
                  </a:lnTo>
                  <a:lnTo>
                    <a:pt x="794" y="3255"/>
                  </a:lnTo>
                  <a:lnTo>
                    <a:pt x="794" y="3243"/>
                  </a:lnTo>
                  <a:lnTo>
                    <a:pt x="800" y="3243"/>
                  </a:lnTo>
                  <a:lnTo>
                    <a:pt x="800" y="3231"/>
                  </a:lnTo>
                  <a:lnTo>
                    <a:pt x="807" y="3231"/>
                  </a:lnTo>
                  <a:lnTo>
                    <a:pt x="807" y="3207"/>
                  </a:lnTo>
                  <a:lnTo>
                    <a:pt x="814" y="3207"/>
                  </a:lnTo>
                  <a:lnTo>
                    <a:pt x="814" y="3172"/>
                  </a:lnTo>
                  <a:lnTo>
                    <a:pt x="820" y="3172"/>
                  </a:lnTo>
                  <a:lnTo>
                    <a:pt x="820" y="3124"/>
                  </a:lnTo>
                  <a:lnTo>
                    <a:pt x="827" y="3124"/>
                  </a:lnTo>
                  <a:lnTo>
                    <a:pt x="827" y="3089"/>
                  </a:lnTo>
                  <a:lnTo>
                    <a:pt x="841" y="3089"/>
                  </a:lnTo>
                  <a:lnTo>
                    <a:pt x="841" y="3029"/>
                  </a:lnTo>
                  <a:lnTo>
                    <a:pt x="847" y="3029"/>
                  </a:lnTo>
                  <a:lnTo>
                    <a:pt x="847" y="3005"/>
                  </a:lnTo>
                  <a:lnTo>
                    <a:pt x="854" y="3005"/>
                  </a:lnTo>
                  <a:lnTo>
                    <a:pt x="854" y="2945"/>
                  </a:lnTo>
                  <a:lnTo>
                    <a:pt x="861" y="2945"/>
                  </a:lnTo>
                  <a:lnTo>
                    <a:pt x="861" y="2874"/>
                  </a:lnTo>
                  <a:lnTo>
                    <a:pt x="874" y="2874"/>
                  </a:lnTo>
                  <a:lnTo>
                    <a:pt x="874" y="2837"/>
                  </a:lnTo>
                  <a:lnTo>
                    <a:pt x="888" y="2837"/>
                  </a:lnTo>
                  <a:lnTo>
                    <a:pt x="888" y="2813"/>
                  </a:lnTo>
                  <a:lnTo>
                    <a:pt x="894" y="2813"/>
                  </a:lnTo>
                  <a:lnTo>
                    <a:pt x="894" y="2777"/>
                  </a:lnTo>
                  <a:lnTo>
                    <a:pt x="901" y="2777"/>
                  </a:lnTo>
                  <a:lnTo>
                    <a:pt x="901" y="2753"/>
                  </a:lnTo>
                  <a:lnTo>
                    <a:pt x="908" y="2753"/>
                  </a:lnTo>
                  <a:lnTo>
                    <a:pt x="908" y="2716"/>
                  </a:lnTo>
                  <a:lnTo>
                    <a:pt x="915" y="2716"/>
                  </a:lnTo>
                  <a:lnTo>
                    <a:pt x="915" y="2704"/>
                  </a:lnTo>
                  <a:lnTo>
                    <a:pt x="921" y="2704"/>
                  </a:lnTo>
                  <a:lnTo>
                    <a:pt x="921" y="2655"/>
                  </a:lnTo>
                  <a:lnTo>
                    <a:pt x="928" y="2655"/>
                  </a:lnTo>
                  <a:lnTo>
                    <a:pt x="928" y="2631"/>
                  </a:lnTo>
                  <a:lnTo>
                    <a:pt x="935" y="2631"/>
                  </a:lnTo>
                  <a:lnTo>
                    <a:pt x="935" y="2619"/>
                  </a:lnTo>
                  <a:lnTo>
                    <a:pt x="942" y="2619"/>
                  </a:lnTo>
                  <a:lnTo>
                    <a:pt x="942" y="2594"/>
                  </a:lnTo>
                  <a:lnTo>
                    <a:pt x="948" y="2594"/>
                  </a:lnTo>
                  <a:lnTo>
                    <a:pt x="948" y="2582"/>
                  </a:lnTo>
                  <a:lnTo>
                    <a:pt x="955" y="2582"/>
                  </a:lnTo>
                  <a:lnTo>
                    <a:pt x="968" y="2582"/>
                  </a:lnTo>
                  <a:lnTo>
                    <a:pt x="968" y="2570"/>
                  </a:lnTo>
                  <a:lnTo>
                    <a:pt x="995" y="2570"/>
                  </a:lnTo>
                  <a:lnTo>
                    <a:pt x="995" y="2558"/>
                  </a:lnTo>
                  <a:lnTo>
                    <a:pt x="1009" y="2558"/>
                  </a:lnTo>
                  <a:lnTo>
                    <a:pt x="1009" y="2546"/>
                  </a:lnTo>
                  <a:lnTo>
                    <a:pt x="1029" y="2546"/>
                  </a:lnTo>
                  <a:lnTo>
                    <a:pt x="1029" y="2533"/>
                  </a:lnTo>
                  <a:lnTo>
                    <a:pt x="1036" y="2533"/>
                  </a:lnTo>
                  <a:lnTo>
                    <a:pt x="1036" y="2521"/>
                  </a:lnTo>
                  <a:lnTo>
                    <a:pt x="1043" y="2521"/>
                  </a:lnTo>
                  <a:lnTo>
                    <a:pt x="1043" y="2509"/>
                  </a:lnTo>
                  <a:lnTo>
                    <a:pt x="1069" y="2509"/>
                  </a:lnTo>
                  <a:lnTo>
                    <a:pt x="1069" y="2497"/>
                  </a:lnTo>
                  <a:lnTo>
                    <a:pt x="1083" y="2497"/>
                  </a:lnTo>
                  <a:lnTo>
                    <a:pt x="1083" y="2472"/>
                  </a:lnTo>
                  <a:lnTo>
                    <a:pt x="1096" y="2472"/>
                  </a:lnTo>
                  <a:lnTo>
                    <a:pt x="1096" y="2435"/>
                  </a:lnTo>
                  <a:lnTo>
                    <a:pt x="1103" y="2435"/>
                  </a:lnTo>
                  <a:lnTo>
                    <a:pt x="1103" y="2374"/>
                  </a:lnTo>
                  <a:lnTo>
                    <a:pt x="1110" y="2374"/>
                  </a:lnTo>
                  <a:lnTo>
                    <a:pt x="1110" y="2349"/>
                  </a:lnTo>
                  <a:lnTo>
                    <a:pt x="1117" y="2349"/>
                  </a:lnTo>
                  <a:lnTo>
                    <a:pt x="1117" y="2324"/>
                  </a:lnTo>
                  <a:lnTo>
                    <a:pt x="1123" y="2324"/>
                  </a:lnTo>
                  <a:lnTo>
                    <a:pt x="1123" y="2287"/>
                  </a:lnTo>
                  <a:lnTo>
                    <a:pt x="1130" y="2287"/>
                  </a:lnTo>
                  <a:lnTo>
                    <a:pt x="1130" y="2225"/>
                  </a:lnTo>
                  <a:lnTo>
                    <a:pt x="1137" y="2225"/>
                  </a:lnTo>
                  <a:lnTo>
                    <a:pt x="1137" y="2151"/>
                  </a:lnTo>
                  <a:lnTo>
                    <a:pt x="1143" y="2151"/>
                  </a:lnTo>
                  <a:lnTo>
                    <a:pt x="1143" y="2114"/>
                  </a:lnTo>
                  <a:lnTo>
                    <a:pt x="1157" y="2114"/>
                  </a:lnTo>
                  <a:lnTo>
                    <a:pt x="1157" y="2089"/>
                  </a:lnTo>
                  <a:lnTo>
                    <a:pt x="1164" y="2089"/>
                  </a:lnTo>
                  <a:lnTo>
                    <a:pt x="1164" y="2076"/>
                  </a:lnTo>
                  <a:lnTo>
                    <a:pt x="1184" y="2076"/>
                  </a:lnTo>
                  <a:lnTo>
                    <a:pt x="1184" y="2064"/>
                  </a:lnTo>
                  <a:lnTo>
                    <a:pt x="1191" y="2064"/>
                  </a:lnTo>
                  <a:lnTo>
                    <a:pt x="1191" y="2026"/>
                  </a:lnTo>
                  <a:lnTo>
                    <a:pt x="1197" y="2026"/>
                  </a:lnTo>
                  <a:lnTo>
                    <a:pt x="1197" y="2013"/>
                  </a:lnTo>
                  <a:lnTo>
                    <a:pt x="1217" y="2013"/>
                  </a:lnTo>
                  <a:lnTo>
                    <a:pt x="1217" y="2001"/>
                  </a:lnTo>
                  <a:lnTo>
                    <a:pt x="1224" y="2001"/>
                  </a:lnTo>
                  <a:lnTo>
                    <a:pt x="1224" y="1976"/>
                  </a:lnTo>
                  <a:lnTo>
                    <a:pt x="1231" y="1976"/>
                  </a:lnTo>
                  <a:lnTo>
                    <a:pt x="1231" y="1963"/>
                  </a:lnTo>
                  <a:lnTo>
                    <a:pt x="1238" y="1963"/>
                  </a:lnTo>
                  <a:lnTo>
                    <a:pt x="1238" y="1938"/>
                  </a:lnTo>
                  <a:lnTo>
                    <a:pt x="1244" y="1938"/>
                  </a:lnTo>
                  <a:lnTo>
                    <a:pt x="1244" y="1925"/>
                  </a:lnTo>
                  <a:lnTo>
                    <a:pt x="1265" y="1925"/>
                  </a:lnTo>
                  <a:lnTo>
                    <a:pt x="1265" y="1913"/>
                  </a:lnTo>
                  <a:lnTo>
                    <a:pt x="1278" y="1913"/>
                  </a:lnTo>
                  <a:lnTo>
                    <a:pt x="1278" y="1888"/>
                  </a:lnTo>
                  <a:lnTo>
                    <a:pt x="1285" y="1888"/>
                  </a:lnTo>
                  <a:lnTo>
                    <a:pt x="1285" y="1875"/>
                  </a:lnTo>
                  <a:lnTo>
                    <a:pt x="1291" y="1875"/>
                  </a:lnTo>
                  <a:lnTo>
                    <a:pt x="1291" y="1862"/>
                  </a:lnTo>
                  <a:lnTo>
                    <a:pt x="1312" y="1862"/>
                  </a:lnTo>
                  <a:lnTo>
                    <a:pt x="1312" y="1850"/>
                  </a:lnTo>
                  <a:lnTo>
                    <a:pt x="1325" y="1850"/>
                  </a:lnTo>
                  <a:lnTo>
                    <a:pt x="1325" y="1824"/>
                  </a:lnTo>
                  <a:lnTo>
                    <a:pt x="1372" y="1824"/>
                  </a:lnTo>
                  <a:lnTo>
                    <a:pt x="1372" y="1812"/>
                  </a:lnTo>
                  <a:lnTo>
                    <a:pt x="1386" y="1812"/>
                  </a:lnTo>
                  <a:lnTo>
                    <a:pt x="1386" y="1799"/>
                  </a:lnTo>
                  <a:lnTo>
                    <a:pt x="1392" y="1799"/>
                  </a:lnTo>
                  <a:lnTo>
                    <a:pt x="1392" y="1786"/>
                  </a:lnTo>
                  <a:lnTo>
                    <a:pt x="1406" y="1786"/>
                  </a:lnTo>
                  <a:lnTo>
                    <a:pt x="1406" y="1761"/>
                  </a:lnTo>
                  <a:lnTo>
                    <a:pt x="1413" y="1761"/>
                  </a:lnTo>
                  <a:lnTo>
                    <a:pt x="1413" y="1723"/>
                  </a:lnTo>
                  <a:lnTo>
                    <a:pt x="1419" y="1723"/>
                  </a:lnTo>
                  <a:lnTo>
                    <a:pt x="1419" y="1684"/>
                  </a:lnTo>
                  <a:lnTo>
                    <a:pt x="1426" y="1684"/>
                  </a:lnTo>
                  <a:lnTo>
                    <a:pt x="1426" y="1659"/>
                  </a:lnTo>
                  <a:lnTo>
                    <a:pt x="1433" y="1659"/>
                  </a:lnTo>
                  <a:lnTo>
                    <a:pt x="1433" y="1646"/>
                  </a:lnTo>
                  <a:lnTo>
                    <a:pt x="1440" y="1646"/>
                  </a:lnTo>
                  <a:lnTo>
                    <a:pt x="1440" y="1621"/>
                  </a:lnTo>
                  <a:lnTo>
                    <a:pt x="1446" y="1621"/>
                  </a:lnTo>
                  <a:lnTo>
                    <a:pt x="1446" y="1595"/>
                  </a:lnTo>
                  <a:lnTo>
                    <a:pt x="1453" y="1595"/>
                  </a:lnTo>
                  <a:lnTo>
                    <a:pt x="1453" y="1570"/>
                  </a:lnTo>
                  <a:lnTo>
                    <a:pt x="1460" y="1570"/>
                  </a:lnTo>
                  <a:lnTo>
                    <a:pt x="1460" y="1557"/>
                  </a:lnTo>
                  <a:lnTo>
                    <a:pt x="1466" y="1557"/>
                  </a:lnTo>
                  <a:lnTo>
                    <a:pt x="1466" y="1531"/>
                  </a:lnTo>
                  <a:lnTo>
                    <a:pt x="1487" y="1531"/>
                  </a:lnTo>
                  <a:lnTo>
                    <a:pt x="1487" y="1493"/>
                  </a:lnTo>
                  <a:lnTo>
                    <a:pt x="1500" y="1493"/>
                  </a:lnTo>
                  <a:lnTo>
                    <a:pt x="1500" y="1480"/>
                  </a:lnTo>
                  <a:lnTo>
                    <a:pt x="1507" y="1480"/>
                  </a:lnTo>
                  <a:lnTo>
                    <a:pt x="1507" y="1442"/>
                  </a:lnTo>
                  <a:lnTo>
                    <a:pt x="1514" y="1442"/>
                  </a:lnTo>
                  <a:lnTo>
                    <a:pt x="1514" y="1429"/>
                  </a:lnTo>
                  <a:lnTo>
                    <a:pt x="1527" y="1429"/>
                  </a:lnTo>
                  <a:lnTo>
                    <a:pt x="1534" y="1429"/>
                  </a:lnTo>
                  <a:lnTo>
                    <a:pt x="1534" y="1416"/>
                  </a:lnTo>
                  <a:lnTo>
                    <a:pt x="1540" y="1416"/>
                  </a:lnTo>
                  <a:lnTo>
                    <a:pt x="1540" y="1403"/>
                  </a:lnTo>
                  <a:lnTo>
                    <a:pt x="1547" y="1403"/>
                  </a:lnTo>
                  <a:lnTo>
                    <a:pt x="1547" y="1390"/>
                  </a:lnTo>
                  <a:lnTo>
                    <a:pt x="1554" y="1390"/>
                  </a:lnTo>
                  <a:lnTo>
                    <a:pt x="1554" y="1377"/>
                  </a:lnTo>
                  <a:lnTo>
                    <a:pt x="1581" y="1377"/>
                  </a:lnTo>
                  <a:lnTo>
                    <a:pt x="1581" y="1364"/>
                  </a:lnTo>
                  <a:lnTo>
                    <a:pt x="1608" y="1364"/>
                  </a:lnTo>
                  <a:lnTo>
                    <a:pt x="1608" y="1351"/>
                  </a:lnTo>
                  <a:lnTo>
                    <a:pt x="1621" y="1351"/>
                  </a:lnTo>
                  <a:lnTo>
                    <a:pt x="1621" y="1338"/>
                  </a:lnTo>
                  <a:lnTo>
                    <a:pt x="1655" y="1338"/>
                  </a:lnTo>
                  <a:lnTo>
                    <a:pt x="1655" y="1325"/>
                  </a:lnTo>
                  <a:lnTo>
                    <a:pt x="1662" y="1325"/>
                  </a:lnTo>
                  <a:lnTo>
                    <a:pt x="1662" y="1298"/>
                  </a:lnTo>
                  <a:lnTo>
                    <a:pt x="1682" y="1298"/>
                  </a:lnTo>
                  <a:lnTo>
                    <a:pt x="1682" y="1285"/>
                  </a:lnTo>
                  <a:lnTo>
                    <a:pt x="1689" y="1285"/>
                  </a:lnTo>
                  <a:lnTo>
                    <a:pt x="1689" y="1272"/>
                  </a:lnTo>
                  <a:lnTo>
                    <a:pt x="1695" y="1272"/>
                  </a:lnTo>
                  <a:lnTo>
                    <a:pt x="1695" y="1259"/>
                  </a:lnTo>
                  <a:lnTo>
                    <a:pt x="1709" y="1259"/>
                  </a:lnTo>
                  <a:lnTo>
                    <a:pt x="1709" y="1245"/>
                  </a:lnTo>
                  <a:lnTo>
                    <a:pt x="1715" y="1245"/>
                  </a:lnTo>
                  <a:lnTo>
                    <a:pt x="1715" y="1219"/>
                  </a:lnTo>
                  <a:lnTo>
                    <a:pt x="1742" y="1219"/>
                  </a:lnTo>
                  <a:lnTo>
                    <a:pt x="1742" y="1165"/>
                  </a:lnTo>
                  <a:lnTo>
                    <a:pt x="1756" y="1165"/>
                  </a:lnTo>
                  <a:lnTo>
                    <a:pt x="1756" y="1138"/>
                  </a:lnTo>
                  <a:lnTo>
                    <a:pt x="1763" y="1138"/>
                  </a:lnTo>
                  <a:lnTo>
                    <a:pt x="1763" y="1124"/>
                  </a:lnTo>
                  <a:lnTo>
                    <a:pt x="1796" y="1124"/>
                  </a:lnTo>
                  <a:lnTo>
                    <a:pt x="1796" y="1097"/>
                  </a:lnTo>
                  <a:lnTo>
                    <a:pt x="1803" y="1097"/>
                  </a:lnTo>
                  <a:lnTo>
                    <a:pt x="1803" y="1084"/>
                  </a:lnTo>
                  <a:lnTo>
                    <a:pt x="1823" y="1084"/>
                  </a:lnTo>
                  <a:lnTo>
                    <a:pt x="1823" y="1070"/>
                  </a:lnTo>
                  <a:lnTo>
                    <a:pt x="1837" y="1070"/>
                  </a:lnTo>
                  <a:lnTo>
                    <a:pt x="1837" y="1057"/>
                  </a:lnTo>
                  <a:lnTo>
                    <a:pt x="1850" y="1057"/>
                  </a:lnTo>
                  <a:lnTo>
                    <a:pt x="1850" y="1043"/>
                  </a:lnTo>
                  <a:lnTo>
                    <a:pt x="1870" y="1043"/>
                  </a:lnTo>
                  <a:lnTo>
                    <a:pt x="1870" y="1030"/>
                  </a:lnTo>
                  <a:lnTo>
                    <a:pt x="1877" y="1030"/>
                  </a:lnTo>
                  <a:lnTo>
                    <a:pt x="1877" y="1016"/>
                  </a:lnTo>
                  <a:lnTo>
                    <a:pt x="1917" y="1016"/>
                  </a:lnTo>
                  <a:lnTo>
                    <a:pt x="1917" y="1002"/>
                  </a:lnTo>
                  <a:lnTo>
                    <a:pt x="1924" y="1002"/>
                  </a:lnTo>
                  <a:lnTo>
                    <a:pt x="1924" y="989"/>
                  </a:lnTo>
                  <a:lnTo>
                    <a:pt x="1944" y="989"/>
                  </a:lnTo>
                  <a:lnTo>
                    <a:pt x="1944" y="975"/>
                  </a:lnTo>
                  <a:lnTo>
                    <a:pt x="1951" y="975"/>
                  </a:lnTo>
                  <a:lnTo>
                    <a:pt x="1951" y="948"/>
                  </a:lnTo>
                  <a:lnTo>
                    <a:pt x="1971" y="948"/>
                  </a:lnTo>
                  <a:lnTo>
                    <a:pt x="1971" y="935"/>
                  </a:lnTo>
                  <a:lnTo>
                    <a:pt x="1978" y="935"/>
                  </a:lnTo>
                  <a:lnTo>
                    <a:pt x="1978" y="921"/>
                  </a:lnTo>
                  <a:lnTo>
                    <a:pt x="2005" y="921"/>
                  </a:lnTo>
                  <a:lnTo>
                    <a:pt x="2005" y="908"/>
                  </a:lnTo>
                  <a:lnTo>
                    <a:pt x="2018" y="908"/>
                  </a:lnTo>
                  <a:lnTo>
                    <a:pt x="2018" y="894"/>
                  </a:lnTo>
                  <a:lnTo>
                    <a:pt x="2059" y="894"/>
                  </a:lnTo>
                  <a:lnTo>
                    <a:pt x="2059" y="881"/>
                  </a:lnTo>
                  <a:lnTo>
                    <a:pt x="2072" y="881"/>
                  </a:lnTo>
                  <a:lnTo>
                    <a:pt x="2072" y="867"/>
                  </a:lnTo>
                  <a:lnTo>
                    <a:pt x="2086" y="867"/>
                  </a:lnTo>
                  <a:lnTo>
                    <a:pt x="2086" y="853"/>
                  </a:lnTo>
                  <a:lnTo>
                    <a:pt x="2133" y="853"/>
                  </a:lnTo>
                  <a:lnTo>
                    <a:pt x="2133" y="840"/>
                  </a:lnTo>
                  <a:lnTo>
                    <a:pt x="2213" y="840"/>
                  </a:lnTo>
                  <a:lnTo>
                    <a:pt x="2213" y="826"/>
                  </a:lnTo>
                  <a:lnTo>
                    <a:pt x="2247" y="826"/>
                  </a:lnTo>
                  <a:lnTo>
                    <a:pt x="2247" y="813"/>
                  </a:lnTo>
                  <a:lnTo>
                    <a:pt x="2260" y="813"/>
                  </a:lnTo>
                  <a:lnTo>
                    <a:pt x="2260" y="799"/>
                  </a:lnTo>
                  <a:lnTo>
                    <a:pt x="2267" y="799"/>
                  </a:lnTo>
                  <a:lnTo>
                    <a:pt x="2267" y="772"/>
                  </a:lnTo>
                  <a:lnTo>
                    <a:pt x="2274" y="772"/>
                  </a:lnTo>
                  <a:lnTo>
                    <a:pt x="2274" y="745"/>
                  </a:lnTo>
                  <a:lnTo>
                    <a:pt x="2308" y="745"/>
                  </a:lnTo>
                  <a:lnTo>
                    <a:pt x="2375" y="745"/>
                  </a:lnTo>
                  <a:lnTo>
                    <a:pt x="2375" y="718"/>
                  </a:lnTo>
                  <a:lnTo>
                    <a:pt x="2382" y="718"/>
                  </a:lnTo>
                  <a:lnTo>
                    <a:pt x="2382" y="704"/>
                  </a:lnTo>
                  <a:lnTo>
                    <a:pt x="2388" y="704"/>
                  </a:lnTo>
                  <a:lnTo>
                    <a:pt x="2388" y="690"/>
                  </a:lnTo>
                  <a:lnTo>
                    <a:pt x="2409" y="690"/>
                  </a:lnTo>
                  <a:lnTo>
                    <a:pt x="2409" y="676"/>
                  </a:lnTo>
                  <a:lnTo>
                    <a:pt x="2516" y="676"/>
                  </a:lnTo>
                  <a:lnTo>
                    <a:pt x="2516" y="649"/>
                  </a:lnTo>
                  <a:lnTo>
                    <a:pt x="2530" y="649"/>
                  </a:lnTo>
                  <a:lnTo>
                    <a:pt x="2536" y="649"/>
                  </a:lnTo>
                  <a:lnTo>
                    <a:pt x="2536" y="634"/>
                  </a:lnTo>
                  <a:lnTo>
                    <a:pt x="2563" y="634"/>
                  </a:lnTo>
                  <a:lnTo>
                    <a:pt x="2563" y="620"/>
                  </a:lnTo>
                  <a:lnTo>
                    <a:pt x="2577" y="620"/>
                  </a:lnTo>
                  <a:lnTo>
                    <a:pt x="2577" y="606"/>
                  </a:lnTo>
                  <a:lnTo>
                    <a:pt x="2583" y="606"/>
                  </a:lnTo>
                  <a:lnTo>
                    <a:pt x="2583" y="592"/>
                  </a:lnTo>
                  <a:lnTo>
                    <a:pt x="2590" y="592"/>
                  </a:lnTo>
                  <a:lnTo>
                    <a:pt x="2590" y="564"/>
                  </a:lnTo>
                  <a:lnTo>
                    <a:pt x="2678" y="564"/>
                  </a:lnTo>
                  <a:lnTo>
                    <a:pt x="2678" y="550"/>
                  </a:lnTo>
                  <a:lnTo>
                    <a:pt x="2691" y="550"/>
                  </a:lnTo>
                  <a:lnTo>
                    <a:pt x="2691" y="522"/>
                  </a:lnTo>
                  <a:lnTo>
                    <a:pt x="2846" y="522"/>
                  </a:lnTo>
                  <a:lnTo>
                    <a:pt x="2866" y="522"/>
                  </a:lnTo>
                  <a:lnTo>
                    <a:pt x="2866" y="507"/>
                  </a:lnTo>
                  <a:lnTo>
                    <a:pt x="2947" y="507"/>
                  </a:lnTo>
                  <a:lnTo>
                    <a:pt x="2947" y="492"/>
                  </a:lnTo>
                  <a:lnTo>
                    <a:pt x="3014" y="492"/>
                  </a:lnTo>
                  <a:lnTo>
                    <a:pt x="3021" y="492"/>
                  </a:lnTo>
                  <a:lnTo>
                    <a:pt x="3021" y="477"/>
                  </a:lnTo>
                  <a:lnTo>
                    <a:pt x="3061" y="477"/>
                  </a:lnTo>
                  <a:lnTo>
                    <a:pt x="3061" y="461"/>
                  </a:lnTo>
                  <a:lnTo>
                    <a:pt x="3075" y="461"/>
                  </a:lnTo>
                  <a:lnTo>
                    <a:pt x="3075" y="446"/>
                  </a:lnTo>
                  <a:lnTo>
                    <a:pt x="3081" y="446"/>
                  </a:lnTo>
                  <a:lnTo>
                    <a:pt x="3081" y="430"/>
                  </a:lnTo>
                  <a:lnTo>
                    <a:pt x="3129" y="430"/>
                  </a:lnTo>
                  <a:lnTo>
                    <a:pt x="3169" y="430"/>
                  </a:lnTo>
                  <a:lnTo>
                    <a:pt x="3169" y="399"/>
                  </a:lnTo>
                  <a:lnTo>
                    <a:pt x="3263" y="399"/>
                  </a:lnTo>
                  <a:lnTo>
                    <a:pt x="3263" y="383"/>
                  </a:lnTo>
                  <a:lnTo>
                    <a:pt x="3324" y="383"/>
                  </a:lnTo>
                  <a:lnTo>
                    <a:pt x="3324" y="367"/>
                  </a:lnTo>
                  <a:lnTo>
                    <a:pt x="3344" y="367"/>
                  </a:lnTo>
                  <a:lnTo>
                    <a:pt x="3344" y="351"/>
                  </a:lnTo>
                  <a:lnTo>
                    <a:pt x="3364" y="351"/>
                  </a:lnTo>
                  <a:lnTo>
                    <a:pt x="3364" y="335"/>
                  </a:lnTo>
                  <a:lnTo>
                    <a:pt x="3512" y="335"/>
                  </a:lnTo>
                  <a:lnTo>
                    <a:pt x="3512" y="319"/>
                  </a:lnTo>
                  <a:lnTo>
                    <a:pt x="3606" y="319"/>
                  </a:lnTo>
                  <a:lnTo>
                    <a:pt x="3606" y="303"/>
                  </a:lnTo>
                  <a:lnTo>
                    <a:pt x="3667" y="303"/>
                  </a:lnTo>
                  <a:lnTo>
                    <a:pt x="3667" y="287"/>
                  </a:lnTo>
                  <a:lnTo>
                    <a:pt x="3680" y="287"/>
                  </a:lnTo>
                  <a:lnTo>
                    <a:pt x="3680" y="255"/>
                  </a:lnTo>
                  <a:lnTo>
                    <a:pt x="3721" y="255"/>
                  </a:lnTo>
                  <a:lnTo>
                    <a:pt x="3721" y="239"/>
                  </a:lnTo>
                  <a:lnTo>
                    <a:pt x="3761" y="239"/>
                  </a:lnTo>
                  <a:lnTo>
                    <a:pt x="3761" y="223"/>
                  </a:lnTo>
                  <a:lnTo>
                    <a:pt x="3855" y="223"/>
                  </a:lnTo>
                  <a:lnTo>
                    <a:pt x="3875" y="223"/>
                  </a:lnTo>
                  <a:lnTo>
                    <a:pt x="3875" y="206"/>
                  </a:lnTo>
                  <a:lnTo>
                    <a:pt x="4091" y="206"/>
                  </a:lnTo>
                  <a:lnTo>
                    <a:pt x="4091" y="189"/>
                  </a:lnTo>
                  <a:lnTo>
                    <a:pt x="4259" y="189"/>
                  </a:lnTo>
                  <a:lnTo>
                    <a:pt x="4447" y="189"/>
                  </a:lnTo>
                  <a:lnTo>
                    <a:pt x="4447" y="170"/>
                  </a:lnTo>
                  <a:lnTo>
                    <a:pt x="4582" y="170"/>
                  </a:lnTo>
                  <a:lnTo>
                    <a:pt x="4582" y="151"/>
                  </a:lnTo>
                  <a:lnTo>
                    <a:pt x="4609" y="151"/>
                  </a:lnTo>
                  <a:lnTo>
                    <a:pt x="4730" y="151"/>
                  </a:lnTo>
                  <a:lnTo>
                    <a:pt x="4730" y="130"/>
                  </a:lnTo>
                  <a:lnTo>
                    <a:pt x="4737" y="130"/>
                  </a:lnTo>
                  <a:lnTo>
                    <a:pt x="4737" y="108"/>
                  </a:lnTo>
                  <a:lnTo>
                    <a:pt x="4797" y="108"/>
                  </a:lnTo>
                  <a:lnTo>
                    <a:pt x="4804" y="108"/>
                  </a:lnTo>
                  <a:lnTo>
                    <a:pt x="5551" y="108"/>
                  </a:lnTo>
                  <a:lnTo>
                    <a:pt x="5847" y="108"/>
                  </a:lnTo>
                  <a:lnTo>
                    <a:pt x="5955" y="108"/>
                  </a:lnTo>
                  <a:lnTo>
                    <a:pt x="5955"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1" name="Rectangle 94"/>
            <p:cNvSpPr/>
            <p:nvPr/>
          </p:nvSpPr>
          <p:spPr>
            <a:xfrm>
              <a:off x="3853800" y="58636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552" name="Rectangle 95"/>
            <p:cNvSpPr/>
            <p:nvPr/>
          </p:nvSpPr>
          <p:spPr>
            <a:xfrm rot="16200000">
              <a:off x="-456120" y="362808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intBreak Prespecified Analysis: OS From Randomization (Maintenance Group)</a:t>
            </a:r>
            <a:endParaRPr b="0" lang="en-US" sz="3600" spc="-1" strike="noStrike">
              <a:solidFill>
                <a:srgbClr val="000000"/>
              </a:solidFill>
              <a:latin typeface="Arial"/>
            </a:endParaRPr>
          </a:p>
        </p:txBody>
      </p:sp>
      <p:sp>
        <p:nvSpPr>
          <p:cNvPr id="2554" name="Text Box 15"/>
          <p:cNvSpPr/>
          <p:nvPr/>
        </p:nvSpPr>
        <p:spPr>
          <a:xfrm>
            <a:off x="2590920" y="6203880"/>
            <a:ext cx="5632200" cy="611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respecified exploratory noncomparative subgroup analy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Censoring rate for Pem + Cb + Bev was 36.0; for Pac+  Cb + Bev was 30.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With permission from Patel, et al. Presented at IASLC. 2012 (abstr LBPL1).</a:t>
            </a:r>
            <a:endParaRPr b="0" lang="en-US" sz="1000" spc="-1" strike="noStrike">
              <a:solidFill>
                <a:srgbClr val="000000"/>
              </a:solidFill>
              <a:latin typeface="Arial"/>
            </a:endParaRPr>
          </a:p>
        </p:txBody>
      </p:sp>
      <p:graphicFrame>
        <p:nvGraphicFramePr>
          <p:cNvPr id="2555" name=""/>
          <p:cNvGraphicFramePr/>
          <p:nvPr/>
        </p:nvGraphicFramePr>
        <p:xfrm>
          <a:off x="4343400" y="1981080"/>
          <a:ext cx="4529160" cy="901800"/>
        </p:xfrm>
        <a:graphic>
          <a:graphicData uri="http://schemas.openxmlformats.org/drawingml/2006/table">
            <a:tbl>
              <a:tblPr/>
              <a:tblGrid>
                <a:gridCol w="1727280"/>
                <a:gridCol w="1430280"/>
                <a:gridCol w="1371600"/>
              </a:tblGrid>
              <a:tr h="57636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ea typeface="Arial Unicode MS"/>
                        </a:rPr>
                        <a:t> </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Pem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0000"/>
                          </a:solidFill>
                          <a:latin typeface="Arial"/>
                          <a:ea typeface="Arial Unicode MS"/>
                        </a:rPr>
                        <a:t>(n=292)</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Pac + Cb + Be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6666ff"/>
                          </a:solidFill>
                          <a:latin typeface="Arial"/>
                          <a:ea typeface="Arial Unicode MS"/>
                        </a:rPr>
                        <a:t>(n=298)</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13680">
                      <a:solidFill>
                        <a:srgbClr val="000000"/>
                      </a:solidFill>
                    </a:lnB>
                    <a:noFill/>
                  </a:tcPr>
                </a:tc>
              </a:tr>
              <a:tr h="325440">
                <a:tc>
                  <a:txBody>
                    <a:bodyPr lIns="0" rIns="0" tIns="0" bIns="0" anchor="ctr">
                      <a:noAutofit/>
                    </a:bodyPr>
                    <a:p>
                      <a:pPr marL="9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OS median, months</a:t>
                      </a:r>
                      <a:endParaRPr b="0" lang="en-US" sz="14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7.7</a:t>
                      </a:r>
                      <a:endParaRPr b="0" lang="en-US" sz="14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Unicode MS"/>
                        </a:rPr>
                        <a:t>15.7</a:t>
                      </a:r>
                      <a:endParaRPr b="0" lang="en-US" sz="14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bl>
          </a:graphicData>
        </a:graphic>
      </p:graphicFrame>
      <p:grpSp>
        <p:nvGrpSpPr>
          <p:cNvPr id="2556" name="Group 136263"/>
          <p:cNvGrpSpPr/>
          <p:nvPr/>
        </p:nvGrpSpPr>
        <p:grpSpPr>
          <a:xfrm>
            <a:off x="-206280" y="2298600"/>
            <a:ext cx="9069480" cy="7504200"/>
            <a:chOff x="-206280" y="2298600"/>
            <a:chExt cx="9069480" cy="7504200"/>
          </a:xfrm>
        </p:grpSpPr>
        <p:sp>
          <p:nvSpPr>
            <p:cNvPr id="2557" name="AutoShape 4"/>
            <p:cNvSpPr/>
            <p:nvPr/>
          </p:nvSpPr>
          <p:spPr>
            <a:xfrm>
              <a:off x="-135360" y="2868480"/>
              <a:ext cx="8998560" cy="6934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58" name="Rectangle 6"/>
            <p:cNvSpPr/>
            <p:nvPr/>
          </p:nvSpPr>
          <p:spPr>
            <a:xfrm>
              <a:off x="-206280" y="2298600"/>
              <a:ext cx="8997120" cy="693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559" name="Group 136262"/>
          <p:cNvGrpSpPr/>
          <p:nvPr/>
        </p:nvGrpSpPr>
        <p:grpSpPr>
          <a:xfrm>
            <a:off x="169920" y="1603440"/>
            <a:ext cx="8770320" cy="4587120"/>
            <a:chOff x="169920" y="1603440"/>
            <a:chExt cx="8770320" cy="4587120"/>
          </a:xfrm>
        </p:grpSpPr>
        <p:sp>
          <p:nvSpPr>
            <p:cNvPr id="2560" name="Rectangle 7"/>
            <p:cNvSpPr/>
            <p:nvPr/>
          </p:nvSpPr>
          <p:spPr>
            <a:xfrm>
              <a:off x="851760" y="1687320"/>
              <a:ext cx="8001720" cy="37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1" name="Line 8"/>
            <p:cNvSpPr/>
            <p:nvPr/>
          </p:nvSpPr>
          <p:spPr>
            <a:xfrm>
              <a:off x="851760" y="5477040"/>
              <a:ext cx="8001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62" name="Line 9"/>
            <p:cNvSpPr/>
            <p:nvPr/>
          </p:nvSpPr>
          <p:spPr>
            <a:xfrm flipV="1">
              <a:off x="8517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3" name="Line 10"/>
            <p:cNvSpPr/>
            <p:nvPr/>
          </p:nvSpPr>
          <p:spPr>
            <a:xfrm flipV="1">
              <a:off x="1467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4" name="Line 11"/>
            <p:cNvSpPr/>
            <p:nvPr/>
          </p:nvSpPr>
          <p:spPr>
            <a:xfrm flipV="1">
              <a:off x="20822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5" name="Line 12"/>
            <p:cNvSpPr/>
            <p:nvPr/>
          </p:nvSpPr>
          <p:spPr>
            <a:xfrm flipV="1">
              <a:off x="269820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6" name="Line 13"/>
            <p:cNvSpPr/>
            <p:nvPr/>
          </p:nvSpPr>
          <p:spPr>
            <a:xfrm flipV="1">
              <a:off x="33127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7" name="Line 14"/>
            <p:cNvSpPr/>
            <p:nvPr/>
          </p:nvSpPr>
          <p:spPr>
            <a:xfrm flipV="1">
              <a:off x="3930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8" name="Line 15"/>
            <p:cNvSpPr/>
            <p:nvPr/>
          </p:nvSpPr>
          <p:spPr>
            <a:xfrm flipV="1">
              <a:off x="45446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69" name="Line 16"/>
            <p:cNvSpPr/>
            <p:nvPr/>
          </p:nvSpPr>
          <p:spPr>
            <a:xfrm flipV="1">
              <a:off x="51591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0" name="Line 17"/>
            <p:cNvSpPr/>
            <p:nvPr/>
          </p:nvSpPr>
          <p:spPr>
            <a:xfrm flipV="1">
              <a:off x="57751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1" name="Line 18"/>
            <p:cNvSpPr/>
            <p:nvPr/>
          </p:nvSpPr>
          <p:spPr>
            <a:xfrm flipV="1">
              <a:off x="63910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2" name="Line 19"/>
            <p:cNvSpPr/>
            <p:nvPr/>
          </p:nvSpPr>
          <p:spPr>
            <a:xfrm flipV="1">
              <a:off x="700704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3" name="Line 20"/>
            <p:cNvSpPr/>
            <p:nvPr/>
          </p:nvSpPr>
          <p:spPr>
            <a:xfrm flipV="1">
              <a:off x="762156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4" name="Line 21"/>
            <p:cNvSpPr/>
            <p:nvPr/>
          </p:nvSpPr>
          <p:spPr>
            <a:xfrm flipV="1">
              <a:off x="823752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5" name="Line 22"/>
            <p:cNvSpPr/>
            <p:nvPr/>
          </p:nvSpPr>
          <p:spPr>
            <a:xfrm flipV="1">
              <a:off x="8853480" y="5476680"/>
              <a:ext cx="0" cy="5364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576" name="Line 23"/>
            <p:cNvSpPr/>
            <p:nvPr/>
          </p:nvSpPr>
          <p:spPr>
            <a:xfrm flipV="1">
              <a:off x="1058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7" name="Line 24"/>
            <p:cNvSpPr/>
            <p:nvPr/>
          </p:nvSpPr>
          <p:spPr>
            <a:xfrm flipV="1">
              <a:off x="1262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8" name="Line 25"/>
            <p:cNvSpPr/>
            <p:nvPr/>
          </p:nvSpPr>
          <p:spPr>
            <a:xfrm flipV="1">
              <a:off x="16725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79" name="Line 26"/>
            <p:cNvSpPr/>
            <p:nvPr/>
          </p:nvSpPr>
          <p:spPr>
            <a:xfrm flipV="1">
              <a:off x="1877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0" name="Line 27"/>
            <p:cNvSpPr/>
            <p:nvPr/>
          </p:nvSpPr>
          <p:spPr>
            <a:xfrm flipV="1">
              <a:off x="22885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1" name="Line 28"/>
            <p:cNvSpPr/>
            <p:nvPr/>
          </p:nvSpPr>
          <p:spPr>
            <a:xfrm flipV="1">
              <a:off x="2493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2" name="Line 29"/>
            <p:cNvSpPr/>
            <p:nvPr/>
          </p:nvSpPr>
          <p:spPr>
            <a:xfrm flipV="1">
              <a:off x="29030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3" name="Line 30"/>
            <p:cNvSpPr/>
            <p:nvPr/>
          </p:nvSpPr>
          <p:spPr>
            <a:xfrm flipV="1">
              <a:off x="3107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4" name="Line 31"/>
            <p:cNvSpPr/>
            <p:nvPr/>
          </p:nvSpPr>
          <p:spPr>
            <a:xfrm flipV="1">
              <a:off x="35190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5" name="Line 32"/>
            <p:cNvSpPr/>
            <p:nvPr/>
          </p:nvSpPr>
          <p:spPr>
            <a:xfrm flipV="1">
              <a:off x="37238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6" name="Line 33"/>
            <p:cNvSpPr/>
            <p:nvPr/>
          </p:nvSpPr>
          <p:spPr>
            <a:xfrm flipV="1">
              <a:off x="4134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7" name="Line 34"/>
            <p:cNvSpPr/>
            <p:nvPr/>
          </p:nvSpPr>
          <p:spPr>
            <a:xfrm flipV="1">
              <a:off x="43398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8" name="Line 35"/>
            <p:cNvSpPr/>
            <p:nvPr/>
          </p:nvSpPr>
          <p:spPr>
            <a:xfrm flipV="1">
              <a:off x="47494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89" name="Line 36"/>
            <p:cNvSpPr/>
            <p:nvPr/>
          </p:nvSpPr>
          <p:spPr>
            <a:xfrm flipV="1">
              <a:off x="49543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0" name="Line 37"/>
            <p:cNvSpPr/>
            <p:nvPr/>
          </p:nvSpPr>
          <p:spPr>
            <a:xfrm flipV="1">
              <a:off x="53654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1" name="Line 38"/>
            <p:cNvSpPr/>
            <p:nvPr/>
          </p:nvSpPr>
          <p:spPr>
            <a:xfrm flipV="1">
              <a:off x="55702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2" name="Line 39"/>
            <p:cNvSpPr/>
            <p:nvPr/>
          </p:nvSpPr>
          <p:spPr>
            <a:xfrm flipV="1">
              <a:off x="59799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3" name="Line 40"/>
            <p:cNvSpPr/>
            <p:nvPr/>
          </p:nvSpPr>
          <p:spPr>
            <a:xfrm flipV="1">
              <a:off x="6186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4" name="Line 41"/>
            <p:cNvSpPr/>
            <p:nvPr/>
          </p:nvSpPr>
          <p:spPr>
            <a:xfrm flipV="1">
              <a:off x="65959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5" name="Line 42"/>
            <p:cNvSpPr/>
            <p:nvPr/>
          </p:nvSpPr>
          <p:spPr>
            <a:xfrm flipV="1">
              <a:off x="68007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6" name="Line 43"/>
            <p:cNvSpPr/>
            <p:nvPr/>
          </p:nvSpPr>
          <p:spPr>
            <a:xfrm flipV="1">
              <a:off x="721188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7" name="Line 44"/>
            <p:cNvSpPr/>
            <p:nvPr/>
          </p:nvSpPr>
          <p:spPr>
            <a:xfrm flipV="1">
              <a:off x="741672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8" name="Line 45"/>
            <p:cNvSpPr/>
            <p:nvPr/>
          </p:nvSpPr>
          <p:spPr>
            <a:xfrm flipV="1">
              <a:off x="78264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599" name="Line 46"/>
            <p:cNvSpPr/>
            <p:nvPr/>
          </p:nvSpPr>
          <p:spPr>
            <a:xfrm flipV="1">
              <a:off x="803124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0" name="Line 47"/>
            <p:cNvSpPr/>
            <p:nvPr/>
          </p:nvSpPr>
          <p:spPr>
            <a:xfrm flipV="1">
              <a:off x="844236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1" name="Line 48"/>
            <p:cNvSpPr/>
            <p:nvPr/>
          </p:nvSpPr>
          <p:spPr>
            <a:xfrm flipV="1">
              <a:off x="8647200" y="547704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1600" spc="-1" strike="noStrike">
                <a:solidFill>
                  <a:srgbClr val="000000"/>
                </a:solidFill>
                <a:latin typeface="Arial"/>
              </a:endParaRPr>
            </a:p>
          </p:txBody>
        </p:sp>
        <p:sp>
          <p:nvSpPr>
            <p:cNvPr id="2602" name="Rectangle 49"/>
            <p:cNvSpPr/>
            <p:nvPr/>
          </p:nvSpPr>
          <p:spPr>
            <a:xfrm>
              <a:off x="81036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Arial"/>
              </a:endParaRPr>
            </a:p>
          </p:txBody>
        </p:sp>
        <p:sp>
          <p:nvSpPr>
            <p:cNvPr id="2603" name="Rectangle 50"/>
            <p:cNvSpPr/>
            <p:nvPr/>
          </p:nvSpPr>
          <p:spPr>
            <a:xfrm>
              <a:off x="142632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604" name="Rectangle 51"/>
            <p:cNvSpPr/>
            <p:nvPr/>
          </p:nvSpPr>
          <p:spPr>
            <a:xfrm>
              <a:off x="204084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p:txBody>
        </p:sp>
        <p:sp>
          <p:nvSpPr>
            <p:cNvPr id="2605" name="Rectangle 52"/>
            <p:cNvSpPr/>
            <p:nvPr/>
          </p:nvSpPr>
          <p:spPr>
            <a:xfrm>
              <a:off x="2656800" y="56070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606" name="Rectangle 53"/>
            <p:cNvSpPr/>
            <p:nvPr/>
          </p:nvSpPr>
          <p:spPr>
            <a:xfrm>
              <a:off x="32292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607" name="Rectangle 54"/>
            <p:cNvSpPr/>
            <p:nvPr/>
          </p:nvSpPr>
          <p:spPr>
            <a:xfrm>
              <a:off x="3845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p:txBody>
        </p:sp>
        <p:sp>
          <p:nvSpPr>
            <p:cNvPr id="2608" name="Rectangle 55"/>
            <p:cNvSpPr/>
            <p:nvPr/>
          </p:nvSpPr>
          <p:spPr>
            <a:xfrm>
              <a:off x="44596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Arial"/>
              </a:endParaRPr>
            </a:p>
          </p:txBody>
        </p:sp>
        <p:sp>
          <p:nvSpPr>
            <p:cNvPr id="2609" name="Rectangle 56"/>
            <p:cNvSpPr/>
            <p:nvPr/>
          </p:nvSpPr>
          <p:spPr>
            <a:xfrm>
              <a:off x="507564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2610" name="Rectangle 57"/>
            <p:cNvSpPr/>
            <p:nvPr/>
          </p:nvSpPr>
          <p:spPr>
            <a:xfrm>
              <a:off x="56901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Arial"/>
              </a:endParaRPr>
            </a:p>
          </p:txBody>
        </p:sp>
        <p:sp>
          <p:nvSpPr>
            <p:cNvPr id="2611" name="Rectangle 58"/>
            <p:cNvSpPr/>
            <p:nvPr/>
          </p:nvSpPr>
          <p:spPr>
            <a:xfrm>
              <a:off x="630792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p:txBody>
        </p:sp>
        <p:sp>
          <p:nvSpPr>
            <p:cNvPr id="2612" name="Rectangle 59"/>
            <p:cNvSpPr/>
            <p:nvPr/>
          </p:nvSpPr>
          <p:spPr>
            <a:xfrm>
              <a:off x="69220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Arial"/>
              </a:endParaRPr>
            </a:p>
          </p:txBody>
        </p:sp>
        <p:sp>
          <p:nvSpPr>
            <p:cNvPr id="2613" name="Rectangle 60"/>
            <p:cNvSpPr/>
            <p:nvPr/>
          </p:nvSpPr>
          <p:spPr>
            <a:xfrm>
              <a:off x="753660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Arial"/>
              </a:endParaRPr>
            </a:p>
          </p:txBody>
        </p:sp>
        <p:sp>
          <p:nvSpPr>
            <p:cNvPr id="2614" name="Rectangle 61"/>
            <p:cNvSpPr/>
            <p:nvPr/>
          </p:nvSpPr>
          <p:spPr>
            <a:xfrm>
              <a:off x="815256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Arial"/>
              </a:endParaRPr>
            </a:p>
          </p:txBody>
        </p:sp>
        <p:sp>
          <p:nvSpPr>
            <p:cNvPr id="2615" name="Rectangle 62"/>
            <p:cNvSpPr/>
            <p:nvPr/>
          </p:nvSpPr>
          <p:spPr>
            <a:xfrm>
              <a:off x="8768880" y="5607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Arial"/>
              </a:endParaRPr>
            </a:p>
          </p:txBody>
        </p:sp>
        <p:sp>
          <p:nvSpPr>
            <p:cNvPr id="2616" name="Line 63"/>
            <p:cNvSpPr/>
            <p:nvPr/>
          </p:nvSpPr>
          <p:spPr>
            <a:xfrm flipV="1">
              <a:off x="851760" y="1687320"/>
              <a:ext cx="0" cy="378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7" name="Line 64"/>
            <p:cNvSpPr/>
            <p:nvPr/>
          </p:nvSpPr>
          <p:spPr>
            <a:xfrm>
              <a:off x="797760" y="5402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8" name="Line 65"/>
            <p:cNvSpPr/>
            <p:nvPr/>
          </p:nvSpPr>
          <p:spPr>
            <a:xfrm>
              <a:off x="797760" y="5030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19" name="Line 66"/>
            <p:cNvSpPr/>
            <p:nvPr/>
          </p:nvSpPr>
          <p:spPr>
            <a:xfrm>
              <a:off x="797760" y="46594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0" name="Line 67"/>
            <p:cNvSpPr/>
            <p:nvPr/>
          </p:nvSpPr>
          <p:spPr>
            <a:xfrm>
              <a:off x="797760" y="42861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1" name="Line 68"/>
            <p:cNvSpPr/>
            <p:nvPr/>
          </p:nvSpPr>
          <p:spPr>
            <a:xfrm>
              <a:off x="797760" y="39146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2" name="Line 69"/>
            <p:cNvSpPr/>
            <p:nvPr/>
          </p:nvSpPr>
          <p:spPr>
            <a:xfrm>
              <a:off x="797760" y="35431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3" name="Line 70"/>
            <p:cNvSpPr/>
            <p:nvPr/>
          </p:nvSpPr>
          <p:spPr>
            <a:xfrm>
              <a:off x="797760" y="317340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4" name="Line 71"/>
            <p:cNvSpPr/>
            <p:nvPr/>
          </p:nvSpPr>
          <p:spPr>
            <a:xfrm>
              <a:off x="797760" y="280188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5" name="Line 72"/>
            <p:cNvSpPr/>
            <p:nvPr/>
          </p:nvSpPr>
          <p:spPr>
            <a:xfrm>
              <a:off x="797760" y="243036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6" name="Line 73"/>
            <p:cNvSpPr/>
            <p:nvPr/>
          </p:nvSpPr>
          <p:spPr>
            <a:xfrm>
              <a:off x="797760" y="205884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7" name="Line 74"/>
            <p:cNvSpPr/>
            <p:nvPr/>
          </p:nvSpPr>
          <p:spPr>
            <a:xfrm>
              <a:off x="797760" y="1687320"/>
              <a:ext cx="53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8" name="Line 75"/>
            <p:cNvSpPr/>
            <p:nvPr/>
          </p:nvSpPr>
          <p:spPr>
            <a:xfrm>
              <a:off x="819720" y="52149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29" name="Line 76"/>
            <p:cNvSpPr/>
            <p:nvPr/>
          </p:nvSpPr>
          <p:spPr>
            <a:xfrm>
              <a:off x="819720" y="484344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0" name="Line 77"/>
            <p:cNvSpPr/>
            <p:nvPr/>
          </p:nvSpPr>
          <p:spPr>
            <a:xfrm>
              <a:off x="819720" y="447372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1" name="Line 78"/>
            <p:cNvSpPr/>
            <p:nvPr/>
          </p:nvSpPr>
          <p:spPr>
            <a:xfrm>
              <a:off x="819720" y="4102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2" name="Line 79"/>
            <p:cNvSpPr/>
            <p:nvPr/>
          </p:nvSpPr>
          <p:spPr>
            <a:xfrm>
              <a:off x="819720" y="3730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3" name="Line 80"/>
            <p:cNvSpPr/>
            <p:nvPr/>
          </p:nvSpPr>
          <p:spPr>
            <a:xfrm>
              <a:off x="819720" y="335916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4" name="Line 81"/>
            <p:cNvSpPr/>
            <p:nvPr/>
          </p:nvSpPr>
          <p:spPr>
            <a:xfrm>
              <a:off x="819720" y="29862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5" name="Line 82"/>
            <p:cNvSpPr/>
            <p:nvPr/>
          </p:nvSpPr>
          <p:spPr>
            <a:xfrm>
              <a:off x="819720" y="26146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6" name="Line 83"/>
            <p:cNvSpPr/>
            <p:nvPr/>
          </p:nvSpPr>
          <p:spPr>
            <a:xfrm>
              <a:off x="819720" y="224460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7" name="Line 84"/>
            <p:cNvSpPr/>
            <p:nvPr/>
          </p:nvSpPr>
          <p:spPr>
            <a:xfrm>
              <a:off x="819720" y="1873080"/>
              <a:ext cx="31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38" name="Rectangle 85"/>
            <p:cNvSpPr/>
            <p:nvPr/>
          </p:nvSpPr>
          <p:spPr>
            <a:xfrm>
              <a:off x="514440" y="531648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a:t>
              </a:r>
              <a:endParaRPr b="0" lang="en-US" sz="1200" spc="-1" strike="noStrike">
                <a:solidFill>
                  <a:srgbClr val="000000"/>
                </a:solidFill>
                <a:latin typeface="Arial"/>
              </a:endParaRPr>
            </a:p>
          </p:txBody>
        </p:sp>
        <p:sp>
          <p:nvSpPr>
            <p:cNvPr id="2639" name="Rectangle 86"/>
            <p:cNvSpPr/>
            <p:nvPr/>
          </p:nvSpPr>
          <p:spPr>
            <a:xfrm>
              <a:off x="514440" y="49449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p:txBody>
        </p:sp>
        <p:sp>
          <p:nvSpPr>
            <p:cNvPr id="2640" name="Rectangle 87"/>
            <p:cNvSpPr/>
            <p:nvPr/>
          </p:nvSpPr>
          <p:spPr>
            <a:xfrm>
              <a:off x="514440" y="4575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p:txBody>
        </p:sp>
        <p:sp>
          <p:nvSpPr>
            <p:cNvPr id="2641" name="Rectangle 88"/>
            <p:cNvSpPr/>
            <p:nvPr/>
          </p:nvSpPr>
          <p:spPr>
            <a:xfrm>
              <a:off x="514440" y="42019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Arial"/>
              </a:endParaRPr>
            </a:p>
          </p:txBody>
        </p:sp>
        <p:sp>
          <p:nvSpPr>
            <p:cNvPr id="2642" name="Rectangle 89"/>
            <p:cNvSpPr/>
            <p:nvPr/>
          </p:nvSpPr>
          <p:spPr>
            <a:xfrm>
              <a:off x="514440" y="383076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Arial"/>
              </a:endParaRPr>
            </a:p>
          </p:txBody>
        </p:sp>
        <p:sp>
          <p:nvSpPr>
            <p:cNvPr id="2643" name="Rectangle 90"/>
            <p:cNvSpPr/>
            <p:nvPr/>
          </p:nvSpPr>
          <p:spPr>
            <a:xfrm>
              <a:off x="514440" y="34592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5</a:t>
              </a:r>
              <a:endParaRPr b="0" lang="en-US" sz="1200" spc="-1" strike="noStrike">
                <a:solidFill>
                  <a:srgbClr val="000000"/>
                </a:solidFill>
                <a:latin typeface="Arial"/>
              </a:endParaRPr>
            </a:p>
          </p:txBody>
        </p:sp>
        <p:sp>
          <p:nvSpPr>
            <p:cNvPr id="2644" name="Rectangle 91"/>
            <p:cNvSpPr/>
            <p:nvPr/>
          </p:nvSpPr>
          <p:spPr>
            <a:xfrm>
              <a:off x="514440" y="30877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Arial"/>
              </a:endParaRPr>
            </a:p>
          </p:txBody>
        </p:sp>
        <p:sp>
          <p:nvSpPr>
            <p:cNvPr id="2645" name="Rectangle 92"/>
            <p:cNvSpPr/>
            <p:nvPr/>
          </p:nvSpPr>
          <p:spPr>
            <a:xfrm>
              <a:off x="514440" y="27162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p:txBody>
        </p:sp>
        <p:sp>
          <p:nvSpPr>
            <p:cNvPr id="2646" name="Rectangle 93"/>
            <p:cNvSpPr/>
            <p:nvPr/>
          </p:nvSpPr>
          <p:spPr>
            <a:xfrm>
              <a:off x="514440" y="234612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Arial"/>
              </a:endParaRPr>
            </a:p>
          </p:txBody>
        </p:sp>
        <p:sp>
          <p:nvSpPr>
            <p:cNvPr id="2647" name="Rectangle 94"/>
            <p:cNvSpPr/>
            <p:nvPr/>
          </p:nvSpPr>
          <p:spPr>
            <a:xfrm>
              <a:off x="514440" y="197460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9</a:t>
              </a:r>
              <a:endParaRPr b="0" lang="en-US" sz="1200" spc="-1" strike="noStrike">
                <a:solidFill>
                  <a:srgbClr val="000000"/>
                </a:solidFill>
                <a:latin typeface="Arial"/>
              </a:endParaRPr>
            </a:p>
          </p:txBody>
        </p:sp>
        <p:sp>
          <p:nvSpPr>
            <p:cNvPr id="2648" name="Rectangle 95"/>
            <p:cNvSpPr/>
            <p:nvPr/>
          </p:nvSpPr>
          <p:spPr>
            <a:xfrm>
              <a:off x="514440" y="1603440"/>
              <a:ext cx="214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649" name="Freeform 96"/>
            <p:cNvSpPr/>
            <p:nvPr/>
          </p:nvSpPr>
          <p:spPr>
            <a:xfrm flipV="1">
              <a:off x="851760" y="1686960"/>
              <a:ext cx="7601760" cy="3155760"/>
            </a:xfrm>
            <a:custGeom>
              <a:avLst/>
              <a:gdLst/>
              <a:ahLst/>
              <a:rect l="l" t="t" r="r" b="b"/>
              <a:pathLst>
                <a:path w="7006" h="2915">
                  <a:moveTo>
                    <a:pt x="0" y="2915"/>
                  </a:moveTo>
                  <a:lnTo>
                    <a:pt x="633" y="2915"/>
                  </a:lnTo>
                  <a:lnTo>
                    <a:pt x="633" y="2904"/>
                  </a:lnTo>
                  <a:lnTo>
                    <a:pt x="677" y="2904"/>
                  </a:lnTo>
                  <a:lnTo>
                    <a:pt x="745" y="2904"/>
                  </a:lnTo>
                  <a:lnTo>
                    <a:pt x="745" y="2892"/>
                  </a:lnTo>
                  <a:lnTo>
                    <a:pt x="782" y="2892"/>
                  </a:lnTo>
                  <a:lnTo>
                    <a:pt x="782" y="2880"/>
                  </a:lnTo>
                  <a:lnTo>
                    <a:pt x="788" y="2880"/>
                  </a:lnTo>
                  <a:lnTo>
                    <a:pt x="788" y="2868"/>
                  </a:lnTo>
                  <a:lnTo>
                    <a:pt x="869" y="2868"/>
                  </a:lnTo>
                  <a:lnTo>
                    <a:pt x="906" y="2868"/>
                  </a:lnTo>
                  <a:lnTo>
                    <a:pt x="906" y="2857"/>
                  </a:lnTo>
                  <a:lnTo>
                    <a:pt x="919" y="2857"/>
                  </a:lnTo>
                  <a:lnTo>
                    <a:pt x="919" y="2845"/>
                  </a:lnTo>
                  <a:lnTo>
                    <a:pt x="931" y="2845"/>
                  </a:lnTo>
                  <a:lnTo>
                    <a:pt x="937" y="2845"/>
                  </a:lnTo>
                  <a:lnTo>
                    <a:pt x="937" y="2833"/>
                  </a:lnTo>
                  <a:lnTo>
                    <a:pt x="987" y="2833"/>
                  </a:lnTo>
                  <a:lnTo>
                    <a:pt x="987" y="2821"/>
                  </a:lnTo>
                  <a:lnTo>
                    <a:pt x="993" y="2821"/>
                  </a:lnTo>
                  <a:lnTo>
                    <a:pt x="993" y="2809"/>
                  </a:lnTo>
                  <a:lnTo>
                    <a:pt x="1018" y="2809"/>
                  </a:lnTo>
                  <a:lnTo>
                    <a:pt x="1018" y="2797"/>
                  </a:lnTo>
                  <a:lnTo>
                    <a:pt x="1037" y="2797"/>
                  </a:lnTo>
                  <a:lnTo>
                    <a:pt x="1037" y="2785"/>
                  </a:lnTo>
                  <a:lnTo>
                    <a:pt x="1080" y="2785"/>
                  </a:lnTo>
                  <a:lnTo>
                    <a:pt x="1080" y="2773"/>
                  </a:lnTo>
                  <a:lnTo>
                    <a:pt x="1099" y="2773"/>
                  </a:lnTo>
                  <a:lnTo>
                    <a:pt x="1118" y="2773"/>
                  </a:lnTo>
                  <a:lnTo>
                    <a:pt x="1118" y="2762"/>
                  </a:lnTo>
                  <a:lnTo>
                    <a:pt x="1124" y="2762"/>
                  </a:lnTo>
                  <a:lnTo>
                    <a:pt x="1124" y="2738"/>
                  </a:lnTo>
                  <a:lnTo>
                    <a:pt x="1142" y="2738"/>
                  </a:lnTo>
                  <a:lnTo>
                    <a:pt x="1142" y="2726"/>
                  </a:lnTo>
                  <a:lnTo>
                    <a:pt x="1192" y="2726"/>
                  </a:lnTo>
                  <a:lnTo>
                    <a:pt x="1192" y="2714"/>
                  </a:lnTo>
                  <a:lnTo>
                    <a:pt x="1205" y="2714"/>
                  </a:lnTo>
                  <a:lnTo>
                    <a:pt x="1205" y="2702"/>
                  </a:lnTo>
                  <a:lnTo>
                    <a:pt x="1229" y="2702"/>
                  </a:lnTo>
                  <a:lnTo>
                    <a:pt x="1229" y="2690"/>
                  </a:lnTo>
                  <a:lnTo>
                    <a:pt x="1248" y="2690"/>
                  </a:lnTo>
                  <a:lnTo>
                    <a:pt x="1267" y="2690"/>
                  </a:lnTo>
                  <a:lnTo>
                    <a:pt x="1316" y="2690"/>
                  </a:lnTo>
                  <a:lnTo>
                    <a:pt x="1316" y="2666"/>
                  </a:lnTo>
                  <a:lnTo>
                    <a:pt x="1341" y="2666"/>
                  </a:lnTo>
                  <a:lnTo>
                    <a:pt x="1341" y="2654"/>
                  </a:lnTo>
                  <a:lnTo>
                    <a:pt x="1354" y="2654"/>
                  </a:lnTo>
                  <a:lnTo>
                    <a:pt x="1354" y="2642"/>
                  </a:lnTo>
                  <a:lnTo>
                    <a:pt x="1378" y="2642"/>
                  </a:lnTo>
                  <a:lnTo>
                    <a:pt x="1378" y="2630"/>
                  </a:lnTo>
                  <a:lnTo>
                    <a:pt x="1422" y="2630"/>
                  </a:lnTo>
                  <a:lnTo>
                    <a:pt x="1422" y="2618"/>
                  </a:lnTo>
                  <a:lnTo>
                    <a:pt x="1434" y="2618"/>
                  </a:lnTo>
                  <a:lnTo>
                    <a:pt x="1434" y="2606"/>
                  </a:lnTo>
                  <a:lnTo>
                    <a:pt x="1459" y="2606"/>
                  </a:lnTo>
                  <a:lnTo>
                    <a:pt x="1459" y="2594"/>
                  </a:lnTo>
                  <a:lnTo>
                    <a:pt x="1515" y="2594"/>
                  </a:lnTo>
                  <a:lnTo>
                    <a:pt x="1515" y="2582"/>
                  </a:lnTo>
                  <a:lnTo>
                    <a:pt x="1540" y="2582"/>
                  </a:lnTo>
                  <a:lnTo>
                    <a:pt x="1540" y="2570"/>
                  </a:lnTo>
                  <a:lnTo>
                    <a:pt x="1546" y="2570"/>
                  </a:lnTo>
                  <a:lnTo>
                    <a:pt x="1546" y="2558"/>
                  </a:lnTo>
                  <a:lnTo>
                    <a:pt x="1571" y="2558"/>
                  </a:lnTo>
                  <a:lnTo>
                    <a:pt x="1571" y="2545"/>
                  </a:lnTo>
                  <a:lnTo>
                    <a:pt x="1590" y="2545"/>
                  </a:lnTo>
                  <a:lnTo>
                    <a:pt x="1590" y="2521"/>
                  </a:lnTo>
                  <a:lnTo>
                    <a:pt x="1621" y="2521"/>
                  </a:lnTo>
                  <a:lnTo>
                    <a:pt x="1621" y="2509"/>
                  </a:lnTo>
                  <a:lnTo>
                    <a:pt x="1646" y="2509"/>
                  </a:lnTo>
                  <a:lnTo>
                    <a:pt x="1658" y="2509"/>
                  </a:lnTo>
                  <a:lnTo>
                    <a:pt x="1664" y="2509"/>
                  </a:lnTo>
                  <a:lnTo>
                    <a:pt x="1664" y="2497"/>
                  </a:lnTo>
                  <a:lnTo>
                    <a:pt x="1670" y="2497"/>
                  </a:lnTo>
                  <a:lnTo>
                    <a:pt x="1670" y="2485"/>
                  </a:lnTo>
                  <a:lnTo>
                    <a:pt x="1677" y="2485"/>
                  </a:lnTo>
                  <a:lnTo>
                    <a:pt x="1677" y="2460"/>
                  </a:lnTo>
                  <a:lnTo>
                    <a:pt x="1683" y="2460"/>
                  </a:lnTo>
                  <a:lnTo>
                    <a:pt x="1683" y="2424"/>
                  </a:lnTo>
                  <a:lnTo>
                    <a:pt x="1720" y="2424"/>
                  </a:lnTo>
                  <a:lnTo>
                    <a:pt x="1720" y="2412"/>
                  </a:lnTo>
                  <a:lnTo>
                    <a:pt x="1739" y="2412"/>
                  </a:lnTo>
                  <a:lnTo>
                    <a:pt x="1739" y="2399"/>
                  </a:lnTo>
                  <a:lnTo>
                    <a:pt x="1745" y="2399"/>
                  </a:lnTo>
                  <a:lnTo>
                    <a:pt x="1745" y="2375"/>
                  </a:lnTo>
                  <a:lnTo>
                    <a:pt x="1770" y="2375"/>
                  </a:lnTo>
                  <a:lnTo>
                    <a:pt x="1770" y="2363"/>
                  </a:lnTo>
                  <a:lnTo>
                    <a:pt x="1776" y="2363"/>
                  </a:lnTo>
                  <a:lnTo>
                    <a:pt x="1776" y="2350"/>
                  </a:lnTo>
                  <a:lnTo>
                    <a:pt x="1788" y="2350"/>
                  </a:lnTo>
                  <a:lnTo>
                    <a:pt x="1788" y="2338"/>
                  </a:lnTo>
                  <a:lnTo>
                    <a:pt x="1795" y="2338"/>
                  </a:lnTo>
                  <a:lnTo>
                    <a:pt x="1795" y="2301"/>
                  </a:lnTo>
                  <a:lnTo>
                    <a:pt x="1807" y="2301"/>
                  </a:lnTo>
                  <a:lnTo>
                    <a:pt x="1807" y="2289"/>
                  </a:lnTo>
                  <a:lnTo>
                    <a:pt x="1813" y="2289"/>
                  </a:lnTo>
                  <a:lnTo>
                    <a:pt x="1813" y="2277"/>
                  </a:lnTo>
                  <a:lnTo>
                    <a:pt x="1826" y="2277"/>
                  </a:lnTo>
                  <a:lnTo>
                    <a:pt x="1826" y="2265"/>
                  </a:lnTo>
                  <a:lnTo>
                    <a:pt x="1838" y="2265"/>
                  </a:lnTo>
                  <a:lnTo>
                    <a:pt x="1838" y="2252"/>
                  </a:lnTo>
                  <a:lnTo>
                    <a:pt x="1869" y="2252"/>
                  </a:lnTo>
                  <a:lnTo>
                    <a:pt x="1869" y="2240"/>
                  </a:lnTo>
                  <a:lnTo>
                    <a:pt x="1882" y="2240"/>
                  </a:lnTo>
                  <a:lnTo>
                    <a:pt x="1882" y="2216"/>
                  </a:lnTo>
                  <a:lnTo>
                    <a:pt x="1913" y="2216"/>
                  </a:lnTo>
                  <a:lnTo>
                    <a:pt x="1913" y="2203"/>
                  </a:lnTo>
                  <a:lnTo>
                    <a:pt x="1925" y="2203"/>
                  </a:lnTo>
                  <a:lnTo>
                    <a:pt x="1925" y="2179"/>
                  </a:lnTo>
                  <a:lnTo>
                    <a:pt x="1931" y="2179"/>
                  </a:lnTo>
                  <a:lnTo>
                    <a:pt x="1931" y="2167"/>
                  </a:lnTo>
                  <a:lnTo>
                    <a:pt x="1975" y="2167"/>
                  </a:lnTo>
                  <a:lnTo>
                    <a:pt x="1975" y="2154"/>
                  </a:lnTo>
                  <a:lnTo>
                    <a:pt x="1987" y="2154"/>
                  </a:lnTo>
                  <a:lnTo>
                    <a:pt x="1987" y="2118"/>
                  </a:lnTo>
                  <a:lnTo>
                    <a:pt x="2012" y="2118"/>
                  </a:lnTo>
                  <a:lnTo>
                    <a:pt x="2012" y="2105"/>
                  </a:lnTo>
                  <a:lnTo>
                    <a:pt x="2024" y="2105"/>
                  </a:lnTo>
                  <a:lnTo>
                    <a:pt x="2037" y="2105"/>
                  </a:lnTo>
                  <a:lnTo>
                    <a:pt x="2037" y="2093"/>
                  </a:lnTo>
                  <a:lnTo>
                    <a:pt x="2080" y="2093"/>
                  </a:lnTo>
                  <a:lnTo>
                    <a:pt x="2080" y="2081"/>
                  </a:lnTo>
                  <a:lnTo>
                    <a:pt x="2093" y="2081"/>
                  </a:lnTo>
                  <a:lnTo>
                    <a:pt x="2093" y="2068"/>
                  </a:lnTo>
                  <a:lnTo>
                    <a:pt x="2099" y="2068"/>
                  </a:lnTo>
                  <a:lnTo>
                    <a:pt x="2099" y="2056"/>
                  </a:lnTo>
                  <a:lnTo>
                    <a:pt x="2130" y="2056"/>
                  </a:lnTo>
                  <a:lnTo>
                    <a:pt x="2130" y="2031"/>
                  </a:lnTo>
                  <a:lnTo>
                    <a:pt x="2136" y="2031"/>
                  </a:lnTo>
                  <a:lnTo>
                    <a:pt x="2136" y="2019"/>
                  </a:lnTo>
                  <a:lnTo>
                    <a:pt x="2205" y="2019"/>
                  </a:lnTo>
                  <a:lnTo>
                    <a:pt x="2205" y="2007"/>
                  </a:lnTo>
                  <a:lnTo>
                    <a:pt x="2211" y="2007"/>
                  </a:lnTo>
                  <a:lnTo>
                    <a:pt x="2211" y="1982"/>
                  </a:lnTo>
                  <a:lnTo>
                    <a:pt x="2223" y="1982"/>
                  </a:lnTo>
                  <a:lnTo>
                    <a:pt x="2236" y="1982"/>
                  </a:lnTo>
                  <a:lnTo>
                    <a:pt x="2236" y="1970"/>
                  </a:lnTo>
                  <a:lnTo>
                    <a:pt x="2242" y="1970"/>
                  </a:lnTo>
                  <a:lnTo>
                    <a:pt x="2242" y="1958"/>
                  </a:lnTo>
                  <a:lnTo>
                    <a:pt x="2267" y="1958"/>
                  </a:lnTo>
                  <a:lnTo>
                    <a:pt x="2267" y="1945"/>
                  </a:lnTo>
                  <a:lnTo>
                    <a:pt x="2273" y="1945"/>
                  </a:lnTo>
                  <a:lnTo>
                    <a:pt x="2273" y="1933"/>
                  </a:lnTo>
                  <a:lnTo>
                    <a:pt x="2279" y="1933"/>
                  </a:lnTo>
                  <a:lnTo>
                    <a:pt x="2279" y="1920"/>
                  </a:lnTo>
                  <a:lnTo>
                    <a:pt x="2285" y="1920"/>
                  </a:lnTo>
                  <a:lnTo>
                    <a:pt x="2285" y="1896"/>
                  </a:lnTo>
                  <a:lnTo>
                    <a:pt x="2310" y="1896"/>
                  </a:lnTo>
                  <a:lnTo>
                    <a:pt x="2310" y="1883"/>
                  </a:lnTo>
                  <a:lnTo>
                    <a:pt x="2323" y="1883"/>
                  </a:lnTo>
                  <a:lnTo>
                    <a:pt x="2323" y="1871"/>
                  </a:lnTo>
                  <a:lnTo>
                    <a:pt x="2329" y="1871"/>
                  </a:lnTo>
                  <a:lnTo>
                    <a:pt x="2354" y="1871"/>
                  </a:lnTo>
                  <a:lnTo>
                    <a:pt x="2354" y="1859"/>
                  </a:lnTo>
                  <a:lnTo>
                    <a:pt x="2360" y="1859"/>
                  </a:lnTo>
                  <a:lnTo>
                    <a:pt x="2360" y="1846"/>
                  </a:lnTo>
                  <a:lnTo>
                    <a:pt x="2391" y="1846"/>
                  </a:lnTo>
                  <a:lnTo>
                    <a:pt x="2391" y="1834"/>
                  </a:lnTo>
                  <a:lnTo>
                    <a:pt x="2403" y="1834"/>
                  </a:lnTo>
                  <a:lnTo>
                    <a:pt x="2403" y="1821"/>
                  </a:lnTo>
                  <a:lnTo>
                    <a:pt x="2416" y="1821"/>
                  </a:lnTo>
                  <a:lnTo>
                    <a:pt x="2416" y="1796"/>
                  </a:lnTo>
                  <a:lnTo>
                    <a:pt x="2428" y="1796"/>
                  </a:lnTo>
                  <a:lnTo>
                    <a:pt x="2428" y="1784"/>
                  </a:lnTo>
                  <a:lnTo>
                    <a:pt x="2447" y="1784"/>
                  </a:lnTo>
                  <a:lnTo>
                    <a:pt x="2447" y="1771"/>
                  </a:lnTo>
                  <a:lnTo>
                    <a:pt x="2465" y="1771"/>
                  </a:lnTo>
                  <a:lnTo>
                    <a:pt x="2465" y="1759"/>
                  </a:lnTo>
                  <a:lnTo>
                    <a:pt x="2478" y="1759"/>
                  </a:lnTo>
                  <a:lnTo>
                    <a:pt x="2478" y="1747"/>
                  </a:lnTo>
                  <a:lnTo>
                    <a:pt x="2490" y="1747"/>
                  </a:lnTo>
                  <a:lnTo>
                    <a:pt x="2490" y="1734"/>
                  </a:lnTo>
                  <a:lnTo>
                    <a:pt x="2503" y="1734"/>
                  </a:lnTo>
                  <a:lnTo>
                    <a:pt x="2503" y="1722"/>
                  </a:lnTo>
                  <a:lnTo>
                    <a:pt x="2509" y="1722"/>
                  </a:lnTo>
                  <a:lnTo>
                    <a:pt x="2509" y="1709"/>
                  </a:lnTo>
                  <a:lnTo>
                    <a:pt x="2521" y="1709"/>
                  </a:lnTo>
                  <a:lnTo>
                    <a:pt x="2521" y="1697"/>
                  </a:lnTo>
                  <a:lnTo>
                    <a:pt x="2534" y="1697"/>
                  </a:lnTo>
                  <a:lnTo>
                    <a:pt x="2534" y="1684"/>
                  </a:lnTo>
                  <a:lnTo>
                    <a:pt x="2552" y="1684"/>
                  </a:lnTo>
                  <a:lnTo>
                    <a:pt x="2552" y="1672"/>
                  </a:lnTo>
                  <a:lnTo>
                    <a:pt x="2627" y="1672"/>
                  </a:lnTo>
                  <a:lnTo>
                    <a:pt x="2627" y="1659"/>
                  </a:lnTo>
                  <a:lnTo>
                    <a:pt x="2652" y="1659"/>
                  </a:lnTo>
                  <a:lnTo>
                    <a:pt x="2652" y="1634"/>
                  </a:lnTo>
                  <a:lnTo>
                    <a:pt x="2664" y="1634"/>
                  </a:lnTo>
                  <a:lnTo>
                    <a:pt x="2683" y="1634"/>
                  </a:lnTo>
                  <a:lnTo>
                    <a:pt x="2683" y="1622"/>
                  </a:lnTo>
                  <a:lnTo>
                    <a:pt x="2695" y="1622"/>
                  </a:lnTo>
                  <a:lnTo>
                    <a:pt x="2714" y="1622"/>
                  </a:lnTo>
                  <a:lnTo>
                    <a:pt x="2714" y="1609"/>
                  </a:lnTo>
                  <a:lnTo>
                    <a:pt x="2733" y="1609"/>
                  </a:lnTo>
                  <a:lnTo>
                    <a:pt x="2733" y="1596"/>
                  </a:lnTo>
                  <a:lnTo>
                    <a:pt x="2751" y="1596"/>
                  </a:lnTo>
                  <a:lnTo>
                    <a:pt x="2751" y="1583"/>
                  </a:lnTo>
                  <a:lnTo>
                    <a:pt x="2807" y="1583"/>
                  </a:lnTo>
                  <a:lnTo>
                    <a:pt x="2807" y="1571"/>
                  </a:lnTo>
                  <a:lnTo>
                    <a:pt x="2813" y="1571"/>
                  </a:lnTo>
                  <a:lnTo>
                    <a:pt x="2813" y="1558"/>
                  </a:lnTo>
                  <a:lnTo>
                    <a:pt x="2826" y="1558"/>
                  </a:lnTo>
                  <a:lnTo>
                    <a:pt x="2826" y="1545"/>
                  </a:lnTo>
                  <a:lnTo>
                    <a:pt x="2832" y="1545"/>
                  </a:lnTo>
                  <a:lnTo>
                    <a:pt x="2844" y="1545"/>
                  </a:lnTo>
                  <a:lnTo>
                    <a:pt x="2844" y="1532"/>
                  </a:lnTo>
                  <a:lnTo>
                    <a:pt x="2857" y="1532"/>
                  </a:lnTo>
                  <a:lnTo>
                    <a:pt x="2857" y="1520"/>
                  </a:lnTo>
                  <a:lnTo>
                    <a:pt x="2863" y="1520"/>
                  </a:lnTo>
                  <a:lnTo>
                    <a:pt x="2863" y="1507"/>
                  </a:lnTo>
                  <a:lnTo>
                    <a:pt x="2888" y="1507"/>
                  </a:lnTo>
                  <a:lnTo>
                    <a:pt x="2888" y="1494"/>
                  </a:lnTo>
                  <a:lnTo>
                    <a:pt x="2906" y="1494"/>
                  </a:lnTo>
                  <a:lnTo>
                    <a:pt x="2906" y="1481"/>
                  </a:lnTo>
                  <a:lnTo>
                    <a:pt x="2919" y="1481"/>
                  </a:lnTo>
                  <a:lnTo>
                    <a:pt x="2919" y="1468"/>
                  </a:lnTo>
                  <a:lnTo>
                    <a:pt x="2944" y="1468"/>
                  </a:lnTo>
                  <a:lnTo>
                    <a:pt x="2944" y="1456"/>
                  </a:lnTo>
                  <a:lnTo>
                    <a:pt x="2950" y="1456"/>
                  </a:lnTo>
                  <a:lnTo>
                    <a:pt x="2950" y="1443"/>
                  </a:lnTo>
                  <a:lnTo>
                    <a:pt x="3012" y="1443"/>
                  </a:lnTo>
                  <a:lnTo>
                    <a:pt x="3012" y="1430"/>
                  </a:lnTo>
                  <a:lnTo>
                    <a:pt x="3043" y="1430"/>
                  </a:lnTo>
                  <a:lnTo>
                    <a:pt x="3043" y="1417"/>
                  </a:lnTo>
                  <a:lnTo>
                    <a:pt x="3093" y="1417"/>
                  </a:lnTo>
                  <a:lnTo>
                    <a:pt x="3093" y="1404"/>
                  </a:lnTo>
                  <a:lnTo>
                    <a:pt x="3136" y="1404"/>
                  </a:lnTo>
                  <a:lnTo>
                    <a:pt x="3136" y="1392"/>
                  </a:lnTo>
                  <a:lnTo>
                    <a:pt x="3143" y="1392"/>
                  </a:lnTo>
                  <a:lnTo>
                    <a:pt x="3143" y="1379"/>
                  </a:lnTo>
                  <a:lnTo>
                    <a:pt x="3149" y="1379"/>
                  </a:lnTo>
                  <a:lnTo>
                    <a:pt x="3149" y="1366"/>
                  </a:lnTo>
                  <a:lnTo>
                    <a:pt x="3155" y="1366"/>
                  </a:lnTo>
                  <a:lnTo>
                    <a:pt x="3155" y="1353"/>
                  </a:lnTo>
                  <a:lnTo>
                    <a:pt x="3161" y="1353"/>
                  </a:lnTo>
                  <a:lnTo>
                    <a:pt x="3161" y="1328"/>
                  </a:lnTo>
                  <a:lnTo>
                    <a:pt x="3186" y="1328"/>
                  </a:lnTo>
                  <a:lnTo>
                    <a:pt x="3186" y="1315"/>
                  </a:lnTo>
                  <a:lnTo>
                    <a:pt x="3205" y="1315"/>
                  </a:lnTo>
                  <a:lnTo>
                    <a:pt x="3205" y="1302"/>
                  </a:lnTo>
                  <a:lnTo>
                    <a:pt x="3211" y="1302"/>
                  </a:lnTo>
                  <a:lnTo>
                    <a:pt x="3211" y="1289"/>
                  </a:lnTo>
                  <a:lnTo>
                    <a:pt x="3261" y="1289"/>
                  </a:lnTo>
                  <a:lnTo>
                    <a:pt x="3261" y="1276"/>
                  </a:lnTo>
                  <a:lnTo>
                    <a:pt x="3273" y="1276"/>
                  </a:lnTo>
                  <a:lnTo>
                    <a:pt x="3273" y="1251"/>
                  </a:lnTo>
                  <a:lnTo>
                    <a:pt x="3335" y="1251"/>
                  </a:lnTo>
                  <a:lnTo>
                    <a:pt x="3335" y="1225"/>
                  </a:lnTo>
                  <a:lnTo>
                    <a:pt x="3354" y="1225"/>
                  </a:lnTo>
                  <a:lnTo>
                    <a:pt x="3354" y="1200"/>
                  </a:lnTo>
                  <a:lnTo>
                    <a:pt x="3385" y="1200"/>
                  </a:lnTo>
                  <a:lnTo>
                    <a:pt x="3385" y="1187"/>
                  </a:lnTo>
                  <a:lnTo>
                    <a:pt x="3403" y="1187"/>
                  </a:lnTo>
                  <a:lnTo>
                    <a:pt x="3422" y="1187"/>
                  </a:lnTo>
                  <a:lnTo>
                    <a:pt x="3441" y="1187"/>
                  </a:lnTo>
                  <a:lnTo>
                    <a:pt x="3447" y="1187"/>
                  </a:lnTo>
                  <a:lnTo>
                    <a:pt x="3453" y="1187"/>
                  </a:lnTo>
                  <a:lnTo>
                    <a:pt x="3453" y="1173"/>
                  </a:lnTo>
                  <a:lnTo>
                    <a:pt x="3472" y="1173"/>
                  </a:lnTo>
                  <a:lnTo>
                    <a:pt x="3472" y="1160"/>
                  </a:lnTo>
                  <a:lnTo>
                    <a:pt x="3484" y="1160"/>
                  </a:lnTo>
                  <a:lnTo>
                    <a:pt x="3509" y="1160"/>
                  </a:lnTo>
                  <a:lnTo>
                    <a:pt x="3540" y="1160"/>
                  </a:lnTo>
                  <a:lnTo>
                    <a:pt x="3565" y="1160"/>
                  </a:lnTo>
                  <a:lnTo>
                    <a:pt x="3565" y="1147"/>
                  </a:lnTo>
                  <a:lnTo>
                    <a:pt x="3571" y="1147"/>
                  </a:lnTo>
                  <a:lnTo>
                    <a:pt x="3584" y="1147"/>
                  </a:lnTo>
                  <a:lnTo>
                    <a:pt x="3584" y="1133"/>
                  </a:lnTo>
                  <a:lnTo>
                    <a:pt x="3596" y="1133"/>
                  </a:lnTo>
                  <a:lnTo>
                    <a:pt x="3608" y="1133"/>
                  </a:lnTo>
                  <a:lnTo>
                    <a:pt x="3621" y="1133"/>
                  </a:lnTo>
                  <a:lnTo>
                    <a:pt x="3621" y="1119"/>
                  </a:lnTo>
                  <a:lnTo>
                    <a:pt x="3627" y="1119"/>
                  </a:lnTo>
                  <a:lnTo>
                    <a:pt x="3627" y="1104"/>
                  </a:lnTo>
                  <a:lnTo>
                    <a:pt x="3639" y="1104"/>
                  </a:lnTo>
                  <a:lnTo>
                    <a:pt x="3664" y="1104"/>
                  </a:lnTo>
                  <a:lnTo>
                    <a:pt x="3670" y="1104"/>
                  </a:lnTo>
                  <a:lnTo>
                    <a:pt x="3670" y="1090"/>
                  </a:lnTo>
                  <a:lnTo>
                    <a:pt x="3702" y="1090"/>
                  </a:lnTo>
                  <a:lnTo>
                    <a:pt x="3702" y="1076"/>
                  </a:lnTo>
                  <a:lnTo>
                    <a:pt x="3720" y="1076"/>
                  </a:lnTo>
                  <a:lnTo>
                    <a:pt x="3720" y="1061"/>
                  </a:lnTo>
                  <a:lnTo>
                    <a:pt x="3733" y="1061"/>
                  </a:lnTo>
                  <a:lnTo>
                    <a:pt x="3733" y="1047"/>
                  </a:lnTo>
                  <a:lnTo>
                    <a:pt x="3739" y="1047"/>
                  </a:lnTo>
                  <a:lnTo>
                    <a:pt x="3745" y="1047"/>
                  </a:lnTo>
                  <a:lnTo>
                    <a:pt x="3757" y="1047"/>
                  </a:lnTo>
                  <a:lnTo>
                    <a:pt x="3776" y="1047"/>
                  </a:lnTo>
                  <a:lnTo>
                    <a:pt x="3788" y="1047"/>
                  </a:lnTo>
                  <a:lnTo>
                    <a:pt x="3795" y="1047"/>
                  </a:lnTo>
                  <a:lnTo>
                    <a:pt x="3795" y="1031"/>
                  </a:lnTo>
                  <a:lnTo>
                    <a:pt x="3813" y="1031"/>
                  </a:lnTo>
                  <a:lnTo>
                    <a:pt x="3813" y="1016"/>
                  </a:lnTo>
                  <a:lnTo>
                    <a:pt x="3820" y="1016"/>
                  </a:lnTo>
                  <a:lnTo>
                    <a:pt x="3826" y="1016"/>
                  </a:lnTo>
                  <a:lnTo>
                    <a:pt x="3826" y="1001"/>
                  </a:lnTo>
                  <a:lnTo>
                    <a:pt x="3844" y="1001"/>
                  </a:lnTo>
                  <a:lnTo>
                    <a:pt x="3869" y="1001"/>
                  </a:lnTo>
                  <a:lnTo>
                    <a:pt x="3869" y="985"/>
                  </a:lnTo>
                  <a:lnTo>
                    <a:pt x="3875" y="985"/>
                  </a:lnTo>
                  <a:lnTo>
                    <a:pt x="3875" y="969"/>
                  </a:lnTo>
                  <a:lnTo>
                    <a:pt x="3900" y="969"/>
                  </a:lnTo>
                  <a:lnTo>
                    <a:pt x="3925" y="969"/>
                  </a:lnTo>
                  <a:lnTo>
                    <a:pt x="3944" y="969"/>
                  </a:lnTo>
                  <a:lnTo>
                    <a:pt x="3956" y="969"/>
                  </a:lnTo>
                  <a:lnTo>
                    <a:pt x="3956" y="952"/>
                  </a:lnTo>
                  <a:lnTo>
                    <a:pt x="3969" y="952"/>
                  </a:lnTo>
                  <a:lnTo>
                    <a:pt x="3969" y="919"/>
                  </a:lnTo>
                  <a:lnTo>
                    <a:pt x="3975" y="919"/>
                  </a:lnTo>
                  <a:lnTo>
                    <a:pt x="3975" y="903"/>
                  </a:lnTo>
                  <a:lnTo>
                    <a:pt x="3981" y="903"/>
                  </a:lnTo>
                  <a:lnTo>
                    <a:pt x="3981" y="886"/>
                  </a:lnTo>
                  <a:lnTo>
                    <a:pt x="3987" y="886"/>
                  </a:lnTo>
                  <a:lnTo>
                    <a:pt x="3987" y="870"/>
                  </a:lnTo>
                  <a:lnTo>
                    <a:pt x="4006" y="870"/>
                  </a:lnTo>
                  <a:lnTo>
                    <a:pt x="4105" y="870"/>
                  </a:lnTo>
                  <a:lnTo>
                    <a:pt x="4111" y="870"/>
                  </a:lnTo>
                  <a:lnTo>
                    <a:pt x="4130" y="870"/>
                  </a:lnTo>
                  <a:lnTo>
                    <a:pt x="4136" y="870"/>
                  </a:lnTo>
                  <a:lnTo>
                    <a:pt x="4143" y="870"/>
                  </a:lnTo>
                  <a:lnTo>
                    <a:pt x="4143" y="852"/>
                  </a:lnTo>
                  <a:lnTo>
                    <a:pt x="4155" y="852"/>
                  </a:lnTo>
                  <a:lnTo>
                    <a:pt x="4161" y="852"/>
                  </a:lnTo>
                  <a:lnTo>
                    <a:pt x="4161" y="834"/>
                  </a:lnTo>
                  <a:lnTo>
                    <a:pt x="4174" y="834"/>
                  </a:lnTo>
                  <a:lnTo>
                    <a:pt x="4174" y="816"/>
                  </a:lnTo>
                  <a:lnTo>
                    <a:pt x="4180" y="816"/>
                  </a:lnTo>
                  <a:lnTo>
                    <a:pt x="4192" y="816"/>
                  </a:lnTo>
                  <a:lnTo>
                    <a:pt x="4198" y="816"/>
                  </a:lnTo>
                  <a:lnTo>
                    <a:pt x="4198" y="798"/>
                  </a:lnTo>
                  <a:lnTo>
                    <a:pt x="4217" y="798"/>
                  </a:lnTo>
                  <a:lnTo>
                    <a:pt x="4217" y="779"/>
                  </a:lnTo>
                  <a:lnTo>
                    <a:pt x="4230" y="779"/>
                  </a:lnTo>
                  <a:lnTo>
                    <a:pt x="4230" y="761"/>
                  </a:lnTo>
                  <a:lnTo>
                    <a:pt x="4236" y="761"/>
                  </a:lnTo>
                  <a:lnTo>
                    <a:pt x="4236" y="742"/>
                  </a:lnTo>
                  <a:lnTo>
                    <a:pt x="4242" y="742"/>
                  </a:lnTo>
                  <a:lnTo>
                    <a:pt x="4242" y="724"/>
                  </a:lnTo>
                  <a:lnTo>
                    <a:pt x="4292" y="724"/>
                  </a:lnTo>
                  <a:lnTo>
                    <a:pt x="4335" y="724"/>
                  </a:lnTo>
                  <a:lnTo>
                    <a:pt x="4335" y="705"/>
                  </a:lnTo>
                  <a:lnTo>
                    <a:pt x="4341" y="705"/>
                  </a:lnTo>
                  <a:lnTo>
                    <a:pt x="4341" y="686"/>
                  </a:lnTo>
                  <a:lnTo>
                    <a:pt x="4354" y="686"/>
                  </a:lnTo>
                  <a:lnTo>
                    <a:pt x="4391" y="686"/>
                  </a:lnTo>
                  <a:lnTo>
                    <a:pt x="4391" y="667"/>
                  </a:lnTo>
                  <a:lnTo>
                    <a:pt x="4416" y="667"/>
                  </a:lnTo>
                  <a:lnTo>
                    <a:pt x="4577" y="667"/>
                  </a:lnTo>
                  <a:lnTo>
                    <a:pt x="4602" y="667"/>
                  </a:lnTo>
                  <a:lnTo>
                    <a:pt x="4621" y="667"/>
                  </a:lnTo>
                  <a:lnTo>
                    <a:pt x="4646" y="667"/>
                  </a:lnTo>
                  <a:lnTo>
                    <a:pt x="4658" y="667"/>
                  </a:lnTo>
                  <a:lnTo>
                    <a:pt x="4658" y="646"/>
                  </a:lnTo>
                  <a:lnTo>
                    <a:pt x="4677" y="646"/>
                  </a:lnTo>
                  <a:lnTo>
                    <a:pt x="4689" y="646"/>
                  </a:lnTo>
                  <a:lnTo>
                    <a:pt x="4689" y="625"/>
                  </a:lnTo>
                  <a:lnTo>
                    <a:pt x="4695" y="625"/>
                  </a:lnTo>
                  <a:lnTo>
                    <a:pt x="4695" y="603"/>
                  </a:lnTo>
                  <a:lnTo>
                    <a:pt x="4726" y="603"/>
                  </a:lnTo>
                  <a:lnTo>
                    <a:pt x="4739" y="603"/>
                  </a:lnTo>
                  <a:lnTo>
                    <a:pt x="4751" y="603"/>
                  </a:lnTo>
                  <a:lnTo>
                    <a:pt x="4757" y="603"/>
                  </a:lnTo>
                  <a:lnTo>
                    <a:pt x="4776" y="603"/>
                  </a:lnTo>
                  <a:lnTo>
                    <a:pt x="4801" y="603"/>
                  </a:lnTo>
                  <a:lnTo>
                    <a:pt x="4838" y="603"/>
                  </a:lnTo>
                  <a:lnTo>
                    <a:pt x="4851" y="603"/>
                  </a:lnTo>
                  <a:lnTo>
                    <a:pt x="4851" y="577"/>
                  </a:lnTo>
                  <a:lnTo>
                    <a:pt x="4882" y="577"/>
                  </a:lnTo>
                  <a:lnTo>
                    <a:pt x="4900" y="577"/>
                  </a:lnTo>
                  <a:lnTo>
                    <a:pt x="4913" y="577"/>
                  </a:lnTo>
                  <a:lnTo>
                    <a:pt x="4925" y="577"/>
                  </a:lnTo>
                  <a:lnTo>
                    <a:pt x="4931" y="577"/>
                  </a:lnTo>
                  <a:lnTo>
                    <a:pt x="4956" y="577"/>
                  </a:lnTo>
                  <a:lnTo>
                    <a:pt x="4956" y="518"/>
                  </a:lnTo>
                  <a:lnTo>
                    <a:pt x="4962" y="518"/>
                  </a:lnTo>
                  <a:lnTo>
                    <a:pt x="4962" y="489"/>
                  </a:lnTo>
                  <a:lnTo>
                    <a:pt x="5062" y="489"/>
                  </a:lnTo>
                  <a:lnTo>
                    <a:pt x="5062" y="459"/>
                  </a:lnTo>
                  <a:lnTo>
                    <a:pt x="5093" y="459"/>
                  </a:lnTo>
                  <a:lnTo>
                    <a:pt x="5174" y="459"/>
                  </a:lnTo>
                  <a:lnTo>
                    <a:pt x="5242" y="459"/>
                  </a:lnTo>
                  <a:lnTo>
                    <a:pt x="5273" y="459"/>
                  </a:lnTo>
                  <a:lnTo>
                    <a:pt x="5317" y="459"/>
                  </a:lnTo>
                  <a:lnTo>
                    <a:pt x="5335" y="459"/>
                  </a:lnTo>
                  <a:lnTo>
                    <a:pt x="5435" y="459"/>
                  </a:lnTo>
                  <a:lnTo>
                    <a:pt x="5435" y="423"/>
                  </a:lnTo>
                  <a:lnTo>
                    <a:pt x="5490" y="423"/>
                  </a:lnTo>
                  <a:lnTo>
                    <a:pt x="5503" y="423"/>
                  </a:lnTo>
                  <a:lnTo>
                    <a:pt x="5509" y="423"/>
                  </a:lnTo>
                  <a:lnTo>
                    <a:pt x="5540" y="423"/>
                  </a:lnTo>
                  <a:lnTo>
                    <a:pt x="5584" y="423"/>
                  </a:lnTo>
                  <a:lnTo>
                    <a:pt x="5584" y="380"/>
                  </a:lnTo>
                  <a:lnTo>
                    <a:pt x="5627" y="380"/>
                  </a:lnTo>
                  <a:lnTo>
                    <a:pt x="5671" y="380"/>
                  </a:lnTo>
                  <a:lnTo>
                    <a:pt x="5671" y="336"/>
                  </a:lnTo>
                  <a:lnTo>
                    <a:pt x="5714" y="336"/>
                  </a:lnTo>
                  <a:lnTo>
                    <a:pt x="5714" y="291"/>
                  </a:lnTo>
                  <a:lnTo>
                    <a:pt x="5745" y="291"/>
                  </a:lnTo>
                  <a:lnTo>
                    <a:pt x="5776" y="291"/>
                  </a:lnTo>
                  <a:lnTo>
                    <a:pt x="5782" y="291"/>
                  </a:lnTo>
                  <a:lnTo>
                    <a:pt x="5826" y="291"/>
                  </a:lnTo>
                  <a:lnTo>
                    <a:pt x="5826" y="237"/>
                  </a:lnTo>
                  <a:lnTo>
                    <a:pt x="5863" y="237"/>
                  </a:lnTo>
                  <a:lnTo>
                    <a:pt x="5969" y="237"/>
                  </a:lnTo>
                  <a:lnTo>
                    <a:pt x="5994" y="237"/>
                  </a:lnTo>
                  <a:lnTo>
                    <a:pt x="6012" y="237"/>
                  </a:lnTo>
                  <a:lnTo>
                    <a:pt x="6049" y="237"/>
                  </a:lnTo>
                  <a:lnTo>
                    <a:pt x="6136" y="237"/>
                  </a:lnTo>
                  <a:lnTo>
                    <a:pt x="6391" y="237"/>
                  </a:lnTo>
                  <a:lnTo>
                    <a:pt x="6466" y="237"/>
                  </a:lnTo>
                  <a:lnTo>
                    <a:pt x="6466" y="129"/>
                  </a:lnTo>
                  <a:lnTo>
                    <a:pt x="6490" y="129"/>
                  </a:lnTo>
                  <a:lnTo>
                    <a:pt x="6559" y="129"/>
                  </a:lnTo>
                  <a:lnTo>
                    <a:pt x="6559" y="0"/>
                  </a:lnTo>
                  <a:lnTo>
                    <a:pt x="6664" y="0"/>
                  </a:lnTo>
                  <a:lnTo>
                    <a:pt x="6683" y="0"/>
                  </a:lnTo>
                  <a:lnTo>
                    <a:pt x="6714" y="0"/>
                  </a:lnTo>
                  <a:lnTo>
                    <a:pt x="70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0" name="Freeform 97"/>
            <p:cNvSpPr/>
            <p:nvPr/>
          </p:nvSpPr>
          <p:spPr>
            <a:xfrm flipV="1">
              <a:off x="851760" y="1686960"/>
              <a:ext cx="7273080" cy="3098880"/>
            </a:xfrm>
            <a:custGeom>
              <a:avLst/>
              <a:gdLst/>
              <a:ahLst/>
              <a:rect l="l" t="t" r="r" b="b"/>
              <a:pathLst>
                <a:path w="6702" h="2863">
                  <a:moveTo>
                    <a:pt x="0" y="2863"/>
                  </a:moveTo>
                  <a:lnTo>
                    <a:pt x="708" y="2863"/>
                  </a:lnTo>
                  <a:lnTo>
                    <a:pt x="708" y="2852"/>
                  </a:lnTo>
                  <a:lnTo>
                    <a:pt x="757" y="2852"/>
                  </a:lnTo>
                  <a:lnTo>
                    <a:pt x="757" y="2829"/>
                  </a:lnTo>
                  <a:lnTo>
                    <a:pt x="776" y="2829"/>
                  </a:lnTo>
                  <a:lnTo>
                    <a:pt x="776" y="2806"/>
                  </a:lnTo>
                  <a:lnTo>
                    <a:pt x="795" y="2806"/>
                  </a:lnTo>
                  <a:lnTo>
                    <a:pt x="795" y="2794"/>
                  </a:lnTo>
                  <a:lnTo>
                    <a:pt x="801" y="2794"/>
                  </a:lnTo>
                  <a:lnTo>
                    <a:pt x="826" y="2794"/>
                  </a:lnTo>
                  <a:lnTo>
                    <a:pt x="826" y="2783"/>
                  </a:lnTo>
                  <a:lnTo>
                    <a:pt x="850" y="2783"/>
                  </a:lnTo>
                  <a:lnTo>
                    <a:pt x="850" y="2771"/>
                  </a:lnTo>
                  <a:lnTo>
                    <a:pt x="882" y="2771"/>
                  </a:lnTo>
                  <a:lnTo>
                    <a:pt x="882" y="2760"/>
                  </a:lnTo>
                  <a:lnTo>
                    <a:pt x="888" y="2760"/>
                  </a:lnTo>
                  <a:lnTo>
                    <a:pt x="888" y="2748"/>
                  </a:lnTo>
                  <a:lnTo>
                    <a:pt x="894" y="2748"/>
                  </a:lnTo>
                  <a:lnTo>
                    <a:pt x="894" y="2737"/>
                  </a:lnTo>
                  <a:lnTo>
                    <a:pt x="913" y="2737"/>
                  </a:lnTo>
                  <a:lnTo>
                    <a:pt x="913" y="2725"/>
                  </a:lnTo>
                  <a:lnTo>
                    <a:pt x="956" y="2725"/>
                  </a:lnTo>
                  <a:lnTo>
                    <a:pt x="956" y="2714"/>
                  </a:lnTo>
                  <a:lnTo>
                    <a:pt x="968" y="2714"/>
                  </a:lnTo>
                  <a:lnTo>
                    <a:pt x="968" y="2702"/>
                  </a:lnTo>
                  <a:lnTo>
                    <a:pt x="981" y="2702"/>
                  </a:lnTo>
                  <a:lnTo>
                    <a:pt x="1037" y="2702"/>
                  </a:lnTo>
                  <a:lnTo>
                    <a:pt x="1037" y="2690"/>
                  </a:lnTo>
                  <a:lnTo>
                    <a:pt x="1049" y="2690"/>
                  </a:lnTo>
                  <a:lnTo>
                    <a:pt x="1049" y="2679"/>
                  </a:lnTo>
                  <a:lnTo>
                    <a:pt x="1055" y="2679"/>
                  </a:lnTo>
                  <a:lnTo>
                    <a:pt x="1068" y="2679"/>
                  </a:lnTo>
                  <a:lnTo>
                    <a:pt x="1087" y="2679"/>
                  </a:lnTo>
                  <a:lnTo>
                    <a:pt x="1087" y="2667"/>
                  </a:lnTo>
                  <a:lnTo>
                    <a:pt x="1105" y="2667"/>
                  </a:lnTo>
                  <a:lnTo>
                    <a:pt x="1105" y="2655"/>
                  </a:lnTo>
                  <a:lnTo>
                    <a:pt x="1111" y="2655"/>
                  </a:lnTo>
                  <a:lnTo>
                    <a:pt x="1111" y="2644"/>
                  </a:lnTo>
                  <a:lnTo>
                    <a:pt x="1118" y="2644"/>
                  </a:lnTo>
                  <a:lnTo>
                    <a:pt x="1118" y="2632"/>
                  </a:lnTo>
                  <a:lnTo>
                    <a:pt x="1155" y="2632"/>
                  </a:lnTo>
                  <a:lnTo>
                    <a:pt x="1155" y="2620"/>
                  </a:lnTo>
                  <a:lnTo>
                    <a:pt x="1173" y="2620"/>
                  </a:lnTo>
                  <a:lnTo>
                    <a:pt x="1173" y="2597"/>
                  </a:lnTo>
                  <a:lnTo>
                    <a:pt x="1186" y="2597"/>
                  </a:lnTo>
                  <a:lnTo>
                    <a:pt x="1186" y="2585"/>
                  </a:lnTo>
                  <a:lnTo>
                    <a:pt x="1205" y="2585"/>
                  </a:lnTo>
                  <a:lnTo>
                    <a:pt x="1205" y="2574"/>
                  </a:lnTo>
                  <a:lnTo>
                    <a:pt x="1242" y="2574"/>
                  </a:lnTo>
                  <a:lnTo>
                    <a:pt x="1242" y="2550"/>
                  </a:lnTo>
                  <a:lnTo>
                    <a:pt x="1273" y="2550"/>
                  </a:lnTo>
                  <a:lnTo>
                    <a:pt x="1273" y="2539"/>
                  </a:lnTo>
                  <a:lnTo>
                    <a:pt x="1310" y="2539"/>
                  </a:lnTo>
                  <a:lnTo>
                    <a:pt x="1310" y="2515"/>
                  </a:lnTo>
                  <a:lnTo>
                    <a:pt x="1316" y="2515"/>
                  </a:lnTo>
                  <a:lnTo>
                    <a:pt x="1329" y="2515"/>
                  </a:lnTo>
                  <a:lnTo>
                    <a:pt x="1329" y="2504"/>
                  </a:lnTo>
                  <a:lnTo>
                    <a:pt x="1341" y="2504"/>
                  </a:lnTo>
                  <a:lnTo>
                    <a:pt x="1341" y="2492"/>
                  </a:lnTo>
                  <a:lnTo>
                    <a:pt x="1347" y="2492"/>
                  </a:lnTo>
                  <a:lnTo>
                    <a:pt x="1347" y="2480"/>
                  </a:lnTo>
                  <a:lnTo>
                    <a:pt x="1366" y="2480"/>
                  </a:lnTo>
                  <a:lnTo>
                    <a:pt x="1366" y="2468"/>
                  </a:lnTo>
                  <a:lnTo>
                    <a:pt x="1378" y="2468"/>
                  </a:lnTo>
                  <a:lnTo>
                    <a:pt x="1378" y="2457"/>
                  </a:lnTo>
                  <a:lnTo>
                    <a:pt x="1397" y="2457"/>
                  </a:lnTo>
                  <a:lnTo>
                    <a:pt x="1397" y="2445"/>
                  </a:lnTo>
                  <a:lnTo>
                    <a:pt x="1403" y="2445"/>
                  </a:lnTo>
                  <a:lnTo>
                    <a:pt x="1403" y="2433"/>
                  </a:lnTo>
                  <a:lnTo>
                    <a:pt x="1410" y="2433"/>
                  </a:lnTo>
                  <a:lnTo>
                    <a:pt x="1410" y="2421"/>
                  </a:lnTo>
                  <a:lnTo>
                    <a:pt x="1416" y="2421"/>
                  </a:lnTo>
                  <a:lnTo>
                    <a:pt x="1416" y="2409"/>
                  </a:lnTo>
                  <a:lnTo>
                    <a:pt x="1422" y="2409"/>
                  </a:lnTo>
                  <a:lnTo>
                    <a:pt x="1428" y="2409"/>
                  </a:lnTo>
                  <a:lnTo>
                    <a:pt x="1428" y="2398"/>
                  </a:lnTo>
                  <a:lnTo>
                    <a:pt x="1434" y="2398"/>
                  </a:lnTo>
                  <a:lnTo>
                    <a:pt x="1434" y="2386"/>
                  </a:lnTo>
                  <a:lnTo>
                    <a:pt x="1441" y="2386"/>
                  </a:lnTo>
                  <a:lnTo>
                    <a:pt x="1441" y="2374"/>
                  </a:lnTo>
                  <a:lnTo>
                    <a:pt x="1447" y="2374"/>
                  </a:lnTo>
                  <a:lnTo>
                    <a:pt x="1447" y="2362"/>
                  </a:lnTo>
                  <a:lnTo>
                    <a:pt x="1459" y="2362"/>
                  </a:lnTo>
                  <a:lnTo>
                    <a:pt x="1459" y="2350"/>
                  </a:lnTo>
                  <a:lnTo>
                    <a:pt x="1472" y="2350"/>
                  </a:lnTo>
                  <a:lnTo>
                    <a:pt x="1472" y="2327"/>
                  </a:lnTo>
                  <a:lnTo>
                    <a:pt x="1496" y="2327"/>
                  </a:lnTo>
                  <a:lnTo>
                    <a:pt x="1496" y="2315"/>
                  </a:lnTo>
                  <a:lnTo>
                    <a:pt x="1521" y="2315"/>
                  </a:lnTo>
                  <a:lnTo>
                    <a:pt x="1521" y="2303"/>
                  </a:lnTo>
                  <a:lnTo>
                    <a:pt x="1565" y="2303"/>
                  </a:lnTo>
                  <a:lnTo>
                    <a:pt x="1583" y="2303"/>
                  </a:lnTo>
                  <a:lnTo>
                    <a:pt x="1583" y="2291"/>
                  </a:lnTo>
                  <a:lnTo>
                    <a:pt x="1596" y="2291"/>
                  </a:lnTo>
                  <a:lnTo>
                    <a:pt x="1596" y="2267"/>
                  </a:lnTo>
                  <a:lnTo>
                    <a:pt x="1664" y="2267"/>
                  </a:lnTo>
                  <a:lnTo>
                    <a:pt x="1664" y="2255"/>
                  </a:lnTo>
                  <a:lnTo>
                    <a:pt x="1670" y="2255"/>
                  </a:lnTo>
                  <a:lnTo>
                    <a:pt x="1670" y="2244"/>
                  </a:lnTo>
                  <a:lnTo>
                    <a:pt x="1677" y="2244"/>
                  </a:lnTo>
                  <a:lnTo>
                    <a:pt x="1677" y="2232"/>
                  </a:lnTo>
                  <a:lnTo>
                    <a:pt x="1708" y="2232"/>
                  </a:lnTo>
                  <a:lnTo>
                    <a:pt x="1708" y="2220"/>
                  </a:lnTo>
                  <a:lnTo>
                    <a:pt x="1714" y="2220"/>
                  </a:lnTo>
                  <a:lnTo>
                    <a:pt x="1714" y="2208"/>
                  </a:lnTo>
                  <a:lnTo>
                    <a:pt x="1745" y="2208"/>
                  </a:lnTo>
                  <a:lnTo>
                    <a:pt x="1745" y="2196"/>
                  </a:lnTo>
                  <a:lnTo>
                    <a:pt x="1751" y="2196"/>
                  </a:lnTo>
                  <a:lnTo>
                    <a:pt x="1751" y="2184"/>
                  </a:lnTo>
                  <a:lnTo>
                    <a:pt x="1757" y="2184"/>
                  </a:lnTo>
                  <a:lnTo>
                    <a:pt x="1757" y="2160"/>
                  </a:lnTo>
                  <a:lnTo>
                    <a:pt x="1795" y="2160"/>
                  </a:lnTo>
                  <a:lnTo>
                    <a:pt x="1795" y="2148"/>
                  </a:lnTo>
                  <a:lnTo>
                    <a:pt x="1801" y="2148"/>
                  </a:lnTo>
                  <a:lnTo>
                    <a:pt x="1801" y="2112"/>
                  </a:lnTo>
                  <a:lnTo>
                    <a:pt x="1807" y="2112"/>
                  </a:lnTo>
                  <a:lnTo>
                    <a:pt x="1807" y="2100"/>
                  </a:lnTo>
                  <a:lnTo>
                    <a:pt x="1838" y="2100"/>
                  </a:lnTo>
                  <a:lnTo>
                    <a:pt x="1838" y="2088"/>
                  </a:lnTo>
                  <a:lnTo>
                    <a:pt x="1844" y="2088"/>
                  </a:lnTo>
                  <a:lnTo>
                    <a:pt x="1844" y="2076"/>
                  </a:lnTo>
                  <a:lnTo>
                    <a:pt x="1863" y="2076"/>
                  </a:lnTo>
                  <a:lnTo>
                    <a:pt x="1863" y="2064"/>
                  </a:lnTo>
                  <a:lnTo>
                    <a:pt x="1906" y="2064"/>
                  </a:lnTo>
                  <a:lnTo>
                    <a:pt x="1913" y="2064"/>
                  </a:lnTo>
                  <a:lnTo>
                    <a:pt x="1913" y="2052"/>
                  </a:lnTo>
                  <a:lnTo>
                    <a:pt x="1925" y="2052"/>
                  </a:lnTo>
                  <a:lnTo>
                    <a:pt x="1925" y="2040"/>
                  </a:lnTo>
                  <a:lnTo>
                    <a:pt x="1931" y="2040"/>
                  </a:lnTo>
                  <a:lnTo>
                    <a:pt x="1931" y="2028"/>
                  </a:lnTo>
                  <a:lnTo>
                    <a:pt x="1975" y="2028"/>
                  </a:lnTo>
                  <a:lnTo>
                    <a:pt x="1975" y="2016"/>
                  </a:lnTo>
                  <a:lnTo>
                    <a:pt x="2006" y="2016"/>
                  </a:lnTo>
                  <a:lnTo>
                    <a:pt x="2006" y="2004"/>
                  </a:lnTo>
                  <a:lnTo>
                    <a:pt x="2018" y="2004"/>
                  </a:lnTo>
                  <a:lnTo>
                    <a:pt x="2018" y="1992"/>
                  </a:lnTo>
                  <a:lnTo>
                    <a:pt x="2031" y="1992"/>
                  </a:lnTo>
                  <a:lnTo>
                    <a:pt x="2031" y="1980"/>
                  </a:lnTo>
                  <a:lnTo>
                    <a:pt x="2043" y="1980"/>
                  </a:lnTo>
                  <a:lnTo>
                    <a:pt x="2043" y="1968"/>
                  </a:lnTo>
                  <a:lnTo>
                    <a:pt x="2055" y="1968"/>
                  </a:lnTo>
                  <a:lnTo>
                    <a:pt x="2055" y="1956"/>
                  </a:lnTo>
                  <a:lnTo>
                    <a:pt x="2062" y="1956"/>
                  </a:lnTo>
                  <a:lnTo>
                    <a:pt x="2062" y="1944"/>
                  </a:lnTo>
                  <a:lnTo>
                    <a:pt x="2074" y="1944"/>
                  </a:lnTo>
                  <a:lnTo>
                    <a:pt x="2074" y="1932"/>
                  </a:lnTo>
                  <a:lnTo>
                    <a:pt x="2080" y="1932"/>
                  </a:lnTo>
                  <a:lnTo>
                    <a:pt x="2080" y="1920"/>
                  </a:lnTo>
                  <a:lnTo>
                    <a:pt x="2087" y="1920"/>
                  </a:lnTo>
                  <a:lnTo>
                    <a:pt x="2087" y="1908"/>
                  </a:lnTo>
                  <a:lnTo>
                    <a:pt x="2111" y="1908"/>
                  </a:lnTo>
                  <a:lnTo>
                    <a:pt x="2111" y="1896"/>
                  </a:lnTo>
                  <a:lnTo>
                    <a:pt x="2118" y="1896"/>
                  </a:lnTo>
                  <a:lnTo>
                    <a:pt x="2118" y="1884"/>
                  </a:lnTo>
                  <a:lnTo>
                    <a:pt x="2124" y="1884"/>
                  </a:lnTo>
                  <a:lnTo>
                    <a:pt x="2124" y="1872"/>
                  </a:lnTo>
                  <a:lnTo>
                    <a:pt x="2130" y="1872"/>
                  </a:lnTo>
                  <a:lnTo>
                    <a:pt x="2130" y="1848"/>
                  </a:lnTo>
                  <a:lnTo>
                    <a:pt x="2142" y="1848"/>
                  </a:lnTo>
                  <a:lnTo>
                    <a:pt x="2142" y="1836"/>
                  </a:lnTo>
                  <a:lnTo>
                    <a:pt x="2149" y="1836"/>
                  </a:lnTo>
                  <a:lnTo>
                    <a:pt x="2149" y="1824"/>
                  </a:lnTo>
                  <a:lnTo>
                    <a:pt x="2167" y="1824"/>
                  </a:lnTo>
                  <a:lnTo>
                    <a:pt x="2167" y="1812"/>
                  </a:lnTo>
                  <a:lnTo>
                    <a:pt x="2205" y="1812"/>
                  </a:lnTo>
                  <a:lnTo>
                    <a:pt x="2205" y="1800"/>
                  </a:lnTo>
                  <a:lnTo>
                    <a:pt x="2211" y="1800"/>
                  </a:lnTo>
                  <a:lnTo>
                    <a:pt x="2211" y="1788"/>
                  </a:lnTo>
                  <a:lnTo>
                    <a:pt x="2223" y="1788"/>
                  </a:lnTo>
                  <a:lnTo>
                    <a:pt x="2223" y="1776"/>
                  </a:lnTo>
                  <a:lnTo>
                    <a:pt x="2236" y="1776"/>
                  </a:lnTo>
                  <a:lnTo>
                    <a:pt x="2236" y="1764"/>
                  </a:lnTo>
                  <a:lnTo>
                    <a:pt x="2242" y="1764"/>
                  </a:lnTo>
                  <a:lnTo>
                    <a:pt x="2242" y="1740"/>
                  </a:lnTo>
                  <a:lnTo>
                    <a:pt x="2254" y="1740"/>
                  </a:lnTo>
                  <a:lnTo>
                    <a:pt x="2254" y="1728"/>
                  </a:lnTo>
                  <a:lnTo>
                    <a:pt x="2260" y="1728"/>
                  </a:lnTo>
                  <a:lnTo>
                    <a:pt x="2260" y="1716"/>
                  </a:lnTo>
                  <a:lnTo>
                    <a:pt x="2292" y="1716"/>
                  </a:lnTo>
                  <a:lnTo>
                    <a:pt x="2292" y="1704"/>
                  </a:lnTo>
                  <a:lnTo>
                    <a:pt x="2298" y="1704"/>
                  </a:lnTo>
                  <a:lnTo>
                    <a:pt x="2298" y="1692"/>
                  </a:lnTo>
                  <a:lnTo>
                    <a:pt x="2310" y="1692"/>
                  </a:lnTo>
                  <a:lnTo>
                    <a:pt x="2335" y="1692"/>
                  </a:lnTo>
                  <a:lnTo>
                    <a:pt x="2335" y="1679"/>
                  </a:lnTo>
                  <a:lnTo>
                    <a:pt x="2347" y="1679"/>
                  </a:lnTo>
                  <a:lnTo>
                    <a:pt x="2347" y="1643"/>
                  </a:lnTo>
                  <a:lnTo>
                    <a:pt x="2416" y="1643"/>
                  </a:lnTo>
                  <a:lnTo>
                    <a:pt x="2416" y="1631"/>
                  </a:lnTo>
                  <a:lnTo>
                    <a:pt x="2434" y="1631"/>
                  </a:lnTo>
                  <a:lnTo>
                    <a:pt x="2434" y="1619"/>
                  </a:lnTo>
                  <a:lnTo>
                    <a:pt x="2472" y="1619"/>
                  </a:lnTo>
                  <a:lnTo>
                    <a:pt x="2472" y="1606"/>
                  </a:lnTo>
                  <a:lnTo>
                    <a:pt x="2478" y="1606"/>
                  </a:lnTo>
                  <a:lnTo>
                    <a:pt x="2478" y="1594"/>
                  </a:lnTo>
                  <a:lnTo>
                    <a:pt x="2484" y="1594"/>
                  </a:lnTo>
                  <a:lnTo>
                    <a:pt x="2484" y="1582"/>
                  </a:lnTo>
                  <a:lnTo>
                    <a:pt x="2528" y="1582"/>
                  </a:lnTo>
                  <a:lnTo>
                    <a:pt x="2528" y="1558"/>
                  </a:lnTo>
                  <a:lnTo>
                    <a:pt x="2534" y="1558"/>
                  </a:lnTo>
                  <a:lnTo>
                    <a:pt x="2534" y="1534"/>
                  </a:lnTo>
                  <a:lnTo>
                    <a:pt x="2577" y="1534"/>
                  </a:lnTo>
                  <a:lnTo>
                    <a:pt x="2577" y="1521"/>
                  </a:lnTo>
                  <a:lnTo>
                    <a:pt x="2583" y="1521"/>
                  </a:lnTo>
                  <a:lnTo>
                    <a:pt x="2583" y="1509"/>
                  </a:lnTo>
                  <a:lnTo>
                    <a:pt x="2602" y="1509"/>
                  </a:lnTo>
                  <a:lnTo>
                    <a:pt x="2602" y="1497"/>
                  </a:lnTo>
                  <a:lnTo>
                    <a:pt x="2621" y="1497"/>
                  </a:lnTo>
                  <a:lnTo>
                    <a:pt x="2621" y="1485"/>
                  </a:lnTo>
                  <a:lnTo>
                    <a:pt x="2646" y="1485"/>
                  </a:lnTo>
                  <a:lnTo>
                    <a:pt x="2646" y="1461"/>
                  </a:lnTo>
                  <a:lnTo>
                    <a:pt x="2664" y="1461"/>
                  </a:lnTo>
                  <a:lnTo>
                    <a:pt x="2683" y="1461"/>
                  </a:lnTo>
                  <a:lnTo>
                    <a:pt x="2683" y="1448"/>
                  </a:lnTo>
                  <a:lnTo>
                    <a:pt x="2695" y="1448"/>
                  </a:lnTo>
                  <a:lnTo>
                    <a:pt x="2695" y="1436"/>
                  </a:lnTo>
                  <a:lnTo>
                    <a:pt x="2701" y="1436"/>
                  </a:lnTo>
                  <a:lnTo>
                    <a:pt x="2701" y="1424"/>
                  </a:lnTo>
                  <a:lnTo>
                    <a:pt x="2708" y="1424"/>
                  </a:lnTo>
                  <a:lnTo>
                    <a:pt x="2708" y="1412"/>
                  </a:lnTo>
                  <a:lnTo>
                    <a:pt x="2720" y="1412"/>
                  </a:lnTo>
                  <a:lnTo>
                    <a:pt x="2720" y="1400"/>
                  </a:lnTo>
                  <a:lnTo>
                    <a:pt x="2726" y="1400"/>
                  </a:lnTo>
                  <a:lnTo>
                    <a:pt x="2726" y="1387"/>
                  </a:lnTo>
                  <a:lnTo>
                    <a:pt x="2745" y="1387"/>
                  </a:lnTo>
                  <a:lnTo>
                    <a:pt x="2745" y="1375"/>
                  </a:lnTo>
                  <a:lnTo>
                    <a:pt x="2776" y="1375"/>
                  </a:lnTo>
                  <a:lnTo>
                    <a:pt x="2776" y="1351"/>
                  </a:lnTo>
                  <a:lnTo>
                    <a:pt x="2820" y="1351"/>
                  </a:lnTo>
                  <a:lnTo>
                    <a:pt x="2820" y="1326"/>
                  </a:lnTo>
                  <a:lnTo>
                    <a:pt x="2838" y="1326"/>
                  </a:lnTo>
                  <a:lnTo>
                    <a:pt x="2838" y="1290"/>
                  </a:lnTo>
                  <a:lnTo>
                    <a:pt x="2851" y="1290"/>
                  </a:lnTo>
                  <a:lnTo>
                    <a:pt x="2851" y="1277"/>
                  </a:lnTo>
                  <a:lnTo>
                    <a:pt x="2875" y="1277"/>
                  </a:lnTo>
                  <a:lnTo>
                    <a:pt x="2875" y="1253"/>
                  </a:lnTo>
                  <a:lnTo>
                    <a:pt x="2888" y="1253"/>
                  </a:lnTo>
                  <a:lnTo>
                    <a:pt x="2888" y="1241"/>
                  </a:lnTo>
                  <a:lnTo>
                    <a:pt x="2906" y="1241"/>
                  </a:lnTo>
                  <a:lnTo>
                    <a:pt x="2906" y="1229"/>
                  </a:lnTo>
                  <a:lnTo>
                    <a:pt x="2919" y="1229"/>
                  </a:lnTo>
                  <a:lnTo>
                    <a:pt x="2919" y="1216"/>
                  </a:lnTo>
                  <a:lnTo>
                    <a:pt x="2931" y="1216"/>
                  </a:lnTo>
                  <a:lnTo>
                    <a:pt x="2931" y="1204"/>
                  </a:lnTo>
                  <a:lnTo>
                    <a:pt x="2938" y="1204"/>
                  </a:lnTo>
                  <a:lnTo>
                    <a:pt x="2938" y="1180"/>
                  </a:lnTo>
                  <a:lnTo>
                    <a:pt x="2962" y="1180"/>
                  </a:lnTo>
                  <a:lnTo>
                    <a:pt x="2962" y="1167"/>
                  </a:lnTo>
                  <a:lnTo>
                    <a:pt x="2969" y="1167"/>
                  </a:lnTo>
                  <a:lnTo>
                    <a:pt x="2969" y="1155"/>
                  </a:lnTo>
                  <a:lnTo>
                    <a:pt x="2975" y="1155"/>
                  </a:lnTo>
                  <a:lnTo>
                    <a:pt x="2975" y="1143"/>
                  </a:lnTo>
                  <a:lnTo>
                    <a:pt x="3000" y="1143"/>
                  </a:lnTo>
                  <a:lnTo>
                    <a:pt x="3000" y="1131"/>
                  </a:lnTo>
                  <a:lnTo>
                    <a:pt x="3031" y="1131"/>
                  </a:lnTo>
                  <a:lnTo>
                    <a:pt x="3031" y="1119"/>
                  </a:lnTo>
                  <a:lnTo>
                    <a:pt x="3049" y="1119"/>
                  </a:lnTo>
                  <a:lnTo>
                    <a:pt x="3049" y="1094"/>
                  </a:lnTo>
                  <a:lnTo>
                    <a:pt x="3080" y="1094"/>
                  </a:lnTo>
                  <a:lnTo>
                    <a:pt x="3080" y="1082"/>
                  </a:lnTo>
                  <a:lnTo>
                    <a:pt x="3087" y="1082"/>
                  </a:lnTo>
                  <a:lnTo>
                    <a:pt x="3087" y="1045"/>
                  </a:lnTo>
                  <a:lnTo>
                    <a:pt x="3111" y="1045"/>
                  </a:lnTo>
                  <a:lnTo>
                    <a:pt x="3111" y="1033"/>
                  </a:lnTo>
                  <a:lnTo>
                    <a:pt x="3205" y="1033"/>
                  </a:lnTo>
                  <a:lnTo>
                    <a:pt x="3205" y="1021"/>
                  </a:lnTo>
                  <a:lnTo>
                    <a:pt x="3223" y="1021"/>
                  </a:lnTo>
                  <a:lnTo>
                    <a:pt x="3223" y="1009"/>
                  </a:lnTo>
                  <a:lnTo>
                    <a:pt x="3236" y="1009"/>
                  </a:lnTo>
                  <a:lnTo>
                    <a:pt x="3236" y="996"/>
                  </a:lnTo>
                  <a:lnTo>
                    <a:pt x="3242" y="996"/>
                  </a:lnTo>
                  <a:lnTo>
                    <a:pt x="3242" y="984"/>
                  </a:lnTo>
                  <a:lnTo>
                    <a:pt x="3254" y="984"/>
                  </a:lnTo>
                  <a:lnTo>
                    <a:pt x="3254" y="972"/>
                  </a:lnTo>
                  <a:lnTo>
                    <a:pt x="3335" y="972"/>
                  </a:lnTo>
                  <a:lnTo>
                    <a:pt x="3335" y="960"/>
                  </a:lnTo>
                  <a:lnTo>
                    <a:pt x="3341" y="960"/>
                  </a:lnTo>
                  <a:lnTo>
                    <a:pt x="3341" y="947"/>
                  </a:lnTo>
                  <a:lnTo>
                    <a:pt x="3347" y="947"/>
                  </a:lnTo>
                  <a:lnTo>
                    <a:pt x="3347" y="923"/>
                  </a:lnTo>
                  <a:lnTo>
                    <a:pt x="3360" y="923"/>
                  </a:lnTo>
                  <a:lnTo>
                    <a:pt x="3360" y="911"/>
                  </a:lnTo>
                  <a:lnTo>
                    <a:pt x="3366" y="911"/>
                  </a:lnTo>
                  <a:lnTo>
                    <a:pt x="3366" y="886"/>
                  </a:lnTo>
                  <a:lnTo>
                    <a:pt x="3372" y="886"/>
                  </a:lnTo>
                  <a:lnTo>
                    <a:pt x="3385" y="886"/>
                  </a:lnTo>
                  <a:lnTo>
                    <a:pt x="3385" y="873"/>
                  </a:lnTo>
                  <a:lnTo>
                    <a:pt x="3397" y="873"/>
                  </a:lnTo>
                  <a:lnTo>
                    <a:pt x="3397" y="861"/>
                  </a:lnTo>
                  <a:lnTo>
                    <a:pt x="3403" y="861"/>
                  </a:lnTo>
                  <a:lnTo>
                    <a:pt x="3416" y="861"/>
                  </a:lnTo>
                  <a:lnTo>
                    <a:pt x="3416" y="848"/>
                  </a:lnTo>
                  <a:lnTo>
                    <a:pt x="3434" y="848"/>
                  </a:lnTo>
                  <a:lnTo>
                    <a:pt x="3434" y="835"/>
                  </a:lnTo>
                  <a:lnTo>
                    <a:pt x="3472" y="835"/>
                  </a:lnTo>
                  <a:lnTo>
                    <a:pt x="3490" y="835"/>
                  </a:lnTo>
                  <a:lnTo>
                    <a:pt x="3497" y="835"/>
                  </a:lnTo>
                  <a:lnTo>
                    <a:pt x="3497" y="822"/>
                  </a:lnTo>
                  <a:lnTo>
                    <a:pt x="3509" y="822"/>
                  </a:lnTo>
                  <a:lnTo>
                    <a:pt x="3528" y="822"/>
                  </a:lnTo>
                  <a:lnTo>
                    <a:pt x="3528" y="809"/>
                  </a:lnTo>
                  <a:lnTo>
                    <a:pt x="3571" y="809"/>
                  </a:lnTo>
                  <a:lnTo>
                    <a:pt x="3571" y="795"/>
                  </a:lnTo>
                  <a:lnTo>
                    <a:pt x="3584" y="795"/>
                  </a:lnTo>
                  <a:lnTo>
                    <a:pt x="3615" y="795"/>
                  </a:lnTo>
                  <a:lnTo>
                    <a:pt x="3633" y="795"/>
                  </a:lnTo>
                  <a:lnTo>
                    <a:pt x="3633" y="782"/>
                  </a:lnTo>
                  <a:lnTo>
                    <a:pt x="3658" y="782"/>
                  </a:lnTo>
                  <a:lnTo>
                    <a:pt x="3670" y="782"/>
                  </a:lnTo>
                  <a:lnTo>
                    <a:pt x="3683" y="782"/>
                  </a:lnTo>
                  <a:lnTo>
                    <a:pt x="3689" y="782"/>
                  </a:lnTo>
                  <a:lnTo>
                    <a:pt x="3702" y="782"/>
                  </a:lnTo>
                  <a:lnTo>
                    <a:pt x="3702" y="767"/>
                  </a:lnTo>
                  <a:lnTo>
                    <a:pt x="3726" y="767"/>
                  </a:lnTo>
                  <a:lnTo>
                    <a:pt x="3726" y="753"/>
                  </a:lnTo>
                  <a:lnTo>
                    <a:pt x="3745" y="753"/>
                  </a:lnTo>
                  <a:lnTo>
                    <a:pt x="3751" y="753"/>
                  </a:lnTo>
                  <a:lnTo>
                    <a:pt x="3751" y="738"/>
                  </a:lnTo>
                  <a:lnTo>
                    <a:pt x="3770" y="738"/>
                  </a:lnTo>
                  <a:lnTo>
                    <a:pt x="3770" y="724"/>
                  </a:lnTo>
                  <a:lnTo>
                    <a:pt x="3795" y="724"/>
                  </a:lnTo>
                  <a:lnTo>
                    <a:pt x="3795" y="709"/>
                  </a:lnTo>
                  <a:lnTo>
                    <a:pt x="3832" y="709"/>
                  </a:lnTo>
                  <a:lnTo>
                    <a:pt x="3832" y="695"/>
                  </a:lnTo>
                  <a:lnTo>
                    <a:pt x="3888" y="695"/>
                  </a:lnTo>
                  <a:lnTo>
                    <a:pt x="3888" y="666"/>
                  </a:lnTo>
                  <a:lnTo>
                    <a:pt x="3900" y="666"/>
                  </a:lnTo>
                  <a:lnTo>
                    <a:pt x="3900" y="651"/>
                  </a:lnTo>
                  <a:lnTo>
                    <a:pt x="3907" y="651"/>
                  </a:lnTo>
                  <a:lnTo>
                    <a:pt x="3907" y="636"/>
                  </a:lnTo>
                  <a:lnTo>
                    <a:pt x="3913" y="636"/>
                  </a:lnTo>
                  <a:lnTo>
                    <a:pt x="3925" y="636"/>
                  </a:lnTo>
                  <a:lnTo>
                    <a:pt x="3931" y="636"/>
                  </a:lnTo>
                  <a:lnTo>
                    <a:pt x="3931" y="621"/>
                  </a:lnTo>
                  <a:lnTo>
                    <a:pt x="3962" y="621"/>
                  </a:lnTo>
                  <a:lnTo>
                    <a:pt x="3975" y="621"/>
                  </a:lnTo>
                  <a:lnTo>
                    <a:pt x="3975" y="606"/>
                  </a:lnTo>
                  <a:lnTo>
                    <a:pt x="3987" y="606"/>
                  </a:lnTo>
                  <a:lnTo>
                    <a:pt x="3987" y="591"/>
                  </a:lnTo>
                  <a:lnTo>
                    <a:pt x="4018" y="591"/>
                  </a:lnTo>
                  <a:lnTo>
                    <a:pt x="4018" y="575"/>
                  </a:lnTo>
                  <a:lnTo>
                    <a:pt x="4056" y="575"/>
                  </a:lnTo>
                  <a:lnTo>
                    <a:pt x="4056" y="560"/>
                  </a:lnTo>
                  <a:lnTo>
                    <a:pt x="4062" y="560"/>
                  </a:lnTo>
                  <a:lnTo>
                    <a:pt x="4062" y="544"/>
                  </a:lnTo>
                  <a:lnTo>
                    <a:pt x="4068" y="544"/>
                  </a:lnTo>
                  <a:lnTo>
                    <a:pt x="4105" y="544"/>
                  </a:lnTo>
                  <a:lnTo>
                    <a:pt x="4105" y="528"/>
                  </a:lnTo>
                  <a:lnTo>
                    <a:pt x="4161" y="528"/>
                  </a:lnTo>
                  <a:lnTo>
                    <a:pt x="4161" y="512"/>
                  </a:lnTo>
                  <a:lnTo>
                    <a:pt x="4174" y="512"/>
                  </a:lnTo>
                  <a:lnTo>
                    <a:pt x="4174" y="496"/>
                  </a:lnTo>
                  <a:lnTo>
                    <a:pt x="4217" y="496"/>
                  </a:lnTo>
                  <a:lnTo>
                    <a:pt x="4217" y="447"/>
                  </a:lnTo>
                  <a:lnTo>
                    <a:pt x="4267" y="447"/>
                  </a:lnTo>
                  <a:lnTo>
                    <a:pt x="4267" y="431"/>
                  </a:lnTo>
                  <a:lnTo>
                    <a:pt x="4292" y="431"/>
                  </a:lnTo>
                  <a:lnTo>
                    <a:pt x="4298" y="431"/>
                  </a:lnTo>
                  <a:lnTo>
                    <a:pt x="4310" y="431"/>
                  </a:lnTo>
                  <a:lnTo>
                    <a:pt x="4310" y="414"/>
                  </a:lnTo>
                  <a:lnTo>
                    <a:pt x="4329" y="414"/>
                  </a:lnTo>
                  <a:lnTo>
                    <a:pt x="4329" y="397"/>
                  </a:lnTo>
                  <a:lnTo>
                    <a:pt x="4348" y="397"/>
                  </a:lnTo>
                  <a:lnTo>
                    <a:pt x="4422" y="397"/>
                  </a:lnTo>
                  <a:lnTo>
                    <a:pt x="4441" y="397"/>
                  </a:lnTo>
                  <a:lnTo>
                    <a:pt x="4459" y="397"/>
                  </a:lnTo>
                  <a:lnTo>
                    <a:pt x="4478" y="397"/>
                  </a:lnTo>
                  <a:lnTo>
                    <a:pt x="4478" y="379"/>
                  </a:lnTo>
                  <a:lnTo>
                    <a:pt x="4484" y="379"/>
                  </a:lnTo>
                  <a:lnTo>
                    <a:pt x="4484" y="360"/>
                  </a:lnTo>
                  <a:lnTo>
                    <a:pt x="4515" y="360"/>
                  </a:lnTo>
                  <a:lnTo>
                    <a:pt x="4515" y="342"/>
                  </a:lnTo>
                  <a:lnTo>
                    <a:pt x="4540" y="342"/>
                  </a:lnTo>
                  <a:lnTo>
                    <a:pt x="4553" y="342"/>
                  </a:lnTo>
                  <a:lnTo>
                    <a:pt x="4590" y="342"/>
                  </a:lnTo>
                  <a:lnTo>
                    <a:pt x="4608" y="342"/>
                  </a:lnTo>
                  <a:lnTo>
                    <a:pt x="4627" y="342"/>
                  </a:lnTo>
                  <a:lnTo>
                    <a:pt x="4627" y="322"/>
                  </a:lnTo>
                  <a:lnTo>
                    <a:pt x="4652" y="322"/>
                  </a:lnTo>
                  <a:lnTo>
                    <a:pt x="4664" y="322"/>
                  </a:lnTo>
                  <a:lnTo>
                    <a:pt x="4677" y="322"/>
                  </a:lnTo>
                  <a:lnTo>
                    <a:pt x="4708" y="322"/>
                  </a:lnTo>
                  <a:lnTo>
                    <a:pt x="4726" y="322"/>
                  </a:lnTo>
                  <a:lnTo>
                    <a:pt x="4745" y="322"/>
                  </a:lnTo>
                  <a:lnTo>
                    <a:pt x="4813" y="322"/>
                  </a:lnTo>
                  <a:lnTo>
                    <a:pt x="4813" y="300"/>
                  </a:lnTo>
                  <a:lnTo>
                    <a:pt x="4875" y="300"/>
                  </a:lnTo>
                  <a:lnTo>
                    <a:pt x="4919" y="300"/>
                  </a:lnTo>
                  <a:lnTo>
                    <a:pt x="4919" y="276"/>
                  </a:lnTo>
                  <a:lnTo>
                    <a:pt x="4925" y="276"/>
                  </a:lnTo>
                  <a:lnTo>
                    <a:pt x="4950" y="276"/>
                  </a:lnTo>
                  <a:lnTo>
                    <a:pt x="4950" y="252"/>
                  </a:lnTo>
                  <a:lnTo>
                    <a:pt x="5037" y="252"/>
                  </a:lnTo>
                  <a:lnTo>
                    <a:pt x="5043" y="252"/>
                  </a:lnTo>
                  <a:lnTo>
                    <a:pt x="5099" y="252"/>
                  </a:lnTo>
                  <a:lnTo>
                    <a:pt x="5124" y="252"/>
                  </a:lnTo>
                  <a:lnTo>
                    <a:pt x="5161" y="252"/>
                  </a:lnTo>
                  <a:lnTo>
                    <a:pt x="5186" y="252"/>
                  </a:lnTo>
                  <a:lnTo>
                    <a:pt x="5230" y="252"/>
                  </a:lnTo>
                  <a:lnTo>
                    <a:pt x="5254" y="252"/>
                  </a:lnTo>
                  <a:lnTo>
                    <a:pt x="5261" y="252"/>
                  </a:lnTo>
                  <a:lnTo>
                    <a:pt x="5273" y="252"/>
                  </a:lnTo>
                  <a:lnTo>
                    <a:pt x="5279" y="252"/>
                  </a:lnTo>
                  <a:lnTo>
                    <a:pt x="5285" y="252"/>
                  </a:lnTo>
                  <a:lnTo>
                    <a:pt x="5304" y="252"/>
                  </a:lnTo>
                  <a:lnTo>
                    <a:pt x="5304" y="213"/>
                  </a:lnTo>
                  <a:lnTo>
                    <a:pt x="5323" y="213"/>
                  </a:lnTo>
                  <a:lnTo>
                    <a:pt x="5379" y="213"/>
                  </a:lnTo>
                  <a:lnTo>
                    <a:pt x="5422" y="213"/>
                  </a:lnTo>
                  <a:lnTo>
                    <a:pt x="5497" y="213"/>
                  </a:lnTo>
                  <a:lnTo>
                    <a:pt x="5540" y="213"/>
                  </a:lnTo>
                  <a:lnTo>
                    <a:pt x="5689" y="213"/>
                  </a:lnTo>
                  <a:lnTo>
                    <a:pt x="5726" y="213"/>
                  </a:lnTo>
                  <a:lnTo>
                    <a:pt x="5764" y="213"/>
                  </a:lnTo>
                  <a:lnTo>
                    <a:pt x="5838" y="213"/>
                  </a:lnTo>
                  <a:lnTo>
                    <a:pt x="5975" y="213"/>
                  </a:lnTo>
                  <a:lnTo>
                    <a:pt x="5975" y="142"/>
                  </a:lnTo>
                  <a:lnTo>
                    <a:pt x="5987" y="142"/>
                  </a:lnTo>
                  <a:lnTo>
                    <a:pt x="6112" y="142"/>
                  </a:lnTo>
                  <a:lnTo>
                    <a:pt x="6180" y="142"/>
                  </a:lnTo>
                  <a:lnTo>
                    <a:pt x="6192" y="142"/>
                  </a:lnTo>
                  <a:lnTo>
                    <a:pt x="6205" y="142"/>
                  </a:lnTo>
                  <a:lnTo>
                    <a:pt x="6273" y="142"/>
                  </a:lnTo>
                  <a:lnTo>
                    <a:pt x="6273" y="0"/>
                  </a:lnTo>
                  <a:lnTo>
                    <a:pt x="6385" y="0"/>
                  </a:lnTo>
                  <a:lnTo>
                    <a:pt x="6478" y="0"/>
                  </a:lnTo>
                  <a:lnTo>
                    <a:pt x="6509" y="0"/>
                  </a:lnTo>
                  <a:lnTo>
                    <a:pt x="6702"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651" name="Rectangle 98"/>
            <p:cNvSpPr/>
            <p:nvPr/>
          </p:nvSpPr>
          <p:spPr>
            <a:xfrm>
              <a:off x="3877560" y="5977080"/>
              <a:ext cx="251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from Induction (Months)</a:t>
              </a:r>
              <a:endParaRPr b="0" lang="en-US" sz="1400" spc="-1" strike="noStrike">
                <a:solidFill>
                  <a:srgbClr val="000000"/>
                </a:solidFill>
                <a:latin typeface="Arial"/>
              </a:endParaRPr>
            </a:p>
          </p:txBody>
        </p:sp>
        <p:sp>
          <p:nvSpPr>
            <p:cNvPr id="2652" name="Rectangle 99"/>
            <p:cNvSpPr/>
            <p:nvPr/>
          </p:nvSpPr>
          <p:spPr>
            <a:xfrm rot="16200000">
              <a:off x="-556920" y="3918600"/>
              <a:ext cx="166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vival Probability</a:t>
              </a: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53" name="Straight Arrow Connector 17"/>
          <p:cNvCxnSpPr/>
          <p:nvPr/>
        </p:nvCxnSpPr>
        <p:spPr>
          <a:xfrm>
            <a:off x="4343400" y="3809520"/>
            <a:ext cx="534240" cy="2520"/>
          </a:xfrm>
          <a:prstGeom prst="straightConnector1">
            <a:avLst/>
          </a:prstGeom>
          <a:ln w="57240">
            <a:solidFill>
              <a:srgbClr val="002060"/>
            </a:solidFill>
            <a:miter/>
            <a:tailEnd len="med" type="triangle" w="med"/>
          </a:ln>
        </p:spPr>
      </p:cxnSp>
      <p:sp>
        <p:nvSpPr>
          <p:cNvPr id="265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COG-E5508: Phase </a:t>
            </a:r>
            <a:r>
              <a:rPr b="0" lang="en-US" sz="2800" spc="-1" strike="noStrike">
                <a:solidFill>
                  <a:srgbClr val="000000"/>
                </a:solidFill>
                <a:latin typeface="Arial"/>
              </a:rPr>
              <a:t>III trial of BV, Pem, or BV+Pem as maintenance therapy in advanced NSCLC</a:t>
            </a:r>
            <a:endParaRPr b="0" lang="en-US" sz="2800" spc="-1" strike="noStrike">
              <a:solidFill>
                <a:srgbClr val="000000"/>
              </a:solidFill>
              <a:latin typeface="Arial"/>
            </a:endParaRPr>
          </a:p>
        </p:txBody>
      </p:sp>
      <p:grpSp>
        <p:nvGrpSpPr>
          <p:cNvPr id="2655" name="TextBox 3"/>
          <p:cNvGrpSpPr/>
          <p:nvPr/>
        </p:nvGrpSpPr>
        <p:grpSpPr>
          <a:xfrm>
            <a:off x="2225520" y="3395520"/>
            <a:ext cx="2254320" cy="828720"/>
            <a:chOff x="2225520" y="3395520"/>
            <a:chExt cx="2254320" cy="828720"/>
          </a:xfrm>
        </p:grpSpPr>
        <p:pic>
          <p:nvPicPr>
            <p:cNvPr id="2656" name="TextBox 3" descr=""/>
            <p:cNvPicPr/>
            <p:nvPr/>
          </p:nvPicPr>
          <p:blipFill>
            <a:blip r:embed="rId1"/>
            <a:stretch/>
          </p:blipFill>
          <p:spPr>
            <a:xfrm>
              <a:off x="2225520" y="3395520"/>
              <a:ext cx="2254320" cy="828720"/>
            </a:xfrm>
            <a:prstGeom prst="rect">
              <a:avLst/>
            </a:prstGeom>
            <a:ln w="0">
              <a:noFill/>
            </a:ln>
          </p:spPr>
        </p:pic>
        <p:sp>
          <p:nvSpPr>
            <p:cNvPr id="2657" name=""/>
            <p:cNvSpPr/>
            <p:nvPr/>
          </p:nvSpPr>
          <p:spPr>
            <a:xfrm>
              <a:off x="2286000" y="3429000"/>
              <a:ext cx="2133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pac/BV</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3w x 4 cycles</a:t>
              </a:r>
              <a:endParaRPr b="0" lang="en-US" sz="2000" spc="-1" strike="noStrike">
                <a:solidFill>
                  <a:srgbClr val="000000"/>
                </a:solidFill>
                <a:latin typeface="Arial"/>
              </a:endParaRPr>
            </a:p>
          </p:txBody>
        </p:sp>
      </p:grpSp>
      <p:grpSp>
        <p:nvGrpSpPr>
          <p:cNvPr id="2658" name="TextBox 18"/>
          <p:cNvGrpSpPr/>
          <p:nvPr/>
        </p:nvGrpSpPr>
        <p:grpSpPr>
          <a:xfrm>
            <a:off x="171360" y="3017880"/>
            <a:ext cx="1790640" cy="1687320"/>
            <a:chOff x="171360" y="3017880"/>
            <a:chExt cx="1790640" cy="1687320"/>
          </a:xfrm>
        </p:grpSpPr>
        <p:pic>
          <p:nvPicPr>
            <p:cNvPr id="2659" name="TextBox 18" descr=""/>
            <p:cNvPicPr/>
            <p:nvPr/>
          </p:nvPicPr>
          <p:blipFill>
            <a:blip r:embed="rId2"/>
            <a:stretch/>
          </p:blipFill>
          <p:spPr>
            <a:xfrm>
              <a:off x="171360" y="3017880"/>
              <a:ext cx="1790640" cy="1687320"/>
            </a:xfrm>
            <a:prstGeom prst="rect">
              <a:avLst/>
            </a:prstGeom>
            <a:ln w="0">
              <a:noFill/>
            </a:ln>
          </p:spPr>
        </p:pic>
        <p:sp>
          <p:nvSpPr>
            <p:cNvPr id="2660" name=""/>
            <p:cNvSpPr/>
            <p:nvPr/>
          </p:nvSpPr>
          <p:spPr>
            <a:xfrm>
              <a:off x="228600" y="3048120"/>
              <a:ext cx="1676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lig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V elig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qu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ona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NS mets</a:t>
              </a:r>
              <a:endParaRPr b="0" lang="en-US" sz="1800" spc="-1" strike="noStrike">
                <a:solidFill>
                  <a:srgbClr val="000000"/>
                </a:solidFill>
                <a:latin typeface="Arial"/>
              </a:endParaRPr>
            </a:p>
          </p:txBody>
        </p:sp>
      </p:grpSp>
      <p:sp>
        <p:nvSpPr>
          <p:cNvPr id="2661" name="TextBox 10"/>
          <p:cNvSpPr/>
          <p:nvPr/>
        </p:nvSpPr>
        <p:spPr>
          <a:xfrm>
            <a:off x="3905280" y="6324480"/>
            <a:ext cx="521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 S. Ramilingam; clinicaltrials.gov; trial </a:t>
            </a:r>
            <a:r>
              <a:rPr b="0" lang="en-US" sz="1600" spc="-1" strike="noStrike" u="sng">
                <a:solidFill>
                  <a:srgbClr val="6b9f25"/>
                </a:solidFill>
                <a:uFillTx/>
                <a:latin typeface="Arial"/>
                <a:hlinkClick r:id="rId3"/>
              </a:rPr>
              <a:t>NCT01107626</a:t>
            </a:r>
            <a:endParaRPr b="0" lang="en-US" sz="1600" spc="-1" strike="noStrike">
              <a:solidFill>
                <a:srgbClr val="000000"/>
              </a:solidFill>
              <a:latin typeface="Arial"/>
            </a:endParaRPr>
          </a:p>
        </p:txBody>
      </p:sp>
      <p:grpSp>
        <p:nvGrpSpPr>
          <p:cNvPr id="2662" name="TextBox 13"/>
          <p:cNvGrpSpPr/>
          <p:nvPr/>
        </p:nvGrpSpPr>
        <p:grpSpPr>
          <a:xfrm>
            <a:off x="4896000" y="3475080"/>
            <a:ext cx="723600" cy="682560"/>
            <a:chOff x="4896000" y="3475080"/>
            <a:chExt cx="723600" cy="682560"/>
          </a:xfrm>
        </p:grpSpPr>
        <p:pic>
          <p:nvPicPr>
            <p:cNvPr id="2663" name="TextBox 13" descr=""/>
            <p:cNvPicPr/>
            <p:nvPr/>
          </p:nvPicPr>
          <p:blipFill>
            <a:blip r:embed="rId4"/>
            <a:stretch/>
          </p:blipFill>
          <p:spPr>
            <a:xfrm>
              <a:off x="4896000" y="3475080"/>
              <a:ext cx="723600" cy="682560"/>
            </a:xfrm>
            <a:prstGeom prst="rect">
              <a:avLst/>
            </a:prstGeom>
            <a:ln w="0">
              <a:noFill/>
            </a:ln>
          </p:spPr>
        </p:pic>
        <p:sp>
          <p:nvSpPr>
            <p:cNvPr id="2664" name=""/>
            <p:cNvSpPr/>
            <p:nvPr/>
          </p:nvSpPr>
          <p:spPr>
            <a:xfrm>
              <a:off x="5041800" y="3587760"/>
              <a:ext cx="432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grpSp>
      <p:sp>
        <p:nvSpPr>
          <p:cNvPr id="2665" name="TextBox 20"/>
          <p:cNvSpPr/>
          <p:nvPr/>
        </p:nvSpPr>
        <p:spPr>
          <a:xfrm>
            <a:off x="4501440" y="320040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D</a:t>
            </a:r>
            <a:endParaRPr b="0" lang="en-US" sz="1600" spc="-1" strike="noStrike">
              <a:solidFill>
                <a:srgbClr val="000000"/>
              </a:solidFill>
              <a:latin typeface="Arial"/>
            </a:endParaRPr>
          </a:p>
        </p:txBody>
      </p:sp>
      <p:cxnSp>
        <p:nvCxnSpPr>
          <p:cNvPr id="2666" name="Straight Arrow Connector 21"/>
          <p:cNvCxnSpPr/>
          <p:nvPr/>
        </p:nvCxnSpPr>
        <p:spPr>
          <a:xfrm flipV="1">
            <a:off x="5638320" y="3200040"/>
            <a:ext cx="839160" cy="534240"/>
          </a:xfrm>
          <a:prstGeom prst="straightConnector1">
            <a:avLst/>
          </a:prstGeom>
          <a:ln w="57240">
            <a:solidFill>
              <a:srgbClr val="002060"/>
            </a:solidFill>
            <a:miter/>
            <a:tailEnd len="med" type="triangle" w="med"/>
          </a:ln>
        </p:spPr>
      </p:cxnSp>
      <p:cxnSp>
        <p:nvCxnSpPr>
          <p:cNvPr id="2667" name="Straight Arrow Connector 23"/>
          <p:cNvCxnSpPr/>
          <p:nvPr/>
        </p:nvCxnSpPr>
        <p:spPr>
          <a:xfrm>
            <a:off x="5638320" y="3886200"/>
            <a:ext cx="839160" cy="534240"/>
          </a:xfrm>
          <a:prstGeom prst="straightConnector1">
            <a:avLst/>
          </a:prstGeom>
          <a:ln w="57240">
            <a:solidFill>
              <a:srgbClr val="002060"/>
            </a:solidFill>
            <a:miter/>
            <a:tailEnd len="med" type="triangle" w="med"/>
          </a:ln>
        </p:spPr>
      </p:cxnSp>
      <p:cxnSp>
        <p:nvCxnSpPr>
          <p:cNvPr id="2668" name="Straight Arrow Connector 24"/>
          <p:cNvCxnSpPr/>
          <p:nvPr/>
        </p:nvCxnSpPr>
        <p:spPr>
          <a:xfrm>
            <a:off x="5715000" y="3808440"/>
            <a:ext cx="838800" cy="2160"/>
          </a:xfrm>
          <a:prstGeom prst="straightConnector1">
            <a:avLst/>
          </a:prstGeom>
          <a:ln w="57240">
            <a:solidFill>
              <a:srgbClr val="002060"/>
            </a:solidFill>
            <a:miter/>
            <a:tailEnd len="med" type="triangle" w="med"/>
          </a:ln>
        </p:spPr>
      </p:cxnSp>
      <p:grpSp>
        <p:nvGrpSpPr>
          <p:cNvPr id="2669" name="TextBox 26"/>
          <p:cNvGrpSpPr/>
          <p:nvPr/>
        </p:nvGrpSpPr>
        <p:grpSpPr>
          <a:xfrm>
            <a:off x="6572160" y="2846520"/>
            <a:ext cx="2247840" cy="519120"/>
            <a:chOff x="6572160" y="2846520"/>
            <a:chExt cx="2247840" cy="519120"/>
          </a:xfrm>
        </p:grpSpPr>
        <p:pic>
          <p:nvPicPr>
            <p:cNvPr id="2670" name="TextBox 26" descr=""/>
            <p:cNvPicPr/>
            <p:nvPr/>
          </p:nvPicPr>
          <p:blipFill>
            <a:blip r:embed="rId5"/>
            <a:stretch/>
          </p:blipFill>
          <p:spPr>
            <a:xfrm>
              <a:off x="6572160" y="2846520"/>
              <a:ext cx="2247840" cy="519120"/>
            </a:xfrm>
            <a:prstGeom prst="rect">
              <a:avLst/>
            </a:prstGeom>
            <a:ln w="0">
              <a:noFill/>
            </a:ln>
          </p:spPr>
        </p:pic>
        <p:sp>
          <p:nvSpPr>
            <p:cNvPr id="2671" name=""/>
            <p:cNvSpPr/>
            <p:nvPr/>
          </p:nvSpPr>
          <p:spPr>
            <a:xfrm>
              <a:off x="6629400" y="287640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a:t>
              </a:r>
              <a:endParaRPr b="0" lang="en-US" sz="2000" spc="-1" strike="noStrike">
                <a:solidFill>
                  <a:srgbClr val="000000"/>
                </a:solidFill>
                <a:latin typeface="Arial"/>
              </a:endParaRPr>
            </a:p>
          </p:txBody>
        </p:sp>
      </p:grpSp>
      <p:sp>
        <p:nvSpPr>
          <p:cNvPr id="2672" name="TextBox 27"/>
          <p:cNvSpPr/>
          <p:nvPr/>
        </p:nvSpPr>
        <p:spPr>
          <a:xfrm>
            <a:off x="2901240" y="2057400"/>
            <a:ext cx="121392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tion</a:t>
            </a:r>
            <a:endParaRPr b="0" lang="en-US" sz="2000" spc="-1" strike="noStrike">
              <a:solidFill>
                <a:srgbClr val="000000"/>
              </a:solidFill>
              <a:latin typeface="Arial"/>
            </a:endParaRPr>
          </a:p>
        </p:txBody>
      </p:sp>
      <p:sp>
        <p:nvSpPr>
          <p:cNvPr id="2673" name="TextBox 28"/>
          <p:cNvSpPr/>
          <p:nvPr/>
        </p:nvSpPr>
        <p:spPr>
          <a:xfrm>
            <a:off x="6623280" y="2057400"/>
            <a:ext cx="1639080" cy="39888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a:t>
            </a:r>
            <a:endParaRPr b="0" lang="en-US" sz="2000" spc="-1" strike="noStrike">
              <a:solidFill>
                <a:srgbClr val="000000"/>
              </a:solidFill>
              <a:latin typeface="Arial"/>
            </a:endParaRPr>
          </a:p>
        </p:txBody>
      </p:sp>
      <p:grpSp>
        <p:nvGrpSpPr>
          <p:cNvPr id="2674" name="TextBox 29"/>
          <p:cNvGrpSpPr/>
          <p:nvPr/>
        </p:nvGrpSpPr>
        <p:grpSpPr>
          <a:xfrm>
            <a:off x="6572160" y="3529080"/>
            <a:ext cx="2247840" cy="519120"/>
            <a:chOff x="6572160" y="3529080"/>
            <a:chExt cx="2247840" cy="519120"/>
          </a:xfrm>
        </p:grpSpPr>
        <p:pic>
          <p:nvPicPr>
            <p:cNvPr id="2675" name="TextBox 29" descr=""/>
            <p:cNvPicPr/>
            <p:nvPr/>
          </p:nvPicPr>
          <p:blipFill>
            <a:blip r:embed="rId6"/>
            <a:stretch/>
          </p:blipFill>
          <p:spPr>
            <a:xfrm>
              <a:off x="6572160" y="3529080"/>
              <a:ext cx="2247840" cy="519120"/>
            </a:xfrm>
            <a:prstGeom prst="rect">
              <a:avLst/>
            </a:prstGeom>
            <a:ln w="0">
              <a:noFill/>
            </a:ln>
          </p:spPr>
        </p:pic>
        <p:sp>
          <p:nvSpPr>
            <p:cNvPr id="2676" name=""/>
            <p:cNvSpPr/>
            <p:nvPr/>
          </p:nvSpPr>
          <p:spPr>
            <a:xfrm>
              <a:off x="6629400" y="3559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a:t>
              </a:r>
              <a:endParaRPr b="0" lang="en-US" sz="2000" spc="-1" strike="noStrike">
                <a:solidFill>
                  <a:srgbClr val="000000"/>
                </a:solidFill>
                <a:latin typeface="Arial"/>
              </a:endParaRPr>
            </a:p>
          </p:txBody>
        </p:sp>
      </p:grpSp>
      <p:grpSp>
        <p:nvGrpSpPr>
          <p:cNvPr id="2677" name="TextBox 30"/>
          <p:cNvGrpSpPr/>
          <p:nvPr/>
        </p:nvGrpSpPr>
        <p:grpSpPr>
          <a:xfrm>
            <a:off x="6572160" y="4290840"/>
            <a:ext cx="2247840" cy="519120"/>
            <a:chOff x="6572160" y="4290840"/>
            <a:chExt cx="2247840" cy="519120"/>
          </a:xfrm>
        </p:grpSpPr>
        <p:pic>
          <p:nvPicPr>
            <p:cNvPr id="2678" name="TextBox 30" descr=""/>
            <p:cNvPicPr/>
            <p:nvPr/>
          </p:nvPicPr>
          <p:blipFill>
            <a:blip r:embed="rId7"/>
            <a:stretch/>
          </p:blipFill>
          <p:spPr>
            <a:xfrm>
              <a:off x="6572160" y="4290840"/>
              <a:ext cx="2247840" cy="519120"/>
            </a:xfrm>
            <a:prstGeom prst="rect">
              <a:avLst/>
            </a:prstGeom>
            <a:ln w="0">
              <a:noFill/>
            </a:ln>
          </p:spPr>
        </p:pic>
        <p:sp>
          <p:nvSpPr>
            <p:cNvPr id="2679" name=""/>
            <p:cNvSpPr/>
            <p:nvPr/>
          </p:nvSpPr>
          <p:spPr>
            <a:xfrm>
              <a:off x="6629400" y="4324320"/>
              <a:ext cx="2133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V+Pem</a:t>
              </a:r>
              <a:endParaRPr b="0" lang="en-US" sz="2000" spc="-1" strike="noStrike">
                <a:solidFill>
                  <a:srgbClr val="000000"/>
                </a:solidFill>
                <a:latin typeface="Arial"/>
              </a:endParaRPr>
            </a:p>
          </p:txBody>
        </p:sp>
      </p:grpSp>
      <p:sp>
        <p:nvSpPr>
          <p:cNvPr id="2680" name="TextBox 31"/>
          <p:cNvSpPr/>
          <p:nvPr/>
        </p:nvSpPr>
        <p:spPr>
          <a:xfrm>
            <a:off x="4237200" y="5410080"/>
            <a:ext cx="2612880" cy="70380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endpoint: 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PFS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intenance therapy for adenocarcinoma: my approach</a:t>
            </a:r>
            <a:endParaRPr b="0" lang="en-US" sz="4400" spc="-1" strike="noStrike">
              <a:solidFill>
                <a:srgbClr val="000000"/>
              </a:solidFill>
              <a:latin typeface="Arial"/>
            </a:endParaRPr>
          </a:p>
        </p:txBody>
      </p:sp>
      <p:sp>
        <p:nvSpPr>
          <p:cNvPr id="2682" name=""/>
          <p:cNvSpPr txBox="1"/>
          <p:nvPr/>
        </p:nvSpPr>
        <p:spPr>
          <a:xfrm>
            <a:off x="174240" y="1523880"/>
            <a:ext cx="899172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ing BV with induction without pem:</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high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m/platinum/BV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BV (consider adding pem if progression)</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Pem/BV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BV/erlotinib</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using BV with induction:</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m (cont. or switch) in good PS pts tolerating rx wel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GFR M+ or suspicion use erlotinib</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Morganstein (Dr Heymach)</a:t>
            </a:r>
            <a:endParaRPr b="1" lang="en-US" sz="2600" spc="-1" strike="noStrike">
              <a:solidFill>
                <a:srgbClr val="ecbb33"/>
              </a:solidFill>
              <a:latin typeface="Arial"/>
            </a:endParaRPr>
          </a:p>
        </p:txBody>
      </p:sp>
      <p:sp>
        <p:nvSpPr>
          <p:cNvPr id="2042" name=""/>
          <p:cNvSpPr txBox="1"/>
          <p:nvPr/>
        </p:nvSpPr>
        <p:spPr>
          <a:xfrm>
            <a:off x="685800" y="1525680"/>
            <a:ext cx="8352000" cy="4881600"/>
          </a:xfrm>
          <a:prstGeom prst="rect">
            <a:avLst/>
          </a:prstGeom>
          <a:noFill/>
          <a:ln w="0">
            <a:noFill/>
          </a:ln>
        </p:spPr>
        <p:txBody>
          <a:bodyPr anchor="t">
            <a:norm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7 yo woman, heavy smok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esented with cough unresponsive to antibiotics</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ung mass found, further workup revealed multiple masses in liver</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iopsy confirmed pan-WT adenocarcinoma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arbo/pem/bev for 4 cycles resulting in a PR </a:t>
            </a:r>
            <a:endParaRPr b="0" lang="en-US" sz="2100" spc="-1" strike="noStrike">
              <a:solidFill>
                <a:srgbClr val="ffffff"/>
              </a:solidFill>
              <a:latin typeface="Arial"/>
            </a:endParaRPr>
          </a:p>
          <a:p>
            <a:pPr>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reatment was tolerated with some difficulty (fatigue, GI symptoms), and patient required 3 antihypertensives (hydrochlorothiazide, amlodipine, lisinopril)</a:t>
            </a:r>
            <a:endParaRPr b="0" lang="en-US" sz="21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41360" y="490680"/>
            <a:ext cx="8012160" cy="582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7-year-old patient is diagnosed </a:t>
            </a:r>
            <a:br>
              <a:rPr sz="3200"/>
            </a:br>
            <a:r>
              <a:rPr b="1" lang="en-US" sz="3200" spc="-1" strike="noStrike">
                <a:solidFill>
                  <a:srgbClr val="ecbb33"/>
                </a:solidFill>
                <a:latin typeface="Arial"/>
              </a:rPr>
              <a:t>with PWT adenocarcinoma in the </a:t>
            </a:r>
            <a:br>
              <a:rPr sz="3200"/>
            </a:br>
            <a:r>
              <a:rPr b="1" lang="en-US" sz="3200" spc="-1" strike="noStrike">
                <a:solidFill>
                  <a:srgbClr val="ecbb33"/>
                </a:solidFill>
                <a:latin typeface="Arial"/>
              </a:rPr>
              <a:t>lung and corresponding liver mets. </a:t>
            </a:r>
            <a:br>
              <a:rPr sz="3200"/>
            </a:br>
            <a:r>
              <a:rPr b="1" lang="en-US" sz="3200" spc="-1" strike="noStrike">
                <a:solidFill>
                  <a:srgbClr val="ecbb33"/>
                </a:solidFill>
                <a:latin typeface="Arial"/>
              </a:rPr>
              <a:t>The patient is treated with 4 cycles of carboplatin/pemetrexed/bevacizumab and achieves a PR. What type of maintenance treatment, if any, </a:t>
            </a:r>
            <a:br>
              <a:rPr sz="3200"/>
            </a:br>
            <a:r>
              <a:rPr b="1" lang="en-US" sz="3200" spc="-1" strike="noStrike">
                <a:solidFill>
                  <a:srgbClr val="ecbb33"/>
                </a:solidFill>
                <a:latin typeface="Arial"/>
              </a:rPr>
              <a:t>would you recommend?</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7-year-old patient is diagnosed with PWT adenocarcinoma in the lung and corresponding liver mets. The patient is treated with 4 cycles of carboplatin/pemetrexed/bevacizumab and achieves a PR. What type of maintenance treatment, if any,  would you recommend?</a:t>
            </a:r>
            <a:endParaRPr b="0" lang="en-US" sz="2400" spc="-1" strike="noStrike">
              <a:solidFill>
                <a:srgbClr val="000000"/>
              </a:solidFill>
              <a:latin typeface="Arial"/>
            </a:endParaRPr>
          </a:p>
        </p:txBody>
      </p:sp>
      <p:pic>
        <p:nvPicPr>
          <p:cNvPr id="2045" name="Chart 3" descr=""/>
          <p:cNvPicPr/>
          <p:nvPr/>
        </p:nvPicPr>
        <p:blipFill>
          <a:blip r:embed="rId1"/>
          <a:stretch/>
        </p:blipFill>
        <p:spPr>
          <a:xfrm>
            <a:off x="482760" y="2405160"/>
            <a:ext cx="8254800" cy="4222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6" name="Picture 3" descr="Prig7-12.jpg"/>
          <p:cNvPicPr/>
          <p:nvPr/>
        </p:nvPicPr>
        <p:blipFill>
          <a:blip r:embed="rId1"/>
          <a:stretch/>
        </p:blipFill>
        <p:spPr>
          <a:xfrm>
            <a:off x="1371600" y="355680"/>
            <a:ext cx="6502320" cy="6502320"/>
          </a:xfrm>
          <a:prstGeom prst="rect">
            <a:avLst/>
          </a:prstGeom>
          <a:ln w="0">
            <a:noFill/>
          </a:ln>
        </p:spPr>
      </p:pic>
      <p:sp>
        <p:nvSpPr>
          <p:cNvPr id="2047" name="Rectangle 1"/>
          <p:cNvSpPr/>
          <p:nvPr/>
        </p:nvSpPr>
        <p:spPr>
          <a:xfrm>
            <a:off x="5715000" y="0"/>
            <a:ext cx="2743200" cy="144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48" name="Picture 1" descr="prig10-12.jpg"/>
          <p:cNvPicPr/>
          <p:nvPr/>
        </p:nvPicPr>
        <p:blipFill>
          <a:blip r:embed="rId1"/>
          <a:stretch/>
        </p:blipFill>
        <p:spPr>
          <a:xfrm>
            <a:off x="1320840" y="177840"/>
            <a:ext cx="6502320" cy="6502320"/>
          </a:xfrm>
          <a:prstGeom prst="rect">
            <a:avLst/>
          </a:prstGeom>
          <a:ln w="0">
            <a:noFill/>
          </a:ln>
        </p:spPr>
      </p:pic>
      <p:sp>
        <p:nvSpPr>
          <p:cNvPr id="2049" name="Rectangle 2"/>
          <p:cNvSpPr/>
          <p:nvPr/>
        </p:nvSpPr>
        <p:spPr>
          <a:xfrm>
            <a:off x="5867280" y="0"/>
            <a:ext cx="259092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0" name="Picture 1" descr="prigliver7-12.jpg"/>
          <p:cNvPicPr/>
          <p:nvPr/>
        </p:nvPicPr>
        <p:blipFill>
          <a:blip r:embed="rId1"/>
          <a:stretch/>
        </p:blipFill>
        <p:spPr>
          <a:xfrm>
            <a:off x="1320840" y="177840"/>
            <a:ext cx="6502320" cy="6502320"/>
          </a:xfrm>
          <a:prstGeom prst="rect">
            <a:avLst/>
          </a:prstGeom>
          <a:ln w="0">
            <a:noFill/>
          </a:ln>
        </p:spPr>
      </p:pic>
      <p:sp>
        <p:nvSpPr>
          <p:cNvPr id="2051" name="Rectangle 2"/>
          <p:cNvSpPr/>
          <p:nvPr/>
        </p:nvSpPr>
        <p:spPr>
          <a:xfrm>
            <a:off x="5715000" y="0"/>
            <a:ext cx="274320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2" name="Picture 1" descr="prigliver110-12.jpg"/>
          <p:cNvPicPr/>
          <p:nvPr/>
        </p:nvPicPr>
        <p:blipFill>
          <a:blip r:embed="rId1"/>
          <a:stretch/>
        </p:blipFill>
        <p:spPr>
          <a:xfrm>
            <a:off x="1320840" y="177840"/>
            <a:ext cx="6502320" cy="6502320"/>
          </a:xfrm>
          <a:prstGeom prst="rect">
            <a:avLst/>
          </a:prstGeom>
          <a:ln w="0">
            <a:noFill/>
          </a:ln>
        </p:spPr>
      </p:pic>
      <p:sp>
        <p:nvSpPr>
          <p:cNvPr id="2053" name="Rectangle 2"/>
          <p:cNvSpPr/>
          <p:nvPr/>
        </p:nvSpPr>
        <p:spPr>
          <a:xfrm>
            <a:off x="5715000" y="0"/>
            <a:ext cx="2743200" cy="1066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22:15:16Z</dcterms:created>
  <dc:creator>Research To Practice</dc:creator>
  <dc:description/>
  <cp:keywords/>
  <dc:language>en-US</dc:language>
  <cp:lastModifiedBy>Silvana Izquierdo</cp:lastModifiedBy>
  <cp:lastPrinted>2013-05-31T21:36:03Z</cp:lastPrinted>
  <dcterms:modified xsi:type="dcterms:W3CDTF">2013-08-13T17:37:48Z</dcterms:modified>
  <cp:revision>430</cp:revision>
  <dc:subject/>
  <dc:title>Research To Practice</dc:title>
</cp:coreProperties>
</file>