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DEE-66D3-4C2A-9370-130758C3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C0D-1F96-4C6E-97EB-B00A55AD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671-479E-42E4-B926-4486CDF3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713-D4D2-4410-8A1B-3F021943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A1F6-6AC4-48EF-BF53-9C61DB05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A1A-78FB-47D3-8CE4-0312758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7E5D-3453-43C8-AC00-F0881BA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1CD8-68F5-486B-B0CC-6A446B0F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72D0-9A8E-4A0F-B8DC-21E54A3C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2B78-FD66-4CA1-92C0-5FA5E814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4CA1-9E16-4534-A083-59C849A5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162-C0B4-4046-B3FB-268AA05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BAD4-9624-484F-A188-3C27E1A1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FA07-DE2B-47E8-80B6-6BF8D80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AEAA-3E2F-491B-9DBC-DF759CD3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5724-9E02-4573-A98F-29C743BC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B434-AAC1-465F-B4A2-009668EB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81B-49FC-4322-A6D8-E62324B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5F6-AA07-4AA6-AC16-EA605276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B94-4AEE-43D8-94F4-A89CA58F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9C5-0DFD-45EC-B7BC-B3B182B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F1A-E871-4866-AF6D-C31515E2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42A-F538-46E3-A830-7E5112F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9D9-1D39-4B16-A3B7-B7DE3092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5C8-39C7-477A-96B3-AC9DBD24E239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4B56-1BCD-425D-9A2D-6BC26693E71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TLAS: A Randomized, Phase III Trial Comparing Bevacizumab with or without Erlotinib After Completion of Chemotherapy plus Bevacizumab for 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Treatment of Locally-Advanced, Recurrent, or Metastatic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Miller VA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LBA8002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rials have demonstrated significant improvement in the survival of patients with advanced NSCLC treated with bevacizumab (bev) plus chem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:2542) or with erlotinib mon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5;353:12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 data suggests that progression-free survival (PFS) may be prolonged when bev is combined with erlotinib after initial chemotherapy with bev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:4743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maintenance erlotinib with bev (E + B)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herapy with chemotherapy/ bev prolongs PFS in patients with advanced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41800" y="4705200"/>
            <a:ext cx="1878120" cy="4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28400" y="4672080"/>
            <a:ext cx="2016360" cy="48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b, Placebo-Controlled Trial of Maintenance Bev plus Erlotinib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168960" y="333216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18240" y="3903840"/>
            <a:ext cx="1481040" cy="37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40440" y="2746440"/>
            <a:ext cx="47520" cy="23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86280" y="413028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9440" y="1589040"/>
            <a:ext cx="678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68960" y="333216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0440" y="2746440"/>
            <a:ext cx="47520" cy="23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86280" y="413028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0640" y="1754280"/>
          <a:ext cx="5570280" cy="780840"/>
        </p:xfrm>
        <a:graphic>
          <a:graphicData uri="http://schemas.openxmlformats.org/drawingml/2006/table">
            <a:tbl>
              <a:tblPr/>
              <a:tblGrid>
                <a:gridCol w="5570280"/>
              </a:tblGrid>
              <a:tr h="78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wet IIIb/IV or recurrent NSCLC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ior chemotherapy (n=1,16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47800" y="2820960"/>
            <a:ext cx="5638680" cy="4716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 cycles 1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line chemotherapy + Bev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5720" y="3546360"/>
            <a:ext cx="5638680" cy="7765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Non-progressive disease in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768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76640" y="417996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5257800"/>
            <a:ext cx="344160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 (15 mg/kg) 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 (150 mg/d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7480" y="5257800"/>
            <a:ext cx="344196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 (15 mg/kg) +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 (Plac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6680" y="25509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3071880" y="475128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25"/>
          <p:cNvSpPr/>
          <p:nvPr/>
        </p:nvSpPr>
        <p:spPr>
          <a:xfrm>
            <a:off x="5702400" y="474336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6680" y="329724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01760" y="1774800"/>
          <a:ext cx="8343720" cy="3530520"/>
        </p:xfrm>
        <a:graphic>
          <a:graphicData uri="http://schemas.openxmlformats.org/drawingml/2006/table">
            <a:tbl>
              <a:tblPr/>
              <a:tblGrid>
                <a:gridCol w="3254400"/>
                <a:gridCol w="1207800"/>
                <a:gridCol w="1216080"/>
                <a:gridCol w="266544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PFS (ITT Populatio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37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Plac (n=37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 (95% CI),</a:t>
                      </a:r>
                      <a:br>
                        <a:rPr sz="1500"/>
                      </a:b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edian follow-up 8.3 mos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22 (0.592-0.881), 0.00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S rate, 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S rate, 6 mo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%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ummary AE (grade≥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E (n=36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B + Plac (n=36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3-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.4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e 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76640" y="5389560"/>
            <a:ext cx="168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= hazard rati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+ E maintenance therapy after four cycles of chemotherapy/bev significantly improved PFS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 in PFS observed across multiple subgroup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xicity profile consistent with known AE profiles for each agent, though occurrence of more serious AEs was increased in the B + E a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49280" y="6207120"/>
            <a:ext cx="4897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Miller VA et al. ASCO 2009;Abstract LBA800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20:17:46Z</cp:lastPrinted>
  <dcterms:modified xsi:type="dcterms:W3CDTF">2009-12-03T20:18:15Z</dcterms:modified>
  <cp:revision>185</cp:revision>
  <dc:subject/>
  <dc:title>Main Title Slide — Always use  Title Case on Slide Titles</dc:title>
</cp:coreProperties>
</file>