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E17-01DC-4DD4-848F-4112CAAF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F79-59D7-4EE9-81A7-86CF275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780-4ACE-4E73-A352-65078E85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ECB-9C4D-4BB1-8E82-A28212C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B39A-FC67-48B1-B59E-C5E87406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AF77-3288-49F4-8ADB-B9D07E6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73A-79B1-49A9-BAA2-B0E2E19D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E195-43E5-4DC5-A795-4EC9864B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813D-7748-499C-9F0E-99EC1C5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1D8-8835-48BB-938F-AF45DA2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339-A0F7-4423-88D9-C168200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37A-BD40-4FA8-886E-BA4F687E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63AA-2B4D-4CA6-A157-9D3B23F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4EF0-6207-4AD9-BE50-718586CF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A343-D109-4152-A740-C6736F5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3179-9333-4C25-A34B-96B39060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B24E-F57F-43AD-9935-22753043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D6F-4DF1-4AE4-8BE7-856DB2ED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E3F-B40B-464A-AB9F-83BDC48E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06B-538A-4211-A1EA-BB822E5B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C6D-20BE-4009-B6D2-5703911B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F1B-C9CC-426D-85F6-B2F85F7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DD7-27D5-4C23-8452-46DE88C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FE9-EC42-4D3B-B1FC-0F003A5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EA5-0D59-4453-A1D0-B1F11B2F67AE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8D6-4DD4-4BBA-B07F-44794D04FE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fety and Effectiveness of Bevacizumab (BV) Based Treatment in Subpopulations of Patients with Non-Small Cell Lung Cancer (NSCLC) from the ARIES Study: A BV Treatment Observational Cohort Study (OCS)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Fischbach N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Proc World Congress on Lung Cancer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2009;Abstract C2.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570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COG-E4599 trial demonstrated that bevacizumab (BV) added to chemotherapy improves overall survival (OS) and progression-free survival (PFS) in patients with metastatic or locally-advanced NSCLC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6;355:2542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efficacy and safety of BV added to chemotherapy in subpopulations of patients with NSCLC that were excluded or underrepresented in prior tri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known brain metast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s with history of hemopt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derly (≥70 yea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ARIES: Prospective Observational Cohort Study of Patients with NSCLC Treated with BV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rual: 1,758/2,000 targeted (as of February 9,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44 sites accruing patients; median follow-up: 8.4 mon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gibility (Primary Analysis Popul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ly advanced/metastatic NSCLC (nonsquamous ce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V treatment with any first-line chemotherapy regi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of BV-containing therapy &lt;3 months prior to enrollment was allow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ve safety analyses conducted for overall cohort and subpop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1960" y="1763640"/>
          <a:ext cx="8556840" cy="3902040"/>
        </p:xfrm>
        <a:graphic>
          <a:graphicData uri="http://schemas.openxmlformats.org/drawingml/2006/table">
            <a:tbl>
              <a:tblPr/>
              <a:tblGrid>
                <a:gridCol w="4959360"/>
                <a:gridCol w="3597480"/>
              </a:tblGrid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 PF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67 mos (95% CI:6.28, 6.9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Select Adverse Even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Grade 3 or Above, n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lmonary Hemorrhage 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ory of hemoptysis (n=124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(0.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(3.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S Hemorrhag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in mets at baseline (n=12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(0.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trointestinal Perfora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cohort (n=1,758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(0.8%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im report of BV plus chemotherapy in “real-world” population of patients with NSCLC demonstra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first-line chemotherapy regimens are used in combination with BV, with an apparent decreased usage of platinum-based regimens with increasing patient age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effectiveness and toxicity profiles are consistent with results of prior t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reports of CNS bleeding in patients with brain metastases or of pulmonary hemorrhage in patients with cavitation in measurable tumors at base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comes in specific patient subpopulations will be analyzed once the data is ma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23600" y="6207120"/>
            <a:ext cx="759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Fischbach N et al.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Proc World Conference on Lung Cancer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2009;Abstract C2.7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20T13:05:16Z</cp:lastPrinted>
  <dcterms:modified xsi:type="dcterms:W3CDTF">2009-12-03T19:46:00Z</dcterms:modified>
  <cp:revision>182</cp:revision>
  <dc:subject/>
  <dc:title>Main Title Slide — Always use  Title Case on Slide Titles</dc:title>
</cp:coreProperties>
</file>