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8EA8-B882-45F0-880F-31B95CFE7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06AB-28DC-4E4B-A480-E6B029D6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2F3C-6BA9-4F60-A014-1A3BC5308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0907-EE2E-4703-AEA6-57593301A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A3F1-7453-4F1F-BEB6-68433F268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C58C-5869-471F-8F8A-700D6D28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7E61-E3BB-406B-9E26-BE553823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2498-68BA-4C9C-B7AF-9E735349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0FC4-A9F2-4953-A3E7-A36AF935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1C4C-4C15-4A2F-96C7-859FDDB5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A669-A924-42FE-B2A7-CAA0A906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F7D3-1F72-4D6C-8B97-66E12790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8A8A-6B41-49E5-82B4-BBC33903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6866-88A0-472E-9DBD-71FB7A28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0EF3-CF0C-408C-8CB3-A03043D4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43EA-F5B3-4952-839D-C3F04C1AE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CBFE-F7E1-4C1D-86CF-9AC3E0A3B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43B4-E069-40F6-8E01-CC143574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0FE7-13A3-4FA3-83D6-0CD1BD38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7C3F-BFD1-45E3-955A-5E5BD91D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7C78-72E6-4795-8C7E-0C8795D8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C9CC-31DC-442D-AE6A-E8D8D4C0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6C9E-7B3C-46A6-B6DD-F1840951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9B43-C42A-4FEC-BCD0-0058432B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81E1-B966-4DAD-BA74-C45E7C9644DE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6769-0DD0-48C0-A7B0-4EBC7A033A2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Click to edit the outline text format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61680" y="167760"/>
            <a:ext cx="782964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Gefitinib or Carboplatin/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Paclitaxel (C/P) in Pulmonary Adenocarcinoma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4313160"/>
            <a:ext cx="7769160" cy="25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Mok TS et al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25b"/>
                </a:solidFill>
                <a:latin typeface="Verdana"/>
              </a:rPr>
              <a:t>N Engl J Med</a:t>
            </a:r>
            <a:r>
              <a:rPr b="0" lang="en-US" sz="2500" spc="-1" strike="noStrike">
                <a:solidFill>
                  <a:srgbClr val="00325b"/>
                </a:solidFill>
                <a:latin typeface="Verdana"/>
              </a:rPr>
              <a:t> 2009;361(10):947-57.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353880" y="6207120"/>
            <a:ext cx="9096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s: Mok TS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N Engl J Med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361(10):947-57; Kim ES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Lancet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2008;372(9652):1809-18; Kosaka T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Cancer Res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4;64(24):8919-2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4480" y="1608120"/>
            <a:ext cx="8304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GFR tyrosine kinase inhibitors demonstrate improved efficacy in advanced non-small-cell lung cancer (NSCLC) in populations enriched for the presence of EGFR mut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-smok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ients with lung adenocarcinom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ients of Asian orig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urrent study objectiv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 the efficacy and safety of first-line gefitinib versus C/P in EGFR mutation-enriched population with advanced NSCL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 the role of EGFR mutation as a predictor of treatment effica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923000" y="2122560"/>
            <a:ext cx="17280" cy="272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134640" y="6207120"/>
            <a:ext cx="6467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Mok TS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N Engl J Med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361(10):947-57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PASS: A Phase III Trial in Patients with Advanced NSCLC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455760" y="1598760"/>
            <a:ext cx="67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ccrual: 1,329 (Clos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16400" y="2755800"/>
            <a:ext cx="47880" cy="231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962600" y="4140000"/>
            <a:ext cx="228600" cy="12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6400" y="5537160"/>
            <a:ext cx="8411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*Nonsmoker, &lt; 100 cigarettes in lifetime;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former light smoker, stopped </a:t>
            </a:r>
            <a:r>
              <a:rPr b="0" i="1" lang="en-US" sz="1500" spc="-1" strike="noStrike" u="sng">
                <a:solidFill>
                  <a:srgbClr val="000000"/>
                </a:solidFill>
                <a:uFillTx/>
                <a:latin typeface="Verdana"/>
              </a:rPr>
              <a:t>&gt;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 15 years ago and smoked </a:t>
            </a:r>
            <a:r>
              <a:rPr b="0" i="1" lang="en-US" sz="1500" spc="-1" strike="noStrike" u="sng">
                <a:solidFill>
                  <a:srgbClr val="000000"/>
                </a:solidFill>
                <a:uFillTx/>
                <a:latin typeface="Verdana"/>
              </a:rPr>
              <a:t>&lt;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 10 pack-year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0120" y="2214720"/>
          <a:ext cx="3618000" cy="2622240"/>
        </p:xfrm>
        <a:graphic>
          <a:graphicData uri="http://schemas.openxmlformats.org/drawingml/2006/table">
            <a:tbl>
              <a:tblPr/>
              <a:tblGrid>
                <a:gridCol w="3618000"/>
              </a:tblGrid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Eligibility (n=1,217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21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vanced (Stage IIIb/IV) NSCLC, adenocarcinom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st Asian origi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smoker/former light smoker*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prior treatm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441680" y="2892600"/>
            <a:ext cx="1005120" cy="100296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16320" y="3440160"/>
            <a:ext cx="22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23000" y="2114640"/>
            <a:ext cx="453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25"/>
          <p:cNvSpPr/>
          <p:nvPr/>
        </p:nvSpPr>
        <p:spPr>
          <a:xfrm>
            <a:off x="4778280" y="2333520"/>
            <a:ext cx="311400" cy="311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25"/>
          <p:cNvSpPr/>
          <p:nvPr/>
        </p:nvSpPr>
        <p:spPr>
          <a:xfrm>
            <a:off x="4784760" y="4154400"/>
            <a:ext cx="311040" cy="311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11880" y="1916280"/>
            <a:ext cx="2955960" cy="80784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Gefitinib (250 mg/day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(n=609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69040" y="4152960"/>
            <a:ext cx="3038400" cy="145584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Carboplatin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(AUC 5 or 6) +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Paclitaxel (200 mg/m</a:t>
            </a:r>
            <a:r>
              <a:rPr b="1" lang="en-US" sz="17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q3wk x 6 maximu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(n=608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937040" y="4835520"/>
            <a:ext cx="408240" cy="9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200" y="-360"/>
            <a:ext cx="776916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0ecd9"/>
                </a:solidFill>
                <a:latin typeface="Verdana"/>
              </a:rPr>
              <a:t>Efficacy of Gefitinib vs C/P in East Asian Patients With NSCLC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-134640" y="6207120"/>
            <a:ext cx="6467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Mok TS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N Engl J Med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361(10):947-57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3960" y="1515960"/>
          <a:ext cx="8264520" cy="4583160"/>
        </p:xfrm>
        <a:graphic>
          <a:graphicData uri="http://schemas.openxmlformats.org/drawingml/2006/table">
            <a:tbl>
              <a:tblPr/>
              <a:tblGrid>
                <a:gridCol w="3729240"/>
                <a:gridCol w="1341360"/>
                <a:gridCol w="1366920"/>
                <a:gridCol w="1827000"/>
              </a:tblGrid>
              <a:tr h="47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f5d"/>
                          </a:solidFill>
                          <a:latin typeface="Verdana"/>
                        </a:rPr>
                        <a:t>Objective Response Rate (ORR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Gefitinib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C/P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</a:t>
                      </a: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-valu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74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nt-to-treat populatio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n=609; 608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3.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.2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0.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FR mutation-positiv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n=132; 129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71.2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7.3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0.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</a:tr>
              <a:tr h="74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FR mutation-negativ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n=91; 85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1.1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.5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f5d"/>
                          </a:solidFill>
                          <a:latin typeface="Verdana"/>
                        </a:rPr>
                        <a:t>Progression-Free Surviv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Hazard Rati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</a:t>
                      </a: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-valu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470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nt-to-treat populatio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7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0.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FR mutation-positiv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0.4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0.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</a:tr>
              <a:tr h="46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FR mutation-negativ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8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0.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700200" y="4729320"/>
            <a:ext cx="183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8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and Conclus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fitinib is superior to C/P a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line therapy in a selected EGFR mutation-rich population with pulmonary adenocarcinom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longed PFS and increased OR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ed side effects and quality of life (data not show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GFR mutation status is a predictive biomarker in a selected EGFR mutation-rich population for responsiveness of pulmonary adenocarcinomas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line gefitinib treat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FS and ORR were significantly improved in patients who wer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sitive for EGFR mut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-134640" y="6207120"/>
            <a:ext cx="6467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Mok TS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N Engl J Med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361(10):947-57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1:19:04Z</dcterms:created>
  <dc:creator>Fernando G Rendina </dc:creator>
  <dc:description/>
  <cp:keywords/>
  <dc:language>en-US</dc:language>
  <cp:lastModifiedBy>Jay Qun</cp:lastModifiedBy>
  <cp:lastPrinted>2009-12-03T17:21:34Z</cp:lastPrinted>
  <dcterms:modified xsi:type="dcterms:W3CDTF">2009-12-03T19:24:20Z</dcterms:modified>
  <cp:revision>185</cp:revision>
  <dc:subject/>
  <dc:title>Main Title Slide — Always use  Title Case on Slide Titles</dc:title>
</cp:coreProperties>
</file>