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EB6-071C-4A8B-B77C-041E0CAF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E4A8-4C1E-47D3-B58F-9A94E6B1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6978-7BC4-40E8-BF32-6511084E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99A-9633-49BC-BA3A-91387BDE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93CB-8329-4DD0-B47D-15179DFA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C841-850B-40BF-8464-0A784127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D939-A3F8-4FAF-B97E-711E57E4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67C2-0167-4A6C-8F47-42FE257A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EEBA-AE81-46CA-9E21-F5AACD3B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5308-F970-45F7-8D78-A1516A8B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4A4F-646A-4B94-BDE3-B9DC68B9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941-1D4D-4630-B85A-A9C0C7AA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02D6-7964-415E-9750-44F4B647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73BD-846B-4A56-B619-2360AB17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6926-9451-4BD3-AA02-EDB08D57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D9A5-92A3-4441-9C9E-D946AA1C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17F4-177E-4A11-AC97-46D41821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1211-A03E-477E-B232-F7341FE1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3A3-25BA-4C78-B1A2-E07F23BB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A54E-6C29-4797-A434-DEBB3773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CFD-4905-44DD-9EC0-0FAFE5B7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C1F-1F1D-47BA-9A15-B1EAB8A3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7EFD-1741-4FBA-9B9B-44275C04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874-3B8C-4560-8D10-5C52B35C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C2D2-F60B-4942-97BF-479B4BD1E646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6276-86CF-481F-B6A7-28D416A9E65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92200" y="167760"/>
            <a:ext cx="797544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I Trial of Cisplatin plus Gemcitabine with Either Placebo or Bevacizumab as First-Line Therapy for Nonsquamous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Non-Small-Cell Lung Cancer: AVAiL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Reck M et al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J Clin Oncol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27(8):1227-34.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206280" y="6207120"/>
            <a:ext cx="6352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Reck M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8):1227-34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 III ECOG-E4599 trial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6;355(24):2542) showed substantial clinical benefit of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bevacizumab (bev) plus carboplatin/paclitaxel in patients with nonsquamous non-small-cell lung cancer (NSCL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fectiveness of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bev plus cisplatin/gemcitabine (CG) regimen commonly used to treat NSCLC is not know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the efficacy and safety of the addition of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bev to the CG chemotherapy regimen in patients with advanced or recurrent nonsquamous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06280" y="6207120"/>
            <a:ext cx="6352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Reck M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8):1227-34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I Randomized Trial of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en-US" sz="31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-Line Bev plus CG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55760" y="1531800"/>
            <a:ext cx="67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crual: 1,043 (Clos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5280" y="3341520"/>
            <a:ext cx="2533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6400" y="2755800"/>
            <a:ext cx="4788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62600" y="414000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00040" y="1973160"/>
          <a:ext cx="3563640" cy="3284640"/>
        </p:xfrm>
        <a:graphic>
          <a:graphicData uri="http://schemas.openxmlformats.org/drawingml/2006/table">
            <a:tbl>
              <a:tblPr/>
              <a:tblGrid>
                <a:gridCol w="3563640"/>
              </a:tblGrid>
              <a:tr h="42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286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vanced (Stage IIIb/IV) or recurrent nonsquamous NSCL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grade ≥2 hemoptysi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CNS metastas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history of thrombotic or hemorrhagic disorde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non-healing wound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5156280" y="1908000"/>
            <a:ext cx="3397320" cy="95112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High- or Low-Dose Placeb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+ CG q3wk x 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347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3014640"/>
            <a:ext cx="3460680" cy="109692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Low-Dose Bev (7.5 mg/kg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+ CG q3wk x 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345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75320" y="3656160"/>
            <a:ext cx="420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68880" y="4305240"/>
            <a:ext cx="3460680" cy="109692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High-Dose Bev (15 mg/kg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+ CG q3wk x 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351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4680" y="5445000"/>
            <a:ext cx="436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ll patients completing six treatment cycles </a:t>
            </a:r>
            <a:br>
              <a:rPr sz="1700"/>
            </a:b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ssigned to continued Bev or placeb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137120" y="2403000"/>
            <a:ext cx="931680" cy="102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18040" y="3990960"/>
            <a:ext cx="985680" cy="88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24200" y="3187800"/>
            <a:ext cx="100512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of Resul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-206280" y="6207120"/>
            <a:ext cx="6352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Reck M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8):1227-34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91960" y="1763640"/>
          <a:ext cx="8556840" cy="3643560"/>
        </p:xfrm>
        <a:graphic>
          <a:graphicData uri="http://schemas.openxmlformats.org/drawingml/2006/table">
            <a:tbl>
              <a:tblPr/>
              <a:tblGrid>
                <a:gridCol w="3648240"/>
                <a:gridCol w="1641600"/>
                <a:gridCol w="1641240"/>
                <a:gridCol w="162576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Efficacy Endpoint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lacebo+C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34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L-D Bev+C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345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-D Bev+C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351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ctive response rate (ORR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.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reference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.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.4%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0.0023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PF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1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reference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7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HR=0.7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5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HR=0.82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Severe AEs of Interes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lacebo+C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32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L-D Bev+C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330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-D Bev+CG (n=329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46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 Perfora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—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PH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-127080" y="5541840"/>
            <a:ext cx="6924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-D low-dose; H-D high-dose; FPH fatal pulmonary hemorrhag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AiL is second randomized Phase III trial to demonstrate clinical benefit of bev plus platinum-based chemotherapy in patients with advanced NSCLC who are bev-eligi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FS and ORR were incre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fety appeared similar to that seen in other studies of bev in NSCLC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4;22(11):2184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6;355(24):254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re pulmonary hemorrhage was increased in the bev arms of the current study with seven fatal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hough the study was not powered to compare the two doses of bevacizumab, no apparent efficacy or safety differences were observ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-206280" y="6207120"/>
            <a:ext cx="6352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Reck M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8):1227-34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Jay Qun</cp:lastModifiedBy>
  <cp:lastPrinted>2009-12-03T19:28:06Z</cp:lastPrinted>
  <dcterms:modified xsi:type="dcterms:W3CDTF">2009-12-03T19:28:08Z</dcterms:modified>
  <cp:revision>179</cp:revision>
  <dc:subject/>
  <dc:title>Main Title Slide — Always use  Title Case on Slide Titles</dc:title>
</cp:coreProperties>
</file>