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732-558B-4BF9-87BC-C7CBCDD2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A6D-1228-4E84-B25A-A8AF5D21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110-3898-460E-9327-D5822BB6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CE0-1896-47D9-A75D-853AFBE1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6A4C-F480-4498-82F0-977E78F7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9116-110B-439F-B839-A75C2BF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5655-7919-4EFD-BD2C-484A4A73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0F40-2D0B-4E35-90C9-FD8B5C7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CC7E-81DA-4C57-A0ED-CA3D312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D98C-9DB7-4E2A-BEBB-5E48DC92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42DB-32A5-494E-A05D-6DD8959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E59-A22D-4428-BBAD-3B2E37BC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AFAF-5CA0-49E4-8BC6-E6A6E15E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C1D5-5FEE-452B-AC94-01B4C24D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43F5-97B5-4AE5-AA97-6440FDF1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FF08-0056-496F-A6F1-E896BA3B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916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3120" y="160776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84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916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3120" y="4090320"/>
            <a:ext cx="25750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89F1-A720-4062-9820-4C4EAFD4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130-C5D7-4B00-B77A-91E2DCD3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B47-47D7-444A-8B97-9172A598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D30-1B86-4ED6-A5D6-B1E2ABB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774-7C03-4B5E-943D-01AEE594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68D-7531-4A60-84B5-6DF2C5F4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3080" y="409032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41C-6603-49F1-BBEC-2BE3566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3080" y="1607760"/>
            <a:ext cx="3902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840" y="4090320"/>
            <a:ext cx="799776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62A-2195-4D67-B21E-163142E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468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4840" y="1607760"/>
            <a:ext cx="79977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65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41E1-4078-42FC-A8C5-BEB4BEBB8603}" type="slidenum">
              <a:rPr b="0" lang="en-GB" sz="1400" spc="-1" strike="noStrike">
                <a:solidFill>
                  <a:srgbClr val="ff65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4368960"/>
          </a:xfrm>
          <a:prstGeom prst="rect">
            <a:avLst/>
          </a:prstGeom>
          <a:solidFill>
            <a:srgbClr val="002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3888-A114-4D9E-8E40-C9B90862DA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67760"/>
            <a:ext cx="7772400" cy="41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ATURN: A Double-Blind, Randomized, Phase III Study of Maintenance Erlotinib versus Placebo Following Non-Progression with 1</a:t>
            </a:r>
            <a:r>
              <a:rPr b="1" lang="en-US" sz="31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-Line Platinum-Based Chemotherapy in Patients with Advanced NSCLC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0920" y="4313160"/>
            <a:ext cx="7769160" cy="25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25b"/>
                </a:solidFill>
                <a:latin typeface="Verdana"/>
              </a:rPr>
              <a:t>Cappuzzo F et al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25b"/>
                </a:solidFill>
                <a:latin typeface="Verdana"/>
              </a:rPr>
              <a:t>ASCO 2009;Abstract 8001.</a:t>
            </a:r>
            <a:endParaRPr b="1" lang="en-US" sz="2500" spc="-1" strike="noStrike">
              <a:solidFill>
                <a:srgbClr val="00325b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480" y="1608120"/>
            <a:ext cx="830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icacy and tolerability profile of erlotinib for NSCLC has been demonstrated in a large, phase III, placebo-controlled trial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J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5;353:123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 III TALENT study demonstrated a trend toward improved time to progression (TTP) or death in patients with NSCLC who continued to receive erlotinib after six cycles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erlotinib with concurrent chemotherapy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2007;25:1545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 study objectiv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if erlotinib given right aft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line chemo prolongs progression-free survival (PFS) of pati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dvanced NSCLC. Assess PFS in EGFR-positive subset of pat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94120" y="4683240"/>
            <a:ext cx="2013120" cy="48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116080" y="4662360"/>
            <a:ext cx="209880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Phase III, Placebo-Controlled Trial of Maintenance Erlotinib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5760" y="1598760"/>
            <a:ext cx="678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6400" y="2755800"/>
            <a:ext cx="47880" cy="231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62600" y="4140000"/>
            <a:ext cx="228600" cy="1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5320" y="1800360"/>
          <a:ext cx="5570640" cy="750600"/>
        </p:xfrm>
        <a:graphic>
          <a:graphicData uri="http://schemas.openxmlformats.org/drawingml/2006/table">
            <a:tbl>
              <a:tblPr/>
              <a:tblGrid>
                <a:gridCol w="5570640"/>
              </a:tblGrid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6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mo-naïve advanced NSCL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=1,94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68320" y="2890800"/>
            <a:ext cx="5639040" cy="47160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Four cycles 1</a:t>
            </a:r>
            <a:r>
              <a:rPr b="1" lang="en-US" sz="17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-line platinum-based doub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5440" y="3710160"/>
            <a:ext cx="5638680" cy="77616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Non-progressive disease in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(n=889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3960" y="4267080"/>
            <a:ext cx="1004760" cy="1003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2360" y="5267160"/>
            <a:ext cx="344160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rlotinib 150 mg/d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ess disease progres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4800" y="5267160"/>
            <a:ext cx="3441960" cy="649440"/>
          </a:xfrm>
          <a:prstGeom prst="rect">
            <a:avLst/>
          </a:prstGeom>
          <a:solidFill>
            <a:srgbClr val="d6ea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laceb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ssess disease progres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6680" y="255096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959200" y="478008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5"/>
          <p:cNvSpPr/>
          <p:nvPr/>
        </p:nvSpPr>
        <p:spPr>
          <a:xfrm>
            <a:off x="5589720" y="4772160"/>
            <a:ext cx="31104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6680" y="335916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200" y="-360"/>
            <a:ext cx="776916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Efficacy Result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91960" y="1763640"/>
          <a:ext cx="8556840" cy="4076280"/>
        </p:xfrm>
        <a:graphic>
          <a:graphicData uri="http://schemas.openxmlformats.org/drawingml/2006/table">
            <a:tbl>
              <a:tblPr/>
              <a:tblGrid>
                <a:gridCol w="4851720"/>
                <a:gridCol w="2341440"/>
                <a:gridCol w="1363680"/>
              </a:tblGrid>
              <a:tr h="73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rogression-Free 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Erlotinib vs Placeb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HR (95% CI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500" spc="-1" strike="noStrike">
                          <a:solidFill>
                            <a:srgbClr val="00325b"/>
                          </a:solidFill>
                          <a:latin typeface="Verdana"/>
                        </a:rPr>
                        <a:t>-val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af2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T population (n=437; 44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1 (0.62-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IHC-positive (n=307; 311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9 (0.58-0.82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mutation-positive (n=22; 27)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0 (0.04-0.2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FR wil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-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n=199; 18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8 (0.63-0.96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8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enocarcinoma (n=204; 197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0 (0.48-0.7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0.00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mous cell (n=166; 193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6 (0.60-0.95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4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8b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Summary and Conclusions</a:t>
            </a:r>
            <a:endParaRPr b="1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840" y="1607760"/>
            <a:ext cx="799776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lotinib maintenance therapy significantly improved PFS in patients with advanced NSCL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lotinib treatment effect was independent of several clinical/biological characteristics, including tumor histology, gender and smoking status (data not show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st benefit in PFS seen in patients with EGFR mutation-positive disease (hazard ratio=0.10, p&lt;0.000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buClr>
                <a:srgbClr val="0080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fect on overall survival remains to be determined.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2160" y="6207120"/>
            <a:ext cx="478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urce: Cappuzzo F et al. ASCO 2009;Abstract 800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19:04Z</dcterms:created>
  <dc:creator>Fernando G Rendina </dc:creator>
  <dc:description/>
  <cp:keywords/>
  <dc:language>en-US</dc:language>
  <cp:lastModifiedBy>Albert Rosado</cp:lastModifiedBy>
  <cp:lastPrinted>2009-12-03T19:51:22Z</cp:lastPrinted>
  <dcterms:modified xsi:type="dcterms:W3CDTF">2009-12-03T19:51:34Z</dcterms:modified>
  <cp:revision>191</cp:revision>
  <dc:subject/>
  <dc:title>Main Title Slide — Always use  Title Case on Slide Titles</dc:title>
</cp:coreProperties>
</file>