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381-FC20-4BF4-A489-FA99907A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1BF-243A-4220-B81B-C8B90699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54A-74FE-400B-BB7C-5DB173FD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D86-890B-4937-B154-372F3B26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1A3A-C26B-45A6-8DE8-1C839B7A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D944-7BE3-4489-BC93-C15A5A26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C2B7-C941-40AC-BB76-3A2558CC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9275-9633-49B4-B39C-C93BE91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B3EE-FC08-4DE1-8A5D-498F78CB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B7BD-B773-44F6-B31F-A2874B63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64FB-EA68-4055-9B07-A12191BE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AF1-4928-4881-BF75-299DEBB8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5789-2FE2-4B14-9A53-B3E548E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5A0F-58AB-4F99-89C3-87DF5FD6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A4A1-0DDD-45F3-9789-3097DD48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0D9C-822C-44AF-87C4-DF7C0A9D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AB37-4471-43FA-8194-509CB3C0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102-D204-43A1-9672-33711F78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25C-B95D-4F34-9BBC-1C54B6BA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39C-347C-4A64-A545-4736C067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A67-DABA-4390-A3D5-71AB487A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4EB-05A9-4022-B24B-285D59A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AFA-BDA9-49B1-ACB9-BE96B692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895-5F44-43E5-B720-5D7469A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B4C-19D8-4A0B-83BC-4EA1AEAACC98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67DF-8F9F-494E-863D-87332CC32F7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emetrexed is More Effective in Patients with Nonsquamous Non-Small-Cell Lung Cancer (NSCLC) Histology: An Analysis of Three Large, Randomized, Phase III Trial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Scagliotti G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Proc World Conference on Lung Cancer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Abstract B2.6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66000" y="6207120"/>
            <a:ext cx="7529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studies indicate that nonsquamous tumor histology is a predictive factor for pemetrexed efficacy in treatment of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the reproducibility and consistency of the increased efficacy of pemetrexed observed in thre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eatment-By-Histology Interaction (THI) model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to estimate the effect of histology on pemetrexed effic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66000" y="6207120"/>
            <a:ext cx="7529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tatistical Analysi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analyzed by squamous (Sq) and nonsquamous (NSq) cell histology for three Phase III stud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rst Study (n = 571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pemetrexed vs docetaxel (P vs D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ncologi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9;14:25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econd Study (n = 1,725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pemetrexed/cisplatin vs gemcitabine/cisplatin (P/C vs G/C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26:354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ird Study (n = 663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aintenance pemetrexed vs placebo (mx-P vs PBO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9;374:143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 model measures hazard ratio (HR) for histology effect in P arm relative to histology effect in control a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0ecd9"/>
                </a:solidFill>
                <a:latin typeface="Verdana"/>
              </a:rPr>
              <a:t>Efficacy of Pemetrexed by Tumor Histology and THI Interact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731880" y="6207120"/>
            <a:ext cx="7529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5960" y="1763640"/>
          <a:ext cx="8391600" cy="2557440"/>
        </p:xfrm>
        <a:graphic>
          <a:graphicData uri="http://schemas.openxmlformats.org/drawingml/2006/table">
            <a:tbl>
              <a:tblPr/>
              <a:tblGrid>
                <a:gridCol w="2106720"/>
                <a:gridCol w="985680"/>
                <a:gridCol w="997200"/>
                <a:gridCol w="1155600"/>
                <a:gridCol w="1042920"/>
                <a:gridCol w="1042920"/>
                <a:gridCol w="1060560"/>
              </a:tblGrid>
              <a:tr h="685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fficacy 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 vs 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/C vs G/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Mx-P vs PB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ologic 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 (N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9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7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,25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7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48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8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justed HR for 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 HR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valu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8 (0.00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 (0.00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2 (0.03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190"/>
          <p:cNvSpPr/>
          <p:nvPr/>
        </p:nvSpPr>
        <p:spPr>
          <a:xfrm>
            <a:off x="950760" y="4992840"/>
            <a:ext cx="771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THI HR&lt;1, efficacy of P relative to control arm is greater in patients with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Sq histolog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squamous tumor histology is predictive of the improved efficacy of pemetrexed in patients with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ment advantage of pemetrexed is consistent and reproducible across three different studies and lines of therap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metrexed should be considered as the preferred treatment regimen for patients with nonsquamous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1880" y="6207120"/>
            <a:ext cx="7529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Scagliotti G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B2.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09T12:11:54Z</cp:lastPrinted>
  <dcterms:modified xsi:type="dcterms:W3CDTF">2009-12-03T20:16:51Z</dcterms:modified>
  <cp:revision>183</cp:revision>
  <dc:subject/>
  <dc:title>Main Title Slide — Always use  Title Case on Slide Titles</dc:title>
</cp:coreProperties>
</file>