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C75-2D03-4680-8521-E5EFDB59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F86-4258-40E8-B313-88A26C6D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599-F981-4576-9808-0049E06A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00B-F691-4260-8BBD-E81E59F0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0A34-42C8-4D49-8A7A-A35EEE7B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F6E2-710F-44F5-BABA-2B1B1026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6E24-AB05-4C95-913E-999A529F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0C6E-5D54-4FDA-B0CC-7E02FF9D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0F33-C56D-4C8C-B904-AE3CB8EF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3531-567D-4458-B868-7A9C4B0A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26F5-00A5-48C8-8ADF-C2830A8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ACD-7B62-4621-9C51-5E3CF272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A1E7-4142-42B6-B66B-39A33557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90C4-6B9C-43F5-B2F6-D221311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5CED-AC2D-4749-9754-14D0C8D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4DAA-F119-4124-96D3-0B134D15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3FF-1640-4F37-B0F6-ECC5A28C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2FD-E118-4F6B-8068-1AA06F9C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3B0-F250-4A0E-8C75-7C7C8870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2C1-DB5D-41B2-8B34-3BDA31CF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197-7D6A-4C01-BC45-317B1B9D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986-17C5-4851-967E-8DDDA60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40E-9FE6-4B1C-83A0-942010C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F6F-A6D5-435A-BEFE-264CC47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1F5A-CD78-44D8-969D-EFD0D93D42C4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85AA-2056-4F07-91C3-580E04DA24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167760"/>
            <a:ext cx="791676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 Study of Pemetrexed and Carboplatin plus Bevacizumab with Maintenance Pemetrexed and Bevacizumab as First-Line Therapy for Nonsquamous Non-Small-Cell Lung Cancer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Patel JD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J Clin Oncol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27(20):3284-9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metrexed-containing chemotherapy regimens for NSCLC are noninferior to standard chemotherapy treatments and have greater tolerabilit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4;22(9):1589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8;26(21):354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rials ECOG-E4599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(24):2542) and AVAi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18S:388) demonstrated a differential clinical benefit with bevacizumab added to chemotherapy for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first-line pem/bev/carbo (P/B/C) treatment followed by P/B maintenance in patients with advanced nonsquamous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 Study of Pemetrexed in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First-Line and Maintenance Therapies for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27040" y="1650960"/>
          <a:ext cx="7786800" cy="129708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IIIb/IV or recurrent non-squamous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chemotherapy, gross hemoptysis, CNS metastas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54240" y="3295800"/>
            <a:ext cx="6354720" cy="9032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Initial treatment (n=50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 (500 mg/m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 + B (15 mg/kg) + C (AUC=6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3wk x 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3920" y="4545000"/>
            <a:ext cx="7251840" cy="8874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Maintenance therapy (CR, PR, or SD, n=30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 (500 mg/m</a:t>
            </a:r>
            <a:r>
              <a:rPr b="0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) + B (15 mg/k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3wk until disease progression or unacceptable toxic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95960" y="2948040"/>
            <a:ext cx="0" cy="3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95960" y="4184640"/>
            <a:ext cx="0" cy="34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 (ITT Population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65560" y="6207120"/>
            <a:ext cx="489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749600"/>
          <a:ext cx="7277040" cy="3117600"/>
        </p:xfrm>
        <a:graphic>
          <a:graphicData uri="http://schemas.openxmlformats.org/drawingml/2006/table">
            <a:tbl>
              <a:tblPr/>
              <a:tblGrid>
                <a:gridCol w="4386240"/>
                <a:gridCol w="1444680"/>
                <a:gridCol w="1446120"/>
              </a:tblGrid>
              <a:tr h="38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Endpoi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 at 13-month follow-up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elect Adverse Ev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Grade 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Grade 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erticulitis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rombocyt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ous thrombo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92200" y="4962600"/>
            <a:ext cx="776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ne case of Grade IV diverticulitis with bowel perfor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-line carboplatin/pemetrexed and bevacizumab followed by maintenance pemetrexed/bevacizumab was effective, safe and toler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n PFS and ORR compared favorably to other first-line NSCLC trea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brile neutropenia or pulmonary hemorrh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e 3 or 4 diverticulitis was an unexpected toxic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intBreak study (NCT00762034) will compare first-line P/B/C followed by P/B maintenance to standard treatment for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6199200"/>
            <a:ext cx="725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s: Patel JD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J Clin Oncol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27(20):3284-9; Patel JD et al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Clin Lung Cancer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10(4):252-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21:04:37Z</cp:lastPrinted>
  <dcterms:modified xsi:type="dcterms:W3CDTF">2009-12-03T21:04:44Z</dcterms:modified>
  <cp:revision>182</cp:revision>
  <dc:subject/>
  <dc:title>Main Title Slide — Always use  Title Case on Slide Titles</dc:title>
</cp:coreProperties>
</file>