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F2E-FA72-4EF0-9B21-A872E18D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00F-F0F4-45AC-8BF7-E1F7AD81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D8C-00DC-4B92-B3D0-E8949A95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D83-779F-4CF9-A4D1-80327D3E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4122-FCFF-48BA-82E2-B152084A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51F6-161A-45E4-B11F-389139BB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39ED-DF2A-4DCA-A765-6C98FB33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397E-F393-42AC-A706-383406B9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26BB-5F77-4B81-97EC-38D7225E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8395-D433-4711-969C-D5873E11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5EB3-1B9D-4541-9650-27D89A50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CE6-4EE4-4D04-AE4A-EBEC3CF8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0769-3371-4E97-9BE2-9A84539F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7CB4-7607-46A9-9D3B-7428B033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11E1-0A6B-4658-8516-6A01944C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66DB-DFBC-462D-A831-61A63A3C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2A87-2B73-4A60-A295-8CA683B1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B98-EE43-4861-BD54-983F5F1D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9A5-B406-415B-A1B0-BD32BC2A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54F-834B-48FF-9611-96CEE391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EB5-ABF2-47EB-9A91-4A058AE9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46C-D53C-4AA3-8A7B-C4EA4409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C0C-E878-4B06-87A3-4FD970DE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DA5-85DA-4940-800A-914B6CD3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72B0-99ED-4169-BA0A-C8E02C12E178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3436-DD2B-4C66-89E9-CA1EABA7FDB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Vandetanib plus Docetaxel vs Docetaxel as 2</a:t>
            </a:r>
            <a:r>
              <a:rPr b="1" lang="en-US" sz="31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-Line Treatment for Patients with Advanced Non-Small-Cell-Lung Cancer (NSCLC): A Randomized, Double-Blind Phase III Trial (ZODIAC)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Herbst RS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ASCO 2009;Abstract CRA8003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680" y="6207120"/>
            <a:ext cx="500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Herbst RS et al. ASCO 2009;Abstract CRA80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from Phase II trial demonstrated an increase in PFS with vandetanib/docetaxel as second-line treatment of NSCLC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25(27):427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the efficacy and safety of second-line vandetanib plus docetaxel versus docetaxel alone in patients with advanced, recurrent NSC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efficacy and safety in female subgro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13240" y="2530440"/>
            <a:ext cx="27000" cy="253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680" y="6207120"/>
            <a:ext cx="500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Herbst RS et al. ASCO 2009;Abstract CRA80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ZODIAC: A Phase III Trial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of Vandetanib/Docetaxel vs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Docetaxel Alone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245280" y="3341520"/>
            <a:ext cx="2533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39560" y="2158920"/>
          <a:ext cx="3294000" cy="3159000"/>
        </p:xfrm>
        <a:graphic>
          <a:graphicData uri="http://schemas.openxmlformats.org/drawingml/2006/table">
            <a:tbl>
              <a:tblPr/>
              <a:tblGrid>
                <a:gridCol w="3294000"/>
              </a:tblGrid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(N=1,39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80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urrent (Stage IIIb/IV) NSCLC refractory to first-line chemotherap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histologies of NSCLC permitte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r use of bevacizumab and treatment for brain metastases permitte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5045040" y="1955880"/>
            <a:ext cx="3343320" cy="11491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laceb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docetaxel 75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697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q21 days x 6 maximu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45040" y="4470480"/>
            <a:ext cx="3343320" cy="114912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Vandetanib 100 mg/da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+ docetaxel 75 mg/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694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q21 days x 6 maximu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36800" y="3782880"/>
            <a:ext cx="17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06720" y="3270240"/>
            <a:ext cx="100512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3240" y="254016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38800" y="505296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5"/>
          <p:cNvSpPr/>
          <p:nvPr/>
        </p:nvSpPr>
        <p:spPr>
          <a:xfrm>
            <a:off x="4272120" y="2759040"/>
            <a:ext cx="311040" cy="31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4265640" y="4422600"/>
            <a:ext cx="31104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Efficacy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472680" y="6207120"/>
            <a:ext cx="500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Herbst RS et al. ASCO 2009;Abstract CRA80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51000" y="1763640"/>
          <a:ext cx="8389800" cy="2281320"/>
        </p:xfrm>
        <a:graphic>
          <a:graphicData uri="http://schemas.openxmlformats.org/drawingml/2006/table">
            <a:tbl>
              <a:tblPr/>
              <a:tblGrid>
                <a:gridCol w="3638520"/>
                <a:gridCol w="1684440"/>
                <a:gridCol w="1430280"/>
                <a:gridCol w="1636560"/>
              </a:tblGrid>
              <a:tr h="82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Clinical Respon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Vandetanib + docetaxe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69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lacebo + docetaxe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(N=69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R,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ctive response rate (ORR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, 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2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9, 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 to deterioration of symptoms (TDS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7, &lt;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ecd9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62880" y="4173480"/>
            <a:ext cx="1707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NR = not reporte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ndetanib is the first oral targeted therapy to show significant clinical benefit in Phase III trials when added to standard chemotherapy in patients with previously treat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PFS, ORR and T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clinical effect was not observed for PFS or OS in women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erse events were similar to those seen in other NSCLC vandetanib studies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72680" y="6207120"/>
            <a:ext cx="500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Herbst RS et al. ASCO 2009;Abstract CRA8003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Albert Rosado</cp:lastModifiedBy>
  <cp:lastPrinted>2009-12-03T19:09:52Z</cp:lastPrinted>
  <dcterms:modified xsi:type="dcterms:W3CDTF">2009-12-03T19:10:04Z</dcterms:modified>
  <cp:revision>177</cp:revision>
  <dc:subject/>
  <dc:title>Main Title Slide — Always use  Title Case on Slide Titles</dc:title>
</cp:coreProperties>
</file>