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F7B6-48B8-453F-A6AA-38880058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F503-38AC-432C-AF93-1C2476E6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9CF-1261-4A65-A926-580AB5A3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48A9-E3B8-4C4F-9634-BCA59DF7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8B3E-F4B6-431F-865B-9F2E715F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15FE-9819-4BAF-BC66-A2C425F3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3C2B-C445-491D-83DA-CBAE286C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DD79-B1E3-49AF-B590-2EA73097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320F-16D7-4EAF-99EA-77FD0819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3B8E-F982-49E3-890F-416E71F5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5E17-7984-48F1-B8F4-2BF64A1B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FD4-C0ED-4F98-8268-5FD0F455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8240-5DE2-4934-BDA8-9E1469D6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0D63-A61E-47D2-95AE-15CB8516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5654-63F0-44F3-9F8C-DDADC316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6A54-2C9E-403E-B7C6-4C6A11E2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5F1F-5AC2-4D37-99B0-55FC0F29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05C3-8476-464C-8A53-93F52633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EB5-1D9C-42E9-865C-512C964E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7DC9-E6C1-4968-B2A6-6E10F3BC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7EE-A431-4768-88DD-44A702BA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BA39-3277-4507-B0DC-282B8F8F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E6B9-68FA-42BE-94A6-501D274B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AE42-F82B-4F68-8432-360CDE38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7AB8-77FA-4AC0-8089-414169B379EF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3371-1B64-4272-BA8A-4105BAD8E7F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Biomarker Analyses from a 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I, Randomized, Open-Label, First-Line Study of Gefitinib vs Carboplatin/Paclitaxel in Clinically Selected Patients with Advanced Non-Small Cell Lung Cancer in Asia (IPASS) 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325b"/>
                </a:solidFill>
                <a:latin typeface="Verdana"/>
              </a:rPr>
              <a:t>Fukuoka M et 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325b"/>
                </a:solidFill>
                <a:latin typeface="Verdana"/>
              </a:rPr>
              <a:t>ASCO 2009;Abstract 8006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41000" y="6207120"/>
            <a:ext cx="474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Fukuoka M et al. ASCO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800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PASS demonstrated overall superiority of first-line gefitinib (G) to carboplatin/paclitaxel (C/P) in selected East Asian population of nonsmokers/ex-light smokers with advanced pulmonary adenocarcinom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e progression-free survival (PFS), overall survival (OS) and objective response rate (ORR) by EGFR mutation status, EGFR-gene-copy number and EGFR protein exp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PASS (n = 1,217 randomized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omarker consent (n = 1,038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d tumor samples (n = 683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Biomarker Data in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Evaluable Patien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41000" y="6207120"/>
            <a:ext cx="474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Fukuoka M et al. ASCO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800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97040" y="1620720"/>
          <a:ext cx="7542000" cy="2695680"/>
        </p:xfrm>
        <a:graphic>
          <a:graphicData uri="http://schemas.openxmlformats.org/drawingml/2006/table">
            <a:tbl>
              <a:tblPr/>
              <a:tblGrid>
                <a:gridCol w="3779640"/>
                <a:gridCol w="1924200"/>
                <a:gridCol w="1838160"/>
              </a:tblGrid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Biomarke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Statu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N (%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mutation status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(n=43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i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1 (60%)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6 (40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gene copy numb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(n=40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9 (61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7 (39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protein express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(n=36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itive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iv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6 (73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 (27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144"/>
          <p:cNvSpPr/>
          <p:nvPr/>
        </p:nvSpPr>
        <p:spPr>
          <a:xfrm>
            <a:off x="1357200" y="4462560"/>
            <a:ext cx="66564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High EGFR-gene-copy number was defined as high polysomy  (</a:t>
            </a: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4 copies in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40% of cells) or gene amplification (ratio of gene:chromosome per cell </a:t>
            </a: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2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or </a:t>
            </a: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15 copies of EGFR per cell in </a:t>
            </a: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10% of cells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ositive EGFR protein expression status defined as ≥ 10% of cells stained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for EGFR protei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Verdana"/>
              </a:rPr>
              <a:t>Progression-Free Survival by Biomarker Statu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41000" y="6207120"/>
            <a:ext cx="474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Fukuoka M et al. ASCO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800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3680" y="1711440"/>
          <a:ext cx="8226360" cy="3954240"/>
        </p:xfrm>
        <a:graphic>
          <a:graphicData uri="http://schemas.openxmlformats.org/drawingml/2006/table">
            <a:tbl>
              <a:tblPr/>
              <a:tblGrid>
                <a:gridCol w="3206520"/>
                <a:gridCol w="1222560"/>
                <a:gridCol w="1214280"/>
                <a:gridCol w="2583000"/>
              </a:tblGrid>
              <a:tr h="77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FS, HR</a:t>
                      </a:r>
                      <a:r>
                        <a:rPr b="1" lang="en-US" sz="1500" spc="-1" strike="noStrike" baseline="30000">
                          <a:solidFill>
                            <a:srgbClr val="00325b"/>
                          </a:solidFill>
                          <a:latin typeface="Verdana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FS, Rx x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Subgroup Interaction</a:t>
                      </a:r>
                      <a:r>
                        <a:rPr b="1" lang="en-US" sz="1500" spc="-1" strike="noStrike" baseline="30000">
                          <a:solidFill>
                            <a:srgbClr val="00325b"/>
                          </a:solidFill>
                          <a:latin typeface="Verdana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120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mutation status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+ (n=26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- (n=17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8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gene copy numbe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SH+ (n=249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SH+, M+ (n=19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SH+, M- (n=5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SH- (n=15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0.4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3.8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2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236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43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</a:tbl>
          </a:graphicData>
        </a:graphic>
      </p:graphicFrame>
      <p:sp>
        <p:nvSpPr>
          <p:cNvPr id="99" name="Rectangle 68"/>
          <p:cNvSpPr/>
          <p:nvPr/>
        </p:nvSpPr>
        <p:spPr>
          <a:xfrm>
            <a:off x="318960" y="5745240"/>
            <a:ext cx="8514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HR (hazard ratio) &lt; 1.0 favors gefitinib; </a:t>
            </a:r>
            <a:r>
              <a:rPr b="0" i="1" lang="en-US" sz="15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HR in biomarker+ vs HR in biomarker-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FR mutation status is a predictive biomarker in a selected East Asian population for responsiveness of pulmonary adenocarcinomas to first-line gefitinib treatment (p &lt; 0.0001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FR-gene-copy number was not as predictive of a differential PFS of gefitinib vs C/P (p &lt; 0.0437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with FISH+, EGFR mutation-negative disea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 not benefit from gefitini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GFR protein expression was the least predicti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sis of OS by EGFR mutation status is immature but trending toward improvement for EGFR mutation-positive disease treated with gefitinib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41000" y="6207120"/>
            <a:ext cx="474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Source: Fukuoka M et al. ASCO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8006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Office 2004 Test Drive User</cp:lastModifiedBy>
  <cp:lastPrinted>2009-10-07T14:23:42Z</cp:lastPrinted>
  <dcterms:modified xsi:type="dcterms:W3CDTF">2009-12-03T20:24:03Z</dcterms:modified>
  <cp:revision>181</cp:revision>
  <dc:subject/>
  <dc:title>Main Title Slide — Always use  Title Case on Slide Titles</dc:title>
</cp:coreProperties>
</file>