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E02-3528-4929-85B2-656FA7DD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968-991A-4E80-9DC2-7659D23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EE7-9626-4661-824A-4B13EF5B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AC0-B593-4417-8F70-FBCE94D4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5FB0-6B92-4ABD-A844-95633543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0380-5046-42D6-ACC7-D8323D63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BAA7-2F8E-4BC3-9DD5-7C39106C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F0A1-1D8D-4DD1-958A-8987566F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2FD1-B869-4DFE-88B2-F3F375F9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0139-1433-4198-BDFB-66C6F6B7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C825-CC6D-48CC-AACD-75ED7AE5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ACC-1E6E-4426-B406-47AE28BD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24AC-88D9-4C21-9521-06033BDF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BFA4-8475-4B9D-86EC-20BE91AC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12A8-CA31-497E-A86A-9C0B2C92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67F4-3234-436A-A18A-824A10E0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8C15-9268-48AF-8289-D554E163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767-AA99-485F-ACA6-02352E12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D30-821A-4A92-80B9-05EDD23A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D54-D8D3-47DE-8B20-01701367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703-77B7-4B90-B2B7-5BB76B1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68C-E30A-49C9-8C55-7E37B2C5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2DE-91B2-4BCC-A005-99AF348F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15F-E3F9-4242-90FF-924B162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77E3-B7DE-40C1-9032-74082101E127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DBF9-EA06-447C-9FED-9A45D29F0A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Maintenance Pemetrexed plus Best Supportive Care versus Placebo plus Best Supportive Care for Non-Small-Cell Lung Cancer: A Randomised, Double-Blind, Phase 3 Study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57800"/>
            <a:ext cx="7769160" cy="24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iuleanu T et 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25b"/>
                </a:solidFill>
                <a:latin typeface="Verdana"/>
              </a:rPr>
              <a:t>Lancet</a:t>
            </a: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 2009;374(9699):1432-40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atment guidelines for patients with advanced non-small-cell lung cancer (NSCLC) recommend waiting until disease progression to administer approve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treatment agents such as docetaxel and pemetrex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ent Phase III studie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Lung Cance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2006;52:155;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JNC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2005;97:499) of maintenance therapies after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line chemotherapy in advanced NSCLC have not demonstrated an overall survival (OS) benef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urrent study object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valuate pemetrexed (Pem) as maintenance therapy in patients with advanced NSCLC that has not progressed on four cycles of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line platinum-based chemothera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 Randomized, Double-Blind, Placebo-Controlled Trial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523800" y="5489640"/>
            <a:ext cx="716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12, folate and dexamethasone prophylaxis administered in both ar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0120" y="2043000"/>
          <a:ext cx="3022560" cy="2949840"/>
        </p:xfrm>
        <a:graphic>
          <a:graphicData uri="http://schemas.openxmlformats.org/drawingml/2006/table">
            <a:tbl>
              <a:tblPr/>
              <a:tblGrid>
                <a:gridCol w="3022560"/>
              </a:tblGrid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ligibility (n=66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25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e IIIB/IV NSC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ur prior cycles of platinum + taxan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gemcitab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 or partial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e (CR or PR) or stable disease (S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Oval 19"/>
          <p:cNvSpPr/>
          <p:nvPr/>
        </p:nvSpPr>
        <p:spPr>
          <a:xfrm>
            <a:off x="3243240" y="316224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4640400" y="2033640"/>
            <a:ext cx="3176280" cy="1312920"/>
          </a:xfrm>
          <a:prstGeom prst="rect">
            <a:avLst/>
          </a:prstGeom>
          <a:solidFill>
            <a:srgbClr val="d6ea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em 500 mg/m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1 q3wks + best supportive care (BSC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 = 441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AutoShape 54"/>
          <p:cNvCxnSpPr/>
          <p:nvPr/>
        </p:nvCxnSpPr>
        <p:spPr>
          <a:xfrm flipH="1" flipV="1" rot="5400000">
            <a:off x="3949200" y="2529720"/>
            <a:ext cx="465840" cy="777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Oval 25"/>
          <p:cNvSpPr/>
          <p:nvPr/>
        </p:nvSpPr>
        <p:spPr>
          <a:xfrm>
            <a:off x="3956040" y="2516040"/>
            <a:ext cx="311040" cy="311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AutoShape 57"/>
          <p:cNvCxnSpPr/>
          <p:nvPr/>
        </p:nvCxnSpPr>
        <p:spPr>
          <a:xfrm flipH="1" rot="16200000">
            <a:off x="3999600" y="3949200"/>
            <a:ext cx="363960" cy="7772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Oval 25"/>
          <p:cNvSpPr/>
          <p:nvPr/>
        </p:nvSpPr>
        <p:spPr>
          <a:xfrm>
            <a:off x="3956040" y="435456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4649760" y="3995640"/>
            <a:ext cx="3213000" cy="1038240"/>
          </a:xfrm>
          <a:prstGeom prst="rect">
            <a:avLst/>
          </a:prstGeom>
          <a:solidFill>
            <a:srgbClr val="d6eaf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 (Plac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1 q3wks + BSC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 = 222)*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of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5960" y="1763640"/>
          <a:ext cx="8391600" cy="3921120"/>
        </p:xfrm>
        <a:graphic>
          <a:graphicData uri="http://schemas.openxmlformats.org/drawingml/2006/table">
            <a:tbl>
              <a:tblPr/>
              <a:tblGrid>
                <a:gridCol w="3679920"/>
                <a:gridCol w="1381320"/>
                <a:gridCol w="1346040"/>
                <a:gridCol w="777960"/>
                <a:gridCol w="1206360"/>
              </a:tblGrid>
              <a:tr h="47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f5d"/>
                          </a:solidFill>
                          <a:latin typeface="Verdana"/>
                        </a:rPr>
                        <a:t>Efficacy Paramet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e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la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107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ession-free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squamous (n=481)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Squamous (n=1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3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mo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3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all surviv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Nonsquamous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Squamou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4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5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9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6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3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8 mo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7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Select Grade 3/4 A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ig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1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peni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—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PFS and OS benefit was demonstrated with pemetrexed maintenance therapy in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squamous histology was predictive of improved PFS and OS benefit with pemetrexed maintenanc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verall rate of drug-related grade 3 or 4 AEs, including neutropenia and fatigue, was higher in the pemetrexed a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eatment discontinuation due to drug-related toxic effects was higher in pemetrexed arm (data not shown, 5% vs 1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metrexed maintenance therapy may be a new treatment option for patients with advanced nonsquamous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41440" y="6207120"/>
            <a:ext cx="51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iuleanu T et al.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Lancet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2009;374(9699):1432-40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Office 2004 Test Drive User</cp:lastModifiedBy>
  <cp:lastPrinted>2009-10-13T12:23:39Z</cp:lastPrinted>
  <dcterms:modified xsi:type="dcterms:W3CDTF">2009-12-03T20:20:57Z</dcterms:modified>
  <cp:revision>195</cp:revision>
  <dc:subject/>
  <dc:title>Main Title Slide — Always use  Title Case on Slide Titles</dc:title>
</cp:coreProperties>
</file>