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272F-FF69-4391-841A-D48D5C7B1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03A5-38E0-4BB2-AD50-8D5D313C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FC9A-707F-4A32-94B0-04CFBDD2D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8564-0FEE-4A74-AD20-F616ADBDE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6303C-2B00-4D7F-B036-094C295E8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76C57-7AB5-4880-8F10-9990C739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E5556-E468-499C-937F-4E1BA7790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4229F-C7A9-48ED-B292-D4CA247AC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2D03C-4A94-42AC-92B8-F851EC763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0C2BA-6B5A-4E21-8258-B74D75BAA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70EB1-0687-4AC1-94AC-B4843F31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4C91-B029-47B6-8A69-7F86EBC1F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3A977-B611-48BF-8157-903AC41E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84888-4DB4-4A79-920A-8CB3F9E5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52629-1977-4189-B1D7-A2BAF8BBE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8ED28-6CD9-403B-807D-AEBB730FF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F3D67-7A12-40F2-B375-5A5CE7A01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5908-5F7B-431C-B00A-13A683721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3EE9-D937-4C58-BF01-B08AEC492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576A-7E25-4904-90CB-78DDFE067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3415-0CCD-4B7E-B3CB-18E698D83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51DB-4BC6-4D9E-8B15-82E08BBC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E044-1F64-4F48-A387-B31CE387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5529-7DE9-4B4B-A1F7-5A6FFEA6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144468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65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04F8E-43A9-44DC-AA16-6CC690F77F67}" type="slidenum">
              <a:rPr b="0" lang="en-GB" sz="1400" spc="-1" strike="noStrike">
                <a:solidFill>
                  <a:srgbClr val="ff65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0"/>
            <a:ext cx="9144000" cy="436896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B2588-7488-4C2C-93AD-8D5695555E5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167760"/>
            <a:ext cx="7772400" cy="413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etuximab plus Chemotherapy in Patients with Advanced Non-Small-Cell Lung Cancer (FLEX): An Open-Label Randomised Phase III Trial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10920" y="4313160"/>
            <a:ext cx="7769160" cy="25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25b"/>
                </a:solidFill>
                <a:latin typeface="Verdana"/>
              </a:rPr>
              <a:t>Pirker R et 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325b"/>
                </a:solidFill>
                <a:latin typeface="Verdana"/>
              </a:rPr>
              <a:t>Lancet</a:t>
            </a:r>
            <a:r>
              <a:rPr b="0" lang="en-US" sz="2500" spc="-1" strike="noStrike">
                <a:solidFill>
                  <a:srgbClr val="00325b"/>
                </a:solidFill>
                <a:latin typeface="Verdana"/>
              </a:rPr>
              <a:t> 2009;373(9674):1525-31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533160" y="6207120"/>
            <a:ext cx="4940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: Pirker R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Lancet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2009;373(9674):1525-31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74480" y="1608120"/>
            <a:ext cx="8304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rgeted drugs added to chemotherapy may improve the survival of patients with non-small-cell lung cancer (NSCLC)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JC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2007;117(10):2740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hase II trial in patients with advanced, EGFR-positive NSCLC suggested that the addition of cetuximab to cisplatin/vinorelbine (CV) improved survival and increased the response rate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nn Onco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2008;19(2):362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urrent study objectiv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 the efficacy and safety of cetuximab added to CV chemotherapy in the first-line in patients with advanced EGFR-positive NSCL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Line 63"/>
          <p:cNvSpPr/>
          <p:nvPr/>
        </p:nvSpPr>
        <p:spPr>
          <a:xfrm flipV="1">
            <a:off x="4559400" y="2422440"/>
            <a:ext cx="672840" cy="1006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Line 64"/>
          <p:cNvSpPr/>
          <p:nvPr/>
        </p:nvSpPr>
        <p:spPr>
          <a:xfrm>
            <a:off x="4557600" y="3817800"/>
            <a:ext cx="677880" cy="82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533160" y="6207120"/>
            <a:ext cx="4940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: Pirker R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Lancet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2009;373(9674):1525-31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Phase III Randomized Trial of First-Line Cetuximab plus CV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Line 17"/>
          <p:cNvSpPr/>
          <p:nvPr/>
        </p:nvSpPr>
        <p:spPr>
          <a:xfrm>
            <a:off x="5238720" y="2755800"/>
            <a:ext cx="47520" cy="231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Line 18"/>
          <p:cNvSpPr/>
          <p:nvPr/>
        </p:nvSpPr>
        <p:spPr>
          <a:xfrm flipV="1">
            <a:off x="4962600" y="4140000"/>
            <a:ext cx="228600" cy="12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00120" y="1576440"/>
          <a:ext cx="3759120" cy="3659040"/>
        </p:xfrm>
        <a:graphic>
          <a:graphicData uri="http://schemas.openxmlformats.org/drawingml/2006/table">
            <a:tbl>
              <a:tblPr/>
              <a:tblGrid>
                <a:gridCol w="3759120"/>
              </a:tblGrid>
              <a:tr h="458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Eligibility (n=1,125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6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vanced (stage wet IIIb/IV) NSCLC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6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GFR-expression positive by IHC (≥1 positive tumor cell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6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l histologic subtypes allowe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6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prior treatment with chemo or EGFR-targeted drugs or antibodie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6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CNS metastase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Oval 19"/>
          <p:cNvSpPr/>
          <p:nvPr/>
        </p:nvSpPr>
        <p:spPr>
          <a:xfrm>
            <a:off x="4046400" y="3127320"/>
            <a:ext cx="1005120" cy="100332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52"/>
          <p:cNvSpPr/>
          <p:nvPr/>
        </p:nvSpPr>
        <p:spPr>
          <a:xfrm>
            <a:off x="5286240" y="1603440"/>
            <a:ext cx="2984760" cy="1185840"/>
          </a:xfrm>
          <a:prstGeom prst="rect">
            <a:avLst/>
          </a:prstGeom>
          <a:solidFill>
            <a:srgbClr val="d6ea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C (80 mg/m</a:t>
            </a:r>
            <a:r>
              <a:rPr b="1" lang="en-US" sz="17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) +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V (25 mg/m</a:t>
            </a:r>
            <a:r>
              <a:rPr b="1" lang="en-US" sz="17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)*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q3wk x 6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(n=568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54"/>
          <p:cNvSpPr/>
          <p:nvPr/>
        </p:nvSpPr>
        <p:spPr>
          <a:xfrm>
            <a:off x="5273640" y="3933720"/>
            <a:ext cx="3598920" cy="1278000"/>
          </a:xfrm>
          <a:prstGeom prst="rect">
            <a:avLst/>
          </a:prstGeom>
          <a:solidFill>
            <a:srgbClr val="d6ea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Cetuximab (400 mg/m</a:t>
            </a:r>
            <a:r>
              <a:rPr b="1" lang="en-US" sz="17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d1, then 250 mg/m</a:t>
            </a:r>
            <a:r>
              <a:rPr b="1" lang="en-US" sz="17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 q1wk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+ CV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(n=557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55"/>
          <p:cNvSpPr/>
          <p:nvPr/>
        </p:nvSpPr>
        <p:spPr>
          <a:xfrm>
            <a:off x="5466240" y="2803680"/>
            <a:ext cx="30564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*Protocol amended, dose reduce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from 30 mg/m</a:t>
            </a:r>
            <a:r>
              <a:rPr b="0" i="1" lang="en-US" sz="15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 due to grade 3/4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neutropeni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56"/>
          <p:cNvSpPr/>
          <p:nvPr/>
        </p:nvSpPr>
        <p:spPr>
          <a:xfrm>
            <a:off x="596880" y="5445000"/>
            <a:ext cx="723420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Cetuximab treatment continued after chemotherapy until disease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progression or unacceptable toxicity occurred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200" y="-360"/>
            <a:ext cx="7769160" cy="135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Efficacy Results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533160" y="6207120"/>
            <a:ext cx="4940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: Pirker R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Lancet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2009;373(9674):1525-31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91960" y="1763640"/>
          <a:ext cx="8556840" cy="3211560"/>
        </p:xfrm>
        <a:graphic>
          <a:graphicData uri="http://schemas.openxmlformats.org/drawingml/2006/table">
            <a:tbl>
              <a:tblPr/>
              <a:tblGrid>
                <a:gridCol w="2535480"/>
                <a:gridCol w="1528560"/>
                <a:gridCol w="1246320"/>
                <a:gridCol w="2270160"/>
                <a:gridCol w="976320"/>
              </a:tblGrid>
              <a:tr h="818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2f5d"/>
                          </a:solidFill>
                          <a:latin typeface="Verdana"/>
                        </a:rPr>
                        <a:t>Efficacy Parameter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Cetux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+ CV (n=557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CV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(n=568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HR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(95% CI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P</a:t>
                      </a: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-valu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</a:tr>
              <a:tr h="144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 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All patient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Nonsquamou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Squamou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.3 m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.0 m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.2 m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.1 m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.3 m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.9 m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87 (0.76-1.00)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94 (0.77-1.55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80 (0.64-1.00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44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 PF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8 m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8 m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94 (0.83-1.08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39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R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—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10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7" name="Rectangle 265"/>
          <p:cNvSpPr/>
          <p:nvPr/>
        </p:nvSpPr>
        <p:spPr>
          <a:xfrm>
            <a:off x="1288080" y="5267160"/>
            <a:ext cx="64566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HR = hazard ratio; OS = overall survival; PFS = progression-free survival; </a:t>
            </a:r>
            <a:br>
              <a:rPr sz="1500"/>
            </a:b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ORR = overall response rat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Summary and Conclusions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addition of cetuximab improved the efficacy of first-line platinum-based chemotherapy in the treatment of EGFR-positive advanced NSCL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S was prolonged across all histological sub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mor response rates were incre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FS, however, was unchang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afety profile consistent with known patterns of side effects for individual treatment agents (data not shown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in cetuximab-related adverse event was acne-like rash (10%, grade 3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gh rate of febrile neutropenia observed (22%, grade 3/4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533160" y="6207120"/>
            <a:ext cx="4940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: Pirker R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Lancet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2009;373(9674):1525-31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01:19:04Z</dcterms:created>
  <dc:creator>Fernando G Rendina </dc:creator>
  <dc:description/>
  <cp:keywords/>
  <dc:language>en-US</dc:language>
  <cp:lastModifiedBy>Office 2004 Test Drive User</cp:lastModifiedBy>
  <cp:lastPrinted>2009-10-20T12:55:15Z</cp:lastPrinted>
  <dcterms:modified xsi:type="dcterms:W3CDTF">2009-12-03T20:08:01Z</dcterms:modified>
  <cp:revision>185</cp:revision>
  <dc:subject/>
  <dc:title>Main Title Slide — Always use  Title Case on Slide Titles</dc:title>
</cp:coreProperties>
</file>