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FCB4-94D1-46BD-AB17-EBB794613E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old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D01D-9D55-4E6F-9677-B5B0DF40F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E782-8EC2-44AF-8D08-ED7FF1A0D3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1E8C-9F75-4F36-A9F9-9B8CEB79D47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5104-60EC-45A9-8682-F527B53CAF94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90D5-EB20-48A7-A4BA-E6AE551C9E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6FE0-6633-43A8-AACE-37854ADF2C67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A5B8-11EC-415B-A0E1-43ADE5DC829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1840" y="701640"/>
            <a:ext cx="4581720" cy="3436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21960" y="4349880"/>
            <a:ext cx="5000760" cy="414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95CD-CFF3-4BDE-8DFC-BD92BA5C03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FB83-56F9-4316-8C7A-F09EA5C6C1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DF3E-4305-4BF2-BE7B-462B9D0234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5029-9BA2-4E88-BB2E-9EA347F95B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7662-BF10-451E-84B2-ABC2C2BD9F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BD3E-54F1-4123-8130-F5591DD883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7738-9213-482C-9D95-14223C014F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9C64-6997-43E8-BAF6-CBDDD27EBE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DBD1-CC86-4224-9E37-48D21B20EF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BD40-440A-4A8F-BA8A-0BE31D0F21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1BE2-F42C-4C02-9337-69339B85FD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DB6E-59B5-4819-AD97-2935A6DB7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0615-78F7-4A84-ADF0-0EAB07A0F6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4AC9-997D-42D8-8034-2683012161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F466-271F-437A-9A51-5EB28826FE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6E7-09BB-482C-8F35-817DCF2A12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E7EC-59BB-46CA-A4F9-BE22B2FC4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6077-B035-4016-B909-6AC3BCCE14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784A-9EF1-44DC-9284-A6D15AA3EF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A4BC-31D6-429F-ACDF-026E603DD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EF72-4E6A-4DCC-90EF-24364BC0945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3992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3992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3992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6" descr="RTP09_SlideBackground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8"/>
          <p:cNvSpPr/>
          <p:nvPr/>
        </p:nvSpPr>
        <p:spPr>
          <a:xfrm>
            <a:off x="2840040" y="6505560"/>
            <a:ext cx="599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d65a8"/>
                </a:solidFill>
                <a:latin typeface="Arial"/>
                <a:ea typeface="ＭＳ Ｐゴシック"/>
              </a:rPr>
              <a:t>Copyright © 2011 Research To Practice. All rights reserved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cde7f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Non-Hodgkin Lymph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464000" y="5105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llie Moran, MSN, CNP, AOC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tchell R Smith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221120" y="51055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ry Deng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y Goodrich, CRNP-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Indications for CNS prophylaxis in DLBCL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Paranasal sinus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Testicular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Epidural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Bone marrow with large cell lymphoma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HIV lymphoma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≥ </a:t>
            </a:r>
            <a:r>
              <a:rPr b="0" lang="en-US" sz="2600" spc="-1" strike="noStrike">
                <a:solidFill>
                  <a:srgbClr val="cde7f3"/>
                </a:solidFill>
                <a:latin typeface="Arial"/>
              </a:rPr>
              <a:t>2 extranodal sites</a:t>
            </a: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Complications of Intrathecal Chemotherapy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cu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-265680"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Headache, nuchal rigidity, back pain, vomiting, fever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18960" indent="-318960"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Subacu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-265680"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Paraplegia, seizures, cranial nerve palsy, coma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18960" indent="-318960"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Late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690840" indent="-265680"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Leukoencephalopath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371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Hepatitis B Screening in Patients Receiving </a:t>
            </a:r>
            <a:br>
              <a:rPr sz="2500"/>
            </a:br>
            <a:r>
              <a:rPr b="1" lang="en-US" sz="2500" spc="-1" strike="noStrike">
                <a:solidFill>
                  <a:srgbClr val="efc53d"/>
                </a:solidFill>
                <a:latin typeface="Arial"/>
              </a:rPr>
              <a:t>Anti-CD20 Antibody (Rituximab)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No risk factors: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Hepatitis B surface antigen and core antibody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Risk factors or prior history of hepatitis B: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Add e-antigen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de7f3"/>
                </a:solidFill>
                <a:latin typeface="Arial"/>
              </a:rPr>
              <a:t>If positive, check viral load and consult with gastroenterologist</a:t>
            </a:r>
            <a:endParaRPr b="0" lang="en-US" sz="25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31120" y="6019920"/>
            <a:ext cx="791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CCN Clinical Practice Guidelines in Oncology, Non-Hodgkin’s Lymphomas, v2.201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152280" y="6445080"/>
            <a:ext cx="46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lesh OG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28(2):292-98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5" descr="1"/>
          <p:cNvPicPr/>
          <p:nvPr/>
        </p:nvPicPr>
        <p:blipFill>
          <a:blip r:embed="rId1"/>
          <a:stretch/>
        </p:blipFill>
        <p:spPr>
          <a:xfrm>
            <a:off x="304920" y="1752480"/>
            <a:ext cx="8610480" cy="3256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52280" y="6445080"/>
            <a:ext cx="468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lesh OG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J 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10;28(2):292-98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33520" y="1279440"/>
            <a:ext cx="7924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edc744"/>
                </a:solidFill>
                <a:latin typeface="Arial"/>
              </a:rPr>
              <a:t>Insomnia Symptoms After First Cycle of Chemotherapy (N = 823) vs General Populatio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105520" y="24382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omnia meeting clinical crite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insomnia sympto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2666880" y="5715000"/>
            <a:ext cx="2362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ancer Patient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876920" y="5715000"/>
            <a:ext cx="2361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eneral Populatio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0" y="327672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somnia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ptoms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11" descr="ONS_NHL_Palesh_Slide24"/>
          <p:cNvPicPr/>
          <p:nvPr/>
        </p:nvPicPr>
        <p:blipFill>
          <a:blip r:embed="rId1"/>
          <a:stretch/>
        </p:blipFill>
        <p:spPr>
          <a:xfrm>
            <a:off x="2590920" y="2484360"/>
            <a:ext cx="4640040" cy="32306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2"/>
          <p:cNvSpPr/>
          <p:nvPr/>
        </p:nvSpPr>
        <p:spPr>
          <a:xfrm>
            <a:off x="4952880" y="2514600"/>
            <a:ext cx="152640" cy="152280"/>
          </a:xfrm>
          <a:prstGeom prst="rect">
            <a:avLst/>
          </a:prstGeom>
          <a:solidFill>
            <a:srgbClr val="1128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70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676520" y="2362320"/>
            <a:ext cx="91440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1"/>
          <p:cNvPicPr/>
          <p:nvPr/>
        </p:nvPicPr>
        <p:blipFill>
          <a:blip r:embed="rId1"/>
          <a:stretch/>
        </p:blipFill>
        <p:spPr>
          <a:xfrm>
            <a:off x="228600" y="1706400"/>
            <a:ext cx="8763120" cy="4008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45" name="Rectangle 6"/>
          <p:cNvSpPr/>
          <p:nvPr/>
        </p:nvSpPr>
        <p:spPr>
          <a:xfrm>
            <a:off x="191160" y="6416640"/>
            <a:ext cx="416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hen L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nc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4;100(10):2253-60.</a:t>
            </a:r>
            <a:r>
              <a:rPr b="0" lang="en-US" sz="2400" spc="-1" strike="noStrike">
                <a:solidFill>
                  <a:srgbClr val="e6852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7"/>
          <p:cNvSpPr/>
          <p:nvPr/>
        </p:nvSpPr>
        <p:spPr>
          <a:xfrm>
            <a:off x="4042800" y="4667400"/>
            <a:ext cx="114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Facul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406680" y="3962520"/>
            <a:ext cx="232884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Moderat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il Love, M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04920" y="13716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Real-Life Oncology</a:t>
            </a:r>
            <a:br>
              <a:rPr sz="2800"/>
            </a:br>
            <a:br>
              <a:rPr sz="1400"/>
            </a:br>
            <a:r>
              <a:rPr b="1" lang="en-US" sz="2000" spc="-1" strike="noStrike">
                <a:solidFill>
                  <a:srgbClr val="efc53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c53d"/>
                </a:solidFill>
                <a:latin typeface="Arial"/>
                <a:ea typeface="ＭＳ Ｐゴシック"/>
              </a:rPr>
              <a:t>Case-Based Discussions on the Biopsychosocial Management of Patients with Non-Hodgkin Lymphoma</a:t>
            </a:r>
            <a:br>
              <a:rPr sz="2400"/>
            </a:br>
            <a:br>
              <a:rPr sz="1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Friday, April 29, 2011</a:t>
            </a:r>
            <a:br>
              <a:rPr sz="2400"/>
            </a:br>
            <a:r>
              <a:rPr b="1" lang="en-US" sz="2400" spc="-1" strike="noStrike">
                <a:solidFill>
                  <a:srgbClr val="bbe0e3"/>
                </a:solidFill>
                <a:latin typeface="Arial"/>
                <a:ea typeface="ＭＳ Ｐゴシック"/>
              </a:rPr>
              <a:t>Boston, Massachuse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4464000" y="51055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ollie Moran, MSN, CNP, AOCN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tchell R Smith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21120" y="5105520"/>
            <a:ext cx="29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ary Deng, MD, Ph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my Goodrich, CRNP-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83988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c53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9880" y="1981080"/>
          <a:ext cx="8304120" cy="2824200"/>
        </p:xfrm>
        <a:graphic>
          <a:graphicData uri="http://schemas.openxmlformats.org/drawingml/2006/table">
            <a:tbl>
              <a:tblPr/>
              <a:tblGrid>
                <a:gridCol w="830412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1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Diffuse Large B-Cell Lymphoma (DLBCL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2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Follicular Lymphoma (FL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3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Mantle-Cell Lymphoma (MCL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300" spc="-1" strike="noStrike">
                          <a:solidFill>
                            <a:srgbClr val="efc53d"/>
                          </a:solidFill>
                          <a:latin typeface="Arial"/>
                        </a:rPr>
                        <a:t>Case 4:</a:t>
                      </a:r>
                      <a:r>
                        <a:rPr b="0" i="1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cde7f3"/>
                          </a:solidFill>
                          <a:latin typeface="Arial"/>
                        </a:rPr>
                        <a:t>Chronic Lymphocytic Leukemia (CLL)</a:t>
                      </a:r>
                      <a:endParaRPr b="0" lang="en-US" sz="2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c53d"/>
                </a:solidFill>
                <a:latin typeface="Arial"/>
              </a:rPr>
              <a:t>Case 1 (Ms Mora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66 yo man with syncope, leg pain and a 10- x 6-cm mass identified in the right thigh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Biopsy = DLBCL with BM involvemen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Workup: CNS-negative but thrombosis posterior to leg mass, bilateral small PE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IVC filter placed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Disease in multiple nodes and skeleton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tandard R-CHOP and IT methotrexat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ransient cranial nerve palsies, now resolved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Interim PET/CT = response </a:t>
            </a:r>
            <a:r>
              <a:rPr b="0" lang="en-US" sz="2400" spc="-1" strike="noStrike">
                <a:solidFill>
                  <a:srgbClr val="cde7f3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 CR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Experienced Rx-related stress and depression, with sleep disturbance, irritability and mood swing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3894120" cy="3441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449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1319040" y="1295280"/>
            <a:ext cx="65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c744"/>
                </a:solidFill>
                <a:latin typeface="Arial"/>
              </a:rPr>
              <a:t>PET Scan Staging R Thigh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2406600" y="1219320"/>
            <a:ext cx="43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c744"/>
                </a:solidFill>
                <a:latin typeface="Arial"/>
              </a:rPr>
              <a:t>PET Scan Staging Right Ili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029200" cy="434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2518560" y="121932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c744"/>
                </a:solidFill>
                <a:latin typeface="Arial"/>
              </a:rPr>
              <a:t>PET Scan Staging Ster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2055960" y="1827360"/>
            <a:ext cx="5027400" cy="4425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104200" y="121932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c744"/>
                </a:solidFill>
                <a:latin typeface="Arial"/>
              </a:rPr>
              <a:t>PET Scan Staging Right Scap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395748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fc53d"/>
                </a:solidFill>
                <a:latin typeface="Arial"/>
              </a:rPr>
              <a:t>Sites of Extranodal Involvement in NHL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Stomach, GI tract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Testis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Bone marrow/bone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de7f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e7f3"/>
                </a:solidFill>
                <a:latin typeface="Arial"/>
              </a:rPr>
              <a:t>Liver</a:t>
            </a:r>
            <a:endParaRPr b="0" lang="en-US" sz="2400" spc="-1" strike="noStrike">
              <a:solidFill>
                <a:srgbClr val="cde7f3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72160" y="6019920"/>
            <a:ext cx="574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pez-Guillermo A et al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. J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lin Onco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2005;23(12):2797-2804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Line 12"/>
          <p:cNvSpPr/>
          <p:nvPr/>
        </p:nvSpPr>
        <p:spPr>
          <a:xfrm>
            <a:off x="3392640" y="4110120"/>
            <a:ext cx="353520" cy="2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564160" y="6400800"/>
            <a:ext cx="3305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6975360" y="4272120"/>
            <a:ext cx="1371600" cy="13716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-C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6975360" y="2443320"/>
            <a:ext cx="1371600" cy="1371600"/>
          </a:xfrm>
          <a:prstGeom prst="rect">
            <a:avLst/>
          </a:prstGeom>
          <a:solidFill>
            <a:srgbClr val="0d65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-I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04920" y="6096600"/>
            <a:ext cx="83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ClinicalTrials.gov,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ril 2011; Horning SJ et al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loo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0;115(4):775-7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38080" y="3505320"/>
          <a:ext cx="2559240" cy="1150920"/>
        </p:xfrm>
        <a:graphic>
          <a:graphicData uri="http://schemas.openxmlformats.org/drawingml/2006/table">
            <a:tbl>
              <a:tblPr/>
              <a:tblGrid>
                <a:gridCol w="2559240"/>
              </a:tblGrid>
              <a:tr h="38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igibility Criteria 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76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lky Stage II or Stage III/IV DLBC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18"/>
          <p:cNvSpPr/>
          <p:nvPr/>
        </p:nvSpPr>
        <p:spPr>
          <a:xfrm>
            <a:off x="818640" y="302724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arget Accrual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ECOG-E3404: Response-Adapted Therapy for Aggressive NHL Based on Early PET Scanni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9880" y="3505320"/>
          <a:ext cx="1295640" cy="116676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116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-CHOP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to 4 Cyc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5562720" y="3605040"/>
          <a:ext cx="914400" cy="91440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AN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c51"/>
                    </a:solidFill>
                  </a:tcPr>
                </a:tc>
              </a:tr>
            </a:tbl>
          </a:graphicData>
        </a:graphic>
      </p:graphicFrame>
      <p:sp>
        <p:nvSpPr>
          <p:cNvPr id="118" name="Line 12"/>
          <p:cNvSpPr/>
          <p:nvPr/>
        </p:nvSpPr>
        <p:spPr>
          <a:xfrm>
            <a:off x="5116680" y="4087800"/>
            <a:ext cx="353520" cy="2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6017400" y="3140280"/>
            <a:ext cx="804960" cy="5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56"/>
          <p:cNvSpPr/>
          <p:nvPr/>
        </p:nvSpPr>
        <p:spPr>
          <a:xfrm>
            <a:off x="6018120" y="31291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6016680" y="4961160"/>
            <a:ext cx="762120" cy="5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8"/>
          <p:cNvSpPr/>
          <p:nvPr/>
        </p:nvSpPr>
        <p:spPr>
          <a:xfrm>
            <a:off x="6018120" y="451944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873760" y="3224160"/>
            <a:ext cx="274680" cy="274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25"/>
          <p:cNvSpPr/>
          <p:nvPr/>
        </p:nvSpPr>
        <p:spPr>
          <a:xfrm>
            <a:off x="5873760" y="4595760"/>
            <a:ext cx="274680" cy="2746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21:39:11Z</dcterms:created>
  <dc:creator>Research To Practice</dc:creator>
  <dc:description/>
  <cp:keywords/>
  <dc:language>en-US</dc:language>
  <cp:lastModifiedBy>Aura Herrmann</cp:lastModifiedBy>
  <cp:lastPrinted>2011-04-26T15:32:31Z</cp:lastPrinted>
  <dcterms:modified xsi:type="dcterms:W3CDTF">2011-08-11T22:04:27Z</dcterms:modified>
  <cp:revision>342</cp:revision>
  <dc:subject/>
  <dc:title>PowerPoint Presentation</dc:title>
</cp:coreProperties>
</file>