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C3F8-3A1D-4CC7-98F1-036A7F2872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7B3E-B513-4E9D-AB91-48FA0C85A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6E2D-1B80-44F1-AC4F-CB1682DBC0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6D82-54FD-4D83-89B8-2AEF897783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44DF-BAEF-43EE-B440-A1EA10B116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A758-8EFF-48A7-AE8E-223A48AB9D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1A4E-E397-47F4-831D-AA1A40F31DA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02CA-3976-4BD0-BFFF-8D35EF249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0724-21A5-4A80-A3DC-228B5D787D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390D-43D2-4C17-8F85-D95091CE57F3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B881-0DD5-4FC2-AFCD-93F4A3B139C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3918-20C9-4313-A8B7-F642B7E3EA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8407-5BA1-4E79-BAE0-07009BA8073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DA63-CD1A-44FC-AFA9-EECF21882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F7AC-DB87-4C8E-8255-8383321BF9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0FEF-B027-4B9F-A573-AB172C332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2720-DF7B-48CB-943B-C100298159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28C7-563D-4228-8178-A531A858A0E8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2F05-7480-45AD-96C0-F75B68366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222B-1792-447C-8AA9-13D019B073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2746-533C-41DA-B09F-4A3D1B758E1E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4E69-BDA3-4908-B2FC-E35EB3703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386E-6956-4AEF-8AC4-DDAEF1BA7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8600-35A0-46BA-9105-5B1BA1914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529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e7f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52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cbb1e"/>
                </a:solidFill>
                <a:latin typeface="Arial"/>
              </a:rPr>
              <a:t>Case 2 (Ms Goodrich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43 yo man with Stage IIA Grade I FL dx’d 2009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Initially observed but soon new bulky nodes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 monotherapy x 4 wkly cycles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excellent PR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rogression in Feb 2010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R/bendamustine </a:t>
            </a:r>
            <a:br>
              <a:rPr sz="2500"/>
            </a:b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x 6 cycles </a:t>
            </a:r>
            <a:r>
              <a:rPr b="0" lang="en-US" sz="25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 excellent PR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ubstantial N/V controlled with antiemetic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ontinues on R maintenance q 2 mos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amily member with ? re: CAM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atient is a binge alcohol drinker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440" y="21333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37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cbb1e"/>
                </a:solidFill>
                <a:latin typeface="Arial"/>
              </a:rPr>
              <a:t>Two years of treatment: every 8 weeks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137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cbb1e"/>
                </a:solidFill>
                <a:latin typeface="Arial"/>
              </a:rPr>
              <a:t>3-year progression-free survival</a:t>
            </a:r>
            <a:r>
              <a:rPr b="0" lang="en-US" sz="2600" spc="-1" strike="noStrike">
                <a:solidFill>
                  <a:srgbClr val="9cb52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0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bbe0e3"/>
                </a:solidFill>
                <a:latin typeface="Arial"/>
              </a:rPr>
              <a:t>R maintenance: 79%   Control: 60%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137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cbb1e"/>
                </a:solidFill>
                <a:latin typeface="Arial"/>
              </a:rPr>
              <a:t>Gr 3-4 infection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0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R maintenance: 4%     Control: 1%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spcBef>
                <a:spcPts val="1137"/>
              </a:spcBef>
              <a:buClr>
                <a:srgbClr val="ecb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cbb1e"/>
                </a:solidFill>
                <a:latin typeface="Arial"/>
              </a:rPr>
              <a:t>Treatment discontinued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0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R maintenance: 4%     Control: 2%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85800" y="1066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Rituximab Maintenance After R-Chemo: PRIMA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027"/>
          <p:cNvSpPr/>
          <p:nvPr/>
        </p:nvSpPr>
        <p:spPr>
          <a:xfrm>
            <a:off x="182520" y="6445080"/>
            <a:ext cx="749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alles GA et al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Proc AS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2010;Abstract 1788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efc53d"/>
                </a:solidFill>
                <a:latin typeface="Arial"/>
              </a:rPr>
              <a:t>Clinical Decision-Making Based on Risk versus Efficacy: Implications for Complementary Medicine Approaches</a:t>
            </a:r>
            <a:endParaRPr b="0" lang="en-US" sz="2100" spc="-1" strike="noStrike">
              <a:solidFill>
                <a:srgbClr val="cde7f3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52480" y="2133720"/>
          <a:ext cx="5867640" cy="351468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17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Safe but efficacy inconclusiv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Tolerate, encourage caution, closely monitor effectivenes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Safe and efficaciou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Recommend and continue to monitor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Not efficacious and with serious risk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Avoid and actively discourag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Efficacious but safety inconclusive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Consider tolerating, encourage caution, closely monitor safety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4"/>
          <p:cNvSpPr/>
          <p:nvPr/>
        </p:nvSpPr>
        <p:spPr>
          <a:xfrm>
            <a:off x="228600" y="373392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3886560" y="5943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1241280" y="53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7"/>
          <p:cNvSpPr/>
          <p:nvPr/>
        </p:nvSpPr>
        <p:spPr>
          <a:xfrm flipV="1">
            <a:off x="1295280" y="24382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1752480" y="594360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8"/>
          <p:cNvSpPr/>
          <p:nvPr/>
        </p:nvSpPr>
        <p:spPr>
          <a:xfrm>
            <a:off x="304920" y="3049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Patient Checklist of Supplements Being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ONS_NHL_PatientSuppList_S3"/>
          <p:cNvPicPr/>
          <p:nvPr/>
        </p:nvPicPr>
        <p:blipFill>
          <a:blip r:embed="rId1"/>
          <a:srcRect l="0" t="0" r="335" b="0"/>
          <a:stretch/>
        </p:blipFill>
        <p:spPr>
          <a:xfrm>
            <a:off x="1828800" y="1085760"/>
            <a:ext cx="5659560" cy="531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Case-Based Discussions on the Biopsychosocial Management of Patients with Non-Hodgkin Lymphom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Friday, April 29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ＭＳ Ｐゴシック"/>
              </a:rPr>
              <a:t>Boston, Massachuse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464000" y="5105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llie Moran, MSN, CNP, AOCN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tchell R Smith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221120" y="510552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ry Deng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y Goodrich, CRNP-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Clinical Decision-Making Based on Risk versus Efficacy: Implications for Complementary Medicine Approaches</a:t>
            </a:r>
            <a:endParaRPr b="0" lang="en-US" sz="2000" spc="-1" strike="noStrike">
              <a:solidFill>
                <a:srgbClr val="cde7f3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52480" y="2133720"/>
          <a:ext cx="5867640" cy="3403440"/>
        </p:xfrm>
        <a:graphic>
          <a:graphicData uri="http://schemas.openxmlformats.org/drawingml/2006/table">
            <a:tbl>
              <a:tblPr/>
              <a:tblGrid>
                <a:gridCol w="2934000"/>
                <a:gridCol w="2933640"/>
              </a:tblGrid>
              <a:tr h="17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Safe but efficacy inconclu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ＭＳ Ｐゴシック"/>
                        </a:rPr>
                        <a:t>Tolerate, encourage caution, closely monitor effectiven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Safe and efficacio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ＭＳ Ｐゴシック"/>
                        </a:rPr>
                        <a:t>Recommend and continue to moni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Not efficacious and with serious ris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ＭＳ Ｐゴシック"/>
                        </a:rPr>
                        <a:t>Avoid and actively discour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Efficacious but safety inconclus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de7f3"/>
                          </a:solidFill>
                          <a:latin typeface="Arial"/>
                          <a:ea typeface="ＭＳ Ｐゴシック"/>
                        </a:rPr>
                        <a:t>Consider tolerating, encourage caution, closely monitor safe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Rectangle 14"/>
          <p:cNvSpPr/>
          <p:nvPr/>
        </p:nvSpPr>
        <p:spPr>
          <a:xfrm>
            <a:off x="228600" y="373392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886560" y="5943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ffica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1241280" y="53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 flipV="1">
            <a:off x="1295280" y="24382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1752480" y="594360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1"/>
          <p:cNvPicPr/>
          <p:nvPr/>
        </p:nvPicPr>
        <p:blipFill>
          <a:blip r:embed="rId1"/>
          <a:stretch/>
        </p:blipFill>
        <p:spPr>
          <a:xfrm>
            <a:off x="1371600" y="1360440"/>
            <a:ext cx="6324480" cy="4735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90" name="Rectangle 5"/>
          <p:cNvSpPr/>
          <p:nvPr/>
        </p:nvSpPr>
        <p:spPr>
          <a:xfrm>
            <a:off x="176760" y="6445080"/>
            <a:ext cx="43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deshna KM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roc AS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Abstract 6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447920" y="1665360"/>
            <a:ext cx="6172200" cy="13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 Intergroup Randomised Trial of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ituximab vs a Watch &amp; Wait Approach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Patients with Advanced Stage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ymptomatic, Non-Bulky Follicular Lymphom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447920" y="3189240"/>
            <a:ext cx="6172200" cy="5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Kirit M Ardeshn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, Paul Smith, Wendi Qian, June Warden, Lindsey Steven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ristopher FE Pocock, Fiona Miall, David Cunningham, John Davies, Andrew Jack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an Walewski, A Burhan Ferhanoglu, Ken Bradstock and David C Linch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8" descr="ONS_NHL_Ardeshna_Slide19"/>
          <p:cNvPicPr/>
          <p:nvPr/>
        </p:nvPicPr>
        <p:blipFill>
          <a:blip r:embed="rId1"/>
          <a:stretch/>
        </p:blipFill>
        <p:spPr>
          <a:xfrm>
            <a:off x="2438280" y="2198520"/>
            <a:ext cx="5715000" cy="3148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171360" y="626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80880" y="990720"/>
            <a:ext cx="5715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Time to Initiation of New Therap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04920" y="6095880"/>
            <a:ext cx="754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ith permission from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Verdana"/>
              </a:rPr>
              <a:t>Ardeshna KM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Verdana"/>
              </a:rPr>
              <a:t>Proc ASH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Verdana"/>
              </a:rPr>
              <a:t>2010;Abstract 6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531720" y="2897280"/>
            <a:ext cx="157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04920" y="3033720"/>
            <a:ext cx="186696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por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f pati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i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n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ne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reat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iti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2558880" y="5653080"/>
            <a:ext cx="573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Years from randomis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2743200" y="4114800"/>
            <a:ext cx="624852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% requiring Rx at 3 y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n-US" sz="1500" spc="-1" strike="noStrike">
                <a:solidFill>
                  <a:srgbClr val="ecbb33"/>
                </a:solidFill>
                <a:latin typeface="Verdana"/>
              </a:rPr>
              <a:t>Watch and Wait = 52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cbb33"/>
                </a:solidFill>
                <a:latin typeface="Verdana"/>
              </a:rPr>
              <a:t>          </a:t>
            </a:r>
            <a:r>
              <a:rPr b="1" lang="en-US" sz="1500" spc="-1" strike="noStrike">
                <a:solidFill>
                  <a:srgbClr val="ecbb33"/>
                </a:solidFill>
                <a:latin typeface="Verdana"/>
              </a:rPr>
              <a:t>Rituximab = 20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cbb33"/>
                </a:solidFill>
                <a:latin typeface="Verdana"/>
              </a:rPr>
              <a:t>          </a:t>
            </a:r>
            <a:r>
              <a:rPr b="1" lang="en-US" sz="1500" spc="-1" strike="noStrike">
                <a:solidFill>
                  <a:srgbClr val="ecbb33"/>
                </a:solidFill>
                <a:latin typeface="Verdana"/>
              </a:rPr>
              <a:t>Rituximab and maintenance rituximab = 9%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1973160" y="2075040"/>
            <a:ext cx="657360" cy="36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1.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.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2424240" y="5335560"/>
            <a:ext cx="60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1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  2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      3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          4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             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23"/>
          <p:cNvSpPr/>
          <p:nvPr/>
        </p:nvSpPr>
        <p:spPr>
          <a:xfrm>
            <a:off x="2819520" y="4419720"/>
            <a:ext cx="457200" cy="0"/>
          </a:xfrm>
          <a:prstGeom prst="line">
            <a:avLst/>
          </a:prstGeom>
          <a:ln w="22320">
            <a:solidFill>
              <a:srgbClr val="122e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24"/>
          <p:cNvSpPr/>
          <p:nvPr/>
        </p:nvSpPr>
        <p:spPr>
          <a:xfrm>
            <a:off x="2819520" y="4648320"/>
            <a:ext cx="457200" cy="0"/>
          </a:xfrm>
          <a:prstGeom prst="line">
            <a:avLst/>
          </a:prstGeom>
          <a:ln w="22320">
            <a:solidFill>
              <a:srgbClr val="e16d3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25"/>
          <p:cNvSpPr/>
          <p:nvPr/>
        </p:nvSpPr>
        <p:spPr>
          <a:xfrm>
            <a:off x="2819520" y="4876920"/>
            <a:ext cx="457200" cy="0"/>
          </a:xfrm>
          <a:prstGeom prst="line">
            <a:avLst/>
          </a:prstGeom>
          <a:ln w="22320">
            <a:solidFill>
              <a:srgbClr val="cbcd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R-CHOP (rituximab, cyclophosphamide, doxorubicin, vincristine, predni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BR (bendamustine, rituximab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R-CVP (rituximab, cyclophosphamide, vincristine, predni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Rituximab monotherap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57200" y="10666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dc744"/>
                </a:solidFill>
                <a:latin typeface="Arial"/>
              </a:rPr>
              <a:t>Common Options for Initial Systemic Treatment of FL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3"/>
          <p:cNvSpPr/>
          <p:nvPr/>
        </p:nvSpPr>
        <p:spPr>
          <a:xfrm>
            <a:off x="434880" y="2286000"/>
            <a:ext cx="8272440" cy="335268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2514600"/>
          <a:ext cx="7925040" cy="2895480"/>
        </p:xfrm>
        <a:graphic>
          <a:graphicData uri="http://schemas.openxmlformats.org/drawingml/2006/table">
            <a:tbl>
              <a:tblPr/>
              <a:tblGrid>
                <a:gridCol w="3533760"/>
                <a:gridCol w="2221200"/>
                <a:gridCol w="2170080"/>
              </a:tblGrid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58-year-ol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75-year-ol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R-CHOP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33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6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R-bendamustin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38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36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R-CVP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26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34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Rituximab monotherapy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3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9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24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65a8"/>
                    </a:solidFill>
                  </a:tcPr>
                </a:tc>
              </a:tr>
            </a:tbl>
          </a:graphicData>
        </a:graphic>
      </p:graphicFrame>
      <p:sp>
        <p:nvSpPr>
          <p:cNvPr id="110" name="Title 1"/>
          <p:cNvSpPr/>
          <p:nvPr/>
        </p:nvSpPr>
        <p:spPr>
          <a:xfrm>
            <a:off x="304920" y="11430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cbb1e"/>
                </a:solidFill>
                <a:latin typeface="Arial"/>
              </a:rPr>
              <a:t>What is currently your usual preferred regimen for a patient with FL who requires initial treatment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1027"/>
          <p:cNvSpPr/>
          <p:nvPr/>
        </p:nvSpPr>
        <p:spPr>
          <a:xfrm>
            <a:off x="152280" y="6019920"/>
            <a:ext cx="74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terns of Care in Medical Oncology: Management of NHL and CLL 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Bendamustine plus Rituximab versus CHOP </a:t>
            </a:r>
            <a:br>
              <a:rPr sz="2800"/>
            </a:b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plus Rituximab in the First-Line Treatment of Patients with Indolent and Mantle Cell Lymphoma — Final Results of a Randomized Phase III Study of the StiL (Study Group </a:t>
            </a:r>
            <a:br>
              <a:rPr sz="2800"/>
            </a:b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indolent Lymphomas, German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09120" y="4800600"/>
            <a:ext cx="8077320" cy="7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ummel MJ et al.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SH Meeting December 2009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German Trial of R-CHOP vs BR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027"/>
          <p:cNvSpPr/>
          <p:nvPr/>
        </p:nvSpPr>
        <p:spPr>
          <a:xfrm>
            <a:off x="182520" y="6445080"/>
            <a:ext cx="749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ummel MJ et al. ASCO/ASH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0 Joint Sess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393840" y="1447920"/>
            <a:ext cx="8354880" cy="457200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47640" y="1689120"/>
          <a:ext cx="7848720" cy="4091040"/>
        </p:xfrm>
        <a:graphic>
          <a:graphicData uri="http://schemas.openxmlformats.org/drawingml/2006/table">
            <a:tbl>
              <a:tblPr/>
              <a:tblGrid>
                <a:gridCol w="4071960"/>
                <a:gridCol w="1881360"/>
                <a:gridCol w="1895400"/>
              </a:tblGrid>
              <a:tr h="43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R-CHOP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R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rogression-free survival </a:t>
                      </a:r>
                      <a:br>
                        <a:rPr sz="1900"/>
                      </a:b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(35 months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5 m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5 m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256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eutropen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46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1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lopeci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+++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-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aresthesi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9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1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Erythem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9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5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llergic reactio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37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7"/>
          <p:cNvSpPr/>
          <p:nvPr/>
        </p:nvSpPr>
        <p:spPr>
          <a:xfrm>
            <a:off x="533520" y="2270160"/>
            <a:ext cx="815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R-CHOP (rituximab, cyclophosphamide, doxorubicin, vincristine, predni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BR (bendamustine, rituximab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R-CVP (rituximab, cyclophosphamide, vincristine, prednisone)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62"/>
              </a:spcBef>
              <a:buClr>
                <a:srgbClr val="cade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adee4"/>
                </a:solidFill>
                <a:latin typeface="Arial"/>
              </a:rPr>
              <a:t>Rituximab monotherap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57200" y="12193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dc744"/>
                </a:solidFill>
                <a:latin typeface="Arial"/>
              </a:rPr>
              <a:t>Common Options for Initial Systemic Treatment of FL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dc744"/>
                </a:solidFill>
                <a:latin typeface="Arial"/>
              </a:rPr>
              <a:t>Implications for Patient Educatio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2193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Updated Results of the PRIMA Study </a:t>
            </a:r>
            <a:br>
              <a:rPr sz="2800"/>
            </a:br>
            <a:r>
              <a:rPr b="1" lang="en-US" sz="2800" spc="-1" strike="noStrike">
                <a:solidFill>
                  <a:srgbClr val="efc53d"/>
                </a:solidFill>
                <a:latin typeface="Arial"/>
              </a:rPr>
              <a:t>Confirms the Benefit of 2-Years Rituximab Maintenance in Follicular Lymphoma Patients Responding to Immunochemotherap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38080" y="4190760"/>
            <a:ext cx="74678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alles GA et al. 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cde7f3"/>
                </a:solidFill>
                <a:latin typeface="Arial"/>
              </a:rPr>
              <a:t>Proc ASH </a:t>
            </a: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2010;Abstract 1788.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39:11Z</dcterms:created>
  <dc:creator>Research To Practice</dc:creator>
  <dc:description/>
  <cp:keywords/>
  <dc:language>en-US</dc:language>
  <cp:lastModifiedBy>Aura Herrmann</cp:lastModifiedBy>
  <cp:lastPrinted>2011-04-26T15:32:31Z</cp:lastPrinted>
  <dcterms:modified xsi:type="dcterms:W3CDTF">2011-08-11T22:06:30Z</dcterms:modified>
  <cp:revision>342</cp:revision>
  <dc:subject/>
  <dc:title>PowerPoint Presentation</dc:title>
</cp:coreProperties>
</file>