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2CBA-36AA-4E5B-A032-01E02BF9F0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D89C-5FCC-4FD9-8DAE-097A5D144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9C2F-C4C4-4A6F-B540-84C7E8737C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F76D-70BD-43FA-B0ED-F9CDA30084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077A-9612-40D7-9177-05855AE22B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56B9-BCBE-4ABE-804E-BAEB40D25F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DE8A-A3D1-4841-88C2-C7F23B9570C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D0CE-275B-45DA-920B-07E6CEB2C03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FCFF-E155-4A0A-A183-0CED1AF6E4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7FE2-9E78-42AA-BDA2-A89D8FC9B2F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DAF5-175B-44DA-8CB5-2E9B8349E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BF8C-2A34-408B-B3FE-CF87A6664D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E001-6101-40A4-8F82-247315F34AE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44AD-BBC4-4803-978A-8DDA82F90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1505-6101-4133-ADA9-A13F726E8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90DD-AE27-468F-80B2-9D40CD8CB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B313-7621-4219-9F7B-3D4DE5EFA7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FEAE-4277-4CC0-B78F-DFC3C2DCEE6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DD73-B72D-4B7F-B8CC-363F3922E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576E-86D2-46C7-B19A-EC765DBF4A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7ED0-278A-49C7-984C-4B3D9DCAB98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3BB0-7A36-4923-8D60-A2F01CC88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  <a:ea typeface="ＭＳ Ｐゴシック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  <a:ea typeface="ＭＳ Ｐゴシック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Case 4 (Ms Goodrich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70 yo active man with incidental dx of Stage 0 CLL (del 13q, IgVH-mutated) in 2005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Observed until 2008, when WBC = 358K, splenomegaly and bulky nodes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R with response but after cycle 4, Hgb = 4 g/dL </a:t>
            </a:r>
            <a:r>
              <a:rPr b="0" lang="en-US" sz="25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hospitalized for AIHA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3 mos later </a:t>
            </a:r>
            <a:r>
              <a:rPr b="0" lang="en-US" sz="25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rapid progression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hort response to R monotherapy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Alemtuzumab x 11 mos but d/c for cytopenias </a:t>
            </a:r>
            <a:r>
              <a:rPr b="0" lang="en-US" sz="25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rapid progression and AIHA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7"/>
          <p:cNvSpPr/>
          <p:nvPr/>
        </p:nvSpPr>
        <p:spPr>
          <a:xfrm>
            <a:off x="4042800" y="4667400"/>
            <a:ext cx="11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Facul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406680" y="3962520"/>
            <a:ext cx="23288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Moderato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il Love, M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304920" y="1371600"/>
            <a:ext cx="8534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Real-Life Oncology</a:t>
            </a:r>
            <a:br>
              <a:rPr sz="2800"/>
            </a:br>
            <a:br>
              <a:rPr sz="1400"/>
            </a:b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Case-Based Discussions on the Biopsychosocial Management of Patients with Non-Hodgkin Lymphoma</a:t>
            </a:r>
            <a:br>
              <a:rPr sz="2400"/>
            </a:br>
            <a:br>
              <a:rPr sz="1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Friday, April 29, 2011</a:t>
            </a:r>
            <a:br>
              <a:rPr sz="2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  <a:ea typeface="ＭＳ Ｐゴシック"/>
              </a:rPr>
              <a:t>Boston, Massachuse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4464000" y="51055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ollie Moran, MSN, CNP, AOCN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tchell R Smith, MD, Ph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1221120" y="5105520"/>
            <a:ext cx="29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ary Deng, MD, Ph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my Goodrich, CRNP-A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In what situations can patients with CLL be observed off antitumor treatment?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Rai Low (0) and Intermediate (I-II) Risk: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No significant disease-related symptoms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No end-organ function threatened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No progressive bulky disease (spleen not &gt; 6 cm below costal margin, lymph nodes not &gt; 10 cm)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Slow doubling time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No progressive anemia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de7f3"/>
                </a:solidFill>
                <a:latin typeface="Arial"/>
              </a:rPr>
              <a:t>No progressive thrombocytopenia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31120" y="6019920"/>
            <a:ext cx="79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CCN Clinical Practice Guidelines in Oncology, Non-Hodgkin’s Lymphomas, v2.201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"/>
          <p:cNvSpPr/>
          <p:nvPr/>
        </p:nvSpPr>
        <p:spPr>
          <a:xfrm>
            <a:off x="685800" y="1066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Common Induction Regimens in C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FCR (fludarabine, cyclophosphamide, rituximab)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FR (fludarabine, rituximab)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R (bendamustine, rituximab)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cbb33"/>
                </a:solidFill>
                <a:latin typeface="Arial"/>
              </a:rPr>
              <a:t>National Patterns of Care Among Clinical Investigators (N = 25): Preferred Initial Treatment </a:t>
            </a:r>
            <a:br>
              <a:rPr sz="2600"/>
            </a:br>
            <a:r>
              <a:rPr b="1" lang="en-US" sz="2600" spc="-1" strike="noStrike">
                <a:solidFill>
                  <a:srgbClr val="ecbb33"/>
                </a:solidFill>
                <a:latin typeface="Arial"/>
              </a:rPr>
              <a:t>for Younger and Older Patients with CLL (normal cytogenetics)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1027"/>
          <p:cNvSpPr/>
          <p:nvPr/>
        </p:nvSpPr>
        <p:spPr>
          <a:xfrm>
            <a:off x="152280" y="6019920"/>
            <a:ext cx="749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tterns of Care in Medical Oncology: Management of NHL and CLL 2011;1(1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33"/>
          <p:cNvSpPr/>
          <p:nvPr/>
        </p:nvSpPr>
        <p:spPr>
          <a:xfrm>
            <a:off x="411120" y="2333520"/>
            <a:ext cx="8272440" cy="254340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71680" y="2494080"/>
          <a:ext cx="7924680" cy="2170080"/>
        </p:xfrm>
        <a:graphic>
          <a:graphicData uri="http://schemas.openxmlformats.org/drawingml/2006/table">
            <a:tbl>
              <a:tblPr/>
              <a:tblGrid>
                <a:gridCol w="3776400"/>
                <a:gridCol w="2087640"/>
                <a:gridCol w="2060640"/>
              </a:tblGrid>
              <a:tr h="47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60 y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5 y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FC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fc53d"/>
                          </a:solidFill>
                          <a:latin typeface="Arial"/>
                          <a:ea typeface="ＭＳ Ｐゴシック"/>
                        </a:rPr>
                        <a:t>6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44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F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fc53d"/>
                          </a:solidFill>
                          <a:latin typeface="Arial"/>
                          <a:ea typeface="ＭＳ Ｐゴシック"/>
                        </a:rPr>
                        <a:t>5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B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fc53d"/>
                          </a:solidFill>
                          <a:latin typeface="Arial"/>
                          <a:ea typeface="ＭＳ Ｐゴシック"/>
                        </a:rPr>
                        <a:t>4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6858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Common Induction Regimens in CLL</a:t>
            </a:r>
            <a:br>
              <a:rPr sz="3200"/>
            </a:b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Patient Education Im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29714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FCR (fludarabine, cyclophosphamide, rituximab)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FR (fludarabine, rituximab)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BR (bendamustine, rituximab)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c744"/>
                </a:solidFill>
                <a:latin typeface="Arial"/>
              </a:rPr>
              <a:t>Bendamustine Combined with Rituximab </a:t>
            </a:r>
            <a:br>
              <a:rPr sz="2800"/>
            </a:br>
            <a:r>
              <a:rPr b="1" lang="en-US" sz="2800" spc="-1" strike="noStrike">
                <a:solidFill>
                  <a:srgbClr val="edc744"/>
                </a:solidFill>
                <a:latin typeface="Arial"/>
              </a:rPr>
              <a:t>(BR) in First-Line Therapy of Advanced CLL: </a:t>
            </a:r>
            <a:br>
              <a:rPr sz="2800"/>
            </a:br>
            <a:r>
              <a:rPr b="1" lang="en-US" sz="2800" spc="-1" strike="noStrike">
                <a:solidFill>
                  <a:srgbClr val="edc744"/>
                </a:solidFill>
                <a:latin typeface="Arial"/>
              </a:rPr>
              <a:t>A Multicenter Phase II Trial of the German </a:t>
            </a:r>
            <a:br>
              <a:rPr sz="2800"/>
            </a:br>
            <a:r>
              <a:rPr b="1" lang="en-US" sz="2800" spc="-1" strike="noStrike">
                <a:solidFill>
                  <a:srgbClr val="edc744"/>
                </a:solidFill>
                <a:latin typeface="Arial"/>
              </a:rPr>
              <a:t>CLL Study Group (GCLLSG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440" y="4419360"/>
            <a:ext cx="746748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scher K et al. 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cde7f3"/>
                </a:solidFill>
                <a:latin typeface="Arial"/>
              </a:rPr>
              <a:t>Proc ASH 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2009;Abstract 205.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dc744"/>
                </a:solidFill>
                <a:latin typeface="Arial"/>
              </a:rPr>
              <a:t>German Study of BR in CLL</a:t>
            </a:r>
            <a:r>
              <a:rPr b="1" lang="en-US" sz="2600" spc="-1" strike="noStrike">
                <a:solidFill>
                  <a:srgbClr val="ecbb33"/>
                </a:solidFill>
                <a:latin typeface="Arial"/>
              </a:rPr>
              <a:t> 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027"/>
          <p:cNvSpPr/>
          <p:nvPr/>
        </p:nvSpPr>
        <p:spPr>
          <a:xfrm>
            <a:off x="380880" y="644508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scher K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c AS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009;Abstract 205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33"/>
          <p:cNvSpPr/>
          <p:nvPr/>
        </p:nvSpPr>
        <p:spPr>
          <a:xfrm>
            <a:off x="380880" y="1371600"/>
            <a:ext cx="8305920" cy="373392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09480" y="1592280"/>
          <a:ext cx="7848720" cy="3303720"/>
        </p:xfrm>
        <a:graphic>
          <a:graphicData uri="http://schemas.openxmlformats.org/drawingml/2006/table">
            <a:tbl>
              <a:tblPr/>
              <a:tblGrid>
                <a:gridCol w="5181840"/>
                <a:gridCol w="266688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B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N = 117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Overall response 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9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256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lete remission r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rogression-free survival (after 18 month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ot reach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ＭＳ Ｐゴシック"/>
                        </a:rPr>
                        <a:t>&gt;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r 3 leukopen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ＭＳ Ｐゴシック"/>
                        </a:rPr>
                        <a:t>&gt;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r 3 neutropen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663"/>
                    </a:solidFill>
                  </a:tcPr>
                </a:tc>
              </a:tr>
              <a:tr h="45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ＭＳ Ｐゴシック"/>
                        </a:rPr>
                        <a:t>&gt;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Gr 3 infec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a639c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12"/>
          <p:cNvSpPr/>
          <p:nvPr/>
        </p:nvSpPr>
        <p:spPr>
          <a:xfrm flipV="1">
            <a:off x="4724280" y="3123720"/>
            <a:ext cx="60984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12"/>
          <p:cNvSpPr/>
          <p:nvPr/>
        </p:nvSpPr>
        <p:spPr>
          <a:xfrm>
            <a:off x="4724280" y="4114800"/>
            <a:ext cx="609840" cy="533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609480" y="2895480"/>
            <a:ext cx="3733920" cy="2514600"/>
          </a:xfrm>
          <a:prstGeom prst="rect">
            <a:avLst/>
          </a:prstGeom>
          <a:solidFill>
            <a:srgbClr val="002c5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38"/>
          <p:cNvSpPr/>
          <p:nvPr/>
        </p:nvSpPr>
        <p:spPr>
          <a:xfrm>
            <a:off x="609480" y="2438280"/>
            <a:ext cx="3733920" cy="457200"/>
          </a:xfrm>
          <a:prstGeom prst="rect">
            <a:avLst/>
          </a:prstGeom>
          <a:solidFill>
            <a:srgbClr val="0d65a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ligi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18"/>
          <p:cNvSpPr/>
          <p:nvPr/>
        </p:nvSpPr>
        <p:spPr>
          <a:xfrm>
            <a:off x="685800" y="2971800"/>
            <a:ext cx="3505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ntreated Binet C CLL or Binet A/B w/o B-symptoms, progressive lymphocytosis, marrow failure; massive, progressive or painful splenomegaly; massive lymph nodes or nodal clus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 17p deletion by FIS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28"/>
          <p:cNvSpPr/>
          <p:nvPr/>
        </p:nvSpPr>
        <p:spPr>
          <a:xfrm>
            <a:off x="5334120" y="2819520"/>
            <a:ext cx="3352680" cy="685800"/>
          </a:xfrm>
          <a:prstGeom prst="rect">
            <a:avLst/>
          </a:prstGeom>
          <a:solidFill>
            <a:srgbClr val="002c5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C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27"/>
          <p:cNvSpPr/>
          <p:nvPr/>
        </p:nvSpPr>
        <p:spPr>
          <a:xfrm>
            <a:off x="5334120" y="4267080"/>
            <a:ext cx="3352680" cy="685800"/>
          </a:xfrm>
          <a:prstGeom prst="rect">
            <a:avLst/>
          </a:prstGeom>
          <a:solidFill>
            <a:srgbClr val="002c5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tle 14"/>
          <p:cNvSpPr/>
          <p:nvPr/>
        </p:nvSpPr>
        <p:spPr>
          <a:xfrm>
            <a:off x="53352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cbb33"/>
                </a:solidFill>
                <a:latin typeface="Arial"/>
              </a:rPr>
              <a:t>Phase III Trial of Combined Immunochemotherapy with FCR versus BR in Previously Untreated CLL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535680" y="182880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adee4"/>
                </a:solidFill>
                <a:latin typeface="Arial"/>
                <a:ea typeface="ＭＳ Ｐゴシック"/>
              </a:rPr>
              <a:t>Target Accrual = 550 (ope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407880" y="6445080"/>
            <a:ext cx="37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ww.ClinicalTrials.gov, April 201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Oval 25"/>
          <p:cNvSpPr/>
          <p:nvPr/>
        </p:nvSpPr>
        <p:spPr>
          <a:xfrm>
            <a:off x="3962520" y="3581280"/>
            <a:ext cx="852480" cy="85104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32"/>
          <p:cNvSpPr/>
          <p:nvPr/>
        </p:nvSpPr>
        <p:spPr>
          <a:xfrm>
            <a:off x="304920" y="5805360"/>
            <a:ext cx="86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adee4"/>
                </a:solidFill>
                <a:latin typeface="Arial"/>
              </a:rPr>
              <a:t>German CLL Study Grou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685800" y="1143000"/>
            <a:ext cx="7772400" cy="518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dc744"/>
                </a:solidFill>
                <a:latin typeface="Arial"/>
              </a:rPr>
              <a:t>Complementary Strategies </a:t>
            </a:r>
            <a:br>
              <a:rPr sz="4000"/>
            </a:br>
            <a:r>
              <a:rPr b="1" lang="en-US" sz="4000" spc="-1" strike="noStrike">
                <a:solidFill>
                  <a:srgbClr val="edc744"/>
                </a:solidFill>
                <a:latin typeface="Arial"/>
              </a:rPr>
              <a:t>in End-of-Life C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21:39:11Z</dcterms:created>
  <dc:creator>Research To Practice</dc:creator>
  <dc:description/>
  <cp:keywords/>
  <dc:language>en-US</dc:language>
  <cp:lastModifiedBy>Aura Herrmann</cp:lastModifiedBy>
  <cp:lastPrinted>2011-04-26T15:32:31Z</cp:lastPrinted>
  <dcterms:modified xsi:type="dcterms:W3CDTF">2011-08-11T22:07:27Z</dcterms:modified>
  <cp:revision>342</cp:revision>
  <dc:subject/>
  <dc:title>PowerPoint Presentation</dc:title>
</cp:coreProperties>
</file>