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2CA2E-9C5A-4E3A-8C87-7A02E7F0A4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767C5-7982-4031-879B-C0F35F85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7BC5E-EA1D-4664-84EE-8FCA1B05D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1799F-9DDA-492C-8A72-B1F427E234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9585B-39E9-45FB-8494-DD973B93A9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0" y="4343040"/>
            <a:ext cx="6856560" cy="480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DAD15-FF19-4E6F-82DD-6A8C4C341B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380880" y="4343040"/>
            <a:ext cx="6475680" cy="34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02C14-430D-4D4B-ABFF-64D55587BB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36460-A346-404B-BCDB-89D02C1AE8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4F304-79A7-40AB-AE14-4056AA0C66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573EB-C21C-4F7C-947F-21BE76C18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4771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0F94C-CF95-4AA2-9E87-2469F56B27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DC97F-B34F-4A45-A8FC-6E3D5B111E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A58F1-7EC8-4485-A01F-7FD6304734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6320" y="4343040"/>
            <a:ext cx="6400800" cy="38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2 (Ms Mille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Now 91 yo man, dx’d with plasmacytoma 2 yrs prior with IgA lambda M-spik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itial workup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ISS Stage I MM: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ß2 = 3.9 mg/L, albumin = 4.8 g/d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ngle-agent lenalidomide 25 mg qd 21 of 28 day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decrease dose 20 mg for cytopenia in cycle 8 f/b sC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D/C all treatment, including bisphosphonate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NED to presen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duction Treatment Options for Patients Not Eligible for Transpla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d (Lenalidomide, Low-Dose Dexametha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 (Melphalan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D (Bortezomib, Dexametha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T (Melphalan, Prednisone, Thalidomid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V (Melphalan, Prednisone, Bortezomi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PR (Melphalan, Prednisone, Lenalidomid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TD or RVD (fit elderly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954520" y="563868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Education I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Management of Very Elderly Patient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(Over Age 85) with Multiple Myelom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hould these patients receive anti-myeloma treatment?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anagement of the very elderly in th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ommunity setting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eemptive dose reduc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nician-Reported Responses to Initial Induction Regimens Overa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266760" y="2228760"/>
            <a:ext cx="8610480" cy="36385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9040" y="2371680"/>
          <a:ext cx="8267760" cy="3303720"/>
        </p:xfrm>
        <a:graphic>
          <a:graphicData uri="http://schemas.openxmlformats.org/drawingml/2006/table">
            <a:tbl>
              <a:tblPr/>
              <a:tblGrid>
                <a:gridCol w="2095560"/>
                <a:gridCol w="1530360"/>
                <a:gridCol w="1616040"/>
                <a:gridCol w="1617840"/>
                <a:gridCol w="1407960"/>
              </a:tblGrid>
              <a:tr h="97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esponse to 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Overall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23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&lt;65 y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8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5-74 y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8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≥</a:t>
                      </a: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5 yo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6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omplete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artial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inimal response/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tabl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rogressive dis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39"/>
          <p:cNvSpPr/>
          <p:nvPr/>
        </p:nvSpPr>
        <p:spPr>
          <a:xfrm>
            <a:off x="304200" y="591336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efc5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nician-Reported Tolerability of Initial Induction Regimens Overal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266760" y="2228760"/>
            <a:ext cx="8610480" cy="36385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9040" y="2371680"/>
          <a:ext cx="8267760" cy="3371760"/>
        </p:xfrm>
        <a:graphic>
          <a:graphicData uri="http://schemas.openxmlformats.org/drawingml/2006/table">
            <a:tbl>
              <a:tblPr/>
              <a:tblGrid>
                <a:gridCol w="3162240"/>
                <a:gridCol w="1295640"/>
                <a:gridCol w="1295280"/>
                <a:gridCol w="1295280"/>
                <a:gridCol w="1219320"/>
              </a:tblGrid>
              <a:tr h="75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Overall side effect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nd toxic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Overal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26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&lt;65 y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9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65-74 y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9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cde7f3"/>
                          </a:solidFill>
                          <a:uFillTx/>
                          <a:latin typeface="Arial"/>
                          <a:ea typeface="ヒラギノ角ゴ Pro W3"/>
                        </a:rPr>
                        <a:t>&gt;</a:t>
                      </a: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75 yo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(n = 7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herapy went very well: Same or fewer problems than expec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herapy went pretty well: Minor or moderate problems, not difficult to man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ignificant problems that were difficult to man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ajor problems with significant consequen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39"/>
          <p:cNvSpPr/>
          <p:nvPr/>
        </p:nvSpPr>
        <p:spPr>
          <a:xfrm>
            <a:off x="304200" y="591336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efc5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1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06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le 1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efc53d"/>
                </a:solidFill>
                <a:latin typeface="Arial"/>
              </a:rPr>
              <a:t>Suggested Age-Adjusted Dose Reduction in Patients with M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120" y="6095880"/>
            <a:ext cx="579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alumbo A, Anderson K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Engl J Me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1;364(11):1046-6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760320"/>
            <a:ext cx="7507440" cy="529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Arial"/>
              </a:rPr>
              <a:t>Assessing Patients’ </a:t>
            </a:r>
            <a:br>
              <a:rPr sz="3600"/>
            </a:br>
            <a:r>
              <a:rPr b="1" lang="en-US" sz="3600" spc="-1" strike="noStrike">
                <a:solidFill>
                  <a:srgbClr val="efc53d"/>
                </a:solidFill>
                <a:latin typeface="Arial"/>
              </a:rPr>
              <a:t>Life Goals and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dcterms:modified xsi:type="dcterms:W3CDTF">2011-07-22T18:56:29Z</dcterms:modified>
  <cp:revision>117</cp:revision>
  <dc:subject/>
  <dc:title>Slide 1</dc:title>
</cp:coreProperties>
</file>