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1A04C-5FB8-47E6-AD4C-276C14D4B4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FC443-3173-494C-B545-2FC11587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0E004-6C3C-44C2-8F3D-03CAD58958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5F8D3-246A-4204-BC93-6DCA49D310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84B3A-7CB9-41B9-9506-7020313251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0" y="4343040"/>
            <a:ext cx="6856560" cy="61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DCBA-7556-4D79-B308-35643ABC00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DF4A-36A2-4241-9C4B-5030127D42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CB3-EFC4-4BF8-87CB-B2A8999D33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430880" cy="31845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EEAD6-4B50-49C2-A613-C63A17D1C8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-360" y="43434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2AFC020-2866-457C-B79F-2B0248D6A9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282E5-B1BC-4D6C-A665-AAE2519A9D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4 (Ms Mille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83 yo with bone pain and renal failure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(Cr = 6.03 mg/dL, BUN = 99 mg/dL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Workup: IgG lambda M-spike, lambda FLC 24,400 mg/d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nitiates VD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dramatic pain improvement, halving of Cr without dialysis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GPR after 2 cycle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anagement of Patients with Renal Failu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cute management pla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Use of lenalidomid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hoice of bisphosphona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voidance of NSAID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80720" y="5979960"/>
            <a:ext cx="46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Myeloma Working Group, April 7-8, 201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What is your usual induction therapy for patients with renal dysfunction?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nvestigator Respons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yBorD = 8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D = 7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DoxD = 2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TD = 2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Case-Based Discussions on the Biopsychosocial Management of Patients with Multiple Myel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Saturday, April 30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038480" y="5105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opur Raj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ffany Richards, MS, ANP-BC, AOC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15120" y="51055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arol Ann Huff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a C Miller, MSN, F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2031840"/>
            <a:ext cx="7010280" cy="328320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71280" y="1201680"/>
            <a:ext cx="8975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RC Myeloma IX Trial: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0"/>
          <p:cNvSpPr/>
          <p:nvPr/>
        </p:nvSpPr>
        <p:spPr>
          <a:xfrm>
            <a:off x="152280" y="60642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permission from Morgan G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1;Abstract 80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774880" y="539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886200" y="539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952880" y="539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095880" y="5410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7194600" y="5410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8305920" y="5410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1075680" y="1949400"/>
            <a:ext cx="32076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876920" y="5668920"/>
            <a:ext cx="36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70920" y="3124080"/>
            <a:ext cx="101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vival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089"/>
          <p:cNvSpPr/>
          <p:nvPr/>
        </p:nvSpPr>
        <p:spPr>
          <a:xfrm>
            <a:off x="2218680" y="4419720"/>
            <a:ext cx="208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lodronate (n = 682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089"/>
          <p:cNvSpPr/>
          <p:nvPr/>
        </p:nvSpPr>
        <p:spPr>
          <a:xfrm>
            <a:off x="2196360" y="4703760"/>
            <a:ext cx="25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Zoledronic acid (n = 66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089"/>
          <p:cNvSpPr/>
          <p:nvPr/>
        </p:nvSpPr>
        <p:spPr>
          <a:xfrm>
            <a:off x="5896440" y="2254320"/>
            <a:ext cx="2096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HR = 0.82 (0.70-0.96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= 0.010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671480" y="539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traight Connector 63"/>
          <p:cNvSpPr/>
          <p:nvPr/>
        </p:nvSpPr>
        <p:spPr>
          <a:xfrm flipH="1" flipV="1">
            <a:off x="1904760" y="4543560"/>
            <a:ext cx="234000" cy="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traight Connector 65"/>
          <p:cNvSpPr/>
          <p:nvPr/>
        </p:nvSpPr>
        <p:spPr>
          <a:xfrm flipH="1" flipV="1">
            <a:off x="1907280" y="4834080"/>
            <a:ext cx="234360" cy="360"/>
          </a:xfrm>
          <a:prstGeom prst="line">
            <a:avLst/>
          </a:prstGeom>
          <a:ln w="38160">
            <a:solidFill>
              <a:srgbClr val="eb91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Vertebral Compression Fractures Move Center of Gravity Forwar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362320" y="1781280"/>
            <a:ext cx="425448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6"/>
          <p:cNvGrpSpPr/>
          <p:nvPr/>
        </p:nvGrpSpPr>
        <p:grpSpPr>
          <a:xfrm>
            <a:off x="2057400" y="1257480"/>
            <a:ext cx="5028840" cy="5028840"/>
            <a:chOff x="2057400" y="1257480"/>
            <a:chExt cx="5028840" cy="5028840"/>
          </a:xfrm>
        </p:grpSpPr>
        <p:pic>
          <p:nvPicPr>
            <p:cNvPr id="120" name="Picture 2" descr=""/>
            <p:cNvPicPr/>
            <p:nvPr/>
          </p:nvPicPr>
          <p:blipFill>
            <a:blip r:embed="rId1"/>
            <a:srcRect l="1188" t="1904" r="1897" b="1152"/>
            <a:stretch/>
          </p:blipFill>
          <p:spPr>
            <a:xfrm>
              <a:off x="2057400" y="1257480"/>
              <a:ext cx="5028840" cy="502884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121" name="Rectangle 15"/>
            <p:cNvSpPr/>
            <p:nvPr/>
          </p:nvSpPr>
          <p:spPr>
            <a:xfrm>
              <a:off x="5028120" y="1257480"/>
              <a:ext cx="2058120" cy="68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01:55Z</dcterms:created>
  <dc:creator>Michele Morgan</dc:creator>
  <dc:description/>
  <dc:language>en-US</dc:language>
  <cp:lastModifiedBy>Mac Pro E703803Y4PC</cp:lastModifiedBy>
  <cp:lastPrinted>2011-08-08T12:20:52Z</cp:lastPrinted>
  <dcterms:modified xsi:type="dcterms:W3CDTF">2011-08-08T12:20:54Z</dcterms:modified>
  <cp:revision>121</cp:revision>
  <dc:subject/>
  <dc:title>Slide 1</dc:title>
</cp:coreProperties>
</file>