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9.pct" ContentType="image/x-pict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927D2-6730-4A93-BF10-C760CFF6C1E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7BE26-E3BD-405A-BE59-973C0FCDE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130CA-13CA-4F73-AFEF-AB4B8A5AC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31455-0367-4387-B136-221B46D42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6095E-0C56-480D-B013-CEF3DDC44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50AD4-A838-4F83-A228-C6CD0209C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-360" y="43434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2AF20-D3A9-46BA-A456-E093EEAA2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CC8E1-0EF7-4A3F-A2C6-FBCB2AC18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67894-5327-4843-9BBF-0CD2943A8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39574-113C-441C-9426-A53D1082E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D85D4-9DE8-4F06-A40C-2169AE943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600" y="449424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E2675-4034-4B24-967B-0BE1CE6C9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-360" y="4343040"/>
            <a:ext cx="6172200" cy="435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0F002-066E-4C23-BB2E-CC89AE76C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341FE-A123-44DE-BC13-1DF9D5A64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A8889-D86C-4B18-8D43-738E12890E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0" y="4343400"/>
            <a:ext cx="6858000" cy="45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AF4C0-9435-49D9-B579-1EA76E5BC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CA855-A6E5-4A6C-A1B6-A341E91D2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802EE-E1F7-4FEE-B574-C846E9187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-360" y="4267080"/>
            <a:ext cx="6553080" cy="46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D27B3-EEF5-4007-A1F8-E60123AEF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E74D1-A31E-466C-976E-CC819213F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  <a:ea typeface="ヒラギノ角ゴ Pro W3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DF542-077E-448E-A16C-768CF2288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931-A933-46C6-892A-619980AA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44D-611D-4E55-8C14-06B6E94C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5FB-013C-48CC-899B-E4B885BB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C34-E54C-46FC-880F-88EB8798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F17-1182-4621-A61A-D5DEE156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85C-2B93-4D29-8F2A-85F6A858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C61-0B0F-4BE7-8EC3-E63A5BB7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500-919B-4B07-91AB-164DCF40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A12-B378-4344-976B-762A678D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5C7-F8B0-416B-85B3-97163169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583-A4C5-482F-BC56-11DCC67A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4A1-D249-415A-8C65-EAA64F98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65F47-75DF-4B07-B7A5-9929DFF46EA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4D342-E36D-40E4-ADFF-E164454CBA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6" descr="RTP09_SlideBackground"/>
          <p:cNvPicPr/>
          <p:nvPr/>
        </p:nvPicPr>
        <p:blipFill>
          <a:blip r:embed="rId1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il Love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Real-Life Oncology</a:t>
            </a:r>
            <a:br>
              <a:rPr sz="1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fc53d"/>
                </a:solidFill>
                <a:latin typeface="Arial"/>
              </a:rPr>
              <a:t>Case-Based Discussions on the Biopsychosocial Management of Patients with Multiple Myeloma</a:t>
            </a:r>
            <a:br>
              <a:rPr sz="1800"/>
            </a:br>
            <a:br>
              <a:rPr sz="1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urday, April 30, 2011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ston, Massachuse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038480" y="51055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opur Raje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ffany Richards, MS, ANP-BC, AOC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915120" y="5105520"/>
            <a:ext cx="28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ol Ann Huff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na C Miller, MSN, F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447920" y="1447920"/>
          <a:ext cx="6858000" cy="4800600"/>
        </p:xfrm>
        <a:graphic>
          <a:graphicData uri="http://schemas.openxmlformats.org/drawingml/2006/table">
            <a:tbl>
              <a:tblPr/>
              <a:tblGrid>
                <a:gridCol w="3352680"/>
                <a:gridCol w="3505320"/>
              </a:tblGrid>
              <a:tr h="48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Lectur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elissa Alsina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William I Bensinger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Ivan Borrello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Cristina Gasparetto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orie A Gertz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Carol Ann Huff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Sagar Lonial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Nikhil C Munshi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uben Niesvizky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Antonio Palumbo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David S Siegel, MD, Ph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Edward A Stadtmauer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A Keith Stewart, MBCh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Guido Tricot, MD, Ph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avi Vij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Jeffrey L Wolf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Jeffrey A Zonder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Case Presen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Elizabeth Bilotti, MSN, APRN, 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Warren S Brenner, MBB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Charles M Farber, MD, Ph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Lyle Feinstein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William P Fusselman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Philip T Glynn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Aric W Greenfield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Steven J Hager, 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David S Lessen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aymond L Lobins, 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Jason Melear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obert A Moss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Shachar Peles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Tiffany Richards, MS, ANP-BC, AOC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ark S Robbins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Elizabeth D Simmons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Peter Ungaro, 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42"/>
          <p:cNvSpPr/>
          <p:nvPr/>
        </p:nvSpPr>
        <p:spPr>
          <a:xfrm>
            <a:off x="380880" y="380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Multiple Myeloma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Much Debated Topics in Multiple Myelo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 versus 3 drug 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ytogenetics and FISH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ubcutaneous bortezom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Post-transplant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Preemptive dose reduction in el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urvival benefit with zoledronic 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Case 1 (Ms Richa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50 yo woman with RLE pain and paresthes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RI = sacral mass, biopsy = plasmacyt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one marrow = 15-20% plasma cells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l cytogenetics/F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P IFE = 2.8 g/dL IgG lambda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ß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 = 2.1 mg/L, nl Ca, nl renal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ocal XRT to sacrum f/b CyBorD with VGPR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ASCT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maintenance lenalidom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3"/>
          <p:cNvSpPr/>
          <p:nvPr/>
        </p:nvSpPr>
        <p:spPr>
          <a:xfrm>
            <a:off x="266760" y="2286000"/>
            <a:ext cx="8610480" cy="358128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19040" y="2462040"/>
          <a:ext cx="8305920" cy="3229200"/>
        </p:xfrm>
        <a:graphic>
          <a:graphicData uri="http://schemas.openxmlformats.org/drawingml/2006/table">
            <a:tbl>
              <a:tblPr/>
              <a:tblGrid>
                <a:gridCol w="2595600"/>
                <a:gridCol w="2738520"/>
                <a:gridCol w="2971800"/>
              </a:tblGrid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noclonal Gammopathy of Undetermined Significance (MG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moldering (Asymptomatic) Myel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e (Symptomatic) Myel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20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rum M-protein &lt;3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M plasma cells &lt;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 organ or tissue impairment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sympt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rum M-protein ≥3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d/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M plasma cells ≥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 organ or tissue impairment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sympt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quires ≥1 of the followi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ypercalcem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al insufficienc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em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one disease (lytic or osteopen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0d65a8"/>
                    </a:solidFill>
                  </a:tcPr>
                </a:tc>
              </a:tr>
            </a:tbl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MGUS versus Smoldering versus Active Myelo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428" descr="ONC_Supplement_2010_MM_Figure2_v2fr"/>
          <p:cNvPicPr/>
          <p:nvPr/>
        </p:nvPicPr>
        <p:blipFill>
          <a:blip r:embed="rId1"/>
          <a:stretch/>
        </p:blipFill>
        <p:spPr>
          <a:xfrm>
            <a:off x="289080" y="2514600"/>
            <a:ext cx="8702640" cy="335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Cross-Sectional Case Survey: Did You Initially Consider This Patient to Be a Candidate for Stem Cell Transplant? (n = 264 Assesse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9"/>
          <p:cNvSpPr/>
          <p:nvPr/>
        </p:nvSpPr>
        <p:spPr>
          <a:xfrm>
            <a:off x="303840" y="5913360"/>
            <a:ext cx="47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nial S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Oncolo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10;24(12 Suppl 5):8-14.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8"/>
          <p:cNvSpPr/>
          <p:nvPr/>
        </p:nvSpPr>
        <p:spPr>
          <a:xfrm>
            <a:off x="328680" y="685800"/>
            <a:ext cx="85611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efc53d"/>
                </a:solidFill>
                <a:latin typeface="Arial"/>
              </a:rPr>
              <a:t>Cross-Sectional Case Survey of 43 US Community Oncolog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efc53d"/>
                </a:solidFill>
                <a:latin typeface="Arial"/>
              </a:rPr>
              <a:t>Most Common Induction Regimens Used in Multiple Myelo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9"/>
          <p:cNvSpPr/>
          <p:nvPr/>
        </p:nvSpPr>
        <p:spPr>
          <a:xfrm>
            <a:off x="304200" y="5913360"/>
            <a:ext cx="48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ial S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ncolog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;24(12 Suppl 5):8-14.</a:t>
            </a:r>
            <a:r>
              <a:rPr b="0" lang="en-US" sz="1800" spc="-1" strike="noStrike">
                <a:solidFill>
                  <a:srgbClr val="efc53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3"/>
          <p:cNvSpPr/>
          <p:nvPr/>
        </p:nvSpPr>
        <p:spPr>
          <a:xfrm>
            <a:off x="266760" y="2319480"/>
            <a:ext cx="8610480" cy="312408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07880" y="2517840"/>
          <a:ext cx="8328240" cy="2730600"/>
        </p:xfrm>
        <a:graphic>
          <a:graphicData uri="http://schemas.openxmlformats.org/drawingml/2006/table">
            <a:tbl>
              <a:tblPr/>
              <a:tblGrid>
                <a:gridCol w="2043360"/>
                <a:gridCol w="2044440"/>
                <a:gridCol w="228600"/>
                <a:gridCol w="2005200"/>
                <a:gridCol w="2006640"/>
              </a:tblGrid>
              <a:tr h="546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Transplant eligible (n = 128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d5e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Transplant ineligible (n = 13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d/R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9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V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1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V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6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d/R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V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23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P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16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CyBor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3e1f1"/>
                          </a:solidFill>
                          <a:latin typeface="Arial"/>
                          <a:ea typeface="ヒラギノ角ゴ Pro W3"/>
                        </a:rPr>
                        <a:t>5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d5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PV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16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be0e3"/>
                      </a:solidFill>
                    </a:lnL>
                    <a:lnR w="9360">
                      <a:solidFill>
                        <a:srgbClr val="bbe0e3"/>
                      </a:solidFill>
                    </a:lnR>
                    <a:lnT w="9360">
                      <a:solidFill>
                        <a:srgbClr val="bbe0e3"/>
                      </a:solidFill>
                    </a:lnT>
                    <a:lnB w="9360">
                      <a:solidFill>
                        <a:srgbClr val="bbe0e3"/>
                      </a:solidFill>
                    </a:lnB>
                    <a:solidFill>
                      <a:srgbClr val="0d65a8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12"/>
          <p:cNvSpPr/>
          <p:nvPr/>
        </p:nvSpPr>
        <p:spPr>
          <a:xfrm flipV="1">
            <a:off x="3429000" y="3429000"/>
            <a:ext cx="60948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3429000" y="4114800"/>
            <a:ext cx="60948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609480" y="3657600"/>
            <a:ext cx="2362320" cy="99072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8"/>
          <p:cNvSpPr/>
          <p:nvPr/>
        </p:nvSpPr>
        <p:spPr>
          <a:xfrm>
            <a:off x="609480" y="3200400"/>
            <a:ext cx="2362320" cy="457200"/>
          </a:xfrm>
          <a:prstGeom prst="rect">
            <a:avLst/>
          </a:prstGeom>
          <a:solidFill>
            <a:srgbClr val="0d65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685800" y="3809880"/>
            <a:ext cx="350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4114800" y="2057400"/>
            <a:ext cx="4572000" cy="18288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VD cycles 2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D cyclophosphamide + SC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VD cycles 4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enance lenalidomide x 12+ 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fc53d"/>
                </a:solidFill>
                <a:latin typeface="Arial"/>
              </a:rPr>
              <a:t>(HD melphalan + SCT at relap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4114800" y="4114800"/>
            <a:ext cx="4495680" cy="18288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VD cycles 2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D cyclophosphamide + SC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fc53d"/>
                </a:solidFill>
                <a:latin typeface="Arial"/>
              </a:rPr>
              <a:t>HD melphalan + AS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VD for additional 2 cy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enance lenalidomide x 12+ 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4"/>
          <p:cNvSpPr/>
          <p:nvPr/>
        </p:nvSpPr>
        <p:spPr>
          <a:xfrm>
            <a:off x="533520" y="304920"/>
            <a:ext cx="8458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efc53d"/>
                </a:solidFill>
                <a:latin typeface="Arial"/>
              </a:rPr>
              <a:t>IFM/DFCI 2009: Phase III Study of RVD versus High-Dose Treatment with Stem Cell Transplant in the Initial Management of Multiple Myeloma in Patients </a:t>
            </a:r>
            <a:r>
              <a:rPr b="1" lang="en-US" sz="1800" spc="-1" strike="noStrike" u="sng">
                <a:solidFill>
                  <a:srgbClr val="efc53d"/>
                </a:solidFill>
                <a:uFillTx/>
                <a:latin typeface="Arial"/>
              </a:rPr>
              <a:t>&lt;</a:t>
            </a:r>
            <a:r>
              <a:rPr b="1" lang="en-US" sz="1800" spc="-1" strike="noStrike">
                <a:solidFill>
                  <a:srgbClr val="efc53d"/>
                </a:solidFill>
                <a:latin typeface="Arial"/>
              </a:rPr>
              <a:t> 6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8"/>
          <p:cNvSpPr/>
          <p:nvPr/>
        </p:nvSpPr>
        <p:spPr>
          <a:xfrm>
            <a:off x="536400" y="182880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adee4"/>
                </a:solidFill>
                <a:latin typeface="Arial"/>
              </a:rPr>
              <a:t>Target Accrual: 1,000 (O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407880" y="6445080"/>
            <a:ext cx="37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ClinicalTrials.gov, April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5"/>
          <p:cNvSpPr/>
          <p:nvPr/>
        </p:nvSpPr>
        <p:spPr>
          <a:xfrm>
            <a:off x="2590920" y="3505320"/>
            <a:ext cx="852480" cy="850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4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What specific cytogenetic or FISH findings constitute “high risk” so that treatment would be primarily altered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86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SH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del(17p)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(14;16)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(4;14)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(14;20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80720" y="5979960"/>
            <a:ext cx="46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Myeloma Working Group, April 7-8, 20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4572000" y="2438280"/>
            <a:ext cx="42670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Metaphase cytogene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del 1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hypodiploid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any abnormal karyotyp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Lenalidomide Maintenance After Stem Cell Transpla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wo major trials reported (IFM, CALGB)</a:t>
            </a:r>
            <a:r>
              <a:rPr b="0" lang="en-US" sz="2500" spc="-1" strike="noStrike" baseline="30000">
                <a:solidFill>
                  <a:srgbClr val="cde7f3"/>
                </a:solidFill>
                <a:latin typeface="Arial"/>
              </a:rPr>
              <a:t>1,2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Greater progression-free survival with maintenanc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42 months vs 24 and 22 month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No improvement in survival at this early poin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Question of increase in second cancers?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94760" y="5979960"/>
            <a:ext cx="84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l M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AS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;Abstract 310;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cCarthy PL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AS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;Abstract 3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Counseling Younger Patients About What to Expect with a Diagnosis of Multiple Myelo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e7f3"/>
                </a:solidFill>
                <a:latin typeface="Arial"/>
              </a:rPr>
              <a:t>Information seeking attitude</a:t>
            </a:r>
            <a:endParaRPr b="0" lang="en-US" sz="28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e7f3"/>
                </a:solidFill>
                <a:latin typeface="Arial"/>
              </a:rPr>
              <a:t>Assessing the needs of family and loved ones</a:t>
            </a:r>
            <a:endParaRPr b="0" lang="en-US" sz="28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e7f3"/>
                </a:solidFill>
                <a:latin typeface="Arial"/>
              </a:rPr>
              <a:t>Providing information on prognosis</a:t>
            </a:r>
            <a:endParaRPr b="0" lang="en-US" sz="28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e7f3"/>
                </a:solidFill>
                <a:latin typeface="Arial"/>
              </a:rPr>
              <a:t>Pace of clinical research</a:t>
            </a:r>
            <a:endParaRPr b="0" lang="en-US" sz="28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6" descr="RTP09_SlideBackground"/>
          <p:cNvPicPr/>
          <p:nvPr/>
        </p:nvPicPr>
        <p:blipFill>
          <a:blip r:embed="rId1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98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46000" y="2286000"/>
          <a:ext cx="8304120" cy="2913120"/>
        </p:xfrm>
        <a:graphic>
          <a:graphicData uri="http://schemas.openxmlformats.org/drawingml/2006/table">
            <a:tbl>
              <a:tblPr/>
              <a:tblGrid>
                <a:gridCol w="8304120"/>
              </a:tblGrid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Case 1:</a:t>
                      </a:r>
                      <a:r>
                        <a:rPr b="0" i="1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Induction, Transplant and Post-Transplant Maintenanc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Case 2:</a:t>
                      </a:r>
                      <a:r>
                        <a:rPr b="0" i="1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Long-Term Management of Older Patients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              Who Are Not Transplant Eligib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Case 3:</a:t>
                      </a:r>
                      <a:r>
                        <a:rPr b="0" i="1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Progressive Treatment for Relapsed MM and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             End-of-Life Car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Case 4:</a:t>
                      </a:r>
                      <a:r>
                        <a:rPr b="0" i="1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Renal Insufficiency and Pain Management in M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6" descr="RTP09_SlideBackground"/>
          <p:cNvPicPr/>
          <p:nvPr/>
        </p:nvPicPr>
        <p:blipFill>
          <a:blip r:embed="rId1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6" descr="1"/>
          <p:cNvPicPr/>
          <p:nvPr/>
        </p:nvPicPr>
        <p:blipFill>
          <a:blip r:embed="rId2"/>
          <a:stretch/>
        </p:blipFill>
        <p:spPr>
          <a:xfrm>
            <a:off x="685800" y="1219320"/>
            <a:ext cx="7772400" cy="5067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MMSummit6"/>
          <p:cNvPicPr/>
          <p:nvPr/>
        </p:nvPicPr>
        <p:blipFill>
          <a:blip r:embed="rId1"/>
          <a:stretch/>
        </p:blipFill>
        <p:spPr>
          <a:xfrm>
            <a:off x="0" y="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26" descr="MMSummit6"/>
          <p:cNvPicPr/>
          <p:nvPr/>
        </p:nvPicPr>
        <p:blipFill>
          <a:blip r:embed="rId1"/>
          <a:stretch/>
        </p:blipFill>
        <p:spPr>
          <a:xfrm>
            <a:off x="0" y="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27"/>
          <p:cNvSpPr/>
          <p:nvPr/>
        </p:nvSpPr>
        <p:spPr>
          <a:xfrm>
            <a:off x="0" y="5943600"/>
            <a:ext cx="91440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Myeloma Working Group, Miami, Flo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ril 7th and 8th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027" descr="MMSummit4"/>
          <p:cNvPicPr/>
          <p:nvPr/>
        </p:nvPicPr>
        <p:blipFill>
          <a:blip r:embed="rId1"/>
          <a:stretch/>
        </p:blipFill>
        <p:spPr>
          <a:xfrm>
            <a:off x="0" y="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27" descr="MMSummit"/>
          <p:cNvPicPr/>
          <p:nvPr/>
        </p:nvPicPr>
        <p:blipFill>
          <a:blip r:embed="rId1"/>
          <a:stretch/>
        </p:blipFill>
        <p:spPr>
          <a:xfrm>
            <a:off x="0" y="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028" descr="IMG_7603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IMG_7346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7:01:55Z</dcterms:created>
  <dc:creator>Michele Morgan</dc:creator>
  <dc:description/>
  <dc:language>en-US</dc:language>
  <cp:lastModifiedBy>Mac Pro E703803Y4PC</cp:lastModifiedBy>
  <dcterms:modified xsi:type="dcterms:W3CDTF">2011-07-15T19:47:13Z</dcterms:modified>
  <cp:revision>119</cp:revision>
  <dc:subject/>
  <dc:title>Slide 1</dc:title>
</cp:coreProperties>
</file>