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5C31-DCAC-4D96-9439-FCFE52930C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F5B-E18C-46D2-A913-C4EF409E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731-7861-442A-9B98-9FBAB4033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CEE2-D103-4397-AA89-95E5062A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34D5-9FCB-4968-9A73-D70C0E45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0284-2D18-46DC-916A-0EA295A1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9A1F-8795-4665-8ADD-07C61E913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CCB-6388-424E-AF63-E466C8D40A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BDE7-C9E5-4500-8556-1B15D05EE1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2 (Ms Lits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38 yo Hispanic woman dx'd in 2007 with large TNBC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Neoadjuvant AC-T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lumpectomy, ALND and local XR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Genetic testing = BRCA2+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bilateral oophorectom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09 = visceral and bone recurrence with poor response to multiple regimens: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isplatin, capecitabine/bev, ixabepilon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57200" y="2438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Emotional Impact of the Diagnosis of Triple-Negative Breast Can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9548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enefits of bevacizumab/chemotherapy seem greater than in ER-positive, HER2-negative diseas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iologic connection to tumors in patients with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RCA mutatio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unctional BRCA dysfunction in patients without BRCA?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ole, if any, of PARP inhibitors (synthetic lethality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ole of platinum agent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Triple-Negative Breast Cancer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Ke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3"/>
          <p:cNvSpPr/>
          <p:nvPr/>
        </p:nvSpPr>
        <p:spPr>
          <a:xfrm>
            <a:off x="419040" y="1981080"/>
            <a:ext cx="8305920" cy="32767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c53d"/>
                </a:solidFill>
                <a:latin typeface="Arial Bold"/>
              </a:rPr>
              <a:t>Meta-Analysis of Patients with TNBC Randomly Assigned in First-Line Trials of Chemotherapy with or without Bevacizumab for m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87280" y="6095880"/>
            <a:ext cx="770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O’Shaughnessy J et al. San Antonio Breast Cancer Symposium 2010;Abstract P6-12-0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2125800"/>
          <a:ext cx="8001000" cy="2950920"/>
        </p:xfrm>
        <a:graphic>
          <a:graphicData uri="http://schemas.openxmlformats.org/drawingml/2006/table">
            <a:tbl>
              <a:tblPr/>
              <a:tblGrid>
                <a:gridCol w="2301840"/>
                <a:gridCol w="3068640"/>
                <a:gridCol w="26305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evacizumab +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motherap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motherapy alon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8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.1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.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2-month surviva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8.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7.5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bb33"/>
                </a:solidFill>
                <a:latin typeface="Arial"/>
              </a:rPr>
              <a:t>National Patterns of Care Survey (N = 10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152280" y="5715000"/>
            <a:ext cx="749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terns of Care in Medical Oncology: Management of Breast Cancer in the Neoadjuvant, Adjuvant and Metastatic Settings 2011;7(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343080" y="2514600"/>
            <a:ext cx="8458200" cy="22860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4440" y="2666880"/>
          <a:ext cx="8115120" cy="1995480"/>
        </p:xfrm>
        <a:graphic>
          <a:graphicData uri="http://schemas.openxmlformats.org/drawingml/2006/table">
            <a:tbl>
              <a:tblPr/>
              <a:tblGrid>
                <a:gridCol w="2865240"/>
                <a:gridCol w="1582920"/>
                <a:gridCol w="1062000"/>
                <a:gridCol w="1562040"/>
                <a:gridCol w="1042920"/>
              </a:tblGrid>
              <a:tr h="80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commended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sympto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pto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0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0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axane/bevacizum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  <p:sp>
        <p:nvSpPr>
          <p:cNvPr id="60" name="Rectangle 54"/>
          <p:cNvSpPr/>
          <p:nvPr/>
        </p:nvSpPr>
        <p:spPr>
          <a:xfrm>
            <a:off x="352440" y="1447920"/>
            <a:ext cx="85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with TNBC and  bone and pulmonary metast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22T19:48:12Z</dcterms:modified>
  <cp:revision>476</cp:revision>
  <dc:subject/>
  <dc:title>PowerPoint Presentation</dc:title>
</cp:coreProperties>
</file>