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1548-2AA0-49F8-96BF-41D0869D5A1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6142-C29D-4589-9C8E-52FFAFF6B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5450-9F1D-4F59-BF77-398AB9137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AA9B-83FF-45D3-952A-3DAA6C34C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3E06-A8ED-4182-9D1E-B002C8548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308D-413E-494A-A00B-16A264C93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52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  <a:ea typeface="ＭＳ Ｐゴシック"/>
              </a:rPr>
              <a:t>Copyright © 2011 Research To Practice. All rights reser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Case 3 (Ms Smith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42 yo woman treated on trial in 2005 for ER-positive, HER2-negative BC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Neoadjuvant capecitabine/docetaxel </a:t>
            </a:r>
            <a:r>
              <a:rPr b="0" lang="en-US" sz="24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 AC and </a:t>
            </a:r>
            <a:br>
              <a:rPr sz="2400"/>
            </a:b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hen surgery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At presentation for postop XRT, supraclavicular lymph node mets identified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XRT completed </a:t>
            </a:r>
            <a:r>
              <a:rPr b="0" lang="en-US" sz="24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 goserelin/anastrozole but PD </a:t>
            </a:r>
            <a:br>
              <a:rPr sz="2400"/>
            </a:b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within 4 mos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Paclitaxel/bevacizumab = response but hypertension requiring meds and facial rash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NED x 18 mos treatmen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37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Arial"/>
              </a:rPr>
              <a:t>Hypertension</a:t>
            </a:r>
            <a:endParaRPr b="0" lang="en-US" sz="23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37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Arial"/>
              </a:rPr>
              <a:t>Proteinuria</a:t>
            </a:r>
            <a:endParaRPr b="0" lang="en-US" sz="23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37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Arial"/>
              </a:rPr>
              <a:t>Bleeding</a:t>
            </a:r>
            <a:endParaRPr b="0" lang="en-US" sz="23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37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Arial"/>
              </a:rPr>
              <a:t>Thromboembolic events</a:t>
            </a:r>
            <a:endParaRPr b="0" lang="en-US" sz="23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37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Arial"/>
              </a:rPr>
              <a:t>Congestive heart failure</a:t>
            </a:r>
            <a:endParaRPr b="0" lang="en-US" sz="23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37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Arial"/>
              </a:rPr>
              <a:t>Wound healing </a:t>
            </a:r>
            <a:endParaRPr b="0" lang="en-US" sz="23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37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Arial"/>
              </a:rPr>
              <a:t>GI perforation </a:t>
            </a:r>
            <a:endParaRPr b="0" lang="en-US" sz="23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80880" y="6094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fc53d"/>
                </a:solidFill>
                <a:latin typeface="Arial Bold"/>
              </a:rPr>
              <a:t>Side Effects/Complications Associated with </a:t>
            </a:r>
            <a:br>
              <a:rPr sz="2600"/>
            </a:br>
            <a:r>
              <a:rPr b="0" lang="en-US" sz="2600" spc="-1" strike="noStrike">
                <a:solidFill>
                  <a:srgbClr val="efc53d"/>
                </a:solidFill>
                <a:latin typeface="Arial Bold"/>
              </a:rPr>
              <a:t>the Use of Bevacizumab: Patient Education Implic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0" y="1371600"/>
            <a:ext cx="9144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Living with the Complex Biopsychosocial Burdens of Breast Cancer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Emotional explosion in the 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8T13:30:01Z</dcterms:created>
  <dc:creator>Research To Practice</dc:creator>
  <dc:description/>
  <dc:language>en-US</dc:language>
  <cp:lastModifiedBy>Mac Pro E703803Y4PC</cp:lastModifiedBy>
  <cp:lastPrinted>2011-04-27T16:12:14Z</cp:lastPrinted>
  <dcterms:modified xsi:type="dcterms:W3CDTF">2011-07-07T17:49:50Z</dcterms:modified>
  <cp:revision>475</cp:revision>
  <dc:subject/>
  <dc:title>PowerPoint Presentation</dc:title>
</cp:coreProperties>
</file>