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DCB7-1C13-43B9-A5A3-22604AEB0F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1B3-B401-4DC5-A491-43DE2E24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ADF-8FE7-4B3C-BC8F-986ACB059DD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486-4B1A-4C16-BB8B-849E5C0F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403-F4E0-41F0-A45F-E1BC4AB6F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17F8-54BF-4235-ADFE-A5D8E7948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90360" y="4349520"/>
            <a:ext cx="4932360" cy="43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4 (Ms Lits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59 yo with remote h/o Stage II BC treated surgically without adjuvant Rx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1998 = bone metastases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 multiple lines of endocrine Rx plus bisphosphonate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0 = still bone only but surgical interventions for pain, and capecitabine start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440" y="2992320"/>
            <a:ext cx="80010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enosumab: subcutaneous, Zoledronic acid: IV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Denosumab may be used in patients with renal dysfunction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ewer skeletal events with denosumab (18% reduction in time to first event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ONJ: Denosumab (2.5%), zoledronic acid (1.8%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5800" y="685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Bone-Targeted Treatment in Metastatic Breast Cancer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Denosumab versus Zoledron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560" y="510552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hy D Miller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 Lita Smith, RN, A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41320" y="51055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ncy U Lin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orgia Litsas, MSN, ANP-BC, AO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07T17:49:58Z</dcterms:modified>
  <cp:revision>475</cp:revision>
  <dc:subject/>
  <dc:title>PowerPoint Presentation</dc:title>
</cp:coreProperties>
</file>