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C704-004E-4E0C-A2D2-A40297402F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AC7-DBCF-46ED-BA4F-EE639C14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820-9BFB-4887-8AE6-B9B02E2B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0905-387E-4FB0-B109-303EAE957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9B06-C132-4671-B727-2A8AE10B3F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0360" y="4349520"/>
            <a:ext cx="4932360" cy="43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66FF-AE71-4F5C-A171-5652C2A6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443E-7A46-425A-B5E4-B05E804F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3C0E-1164-4B42-8DD1-8693CB753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92CD-82AE-4EC6-AF27-A477E84D5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5A91-DED6-4BBD-8BB2-A7DADCD9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00D-BA96-46BB-AAB9-7B59DD74F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BEA9-43C0-4D99-99DA-801DEE4B8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1F3A-6D21-46E5-984A-4FFCF7C8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3BB-29EA-42B0-8797-9447F5BA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0FFF-ACC9-4998-8F7F-83D3EC53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6BB-49F6-4AFF-9783-CA595ACA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058-4DF5-4159-A52F-BD5BAE6F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5869-F334-4DA6-AC03-9A57E9BB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F179-B6CC-4AF5-8C3B-A2701D07D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BB96-67B7-4C86-AFE4-86733B7E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4DD1-D546-47AD-B53E-EE9D21FB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E0A-AB3F-4861-A21A-8876B4E4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9C2A-7D15-4FFD-8639-BC8238A0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18A-9399-4EC1-9246-42068DF7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A2BE-2EF1-47FC-A0E0-6E9B9269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986-5FB1-484A-8537-4A6A9B7F1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Notes Placeholder 5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Breast Cancer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35560" y="5105520"/>
            <a:ext cx="35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hy D Miller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 Lita Smith, RN, A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41320" y="510552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ncy U Lin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orgia Litsas, MSN, ANP-BC, AO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bb1e"/>
                </a:solidFill>
                <a:latin typeface="Arial"/>
                <a:ea typeface="ヒラギノ角ゴ Pro W3"/>
              </a:rPr>
              <a:t>TDM-1: Key Clinical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Minimal or no alopecia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Minimal GI toxicit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Transient thrombocytopenia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Better quality of life than chemo/trastuzumab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2"/>
          <p:cNvSpPr/>
          <p:nvPr/>
        </p:nvSpPr>
        <p:spPr>
          <a:xfrm flipV="1">
            <a:off x="4724280" y="347292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4724280" y="4083120"/>
            <a:ext cx="60984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09480" y="3473280"/>
            <a:ext cx="3733920" cy="129564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609480" y="3016080"/>
            <a:ext cx="37339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i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85800" y="3625920"/>
            <a:ext cx="3505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R2+ breast 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iously treated with a taxane and trastuzu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5334120" y="309240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stuzumab-DM1 (T-D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5334120" y="400680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patinib + Capecita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tle 14"/>
          <p:cNvSpPr/>
          <p:nvPr/>
        </p:nvSpPr>
        <p:spPr>
          <a:xfrm>
            <a:off x="533520" y="304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hase III Study of Trastuzumab-DM1 (T-DM1) vs Capecitabine + Lapatinib in Patients With HER2+ Locally Advanced or Metastatic Breast Can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611640" y="24066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Target Accrual = 980 (O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April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3962520" y="3549600"/>
            <a:ext cx="852480" cy="851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362320" y="5149800"/>
            <a:ext cx="441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education implic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1 (Ms Smit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47 yo dx'd in 2004 with ER/PR-negative, HER2-positive inflammatory BC and liver mets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AC-TH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excellent response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mastectomy + local XRT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postoperative trastuzumab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C/o neck and head pain, MRI = occipital lobe mets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resection + WBRT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trastuzumab and NED x 1.5 yr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~ Late 2006, new ataxia and isolated CNS recurrence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stereotactic XRT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postoperative lapatinib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Remains on lapatinib 1,000 mg qd (dose red for initial LFT rise)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entral Nervous System (Brain) Metast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Tumors of origi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ncidence in breast cancer subtypes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(HER2+, TNBC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Use of surgery, various RT modalitie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Use of systemic agents, including lapatinib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457200" y="2438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What information and instructions would you provide to a patient about to begin whole brain 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Past history of suicide attemp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Mother and father died after diagnosi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Can’t drive a car due to neurologic symptom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57200" y="838080"/>
            <a:ext cx="8458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Living with the Complex Biopsychosocial Burdens of Breast Cancer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anaging Patients with Metastatic 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reast Cancer for Prolonged Time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398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9880" y="1981080"/>
          <a:ext cx="8304120" cy="2824200"/>
        </p:xfrm>
        <a:graphic>
          <a:graphicData uri="http://schemas.openxmlformats.org/drawingml/2006/table">
            <a:tbl>
              <a:tblPr/>
              <a:tblGrid>
                <a:gridCol w="830412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1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HER2-Positive Inflammatory Breast Canc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2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Triple-Negative Breast Cancer (TNBC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3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ER-Positive Progressive Metastatic Diseas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4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Bone-Only Metastatic Breast Canc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1 (Ms Smit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47 yo dx'd in 2004 with ER/PR-negative, HER2-positive inflammatory BC and liver met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AC-TH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excellent response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mastectomy + local XRT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postoperative trastuzumab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C/o neck and head pain, MRI = occipital lobe mets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resection + WBRT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trastuzumab and NED x 1.5 yr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~ Late 2006, new ataxia and isolated CNS recurrence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stereotactic XRT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postoperative lapatinib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Remains on lapatinib 1,000 mg qd (dose red for initial LFT rise)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Clinical syndrom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rythema and edema (peau d’orange)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alpable border to the erythema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ay be tumor present in dermal lymphatics of involved ski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Accounts for 1-6% of breast cancers in U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More likely to be HER2+, HR-, younger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5-year disease-free survival: 35%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Inflammatory Breast 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How small is too small to not treat patients with node-negative tum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hoice of chemotherapy partner with trastuzum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Anthracycline? …issue of cardiotox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aclitaxel alone? …in elder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esearch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Addition of bevacizumab (NSABP/BCI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Addition of lapatinib (ALT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Use in “HER2-normal”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urrent Issues in the Adjuvant Treatment of HER2+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2" descr="ONS_Breast_Trast_Lapatinib_Slide6"/>
          <p:cNvPicPr/>
          <p:nvPr/>
        </p:nvPicPr>
        <p:blipFill>
          <a:blip r:embed="rId1"/>
          <a:srcRect l="0" t="0" r="0" b="29792"/>
          <a:stretch/>
        </p:blipFill>
        <p:spPr>
          <a:xfrm>
            <a:off x="1371600" y="1771560"/>
            <a:ext cx="6435720" cy="4552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1e"/>
                </a:solidFill>
                <a:latin typeface="Arial"/>
              </a:rPr>
              <a:t>Mechanisms of Action of Trastuzumab and Lapatini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488200" y="1600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stuzu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829920" y="4038480"/>
            <a:ext cx="230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patin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nds on TK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wnstream casc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events inhib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23920" y="1828800"/>
            <a:ext cx="83844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4343400" y="19051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5029200" y="3244680"/>
            <a:ext cx="2438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rosin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nase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4952880" y="4648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295280" y="3962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al transduction to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0492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sma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137160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2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371600" y="1676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343400" y="19051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3733920" y="1905120"/>
            <a:ext cx="761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3809880" y="25146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6"/>
          <p:cNvSpPr/>
          <p:nvPr/>
        </p:nvSpPr>
        <p:spPr>
          <a:xfrm flipH="1">
            <a:off x="4343400" y="32767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4343400" y="32767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8"/>
          <p:cNvSpPr/>
          <p:nvPr/>
        </p:nvSpPr>
        <p:spPr>
          <a:xfrm flipH="1" flipV="1">
            <a:off x="4876560" y="3809880"/>
            <a:ext cx="190476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1"/>
          <p:cNvGrpSpPr/>
          <p:nvPr/>
        </p:nvGrpSpPr>
        <p:grpSpPr>
          <a:xfrm>
            <a:off x="3210120" y="3743280"/>
            <a:ext cx="590400" cy="590400"/>
            <a:chOff x="3210120" y="3743280"/>
            <a:chExt cx="590400" cy="590400"/>
          </a:xfrm>
        </p:grpSpPr>
        <p:sp>
          <p:nvSpPr>
            <p:cNvPr id="119" name="Line 29"/>
            <p:cNvSpPr/>
            <p:nvPr/>
          </p:nvSpPr>
          <p:spPr>
            <a:xfrm flipH="1">
              <a:off x="3373560" y="3743280"/>
              <a:ext cx="263520" cy="59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210120" y="3906720"/>
              <a:ext cx="590400" cy="26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Line 32"/>
          <p:cNvSpPr/>
          <p:nvPr/>
        </p:nvSpPr>
        <p:spPr>
          <a:xfrm flipH="1">
            <a:off x="5257440" y="4952880"/>
            <a:ext cx="1522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838080" y="3048120"/>
            <a:ext cx="53352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419720" y="5486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486400" y="5410080"/>
            <a:ext cx="1600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5105520" y="23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ding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4876920" y="2057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876920" y="3048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A5C2-A6E6-41C0-B709-2E21D6602BB0}" type="slidenum">
              <a:rPr b="0" lang="en-GB" sz="1400" spc="-1" strike="noStrike">
                <a:solidFill>
                  <a:srgbClr val="ff65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3"/>
          <p:cNvSpPr/>
          <p:nvPr/>
        </p:nvSpPr>
        <p:spPr>
          <a:xfrm>
            <a:off x="208080" y="2133720"/>
            <a:ext cx="8727840" cy="28954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04920" y="5335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Key Clinical Trials of Neoadjuvant Treatment for HER2+ Breast Cancer: Chemotherapy Plus…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04920" y="6095880"/>
            <a:ext cx="8610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tch M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0;Abstract S3-1.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lga J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;Abstract S3-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3080" y="2311560"/>
          <a:ext cx="8458200" cy="2541600"/>
        </p:xfrm>
        <a:graphic>
          <a:graphicData uri="http://schemas.openxmlformats.org/drawingml/2006/table">
            <a:tbl>
              <a:tblPr/>
              <a:tblGrid>
                <a:gridCol w="1942920"/>
                <a:gridCol w="2133720"/>
                <a:gridCol w="1981080"/>
                <a:gridCol w="2400480"/>
              </a:tblGrid>
              <a:tr h="50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thologic Complete Response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astuzuma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patini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astuzumab/</a:t>
                      </a:r>
                      <a:br>
                        <a:rPr sz="2100"/>
                      </a:b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patini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rman study</a:t>
                      </a:r>
                      <a:r>
                        <a:rPr b="0" lang="en-US" sz="21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—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oALTTO</a:t>
                      </a:r>
                      <a:r>
                        <a:rPr b="0" lang="en-US" sz="21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1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45720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NeoSphere Neoadjuvant Trial in HER2+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Breast Can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15"/>
          <p:cNvSpPr/>
          <p:nvPr/>
        </p:nvSpPr>
        <p:spPr>
          <a:xfrm>
            <a:off x="3600" y="6013440"/>
            <a:ext cx="45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anni L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Abstract S3-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208080" y="2286000"/>
            <a:ext cx="8727840" cy="27432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3080" y="2438280"/>
          <a:ext cx="8458200" cy="2438280"/>
        </p:xfrm>
        <a:graphic>
          <a:graphicData uri="http://schemas.openxmlformats.org/drawingml/2006/table">
            <a:tbl>
              <a:tblPr/>
              <a:tblGrid>
                <a:gridCol w="1447560"/>
                <a:gridCol w="1638360"/>
                <a:gridCol w="1905120"/>
                <a:gridCol w="1714320"/>
                <a:gridCol w="1752840"/>
              </a:tblGrid>
              <a:tr h="73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athologic Complete Response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cetaxel + Tras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cetaxel + Trastuzumab + Per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stuzumab+ Per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cetaxel + Per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eoSphe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9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7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4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085840"/>
            <a:ext cx="8153280" cy="371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</p:pic>
      <p:sp>
        <p:nvSpPr>
          <p:cNvPr id="141" name="Rectangle 5"/>
          <p:cNvSpPr/>
          <p:nvPr/>
        </p:nvSpPr>
        <p:spPr>
          <a:xfrm>
            <a:off x="0" y="609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Trastuzumab-DM1 (T-DM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16160" y="6018120"/>
            <a:ext cx="79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apted from Mackey JR. Discussant, ASCO Metastatic Breast Cancer Poster Discussion 200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385920" y="4427640"/>
            <a:ext cx="28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DM1 is a highly potent antimicrotubul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3546360" y="4417920"/>
            <a:ext cx="24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T-DM1 undergoes receptor-mediated inter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6305400" y="44276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Free DM1 is released within th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058480" y="1998720"/>
            <a:ext cx="1722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stuzumab-D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54320" y="2743200"/>
            <a:ext cx="1722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stuzumab-D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701840" y="2743200"/>
            <a:ext cx="128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stuzum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1640" y="2895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7b"/>
                </a:solidFill>
                <a:latin typeface="Arial"/>
              </a:rPr>
              <a:t>H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16200" y="32940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7b"/>
                </a:solidFill>
                <a:latin typeface="Arial"/>
              </a:rPr>
              <a:t>H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240320" y="32940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7b"/>
                </a:solidFill>
                <a:latin typeface="Arial"/>
              </a:rPr>
              <a:t>H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411560" y="39798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27b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268880" y="39798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27b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974280" y="39798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27b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ectangle 5" descr=""/>
          <p:cNvPicPr/>
          <p:nvPr/>
        </p:nvPicPr>
        <p:blipFill>
          <a:blip r:embed="rId2"/>
          <a:stretch/>
        </p:blipFill>
        <p:spPr>
          <a:xfrm>
            <a:off x="7848720" y="3181320"/>
            <a:ext cx="579240" cy="66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13T15:29:14Z</dcterms:modified>
  <cp:revision>481</cp:revision>
  <dc:subject/>
  <dc:title>PowerPoint Presentation</dc:title>
</cp:coreProperties>
</file>