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4F61-CEAE-49E6-AD65-FFCF21E2D4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6423-2500-45EE-B662-44690CF32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A852-3E94-4A74-BAE3-5B2706AE5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365A-B5CA-4DFD-AA16-79A1718824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FED8-D59D-43E7-B7AF-59326924CC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52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52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2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380880" y="460440"/>
            <a:ext cx="647712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70fe"/>
              </a:buClr>
              <a:buSzPct val="75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tle 23"/>
          <p:cNvSpPr/>
          <p:nvPr/>
        </p:nvSpPr>
        <p:spPr>
          <a:xfrm>
            <a:off x="380880" y="609480"/>
            <a:ext cx="83059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c53d"/>
                </a:solidFill>
                <a:latin typeface="Verdana"/>
              </a:rPr>
              <a:t>Workup and Risk Stratific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Subtitle 14"/>
          <p:cNvSpPr/>
          <p:nvPr/>
        </p:nvSpPr>
        <p:spPr>
          <a:xfrm>
            <a:off x="1371600" y="2300400"/>
            <a:ext cx="64008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deaf3"/>
                </a:solidFill>
                <a:latin typeface="Verdana"/>
              </a:rPr>
              <a:t>Sagar Lonial, M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Title 14"/>
          <p:cNvSpPr/>
          <p:nvPr/>
        </p:nvSpPr>
        <p:spPr>
          <a:xfrm>
            <a:off x="533520" y="31240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c53d"/>
                </a:solidFill>
                <a:latin typeface="Verdana"/>
              </a:rPr>
              <a:t>In patients who initially underwent treatment for average-risk multiple myeloma (MM), what situations would  prompt you to repeat a full risk assessment (including cytogenetics) at disease progression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609480" y="49528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very patient with average-risk disease should undergo repeat risk assessment at disease progressio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easons why repeated molecular analysis is needed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Poor sample obtained at diagnosis may provide false negative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Poor sample processing at diagnosis may provide false negative 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Particularly in the context of outside lab FISH analysis that is not performed on CD138+ cells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onal evolution over time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hould our risk assessment really change in low- vs high-risk disease?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16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tle 1"/>
          <p:cNvSpPr/>
          <p:nvPr/>
        </p:nvSpPr>
        <p:spPr>
          <a:xfrm>
            <a:off x="468360" y="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19"/>
                </a:solidFill>
                <a:latin typeface="Arial"/>
                <a:ea typeface="ヒラギノ角ゴ Pro W3"/>
              </a:rPr>
              <a:t>Indolent, Slow, First Relaps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Content Placeholder 13"/>
          <p:cNvSpPr/>
          <p:nvPr/>
        </p:nvSpPr>
        <p:spPr>
          <a:xfrm>
            <a:off x="380880" y="3352680"/>
            <a:ext cx="2529000" cy="18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Initial Tx with Bz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ay consider single agent w/o Dex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Underlying P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379440" y="2343240"/>
            <a:ext cx="2558880" cy="77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enalidomide-Based Salv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1062720" y="1244520"/>
            <a:ext cx="684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Likely Single-Agent Therapy with Bz or Len/Th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3308400" y="2351160"/>
            <a:ext cx="2557440" cy="776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ortezomib-Based Salv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6259680" y="2384280"/>
            <a:ext cx="2557440" cy="77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nsplant-Base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alv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Content Placeholder 13"/>
          <p:cNvSpPr/>
          <p:nvPr/>
        </p:nvSpPr>
        <p:spPr>
          <a:xfrm>
            <a:off x="3341520" y="3327480"/>
            <a:ext cx="2428920" cy="1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 Tx with IMi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ious Bz therapy but good or long respon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l dysfun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Content Placeholder 13"/>
          <p:cNvSpPr/>
          <p:nvPr/>
        </p:nvSpPr>
        <p:spPr>
          <a:xfrm>
            <a:off x="6315120" y="3414600"/>
            <a:ext cx="279540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lant not part of initial therap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remission post transpl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16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Aggressive, Rapid, Multiple Relapse</a:t>
            </a:r>
            <a:endParaRPr b="1" lang="en-US" sz="3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47760" y="3355560"/>
            <a:ext cx="2527200" cy="18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EP vs DT-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l vs IV che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 of patient plays important r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379440" y="2343240"/>
            <a:ext cx="2558880" cy="77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hemotherapy-Based Salv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1959120" y="1179360"/>
            <a:ext cx="540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Likely Combination 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Do Not Wait for Symptomatic Relap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3308400" y="2384280"/>
            <a:ext cx="2557440" cy="7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hemotherapy + Novel Ag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6259680" y="2427120"/>
            <a:ext cx="2557440" cy="77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nsplant-Base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alv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Content Placeholder 13"/>
          <p:cNvSpPr/>
          <p:nvPr/>
        </p:nvSpPr>
        <p:spPr>
          <a:xfrm>
            <a:off x="3276720" y="3349800"/>
            <a:ext cx="2485800" cy="1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ations of Len/Bz and other chemo ag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Content Placeholder 13"/>
          <p:cNvSpPr/>
          <p:nvPr/>
        </p:nvSpPr>
        <p:spPr>
          <a:xfrm>
            <a:off x="6315120" y="3436920"/>
            <a:ext cx="279540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ly to be short liv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ick disease contro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nstitute marro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o what is the intrinsic value of additional informatio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Prognosis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Use of translocation specific agents 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o date only applicable for t(4;14)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Enrollment in clinical trials rather than standard treatment options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Most relevant for the patients with 17p deletion where standard treatment approaches are in general ineffective or effective for a very short duration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re these blanket recommendations or just for research purpose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Information regarding biologic risk is useful for all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ractitioners</a:t>
            </a: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, especially if it results in identification of patients who would otherwise be considered at standard risk but have high-risk genetics.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While the main focus on this question is related to </a:t>
            </a:r>
            <a:r>
              <a:rPr b="0" lang="en-US" sz="2400" spc="-1" strike="noStrike">
                <a:solidFill>
                  <a:srgbClr val="cdeaf3"/>
                </a:solidFill>
                <a:latin typeface="Arial"/>
              </a:rPr>
              <a:t>"research”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it can be useful in the selection of appropriate regimens in relapse and in prognosis discussions.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urrently no data set exists that formally evaluates the change in risk or genetics between initial diagnosis and first relapse. 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21:44:32Z</dcterms:created>
  <dc:creator>Research To Practice</dc:creator>
  <dc:description/>
  <cp:keywords/>
  <dc:language>en-US</dc:language>
  <cp:lastModifiedBy>Mac Pro E703803Y4PC</cp:lastModifiedBy>
  <cp:lastPrinted>2011-02-16T14:44:38Z</cp:lastPrinted>
  <dcterms:modified xsi:type="dcterms:W3CDTF">2011-05-06T19:51:03Z</dcterms:modified>
  <cp:revision>109</cp:revision>
  <dc:subject/>
  <dc:title>PowerPoint Presentation</dc:title>
</cp:coreProperties>
</file>